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6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6.xml" ContentType="application/vnd.openxmlformats-officedocument.presentationml.notesSlide+xml"/>
  <Override PartName="/ppt/_rels/presentation.xml.rels" ContentType="application/vnd.openxmlformats-package.relationships+xml"/>
  <Override PartName="/ppt/media/image28.wmf" ContentType="image/x-wmf"/>
  <Override PartName="/ppt/media/image27.png" ContentType="image/png"/>
  <Override PartName="/ppt/media/image30.wmf" ContentType="image/x-wmf"/>
  <Override PartName="/ppt/media/image26.png" ContentType="image/png"/>
  <Override PartName="/ppt/media/image25.png" ContentType="image/png"/>
  <Override PartName="/ppt/media/image42.jpeg" ContentType="image/jpeg"/>
  <Override PartName="/ppt/media/image23.wmf" ContentType="image/x-wmf"/>
  <Override PartName="/ppt/media/image22.png" ContentType="image/png"/>
  <Override PartName="/ppt/media/image20.wmf" ContentType="image/x-wmf"/>
  <Override PartName="/ppt/media/image21.wmf" ContentType="image/x-wmf"/>
  <Override PartName="/ppt/media/image18.png" ContentType="image/png"/>
  <Override PartName="/ppt/media/image19.wmf" ContentType="image/x-wmf"/>
  <Override PartName="/ppt/media/image17.wmf" ContentType="image/x-wmf"/>
  <Override PartName="/ppt/media/image15.wmf" ContentType="image/x-wmf"/>
  <Override PartName="/ppt/media/image54.png" ContentType="image/png"/>
  <Override PartName="/ppt/media/image24.wmf" ContentType="image/x-wmf"/>
  <Override PartName="/ppt/media/image1.wmf" ContentType="image/x-wmf"/>
  <Override PartName="/ppt/media/image3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4.wmf" ContentType="image/x-wmf"/>
  <Override PartName="/ppt/media/image53.png" ContentType="image/png"/>
  <Override PartName="/ppt/media/image58.jpeg" ContentType="image/jpeg"/>
  <Override PartName="/ppt/media/image6.png" ContentType="image/png"/>
  <Override PartName="/ppt/media/image36.png" ContentType="image/png"/>
  <Override PartName="/ppt/media/image29.wmf" ContentType="image/x-wmf"/>
  <Override PartName="/ppt/media/image11.png" ContentType="image/png"/>
  <Override PartName="/ppt/media/image48.png" ContentType="image/png"/>
  <Override PartName="/ppt/media/image35.wmf" ContentType="image/x-wmf"/>
  <Override PartName="/ppt/media/image52.png" ContentType="image/png"/>
  <Override PartName="/ppt/media/image37.png" ContentType="image/png"/>
  <Override PartName="/ppt/media/image43.png" ContentType="image/png"/>
  <Override PartName="/ppt/media/image44.png" ContentType="image/png"/>
  <Override PartName="/ppt/media/image46.png" ContentType="image/png"/>
  <Override PartName="/ppt/media/image47.png" ContentType="image/png"/>
  <Override PartName="/ppt/media/image7.wmf" ContentType="image/x-wmf"/>
  <Override PartName="/ppt/media/image39.png" ContentType="image/png"/>
  <Override PartName="/ppt/media/image50.png" ContentType="image/png"/>
  <Override PartName="/ppt/media/image13.png" ContentType="image/png"/>
  <Override PartName="/ppt/media/image51.png" ContentType="image/png"/>
  <Override PartName="/ppt/media/image12.png" ContentType="image/png"/>
  <Override PartName="/ppt/media/image49.png" ContentType="image/png"/>
  <Override PartName="/ppt/media/image41.png" ContentType="image/png"/>
  <Override PartName="/ppt/media/image9.wmf" ContentType="image/x-wmf"/>
  <Override PartName="/ppt/media/image40.png" ContentType="image/png"/>
  <Override PartName="/ppt/media/image45.png" ContentType="image/png"/>
  <Override PartName="/ppt/media/image57.png" ContentType="image/png"/>
  <Override PartName="/ppt/media/image34.png" ContentType="image/png"/>
  <Override PartName="/ppt/media/image56.jpeg" ContentType="image/jpeg"/>
  <Override PartName="/ppt/media/image33.png" ContentType="image/png"/>
  <Override PartName="/ppt/media/image38.png" ContentType="image/png"/>
  <Override PartName="/ppt/media/image8.png" ContentType="image/png"/>
  <Override PartName="/ppt/media/image32.png" ContentType="image/png"/>
  <Override PartName="/ppt/media/image10.jpeg" ContentType="image/jpeg"/>
  <Override PartName="/ppt/media/image5.png" ContentType="image/png"/>
  <Override PartName="/ppt/media/image16.wmf" ContentType="image/x-wmf"/>
  <Override PartName="/ppt/media/image5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</p:sldIdLst>
  <p:sldSz cx="9144000" cy="6858000"/>
  <p:notesSz cx="67278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7284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891720" y="750600"/>
            <a:ext cx="4946760" cy="370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Click to move the slide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896760" y="4714560"/>
            <a:ext cx="4935600" cy="446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"/>
          <p:cNvSpPr/>
          <p:nvPr/>
        </p:nvSpPr>
        <p:spPr>
          <a:xfrm>
            <a:off x="3813120" y="0"/>
            <a:ext cx="2916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3813120" y="9429840"/>
            <a:ext cx="2916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0" y="9429840"/>
            <a:ext cx="2916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0" y="0"/>
            <a:ext cx="2916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1" name="PlaceHolder 1"/>
          <p:cNvSpPr>
            <a:spLocks noGrp="1"/>
          </p:cNvSpPr>
          <p:nvPr>
            <p:ph type="sldImg"/>
          </p:nvPr>
        </p:nvSpPr>
        <p:spPr>
          <a:xfrm>
            <a:off x="892080" y="75096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1312" name="PlaceHolder 2"/>
          <p:cNvSpPr>
            <a:spLocks noGrp="1"/>
          </p:cNvSpPr>
          <p:nvPr>
            <p:ph type="body"/>
          </p:nvPr>
        </p:nvSpPr>
        <p:spPr>
          <a:xfrm>
            <a:off x="896760" y="4714560"/>
            <a:ext cx="49356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"/>
          <p:cNvSpPr/>
          <p:nvPr/>
        </p:nvSpPr>
        <p:spPr>
          <a:xfrm>
            <a:off x="3813120" y="0"/>
            <a:ext cx="2916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3813120" y="9429840"/>
            <a:ext cx="2916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0" y="9429840"/>
            <a:ext cx="2916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0" y="0"/>
            <a:ext cx="2916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892080" y="75096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896760" y="4714560"/>
            <a:ext cx="49356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"/>
          <p:cNvSpPr/>
          <p:nvPr/>
        </p:nvSpPr>
        <p:spPr>
          <a:xfrm>
            <a:off x="3813120" y="0"/>
            <a:ext cx="2916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3813120" y="9429840"/>
            <a:ext cx="2916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0" y="9429840"/>
            <a:ext cx="2916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0" y="0"/>
            <a:ext cx="2916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892080" y="75096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896760" y="4714560"/>
            <a:ext cx="49356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"/>
          <p:cNvSpPr/>
          <p:nvPr/>
        </p:nvSpPr>
        <p:spPr>
          <a:xfrm>
            <a:off x="3811680" y="-3240"/>
            <a:ext cx="2919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3811680" y="9429840"/>
            <a:ext cx="2919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-3240" y="9429840"/>
            <a:ext cx="291636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-3240" y="-3240"/>
            <a:ext cx="2916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1158840" y="954000"/>
            <a:ext cx="4408560" cy="330696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1494000" y="5111640"/>
            <a:ext cx="3782880" cy="33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"/>
          <p:cNvSpPr/>
          <p:nvPr/>
        </p:nvSpPr>
        <p:spPr>
          <a:xfrm>
            <a:off x="3813120" y="0"/>
            <a:ext cx="2916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3813120" y="9431280"/>
            <a:ext cx="2916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0" y="9431280"/>
            <a:ext cx="2916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0" y="0"/>
            <a:ext cx="2916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1170000" y="917640"/>
            <a:ext cx="4392720" cy="329400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1510920" y="5138280"/>
            <a:ext cx="3879720" cy="33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"/>
          <p:cNvSpPr/>
          <p:nvPr/>
        </p:nvSpPr>
        <p:spPr>
          <a:xfrm>
            <a:off x="3813120" y="0"/>
            <a:ext cx="2916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3813120" y="9431280"/>
            <a:ext cx="2916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000" bIns="4500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0" y="9431280"/>
            <a:ext cx="2916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0" y="0"/>
            <a:ext cx="2916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892080" y="752400"/>
            <a:ext cx="4945320" cy="370836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894960" y="4714560"/>
            <a:ext cx="49388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"/>
          <p:cNvSpPr/>
          <p:nvPr/>
        </p:nvSpPr>
        <p:spPr>
          <a:xfrm>
            <a:off x="3813120" y="0"/>
            <a:ext cx="2916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3813120" y="9429840"/>
            <a:ext cx="2916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0" y="9429840"/>
            <a:ext cx="2916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0" y="0"/>
            <a:ext cx="2916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892080" y="75096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896760" y="4714560"/>
            <a:ext cx="49356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968400" y="4097160"/>
            <a:ext cx="7967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38880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51160" y="1828440"/>
            <a:ext cx="38880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68400" y="4097160"/>
            <a:ext cx="38880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051160" y="4097160"/>
            <a:ext cx="38880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2565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662280" y="1828440"/>
            <a:ext cx="2565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356520" y="1828440"/>
            <a:ext cx="2565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968400" y="4097160"/>
            <a:ext cx="2565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662280" y="4097160"/>
            <a:ext cx="2565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356520" y="4097160"/>
            <a:ext cx="2565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38880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051160" y="1828440"/>
            <a:ext cx="38880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552760" y="75960"/>
            <a:ext cx="6438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38880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51160" y="1828440"/>
            <a:ext cx="38880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968400" y="4097160"/>
            <a:ext cx="38880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38880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51160" y="1828440"/>
            <a:ext cx="38880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051160" y="4097160"/>
            <a:ext cx="38880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38880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51160" y="1828440"/>
            <a:ext cx="38880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968400" y="4097160"/>
            <a:ext cx="7967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00200" y="1219320"/>
            <a:ext cx="7238880" cy="75960"/>
          </a:xfrm>
          <a:prstGeom prst="rect">
            <a:avLst/>
          </a:prstGeom>
          <a:gradFill rotWithShape="0">
            <a:gsLst>
              <a:gs pos="0">
                <a:srgbClr val="e10023"/>
              </a:gs>
              <a:gs pos="50000">
                <a:srgbClr val="fc0128"/>
              </a:gs>
              <a:gs pos="100000">
                <a:srgbClr val="e1002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117360" y="66600"/>
            <a:ext cx="1325520" cy="1603440"/>
            <a:chOff x="117360" y="66600"/>
            <a:chExt cx="1325520" cy="1603440"/>
          </a:xfrm>
        </p:grpSpPr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303120" y="457200"/>
              <a:ext cx="976320" cy="828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" name=""/>
            <p:cNvGrpSpPr/>
            <p:nvPr/>
          </p:nvGrpSpPr>
          <p:grpSpPr>
            <a:xfrm>
              <a:off x="692280" y="66600"/>
              <a:ext cx="242280" cy="358920"/>
              <a:chOff x="692280" y="66600"/>
              <a:chExt cx="242280" cy="358920"/>
            </a:xfrm>
          </p:grpSpPr>
          <p:sp>
            <p:nvSpPr>
              <p:cNvPr id="4" name=""/>
              <p:cNvSpPr/>
              <p:nvPr/>
            </p:nvSpPr>
            <p:spPr>
              <a:xfrm>
                <a:off x="765000" y="222120"/>
                <a:ext cx="101880" cy="5256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" name=""/>
              <p:cNvGrpSpPr/>
              <p:nvPr/>
            </p:nvGrpSpPr>
            <p:grpSpPr>
              <a:xfrm>
                <a:off x="692280" y="274680"/>
                <a:ext cx="242280" cy="150840"/>
                <a:chOff x="692280" y="274680"/>
                <a:chExt cx="242280" cy="150840"/>
              </a:xfrm>
            </p:grpSpPr>
            <p:sp>
              <p:nvSpPr>
                <p:cNvPr id="6" name=""/>
                <p:cNvSpPr/>
                <p:nvPr/>
              </p:nvSpPr>
              <p:spPr>
                <a:xfrm flipV="1">
                  <a:off x="708120" y="275760"/>
                  <a:ext cx="42840" cy="954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 flipV="1">
                  <a:off x="781200" y="275760"/>
                  <a:ext cx="0" cy="874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 flipV="1">
                  <a:off x="846000" y="274680"/>
                  <a:ext cx="0" cy="92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692280" y="371520"/>
                  <a:ext cx="15840" cy="475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771480" y="366840"/>
                  <a:ext cx="17640" cy="586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831960" y="363600"/>
                  <a:ext cx="19080" cy="586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915840" y="371520"/>
                  <a:ext cx="14400" cy="475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 flipH="1" flipV="1">
                  <a:off x="861480" y="275760"/>
                  <a:ext cx="73080" cy="954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92280" y="66600"/>
                <a:ext cx="242280" cy="138240"/>
                <a:chOff x="692280" y="66600"/>
                <a:chExt cx="242280" cy="138240"/>
              </a:xfrm>
            </p:grpSpPr>
            <p:sp>
              <p:nvSpPr>
                <p:cNvPr id="15" name=""/>
                <p:cNvSpPr/>
                <p:nvPr/>
              </p:nvSpPr>
              <p:spPr>
                <a:xfrm>
                  <a:off x="708120" y="133200"/>
                  <a:ext cx="42840" cy="716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781200" y="141120"/>
                  <a:ext cx="0" cy="61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846000" y="136440"/>
                  <a:ext cx="0" cy="684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692280" y="71280"/>
                  <a:ext cx="15840" cy="493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771480" y="66600"/>
                  <a:ext cx="17640" cy="572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831960" y="69840"/>
                  <a:ext cx="19080" cy="586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915840" y="71280"/>
                  <a:ext cx="14400" cy="493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 flipH="1">
                  <a:off x="861480" y="133200"/>
                  <a:ext cx="73080" cy="716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" name=""/>
            <p:cNvGrpSpPr/>
            <p:nvPr/>
          </p:nvGrpSpPr>
          <p:grpSpPr>
            <a:xfrm>
              <a:off x="1201680" y="287280"/>
              <a:ext cx="241200" cy="355680"/>
              <a:chOff x="1201680" y="287280"/>
              <a:chExt cx="241200" cy="355680"/>
            </a:xfrm>
          </p:grpSpPr>
          <p:sp>
            <p:nvSpPr>
              <p:cNvPr id="24" name=""/>
              <p:cNvSpPr/>
              <p:nvPr/>
            </p:nvSpPr>
            <p:spPr>
              <a:xfrm>
                <a:off x="1273320" y="444600"/>
                <a:ext cx="102960" cy="5220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5" name=""/>
              <p:cNvGrpSpPr/>
              <p:nvPr/>
            </p:nvGrpSpPr>
            <p:grpSpPr>
              <a:xfrm>
                <a:off x="1201680" y="496440"/>
                <a:ext cx="241200" cy="146520"/>
                <a:chOff x="1201680" y="496440"/>
                <a:chExt cx="241200" cy="146520"/>
              </a:xfrm>
            </p:grpSpPr>
            <p:sp>
              <p:nvSpPr>
                <p:cNvPr id="26" name=""/>
                <p:cNvSpPr/>
                <p:nvPr/>
              </p:nvSpPr>
              <p:spPr>
                <a:xfrm flipV="1">
                  <a:off x="1217520" y="496440"/>
                  <a:ext cx="42840" cy="954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 flipV="1">
                  <a:off x="1290600" y="498600"/>
                  <a:ext cx="0" cy="85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 flipV="1">
                  <a:off x="1351080" y="496800"/>
                  <a:ext cx="0" cy="90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01680" y="592200"/>
                  <a:ext cx="15840" cy="493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278000" y="587520"/>
                  <a:ext cx="20520" cy="554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344600" y="584280"/>
                  <a:ext cx="15840" cy="586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1425600" y="592200"/>
                  <a:ext cx="15840" cy="493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 flipH="1" flipV="1">
                  <a:off x="1371600" y="496440"/>
                  <a:ext cx="71280" cy="954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" name=""/>
              <p:cNvGrpSpPr/>
              <p:nvPr/>
            </p:nvGrpSpPr>
            <p:grpSpPr>
              <a:xfrm>
                <a:off x="1201680" y="287280"/>
                <a:ext cx="241200" cy="138240"/>
                <a:chOff x="1201680" y="287280"/>
                <a:chExt cx="241200" cy="138240"/>
              </a:xfrm>
            </p:grpSpPr>
            <p:sp>
              <p:nvSpPr>
                <p:cNvPr id="35" name=""/>
                <p:cNvSpPr/>
                <p:nvPr/>
              </p:nvSpPr>
              <p:spPr>
                <a:xfrm>
                  <a:off x="1217520" y="353880"/>
                  <a:ext cx="42840" cy="716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1290600" y="360360"/>
                  <a:ext cx="0" cy="63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1351080" y="357120"/>
                  <a:ext cx="0" cy="684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1201680" y="290520"/>
                  <a:ext cx="15840" cy="5076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1278000" y="287280"/>
                  <a:ext cx="20520" cy="572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1344600" y="290520"/>
                  <a:ext cx="15840" cy="572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1425600" y="290520"/>
                  <a:ext cx="15840" cy="5076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 flipH="1">
                  <a:off x="1371600" y="353880"/>
                  <a:ext cx="71280" cy="716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3" name=""/>
            <p:cNvGrpSpPr/>
            <p:nvPr/>
          </p:nvGrpSpPr>
          <p:grpSpPr>
            <a:xfrm>
              <a:off x="1201680" y="1084320"/>
              <a:ext cx="241200" cy="357120"/>
              <a:chOff x="1201680" y="1084320"/>
              <a:chExt cx="241200" cy="357120"/>
            </a:xfrm>
          </p:grpSpPr>
          <p:sp>
            <p:nvSpPr>
              <p:cNvPr id="44" name=""/>
              <p:cNvSpPr/>
              <p:nvPr/>
            </p:nvSpPr>
            <p:spPr>
              <a:xfrm>
                <a:off x="1273320" y="1239840"/>
                <a:ext cx="102960" cy="5256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5" name=""/>
              <p:cNvGrpSpPr/>
              <p:nvPr/>
            </p:nvGrpSpPr>
            <p:grpSpPr>
              <a:xfrm>
                <a:off x="1201680" y="1292040"/>
                <a:ext cx="241200" cy="149400"/>
                <a:chOff x="1201680" y="1292040"/>
                <a:chExt cx="241200" cy="149400"/>
              </a:xfrm>
            </p:grpSpPr>
            <p:sp>
              <p:nvSpPr>
                <p:cNvPr id="46" name=""/>
                <p:cNvSpPr/>
                <p:nvPr/>
              </p:nvSpPr>
              <p:spPr>
                <a:xfrm flipV="1">
                  <a:off x="1217520" y="1292400"/>
                  <a:ext cx="42840" cy="950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flipV="1">
                  <a:off x="1290600" y="1292400"/>
                  <a:ext cx="0" cy="885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flipV="1">
                  <a:off x="1351080" y="1292040"/>
                  <a:ext cx="0" cy="90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1201680" y="1387440"/>
                  <a:ext cx="15840" cy="493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1278000" y="1382760"/>
                  <a:ext cx="20520" cy="586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44600" y="1380960"/>
                  <a:ext cx="15840" cy="572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1425600" y="1387440"/>
                  <a:ext cx="15840" cy="493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 flipH="1" flipV="1">
                  <a:off x="1371600" y="1292400"/>
                  <a:ext cx="71280" cy="950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1201680" y="1084320"/>
                <a:ext cx="241200" cy="135000"/>
                <a:chOff x="1201680" y="1084320"/>
                <a:chExt cx="241200" cy="13500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1217520" y="1149480"/>
                  <a:ext cx="42840" cy="698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1290600" y="1157400"/>
                  <a:ext cx="0" cy="60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1351080" y="1155600"/>
                  <a:ext cx="0" cy="63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1201680" y="1089000"/>
                  <a:ext cx="15840" cy="475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1278000" y="1084320"/>
                  <a:ext cx="20520" cy="586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1344600" y="1085760"/>
                  <a:ext cx="15840" cy="586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1425600" y="1089000"/>
                  <a:ext cx="15840" cy="475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 flipH="1">
                  <a:off x="1371600" y="1149480"/>
                  <a:ext cx="71280" cy="698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3" name=""/>
            <p:cNvGrpSpPr/>
            <p:nvPr/>
          </p:nvGrpSpPr>
          <p:grpSpPr>
            <a:xfrm>
              <a:off x="700200" y="1311120"/>
              <a:ext cx="239760" cy="358920"/>
              <a:chOff x="700200" y="1311120"/>
              <a:chExt cx="239760" cy="358920"/>
            </a:xfrm>
          </p:grpSpPr>
          <p:sp>
            <p:nvSpPr>
              <p:cNvPr id="64" name=""/>
              <p:cNvSpPr/>
              <p:nvPr/>
            </p:nvSpPr>
            <p:spPr>
              <a:xfrm>
                <a:off x="771480" y="1469880"/>
                <a:ext cx="101520" cy="4932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700200" y="1519200"/>
                <a:ext cx="239760" cy="150840"/>
                <a:chOff x="700200" y="1519200"/>
                <a:chExt cx="239760" cy="150840"/>
              </a:xfrm>
            </p:grpSpPr>
            <p:sp>
              <p:nvSpPr>
                <p:cNvPr id="66" name=""/>
                <p:cNvSpPr/>
                <p:nvPr/>
              </p:nvSpPr>
              <p:spPr>
                <a:xfrm flipV="1">
                  <a:off x="716040" y="1521000"/>
                  <a:ext cx="42840" cy="950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 flipV="1">
                  <a:off x="789120" y="1522440"/>
                  <a:ext cx="0" cy="87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 flipV="1">
                  <a:off x="849240" y="1519200"/>
                  <a:ext cx="0" cy="93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700200" y="1616040"/>
                  <a:ext cx="15840" cy="493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776160" y="1612800"/>
                  <a:ext cx="20880" cy="572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839880" y="1609560"/>
                  <a:ext cx="17280" cy="590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920880" y="1616040"/>
                  <a:ext cx="17280" cy="493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 flipH="1" flipV="1">
                  <a:off x="870120" y="1521000"/>
                  <a:ext cx="69840" cy="950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700200" y="1311120"/>
                <a:ext cx="239760" cy="138240"/>
                <a:chOff x="700200" y="1311120"/>
                <a:chExt cx="239760" cy="13824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716040" y="1378080"/>
                  <a:ext cx="42840" cy="71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789120" y="1387440"/>
                  <a:ext cx="0" cy="604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849240" y="1382760"/>
                  <a:ext cx="0" cy="66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700200" y="1317600"/>
                  <a:ext cx="15840" cy="475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776160" y="1311120"/>
                  <a:ext cx="20880" cy="590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839880" y="1316160"/>
                  <a:ext cx="17280" cy="586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920880" y="1317600"/>
                  <a:ext cx="17280" cy="475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 flipH="1">
                  <a:off x="870120" y="1378080"/>
                  <a:ext cx="69840" cy="71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3" name=""/>
            <p:cNvGrpSpPr/>
            <p:nvPr/>
          </p:nvGrpSpPr>
          <p:grpSpPr>
            <a:xfrm>
              <a:off x="163440" y="1127160"/>
              <a:ext cx="246240" cy="357120"/>
              <a:chOff x="163440" y="1127160"/>
              <a:chExt cx="246240" cy="357120"/>
            </a:xfrm>
          </p:grpSpPr>
          <p:sp>
            <p:nvSpPr>
              <p:cNvPr id="84" name=""/>
              <p:cNvSpPr/>
              <p:nvPr/>
            </p:nvSpPr>
            <p:spPr>
              <a:xfrm>
                <a:off x="236520" y="1285920"/>
                <a:ext cx="104760" cy="5076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5" name=""/>
              <p:cNvGrpSpPr/>
              <p:nvPr/>
            </p:nvGrpSpPr>
            <p:grpSpPr>
              <a:xfrm>
                <a:off x="163440" y="1336320"/>
                <a:ext cx="246240" cy="147960"/>
                <a:chOff x="163440" y="1336320"/>
                <a:chExt cx="246240" cy="147960"/>
              </a:xfrm>
            </p:grpSpPr>
            <p:sp>
              <p:nvSpPr>
                <p:cNvPr id="86" name=""/>
                <p:cNvSpPr/>
                <p:nvPr/>
              </p:nvSpPr>
              <p:spPr>
                <a:xfrm flipV="1">
                  <a:off x="181080" y="1336680"/>
                  <a:ext cx="42840" cy="93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flipV="1">
                  <a:off x="254160" y="1337760"/>
                  <a:ext cx="0" cy="874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 flipV="1">
                  <a:off x="318960" y="1336320"/>
                  <a:ext cx="0" cy="90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163440" y="1430280"/>
                  <a:ext cx="19080" cy="5076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243000" y="1427040"/>
                  <a:ext cx="19080" cy="572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04920" y="1425600"/>
                  <a:ext cx="19080" cy="586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385920" y="1430280"/>
                  <a:ext cx="17280" cy="5076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 flipH="1" flipV="1">
                  <a:off x="334800" y="1336680"/>
                  <a:ext cx="74880" cy="93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163440" y="1127160"/>
                <a:ext cx="246240" cy="136440"/>
                <a:chOff x="163440" y="1127160"/>
                <a:chExt cx="246240" cy="13644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181080" y="1193760"/>
                  <a:ext cx="42840" cy="698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254160" y="1200240"/>
                  <a:ext cx="0" cy="63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318960" y="1198440"/>
                  <a:ext cx="0" cy="65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163440" y="1131840"/>
                  <a:ext cx="19080" cy="493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243000" y="1127160"/>
                  <a:ext cx="19080" cy="586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304920" y="1130400"/>
                  <a:ext cx="19080" cy="568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385920" y="1131840"/>
                  <a:ext cx="17280" cy="493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 flipH="1">
                  <a:off x="334800" y="1193760"/>
                  <a:ext cx="74880" cy="698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3" name=""/>
            <p:cNvGrpSpPr/>
            <p:nvPr/>
          </p:nvGrpSpPr>
          <p:grpSpPr>
            <a:xfrm>
              <a:off x="117360" y="324000"/>
              <a:ext cx="241200" cy="355320"/>
              <a:chOff x="117360" y="324000"/>
              <a:chExt cx="241200" cy="355320"/>
            </a:xfrm>
          </p:grpSpPr>
          <p:sp>
            <p:nvSpPr>
              <p:cNvPr id="104" name=""/>
              <p:cNvSpPr/>
              <p:nvPr/>
            </p:nvSpPr>
            <p:spPr>
              <a:xfrm>
                <a:off x="187200" y="480960"/>
                <a:ext cx="103320" cy="5256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117360" y="533160"/>
                <a:ext cx="241200" cy="146160"/>
                <a:chOff x="117360" y="533160"/>
                <a:chExt cx="241200" cy="146160"/>
              </a:xfrm>
            </p:grpSpPr>
            <p:sp>
              <p:nvSpPr>
                <p:cNvPr id="106" name=""/>
                <p:cNvSpPr/>
                <p:nvPr/>
              </p:nvSpPr>
              <p:spPr>
                <a:xfrm flipV="1">
                  <a:off x="131760" y="533520"/>
                  <a:ext cx="42840" cy="93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 flipV="1">
                  <a:off x="208080" y="533160"/>
                  <a:ext cx="0" cy="88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 flipV="1">
                  <a:off x="268200" y="533160"/>
                  <a:ext cx="0" cy="88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117360" y="627120"/>
                  <a:ext cx="15840" cy="493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195120" y="622440"/>
                  <a:ext cx="19080" cy="568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258840" y="622440"/>
                  <a:ext cx="19080" cy="554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341280" y="627120"/>
                  <a:ext cx="15840" cy="493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 flipH="1" flipV="1">
                  <a:off x="285480" y="533520"/>
                  <a:ext cx="73080" cy="93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117360" y="324000"/>
                <a:ext cx="241200" cy="136440"/>
                <a:chOff x="117360" y="324000"/>
                <a:chExt cx="241200" cy="13644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131760" y="390600"/>
                  <a:ext cx="42840" cy="698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208080" y="396720"/>
                  <a:ext cx="0" cy="63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268200" y="393840"/>
                  <a:ext cx="0" cy="66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17360" y="328680"/>
                  <a:ext cx="15840" cy="493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95120" y="324000"/>
                  <a:ext cx="19080" cy="568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58840" y="325440"/>
                  <a:ext cx="19080" cy="586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41280" y="328680"/>
                  <a:ext cx="15840" cy="493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 flipH="1">
                  <a:off x="285480" y="390600"/>
                  <a:ext cx="73080" cy="698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25" name=""/>
          <p:cNvSpPr/>
          <p:nvPr/>
        </p:nvSpPr>
        <p:spPr>
          <a:xfrm>
            <a:off x="6480" y="6480"/>
            <a:ext cx="9118440" cy="68324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1720" y="709560"/>
            <a:ext cx="7012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(c) Raj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534520" y="63244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BD763-A6C8-4E85-B49C-16BF016FC709}" type="slidenum"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0.wmf"/><Relationship Id="rId1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0.wmf"/><Relationship Id="rId1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wmf"/><Relationship Id="rId5" Type="http://schemas.openxmlformats.org/officeDocument/2006/relationships/image" Target="../media/image8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wmf"/><Relationship Id="rId9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0.wmf"/><Relationship Id="rId5" Type="http://schemas.openxmlformats.org/officeDocument/2006/relationships/image" Target="../media/image30.wmf"/><Relationship Id="rId6" Type="http://schemas.openxmlformats.org/officeDocument/2006/relationships/image" Target="../media/image30.wmf"/><Relationship Id="rId7" Type="http://schemas.openxmlformats.org/officeDocument/2006/relationships/image" Target="../media/image30.wmf"/><Relationship Id="rId8" Type="http://schemas.openxmlformats.org/officeDocument/2006/relationships/image" Target="../media/image30.wmf"/><Relationship Id="rId9" Type="http://schemas.openxmlformats.org/officeDocument/2006/relationships/image" Target="../media/image30.wmf"/><Relationship Id="rId10" Type="http://schemas.openxmlformats.org/officeDocument/2006/relationships/image" Target="../media/image30.wmf"/><Relationship Id="rId11" Type="http://schemas.openxmlformats.org/officeDocument/2006/relationships/image" Target="../media/image30.wmf"/><Relationship Id="rId12" Type="http://schemas.openxmlformats.org/officeDocument/2006/relationships/oleObject" Target="../embeddings/oleObject1.bin"/><Relationship Id="rId13" Type="http://schemas.openxmlformats.org/officeDocument/2006/relationships/image" Target="../media/image31.wmf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wmf"/><Relationship Id="rId4" Type="http://schemas.openxmlformats.org/officeDocument/2006/relationships/image" Target="../media/image36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7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38.png"/><Relationship Id="rId9" Type="http://schemas.openxmlformats.org/officeDocument/2006/relationships/image" Target="../media/image39.png"/><Relationship Id="rId10" Type="http://schemas.openxmlformats.org/officeDocument/2006/relationships/image" Target="../media/image40.png"/><Relationship Id="rId11" Type="http://schemas.openxmlformats.org/officeDocument/2006/relationships/image" Target="../media/image41.png"/><Relationship Id="rId12" Type="http://schemas.openxmlformats.org/officeDocument/2006/relationships/image" Target="../media/image42.jpeg"/><Relationship Id="rId13" Type="http://schemas.openxmlformats.org/officeDocument/2006/relationships/image" Target="../media/image43.png"/><Relationship Id="rId14" Type="http://schemas.openxmlformats.org/officeDocument/2006/relationships/image" Target="../media/image44.png"/><Relationship Id="rId15" Type="http://schemas.openxmlformats.org/officeDocument/2006/relationships/image" Target="../media/image45.png"/><Relationship Id="rId16" Type="http://schemas.openxmlformats.org/officeDocument/2006/relationships/image" Target="../media/image46.png"/><Relationship Id="rId17" Type="http://schemas.openxmlformats.org/officeDocument/2006/relationships/image" Target="../media/image47.png"/><Relationship Id="rId18" Type="http://schemas.openxmlformats.org/officeDocument/2006/relationships/image" Target="../media/image48.png"/><Relationship Id="rId19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image" Target="../media/image52.png"/><Relationship Id="rId7" Type="http://schemas.openxmlformats.org/officeDocument/2006/relationships/image" Target="../media/image52.png"/><Relationship Id="rId8" Type="http://schemas.openxmlformats.org/officeDocument/2006/relationships/image" Target="../media/image52.png"/><Relationship Id="rId9" Type="http://schemas.openxmlformats.org/officeDocument/2006/relationships/image" Target="../media/image52.png"/><Relationship Id="rId10" Type="http://schemas.openxmlformats.org/officeDocument/2006/relationships/image" Target="../media/image52.png"/><Relationship Id="rId11" Type="http://schemas.openxmlformats.org/officeDocument/2006/relationships/image" Target="../media/image52.png"/><Relationship Id="rId12" Type="http://schemas.openxmlformats.org/officeDocument/2006/relationships/image" Target="../media/image52.png"/><Relationship Id="rId13" Type="http://schemas.openxmlformats.org/officeDocument/2006/relationships/image" Target="../media/image1.wmf"/><Relationship Id="rId14" Type="http://schemas.openxmlformats.org/officeDocument/2006/relationships/image" Target="../media/image53.png"/><Relationship Id="rId15" Type="http://schemas.openxmlformats.org/officeDocument/2006/relationships/image" Target="../media/image53.png"/><Relationship Id="rId16" Type="http://schemas.openxmlformats.org/officeDocument/2006/relationships/image" Target="../media/image53.png"/><Relationship Id="rId1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58.jpeg"/><Relationship Id="rId5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76320" y="5754600"/>
            <a:ext cx="914400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Rajkumar Buyya,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nash University, Melbourne, Australi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jkumar@ieee.org        http://www.dgs.monash.edu.au/~rajkum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3520" y="-228960"/>
            <a:ext cx="7620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Architecture Alternatives for Scalable Single System Image Clusters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676520" y="1295280"/>
            <a:ext cx="7086600" cy="4343400"/>
            <a:chOff x="1676520" y="1295280"/>
            <a:chExt cx="7086600" cy="4343400"/>
          </a:xfrm>
        </p:grpSpPr>
        <p:sp>
          <p:nvSpPr>
            <p:cNvPr id="170" name=""/>
            <p:cNvSpPr/>
            <p:nvPr/>
          </p:nvSpPr>
          <p:spPr>
            <a:xfrm>
              <a:off x="1676520" y="1295280"/>
              <a:ext cx="7086600" cy="4343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1" name="" descr=""/>
            <p:cNvPicPr/>
            <p:nvPr/>
          </p:nvPicPr>
          <p:blipFill>
            <a:blip r:embed="rId1"/>
            <a:stretch/>
          </p:blipFill>
          <p:spPr>
            <a:xfrm>
              <a:off x="1749960" y="1365480"/>
              <a:ext cx="6729480" cy="417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4017960" y="1412280"/>
              <a:ext cx="3821040" cy="4027320"/>
            </a:xfrm>
            <a:prstGeom prst="ellipse">
              <a:avLst/>
            </a:prstGeom>
            <a:solidFill>
              <a:srgbClr val="0000ff"/>
            </a:solidFill>
            <a:ln w="10152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3" name="" descr=""/>
            <p:cNvPicPr/>
            <p:nvPr/>
          </p:nvPicPr>
          <p:blipFill>
            <a:blip r:embed="rId2"/>
            <a:stretch/>
          </p:blipFill>
          <p:spPr>
            <a:xfrm>
              <a:off x="5024160" y="2067840"/>
              <a:ext cx="1935000" cy="27392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What is a cluster?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259920" indent="-259920">
              <a:lnSpc>
                <a:spcPct val="90000"/>
              </a:lnSpc>
              <a:spcBef>
                <a:spcPts val="104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A cluster is a type of parallel or distributed processing system, which consists of a collection of interconnected </a:t>
            </a:r>
            <a:r>
              <a:rPr b="1" lang="en-US" sz="2800" spc="-1" strike="noStrike" u="sng">
                <a:solidFill>
                  <a:srgbClr val="fafd00"/>
                </a:solidFill>
                <a:uFillTx/>
                <a:latin typeface="Century Gothic"/>
              </a:rPr>
              <a:t>stand-alone computers</a:t>
            </a: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 cooperatively working together as a </a:t>
            </a:r>
            <a:r>
              <a:rPr b="1" lang="en-US" sz="2800" spc="-1" strike="noStrike" u="sng">
                <a:solidFill>
                  <a:srgbClr val="fafd00"/>
                </a:solidFill>
                <a:uFillTx/>
                <a:latin typeface="Century Gothic"/>
              </a:rPr>
              <a:t>single</a:t>
            </a: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, integrated computing resource.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  <a:p>
            <a:pPr marL="259920" indent="-259920">
              <a:lnSpc>
                <a:spcPct val="90000"/>
              </a:lnSpc>
              <a:spcBef>
                <a:spcPts val="104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A typical cluster: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  <a:p>
            <a:pPr lvl="1" marL="623880" indent="-2077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twork: Faster, closer connection than a typical network (LA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077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w latency communication protoco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077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oser connection than SM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So What’s So Different about Clusters?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014560" y="1523880"/>
            <a:ext cx="659592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Commodity Parts?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Communications Packaging?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Incremental Scalability?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Independent Failure?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Century Gothic"/>
              </a:rPr>
              <a:t>Intelligent Network Interfaces?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Century Gothic"/>
              </a:rPr>
              <a:t>Complete System on every node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637560" indent="-2124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rtual memo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7560" indent="-2124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hedul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7560" indent="-2124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7560" indent="-2124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Nodes can be used individually or combined...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3365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4" name=""/>
          <p:cNvGraphicFramePr/>
          <p:nvPr/>
        </p:nvGraphicFramePr>
        <p:xfrm>
          <a:off x="152280" y="1676520"/>
          <a:ext cx="891540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676520"/>
                    <a:ext cx="891540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"/>
          <p:cNvSpPr/>
          <p:nvPr/>
        </p:nvSpPr>
        <p:spPr>
          <a:xfrm>
            <a:off x="1371600" y="0"/>
            <a:ext cx="61722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53452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Century Gothic"/>
              </a:rPr>
              <a:t>      </a:t>
            </a: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Clustering of Computers </a:t>
            </a:r>
            <a:br>
              <a:rPr sz="3200"/>
            </a:b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           for Collective Computating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98" name=""/>
          <p:cNvSpPr/>
          <p:nvPr/>
        </p:nvSpPr>
        <p:spPr>
          <a:xfrm>
            <a:off x="1051560" y="616284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96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639400" y="609588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99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163640" y="6095880"/>
            <a:ext cx="109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995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1295280" y="1676520"/>
            <a:ext cx="6705720" cy="44193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45960" y="457200"/>
            <a:ext cx="7906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Computer Food Chain (Now and Futur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3" name="nowlogo" descr=""/>
          <p:cNvPicPr/>
          <p:nvPr/>
        </p:nvPicPr>
        <p:blipFill>
          <a:blip r:embed="rId1"/>
          <a:stretch/>
        </p:blipFill>
        <p:spPr>
          <a:xfrm>
            <a:off x="1523880" y="2657520"/>
            <a:ext cx="5743800" cy="305748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524600" y="609588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Demise of Mainframes, Supercomputers, &amp; MP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4108680" y="76320"/>
            <a:ext cx="481140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Cluster Configuration..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Dedicated Clus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6" name="dsc00061" descr=""/>
          <p:cNvPicPr/>
          <p:nvPr/>
        </p:nvPicPr>
        <p:blipFill>
          <a:blip r:embed="rId1"/>
          <a:stretch/>
        </p:blipFill>
        <p:spPr>
          <a:xfrm>
            <a:off x="1752480" y="175248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" name=""/>
          <p:cNvGrpSpPr/>
          <p:nvPr/>
        </p:nvGrpSpPr>
        <p:grpSpPr>
          <a:xfrm>
            <a:off x="833040" y="1600200"/>
            <a:ext cx="7871400" cy="4892040"/>
            <a:chOff x="833040" y="1600200"/>
            <a:chExt cx="7871400" cy="4892040"/>
          </a:xfrm>
        </p:grpSpPr>
        <p:grpSp>
          <p:nvGrpSpPr>
            <p:cNvPr id="308" name=""/>
            <p:cNvGrpSpPr/>
            <p:nvPr/>
          </p:nvGrpSpPr>
          <p:grpSpPr>
            <a:xfrm>
              <a:off x="3581280" y="3234960"/>
              <a:ext cx="1352520" cy="1022400"/>
              <a:chOff x="3581280" y="3234960"/>
              <a:chExt cx="1352520" cy="1022400"/>
            </a:xfrm>
          </p:grpSpPr>
          <p:sp>
            <p:nvSpPr>
              <p:cNvPr id="309" name=""/>
              <p:cNvSpPr/>
              <p:nvPr/>
            </p:nvSpPr>
            <p:spPr>
              <a:xfrm>
                <a:off x="4043880" y="3430080"/>
                <a:ext cx="295200" cy="156600"/>
              </a:xfrm>
              <a:custGeom>
                <a:avLst/>
                <a:gdLst/>
                <a:ahLst/>
                <a:rect l="l" t="t" r="r" b="b"/>
                <a:pathLst>
                  <a:path w="197" h="98">
                    <a:moveTo>
                      <a:pt x="0" y="57"/>
                    </a:moveTo>
                    <a:lnTo>
                      <a:pt x="0" y="0"/>
                    </a:lnTo>
                    <a:lnTo>
                      <a:pt x="196" y="44"/>
                    </a:lnTo>
                    <a:lnTo>
                      <a:pt x="193" y="70"/>
                    </a:lnTo>
                    <a:lnTo>
                      <a:pt x="180" y="97"/>
                    </a:lnTo>
                    <a:lnTo>
                      <a:pt x="0" y="57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649400" y="3553560"/>
                <a:ext cx="282960" cy="150120"/>
              </a:xfrm>
              <a:custGeom>
                <a:avLst/>
                <a:gdLst/>
                <a:ahLst/>
                <a:rect l="l" t="t" r="r" b="b"/>
                <a:pathLst>
                  <a:path w="189" h="94">
                    <a:moveTo>
                      <a:pt x="188" y="93"/>
                    </a:moveTo>
                    <a:lnTo>
                      <a:pt x="187" y="41"/>
                    </a:lnTo>
                    <a:lnTo>
                      <a:pt x="0" y="0"/>
                    </a:lnTo>
                    <a:lnTo>
                      <a:pt x="0" y="66"/>
                    </a:lnTo>
                    <a:lnTo>
                      <a:pt x="188" y="9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11" name=""/>
              <p:cNvGrpSpPr/>
              <p:nvPr/>
            </p:nvGrpSpPr>
            <p:grpSpPr>
              <a:xfrm>
                <a:off x="3581280" y="3234960"/>
                <a:ext cx="1352520" cy="1022400"/>
                <a:chOff x="3581280" y="3234960"/>
                <a:chExt cx="1352520" cy="102240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3581280" y="3331080"/>
                  <a:ext cx="1351080" cy="926280"/>
                </a:xfrm>
                <a:custGeom>
                  <a:avLst/>
                  <a:gdLst/>
                  <a:ahLst/>
                  <a:rect l="l" t="t" r="r" b="b"/>
                  <a:pathLst>
                    <a:path w="902" h="579">
                      <a:moveTo>
                        <a:pt x="1" y="575"/>
                      </a:moveTo>
                      <a:lnTo>
                        <a:pt x="51" y="578"/>
                      </a:lnTo>
                      <a:lnTo>
                        <a:pt x="75" y="578"/>
                      </a:lnTo>
                      <a:lnTo>
                        <a:pt x="105" y="578"/>
                      </a:lnTo>
                      <a:lnTo>
                        <a:pt x="133" y="577"/>
                      </a:lnTo>
                      <a:lnTo>
                        <a:pt x="160" y="575"/>
                      </a:lnTo>
                      <a:lnTo>
                        <a:pt x="188" y="571"/>
                      </a:lnTo>
                      <a:lnTo>
                        <a:pt x="213" y="565"/>
                      </a:lnTo>
                      <a:lnTo>
                        <a:pt x="241" y="558"/>
                      </a:lnTo>
                      <a:lnTo>
                        <a:pt x="273" y="548"/>
                      </a:lnTo>
                      <a:lnTo>
                        <a:pt x="303" y="535"/>
                      </a:lnTo>
                      <a:lnTo>
                        <a:pt x="331" y="525"/>
                      </a:lnTo>
                      <a:lnTo>
                        <a:pt x="362" y="509"/>
                      </a:lnTo>
                      <a:lnTo>
                        <a:pt x="391" y="493"/>
                      </a:lnTo>
                      <a:lnTo>
                        <a:pt x="421" y="476"/>
                      </a:lnTo>
                      <a:lnTo>
                        <a:pt x="445" y="459"/>
                      </a:lnTo>
                      <a:lnTo>
                        <a:pt x="474" y="442"/>
                      </a:lnTo>
                      <a:lnTo>
                        <a:pt x="497" y="426"/>
                      </a:lnTo>
                      <a:lnTo>
                        <a:pt x="524" y="407"/>
                      </a:lnTo>
                      <a:lnTo>
                        <a:pt x="550" y="388"/>
                      </a:lnTo>
                      <a:lnTo>
                        <a:pt x="576" y="364"/>
                      </a:lnTo>
                      <a:lnTo>
                        <a:pt x="599" y="345"/>
                      </a:lnTo>
                      <a:lnTo>
                        <a:pt x="623" y="320"/>
                      </a:lnTo>
                      <a:lnTo>
                        <a:pt x="646" y="297"/>
                      </a:lnTo>
                      <a:lnTo>
                        <a:pt x="668" y="274"/>
                      </a:lnTo>
                      <a:lnTo>
                        <a:pt x="686" y="249"/>
                      </a:lnTo>
                      <a:lnTo>
                        <a:pt x="700" y="226"/>
                      </a:lnTo>
                      <a:lnTo>
                        <a:pt x="712" y="202"/>
                      </a:lnTo>
                      <a:lnTo>
                        <a:pt x="901" y="233"/>
                      </a:lnTo>
                      <a:lnTo>
                        <a:pt x="872" y="217"/>
                      </a:lnTo>
                      <a:lnTo>
                        <a:pt x="849" y="202"/>
                      </a:lnTo>
                      <a:lnTo>
                        <a:pt x="821" y="188"/>
                      </a:lnTo>
                      <a:lnTo>
                        <a:pt x="801" y="172"/>
                      </a:lnTo>
                      <a:lnTo>
                        <a:pt x="782" y="159"/>
                      </a:lnTo>
                      <a:lnTo>
                        <a:pt x="766" y="147"/>
                      </a:lnTo>
                      <a:lnTo>
                        <a:pt x="750" y="132"/>
                      </a:lnTo>
                      <a:lnTo>
                        <a:pt x="734" y="118"/>
                      </a:lnTo>
                      <a:lnTo>
                        <a:pt x="717" y="101"/>
                      </a:lnTo>
                      <a:lnTo>
                        <a:pt x="699" y="81"/>
                      </a:lnTo>
                      <a:lnTo>
                        <a:pt x="679" y="61"/>
                      </a:lnTo>
                      <a:lnTo>
                        <a:pt x="663" y="41"/>
                      </a:lnTo>
                      <a:lnTo>
                        <a:pt x="645" y="19"/>
                      </a:lnTo>
                      <a:lnTo>
                        <a:pt x="632" y="0"/>
                      </a:lnTo>
                      <a:lnTo>
                        <a:pt x="617" y="6"/>
                      </a:lnTo>
                      <a:lnTo>
                        <a:pt x="602" y="17"/>
                      </a:lnTo>
                      <a:lnTo>
                        <a:pt x="586" y="26"/>
                      </a:lnTo>
                      <a:lnTo>
                        <a:pt x="568" y="36"/>
                      </a:lnTo>
                      <a:lnTo>
                        <a:pt x="549" y="46"/>
                      </a:lnTo>
                      <a:lnTo>
                        <a:pt x="531" y="53"/>
                      </a:lnTo>
                      <a:lnTo>
                        <a:pt x="514" y="60"/>
                      </a:lnTo>
                      <a:lnTo>
                        <a:pt x="495" y="68"/>
                      </a:lnTo>
                      <a:lnTo>
                        <a:pt x="476" y="73"/>
                      </a:lnTo>
                      <a:lnTo>
                        <a:pt x="453" y="81"/>
                      </a:lnTo>
                      <a:lnTo>
                        <a:pt x="434" y="87"/>
                      </a:lnTo>
                      <a:lnTo>
                        <a:pt x="416" y="93"/>
                      </a:lnTo>
                      <a:lnTo>
                        <a:pt x="395" y="98"/>
                      </a:lnTo>
                      <a:lnTo>
                        <a:pt x="376" y="103"/>
                      </a:lnTo>
                      <a:lnTo>
                        <a:pt x="358" y="108"/>
                      </a:lnTo>
                      <a:lnTo>
                        <a:pt x="337" y="114"/>
                      </a:lnTo>
                      <a:lnTo>
                        <a:pt x="308" y="118"/>
                      </a:lnTo>
                      <a:lnTo>
                        <a:pt x="506" y="163"/>
                      </a:lnTo>
                      <a:lnTo>
                        <a:pt x="492" y="196"/>
                      </a:lnTo>
                      <a:lnTo>
                        <a:pt x="478" y="221"/>
                      </a:lnTo>
                      <a:lnTo>
                        <a:pt x="448" y="269"/>
                      </a:lnTo>
                      <a:lnTo>
                        <a:pt x="432" y="291"/>
                      </a:lnTo>
                      <a:lnTo>
                        <a:pt x="416" y="312"/>
                      </a:lnTo>
                      <a:lnTo>
                        <a:pt x="393" y="338"/>
                      </a:lnTo>
                      <a:lnTo>
                        <a:pt x="368" y="368"/>
                      </a:lnTo>
                      <a:lnTo>
                        <a:pt x="344" y="388"/>
                      </a:lnTo>
                      <a:lnTo>
                        <a:pt x="311" y="417"/>
                      </a:lnTo>
                      <a:lnTo>
                        <a:pt x="283" y="436"/>
                      </a:lnTo>
                      <a:lnTo>
                        <a:pt x="257" y="455"/>
                      </a:lnTo>
                      <a:lnTo>
                        <a:pt x="234" y="469"/>
                      </a:lnTo>
                      <a:lnTo>
                        <a:pt x="218" y="480"/>
                      </a:lnTo>
                      <a:lnTo>
                        <a:pt x="188" y="490"/>
                      </a:lnTo>
                      <a:lnTo>
                        <a:pt x="162" y="500"/>
                      </a:lnTo>
                      <a:lnTo>
                        <a:pt x="133" y="513"/>
                      </a:lnTo>
                      <a:lnTo>
                        <a:pt x="92" y="521"/>
                      </a:lnTo>
                      <a:lnTo>
                        <a:pt x="61" y="527"/>
                      </a:lnTo>
                      <a:lnTo>
                        <a:pt x="0" y="530"/>
                      </a:lnTo>
                      <a:lnTo>
                        <a:pt x="1" y="575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3582360" y="3234960"/>
                  <a:ext cx="1351440" cy="955440"/>
                </a:xfrm>
                <a:custGeom>
                  <a:avLst/>
                  <a:gdLst/>
                  <a:ahLst/>
                  <a:rect l="l" t="t" r="r" b="b"/>
                  <a:pathLst>
                    <a:path w="902" h="597">
                      <a:moveTo>
                        <a:pt x="0" y="592"/>
                      </a:moveTo>
                      <a:lnTo>
                        <a:pt x="50" y="596"/>
                      </a:lnTo>
                      <a:lnTo>
                        <a:pt x="74" y="596"/>
                      </a:lnTo>
                      <a:lnTo>
                        <a:pt x="104" y="596"/>
                      </a:lnTo>
                      <a:lnTo>
                        <a:pt x="131" y="594"/>
                      </a:lnTo>
                      <a:lnTo>
                        <a:pt x="159" y="592"/>
                      </a:lnTo>
                      <a:lnTo>
                        <a:pt x="187" y="588"/>
                      </a:lnTo>
                      <a:lnTo>
                        <a:pt x="212" y="581"/>
                      </a:lnTo>
                      <a:lnTo>
                        <a:pt x="239" y="575"/>
                      </a:lnTo>
                      <a:lnTo>
                        <a:pt x="272" y="564"/>
                      </a:lnTo>
                      <a:lnTo>
                        <a:pt x="302" y="551"/>
                      </a:lnTo>
                      <a:lnTo>
                        <a:pt x="329" y="540"/>
                      </a:lnTo>
                      <a:lnTo>
                        <a:pt x="361" y="525"/>
                      </a:lnTo>
                      <a:lnTo>
                        <a:pt x="390" y="507"/>
                      </a:lnTo>
                      <a:lnTo>
                        <a:pt x="419" y="490"/>
                      </a:lnTo>
                      <a:lnTo>
                        <a:pt x="444" y="473"/>
                      </a:lnTo>
                      <a:lnTo>
                        <a:pt x="473" y="455"/>
                      </a:lnTo>
                      <a:lnTo>
                        <a:pt x="496" y="438"/>
                      </a:lnTo>
                      <a:lnTo>
                        <a:pt x="522" y="419"/>
                      </a:lnTo>
                      <a:lnTo>
                        <a:pt x="549" y="399"/>
                      </a:lnTo>
                      <a:lnTo>
                        <a:pt x="575" y="375"/>
                      </a:lnTo>
                      <a:lnTo>
                        <a:pt x="598" y="356"/>
                      </a:lnTo>
                      <a:lnTo>
                        <a:pt x="622" y="329"/>
                      </a:lnTo>
                      <a:lnTo>
                        <a:pt x="645" y="306"/>
                      </a:lnTo>
                      <a:lnTo>
                        <a:pt x="666" y="280"/>
                      </a:lnTo>
                      <a:lnTo>
                        <a:pt x="684" y="254"/>
                      </a:lnTo>
                      <a:lnTo>
                        <a:pt x="699" y="233"/>
                      </a:lnTo>
                      <a:lnTo>
                        <a:pt x="711" y="208"/>
                      </a:lnTo>
                      <a:lnTo>
                        <a:pt x="901" y="240"/>
                      </a:lnTo>
                      <a:lnTo>
                        <a:pt x="871" y="224"/>
                      </a:lnTo>
                      <a:lnTo>
                        <a:pt x="848" y="208"/>
                      </a:lnTo>
                      <a:lnTo>
                        <a:pt x="820" y="193"/>
                      </a:lnTo>
                      <a:lnTo>
                        <a:pt x="800" y="178"/>
                      </a:lnTo>
                      <a:lnTo>
                        <a:pt x="781" y="163"/>
                      </a:lnTo>
                      <a:lnTo>
                        <a:pt x="765" y="152"/>
                      </a:lnTo>
                      <a:lnTo>
                        <a:pt x="749" y="136"/>
                      </a:lnTo>
                      <a:lnTo>
                        <a:pt x="733" y="121"/>
                      </a:lnTo>
                      <a:lnTo>
                        <a:pt x="716" y="105"/>
                      </a:lnTo>
                      <a:lnTo>
                        <a:pt x="698" y="84"/>
                      </a:lnTo>
                      <a:lnTo>
                        <a:pt x="678" y="63"/>
                      </a:lnTo>
                      <a:lnTo>
                        <a:pt x="662" y="42"/>
                      </a:lnTo>
                      <a:lnTo>
                        <a:pt x="644" y="19"/>
                      </a:lnTo>
                      <a:lnTo>
                        <a:pt x="630" y="0"/>
                      </a:lnTo>
                      <a:lnTo>
                        <a:pt x="616" y="7"/>
                      </a:lnTo>
                      <a:lnTo>
                        <a:pt x="601" y="18"/>
                      </a:lnTo>
                      <a:lnTo>
                        <a:pt x="585" y="27"/>
                      </a:lnTo>
                      <a:lnTo>
                        <a:pt x="567" y="37"/>
                      </a:lnTo>
                      <a:lnTo>
                        <a:pt x="548" y="48"/>
                      </a:lnTo>
                      <a:lnTo>
                        <a:pt x="530" y="55"/>
                      </a:lnTo>
                      <a:lnTo>
                        <a:pt x="513" y="62"/>
                      </a:lnTo>
                      <a:lnTo>
                        <a:pt x="494" y="70"/>
                      </a:lnTo>
                      <a:lnTo>
                        <a:pt x="474" y="76"/>
                      </a:lnTo>
                      <a:lnTo>
                        <a:pt x="452" y="84"/>
                      </a:lnTo>
                      <a:lnTo>
                        <a:pt x="433" y="90"/>
                      </a:lnTo>
                      <a:lnTo>
                        <a:pt x="415" y="96"/>
                      </a:lnTo>
                      <a:lnTo>
                        <a:pt x="394" y="101"/>
                      </a:lnTo>
                      <a:lnTo>
                        <a:pt x="375" y="107"/>
                      </a:lnTo>
                      <a:lnTo>
                        <a:pt x="357" y="111"/>
                      </a:lnTo>
                      <a:lnTo>
                        <a:pt x="336" y="118"/>
                      </a:lnTo>
                      <a:lnTo>
                        <a:pt x="308" y="122"/>
                      </a:lnTo>
                      <a:lnTo>
                        <a:pt x="504" y="168"/>
                      </a:lnTo>
                      <a:lnTo>
                        <a:pt x="491" y="202"/>
                      </a:lnTo>
                      <a:lnTo>
                        <a:pt x="477" y="228"/>
                      </a:lnTo>
                      <a:lnTo>
                        <a:pt x="447" y="276"/>
                      </a:lnTo>
                      <a:lnTo>
                        <a:pt x="431" y="300"/>
                      </a:lnTo>
                      <a:lnTo>
                        <a:pt x="415" y="321"/>
                      </a:lnTo>
                      <a:lnTo>
                        <a:pt x="385" y="358"/>
                      </a:lnTo>
                      <a:lnTo>
                        <a:pt x="367" y="379"/>
                      </a:lnTo>
                      <a:lnTo>
                        <a:pt x="346" y="406"/>
                      </a:lnTo>
                      <a:lnTo>
                        <a:pt x="326" y="425"/>
                      </a:lnTo>
                      <a:lnTo>
                        <a:pt x="310" y="442"/>
                      </a:lnTo>
                      <a:lnTo>
                        <a:pt x="293" y="460"/>
                      </a:lnTo>
                      <a:lnTo>
                        <a:pt x="274" y="477"/>
                      </a:lnTo>
                      <a:lnTo>
                        <a:pt x="253" y="494"/>
                      </a:lnTo>
                      <a:lnTo>
                        <a:pt x="231" y="507"/>
                      </a:lnTo>
                      <a:lnTo>
                        <a:pt x="210" y="523"/>
                      </a:lnTo>
                      <a:lnTo>
                        <a:pt x="184" y="536"/>
                      </a:lnTo>
                      <a:lnTo>
                        <a:pt x="159" y="546"/>
                      </a:lnTo>
                      <a:lnTo>
                        <a:pt x="131" y="555"/>
                      </a:lnTo>
                      <a:lnTo>
                        <a:pt x="105" y="564"/>
                      </a:lnTo>
                      <a:lnTo>
                        <a:pt x="77" y="572"/>
                      </a:lnTo>
                      <a:lnTo>
                        <a:pt x="47" y="580"/>
                      </a:lnTo>
                      <a:lnTo>
                        <a:pt x="0" y="592"/>
                      </a:lnTo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4" name=""/>
            <p:cNvGrpSpPr/>
            <p:nvPr/>
          </p:nvGrpSpPr>
          <p:grpSpPr>
            <a:xfrm>
              <a:off x="1979640" y="2962800"/>
              <a:ext cx="2110320" cy="1456560"/>
              <a:chOff x="1979640" y="2962800"/>
              <a:chExt cx="2110320" cy="1456560"/>
            </a:xfrm>
          </p:grpSpPr>
          <p:sp>
            <p:nvSpPr>
              <p:cNvPr id="315" name=""/>
              <p:cNvSpPr/>
              <p:nvPr/>
            </p:nvSpPr>
            <p:spPr>
              <a:xfrm>
                <a:off x="2701440" y="3241440"/>
                <a:ext cx="461520" cy="222480"/>
              </a:xfrm>
              <a:custGeom>
                <a:avLst/>
                <a:gdLst/>
                <a:ahLst/>
                <a:rect l="l" t="t" r="r" b="b"/>
                <a:pathLst>
                  <a:path w="308" h="139">
                    <a:moveTo>
                      <a:pt x="0" y="81"/>
                    </a:moveTo>
                    <a:lnTo>
                      <a:pt x="0" y="0"/>
                    </a:lnTo>
                    <a:lnTo>
                      <a:pt x="307" y="63"/>
                    </a:lnTo>
                    <a:lnTo>
                      <a:pt x="302" y="100"/>
                    </a:lnTo>
                    <a:lnTo>
                      <a:pt x="281" y="138"/>
                    </a:lnTo>
                    <a:lnTo>
                      <a:pt x="0" y="81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645000" y="3415680"/>
                <a:ext cx="443520" cy="216360"/>
              </a:xfrm>
              <a:custGeom>
                <a:avLst/>
                <a:gdLst/>
                <a:ahLst/>
                <a:rect l="l" t="t" r="r" b="b"/>
                <a:pathLst>
                  <a:path w="296" h="135">
                    <a:moveTo>
                      <a:pt x="295" y="134"/>
                    </a:moveTo>
                    <a:lnTo>
                      <a:pt x="294" y="59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295" y="134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17" name=""/>
              <p:cNvGrpSpPr/>
              <p:nvPr/>
            </p:nvGrpSpPr>
            <p:grpSpPr>
              <a:xfrm>
                <a:off x="1979640" y="2962800"/>
                <a:ext cx="2110320" cy="1456560"/>
                <a:chOff x="1979640" y="2962800"/>
                <a:chExt cx="2110320" cy="145656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1979640" y="3098880"/>
                  <a:ext cx="2109240" cy="1320480"/>
                </a:xfrm>
                <a:custGeom>
                  <a:avLst/>
                  <a:gdLst/>
                  <a:ahLst/>
                  <a:rect l="l" t="t" r="r" b="b"/>
                  <a:pathLst>
                    <a:path w="1408" h="825">
                      <a:moveTo>
                        <a:pt x="1" y="819"/>
                      </a:moveTo>
                      <a:lnTo>
                        <a:pt x="79" y="824"/>
                      </a:lnTo>
                      <a:lnTo>
                        <a:pt x="118" y="824"/>
                      </a:lnTo>
                      <a:lnTo>
                        <a:pt x="164" y="824"/>
                      </a:lnTo>
                      <a:lnTo>
                        <a:pt x="207" y="822"/>
                      </a:lnTo>
                      <a:lnTo>
                        <a:pt x="250" y="819"/>
                      </a:lnTo>
                      <a:lnTo>
                        <a:pt x="294" y="814"/>
                      </a:lnTo>
                      <a:lnTo>
                        <a:pt x="332" y="805"/>
                      </a:lnTo>
                      <a:lnTo>
                        <a:pt x="376" y="795"/>
                      </a:lnTo>
                      <a:lnTo>
                        <a:pt x="427" y="782"/>
                      </a:lnTo>
                      <a:lnTo>
                        <a:pt x="473" y="763"/>
                      </a:lnTo>
                      <a:lnTo>
                        <a:pt x="516" y="748"/>
                      </a:lnTo>
                      <a:lnTo>
                        <a:pt x="565" y="726"/>
                      </a:lnTo>
                      <a:lnTo>
                        <a:pt x="611" y="703"/>
                      </a:lnTo>
                      <a:lnTo>
                        <a:pt x="657" y="679"/>
                      </a:lnTo>
                      <a:lnTo>
                        <a:pt x="695" y="654"/>
                      </a:lnTo>
                      <a:lnTo>
                        <a:pt x="741" y="631"/>
                      </a:lnTo>
                      <a:lnTo>
                        <a:pt x="777" y="607"/>
                      </a:lnTo>
                      <a:lnTo>
                        <a:pt x="818" y="580"/>
                      </a:lnTo>
                      <a:lnTo>
                        <a:pt x="859" y="553"/>
                      </a:lnTo>
                      <a:lnTo>
                        <a:pt x="899" y="519"/>
                      </a:lnTo>
                      <a:lnTo>
                        <a:pt x="935" y="492"/>
                      </a:lnTo>
                      <a:lnTo>
                        <a:pt x="973" y="456"/>
                      </a:lnTo>
                      <a:lnTo>
                        <a:pt x="1009" y="423"/>
                      </a:lnTo>
                      <a:lnTo>
                        <a:pt x="1042" y="391"/>
                      </a:lnTo>
                      <a:lnTo>
                        <a:pt x="1071" y="354"/>
                      </a:lnTo>
                      <a:lnTo>
                        <a:pt x="1094" y="322"/>
                      </a:lnTo>
                      <a:lnTo>
                        <a:pt x="1111" y="288"/>
                      </a:lnTo>
                      <a:lnTo>
                        <a:pt x="1407" y="333"/>
                      </a:lnTo>
                      <a:lnTo>
                        <a:pt x="1362" y="309"/>
                      </a:lnTo>
                      <a:lnTo>
                        <a:pt x="1326" y="288"/>
                      </a:lnTo>
                      <a:lnTo>
                        <a:pt x="1283" y="267"/>
                      </a:lnTo>
                      <a:lnTo>
                        <a:pt x="1250" y="246"/>
                      </a:lnTo>
                      <a:lnTo>
                        <a:pt x="1221" y="226"/>
                      </a:lnTo>
                      <a:lnTo>
                        <a:pt x="1196" y="210"/>
                      </a:lnTo>
                      <a:lnTo>
                        <a:pt x="1171" y="187"/>
                      </a:lnTo>
                      <a:lnTo>
                        <a:pt x="1146" y="168"/>
                      </a:lnTo>
                      <a:lnTo>
                        <a:pt x="1120" y="144"/>
                      </a:lnTo>
                      <a:lnTo>
                        <a:pt x="1091" y="115"/>
                      </a:lnTo>
                      <a:lnTo>
                        <a:pt x="1060" y="87"/>
                      </a:lnTo>
                      <a:lnTo>
                        <a:pt x="1035" y="58"/>
                      </a:lnTo>
                      <a:lnTo>
                        <a:pt x="1008" y="27"/>
                      </a:lnTo>
                      <a:lnTo>
                        <a:pt x="986" y="0"/>
                      </a:lnTo>
                      <a:lnTo>
                        <a:pt x="963" y="9"/>
                      </a:lnTo>
                      <a:lnTo>
                        <a:pt x="940" y="25"/>
                      </a:lnTo>
                      <a:lnTo>
                        <a:pt x="916" y="37"/>
                      </a:lnTo>
                      <a:lnTo>
                        <a:pt x="887" y="51"/>
                      </a:lnTo>
                      <a:lnTo>
                        <a:pt x="857" y="66"/>
                      </a:lnTo>
                      <a:lnTo>
                        <a:pt x="830" y="76"/>
                      </a:lnTo>
                      <a:lnTo>
                        <a:pt x="803" y="85"/>
                      </a:lnTo>
                      <a:lnTo>
                        <a:pt x="773" y="97"/>
                      </a:lnTo>
                      <a:lnTo>
                        <a:pt x="743" y="105"/>
                      </a:lnTo>
                      <a:lnTo>
                        <a:pt x="708" y="115"/>
                      </a:lnTo>
                      <a:lnTo>
                        <a:pt x="678" y="124"/>
                      </a:lnTo>
                      <a:lnTo>
                        <a:pt x="649" y="133"/>
                      </a:lnTo>
                      <a:lnTo>
                        <a:pt x="617" y="139"/>
                      </a:lnTo>
                      <a:lnTo>
                        <a:pt x="588" y="147"/>
                      </a:lnTo>
                      <a:lnTo>
                        <a:pt x="560" y="154"/>
                      </a:lnTo>
                      <a:lnTo>
                        <a:pt x="526" y="163"/>
                      </a:lnTo>
                      <a:lnTo>
                        <a:pt x="481" y="169"/>
                      </a:lnTo>
                      <a:lnTo>
                        <a:pt x="790" y="232"/>
                      </a:lnTo>
                      <a:lnTo>
                        <a:pt x="769" y="279"/>
                      </a:lnTo>
                      <a:lnTo>
                        <a:pt x="746" y="315"/>
                      </a:lnTo>
                      <a:lnTo>
                        <a:pt x="700" y="384"/>
                      </a:lnTo>
                      <a:lnTo>
                        <a:pt x="675" y="414"/>
                      </a:lnTo>
                      <a:lnTo>
                        <a:pt x="649" y="445"/>
                      </a:lnTo>
                      <a:lnTo>
                        <a:pt x="613" y="483"/>
                      </a:lnTo>
                      <a:lnTo>
                        <a:pt x="575" y="524"/>
                      </a:lnTo>
                      <a:lnTo>
                        <a:pt x="537" y="554"/>
                      </a:lnTo>
                      <a:lnTo>
                        <a:pt x="485" y="595"/>
                      </a:lnTo>
                      <a:lnTo>
                        <a:pt x="442" y="622"/>
                      </a:lnTo>
                      <a:lnTo>
                        <a:pt x="401" y="648"/>
                      </a:lnTo>
                      <a:lnTo>
                        <a:pt x="365" y="669"/>
                      </a:lnTo>
                      <a:lnTo>
                        <a:pt x="340" y="684"/>
                      </a:lnTo>
                      <a:lnTo>
                        <a:pt x="294" y="699"/>
                      </a:lnTo>
                      <a:lnTo>
                        <a:pt x="253" y="713"/>
                      </a:lnTo>
                      <a:lnTo>
                        <a:pt x="207" y="731"/>
                      </a:lnTo>
                      <a:lnTo>
                        <a:pt x="143" y="743"/>
                      </a:lnTo>
                      <a:lnTo>
                        <a:pt x="95" y="752"/>
                      </a:lnTo>
                      <a:lnTo>
                        <a:pt x="0" y="755"/>
                      </a:lnTo>
                      <a:lnTo>
                        <a:pt x="1" y="819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1980720" y="2962800"/>
                  <a:ext cx="2109240" cy="1362240"/>
                </a:xfrm>
                <a:custGeom>
                  <a:avLst/>
                  <a:gdLst/>
                  <a:ahLst/>
                  <a:rect l="l" t="t" r="r" b="b"/>
                  <a:pathLst>
                    <a:path w="1408" h="851">
                      <a:moveTo>
                        <a:pt x="0" y="844"/>
                      </a:moveTo>
                      <a:lnTo>
                        <a:pt x="78" y="850"/>
                      </a:lnTo>
                      <a:lnTo>
                        <a:pt x="116" y="850"/>
                      </a:lnTo>
                      <a:lnTo>
                        <a:pt x="162" y="850"/>
                      </a:lnTo>
                      <a:lnTo>
                        <a:pt x="205" y="847"/>
                      </a:lnTo>
                      <a:lnTo>
                        <a:pt x="249" y="844"/>
                      </a:lnTo>
                      <a:lnTo>
                        <a:pt x="292" y="838"/>
                      </a:lnTo>
                      <a:lnTo>
                        <a:pt x="330" y="829"/>
                      </a:lnTo>
                      <a:lnTo>
                        <a:pt x="374" y="819"/>
                      </a:lnTo>
                      <a:lnTo>
                        <a:pt x="425" y="805"/>
                      </a:lnTo>
                      <a:lnTo>
                        <a:pt x="471" y="786"/>
                      </a:lnTo>
                      <a:lnTo>
                        <a:pt x="514" y="770"/>
                      </a:lnTo>
                      <a:lnTo>
                        <a:pt x="563" y="748"/>
                      </a:lnTo>
                      <a:lnTo>
                        <a:pt x="609" y="724"/>
                      </a:lnTo>
                      <a:lnTo>
                        <a:pt x="655" y="699"/>
                      </a:lnTo>
                      <a:lnTo>
                        <a:pt x="693" y="674"/>
                      </a:lnTo>
                      <a:lnTo>
                        <a:pt x="739" y="650"/>
                      </a:lnTo>
                      <a:lnTo>
                        <a:pt x="775" y="625"/>
                      </a:lnTo>
                      <a:lnTo>
                        <a:pt x="816" y="597"/>
                      </a:lnTo>
                      <a:lnTo>
                        <a:pt x="857" y="570"/>
                      </a:lnTo>
                      <a:lnTo>
                        <a:pt x="898" y="535"/>
                      </a:lnTo>
                      <a:lnTo>
                        <a:pt x="933" y="507"/>
                      </a:lnTo>
                      <a:lnTo>
                        <a:pt x="972" y="470"/>
                      </a:lnTo>
                      <a:lnTo>
                        <a:pt x="1008" y="436"/>
                      </a:lnTo>
                      <a:lnTo>
                        <a:pt x="1041" y="400"/>
                      </a:lnTo>
                      <a:lnTo>
                        <a:pt x="1069" y="362"/>
                      </a:lnTo>
                      <a:lnTo>
                        <a:pt x="1092" y="332"/>
                      </a:lnTo>
                      <a:lnTo>
                        <a:pt x="1110" y="297"/>
                      </a:lnTo>
                      <a:lnTo>
                        <a:pt x="1407" y="343"/>
                      </a:lnTo>
                      <a:lnTo>
                        <a:pt x="1360" y="319"/>
                      </a:lnTo>
                      <a:lnTo>
                        <a:pt x="1324" y="297"/>
                      </a:lnTo>
                      <a:lnTo>
                        <a:pt x="1281" y="275"/>
                      </a:lnTo>
                      <a:lnTo>
                        <a:pt x="1249" y="254"/>
                      </a:lnTo>
                      <a:lnTo>
                        <a:pt x="1220" y="233"/>
                      </a:lnTo>
                      <a:lnTo>
                        <a:pt x="1194" y="217"/>
                      </a:lnTo>
                      <a:lnTo>
                        <a:pt x="1169" y="193"/>
                      </a:lnTo>
                      <a:lnTo>
                        <a:pt x="1145" y="173"/>
                      </a:lnTo>
                      <a:lnTo>
                        <a:pt x="1118" y="149"/>
                      </a:lnTo>
                      <a:lnTo>
                        <a:pt x="1089" y="119"/>
                      </a:lnTo>
                      <a:lnTo>
                        <a:pt x="1059" y="90"/>
                      </a:lnTo>
                      <a:lnTo>
                        <a:pt x="1033" y="60"/>
                      </a:lnTo>
                      <a:lnTo>
                        <a:pt x="1006" y="28"/>
                      </a:lnTo>
                      <a:lnTo>
                        <a:pt x="985" y="0"/>
                      </a:lnTo>
                      <a:lnTo>
                        <a:pt x="962" y="10"/>
                      </a:lnTo>
                      <a:lnTo>
                        <a:pt x="939" y="26"/>
                      </a:lnTo>
                      <a:lnTo>
                        <a:pt x="914" y="39"/>
                      </a:lnTo>
                      <a:lnTo>
                        <a:pt x="885" y="53"/>
                      </a:lnTo>
                      <a:lnTo>
                        <a:pt x="855" y="68"/>
                      </a:lnTo>
                      <a:lnTo>
                        <a:pt x="828" y="79"/>
                      </a:lnTo>
                      <a:lnTo>
                        <a:pt x="801" y="88"/>
                      </a:lnTo>
                      <a:lnTo>
                        <a:pt x="772" y="100"/>
                      </a:lnTo>
                      <a:lnTo>
                        <a:pt x="741" y="109"/>
                      </a:lnTo>
                      <a:lnTo>
                        <a:pt x="706" y="119"/>
                      </a:lnTo>
                      <a:lnTo>
                        <a:pt x="676" y="128"/>
                      </a:lnTo>
                      <a:lnTo>
                        <a:pt x="647" y="137"/>
                      </a:lnTo>
                      <a:lnTo>
                        <a:pt x="616" y="144"/>
                      </a:lnTo>
                      <a:lnTo>
                        <a:pt x="586" y="152"/>
                      </a:lnTo>
                      <a:lnTo>
                        <a:pt x="558" y="159"/>
                      </a:lnTo>
                      <a:lnTo>
                        <a:pt x="525" y="168"/>
                      </a:lnTo>
                      <a:lnTo>
                        <a:pt x="481" y="174"/>
                      </a:lnTo>
                      <a:lnTo>
                        <a:pt x="788" y="239"/>
                      </a:lnTo>
                      <a:lnTo>
                        <a:pt x="767" y="288"/>
                      </a:lnTo>
                      <a:lnTo>
                        <a:pt x="744" y="325"/>
                      </a:lnTo>
                      <a:lnTo>
                        <a:pt x="698" y="393"/>
                      </a:lnTo>
                      <a:lnTo>
                        <a:pt x="673" y="427"/>
                      </a:lnTo>
                      <a:lnTo>
                        <a:pt x="647" y="458"/>
                      </a:lnTo>
                      <a:lnTo>
                        <a:pt x="601" y="510"/>
                      </a:lnTo>
                      <a:lnTo>
                        <a:pt x="573" y="541"/>
                      </a:lnTo>
                      <a:lnTo>
                        <a:pt x="540" y="579"/>
                      </a:lnTo>
                      <a:lnTo>
                        <a:pt x="509" y="606"/>
                      </a:lnTo>
                      <a:lnTo>
                        <a:pt x="484" y="631"/>
                      </a:lnTo>
                      <a:lnTo>
                        <a:pt x="458" y="656"/>
                      </a:lnTo>
                      <a:lnTo>
                        <a:pt x="428" y="680"/>
                      </a:lnTo>
                      <a:lnTo>
                        <a:pt x="394" y="705"/>
                      </a:lnTo>
                      <a:lnTo>
                        <a:pt x="361" y="724"/>
                      </a:lnTo>
                      <a:lnTo>
                        <a:pt x="328" y="745"/>
                      </a:lnTo>
                      <a:lnTo>
                        <a:pt x="287" y="764"/>
                      </a:lnTo>
                      <a:lnTo>
                        <a:pt x="249" y="779"/>
                      </a:lnTo>
                      <a:lnTo>
                        <a:pt x="205" y="792"/>
                      </a:lnTo>
                      <a:lnTo>
                        <a:pt x="164" y="805"/>
                      </a:lnTo>
                      <a:lnTo>
                        <a:pt x="121" y="816"/>
                      </a:lnTo>
                      <a:lnTo>
                        <a:pt x="73" y="827"/>
                      </a:lnTo>
                      <a:lnTo>
                        <a:pt x="0" y="844"/>
                      </a:lnTo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320" name="" descr=""/>
            <p:cNvPicPr/>
            <p:nvPr/>
          </p:nvPicPr>
          <p:blipFill>
            <a:blip r:embed="rId1"/>
            <a:stretch/>
          </p:blipFill>
          <p:spPr>
            <a:xfrm>
              <a:off x="1637640" y="4245840"/>
              <a:ext cx="1363320" cy="100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" descr=""/>
            <p:cNvPicPr/>
            <p:nvPr/>
          </p:nvPicPr>
          <p:blipFill>
            <a:blip r:embed="rId2"/>
            <a:stretch/>
          </p:blipFill>
          <p:spPr>
            <a:xfrm>
              <a:off x="3085200" y="4023000"/>
              <a:ext cx="1363320" cy="1008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2" name=""/>
            <p:cNvGrpSpPr/>
            <p:nvPr/>
          </p:nvGrpSpPr>
          <p:grpSpPr>
            <a:xfrm>
              <a:off x="5016600" y="3231720"/>
              <a:ext cx="1352520" cy="1120320"/>
              <a:chOff x="5016600" y="3231720"/>
              <a:chExt cx="1352520" cy="1120320"/>
            </a:xfrm>
          </p:grpSpPr>
          <p:sp>
            <p:nvSpPr>
              <p:cNvPr id="323" name=""/>
              <p:cNvSpPr/>
              <p:nvPr/>
            </p:nvSpPr>
            <p:spPr>
              <a:xfrm>
                <a:off x="5611320" y="3446280"/>
                <a:ext cx="295200" cy="171360"/>
              </a:xfrm>
              <a:custGeom>
                <a:avLst/>
                <a:gdLst/>
                <a:ahLst/>
                <a:rect l="l" t="t" r="r" b="b"/>
                <a:pathLst>
                  <a:path w="197" h="107">
                    <a:moveTo>
                      <a:pt x="196" y="62"/>
                    </a:moveTo>
                    <a:lnTo>
                      <a:pt x="196" y="0"/>
                    </a:lnTo>
                    <a:lnTo>
                      <a:pt x="0" y="48"/>
                    </a:lnTo>
                    <a:lnTo>
                      <a:pt x="3" y="76"/>
                    </a:lnTo>
                    <a:lnTo>
                      <a:pt x="16" y="106"/>
                    </a:lnTo>
                    <a:lnTo>
                      <a:pt x="196" y="62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018040" y="3580920"/>
                <a:ext cx="282960" cy="164520"/>
              </a:xfrm>
              <a:custGeom>
                <a:avLst/>
                <a:gdLst/>
                <a:ahLst/>
                <a:rect l="l" t="t" r="r" b="b"/>
                <a:pathLst>
                  <a:path w="189" h="103">
                    <a:moveTo>
                      <a:pt x="0" y="102"/>
                    </a:moveTo>
                    <a:lnTo>
                      <a:pt x="1" y="45"/>
                    </a:lnTo>
                    <a:lnTo>
                      <a:pt x="188" y="0"/>
                    </a:lnTo>
                    <a:lnTo>
                      <a:pt x="188" y="73"/>
                    </a:lnTo>
                    <a:lnTo>
                      <a:pt x="0" y="102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25" name=""/>
              <p:cNvGrpSpPr/>
              <p:nvPr/>
            </p:nvGrpSpPr>
            <p:grpSpPr>
              <a:xfrm>
                <a:off x="5016600" y="3231720"/>
                <a:ext cx="1352520" cy="1120320"/>
                <a:chOff x="5016600" y="3231720"/>
                <a:chExt cx="1352520" cy="11203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5018040" y="3335760"/>
                  <a:ext cx="1351080" cy="1016280"/>
                </a:xfrm>
                <a:custGeom>
                  <a:avLst/>
                  <a:gdLst/>
                  <a:ahLst/>
                  <a:rect l="l" t="t" r="r" b="b"/>
                  <a:pathLst>
                    <a:path w="902" h="635">
                      <a:moveTo>
                        <a:pt x="900" y="630"/>
                      </a:moveTo>
                      <a:lnTo>
                        <a:pt x="850" y="634"/>
                      </a:lnTo>
                      <a:lnTo>
                        <a:pt x="826" y="634"/>
                      </a:lnTo>
                      <a:lnTo>
                        <a:pt x="796" y="634"/>
                      </a:lnTo>
                      <a:lnTo>
                        <a:pt x="768" y="632"/>
                      </a:lnTo>
                      <a:lnTo>
                        <a:pt x="741" y="630"/>
                      </a:lnTo>
                      <a:lnTo>
                        <a:pt x="713" y="626"/>
                      </a:lnTo>
                      <a:lnTo>
                        <a:pt x="688" y="620"/>
                      </a:lnTo>
                      <a:lnTo>
                        <a:pt x="660" y="612"/>
                      </a:lnTo>
                      <a:lnTo>
                        <a:pt x="628" y="601"/>
                      </a:lnTo>
                      <a:lnTo>
                        <a:pt x="598" y="587"/>
                      </a:lnTo>
                      <a:lnTo>
                        <a:pt x="570" y="576"/>
                      </a:lnTo>
                      <a:lnTo>
                        <a:pt x="539" y="559"/>
                      </a:lnTo>
                      <a:lnTo>
                        <a:pt x="510" y="541"/>
                      </a:lnTo>
                      <a:lnTo>
                        <a:pt x="480" y="522"/>
                      </a:lnTo>
                      <a:lnTo>
                        <a:pt x="456" y="503"/>
                      </a:lnTo>
                      <a:lnTo>
                        <a:pt x="427" y="485"/>
                      </a:lnTo>
                      <a:lnTo>
                        <a:pt x="404" y="467"/>
                      </a:lnTo>
                      <a:lnTo>
                        <a:pt x="377" y="446"/>
                      </a:lnTo>
                      <a:lnTo>
                        <a:pt x="351" y="425"/>
                      </a:lnTo>
                      <a:lnTo>
                        <a:pt x="325" y="399"/>
                      </a:lnTo>
                      <a:lnTo>
                        <a:pt x="302" y="379"/>
                      </a:lnTo>
                      <a:lnTo>
                        <a:pt x="278" y="351"/>
                      </a:lnTo>
                      <a:lnTo>
                        <a:pt x="255" y="326"/>
                      </a:lnTo>
                      <a:lnTo>
                        <a:pt x="233" y="301"/>
                      </a:lnTo>
                      <a:lnTo>
                        <a:pt x="215" y="273"/>
                      </a:lnTo>
                      <a:lnTo>
                        <a:pt x="201" y="248"/>
                      </a:lnTo>
                      <a:lnTo>
                        <a:pt x="189" y="222"/>
                      </a:lnTo>
                      <a:lnTo>
                        <a:pt x="0" y="256"/>
                      </a:lnTo>
                      <a:lnTo>
                        <a:pt x="29" y="238"/>
                      </a:lnTo>
                      <a:lnTo>
                        <a:pt x="52" y="222"/>
                      </a:lnTo>
                      <a:lnTo>
                        <a:pt x="80" y="206"/>
                      </a:lnTo>
                      <a:lnTo>
                        <a:pt x="100" y="189"/>
                      </a:lnTo>
                      <a:lnTo>
                        <a:pt x="119" y="174"/>
                      </a:lnTo>
                      <a:lnTo>
                        <a:pt x="135" y="162"/>
                      </a:lnTo>
                      <a:lnTo>
                        <a:pt x="151" y="144"/>
                      </a:lnTo>
                      <a:lnTo>
                        <a:pt x="167" y="129"/>
                      </a:lnTo>
                      <a:lnTo>
                        <a:pt x="184" y="111"/>
                      </a:lnTo>
                      <a:lnTo>
                        <a:pt x="202" y="89"/>
                      </a:lnTo>
                      <a:lnTo>
                        <a:pt x="222" y="67"/>
                      </a:lnTo>
                      <a:lnTo>
                        <a:pt x="238" y="45"/>
                      </a:lnTo>
                      <a:lnTo>
                        <a:pt x="256" y="21"/>
                      </a:lnTo>
                      <a:lnTo>
                        <a:pt x="269" y="0"/>
                      </a:lnTo>
                      <a:lnTo>
                        <a:pt x="284" y="7"/>
                      </a:lnTo>
                      <a:lnTo>
                        <a:pt x="299" y="19"/>
                      </a:lnTo>
                      <a:lnTo>
                        <a:pt x="315" y="28"/>
                      </a:lnTo>
                      <a:lnTo>
                        <a:pt x="333" y="39"/>
                      </a:lnTo>
                      <a:lnTo>
                        <a:pt x="352" y="51"/>
                      </a:lnTo>
                      <a:lnTo>
                        <a:pt x="370" y="58"/>
                      </a:lnTo>
                      <a:lnTo>
                        <a:pt x="387" y="65"/>
                      </a:lnTo>
                      <a:lnTo>
                        <a:pt x="406" y="74"/>
                      </a:lnTo>
                      <a:lnTo>
                        <a:pt x="425" y="80"/>
                      </a:lnTo>
                      <a:lnTo>
                        <a:pt x="448" y="89"/>
                      </a:lnTo>
                      <a:lnTo>
                        <a:pt x="467" y="96"/>
                      </a:lnTo>
                      <a:lnTo>
                        <a:pt x="485" y="103"/>
                      </a:lnTo>
                      <a:lnTo>
                        <a:pt x="506" y="107"/>
                      </a:lnTo>
                      <a:lnTo>
                        <a:pt x="525" y="113"/>
                      </a:lnTo>
                      <a:lnTo>
                        <a:pt x="543" y="118"/>
                      </a:lnTo>
                      <a:lnTo>
                        <a:pt x="564" y="125"/>
                      </a:lnTo>
                      <a:lnTo>
                        <a:pt x="593" y="130"/>
                      </a:lnTo>
                      <a:lnTo>
                        <a:pt x="395" y="178"/>
                      </a:lnTo>
                      <a:lnTo>
                        <a:pt x="409" y="215"/>
                      </a:lnTo>
                      <a:lnTo>
                        <a:pt x="423" y="242"/>
                      </a:lnTo>
                      <a:lnTo>
                        <a:pt x="453" y="295"/>
                      </a:lnTo>
                      <a:lnTo>
                        <a:pt x="469" y="319"/>
                      </a:lnTo>
                      <a:lnTo>
                        <a:pt x="485" y="342"/>
                      </a:lnTo>
                      <a:lnTo>
                        <a:pt x="508" y="371"/>
                      </a:lnTo>
                      <a:lnTo>
                        <a:pt x="533" y="403"/>
                      </a:lnTo>
                      <a:lnTo>
                        <a:pt x="557" y="426"/>
                      </a:lnTo>
                      <a:lnTo>
                        <a:pt x="590" y="458"/>
                      </a:lnTo>
                      <a:lnTo>
                        <a:pt x="618" y="478"/>
                      </a:lnTo>
                      <a:lnTo>
                        <a:pt x="644" y="499"/>
                      </a:lnTo>
                      <a:lnTo>
                        <a:pt x="667" y="515"/>
                      </a:lnTo>
                      <a:lnTo>
                        <a:pt x="683" y="526"/>
                      </a:lnTo>
                      <a:lnTo>
                        <a:pt x="713" y="538"/>
                      </a:lnTo>
                      <a:lnTo>
                        <a:pt x="739" y="549"/>
                      </a:lnTo>
                      <a:lnTo>
                        <a:pt x="768" y="563"/>
                      </a:lnTo>
                      <a:lnTo>
                        <a:pt x="809" y="572"/>
                      </a:lnTo>
                      <a:lnTo>
                        <a:pt x="840" y="579"/>
                      </a:lnTo>
                      <a:lnTo>
                        <a:pt x="901" y="581"/>
                      </a:lnTo>
                      <a:lnTo>
                        <a:pt x="900" y="630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5016600" y="3231720"/>
                  <a:ext cx="1351440" cy="1046880"/>
                </a:xfrm>
                <a:custGeom>
                  <a:avLst/>
                  <a:gdLst/>
                  <a:ahLst/>
                  <a:rect l="l" t="t" r="r" b="b"/>
                  <a:pathLst>
                    <a:path w="902" h="654">
                      <a:moveTo>
                        <a:pt x="901" y="648"/>
                      </a:moveTo>
                      <a:lnTo>
                        <a:pt x="851" y="653"/>
                      </a:lnTo>
                      <a:lnTo>
                        <a:pt x="827" y="653"/>
                      </a:lnTo>
                      <a:lnTo>
                        <a:pt x="797" y="653"/>
                      </a:lnTo>
                      <a:lnTo>
                        <a:pt x="770" y="651"/>
                      </a:lnTo>
                      <a:lnTo>
                        <a:pt x="742" y="648"/>
                      </a:lnTo>
                      <a:lnTo>
                        <a:pt x="714" y="644"/>
                      </a:lnTo>
                      <a:lnTo>
                        <a:pt x="689" y="637"/>
                      </a:lnTo>
                      <a:lnTo>
                        <a:pt x="662" y="629"/>
                      </a:lnTo>
                      <a:lnTo>
                        <a:pt x="629" y="618"/>
                      </a:lnTo>
                      <a:lnTo>
                        <a:pt x="599" y="604"/>
                      </a:lnTo>
                      <a:lnTo>
                        <a:pt x="572" y="592"/>
                      </a:lnTo>
                      <a:lnTo>
                        <a:pt x="540" y="575"/>
                      </a:lnTo>
                      <a:lnTo>
                        <a:pt x="511" y="556"/>
                      </a:lnTo>
                      <a:lnTo>
                        <a:pt x="482" y="537"/>
                      </a:lnTo>
                      <a:lnTo>
                        <a:pt x="457" y="518"/>
                      </a:lnTo>
                      <a:lnTo>
                        <a:pt x="428" y="499"/>
                      </a:lnTo>
                      <a:lnTo>
                        <a:pt x="405" y="480"/>
                      </a:lnTo>
                      <a:lnTo>
                        <a:pt x="379" y="459"/>
                      </a:lnTo>
                      <a:lnTo>
                        <a:pt x="352" y="438"/>
                      </a:lnTo>
                      <a:lnTo>
                        <a:pt x="326" y="411"/>
                      </a:lnTo>
                      <a:lnTo>
                        <a:pt x="303" y="390"/>
                      </a:lnTo>
                      <a:lnTo>
                        <a:pt x="279" y="361"/>
                      </a:lnTo>
                      <a:lnTo>
                        <a:pt x="256" y="335"/>
                      </a:lnTo>
                      <a:lnTo>
                        <a:pt x="235" y="307"/>
                      </a:lnTo>
                      <a:lnTo>
                        <a:pt x="217" y="278"/>
                      </a:lnTo>
                      <a:lnTo>
                        <a:pt x="202" y="255"/>
                      </a:lnTo>
                      <a:lnTo>
                        <a:pt x="190" y="228"/>
                      </a:lnTo>
                      <a:lnTo>
                        <a:pt x="0" y="263"/>
                      </a:lnTo>
                      <a:lnTo>
                        <a:pt x="30" y="245"/>
                      </a:lnTo>
                      <a:lnTo>
                        <a:pt x="53" y="228"/>
                      </a:lnTo>
                      <a:lnTo>
                        <a:pt x="81" y="212"/>
                      </a:lnTo>
                      <a:lnTo>
                        <a:pt x="101" y="195"/>
                      </a:lnTo>
                      <a:lnTo>
                        <a:pt x="120" y="179"/>
                      </a:lnTo>
                      <a:lnTo>
                        <a:pt x="136" y="167"/>
                      </a:lnTo>
                      <a:lnTo>
                        <a:pt x="152" y="149"/>
                      </a:lnTo>
                      <a:lnTo>
                        <a:pt x="168" y="133"/>
                      </a:lnTo>
                      <a:lnTo>
                        <a:pt x="185" y="115"/>
                      </a:lnTo>
                      <a:lnTo>
                        <a:pt x="203" y="92"/>
                      </a:lnTo>
                      <a:lnTo>
                        <a:pt x="223" y="69"/>
                      </a:lnTo>
                      <a:lnTo>
                        <a:pt x="239" y="46"/>
                      </a:lnTo>
                      <a:lnTo>
                        <a:pt x="257" y="21"/>
                      </a:lnTo>
                      <a:lnTo>
                        <a:pt x="271" y="0"/>
                      </a:lnTo>
                      <a:lnTo>
                        <a:pt x="285" y="8"/>
                      </a:lnTo>
                      <a:lnTo>
                        <a:pt x="300" y="20"/>
                      </a:lnTo>
                      <a:lnTo>
                        <a:pt x="316" y="30"/>
                      </a:lnTo>
                      <a:lnTo>
                        <a:pt x="334" y="41"/>
                      </a:lnTo>
                      <a:lnTo>
                        <a:pt x="353" y="52"/>
                      </a:lnTo>
                      <a:lnTo>
                        <a:pt x="371" y="61"/>
                      </a:lnTo>
                      <a:lnTo>
                        <a:pt x="388" y="67"/>
                      </a:lnTo>
                      <a:lnTo>
                        <a:pt x="407" y="77"/>
                      </a:lnTo>
                      <a:lnTo>
                        <a:pt x="427" y="83"/>
                      </a:lnTo>
                      <a:lnTo>
                        <a:pt x="449" y="92"/>
                      </a:lnTo>
                      <a:lnTo>
                        <a:pt x="468" y="99"/>
                      </a:lnTo>
                      <a:lnTo>
                        <a:pt x="486" y="105"/>
                      </a:lnTo>
                      <a:lnTo>
                        <a:pt x="507" y="111"/>
                      </a:lnTo>
                      <a:lnTo>
                        <a:pt x="526" y="117"/>
                      </a:lnTo>
                      <a:lnTo>
                        <a:pt x="544" y="122"/>
                      </a:lnTo>
                      <a:lnTo>
                        <a:pt x="565" y="129"/>
                      </a:lnTo>
                      <a:lnTo>
                        <a:pt x="593" y="133"/>
                      </a:lnTo>
                      <a:lnTo>
                        <a:pt x="397" y="184"/>
                      </a:lnTo>
                      <a:lnTo>
                        <a:pt x="410" y="221"/>
                      </a:lnTo>
                      <a:lnTo>
                        <a:pt x="424" y="250"/>
                      </a:lnTo>
                      <a:lnTo>
                        <a:pt x="454" y="302"/>
                      </a:lnTo>
                      <a:lnTo>
                        <a:pt x="470" y="328"/>
                      </a:lnTo>
                      <a:lnTo>
                        <a:pt x="486" y="352"/>
                      </a:lnTo>
                      <a:lnTo>
                        <a:pt x="516" y="392"/>
                      </a:lnTo>
                      <a:lnTo>
                        <a:pt x="534" y="416"/>
                      </a:lnTo>
                      <a:lnTo>
                        <a:pt x="555" y="444"/>
                      </a:lnTo>
                      <a:lnTo>
                        <a:pt x="575" y="466"/>
                      </a:lnTo>
                      <a:lnTo>
                        <a:pt x="591" y="485"/>
                      </a:lnTo>
                      <a:lnTo>
                        <a:pt x="608" y="504"/>
                      </a:lnTo>
                      <a:lnTo>
                        <a:pt x="627" y="523"/>
                      </a:lnTo>
                      <a:lnTo>
                        <a:pt x="648" y="542"/>
                      </a:lnTo>
                      <a:lnTo>
                        <a:pt x="670" y="556"/>
                      </a:lnTo>
                      <a:lnTo>
                        <a:pt x="691" y="573"/>
                      </a:lnTo>
                      <a:lnTo>
                        <a:pt x="717" y="587"/>
                      </a:lnTo>
                      <a:lnTo>
                        <a:pt x="742" y="598"/>
                      </a:lnTo>
                      <a:lnTo>
                        <a:pt x="770" y="608"/>
                      </a:lnTo>
                      <a:lnTo>
                        <a:pt x="796" y="618"/>
                      </a:lnTo>
                      <a:lnTo>
                        <a:pt x="824" y="627"/>
                      </a:lnTo>
                      <a:lnTo>
                        <a:pt x="854" y="636"/>
                      </a:lnTo>
                      <a:lnTo>
                        <a:pt x="901" y="648"/>
                      </a:lnTo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8" name=""/>
            <p:cNvGrpSpPr/>
            <p:nvPr/>
          </p:nvGrpSpPr>
          <p:grpSpPr>
            <a:xfrm>
              <a:off x="5884200" y="3015720"/>
              <a:ext cx="2200320" cy="1456560"/>
              <a:chOff x="5884200" y="3015720"/>
              <a:chExt cx="2200320" cy="1456560"/>
            </a:xfrm>
          </p:grpSpPr>
          <p:sp>
            <p:nvSpPr>
              <p:cNvPr id="329" name=""/>
              <p:cNvSpPr/>
              <p:nvPr/>
            </p:nvSpPr>
            <p:spPr>
              <a:xfrm>
                <a:off x="6851520" y="3294000"/>
                <a:ext cx="479160" cy="222480"/>
              </a:xfrm>
              <a:custGeom>
                <a:avLst/>
                <a:gdLst/>
                <a:ahLst/>
                <a:rect l="l" t="t" r="r" b="b"/>
                <a:pathLst>
                  <a:path w="320" h="139">
                    <a:moveTo>
                      <a:pt x="319" y="81"/>
                    </a:moveTo>
                    <a:lnTo>
                      <a:pt x="319" y="0"/>
                    </a:lnTo>
                    <a:lnTo>
                      <a:pt x="0" y="63"/>
                    </a:lnTo>
                    <a:lnTo>
                      <a:pt x="5" y="100"/>
                    </a:lnTo>
                    <a:lnTo>
                      <a:pt x="27" y="138"/>
                    </a:lnTo>
                    <a:lnTo>
                      <a:pt x="319" y="81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885280" y="3468600"/>
                <a:ext cx="461160" cy="216000"/>
              </a:xfrm>
              <a:custGeom>
                <a:avLst/>
                <a:gdLst/>
                <a:ahLst/>
                <a:rect l="l" t="t" r="r" b="b"/>
                <a:pathLst>
                  <a:path w="308" h="135">
                    <a:moveTo>
                      <a:pt x="0" y="134"/>
                    </a:moveTo>
                    <a:lnTo>
                      <a:pt x="1" y="59"/>
                    </a:lnTo>
                    <a:lnTo>
                      <a:pt x="307" y="0"/>
                    </a:lnTo>
                    <a:lnTo>
                      <a:pt x="307" y="95"/>
                    </a:lnTo>
                    <a:lnTo>
                      <a:pt x="0" y="134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31" name=""/>
              <p:cNvGrpSpPr/>
              <p:nvPr/>
            </p:nvGrpSpPr>
            <p:grpSpPr>
              <a:xfrm>
                <a:off x="5884200" y="3015720"/>
                <a:ext cx="2200320" cy="1456560"/>
                <a:chOff x="5884200" y="3015720"/>
                <a:chExt cx="2200320" cy="145656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5885280" y="3151800"/>
                  <a:ext cx="2199240" cy="1320480"/>
                </a:xfrm>
                <a:custGeom>
                  <a:avLst/>
                  <a:gdLst/>
                  <a:ahLst/>
                  <a:rect l="l" t="t" r="r" b="b"/>
                  <a:pathLst>
                    <a:path w="1468" h="825">
                      <a:moveTo>
                        <a:pt x="1466" y="819"/>
                      </a:moveTo>
                      <a:lnTo>
                        <a:pt x="1384" y="824"/>
                      </a:lnTo>
                      <a:lnTo>
                        <a:pt x="1344" y="824"/>
                      </a:lnTo>
                      <a:lnTo>
                        <a:pt x="1297" y="824"/>
                      </a:lnTo>
                      <a:lnTo>
                        <a:pt x="1251" y="822"/>
                      </a:lnTo>
                      <a:lnTo>
                        <a:pt x="1206" y="819"/>
                      </a:lnTo>
                      <a:lnTo>
                        <a:pt x="1161" y="814"/>
                      </a:lnTo>
                      <a:lnTo>
                        <a:pt x="1121" y="805"/>
                      </a:lnTo>
                      <a:lnTo>
                        <a:pt x="1075" y="795"/>
                      </a:lnTo>
                      <a:lnTo>
                        <a:pt x="1022" y="782"/>
                      </a:lnTo>
                      <a:lnTo>
                        <a:pt x="974" y="763"/>
                      </a:lnTo>
                      <a:lnTo>
                        <a:pt x="929" y="748"/>
                      </a:lnTo>
                      <a:lnTo>
                        <a:pt x="878" y="726"/>
                      </a:lnTo>
                      <a:lnTo>
                        <a:pt x="830" y="703"/>
                      </a:lnTo>
                      <a:lnTo>
                        <a:pt x="782" y="679"/>
                      </a:lnTo>
                      <a:lnTo>
                        <a:pt x="742" y="654"/>
                      </a:lnTo>
                      <a:lnTo>
                        <a:pt x="694" y="631"/>
                      </a:lnTo>
                      <a:lnTo>
                        <a:pt x="657" y="607"/>
                      </a:lnTo>
                      <a:lnTo>
                        <a:pt x="615" y="580"/>
                      </a:lnTo>
                      <a:lnTo>
                        <a:pt x="572" y="553"/>
                      </a:lnTo>
                      <a:lnTo>
                        <a:pt x="529" y="519"/>
                      </a:lnTo>
                      <a:lnTo>
                        <a:pt x="492" y="492"/>
                      </a:lnTo>
                      <a:lnTo>
                        <a:pt x="452" y="456"/>
                      </a:lnTo>
                      <a:lnTo>
                        <a:pt x="415" y="423"/>
                      </a:lnTo>
                      <a:lnTo>
                        <a:pt x="380" y="391"/>
                      </a:lnTo>
                      <a:lnTo>
                        <a:pt x="351" y="354"/>
                      </a:lnTo>
                      <a:lnTo>
                        <a:pt x="327" y="322"/>
                      </a:lnTo>
                      <a:lnTo>
                        <a:pt x="308" y="288"/>
                      </a:lnTo>
                      <a:lnTo>
                        <a:pt x="0" y="333"/>
                      </a:lnTo>
                      <a:lnTo>
                        <a:pt x="47" y="309"/>
                      </a:lnTo>
                      <a:lnTo>
                        <a:pt x="84" y="288"/>
                      </a:lnTo>
                      <a:lnTo>
                        <a:pt x="130" y="267"/>
                      </a:lnTo>
                      <a:lnTo>
                        <a:pt x="163" y="246"/>
                      </a:lnTo>
                      <a:lnTo>
                        <a:pt x="194" y="226"/>
                      </a:lnTo>
                      <a:lnTo>
                        <a:pt x="220" y="210"/>
                      </a:lnTo>
                      <a:lnTo>
                        <a:pt x="246" y="187"/>
                      </a:lnTo>
                      <a:lnTo>
                        <a:pt x="272" y="168"/>
                      </a:lnTo>
                      <a:lnTo>
                        <a:pt x="299" y="144"/>
                      </a:lnTo>
                      <a:lnTo>
                        <a:pt x="329" y="115"/>
                      </a:lnTo>
                      <a:lnTo>
                        <a:pt x="361" y="87"/>
                      </a:lnTo>
                      <a:lnTo>
                        <a:pt x="388" y="58"/>
                      </a:lnTo>
                      <a:lnTo>
                        <a:pt x="416" y="27"/>
                      </a:lnTo>
                      <a:lnTo>
                        <a:pt x="439" y="0"/>
                      </a:lnTo>
                      <a:lnTo>
                        <a:pt x="463" y="9"/>
                      </a:lnTo>
                      <a:lnTo>
                        <a:pt x="487" y="25"/>
                      </a:lnTo>
                      <a:lnTo>
                        <a:pt x="512" y="37"/>
                      </a:lnTo>
                      <a:lnTo>
                        <a:pt x="543" y="51"/>
                      </a:lnTo>
                      <a:lnTo>
                        <a:pt x="574" y="66"/>
                      </a:lnTo>
                      <a:lnTo>
                        <a:pt x="602" y="76"/>
                      </a:lnTo>
                      <a:lnTo>
                        <a:pt x="630" y="85"/>
                      </a:lnTo>
                      <a:lnTo>
                        <a:pt x="661" y="97"/>
                      </a:lnTo>
                      <a:lnTo>
                        <a:pt x="693" y="105"/>
                      </a:lnTo>
                      <a:lnTo>
                        <a:pt x="729" y="115"/>
                      </a:lnTo>
                      <a:lnTo>
                        <a:pt x="760" y="124"/>
                      </a:lnTo>
                      <a:lnTo>
                        <a:pt x="790" y="133"/>
                      </a:lnTo>
                      <a:lnTo>
                        <a:pt x="823" y="139"/>
                      </a:lnTo>
                      <a:lnTo>
                        <a:pt x="854" y="147"/>
                      </a:lnTo>
                      <a:lnTo>
                        <a:pt x="884" y="154"/>
                      </a:lnTo>
                      <a:lnTo>
                        <a:pt x="918" y="163"/>
                      </a:lnTo>
                      <a:lnTo>
                        <a:pt x="965" y="169"/>
                      </a:lnTo>
                      <a:lnTo>
                        <a:pt x="644" y="232"/>
                      </a:lnTo>
                      <a:lnTo>
                        <a:pt x="665" y="279"/>
                      </a:lnTo>
                      <a:lnTo>
                        <a:pt x="689" y="315"/>
                      </a:lnTo>
                      <a:lnTo>
                        <a:pt x="737" y="384"/>
                      </a:lnTo>
                      <a:lnTo>
                        <a:pt x="764" y="414"/>
                      </a:lnTo>
                      <a:lnTo>
                        <a:pt x="790" y="445"/>
                      </a:lnTo>
                      <a:lnTo>
                        <a:pt x="828" y="483"/>
                      </a:lnTo>
                      <a:lnTo>
                        <a:pt x="868" y="524"/>
                      </a:lnTo>
                      <a:lnTo>
                        <a:pt x="908" y="554"/>
                      </a:lnTo>
                      <a:lnTo>
                        <a:pt x="961" y="595"/>
                      </a:lnTo>
                      <a:lnTo>
                        <a:pt x="1006" y="622"/>
                      </a:lnTo>
                      <a:lnTo>
                        <a:pt x="1049" y="648"/>
                      </a:lnTo>
                      <a:lnTo>
                        <a:pt x="1086" y="669"/>
                      </a:lnTo>
                      <a:lnTo>
                        <a:pt x="1113" y="684"/>
                      </a:lnTo>
                      <a:lnTo>
                        <a:pt x="1161" y="699"/>
                      </a:lnTo>
                      <a:lnTo>
                        <a:pt x="1203" y="713"/>
                      </a:lnTo>
                      <a:lnTo>
                        <a:pt x="1251" y="731"/>
                      </a:lnTo>
                      <a:lnTo>
                        <a:pt x="1318" y="743"/>
                      </a:lnTo>
                      <a:lnTo>
                        <a:pt x="1368" y="752"/>
                      </a:lnTo>
                      <a:lnTo>
                        <a:pt x="1467" y="755"/>
                      </a:lnTo>
                      <a:lnTo>
                        <a:pt x="1466" y="819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5884200" y="3015720"/>
                  <a:ext cx="2199240" cy="1362240"/>
                </a:xfrm>
                <a:custGeom>
                  <a:avLst/>
                  <a:gdLst/>
                  <a:ahLst/>
                  <a:rect l="l" t="t" r="r" b="b"/>
                  <a:pathLst>
                    <a:path w="1468" h="851">
                      <a:moveTo>
                        <a:pt x="1467" y="844"/>
                      </a:moveTo>
                      <a:lnTo>
                        <a:pt x="1386" y="850"/>
                      </a:lnTo>
                      <a:lnTo>
                        <a:pt x="1346" y="850"/>
                      </a:lnTo>
                      <a:lnTo>
                        <a:pt x="1298" y="850"/>
                      </a:lnTo>
                      <a:lnTo>
                        <a:pt x="1253" y="847"/>
                      </a:lnTo>
                      <a:lnTo>
                        <a:pt x="1208" y="844"/>
                      </a:lnTo>
                      <a:lnTo>
                        <a:pt x="1162" y="838"/>
                      </a:lnTo>
                      <a:lnTo>
                        <a:pt x="1122" y="829"/>
                      </a:lnTo>
                      <a:lnTo>
                        <a:pt x="1077" y="819"/>
                      </a:lnTo>
                      <a:lnTo>
                        <a:pt x="1024" y="805"/>
                      </a:lnTo>
                      <a:lnTo>
                        <a:pt x="976" y="786"/>
                      </a:lnTo>
                      <a:lnTo>
                        <a:pt x="931" y="770"/>
                      </a:lnTo>
                      <a:lnTo>
                        <a:pt x="880" y="748"/>
                      </a:lnTo>
                      <a:lnTo>
                        <a:pt x="832" y="724"/>
                      </a:lnTo>
                      <a:lnTo>
                        <a:pt x="784" y="699"/>
                      </a:lnTo>
                      <a:lnTo>
                        <a:pt x="744" y="674"/>
                      </a:lnTo>
                      <a:lnTo>
                        <a:pt x="696" y="650"/>
                      </a:lnTo>
                      <a:lnTo>
                        <a:pt x="659" y="625"/>
                      </a:lnTo>
                      <a:lnTo>
                        <a:pt x="616" y="597"/>
                      </a:lnTo>
                      <a:lnTo>
                        <a:pt x="574" y="570"/>
                      </a:lnTo>
                      <a:lnTo>
                        <a:pt x="531" y="535"/>
                      </a:lnTo>
                      <a:lnTo>
                        <a:pt x="494" y="507"/>
                      </a:lnTo>
                      <a:lnTo>
                        <a:pt x="454" y="470"/>
                      </a:lnTo>
                      <a:lnTo>
                        <a:pt x="416" y="436"/>
                      </a:lnTo>
                      <a:lnTo>
                        <a:pt x="382" y="400"/>
                      </a:lnTo>
                      <a:lnTo>
                        <a:pt x="353" y="362"/>
                      </a:lnTo>
                      <a:lnTo>
                        <a:pt x="329" y="332"/>
                      </a:lnTo>
                      <a:lnTo>
                        <a:pt x="310" y="297"/>
                      </a:lnTo>
                      <a:lnTo>
                        <a:pt x="0" y="343"/>
                      </a:lnTo>
                      <a:lnTo>
                        <a:pt x="49" y="319"/>
                      </a:lnTo>
                      <a:lnTo>
                        <a:pt x="86" y="297"/>
                      </a:lnTo>
                      <a:lnTo>
                        <a:pt x="131" y="275"/>
                      </a:lnTo>
                      <a:lnTo>
                        <a:pt x="165" y="254"/>
                      </a:lnTo>
                      <a:lnTo>
                        <a:pt x="195" y="233"/>
                      </a:lnTo>
                      <a:lnTo>
                        <a:pt x="222" y="217"/>
                      </a:lnTo>
                      <a:lnTo>
                        <a:pt x="248" y="193"/>
                      </a:lnTo>
                      <a:lnTo>
                        <a:pt x="274" y="173"/>
                      </a:lnTo>
                      <a:lnTo>
                        <a:pt x="301" y="149"/>
                      </a:lnTo>
                      <a:lnTo>
                        <a:pt x="331" y="119"/>
                      </a:lnTo>
                      <a:lnTo>
                        <a:pt x="363" y="90"/>
                      </a:lnTo>
                      <a:lnTo>
                        <a:pt x="390" y="60"/>
                      </a:lnTo>
                      <a:lnTo>
                        <a:pt x="418" y="28"/>
                      </a:lnTo>
                      <a:lnTo>
                        <a:pt x="440" y="0"/>
                      </a:lnTo>
                      <a:lnTo>
                        <a:pt x="464" y="10"/>
                      </a:lnTo>
                      <a:lnTo>
                        <a:pt x="488" y="26"/>
                      </a:lnTo>
                      <a:lnTo>
                        <a:pt x="514" y="39"/>
                      </a:lnTo>
                      <a:lnTo>
                        <a:pt x="544" y="53"/>
                      </a:lnTo>
                      <a:lnTo>
                        <a:pt x="575" y="68"/>
                      </a:lnTo>
                      <a:lnTo>
                        <a:pt x="604" y="79"/>
                      </a:lnTo>
                      <a:lnTo>
                        <a:pt x="631" y="88"/>
                      </a:lnTo>
                      <a:lnTo>
                        <a:pt x="662" y="100"/>
                      </a:lnTo>
                      <a:lnTo>
                        <a:pt x="694" y="109"/>
                      </a:lnTo>
                      <a:lnTo>
                        <a:pt x="731" y="119"/>
                      </a:lnTo>
                      <a:lnTo>
                        <a:pt x="762" y="128"/>
                      </a:lnTo>
                      <a:lnTo>
                        <a:pt x="792" y="137"/>
                      </a:lnTo>
                      <a:lnTo>
                        <a:pt x="825" y="144"/>
                      </a:lnTo>
                      <a:lnTo>
                        <a:pt x="856" y="152"/>
                      </a:lnTo>
                      <a:lnTo>
                        <a:pt x="885" y="159"/>
                      </a:lnTo>
                      <a:lnTo>
                        <a:pt x="920" y="168"/>
                      </a:lnTo>
                      <a:lnTo>
                        <a:pt x="965" y="174"/>
                      </a:lnTo>
                      <a:lnTo>
                        <a:pt x="646" y="239"/>
                      </a:lnTo>
                      <a:lnTo>
                        <a:pt x="667" y="288"/>
                      </a:lnTo>
                      <a:lnTo>
                        <a:pt x="691" y="325"/>
                      </a:lnTo>
                      <a:lnTo>
                        <a:pt x="739" y="393"/>
                      </a:lnTo>
                      <a:lnTo>
                        <a:pt x="765" y="427"/>
                      </a:lnTo>
                      <a:lnTo>
                        <a:pt x="792" y="458"/>
                      </a:lnTo>
                      <a:lnTo>
                        <a:pt x="840" y="510"/>
                      </a:lnTo>
                      <a:lnTo>
                        <a:pt x="869" y="541"/>
                      </a:lnTo>
                      <a:lnTo>
                        <a:pt x="904" y="579"/>
                      </a:lnTo>
                      <a:lnTo>
                        <a:pt x="936" y="606"/>
                      </a:lnTo>
                      <a:lnTo>
                        <a:pt x="963" y="631"/>
                      </a:lnTo>
                      <a:lnTo>
                        <a:pt x="989" y="656"/>
                      </a:lnTo>
                      <a:lnTo>
                        <a:pt x="1021" y="680"/>
                      </a:lnTo>
                      <a:lnTo>
                        <a:pt x="1056" y="705"/>
                      </a:lnTo>
                      <a:lnTo>
                        <a:pt x="1090" y="724"/>
                      </a:lnTo>
                      <a:lnTo>
                        <a:pt x="1125" y="745"/>
                      </a:lnTo>
                      <a:lnTo>
                        <a:pt x="1168" y="764"/>
                      </a:lnTo>
                      <a:lnTo>
                        <a:pt x="1208" y="779"/>
                      </a:lnTo>
                      <a:lnTo>
                        <a:pt x="1253" y="792"/>
                      </a:lnTo>
                      <a:lnTo>
                        <a:pt x="1296" y="805"/>
                      </a:lnTo>
                      <a:lnTo>
                        <a:pt x="1341" y="816"/>
                      </a:lnTo>
                      <a:lnTo>
                        <a:pt x="1391" y="827"/>
                      </a:lnTo>
                      <a:lnTo>
                        <a:pt x="1467" y="844"/>
                      </a:lnTo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334" name="" descr=""/>
            <p:cNvPicPr/>
            <p:nvPr/>
          </p:nvPicPr>
          <p:blipFill>
            <a:blip r:embed="rId3"/>
            <a:stretch/>
          </p:blipFill>
          <p:spPr>
            <a:xfrm>
              <a:off x="5578560" y="4202640"/>
              <a:ext cx="1363320" cy="100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" descr=""/>
            <p:cNvPicPr/>
            <p:nvPr/>
          </p:nvPicPr>
          <p:blipFill>
            <a:blip r:embed="rId4"/>
            <a:stretch/>
          </p:blipFill>
          <p:spPr>
            <a:xfrm>
              <a:off x="7117200" y="4202640"/>
              <a:ext cx="1363320" cy="100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>
              <a:off x="2559240" y="1600200"/>
              <a:ext cx="4845240" cy="15130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hared Pool of</a:t>
              </a:r>
              <a:br>
                <a:rPr sz="1800"/>
              </a:b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omputing Resources:</a:t>
              </a:r>
              <a:br>
                <a:rPr sz="1800"/>
              </a:b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rocessors, Memory, Disk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143720" y="3475440"/>
              <a:ext cx="1710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6600"/>
                  </a:solidFill>
                  <a:latin typeface="Arial"/>
                </a:rPr>
                <a:t>Interconnec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33040" y="5488560"/>
              <a:ext cx="405396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Guarantee at least one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workstation to many individual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(when active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101560" y="5488560"/>
              <a:ext cx="360288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eliver large % of collectiv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sources to few individual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t any one tim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1676520" y="76320"/>
            <a:ext cx="739116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Cluster Configuration..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Enterprise Clusters (use JMS like Codin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552760" y="399960"/>
            <a:ext cx="643896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Windows of Opportunitie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390320" y="1676160"/>
            <a:ext cx="7086600" cy="459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MPP/DSM: 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668520" indent="-25704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ute across multiple systems: paralle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Network RAM: 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668520" indent="-25704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dle memory in other nodes. Page across other nodes idle memor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oftware RAID: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668520" indent="-25704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le system supporting parallel I/O and reliability, mass-storag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Multi-path Communication: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668520" indent="-2570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unicate across multiple networks: Ethernet, ATM, Myrine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3" name=""/>
          <p:cNvGraphicFramePr/>
          <p:nvPr/>
        </p:nvGraphicFramePr>
        <p:xfrm>
          <a:off x="152280" y="1600200"/>
          <a:ext cx="891540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600200"/>
                    <a:ext cx="891540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Cluster Computer Architecture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52280" y="1828800"/>
            <a:ext cx="2438640" cy="43434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2819160" y="1447560"/>
            <a:ext cx="6095880" cy="4800600"/>
          </a:xfrm>
          <a:prstGeom prst="rect">
            <a:avLst/>
          </a:prstGeom>
          <a:solidFill>
            <a:srgbClr val="66ffff"/>
          </a:solidFill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20000"/>
              </a:lnSpc>
              <a:spcBef>
                <a:spcPts val="751"/>
              </a:spcBef>
              <a:buClr>
                <a:srgbClr val="3365fb"/>
              </a:buClr>
              <a:buSzPct val="7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Size Scalability (physical &amp; application)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120000"/>
              </a:lnSpc>
              <a:spcBef>
                <a:spcPts val="751"/>
              </a:spcBef>
              <a:buClr>
                <a:srgbClr val="3365fb"/>
              </a:buClr>
              <a:buSzPct val="7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Enhanced Availability (failure management)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120000"/>
              </a:lnSpc>
              <a:spcBef>
                <a:spcPts val="751"/>
              </a:spcBef>
              <a:buClr>
                <a:srgbClr val="3365fb"/>
              </a:buClr>
              <a:buSzPct val="7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Single System Image (look-and-feel of one system)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120000"/>
              </a:lnSpc>
              <a:spcBef>
                <a:spcPts val="751"/>
              </a:spcBef>
              <a:buClr>
                <a:srgbClr val="3365fb"/>
              </a:buClr>
              <a:buSzPct val="7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ast Communication (networks &amp; protocols)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120000"/>
              </a:lnSpc>
              <a:spcBef>
                <a:spcPts val="751"/>
              </a:spcBef>
              <a:buClr>
                <a:srgbClr val="3365fb"/>
              </a:buClr>
              <a:buSzPct val="7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Load Balancing (CPU, Net, Memory, Disk) 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120000"/>
              </a:lnSpc>
              <a:spcBef>
                <a:spcPts val="751"/>
              </a:spcBef>
              <a:buClr>
                <a:srgbClr val="3365fb"/>
              </a:buClr>
              <a:buSzPct val="7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Security and Encryption (clusters of clusters)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120000"/>
              </a:lnSpc>
              <a:spcBef>
                <a:spcPts val="751"/>
              </a:spcBef>
              <a:buClr>
                <a:srgbClr val="3365fb"/>
              </a:buClr>
              <a:buSzPct val="7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Distributed Environment (Social issues)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120000"/>
              </a:lnSpc>
              <a:spcBef>
                <a:spcPts val="751"/>
              </a:spcBef>
              <a:buClr>
                <a:srgbClr val="3365fb"/>
              </a:buClr>
              <a:buSzPct val="7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Manageability (admin. And control)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120000"/>
              </a:lnSpc>
              <a:spcBef>
                <a:spcPts val="751"/>
              </a:spcBef>
              <a:buClr>
                <a:srgbClr val="3365fb"/>
              </a:buClr>
              <a:buSzPct val="7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Programmability  (simple API if required)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120000"/>
              </a:lnSpc>
              <a:spcBef>
                <a:spcPts val="751"/>
              </a:spcBef>
              <a:buClr>
                <a:srgbClr val="3365fb"/>
              </a:buClr>
              <a:buSzPct val="7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Applicability (cluster-aware and non-aware app.)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152280" y="1981080"/>
            <a:ext cx="2362320" cy="39625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2552760" y="76320"/>
            <a:ext cx="6438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Major issues in cluster desig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762120" y="190476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Century Gothic"/>
            </a:endParaRPr>
          </a:p>
          <a:p>
            <a:pPr marL="3052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Cluster Middleware </a:t>
            </a:r>
            <a:endParaRPr b="1" lang="en-US" sz="4400" spc="-1" strike="noStrike">
              <a:solidFill>
                <a:srgbClr val="fafd00"/>
              </a:solidFill>
              <a:latin typeface="Century Gothic"/>
            </a:endParaRPr>
          </a:p>
          <a:p>
            <a:pPr marL="3052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and</a:t>
            </a:r>
            <a:endParaRPr b="1" lang="en-US" sz="4400" spc="-1" strike="noStrike">
              <a:solidFill>
                <a:srgbClr val="fafd00"/>
              </a:solidFill>
              <a:latin typeface="Century Gothic"/>
            </a:endParaRPr>
          </a:p>
          <a:p>
            <a:pPr marL="3052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Single System Image</a:t>
            </a:r>
            <a:endParaRPr b="1" lang="en-US" sz="4400" spc="-1" strike="noStrike">
              <a:solidFill>
                <a:srgbClr val="fafd00"/>
              </a:solidFill>
              <a:latin typeface="Century Gothic"/>
            </a:endParaRPr>
          </a:p>
          <a:p>
            <a:pPr marL="3052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Century Gothic"/>
            </a:endParaRPr>
          </a:p>
          <a:p>
            <a:pPr marL="3052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1" lang="en-US" sz="4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   </a:t>
            </a: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Agenda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47728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Cluster ? Enabling Tech. &amp; Motivation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Cluster Architecture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What Single System Image (SSI) ?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Levels of SSI ?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Cluster Middleware Vs. Underware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Representative SSI implementation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Pros and Cons of SSI at difference level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Ann.--IEEE Task Force on Cluster Computing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Resources and Conclusion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74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6940440" y="6480"/>
            <a:ext cx="1968480" cy="2501640"/>
            <a:chOff x="6940440" y="6480"/>
            <a:chExt cx="1968480" cy="2501640"/>
          </a:xfrm>
        </p:grpSpPr>
        <p:sp>
          <p:nvSpPr>
            <p:cNvPr id="177" name=""/>
            <p:cNvSpPr/>
            <p:nvPr/>
          </p:nvSpPr>
          <p:spPr>
            <a:xfrm>
              <a:off x="6940440" y="6480"/>
              <a:ext cx="1968480" cy="2501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78" name=""/>
            <p:cNvGraphicFramePr/>
            <p:nvPr/>
          </p:nvGraphicFramePr>
          <p:xfrm>
            <a:off x="6986520" y="123840"/>
            <a:ext cx="1868400" cy="2259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986520" y="123840"/>
                      <a:ext cx="1868400" cy="2259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2590920" y="3429000"/>
            <a:ext cx="4011480" cy="2590920"/>
          </a:xfrm>
          <a:custGeom>
            <a:avLst/>
            <a:gdLst/>
            <a:ahLst/>
            <a:rect l="l" t="t" r="r" b="b"/>
            <a:pathLst>
              <a:path w="1873" h="1105">
                <a:moveTo>
                  <a:pt x="0" y="0"/>
                </a:moveTo>
                <a:lnTo>
                  <a:pt x="0" y="1104"/>
                </a:lnTo>
                <a:lnTo>
                  <a:pt x="1872" y="1104"/>
                </a:lnTo>
                <a:lnTo>
                  <a:pt x="1872" y="602"/>
                </a:lnTo>
                <a:lnTo>
                  <a:pt x="0" y="0"/>
                </a:lnTo>
              </a:path>
            </a:pathLst>
          </a:custGeom>
          <a:solidFill>
            <a:srgbClr val="ff66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514600" y="304920"/>
            <a:ext cx="643896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A typical Cluster Computing Environment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2943360" y="3809880"/>
          <a:ext cx="657000" cy="57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43360" y="3809880"/>
                    <a:ext cx="65700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6" name=""/>
          <p:cNvGraphicFramePr/>
          <p:nvPr/>
        </p:nvGraphicFramePr>
        <p:xfrm>
          <a:off x="4349880" y="4343400"/>
          <a:ext cx="660240" cy="5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9880" y="4343400"/>
                    <a:ext cx="66024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8" name=""/>
          <p:cNvGraphicFramePr/>
          <p:nvPr/>
        </p:nvGraphicFramePr>
        <p:xfrm>
          <a:off x="4983120" y="4572000"/>
          <a:ext cx="658800" cy="574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83120" y="4572000"/>
                    <a:ext cx="65880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0" name=""/>
          <p:cNvSpPr/>
          <p:nvPr/>
        </p:nvSpPr>
        <p:spPr>
          <a:xfrm>
            <a:off x="2533680" y="2971800"/>
            <a:ext cx="4046400" cy="360360"/>
          </a:xfrm>
          <a:prstGeom prst="roundRect">
            <a:avLst>
              <a:gd name="adj" fmla="val 49995"/>
            </a:avLst>
          </a:prstGeom>
          <a:solidFill>
            <a:srgbClr val="3365f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VM / MPI/ RS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514600" y="1523880"/>
            <a:ext cx="4046400" cy="1279800"/>
          </a:xfrm>
          <a:prstGeom prst="roundRect">
            <a:avLst>
              <a:gd name="adj" fmla="val 49995"/>
            </a:avLst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pplic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3646440" y="4038480"/>
          <a:ext cx="658800" cy="574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46440" y="4038480"/>
                    <a:ext cx="65880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4" name=""/>
          <p:cNvSpPr/>
          <p:nvPr/>
        </p:nvSpPr>
        <p:spPr>
          <a:xfrm>
            <a:off x="2590920" y="5486400"/>
            <a:ext cx="201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ardware/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2873520" y="4495680"/>
          <a:ext cx="657000" cy="574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873520" y="4495680"/>
                    <a:ext cx="65700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7" name=""/>
          <p:cNvGraphicFramePr/>
          <p:nvPr/>
        </p:nvGraphicFramePr>
        <p:xfrm>
          <a:off x="4280040" y="5029200"/>
          <a:ext cx="658800" cy="576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280040" y="5029200"/>
                    <a:ext cx="65880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9" name=""/>
          <p:cNvGraphicFramePr/>
          <p:nvPr/>
        </p:nvGraphicFramePr>
        <p:xfrm>
          <a:off x="4913280" y="5257800"/>
          <a:ext cx="657360" cy="574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913280" y="5257800"/>
                    <a:ext cx="65736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1" name=""/>
          <p:cNvGraphicFramePr/>
          <p:nvPr/>
        </p:nvGraphicFramePr>
        <p:xfrm>
          <a:off x="3576600" y="4724280"/>
          <a:ext cx="657360" cy="574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576600" y="4724280"/>
                    <a:ext cx="65736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3" name=""/>
          <p:cNvSpPr/>
          <p:nvPr/>
        </p:nvSpPr>
        <p:spPr>
          <a:xfrm>
            <a:off x="5640840" y="3657600"/>
            <a:ext cx="65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?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643896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Century Gothic"/>
              </a:rPr>
              <a:t>CC  should  support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295280" y="15238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257040" indent="-257040">
              <a:lnSpc>
                <a:spcPct val="18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Century Gothic"/>
              </a:rPr>
              <a:t>Multi-user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, </a:t>
            </a:r>
            <a:r>
              <a:rPr b="0" lang="en-US" sz="2400" spc="-1" strike="noStrike">
                <a:solidFill>
                  <a:srgbClr val="fafd00"/>
                </a:solidFill>
                <a:latin typeface="Century Gothic"/>
              </a:rPr>
              <a:t>time-sharing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 environment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57040" indent="-257040">
              <a:lnSpc>
                <a:spcPct val="15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Century Gothic"/>
              </a:rPr>
              <a:t>Nodes with different CPU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 speeds  and</a:t>
            </a:r>
            <a:r>
              <a:rPr b="0" lang="en-US" sz="2400" spc="-1" strike="noStrike">
                <a:solidFill>
                  <a:srgbClr val="fafd00"/>
                </a:solidFill>
                <a:latin typeface="Century Gothic"/>
              </a:rPr>
              <a:t> memory sizes (heterogeneous configuration)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57040" indent="-257040">
              <a:lnSpc>
                <a:spcPct val="18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Century Gothic"/>
              </a:rPr>
              <a:t>Many processes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, with </a:t>
            </a:r>
            <a:r>
              <a:rPr b="0" lang="en-US" sz="2400" spc="-1" strike="noStrike">
                <a:solidFill>
                  <a:srgbClr val="fafd00"/>
                </a:solidFill>
                <a:latin typeface="Century Gothic"/>
              </a:rPr>
              <a:t>unpredictable 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requirement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57040" indent="-257040">
              <a:lnSpc>
                <a:spcPct val="18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Century Gothic"/>
              </a:rPr>
              <a:t>Unlike SMP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: insufficient “</a:t>
            </a:r>
            <a:r>
              <a:rPr b="0" lang="en-US" sz="2400" spc="-1" strike="noStrike">
                <a:solidFill>
                  <a:srgbClr val="fafd00"/>
                </a:solidFill>
                <a:latin typeface="Century Gothic"/>
              </a:rPr>
              <a:t>bonds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” between node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617040" indent="-20556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ch computer operates independent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17040" indent="-20556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efficient  utilization of  resour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514600" y="304920"/>
            <a:ext cx="643896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The missing link is provide by cluster middleware/underware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2593800" y="1600200"/>
            <a:ext cx="4569120" cy="4495680"/>
            <a:chOff x="2593800" y="1600200"/>
            <a:chExt cx="4569120" cy="4495680"/>
          </a:xfrm>
        </p:grpSpPr>
        <p:sp>
          <p:nvSpPr>
            <p:cNvPr id="379" name=""/>
            <p:cNvSpPr/>
            <p:nvPr/>
          </p:nvSpPr>
          <p:spPr>
            <a:xfrm>
              <a:off x="2670120" y="3505320"/>
              <a:ext cx="4038480" cy="14475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670120" y="3505320"/>
              <a:ext cx="4038480" cy="2590560"/>
            </a:xfrm>
            <a:custGeom>
              <a:avLst/>
              <a:gdLst/>
              <a:ahLst/>
              <a:rect l="l" t="t" r="r" b="b"/>
              <a:pathLst>
                <a:path w="1873" h="1105">
                  <a:moveTo>
                    <a:pt x="0" y="0"/>
                  </a:moveTo>
                  <a:lnTo>
                    <a:pt x="0" y="1104"/>
                  </a:lnTo>
                  <a:lnTo>
                    <a:pt x="1872" y="1104"/>
                  </a:lnTo>
                  <a:lnTo>
                    <a:pt x="1872" y="602"/>
                  </a:lnTo>
                  <a:lnTo>
                    <a:pt x="0" y="0"/>
                  </a:lnTo>
                </a:path>
              </a:pathLst>
            </a:custGeom>
            <a:solidFill>
              <a:srgbClr val="ff6699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81" name=""/>
            <p:cNvGraphicFramePr/>
            <p:nvPr/>
          </p:nvGraphicFramePr>
          <p:xfrm>
            <a:off x="3029040" y="3886200"/>
            <a:ext cx="657000" cy="574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8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29040" y="3886200"/>
                      <a:ext cx="657000" cy="57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83" name=""/>
            <p:cNvGraphicFramePr/>
            <p:nvPr/>
          </p:nvGraphicFramePr>
          <p:xfrm>
            <a:off x="4435560" y="4419720"/>
            <a:ext cx="660240" cy="576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8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435560" y="4419720"/>
                      <a:ext cx="660240" cy="57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85" name=""/>
            <p:cNvGraphicFramePr/>
            <p:nvPr/>
          </p:nvGraphicFramePr>
          <p:xfrm>
            <a:off x="5068800" y="4648320"/>
            <a:ext cx="658800" cy="574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8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068800" y="4648320"/>
                      <a:ext cx="658800" cy="57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87" name=""/>
            <p:cNvSpPr/>
            <p:nvPr/>
          </p:nvSpPr>
          <p:spPr>
            <a:xfrm>
              <a:off x="2612880" y="3048120"/>
              <a:ext cx="4046760" cy="360360"/>
            </a:xfrm>
            <a:prstGeom prst="roundRect">
              <a:avLst>
                <a:gd name="adj" fmla="val 49995"/>
              </a:avLst>
            </a:prstGeom>
            <a:solidFill>
              <a:srgbClr val="3365f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PVM / MPI/ RSH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593800" y="1600200"/>
              <a:ext cx="4046760" cy="1279440"/>
            </a:xfrm>
            <a:prstGeom prst="roundRect">
              <a:avLst>
                <a:gd name="adj" fmla="val 49995"/>
              </a:avLst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89" name=""/>
            <p:cNvGraphicFramePr/>
            <p:nvPr/>
          </p:nvGraphicFramePr>
          <p:xfrm>
            <a:off x="3732120" y="4114800"/>
            <a:ext cx="658800" cy="5745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9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2120" y="4114800"/>
                      <a:ext cx="658800" cy="57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91" name=""/>
            <p:cNvSpPr/>
            <p:nvPr/>
          </p:nvSpPr>
          <p:spPr>
            <a:xfrm>
              <a:off x="2676600" y="5562720"/>
              <a:ext cx="201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Hardware/O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92" name=""/>
            <p:cNvGraphicFramePr/>
            <p:nvPr/>
          </p:nvGraphicFramePr>
          <p:xfrm>
            <a:off x="2959200" y="4572000"/>
            <a:ext cx="657000" cy="5745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93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959200" y="4572000"/>
                      <a:ext cx="657000" cy="57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94" name=""/>
            <p:cNvGraphicFramePr/>
            <p:nvPr/>
          </p:nvGraphicFramePr>
          <p:xfrm>
            <a:off x="4365720" y="5105520"/>
            <a:ext cx="658800" cy="5760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95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365720" y="5105520"/>
                      <a:ext cx="658800" cy="57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96" name=""/>
            <p:cNvGraphicFramePr/>
            <p:nvPr/>
          </p:nvGraphicFramePr>
          <p:xfrm>
            <a:off x="4998960" y="5334120"/>
            <a:ext cx="657360" cy="5745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39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4998960" y="5334120"/>
                      <a:ext cx="657360" cy="57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98" name=""/>
            <p:cNvGraphicFramePr/>
            <p:nvPr/>
          </p:nvGraphicFramePr>
          <p:xfrm>
            <a:off x="3662280" y="4800600"/>
            <a:ext cx="657360" cy="574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39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3662280" y="4800600"/>
                      <a:ext cx="657360" cy="57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0" name=""/>
            <p:cNvSpPr/>
            <p:nvPr/>
          </p:nvSpPr>
          <p:spPr>
            <a:xfrm>
              <a:off x="4727520" y="3505320"/>
              <a:ext cx="2435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Times New Roman"/>
                </a:rPr>
                <a:t>Middleware or Underwar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1584360" y="53244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209320" y="759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Century Gothic"/>
              </a:rPr>
              <a:t>SSI Clusters--</a:t>
            </a:r>
            <a:r>
              <a:rPr b="1" i="1" lang="en-US" sz="3200" spc="-1" strike="noStrike">
                <a:solidFill>
                  <a:srgbClr val="fafd00"/>
                </a:solidFill>
                <a:latin typeface="Century Gothic"/>
              </a:rPr>
              <a:t>SMP services on a CC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165320" y="2964960"/>
            <a:ext cx="752472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12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Century Gothic"/>
              </a:rPr>
              <a:t>Adaptive resource usage for better performance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12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Century Gothic"/>
              </a:rPr>
              <a:t>Ease of use -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 almost like SMP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12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Century Gothic"/>
              </a:rPr>
              <a:t>Scalable configurations  - 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by decentralized control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Century Gothic"/>
              </a:rPr>
              <a:t>     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Century Gothic"/>
              </a:rPr>
              <a:t>Result:   </a:t>
            </a:r>
            <a:r>
              <a:rPr b="0" i="1" lang="en-US" sz="2800" spc="-1" strike="noStrike">
                <a:solidFill>
                  <a:srgbClr val="fafd00"/>
                </a:solidFill>
                <a:latin typeface="Century Gothic"/>
              </a:rPr>
              <a:t>HPC/HAC at PC/Workstation prices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404" name=""/>
          <p:cNvSpPr/>
          <p:nvPr/>
        </p:nvSpPr>
        <p:spPr>
          <a:xfrm>
            <a:off x="914400" y="1676520"/>
            <a:ext cx="726264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“</a:t>
            </a: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Pool Together” 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the </a:t>
            </a: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“Cluster-Wide”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 resour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828440" y="399960"/>
            <a:ext cx="716292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What is Cluster Middleware ?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An interface between between use applications and cluster hardware and OS platform.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Middleware packages support each other at the management, programming, and implementation levels.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Middleware Layers: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SI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vailability Layer: It enables the cluster services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eckpointing, Automatic Failover, recovery from failure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ult-tolerant operating among all cluster nod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828440" y="399960"/>
            <a:ext cx="716292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Middleware Design Goal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Complete Transparency (Manageability)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ts the see a single cluster system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ngle entry point, ftp, telnet, software loading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calable Performance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sy growth of clus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change of API &amp; automatic load distribu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Enhanced Availability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utomatic Recovery from fail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mploy checkpointing &amp; fault tolerant technolog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ndle consistency of data when replicated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828440" y="153360"/>
            <a:ext cx="716292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What is Single System Image (SSI) ?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754380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A single system image is the </a:t>
            </a:r>
            <a:r>
              <a:rPr b="1" lang="en-US" sz="3200" spc="-1" strike="noStrike" u="sng">
                <a:solidFill>
                  <a:srgbClr val="fafd00"/>
                </a:solidFill>
                <a:uFillTx/>
                <a:latin typeface="Century Gothic"/>
              </a:rPr>
              <a:t>illusion</a:t>
            </a: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, created by software or hardware, that presents a collection of resources as one, more powerful resource.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SSI makes the cluster appear like a single machine to the user, to applications, and to the network.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A cluster without a SSI is not a cluster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552760" y="153360"/>
            <a:ext cx="643896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Benefits of Single System Image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447560" y="1828440"/>
            <a:ext cx="7010280" cy="29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Usage of system resources transparently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67480" indent="-2674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Transparent process migration and load balancing across nodes.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67480" indent="-2674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Improved reliability and higher availability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67480" indent="-2674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Improved system response time and performance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67480" indent="-2674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implified system management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67480" indent="-2674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Reduction in the risk of operator error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67480" indent="-2674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User need not be aware of the underlying system architecture to use these machines effectively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552760" y="399960"/>
            <a:ext cx="643896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Desired SSI Service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762012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ingle Entry Point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lnet cluster.my_institute.ed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lnet node1.cluster. institute.ed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ingle File Hierarchy: xFS, AFS, Solaris MC Proxy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ingle Control Point: Management from single GUI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ingle virtual networking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ingle memory space - Network RAM / DSM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ingle Job Management: Glunix, Codine, LSF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ingle User Interface: Like workstation/PC windowing environment (CDE in Solaris/NT), may it can use Web technology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6781680" y="1600200"/>
            <a:ext cx="1295640" cy="83808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 flipH="1">
            <a:off x="2895480" y="2590920"/>
            <a:ext cx="533520" cy="533160"/>
          </a:xfrm>
          <a:prstGeom prst="line">
            <a:avLst/>
          </a:prstGeom>
          <a:ln w="763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895480" y="2590920"/>
            <a:ext cx="533520" cy="533160"/>
          </a:xfrm>
          <a:prstGeom prst="line">
            <a:avLst/>
          </a:prstGeom>
          <a:ln w="763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552760" y="153360"/>
            <a:ext cx="643896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Availability Support  Function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ingle I/O Space (SIO):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564480" indent="-217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y node can access any peripheral or disk devices without the knowledge of physical loc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ingle Process Space (SPS)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564480" indent="-217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y process on any node create process with cluster wide process wide and they communicate through signal, pipes, etc, as if they are one a single no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Checkpointing and Process Migration.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564480" indent="-217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ves the process state and intermediate results in memory to disk to support rollback recovery when node fails. PM for Load balancing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60640" indent="-2606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Reduction in the risk of operator error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60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60640" indent="-2606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User need not be aware of the underlying system architecture to use these machines effectively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54160" y="2863800"/>
            <a:ext cx="2273040" cy="1473120"/>
          </a:xfrm>
          <a:prstGeom prst="rect">
            <a:avLst/>
          </a:prstGeom>
          <a:blipFill rotWithShape="0">
            <a:blip r:embed="rId1"/>
            <a:srcRect/>
            <a:stretch/>
          </a:blipFill>
          <a:ln w="12600">
            <a:solidFill>
              <a:srgbClr val="0000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7816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Need of more Computing Power:</a:t>
            </a:r>
            <a:br>
              <a:rPr sz="3200"/>
            </a:b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Grand Challenge Applications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44720" y="144756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Solving technology problems using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computer </a:t>
            </a:r>
            <a:r>
              <a:rPr b="1" i="1" lang="en-US" sz="3200" spc="-1" strike="noStrike">
                <a:solidFill>
                  <a:srgbClr val="fc0128"/>
                </a:solidFill>
                <a:latin typeface="Times New Roman"/>
              </a:rPr>
              <a:t>modeling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c0128"/>
                </a:solidFill>
                <a:latin typeface="Times New Roman"/>
              </a:rPr>
              <a:t>simulation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fc0128"/>
                </a:solidFill>
                <a:latin typeface="Times New Roman"/>
              </a:rPr>
              <a:t>analysis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469800" y="4826160"/>
            <a:ext cx="6616440" cy="1568160"/>
            <a:chOff x="469800" y="4826160"/>
            <a:chExt cx="6616440" cy="1568160"/>
          </a:xfrm>
        </p:grpSpPr>
        <p:sp>
          <p:nvSpPr>
            <p:cNvPr id="184" name=""/>
            <p:cNvSpPr/>
            <p:nvPr/>
          </p:nvSpPr>
          <p:spPr>
            <a:xfrm>
              <a:off x="469800" y="4826160"/>
              <a:ext cx="6616440" cy="15681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1260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539640" y="4883040"/>
              <a:ext cx="6507000" cy="1309680"/>
              <a:chOff x="539640" y="4883040"/>
              <a:chExt cx="6507000" cy="1309680"/>
            </a:xfrm>
          </p:grpSpPr>
          <p:grpSp>
            <p:nvGrpSpPr>
              <p:cNvPr id="186" name=""/>
              <p:cNvGrpSpPr/>
              <p:nvPr/>
            </p:nvGrpSpPr>
            <p:grpSpPr>
              <a:xfrm>
                <a:off x="2242800" y="4883040"/>
                <a:ext cx="4464000" cy="514440"/>
                <a:chOff x="2242800" y="4883040"/>
                <a:chExt cx="4464000" cy="514440"/>
              </a:xfrm>
            </p:grpSpPr>
            <p:grpSp>
              <p:nvGrpSpPr>
                <p:cNvPr id="187" name=""/>
                <p:cNvGrpSpPr/>
                <p:nvPr/>
              </p:nvGrpSpPr>
              <p:grpSpPr>
                <a:xfrm>
                  <a:off x="2755800" y="4937040"/>
                  <a:ext cx="2384280" cy="453960"/>
                  <a:chOff x="2755800" y="4937040"/>
                  <a:chExt cx="2384280" cy="453960"/>
                </a:xfrm>
              </p:grpSpPr>
              <p:grpSp>
                <p:nvGrpSpPr>
                  <p:cNvPr id="188" name=""/>
                  <p:cNvGrpSpPr/>
                  <p:nvPr/>
                </p:nvGrpSpPr>
                <p:grpSpPr>
                  <a:xfrm>
                    <a:off x="3092400" y="4954680"/>
                    <a:ext cx="1519200" cy="390600"/>
                    <a:chOff x="3092400" y="4954680"/>
                    <a:chExt cx="1519200" cy="390600"/>
                  </a:xfrm>
                </p:grpSpPr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4349520" y="4954680"/>
                      <a:ext cx="262080" cy="31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5" h="201">
                          <a:moveTo>
                            <a:pt x="160" y="3"/>
                          </a:moveTo>
                          <a:lnTo>
                            <a:pt x="164" y="0"/>
                          </a:lnTo>
                          <a:lnTo>
                            <a:pt x="56" y="200"/>
                          </a:lnTo>
                          <a:lnTo>
                            <a:pt x="0" y="200"/>
                          </a:lnTo>
                          <a:lnTo>
                            <a:pt x="119" y="0"/>
                          </a:lnTo>
                          <a:lnTo>
                            <a:pt x="160" y="3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  <a:effectLst>
                      <a:outerShdw dist="107932" dir="2700000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3092400" y="5132520"/>
                      <a:ext cx="241200" cy="21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2" h="134">
                          <a:moveTo>
                            <a:pt x="111" y="15"/>
                          </a:moveTo>
                          <a:lnTo>
                            <a:pt x="107" y="13"/>
                          </a:lnTo>
                          <a:lnTo>
                            <a:pt x="0" y="133"/>
                          </a:lnTo>
                          <a:lnTo>
                            <a:pt x="52" y="126"/>
                          </a:lnTo>
                          <a:lnTo>
                            <a:pt x="151" y="0"/>
                          </a:lnTo>
                          <a:lnTo>
                            <a:pt x="111" y="15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  <a:effectLst>
                      <a:outerShdw dist="107932" dir="2700000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1" name=""/>
                  <p:cNvSpPr/>
                  <p:nvPr/>
                </p:nvSpPr>
                <p:spPr>
                  <a:xfrm>
                    <a:off x="2755800" y="4937040"/>
                    <a:ext cx="2384280" cy="45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502" h="286">
                        <a:moveTo>
                          <a:pt x="1490" y="38"/>
                        </a:moveTo>
                        <a:lnTo>
                          <a:pt x="1349" y="33"/>
                        </a:lnTo>
                        <a:lnTo>
                          <a:pt x="1241" y="33"/>
                        </a:lnTo>
                        <a:lnTo>
                          <a:pt x="1096" y="26"/>
                        </a:lnTo>
                        <a:lnTo>
                          <a:pt x="962" y="26"/>
                        </a:lnTo>
                        <a:lnTo>
                          <a:pt x="811" y="26"/>
                        </a:lnTo>
                        <a:lnTo>
                          <a:pt x="676" y="29"/>
                        </a:lnTo>
                        <a:lnTo>
                          <a:pt x="613" y="37"/>
                        </a:lnTo>
                        <a:lnTo>
                          <a:pt x="558" y="48"/>
                        </a:lnTo>
                        <a:lnTo>
                          <a:pt x="497" y="67"/>
                        </a:lnTo>
                        <a:lnTo>
                          <a:pt x="439" y="87"/>
                        </a:lnTo>
                        <a:lnTo>
                          <a:pt x="227" y="183"/>
                        </a:lnTo>
                        <a:lnTo>
                          <a:pt x="114" y="227"/>
                        </a:lnTo>
                        <a:lnTo>
                          <a:pt x="49" y="263"/>
                        </a:lnTo>
                        <a:lnTo>
                          <a:pt x="108" y="262"/>
                        </a:lnTo>
                        <a:lnTo>
                          <a:pt x="1501" y="170"/>
                        </a:lnTo>
                        <a:lnTo>
                          <a:pt x="1499" y="198"/>
                        </a:lnTo>
                        <a:lnTo>
                          <a:pt x="45" y="285"/>
                        </a:lnTo>
                        <a:lnTo>
                          <a:pt x="0" y="278"/>
                        </a:lnTo>
                        <a:lnTo>
                          <a:pt x="23" y="253"/>
                        </a:lnTo>
                        <a:lnTo>
                          <a:pt x="63" y="227"/>
                        </a:lnTo>
                        <a:lnTo>
                          <a:pt x="161" y="183"/>
                        </a:lnTo>
                        <a:lnTo>
                          <a:pt x="237" y="147"/>
                        </a:lnTo>
                        <a:lnTo>
                          <a:pt x="430" y="65"/>
                        </a:lnTo>
                        <a:lnTo>
                          <a:pt x="517" y="36"/>
                        </a:lnTo>
                        <a:lnTo>
                          <a:pt x="603" y="16"/>
                        </a:lnTo>
                        <a:lnTo>
                          <a:pt x="795" y="0"/>
                        </a:lnTo>
                        <a:lnTo>
                          <a:pt x="1059" y="0"/>
                        </a:lnTo>
                        <a:lnTo>
                          <a:pt x="1490" y="20"/>
                        </a:lnTo>
                        <a:lnTo>
                          <a:pt x="1490" y="38"/>
                        </a:lnTo>
                      </a:path>
                    </a:pathLst>
                  </a:custGeom>
                  <a:solidFill>
                    <a:srgbClr val="800000"/>
                  </a:solidFill>
                  <a:ln cap="rnd" w="12600">
                    <a:solidFill>
                      <a:srgbClr val="000000"/>
                    </a:solidFill>
                    <a:round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2" name=""/>
                <p:cNvSpPr/>
                <p:nvPr/>
              </p:nvSpPr>
              <p:spPr>
                <a:xfrm>
                  <a:off x="2242800" y="4883040"/>
                  <a:ext cx="4464000" cy="514440"/>
                </a:xfrm>
                <a:custGeom>
                  <a:avLst/>
                  <a:gdLst/>
                  <a:ahLst/>
                  <a:rect l="l" t="t" r="r" b="b"/>
                  <a:pathLst>
                    <a:path w="2812" h="324">
                      <a:moveTo>
                        <a:pt x="2811" y="216"/>
                      </a:moveTo>
                      <a:lnTo>
                        <a:pt x="2703" y="203"/>
                      </a:lnTo>
                      <a:lnTo>
                        <a:pt x="2620" y="186"/>
                      </a:lnTo>
                      <a:lnTo>
                        <a:pt x="2564" y="172"/>
                      </a:lnTo>
                      <a:lnTo>
                        <a:pt x="2518" y="161"/>
                      </a:lnTo>
                      <a:lnTo>
                        <a:pt x="2458" y="148"/>
                      </a:lnTo>
                      <a:lnTo>
                        <a:pt x="2407" y="135"/>
                      </a:lnTo>
                      <a:lnTo>
                        <a:pt x="2349" y="122"/>
                      </a:lnTo>
                      <a:lnTo>
                        <a:pt x="2297" y="113"/>
                      </a:lnTo>
                      <a:lnTo>
                        <a:pt x="2238" y="105"/>
                      </a:lnTo>
                      <a:lnTo>
                        <a:pt x="2190" y="98"/>
                      </a:lnTo>
                      <a:lnTo>
                        <a:pt x="2149" y="92"/>
                      </a:lnTo>
                      <a:lnTo>
                        <a:pt x="2088" y="83"/>
                      </a:lnTo>
                      <a:lnTo>
                        <a:pt x="2036" y="76"/>
                      </a:lnTo>
                      <a:lnTo>
                        <a:pt x="1987" y="69"/>
                      </a:lnTo>
                      <a:lnTo>
                        <a:pt x="1936" y="57"/>
                      </a:lnTo>
                      <a:lnTo>
                        <a:pt x="1894" y="39"/>
                      </a:lnTo>
                      <a:lnTo>
                        <a:pt x="1864" y="18"/>
                      </a:lnTo>
                      <a:lnTo>
                        <a:pt x="1803" y="16"/>
                      </a:lnTo>
                      <a:lnTo>
                        <a:pt x="1715" y="14"/>
                      </a:lnTo>
                      <a:lnTo>
                        <a:pt x="1615" y="7"/>
                      </a:lnTo>
                      <a:lnTo>
                        <a:pt x="1537" y="3"/>
                      </a:lnTo>
                      <a:lnTo>
                        <a:pt x="1422" y="2"/>
                      </a:lnTo>
                      <a:lnTo>
                        <a:pt x="1311" y="1"/>
                      </a:lnTo>
                      <a:lnTo>
                        <a:pt x="1205" y="0"/>
                      </a:lnTo>
                      <a:lnTo>
                        <a:pt x="1124" y="0"/>
                      </a:lnTo>
                      <a:lnTo>
                        <a:pt x="1036" y="6"/>
                      </a:lnTo>
                      <a:lnTo>
                        <a:pt x="947" y="18"/>
                      </a:lnTo>
                      <a:lnTo>
                        <a:pt x="880" y="33"/>
                      </a:lnTo>
                      <a:lnTo>
                        <a:pt x="820" y="47"/>
                      </a:lnTo>
                      <a:lnTo>
                        <a:pt x="755" y="64"/>
                      </a:lnTo>
                      <a:lnTo>
                        <a:pt x="684" y="83"/>
                      </a:lnTo>
                      <a:lnTo>
                        <a:pt x="612" y="105"/>
                      </a:lnTo>
                      <a:lnTo>
                        <a:pt x="535" y="127"/>
                      </a:lnTo>
                      <a:lnTo>
                        <a:pt x="460" y="150"/>
                      </a:lnTo>
                      <a:lnTo>
                        <a:pt x="381" y="171"/>
                      </a:lnTo>
                      <a:lnTo>
                        <a:pt x="322" y="189"/>
                      </a:lnTo>
                      <a:lnTo>
                        <a:pt x="267" y="202"/>
                      </a:lnTo>
                      <a:lnTo>
                        <a:pt x="207" y="221"/>
                      </a:lnTo>
                      <a:lnTo>
                        <a:pt x="145" y="237"/>
                      </a:lnTo>
                      <a:lnTo>
                        <a:pt x="69" y="259"/>
                      </a:lnTo>
                      <a:lnTo>
                        <a:pt x="0" y="281"/>
                      </a:lnTo>
                      <a:lnTo>
                        <a:pt x="28" y="297"/>
                      </a:lnTo>
                      <a:lnTo>
                        <a:pt x="69" y="307"/>
                      </a:lnTo>
                      <a:lnTo>
                        <a:pt x="114" y="317"/>
                      </a:lnTo>
                      <a:lnTo>
                        <a:pt x="170" y="322"/>
                      </a:lnTo>
                      <a:lnTo>
                        <a:pt x="244" y="323"/>
                      </a:lnTo>
                      <a:lnTo>
                        <a:pt x="318" y="321"/>
                      </a:lnTo>
                      <a:lnTo>
                        <a:pt x="337" y="297"/>
                      </a:lnTo>
                      <a:lnTo>
                        <a:pt x="355" y="281"/>
                      </a:lnTo>
                      <a:lnTo>
                        <a:pt x="390" y="260"/>
                      </a:lnTo>
                      <a:lnTo>
                        <a:pt x="466" y="224"/>
                      </a:lnTo>
                      <a:lnTo>
                        <a:pt x="560" y="182"/>
                      </a:lnTo>
                      <a:lnTo>
                        <a:pt x="644" y="145"/>
                      </a:lnTo>
                      <a:lnTo>
                        <a:pt x="746" y="101"/>
                      </a:lnTo>
                      <a:lnTo>
                        <a:pt x="831" y="73"/>
                      </a:lnTo>
                      <a:lnTo>
                        <a:pt x="912" y="53"/>
                      </a:lnTo>
                      <a:lnTo>
                        <a:pt x="977" y="45"/>
                      </a:lnTo>
                      <a:lnTo>
                        <a:pt x="1099" y="35"/>
                      </a:lnTo>
                      <a:lnTo>
                        <a:pt x="1258" y="34"/>
                      </a:lnTo>
                      <a:lnTo>
                        <a:pt x="1444" y="38"/>
                      </a:lnTo>
                      <a:lnTo>
                        <a:pt x="1586" y="42"/>
                      </a:lnTo>
                      <a:lnTo>
                        <a:pt x="1813" y="53"/>
                      </a:lnTo>
                      <a:lnTo>
                        <a:pt x="1826" y="245"/>
                      </a:lnTo>
                      <a:lnTo>
                        <a:pt x="2811" y="21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  <a:effectLst>
                  <a:outerShdw dist="107932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3" name=""/>
              <p:cNvSpPr/>
              <p:nvPr/>
            </p:nvSpPr>
            <p:spPr>
              <a:xfrm>
                <a:off x="544320" y="5384880"/>
                <a:ext cx="6037200" cy="807840"/>
              </a:xfrm>
              <a:custGeom>
                <a:avLst/>
                <a:gdLst/>
                <a:ahLst/>
                <a:rect l="l" t="t" r="r" b="b"/>
                <a:pathLst>
                  <a:path w="3803" h="509">
                    <a:moveTo>
                      <a:pt x="594" y="240"/>
                    </a:moveTo>
                    <a:lnTo>
                      <a:pt x="565" y="317"/>
                    </a:lnTo>
                    <a:lnTo>
                      <a:pt x="565" y="376"/>
                    </a:lnTo>
                    <a:lnTo>
                      <a:pt x="0" y="376"/>
                    </a:lnTo>
                    <a:lnTo>
                      <a:pt x="39" y="416"/>
                    </a:lnTo>
                    <a:lnTo>
                      <a:pt x="13" y="460"/>
                    </a:lnTo>
                    <a:lnTo>
                      <a:pt x="13" y="481"/>
                    </a:lnTo>
                    <a:lnTo>
                      <a:pt x="30" y="496"/>
                    </a:lnTo>
                    <a:lnTo>
                      <a:pt x="355" y="496"/>
                    </a:lnTo>
                    <a:lnTo>
                      <a:pt x="381" y="508"/>
                    </a:lnTo>
                    <a:lnTo>
                      <a:pt x="547" y="508"/>
                    </a:lnTo>
                    <a:lnTo>
                      <a:pt x="569" y="494"/>
                    </a:lnTo>
                    <a:lnTo>
                      <a:pt x="3577" y="494"/>
                    </a:lnTo>
                    <a:lnTo>
                      <a:pt x="3696" y="401"/>
                    </a:lnTo>
                    <a:lnTo>
                      <a:pt x="3790" y="432"/>
                    </a:lnTo>
                    <a:lnTo>
                      <a:pt x="3802" y="185"/>
                    </a:lnTo>
                    <a:lnTo>
                      <a:pt x="3573" y="0"/>
                    </a:lnTo>
                    <a:lnTo>
                      <a:pt x="3215" y="7"/>
                    </a:lnTo>
                    <a:lnTo>
                      <a:pt x="1351" y="416"/>
                    </a:lnTo>
                    <a:lnTo>
                      <a:pt x="1298" y="366"/>
                    </a:lnTo>
                    <a:lnTo>
                      <a:pt x="1252" y="239"/>
                    </a:lnTo>
                    <a:lnTo>
                      <a:pt x="1186" y="136"/>
                    </a:lnTo>
                    <a:lnTo>
                      <a:pt x="990" y="52"/>
                    </a:lnTo>
                    <a:lnTo>
                      <a:pt x="808" y="56"/>
                    </a:lnTo>
                    <a:lnTo>
                      <a:pt x="672" y="117"/>
                    </a:lnTo>
                    <a:lnTo>
                      <a:pt x="594" y="24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94" name=""/>
              <p:cNvGrpSpPr/>
              <p:nvPr/>
            </p:nvGrpSpPr>
            <p:grpSpPr>
              <a:xfrm>
                <a:off x="539640" y="5049720"/>
                <a:ext cx="6507000" cy="1025640"/>
                <a:chOff x="539640" y="5049720"/>
                <a:chExt cx="6507000" cy="1025640"/>
              </a:xfrm>
            </p:grpSpPr>
            <p:grpSp>
              <p:nvGrpSpPr>
                <p:cNvPr id="195" name=""/>
                <p:cNvGrpSpPr/>
                <p:nvPr/>
              </p:nvGrpSpPr>
              <p:grpSpPr>
                <a:xfrm>
                  <a:off x="6665760" y="5381640"/>
                  <a:ext cx="380880" cy="576360"/>
                  <a:chOff x="6665760" y="5381640"/>
                  <a:chExt cx="380880" cy="57636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>
                    <a:off x="6875280" y="5505480"/>
                    <a:ext cx="138240" cy="93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6875280" y="5381640"/>
                    <a:ext cx="138240" cy="39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6875280" y="5459400"/>
                    <a:ext cx="138240" cy="792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6738840" y="5426280"/>
                    <a:ext cx="279000" cy="250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00000"/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c0c0c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00" name=""/>
                  <p:cNvGrpSpPr/>
                  <p:nvPr/>
                </p:nvGrpSpPr>
                <p:grpSpPr>
                  <a:xfrm>
                    <a:off x="6665760" y="5902200"/>
                    <a:ext cx="380880" cy="9720"/>
                    <a:chOff x="6665760" y="5902200"/>
                    <a:chExt cx="380880" cy="9720"/>
                  </a:xfrm>
                </p:grpSpPr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6665760" y="5902200"/>
                      <a:ext cx="363600" cy="972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  <a:effectLst>
                      <a:outerShdw dist="107932" dir="2700000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080" bIns="-37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2" name=""/>
                    <p:cNvSpPr/>
                    <p:nvPr/>
                  </p:nvSpPr>
                  <p:spPr>
                    <a:xfrm>
                      <a:off x="7014960" y="5902200"/>
                      <a:ext cx="31680" cy="972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  <a:effectLst>
                      <a:outerShdw dist="107932" dir="2700000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3" name=""/>
                  <p:cNvGrpSpPr/>
                  <p:nvPr/>
                </p:nvGrpSpPr>
                <p:grpSpPr>
                  <a:xfrm>
                    <a:off x="6665760" y="5948280"/>
                    <a:ext cx="380880" cy="9720"/>
                    <a:chOff x="6665760" y="5948280"/>
                    <a:chExt cx="380880" cy="9720"/>
                  </a:xfrm>
                </p:grpSpPr>
                <p:sp>
                  <p:nvSpPr>
                    <p:cNvPr id="204" name=""/>
                    <p:cNvSpPr/>
                    <p:nvPr/>
                  </p:nvSpPr>
                  <p:spPr>
                    <a:xfrm>
                      <a:off x="6665760" y="5948280"/>
                      <a:ext cx="363600" cy="972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  <a:effectLst>
                      <a:outerShdw dist="107932" dir="2700000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080" bIns="-37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5" name=""/>
                    <p:cNvSpPr/>
                    <p:nvPr/>
                  </p:nvSpPr>
                  <p:spPr>
                    <a:xfrm>
                      <a:off x="7014960" y="5948280"/>
                      <a:ext cx="31680" cy="972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  <a:effectLst>
                      <a:outerShdw dist="107932" dir="2700000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6" name=""/>
                  <p:cNvGrpSpPr/>
                  <p:nvPr/>
                </p:nvGrpSpPr>
                <p:grpSpPr>
                  <a:xfrm>
                    <a:off x="6665760" y="5856120"/>
                    <a:ext cx="380880" cy="8280"/>
                    <a:chOff x="6665760" y="5856120"/>
                    <a:chExt cx="380880" cy="8280"/>
                  </a:xfrm>
                </p:grpSpPr>
                <p:sp>
                  <p:nvSpPr>
                    <p:cNvPr id="207" name=""/>
                    <p:cNvSpPr/>
                    <p:nvPr/>
                  </p:nvSpPr>
                  <p:spPr>
                    <a:xfrm>
                      <a:off x="6665760" y="5856120"/>
                      <a:ext cx="363600" cy="82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  <a:effectLst>
                      <a:outerShdw dist="107932" dir="2700000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520" bIns="-38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" name=""/>
                    <p:cNvSpPr/>
                    <p:nvPr/>
                  </p:nvSpPr>
                  <p:spPr>
                    <a:xfrm>
                      <a:off x="7014960" y="5856120"/>
                      <a:ext cx="31680" cy="828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  <a:effectLst>
                      <a:outerShdw dist="107932" dir="2700000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09" name=""/>
                <p:cNvSpPr/>
                <p:nvPr/>
              </p:nvSpPr>
              <p:spPr>
                <a:xfrm>
                  <a:off x="539640" y="5222880"/>
                  <a:ext cx="6475320" cy="852480"/>
                </a:xfrm>
                <a:custGeom>
                  <a:avLst/>
                  <a:gdLst/>
                  <a:ahLst/>
                  <a:rect l="l" t="t" r="r" b="b"/>
                  <a:pathLst>
                    <a:path w="4079" h="537">
                      <a:moveTo>
                        <a:pt x="3874" y="0"/>
                      </a:moveTo>
                      <a:lnTo>
                        <a:pt x="4054" y="0"/>
                      </a:lnTo>
                      <a:lnTo>
                        <a:pt x="4078" y="83"/>
                      </a:lnTo>
                      <a:lnTo>
                        <a:pt x="3998" y="83"/>
                      </a:lnTo>
                      <a:lnTo>
                        <a:pt x="3998" y="382"/>
                      </a:lnTo>
                      <a:lnTo>
                        <a:pt x="3841" y="518"/>
                      </a:lnTo>
                      <a:lnTo>
                        <a:pt x="3806" y="532"/>
                      </a:lnTo>
                      <a:lnTo>
                        <a:pt x="3776" y="536"/>
                      </a:lnTo>
                      <a:lnTo>
                        <a:pt x="3781" y="468"/>
                      </a:lnTo>
                      <a:lnTo>
                        <a:pt x="3785" y="386"/>
                      </a:lnTo>
                      <a:lnTo>
                        <a:pt x="3764" y="317"/>
                      </a:lnTo>
                      <a:lnTo>
                        <a:pt x="3735" y="266"/>
                      </a:lnTo>
                      <a:lnTo>
                        <a:pt x="3697" y="222"/>
                      </a:lnTo>
                      <a:lnTo>
                        <a:pt x="3642" y="178"/>
                      </a:lnTo>
                      <a:lnTo>
                        <a:pt x="3578" y="145"/>
                      </a:lnTo>
                      <a:lnTo>
                        <a:pt x="3488" y="124"/>
                      </a:lnTo>
                      <a:lnTo>
                        <a:pt x="3370" y="117"/>
                      </a:lnTo>
                      <a:lnTo>
                        <a:pt x="3288" y="135"/>
                      </a:lnTo>
                      <a:lnTo>
                        <a:pt x="3228" y="163"/>
                      </a:lnTo>
                      <a:lnTo>
                        <a:pt x="3178" y="196"/>
                      </a:lnTo>
                      <a:lnTo>
                        <a:pt x="3118" y="246"/>
                      </a:lnTo>
                      <a:lnTo>
                        <a:pt x="3080" y="303"/>
                      </a:lnTo>
                      <a:lnTo>
                        <a:pt x="3055" y="353"/>
                      </a:lnTo>
                      <a:lnTo>
                        <a:pt x="3047" y="401"/>
                      </a:lnTo>
                      <a:lnTo>
                        <a:pt x="3047" y="507"/>
                      </a:lnTo>
                      <a:lnTo>
                        <a:pt x="1266" y="536"/>
                      </a:lnTo>
                      <a:lnTo>
                        <a:pt x="1266" y="434"/>
                      </a:lnTo>
                      <a:lnTo>
                        <a:pt x="1241" y="364"/>
                      </a:lnTo>
                      <a:lnTo>
                        <a:pt x="1212" y="309"/>
                      </a:lnTo>
                      <a:lnTo>
                        <a:pt x="1168" y="258"/>
                      </a:lnTo>
                      <a:lnTo>
                        <a:pt x="1105" y="214"/>
                      </a:lnTo>
                      <a:lnTo>
                        <a:pt x="1041" y="185"/>
                      </a:lnTo>
                      <a:lnTo>
                        <a:pt x="978" y="168"/>
                      </a:lnTo>
                      <a:lnTo>
                        <a:pt x="867" y="168"/>
                      </a:lnTo>
                      <a:lnTo>
                        <a:pt x="808" y="178"/>
                      </a:lnTo>
                      <a:lnTo>
                        <a:pt x="748" y="201"/>
                      </a:lnTo>
                      <a:lnTo>
                        <a:pt x="694" y="240"/>
                      </a:lnTo>
                      <a:lnTo>
                        <a:pt x="642" y="291"/>
                      </a:lnTo>
                      <a:lnTo>
                        <a:pt x="608" y="353"/>
                      </a:lnTo>
                      <a:lnTo>
                        <a:pt x="587" y="419"/>
                      </a:lnTo>
                      <a:lnTo>
                        <a:pt x="587" y="488"/>
                      </a:lnTo>
                      <a:lnTo>
                        <a:pt x="0" y="487"/>
                      </a:lnTo>
                      <a:lnTo>
                        <a:pt x="0" y="464"/>
                      </a:lnTo>
                      <a:lnTo>
                        <a:pt x="19" y="464"/>
                      </a:lnTo>
                      <a:lnTo>
                        <a:pt x="19" y="431"/>
                      </a:lnTo>
                      <a:lnTo>
                        <a:pt x="1" y="430"/>
                      </a:lnTo>
                      <a:lnTo>
                        <a:pt x="1" y="330"/>
                      </a:lnTo>
                      <a:lnTo>
                        <a:pt x="17" y="309"/>
                      </a:lnTo>
                      <a:lnTo>
                        <a:pt x="153" y="251"/>
                      </a:lnTo>
                      <a:lnTo>
                        <a:pt x="303" y="201"/>
                      </a:lnTo>
                      <a:lnTo>
                        <a:pt x="484" y="153"/>
                      </a:lnTo>
                      <a:lnTo>
                        <a:pt x="680" y="112"/>
                      </a:lnTo>
                      <a:lnTo>
                        <a:pt x="860" y="80"/>
                      </a:lnTo>
                      <a:lnTo>
                        <a:pt x="1032" y="54"/>
                      </a:lnTo>
                      <a:lnTo>
                        <a:pt x="1091" y="54"/>
                      </a:lnTo>
                      <a:lnTo>
                        <a:pt x="1130" y="68"/>
                      </a:lnTo>
                      <a:lnTo>
                        <a:pt x="1313" y="91"/>
                      </a:lnTo>
                      <a:lnTo>
                        <a:pt x="1458" y="102"/>
                      </a:lnTo>
                      <a:lnTo>
                        <a:pt x="2218" y="61"/>
                      </a:lnTo>
                      <a:lnTo>
                        <a:pt x="2583" y="35"/>
                      </a:lnTo>
                      <a:lnTo>
                        <a:pt x="2927" y="13"/>
                      </a:lnTo>
                      <a:lnTo>
                        <a:pt x="3101" y="3"/>
                      </a:lnTo>
                      <a:lnTo>
                        <a:pt x="3874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  <a:effectLst>
                  <a:outerShdw dist="107932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105000" y="5294160"/>
                  <a:ext cx="1306440" cy="765360"/>
                </a:xfrm>
                <a:custGeom>
                  <a:avLst/>
                  <a:gdLst/>
                  <a:ahLst/>
                  <a:rect l="l" t="t" r="r" b="b"/>
                  <a:pathLst>
                    <a:path w="823" h="482">
                      <a:moveTo>
                        <a:pt x="822" y="0"/>
                      </a:moveTo>
                      <a:lnTo>
                        <a:pt x="822" y="470"/>
                      </a:lnTo>
                      <a:lnTo>
                        <a:pt x="0" y="481"/>
                      </a:lnTo>
                      <a:lnTo>
                        <a:pt x="0" y="51"/>
                      </a:lnTo>
                      <a:lnTo>
                        <a:pt x="109" y="41"/>
                      </a:lnTo>
                      <a:lnTo>
                        <a:pt x="259" y="33"/>
                      </a:lnTo>
                      <a:lnTo>
                        <a:pt x="410" y="27"/>
                      </a:lnTo>
                      <a:lnTo>
                        <a:pt x="507" y="19"/>
                      </a:lnTo>
                      <a:lnTo>
                        <a:pt x="603" y="14"/>
                      </a:lnTo>
                      <a:lnTo>
                        <a:pt x="733" y="4"/>
                      </a:lnTo>
                      <a:lnTo>
                        <a:pt x="822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  <a:effectLst>
                  <a:outerShdw dist="107932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1" name=""/>
                <p:cNvGrpSpPr/>
                <p:nvPr/>
              </p:nvGrpSpPr>
              <p:grpSpPr>
                <a:xfrm>
                  <a:off x="3271680" y="5049720"/>
                  <a:ext cx="2192400" cy="871560"/>
                  <a:chOff x="3271680" y="5049720"/>
                  <a:chExt cx="2192400" cy="871560"/>
                </a:xfrm>
              </p:grpSpPr>
              <p:sp>
                <p:nvSpPr>
                  <p:cNvPr id="212" name=""/>
                  <p:cNvSpPr/>
                  <p:nvPr/>
                </p:nvSpPr>
                <p:spPr>
                  <a:xfrm>
                    <a:off x="5225760" y="5049720"/>
                    <a:ext cx="238320" cy="10800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12600">
                    <a:solidFill>
                      <a:srgbClr val="8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5394240" y="5091120"/>
                    <a:ext cx="23760" cy="190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14" name=""/>
                  <p:cNvGrpSpPr/>
                  <p:nvPr/>
                </p:nvGrpSpPr>
                <p:grpSpPr>
                  <a:xfrm>
                    <a:off x="3271680" y="5397480"/>
                    <a:ext cx="1382760" cy="523800"/>
                    <a:chOff x="3271680" y="5397480"/>
                    <a:chExt cx="1382760" cy="523800"/>
                  </a:xfrm>
                </p:grpSpPr>
                <p:sp>
                  <p:nvSpPr>
                    <p:cNvPr id="215" name=""/>
                    <p:cNvSpPr/>
                    <p:nvPr/>
                  </p:nvSpPr>
                  <p:spPr>
                    <a:xfrm>
                      <a:off x="3271680" y="5751360"/>
                      <a:ext cx="1382760" cy="169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71" h="107">
                          <a:moveTo>
                            <a:pt x="870" y="59"/>
                          </a:moveTo>
                          <a:lnTo>
                            <a:pt x="870" y="106"/>
                          </a:lnTo>
                          <a:lnTo>
                            <a:pt x="0" y="0"/>
                          </a:lnTo>
                          <a:lnTo>
                            <a:pt x="870" y="59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  <a:effectLst>
                      <a:outerShdw dist="107932" dir="2700000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3285720" y="5397480"/>
                      <a:ext cx="1368720" cy="19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2" h="125">
                          <a:moveTo>
                            <a:pt x="861" y="0"/>
                          </a:moveTo>
                          <a:lnTo>
                            <a:pt x="861" y="48"/>
                          </a:lnTo>
                          <a:lnTo>
                            <a:pt x="0" y="124"/>
                          </a:lnTo>
                          <a:lnTo>
                            <a:pt x="861" y="0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  <a:effectLst>
                      <a:outerShdw dist="107932" dir="2700000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3285720" y="5514840"/>
                      <a:ext cx="1368720" cy="120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2" h="76">
                          <a:moveTo>
                            <a:pt x="861" y="0"/>
                          </a:moveTo>
                          <a:lnTo>
                            <a:pt x="861" y="47"/>
                          </a:lnTo>
                          <a:lnTo>
                            <a:pt x="0" y="75"/>
                          </a:lnTo>
                          <a:lnTo>
                            <a:pt x="861" y="0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  <a:effectLst>
                      <a:outerShdw dist="107932" dir="2700000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>
                      <a:off x="3271680" y="5624640"/>
                      <a:ext cx="1382760" cy="7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71" h="48">
                          <a:moveTo>
                            <a:pt x="870" y="0"/>
                          </a:moveTo>
                          <a:lnTo>
                            <a:pt x="870" y="47"/>
                          </a:lnTo>
                          <a:lnTo>
                            <a:pt x="0" y="28"/>
                          </a:lnTo>
                          <a:lnTo>
                            <a:pt x="870" y="0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  <a:effectLst>
                      <a:outerShdw dist="107932" dir="2700000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3271680" y="5710320"/>
                      <a:ext cx="1382760" cy="10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71" h="63">
                          <a:moveTo>
                            <a:pt x="870" y="15"/>
                          </a:moveTo>
                          <a:lnTo>
                            <a:pt x="870" y="62"/>
                          </a:lnTo>
                          <a:lnTo>
                            <a:pt x="0" y="0"/>
                          </a:lnTo>
                          <a:lnTo>
                            <a:pt x="870" y="15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  <a:effectLst>
                      <a:outerShdw dist="107932" dir="2700000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220" name=""/>
          <p:cNvGrpSpPr/>
          <p:nvPr/>
        </p:nvGrpSpPr>
        <p:grpSpPr>
          <a:xfrm>
            <a:off x="1604880" y="5443560"/>
            <a:ext cx="1009440" cy="879480"/>
            <a:chOff x="1604880" y="5443560"/>
            <a:chExt cx="1009440" cy="879480"/>
          </a:xfrm>
        </p:grpSpPr>
        <p:sp>
          <p:nvSpPr>
            <p:cNvPr id="221" name=""/>
            <p:cNvSpPr/>
            <p:nvPr/>
          </p:nvSpPr>
          <p:spPr>
            <a:xfrm>
              <a:off x="1604880" y="5443560"/>
              <a:ext cx="1009440" cy="879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006280" y="6021360"/>
              <a:ext cx="181080" cy="193680"/>
            </a:xfrm>
            <a:custGeom>
              <a:avLst/>
              <a:gdLst/>
              <a:ahLst/>
              <a:rect l="l" t="t" r="r" b="b"/>
              <a:pathLst>
                <a:path w="114" h="122">
                  <a:moveTo>
                    <a:pt x="113" y="112"/>
                  </a:moveTo>
                  <a:lnTo>
                    <a:pt x="69" y="0"/>
                  </a:lnTo>
                  <a:lnTo>
                    <a:pt x="42" y="0"/>
                  </a:lnTo>
                  <a:lnTo>
                    <a:pt x="0" y="117"/>
                  </a:lnTo>
                  <a:lnTo>
                    <a:pt x="55" y="121"/>
                  </a:lnTo>
                  <a:lnTo>
                    <a:pt x="113" y="112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012760" y="5560920"/>
              <a:ext cx="183960" cy="192240"/>
            </a:xfrm>
            <a:custGeom>
              <a:avLst/>
              <a:gdLst/>
              <a:ahLst/>
              <a:rect l="l" t="t" r="r" b="b"/>
              <a:pathLst>
                <a:path w="116" h="121">
                  <a:moveTo>
                    <a:pt x="115" y="9"/>
                  </a:moveTo>
                  <a:lnTo>
                    <a:pt x="69" y="120"/>
                  </a:lnTo>
                  <a:lnTo>
                    <a:pt x="43" y="120"/>
                  </a:lnTo>
                  <a:lnTo>
                    <a:pt x="0" y="5"/>
                  </a:lnTo>
                  <a:lnTo>
                    <a:pt x="56" y="0"/>
                  </a:lnTo>
                  <a:lnTo>
                    <a:pt x="115" y="9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731600" y="5805360"/>
              <a:ext cx="220680" cy="155880"/>
            </a:xfrm>
            <a:custGeom>
              <a:avLst/>
              <a:gdLst/>
              <a:ahLst/>
              <a:rect l="l" t="t" r="r" b="b"/>
              <a:pathLst>
                <a:path w="139" h="98">
                  <a:moveTo>
                    <a:pt x="10" y="0"/>
                  </a:moveTo>
                  <a:lnTo>
                    <a:pt x="138" y="39"/>
                  </a:lnTo>
                  <a:lnTo>
                    <a:pt x="138" y="62"/>
                  </a:lnTo>
                  <a:lnTo>
                    <a:pt x="6" y="97"/>
                  </a:lnTo>
                  <a:lnTo>
                    <a:pt x="0" y="51"/>
                  </a:lnTo>
                  <a:lnTo>
                    <a:pt x="10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255760" y="5805360"/>
              <a:ext cx="220680" cy="155880"/>
            </a:xfrm>
            <a:custGeom>
              <a:avLst/>
              <a:gdLst/>
              <a:ahLst/>
              <a:rect l="l" t="t" r="r" b="b"/>
              <a:pathLst>
                <a:path w="139" h="98">
                  <a:moveTo>
                    <a:pt x="128" y="0"/>
                  </a:moveTo>
                  <a:lnTo>
                    <a:pt x="0" y="39"/>
                  </a:lnTo>
                  <a:lnTo>
                    <a:pt x="0" y="62"/>
                  </a:lnTo>
                  <a:lnTo>
                    <a:pt x="133" y="97"/>
                  </a:lnTo>
                  <a:lnTo>
                    <a:pt x="138" y="51"/>
                  </a:lnTo>
                  <a:lnTo>
                    <a:pt x="128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750680" y="5560920"/>
              <a:ext cx="725760" cy="63180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1979280" y="5761080"/>
              <a:ext cx="265320" cy="231840"/>
              <a:chOff x="1979280" y="5761080"/>
              <a:chExt cx="265320" cy="231840"/>
            </a:xfrm>
          </p:grpSpPr>
          <p:sp>
            <p:nvSpPr>
              <p:cNvPr id="228" name=""/>
              <p:cNvSpPr/>
              <p:nvPr/>
            </p:nvSpPr>
            <p:spPr>
              <a:xfrm>
                <a:off x="1979280" y="5761080"/>
                <a:ext cx="265320" cy="23184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041200" y="5811840"/>
                <a:ext cx="147600" cy="13032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0" name=""/>
          <p:cNvGrpSpPr/>
          <p:nvPr/>
        </p:nvGrpSpPr>
        <p:grpSpPr>
          <a:xfrm>
            <a:off x="5456160" y="5443560"/>
            <a:ext cx="1011240" cy="879480"/>
            <a:chOff x="5456160" y="5443560"/>
            <a:chExt cx="1011240" cy="879480"/>
          </a:xfrm>
        </p:grpSpPr>
        <p:sp>
          <p:nvSpPr>
            <p:cNvPr id="231" name=""/>
            <p:cNvSpPr/>
            <p:nvPr/>
          </p:nvSpPr>
          <p:spPr>
            <a:xfrm>
              <a:off x="5456160" y="5443560"/>
              <a:ext cx="1011240" cy="879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857560" y="6021360"/>
              <a:ext cx="179640" cy="193680"/>
            </a:xfrm>
            <a:custGeom>
              <a:avLst/>
              <a:gdLst/>
              <a:ahLst/>
              <a:rect l="l" t="t" r="r" b="b"/>
              <a:pathLst>
                <a:path w="113" h="122">
                  <a:moveTo>
                    <a:pt x="112" y="112"/>
                  </a:moveTo>
                  <a:lnTo>
                    <a:pt x="69" y="0"/>
                  </a:lnTo>
                  <a:lnTo>
                    <a:pt x="42" y="0"/>
                  </a:lnTo>
                  <a:lnTo>
                    <a:pt x="0" y="117"/>
                  </a:lnTo>
                  <a:lnTo>
                    <a:pt x="54" y="121"/>
                  </a:lnTo>
                  <a:lnTo>
                    <a:pt x="112" y="112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862240" y="5560920"/>
              <a:ext cx="185760" cy="192240"/>
            </a:xfrm>
            <a:custGeom>
              <a:avLst/>
              <a:gdLst/>
              <a:ahLst/>
              <a:rect l="l" t="t" r="r" b="b"/>
              <a:pathLst>
                <a:path w="117" h="121">
                  <a:moveTo>
                    <a:pt x="116" y="9"/>
                  </a:moveTo>
                  <a:lnTo>
                    <a:pt x="70" y="120"/>
                  </a:lnTo>
                  <a:lnTo>
                    <a:pt x="42" y="120"/>
                  </a:lnTo>
                  <a:lnTo>
                    <a:pt x="0" y="5"/>
                  </a:lnTo>
                  <a:lnTo>
                    <a:pt x="56" y="0"/>
                  </a:lnTo>
                  <a:lnTo>
                    <a:pt x="116" y="9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581440" y="5805360"/>
              <a:ext cx="222120" cy="155880"/>
            </a:xfrm>
            <a:custGeom>
              <a:avLst/>
              <a:gdLst/>
              <a:ahLst/>
              <a:rect l="l" t="t" r="r" b="b"/>
              <a:pathLst>
                <a:path w="140" h="98">
                  <a:moveTo>
                    <a:pt x="10" y="0"/>
                  </a:moveTo>
                  <a:lnTo>
                    <a:pt x="139" y="39"/>
                  </a:lnTo>
                  <a:lnTo>
                    <a:pt x="139" y="62"/>
                  </a:lnTo>
                  <a:lnTo>
                    <a:pt x="6" y="97"/>
                  </a:lnTo>
                  <a:lnTo>
                    <a:pt x="0" y="51"/>
                  </a:lnTo>
                  <a:lnTo>
                    <a:pt x="10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07040" y="5805360"/>
              <a:ext cx="222120" cy="155880"/>
            </a:xfrm>
            <a:custGeom>
              <a:avLst/>
              <a:gdLst/>
              <a:ahLst/>
              <a:rect l="l" t="t" r="r" b="b"/>
              <a:pathLst>
                <a:path w="140" h="98">
                  <a:moveTo>
                    <a:pt x="129" y="0"/>
                  </a:moveTo>
                  <a:lnTo>
                    <a:pt x="0" y="39"/>
                  </a:lnTo>
                  <a:lnTo>
                    <a:pt x="0" y="62"/>
                  </a:lnTo>
                  <a:lnTo>
                    <a:pt x="133" y="97"/>
                  </a:lnTo>
                  <a:lnTo>
                    <a:pt x="139" y="51"/>
                  </a:lnTo>
                  <a:lnTo>
                    <a:pt x="129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01960" y="5560920"/>
              <a:ext cx="727200" cy="63180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5829120" y="5761080"/>
              <a:ext cx="268200" cy="231840"/>
              <a:chOff x="5829120" y="5761080"/>
              <a:chExt cx="268200" cy="231840"/>
            </a:xfrm>
          </p:grpSpPr>
          <p:sp>
            <p:nvSpPr>
              <p:cNvPr id="238" name=""/>
              <p:cNvSpPr/>
              <p:nvPr/>
            </p:nvSpPr>
            <p:spPr>
              <a:xfrm>
                <a:off x="5829120" y="5761080"/>
                <a:ext cx="268200" cy="23184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892480" y="5811840"/>
                <a:ext cx="146160" cy="13032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240" name=""/>
          <p:cNvGraphicFramePr/>
          <p:nvPr/>
        </p:nvGraphicFramePr>
        <p:xfrm>
          <a:off x="247680" y="2854440"/>
          <a:ext cx="2247840" cy="137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7680" y="2854440"/>
                    <a:ext cx="2247840" cy="1374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242" name=""/>
          <p:cNvSpPr/>
          <p:nvPr/>
        </p:nvSpPr>
        <p:spPr>
          <a:xfrm>
            <a:off x="211320" y="4309920"/>
            <a:ext cx="1834920" cy="454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fe Scie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079280" y="6386400"/>
            <a:ext cx="5706000" cy="454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chanical Design &amp; Analysis (CAD/CA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375360" y="4344840"/>
            <a:ext cx="1469160" cy="454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erosp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5681520" y="2819160"/>
            <a:ext cx="3465720" cy="1854000"/>
            <a:chOff x="5681520" y="2819160"/>
            <a:chExt cx="3465720" cy="1854000"/>
          </a:xfrm>
        </p:grpSpPr>
        <p:sp>
          <p:nvSpPr>
            <p:cNvPr id="246" name=""/>
            <p:cNvSpPr/>
            <p:nvPr/>
          </p:nvSpPr>
          <p:spPr>
            <a:xfrm>
              <a:off x="5681520" y="2854080"/>
              <a:ext cx="1683000" cy="18190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1260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7" name=""/>
            <p:cNvGrpSpPr/>
            <p:nvPr/>
          </p:nvGrpSpPr>
          <p:grpSpPr>
            <a:xfrm>
              <a:off x="5740200" y="2819160"/>
              <a:ext cx="1597320" cy="1766520"/>
              <a:chOff x="5740200" y="2819160"/>
              <a:chExt cx="1597320" cy="1766520"/>
            </a:xfrm>
          </p:grpSpPr>
          <p:grpSp>
            <p:nvGrpSpPr>
              <p:cNvPr id="248" name=""/>
              <p:cNvGrpSpPr/>
              <p:nvPr/>
            </p:nvGrpSpPr>
            <p:grpSpPr>
              <a:xfrm>
                <a:off x="5951520" y="2819160"/>
                <a:ext cx="1386000" cy="1766520"/>
                <a:chOff x="5951520" y="2819160"/>
                <a:chExt cx="1386000" cy="176652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5951520" y="2874960"/>
                  <a:ext cx="1386000" cy="1585440"/>
                </a:xfrm>
                <a:custGeom>
                  <a:avLst/>
                  <a:gdLst/>
                  <a:ahLst/>
                  <a:rect l="l" t="t" r="r" b="b"/>
                  <a:pathLst>
                    <a:path w="873" h="999">
                      <a:moveTo>
                        <a:pt x="492" y="0"/>
                      </a:moveTo>
                      <a:lnTo>
                        <a:pt x="546" y="19"/>
                      </a:lnTo>
                      <a:lnTo>
                        <a:pt x="598" y="44"/>
                      </a:lnTo>
                      <a:lnTo>
                        <a:pt x="646" y="73"/>
                      </a:lnTo>
                      <a:lnTo>
                        <a:pt x="691" y="106"/>
                      </a:lnTo>
                      <a:lnTo>
                        <a:pt x="731" y="145"/>
                      </a:lnTo>
                      <a:lnTo>
                        <a:pt x="767" y="186"/>
                      </a:lnTo>
                      <a:lnTo>
                        <a:pt x="798" y="231"/>
                      </a:lnTo>
                      <a:lnTo>
                        <a:pt x="825" y="278"/>
                      </a:lnTo>
                      <a:lnTo>
                        <a:pt x="845" y="328"/>
                      </a:lnTo>
                      <a:lnTo>
                        <a:pt x="860" y="380"/>
                      </a:lnTo>
                      <a:lnTo>
                        <a:pt x="869" y="432"/>
                      </a:lnTo>
                      <a:lnTo>
                        <a:pt x="872" y="486"/>
                      </a:lnTo>
                      <a:lnTo>
                        <a:pt x="869" y="540"/>
                      </a:lnTo>
                      <a:lnTo>
                        <a:pt x="860" y="593"/>
                      </a:lnTo>
                      <a:lnTo>
                        <a:pt x="845" y="645"/>
                      </a:lnTo>
                      <a:lnTo>
                        <a:pt x="825" y="694"/>
                      </a:lnTo>
                      <a:lnTo>
                        <a:pt x="798" y="742"/>
                      </a:lnTo>
                      <a:lnTo>
                        <a:pt x="767" y="787"/>
                      </a:lnTo>
                      <a:lnTo>
                        <a:pt x="731" y="828"/>
                      </a:lnTo>
                      <a:lnTo>
                        <a:pt x="691" y="867"/>
                      </a:lnTo>
                      <a:lnTo>
                        <a:pt x="646" y="901"/>
                      </a:lnTo>
                      <a:lnTo>
                        <a:pt x="598" y="929"/>
                      </a:lnTo>
                      <a:lnTo>
                        <a:pt x="546" y="954"/>
                      </a:lnTo>
                      <a:lnTo>
                        <a:pt x="492" y="973"/>
                      </a:lnTo>
                      <a:lnTo>
                        <a:pt x="437" y="987"/>
                      </a:lnTo>
                      <a:lnTo>
                        <a:pt x="380" y="995"/>
                      </a:lnTo>
                      <a:lnTo>
                        <a:pt x="323" y="998"/>
                      </a:lnTo>
                      <a:lnTo>
                        <a:pt x="265" y="995"/>
                      </a:lnTo>
                      <a:lnTo>
                        <a:pt x="208" y="987"/>
                      </a:lnTo>
                      <a:lnTo>
                        <a:pt x="153" y="973"/>
                      </a:lnTo>
                      <a:lnTo>
                        <a:pt x="100" y="954"/>
                      </a:lnTo>
                      <a:lnTo>
                        <a:pt x="49" y="929"/>
                      </a:lnTo>
                      <a:lnTo>
                        <a:pt x="0" y="901"/>
                      </a:lnTo>
                      <a:lnTo>
                        <a:pt x="31" y="860"/>
                      </a:lnTo>
                      <a:lnTo>
                        <a:pt x="76" y="886"/>
                      </a:lnTo>
                      <a:lnTo>
                        <a:pt x="122" y="908"/>
                      </a:lnTo>
                      <a:lnTo>
                        <a:pt x="170" y="925"/>
                      </a:lnTo>
                      <a:lnTo>
                        <a:pt x="220" y="938"/>
                      </a:lnTo>
                      <a:lnTo>
                        <a:pt x="270" y="945"/>
                      </a:lnTo>
                      <a:lnTo>
                        <a:pt x="323" y="948"/>
                      </a:lnTo>
                      <a:lnTo>
                        <a:pt x="374" y="945"/>
                      </a:lnTo>
                      <a:lnTo>
                        <a:pt x="426" y="938"/>
                      </a:lnTo>
                      <a:lnTo>
                        <a:pt x="476" y="925"/>
                      </a:lnTo>
                      <a:lnTo>
                        <a:pt x="525" y="908"/>
                      </a:lnTo>
                      <a:lnTo>
                        <a:pt x="571" y="886"/>
                      </a:lnTo>
                      <a:lnTo>
                        <a:pt x="614" y="860"/>
                      </a:lnTo>
                      <a:lnTo>
                        <a:pt x="654" y="830"/>
                      </a:lnTo>
                      <a:lnTo>
                        <a:pt x="691" y="796"/>
                      </a:lnTo>
                      <a:lnTo>
                        <a:pt x="723" y="758"/>
                      </a:lnTo>
                      <a:lnTo>
                        <a:pt x="752" y="716"/>
                      </a:lnTo>
                      <a:lnTo>
                        <a:pt x="776" y="674"/>
                      </a:lnTo>
                      <a:lnTo>
                        <a:pt x="795" y="630"/>
                      </a:lnTo>
                      <a:lnTo>
                        <a:pt x="807" y="582"/>
                      </a:lnTo>
                      <a:lnTo>
                        <a:pt x="815" y="534"/>
                      </a:lnTo>
                      <a:lnTo>
                        <a:pt x="818" y="486"/>
                      </a:lnTo>
                      <a:lnTo>
                        <a:pt x="815" y="437"/>
                      </a:lnTo>
                      <a:lnTo>
                        <a:pt x="807" y="390"/>
                      </a:lnTo>
                      <a:lnTo>
                        <a:pt x="795" y="343"/>
                      </a:lnTo>
                      <a:lnTo>
                        <a:pt x="776" y="299"/>
                      </a:lnTo>
                      <a:lnTo>
                        <a:pt x="752" y="255"/>
                      </a:lnTo>
                      <a:lnTo>
                        <a:pt x="723" y="215"/>
                      </a:lnTo>
                      <a:lnTo>
                        <a:pt x="691" y="177"/>
                      </a:lnTo>
                      <a:lnTo>
                        <a:pt x="654" y="143"/>
                      </a:lnTo>
                      <a:lnTo>
                        <a:pt x="614" y="113"/>
                      </a:lnTo>
                      <a:lnTo>
                        <a:pt x="571" y="87"/>
                      </a:lnTo>
                      <a:lnTo>
                        <a:pt x="525" y="64"/>
                      </a:lnTo>
                      <a:lnTo>
                        <a:pt x="476" y="48"/>
                      </a:lnTo>
                      <a:lnTo>
                        <a:pt x="477" y="44"/>
                      </a:lnTo>
                      <a:lnTo>
                        <a:pt x="492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f9deb3"/>
                    </a:gs>
                    <a:gs pos="100000">
                      <a:srgbClr val="f6bf69"/>
                    </a:gs>
                  </a:gsLst>
                  <a:lin ang="5400000"/>
                </a:gradFill>
                <a:ln w="0">
                  <a:noFill/>
                </a:ln>
                <a:effectLst>
                  <a:outerShdw dist="107932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flipV="1">
                  <a:off x="5995800" y="4198680"/>
                  <a:ext cx="114480" cy="257040"/>
                </a:xfrm>
                <a:prstGeom prst="line">
                  <a:avLst/>
                </a:prstGeom>
                <a:ln w="25560">
                  <a:solidFill>
                    <a:srgbClr val="f6bf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 flipV="1">
                  <a:off x="6772320" y="2968560"/>
                  <a:ext cx="12600" cy="97920"/>
                </a:xfrm>
                <a:prstGeom prst="line">
                  <a:avLst/>
                </a:prstGeom>
                <a:ln w="25560">
                  <a:solidFill>
                    <a:srgbClr val="3365f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6110280" y="4448160"/>
                  <a:ext cx="809640" cy="137520"/>
                </a:xfrm>
                <a:custGeom>
                  <a:avLst/>
                  <a:gdLst/>
                  <a:ahLst/>
                  <a:rect l="l" t="t" r="r" b="b"/>
                  <a:pathLst>
                    <a:path w="510" h="87">
                      <a:moveTo>
                        <a:pt x="2" y="55"/>
                      </a:moveTo>
                      <a:lnTo>
                        <a:pt x="12" y="45"/>
                      </a:lnTo>
                      <a:lnTo>
                        <a:pt x="27" y="37"/>
                      </a:lnTo>
                      <a:lnTo>
                        <a:pt x="54" y="24"/>
                      </a:lnTo>
                      <a:lnTo>
                        <a:pt x="85" y="17"/>
                      </a:lnTo>
                      <a:lnTo>
                        <a:pt x="114" y="11"/>
                      </a:lnTo>
                      <a:lnTo>
                        <a:pt x="153" y="5"/>
                      </a:lnTo>
                      <a:lnTo>
                        <a:pt x="190" y="2"/>
                      </a:lnTo>
                      <a:lnTo>
                        <a:pt x="234" y="0"/>
                      </a:lnTo>
                      <a:lnTo>
                        <a:pt x="288" y="1"/>
                      </a:lnTo>
                      <a:lnTo>
                        <a:pt x="343" y="3"/>
                      </a:lnTo>
                      <a:lnTo>
                        <a:pt x="383" y="8"/>
                      </a:lnTo>
                      <a:lnTo>
                        <a:pt x="424" y="15"/>
                      </a:lnTo>
                      <a:lnTo>
                        <a:pt x="463" y="27"/>
                      </a:lnTo>
                      <a:lnTo>
                        <a:pt x="484" y="37"/>
                      </a:lnTo>
                      <a:lnTo>
                        <a:pt x="497" y="46"/>
                      </a:lnTo>
                      <a:lnTo>
                        <a:pt x="509" y="61"/>
                      </a:lnTo>
                      <a:lnTo>
                        <a:pt x="488" y="69"/>
                      </a:lnTo>
                      <a:lnTo>
                        <a:pt x="453" y="75"/>
                      </a:lnTo>
                      <a:lnTo>
                        <a:pt x="410" y="80"/>
                      </a:lnTo>
                      <a:lnTo>
                        <a:pt x="368" y="84"/>
                      </a:lnTo>
                      <a:lnTo>
                        <a:pt x="319" y="85"/>
                      </a:lnTo>
                      <a:lnTo>
                        <a:pt x="265" y="86"/>
                      </a:lnTo>
                      <a:lnTo>
                        <a:pt x="213" y="86"/>
                      </a:lnTo>
                      <a:lnTo>
                        <a:pt x="159" y="85"/>
                      </a:lnTo>
                      <a:lnTo>
                        <a:pt x="99" y="81"/>
                      </a:lnTo>
                      <a:lnTo>
                        <a:pt x="52" y="76"/>
                      </a:lnTo>
                      <a:lnTo>
                        <a:pt x="12" y="68"/>
                      </a:lnTo>
                      <a:lnTo>
                        <a:pt x="0" y="62"/>
                      </a:lnTo>
                      <a:lnTo>
                        <a:pt x="2" y="55"/>
                      </a:lnTo>
                    </a:path>
                  </a:pathLst>
                </a:custGeom>
                <a:solidFill>
                  <a:srgbClr val="f6bf69"/>
                </a:solidFill>
                <a:ln w="0">
                  <a:noFill/>
                </a:ln>
                <a:effectLst>
                  <a:outerShdw dist="107932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 flipV="1">
                  <a:off x="6846840" y="2819160"/>
                  <a:ext cx="15840" cy="106200"/>
                </a:xfrm>
                <a:prstGeom prst="line">
                  <a:avLst/>
                </a:prstGeom>
                <a:ln w="25560">
                  <a:solidFill>
                    <a:srgbClr val="3365f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5740200" y="2984400"/>
                <a:ext cx="1441440" cy="1337760"/>
                <a:chOff x="5740200" y="2984400"/>
                <a:chExt cx="1441440" cy="133776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5740200" y="2984400"/>
                  <a:ext cx="1441440" cy="133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9deb3"/>
                    </a:gs>
                    <a:gs pos="100000">
                      <a:srgbClr val="f6bf69"/>
                    </a:gs>
                  </a:gsLst>
                  <a:lin ang="5400000"/>
                </a:gradFill>
                <a:ln w="0">
                  <a:noFill/>
                </a:ln>
                <a:effectLst>
                  <a:outerShdw dist="107932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6" name=""/>
                <p:cNvGrpSpPr/>
                <p:nvPr/>
              </p:nvGrpSpPr>
              <p:grpSpPr>
                <a:xfrm>
                  <a:off x="5740200" y="3123720"/>
                  <a:ext cx="1341720" cy="992880"/>
                  <a:chOff x="5740200" y="3123720"/>
                  <a:chExt cx="1341720" cy="992880"/>
                </a:xfrm>
              </p:grpSpPr>
              <p:sp>
                <p:nvSpPr>
                  <p:cNvPr id="257" name=""/>
                  <p:cNvSpPr/>
                  <p:nvPr/>
                </p:nvSpPr>
                <p:spPr>
                  <a:xfrm>
                    <a:off x="5929200" y="3486960"/>
                    <a:ext cx="180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8">
                        <a:moveTo>
                          <a:pt x="0" y="0"/>
                        </a:moveTo>
                        <a:lnTo>
                          <a:pt x="0" y="7"/>
                        </a:lnTo>
                        <a:lnTo>
                          <a:pt x="0" y="7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3365fb"/>
                  </a:solidFill>
                  <a:ln w="0">
                    <a:noFill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5954760" y="3513960"/>
                    <a:ext cx="612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5">
                        <a:moveTo>
                          <a:pt x="0" y="0"/>
                        </a:moveTo>
                        <a:lnTo>
                          <a:pt x="3" y="0"/>
                        </a:lnTo>
                        <a:lnTo>
                          <a:pt x="3" y="4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3365fb"/>
                  </a:solidFill>
                  <a:ln w="0">
                    <a:noFill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6029280" y="3479040"/>
                    <a:ext cx="5076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27">
                        <a:moveTo>
                          <a:pt x="31" y="0"/>
                        </a:moveTo>
                        <a:lnTo>
                          <a:pt x="19" y="0"/>
                        </a:lnTo>
                        <a:lnTo>
                          <a:pt x="13" y="7"/>
                        </a:lnTo>
                        <a:lnTo>
                          <a:pt x="8" y="7"/>
                        </a:lnTo>
                        <a:lnTo>
                          <a:pt x="5" y="11"/>
                        </a:lnTo>
                        <a:lnTo>
                          <a:pt x="0" y="11"/>
                        </a:lnTo>
                        <a:lnTo>
                          <a:pt x="0" y="20"/>
                        </a:lnTo>
                        <a:lnTo>
                          <a:pt x="7" y="26"/>
                        </a:lnTo>
                        <a:lnTo>
                          <a:pt x="25" y="26"/>
                        </a:lnTo>
                        <a:lnTo>
                          <a:pt x="31" y="20"/>
                        </a:lnTo>
                        <a:lnTo>
                          <a:pt x="31" y="0"/>
                        </a:lnTo>
                      </a:path>
                    </a:pathLst>
                  </a:custGeom>
                  <a:solidFill>
                    <a:srgbClr val="3365fb"/>
                  </a:solidFill>
                  <a:ln w="0">
                    <a:noFill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" bIns="-4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5740200" y="3512160"/>
                    <a:ext cx="433440" cy="525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" h="331">
                        <a:moveTo>
                          <a:pt x="65" y="0"/>
                        </a:moveTo>
                        <a:lnTo>
                          <a:pt x="60" y="9"/>
                        </a:lnTo>
                        <a:lnTo>
                          <a:pt x="39" y="26"/>
                        </a:lnTo>
                        <a:lnTo>
                          <a:pt x="34" y="43"/>
                        </a:lnTo>
                        <a:lnTo>
                          <a:pt x="18" y="54"/>
                        </a:lnTo>
                        <a:lnTo>
                          <a:pt x="7" y="76"/>
                        </a:lnTo>
                        <a:lnTo>
                          <a:pt x="7" y="89"/>
                        </a:lnTo>
                        <a:lnTo>
                          <a:pt x="0" y="113"/>
                        </a:lnTo>
                        <a:lnTo>
                          <a:pt x="10" y="123"/>
                        </a:lnTo>
                        <a:lnTo>
                          <a:pt x="34" y="153"/>
                        </a:lnTo>
                        <a:lnTo>
                          <a:pt x="41" y="149"/>
                        </a:lnTo>
                        <a:lnTo>
                          <a:pt x="84" y="149"/>
                        </a:lnTo>
                        <a:lnTo>
                          <a:pt x="104" y="157"/>
                        </a:lnTo>
                        <a:lnTo>
                          <a:pt x="102" y="180"/>
                        </a:lnTo>
                        <a:lnTo>
                          <a:pt x="117" y="211"/>
                        </a:lnTo>
                        <a:lnTo>
                          <a:pt x="116" y="219"/>
                        </a:lnTo>
                        <a:lnTo>
                          <a:pt x="122" y="229"/>
                        </a:lnTo>
                        <a:lnTo>
                          <a:pt x="113" y="251"/>
                        </a:lnTo>
                        <a:lnTo>
                          <a:pt x="123" y="278"/>
                        </a:lnTo>
                        <a:lnTo>
                          <a:pt x="129" y="300"/>
                        </a:lnTo>
                        <a:lnTo>
                          <a:pt x="137" y="313"/>
                        </a:lnTo>
                        <a:lnTo>
                          <a:pt x="144" y="330"/>
                        </a:lnTo>
                        <a:lnTo>
                          <a:pt x="159" y="328"/>
                        </a:lnTo>
                        <a:lnTo>
                          <a:pt x="183" y="315"/>
                        </a:lnTo>
                        <a:lnTo>
                          <a:pt x="194" y="300"/>
                        </a:lnTo>
                        <a:lnTo>
                          <a:pt x="193" y="290"/>
                        </a:lnTo>
                        <a:lnTo>
                          <a:pt x="207" y="281"/>
                        </a:lnTo>
                        <a:lnTo>
                          <a:pt x="204" y="267"/>
                        </a:lnTo>
                        <a:lnTo>
                          <a:pt x="225" y="243"/>
                        </a:lnTo>
                        <a:lnTo>
                          <a:pt x="228" y="224"/>
                        </a:lnTo>
                        <a:lnTo>
                          <a:pt x="223" y="218"/>
                        </a:lnTo>
                        <a:lnTo>
                          <a:pt x="225" y="210"/>
                        </a:lnTo>
                        <a:lnTo>
                          <a:pt x="220" y="202"/>
                        </a:lnTo>
                        <a:lnTo>
                          <a:pt x="236" y="184"/>
                        </a:lnTo>
                        <a:lnTo>
                          <a:pt x="236" y="175"/>
                        </a:lnTo>
                        <a:lnTo>
                          <a:pt x="258" y="159"/>
                        </a:lnTo>
                        <a:lnTo>
                          <a:pt x="272" y="116"/>
                        </a:lnTo>
                        <a:lnTo>
                          <a:pt x="252" y="128"/>
                        </a:lnTo>
                        <a:lnTo>
                          <a:pt x="234" y="122"/>
                        </a:lnTo>
                        <a:lnTo>
                          <a:pt x="237" y="112"/>
                        </a:lnTo>
                        <a:lnTo>
                          <a:pt x="219" y="101"/>
                        </a:lnTo>
                        <a:lnTo>
                          <a:pt x="211" y="74"/>
                        </a:lnTo>
                        <a:lnTo>
                          <a:pt x="194" y="53"/>
                        </a:lnTo>
                        <a:lnTo>
                          <a:pt x="194" y="37"/>
                        </a:lnTo>
                        <a:lnTo>
                          <a:pt x="185" y="36"/>
                        </a:lnTo>
                        <a:lnTo>
                          <a:pt x="179" y="39"/>
                        </a:lnTo>
                        <a:lnTo>
                          <a:pt x="153" y="30"/>
                        </a:lnTo>
                        <a:lnTo>
                          <a:pt x="147" y="36"/>
                        </a:lnTo>
                        <a:lnTo>
                          <a:pt x="141" y="44"/>
                        </a:lnTo>
                        <a:lnTo>
                          <a:pt x="128" y="30"/>
                        </a:lnTo>
                        <a:lnTo>
                          <a:pt x="114" y="26"/>
                        </a:lnTo>
                        <a:lnTo>
                          <a:pt x="113" y="8"/>
                        </a:lnTo>
                        <a:lnTo>
                          <a:pt x="93" y="11"/>
                        </a:lnTo>
                        <a:lnTo>
                          <a:pt x="81" y="7"/>
                        </a:lnTo>
                        <a:lnTo>
                          <a:pt x="65" y="0"/>
                        </a:lnTo>
                      </a:path>
                    </a:pathLst>
                  </a:custGeom>
                  <a:solidFill>
                    <a:srgbClr val="3365fb"/>
                  </a:solidFill>
                  <a:ln w="0">
                    <a:noFill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6743520" y="3643920"/>
                    <a:ext cx="1620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6">
                        <a:moveTo>
                          <a:pt x="4" y="0"/>
                        </a:moveTo>
                        <a:lnTo>
                          <a:pt x="5" y="5"/>
                        </a:lnTo>
                        <a:lnTo>
                          <a:pt x="4" y="8"/>
                        </a:lnTo>
                        <a:lnTo>
                          <a:pt x="4" y="10"/>
                        </a:lnTo>
                        <a:lnTo>
                          <a:pt x="9" y="13"/>
                        </a:lnTo>
                        <a:lnTo>
                          <a:pt x="9" y="15"/>
                        </a:lnTo>
                        <a:lnTo>
                          <a:pt x="5" y="13"/>
                        </a:lnTo>
                        <a:lnTo>
                          <a:pt x="2" y="15"/>
                        </a:lnTo>
                        <a:lnTo>
                          <a:pt x="0" y="13"/>
                        </a:lnTo>
                        <a:lnTo>
                          <a:pt x="2" y="10"/>
                        </a:lnTo>
                        <a:lnTo>
                          <a:pt x="0" y="8"/>
                        </a:lnTo>
                        <a:lnTo>
                          <a:pt x="2" y="2"/>
                        </a:lnTo>
                        <a:lnTo>
                          <a:pt x="4" y="0"/>
                        </a:lnTo>
                      </a:path>
                    </a:pathLst>
                  </a:custGeom>
                  <a:solidFill>
                    <a:srgbClr val="3365fb"/>
                  </a:solidFill>
                  <a:ln w="0">
                    <a:noFill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6661080" y="3751920"/>
                    <a:ext cx="65160" cy="8856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56">
                        <a:moveTo>
                          <a:pt x="0" y="28"/>
                        </a:moveTo>
                        <a:lnTo>
                          <a:pt x="15" y="28"/>
                        </a:lnTo>
                        <a:lnTo>
                          <a:pt x="31" y="0"/>
                        </a:lnTo>
                        <a:lnTo>
                          <a:pt x="40" y="16"/>
                        </a:lnTo>
                        <a:lnTo>
                          <a:pt x="33" y="55"/>
                        </a:lnTo>
                        <a:lnTo>
                          <a:pt x="3" y="46"/>
                        </a:lnTo>
                        <a:lnTo>
                          <a:pt x="0" y="28"/>
                        </a:lnTo>
                      </a:path>
                    </a:pathLst>
                  </a:custGeom>
                  <a:solidFill>
                    <a:srgbClr val="3365fb"/>
                  </a:solidFill>
                  <a:ln w="0">
                    <a:noFill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6791400" y="3785400"/>
                    <a:ext cx="112680" cy="85320"/>
                  </a:xfrm>
                  <a:custGeom>
                    <a:avLst/>
                    <a:gdLst/>
                    <a:ahLst/>
                    <a:rect l="l" t="t" r="r" b="b"/>
                    <a:pathLst>
                      <a:path w="71" h="54">
                        <a:moveTo>
                          <a:pt x="4" y="13"/>
                        </a:moveTo>
                        <a:lnTo>
                          <a:pt x="0" y="0"/>
                        </a:lnTo>
                        <a:lnTo>
                          <a:pt x="24" y="5"/>
                        </a:lnTo>
                        <a:lnTo>
                          <a:pt x="57" y="18"/>
                        </a:lnTo>
                        <a:lnTo>
                          <a:pt x="57" y="28"/>
                        </a:lnTo>
                        <a:lnTo>
                          <a:pt x="70" y="53"/>
                        </a:lnTo>
                        <a:lnTo>
                          <a:pt x="44" y="29"/>
                        </a:lnTo>
                        <a:lnTo>
                          <a:pt x="27" y="31"/>
                        </a:lnTo>
                        <a:lnTo>
                          <a:pt x="4" y="13"/>
                        </a:lnTo>
                      </a:path>
                    </a:pathLst>
                  </a:custGeom>
                  <a:solidFill>
                    <a:srgbClr val="3365fb"/>
                  </a:solidFill>
                  <a:ln w="0">
                    <a:noFill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520" bIns="38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7005600" y="3956760"/>
                    <a:ext cx="763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58">
                        <a:moveTo>
                          <a:pt x="29" y="0"/>
                        </a:moveTo>
                        <a:lnTo>
                          <a:pt x="47" y="17"/>
                        </a:lnTo>
                        <a:lnTo>
                          <a:pt x="10" y="57"/>
                        </a:lnTo>
                        <a:lnTo>
                          <a:pt x="0" y="48"/>
                        </a:lnTo>
                        <a:lnTo>
                          <a:pt x="27" y="22"/>
                        </a:lnTo>
                        <a:lnTo>
                          <a:pt x="29" y="0"/>
                        </a:lnTo>
                      </a:path>
                    </a:pathLst>
                  </a:custGeom>
                  <a:solidFill>
                    <a:srgbClr val="3365fb"/>
                  </a:solidFill>
                  <a:ln w="0">
                    <a:noFill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5875200" y="3344040"/>
                    <a:ext cx="38160" cy="5832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7">
                        <a:moveTo>
                          <a:pt x="23" y="28"/>
                        </a:moveTo>
                        <a:lnTo>
                          <a:pt x="17" y="24"/>
                        </a:lnTo>
                        <a:lnTo>
                          <a:pt x="17" y="8"/>
                        </a:lnTo>
                        <a:lnTo>
                          <a:pt x="20" y="5"/>
                        </a:lnTo>
                        <a:lnTo>
                          <a:pt x="15" y="5"/>
                        </a:lnTo>
                        <a:lnTo>
                          <a:pt x="18" y="0"/>
                        </a:lnTo>
                        <a:lnTo>
                          <a:pt x="14" y="0"/>
                        </a:lnTo>
                        <a:lnTo>
                          <a:pt x="8" y="5"/>
                        </a:lnTo>
                        <a:lnTo>
                          <a:pt x="8" y="15"/>
                        </a:lnTo>
                        <a:lnTo>
                          <a:pt x="11" y="17"/>
                        </a:lnTo>
                        <a:lnTo>
                          <a:pt x="11" y="22"/>
                        </a:lnTo>
                        <a:lnTo>
                          <a:pt x="9" y="22"/>
                        </a:lnTo>
                        <a:lnTo>
                          <a:pt x="5" y="25"/>
                        </a:lnTo>
                        <a:lnTo>
                          <a:pt x="5" y="29"/>
                        </a:lnTo>
                        <a:lnTo>
                          <a:pt x="0" y="36"/>
                        </a:lnTo>
                        <a:lnTo>
                          <a:pt x="17" y="36"/>
                        </a:lnTo>
                        <a:lnTo>
                          <a:pt x="23" y="28"/>
                        </a:lnTo>
                      </a:path>
                    </a:pathLst>
                  </a:custGeom>
                  <a:solidFill>
                    <a:srgbClr val="3365fb"/>
                  </a:solidFill>
                  <a:ln w="0">
                    <a:noFill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520" bIns="11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5862600" y="3363120"/>
                    <a:ext cx="2052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10" y="4"/>
                        </a:moveTo>
                        <a:lnTo>
                          <a:pt x="12" y="4"/>
                        </a:lnTo>
                        <a:lnTo>
                          <a:pt x="12" y="0"/>
                        </a:lnTo>
                        <a:lnTo>
                          <a:pt x="8" y="0"/>
                        </a:lnTo>
                        <a:lnTo>
                          <a:pt x="0" y="8"/>
                        </a:lnTo>
                        <a:lnTo>
                          <a:pt x="0" y="12"/>
                        </a:lnTo>
                        <a:lnTo>
                          <a:pt x="7" y="12"/>
                        </a:lnTo>
                        <a:lnTo>
                          <a:pt x="10" y="9"/>
                        </a:lnTo>
                        <a:lnTo>
                          <a:pt x="10" y="4"/>
                        </a:lnTo>
                      </a:path>
                    </a:pathLst>
                  </a:custGeom>
                  <a:solidFill>
                    <a:srgbClr val="3365fb"/>
                  </a:solidFill>
                  <a:ln w="0">
                    <a:noFill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5832360" y="3328200"/>
                    <a:ext cx="247680" cy="19332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122">
                        <a:moveTo>
                          <a:pt x="102" y="0"/>
                        </a:moveTo>
                        <a:lnTo>
                          <a:pt x="102" y="8"/>
                        </a:lnTo>
                        <a:lnTo>
                          <a:pt x="105" y="11"/>
                        </a:lnTo>
                        <a:lnTo>
                          <a:pt x="122" y="11"/>
                        </a:lnTo>
                        <a:lnTo>
                          <a:pt x="122" y="16"/>
                        </a:lnTo>
                        <a:lnTo>
                          <a:pt x="110" y="16"/>
                        </a:lnTo>
                        <a:lnTo>
                          <a:pt x="110" y="29"/>
                        </a:lnTo>
                        <a:lnTo>
                          <a:pt x="105" y="23"/>
                        </a:lnTo>
                        <a:lnTo>
                          <a:pt x="105" y="32"/>
                        </a:lnTo>
                        <a:lnTo>
                          <a:pt x="97" y="39"/>
                        </a:lnTo>
                        <a:lnTo>
                          <a:pt x="93" y="35"/>
                        </a:lnTo>
                        <a:lnTo>
                          <a:pt x="85" y="41"/>
                        </a:lnTo>
                        <a:lnTo>
                          <a:pt x="84" y="39"/>
                        </a:lnTo>
                        <a:lnTo>
                          <a:pt x="74" y="39"/>
                        </a:lnTo>
                        <a:lnTo>
                          <a:pt x="80" y="33"/>
                        </a:lnTo>
                        <a:lnTo>
                          <a:pt x="80" y="31"/>
                        </a:lnTo>
                        <a:lnTo>
                          <a:pt x="75" y="27"/>
                        </a:lnTo>
                        <a:lnTo>
                          <a:pt x="75" y="21"/>
                        </a:lnTo>
                        <a:lnTo>
                          <a:pt x="69" y="27"/>
                        </a:lnTo>
                        <a:lnTo>
                          <a:pt x="69" y="39"/>
                        </a:lnTo>
                        <a:lnTo>
                          <a:pt x="62" y="39"/>
                        </a:lnTo>
                        <a:lnTo>
                          <a:pt x="53" y="47"/>
                        </a:lnTo>
                        <a:lnTo>
                          <a:pt x="49" y="47"/>
                        </a:lnTo>
                        <a:lnTo>
                          <a:pt x="44" y="53"/>
                        </a:lnTo>
                        <a:lnTo>
                          <a:pt x="26" y="53"/>
                        </a:lnTo>
                        <a:lnTo>
                          <a:pt x="32" y="61"/>
                        </a:lnTo>
                        <a:lnTo>
                          <a:pt x="32" y="73"/>
                        </a:lnTo>
                        <a:lnTo>
                          <a:pt x="26" y="80"/>
                        </a:lnTo>
                        <a:lnTo>
                          <a:pt x="19" y="73"/>
                        </a:lnTo>
                        <a:lnTo>
                          <a:pt x="5" y="73"/>
                        </a:lnTo>
                        <a:lnTo>
                          <a:pt x="5" y="82"/>
                        </a:lnTo>
                        <a:lnTo>
                          <a:pt x="0" y="88"/>
                        </a:lnTo>
                        <a:lnTo>
                          <a:pt x="0" y="100"/>
                        </a:lnTo>
                        <a:lnTo>
                          <a:pt x="9" y="109"/>
                        </a:lnTo>
                        <a:lnTo>
                          <a:pt x="22" y="109"/>
                        </a:lnTo>
                        <a:lnTo>
                          <a:pt x="43" y="86"/>
                        </a:lnTo>
                        <a:lnTo>
                          <a:pt x="61" y="86"/>
                        </a:lnTo>
                        <a:lnTo>
                          <a:pt x="64" y="82"/>
                        </a:lnTo>
                        <a:lnTo>
                          <a:pt x="68" y="86"/>
                        </a:lnTo>
                        <a:lnTo>
                          <a:pt x="67" y="90"/>
                        </a:lnTo>
                        <a:lnTo>
                          <a:pt x="85" y="106"/>
                        </a:lnTo>
                        <a:lnTo>
                          <a:pt x="85" y="113"/>
                        </a:lnTo>
                        <a:lnTo>
                          <a:pt x="88" y="110"/>
                        </a:lnTo>
                        <a:lnTo>
                          <a:pt x="87" y="106"/>
                        </a:lnTo>
                        <a:lnTo>
                          <a:pt x="88" y="104"/>
                        </a:lnTo>
                        <a:lnTo>
                          <a:pt x="91" y="106"/>
                        </a:lnTo>
                        <a:lnTo>
                          <a:pt x="93" y="106"/>
                        </a:lnTo>
                        <a:lnTo>
                          <a:pt x="74" y="85"/>
                        </a:lnTo>
                        <a:lnTo>
                          <a:pt x="74" y="78"/>
                        </a:lnTo>
                        <a:lnTo>
                          <a:pt x="80" y="78"/>
                        </a:lnTo>
                        <a:lnTo>
                          <a:pt x="80" y="82"/>
                        </a:lnTo>
                        <a:lnTo>
                          <a:pt x="97" y="100"/>
                        </a:lnTo>
                        <a:lnTo>
                          <a:pt x="97" y="106"/>
                        </a:lnTo>
                        <a:lnTo>
                          <a:pt x="105" y="114"/>
                        </a:lnTo>
                        <a:lnTo>
                          <a:pt x="103" y="116"/>
                        </a:lnTo>
                        <a:lnTo>
                          <a:pt x="108" y="121"/>
                        </a:lnTo>
                        <a:lnTo>
                          <a:pt x="116" y="113"/>
                        </a:lnTo>
                        <a:lnTo>
                          <a:pt x="111" y="107"/>
                        </a:lnTo>
                        <a:lnTo>
                          <a:pt x="116" y="102"/>
                        </a:lnTo>
                        <a:lnTo>
                          <a:pt x="123" y="102"/>
                        </a:lnTo>
                        <a:lnTo>
                          <a:pt x="126" y="100"/>
                        </a:lnTo>
                        <a:lnTo>
                          <a:pt x="130" y="100"/>
                        </a:lnTo>
                        <a:lnTo>
                          <a:pt x="124" y="93"/>
                        </a:lnTo>
                        <a:lnTo>
                          <a:pt x="127" y="89"/>
                        </a:lnTo>
                        <a:lnTo>
                          <a:pt x="127" y="77"/>
                        </a:lnTo>
                        <a:lnTo>
                          <a:pt x="133" y="71"/>
                        </a:lnTo>
                        <a:lnTo>
                          <a:pt x="136" y="73"/>
                        </a:lnTo>
                        <a:lnTo>
                          <a:pt x="141" y="73"/>
                        </a:lnTo>
                        <a:lnTo>
                          <a:pt x="139" y="77"/>
                        </a:lnTo>
                        <a:lnTo>
                          <a:pt x="144" y="82"/>
                        </a:lnTo>
                        <a:lnTo>
                          <a:pt x="147" y="77"/>
                        </a:lnTo>
                        <a:lnTo>
                          <a:pt x="150" y="77"/>
                        </a:lnTo>
                        <a:lnTo>
                          <a:pt x="150" y="76"/>
                        </a:lnTo>
                        <a:lnTo>
                          <a:pt x="148" y="76"/>
                        </a:lnTo>
                        <a:lnTo>
                          <a:pt x="145" y="73"/>
                        </a:lnTo>
                        <a:lnTo>
                          <a:pt x="153" y="64"/>
                        </a:lnTo>
                        <a:lnTo>
                          <a:pt x="153" y="77"/>
                        </a:lnTo>
                        <a:lnTo>
                          <a:pt x="155" y="77"/>
                        </a:lnTo>
                        <a:lnTo>
                          <a:pt x="155" y="0"/>
                        </a:lnTo>
                        <a:lnTo>
                          <a:pt x="102" y="0"/>
                        </a:lnTo>
                      </a:path>
                    </a:pathLst>
                  </a:custGeom>
                  <a:solidFill>
                    <a:srgbClr val="3365fb"/>
                  </a:solidFill>
                  <a:ln w="0">
                    <a:noFill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5937120" y="3123720"/>
                    <a:ext cx="1047960" cy="690120"/>
                  </a:xfrm>
                  <a:custGeom>
                    <a:avLst/>
                    <a:gdLst/>
                    <a:ahLst/>
                    <a:rect l="l" t="t" r="r" b="b"/>
                    <a:pathLst>
                      <a:path w="660" h="435">
                        <a:moveTo>
                          <a:pt x="0" y="128"/>
                        </a:moveTo>
                        <a:lnTo>
                          <a:pt x="19" y="114"/>
                        </a:lnTo>
                        <a:lnTo>
                          <a:pt x="38" y="88"/>
                        </a:lnTo>
                        <a:lnTo>
                          <a:pt x="60" y="76"/>
                        </a:lnTo>
                        <a:lnTo>
                          <a:pt x="83" y="91"/>
                        </a:lnTo>
                        <a:lnTo>
                          <a:pt x="86" y="102"/>
                        </a:lnTo>
                        <a:lnTo>
                          <a:pt x="81" y="102"/>
                        </a:lnTo>
                        <a:lnTo>
                          <a:pt x="71" y="101"/>
                        </a:lnTo>
                        <a:lnTo>
                          <a:pt x="83" y="114"/>
                        </a:lnTo>
                        <a:lnTo>
                          <a:pt x="131" y="97"/>
                        </a:lnTo>
                        <a:lnTo>
                          <a:pt x="125" y="84"/>
                        </a:lnTo>
                        <a:lnTo>
                          <a:pt x="145" y="62"/>
                        </a:lnTo>
                        <a:lnTo>
                          <a:pt x="159" y="63"/>
                        </a:lnTo>
                        <a:lnTo>
                          <a:pt x="146" y="70"/>
                        </a:lnTo>
                        <a:lnTo>
                          <a:pt x="135" y="87"/>
                        </a:lnTo>
                        <a:lnTo>
                          <a:pt x="135" y="97"/>
                        </a:lnTo>
                        <a:lnTo>
                          <a:pt x="154" y="109"/>
                        </a:lnTo>
                        <a:lnTo>
                          <a:pt x="182" y="75"/>
                        </a:lnTo>
                        <a:lnTo>
                          <a:pt x="279" y="35"/>
                        </a:lnTo>
                        <a:lnTo>
                          <a:pt x="279" y="13"/>
                        </a:lnTo>
                        <a:lnTo>
                          <a:pt x="323" y="4"/>
                        </a:lnTo>
                        <a:lnTo>
                          <a:pt x="348" y="16"/>
                        </a:lnTo>
                        <a:lnTo>
                          <a:pt x="406" y="0"/>
                        </a:lnTo>
                        <a:lnTo>
                          <a:pt x="425" y="8"/>
                        </a:lnTo>
                        <a:lnTo>
                          <a:pt x="464" y="48"/>
                        </a:lnTo>
                        <a:lnTo>
                          <a:pt x="509" y="40"/>
                        </a:lnTo>
                        <a:lnTo>
                          <a:pt x="537" y="54"/>
                        </a:lnTo>
                        <a:lnTo>
                          <a:pt x="606" y="51"/>
                        </a:lnTo>
                        <a:lnTo>
                          <a:pt x="659" y="67"/>
                        </a:lnTo>
                        <a:lnTo>
                          <a:pt x="654" y="88"/>
                        </a:lnTo>
                        <a:lnTo>
                          <a:pt x="609" y="102"/>
                        </a:lnTo>
                        <a:lnTo>
                          <a:pt x="617" y="116"/>
                        </a:lnTo>
                        <a:lnTo>
                          <a:pt x="598" y="124"/>
                        </a:lnTo>
                        <a:lnTo>
                          <a:pt x="597" y="152"/>
                        </a:lnTo>
                        <a:lnTo>
                          <a:pt x="580" y="172"/>
                        </a:lnTo>
                        <a:lnTo>
                          <a:pt x="572" y="154"/>
                        </a:lnTo>
                        <a:lnTo>
                          <a:pt x="582" y="138"/>
                        </a:lnTo>
                        <a:lnTo>
                          <a:pt x="580" y="104"/>
                        </a:lnTo>
                        <a:lnTo>
                          <a:pt x="563" y="121"/>
                        </a:lnTo>
                        <a:lnTo>
                          <a:pt x="549" y="131"/>
                        </a:lnTo>
                        <a:lnTo>
                          <a:pt x="535" y="116"/>
                        </a:lnTo>
                        <a:lnTo>
                          <a:pt x="526" y="154"/>
                        </a:lnTo>
                        <a:lnTo>
                          <a:pt x="536" y="154"/>
                        </a:lnTo>
                        <a:lnTo>
                          <a:pt x="534" y="180"/>
                        </a:lnTo>
                        <a:lnTo>
                          <a:pt x="522" y="207"/>
                        </a:lnTo>
                        <a:lnTo>
                          <a:pt x="507" y="218"/>
                        </a:lnTo>
                        <a:lnTo>
                          <a:pt x="519" y="236"/>
                        </a:lnTo>
                        <a:lnTo>
                          <a:pt x="511" y="248"/>
                        </a:lnTo>
                        <a:lnTo>
                          <a:pt x="508" y="237"/>
                        </a:lnTo>
                        <a:lnTo>
                          <a:pt x="508" y="233"/>
                        </a:lnTo>
                        <a:lnTo>
                          <a:pt x="498" y="227"/>
                        </a:lnTo>
                        <a:lnTo>
                          <a:pt x="483" y="235"/>
                        </a:lnTo>
                        <a:lnTo>
                          <a:pt x="497" y="265"/>
                        </a:lnTo>
                        <a:lnTo>
                          <a:pt x="502" y="281"/>
                        </a:lnTo>
                        <a:lnTo>
                          <a:pt x="485" y="322"/>
                        </a:lnTo>
                        <a:lnTo>
                          <a:pt x="455" y="333"/>
                        </a:lnTo>
                        <a:lnTo>
                          <a:pt x="430" y="331"/>
                        </a:lnTo>
                        <a:lnTo>
                          <a:pt x="442" y="347"/>
                        </a:lnTo>
                        <a:lnTo>
                          <a:pt x="443" y="371"/>
                        </a:lnTo>
                        <a:lnTo>
                          <a:pt x="426" y="399"/>
                        </a:lnTo>
                        <a:lnTo>
                          <a:pt x="406" y="384"/>
                        </a:lnTo>
                        <a:lnTo>
                          <a:pt x="403" y="400"/>
                        </a:lnTo>
                        <a:lnTo>
                          <a:pt x="418" y="414"/>
                        </a:lnTo>
                        <a:lnTo>
                          <a:pt x="431" y="434"/>
                        </a:lnTo>
                        <a:lnTo>
                          <a:pt x="409" y="422"/>
                        </a:lnTo>
                        <a:lnTo>
                          <a:pt x="384" y="354"/>
                        </a:lnTo>
                        <a:lnTo>
                          <a:pt x="353" y="335"/>
                        </a:lnTo>
                        <a:lnTo>
                          <a:pt x="330" y="337"/>
                        </a:lnTo>
                        <a:lnTo>
                          <a:pt x="301" y="376"/>
                        </a:lnTo>
                        <a:lnTo>
                          <a:pt x="305" y="390"/>
                        </a:lnTo>
                        <a:lnTo>
                          <a:pt x="295" y="417"/>
                        </a:lnTo>
                        <a:lnTo>
                          <a:pt x="285" y="417"/>
                        </a:lnTo>
                        <a:lnTo>
                          <a:pt x="252" y="359"/>
                        </a:lnTo>
                        <a:lnTo>
                          <a:pt x="252" y="334"/>
                        </a:lnTo>
                        <a:lnTo>
                          <a:pt x="245" y="343"/>
                        </a:lnTo>
                        <a:lnTo>
                          <a:pt x="226" y="343"/>
                        </a:lnTo>
                        <a:lnTo>
                          <a:pt x="233" y="328"/>
                        </a:lnTo>
                        <a:lnTo>
                          <a:pt x="204" y="308"/>
                        </a:lnTo>
                        <a:lnTo>
                          <a:pt x="167" y="308"/>
                        </a:lnTo>
                        <a:lnTo>
                          <a:pt x="135" y="288"/>
                        </a:lnTo>
                        <a:lnTo>
                          <a:pt x="133" y="308"/>
                        </a:lnTo>
                        <a:lnTo>
                          <a:pt x="159" y="326"/>
                        </a:lnTo>
                        <a:lnTo>
                          <a:pt x="168" y="326"/>
                        </a:lnTo>
                        <a:lnTo>
                          <a:pt x="142" y="350"/>
                        </a:lnTo>
                        <a:lnTo>
                          <a:pt x="115" y="356"/>
                        </a:lnTo>
                        <a:lnTo>
                          <a:pt x="115" y="342"/>
                        </a:lnTo>
                        <a:lnTo>
                          <a:pt x="77" y="293"/>
                        </a:lnTo>
                        <a:lnTo>
                          <a:pt x="72" y="280"/>
                        </a:lnTo>
                        <a:lnTo>
                          <a:pt x="93" y="264"/>
                        </a:lnTo>
                        <a:lnTo>
                          <a:pt x="90" y="244"/>
                        </a:lnTo>
                        <a:lnTo>
                          <a:pt x="90" y="222"/>
                        </a:lnTo>
                        <a:lnTo>
                          <a:pt x="101" y="218"/>
                        </a:lnTo>
                        <a:lnTo>
                          <a:pt x="90" y="207"/>
                        </a:lnTo>
                        <a:lnTo>
                          <a:pt x="90" y="128"/>
                        </a:lnTo>
                        <a:lnTo>
                          <a:pt x="37" y="128"/>
                        </a:lnTo>
                        <a:lnTo>
                          <a:pt x="52" y="109"/>
                        </a:lnTo>
                        <a:lnTo>
                          <a:pt x="51" y="102"/>
                        </a:lnTo>
                        <a:lnTo>
                          <a:pt x="33" y="119"/>
                        </a:lnTo>
                        <a:lnTo>
                          <a:pt x="27" y="128"/>
                        </a:lnTo>
                        <a:lnTo>
                          <a:pt x="0" y="128"/>
                        </a:lnTo>
                      </a:path>
                    </a:pathLst>
                  </a:custGeom>
                  <a:solidFill>
                    <a:srgbClr val="3365fb"/>
                  </a:solidFill>
                  <a:ln w="0">
                    <a:noFill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765840" y="3405960"/>
                    <a:ext cx="90360" cy="13932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88">
                        <a:moveTo>
                          <a:pt x="38" y="0"/>
                        </a:moveTo>
                        <a:lnTo>
                          <a:pt x="38" y="11"/>
                        </a:lnTo>
                        <a:lnTo>
                          <a:pt x="33" y="18"/>
                        </a:lnTo>
                        <a:lnTo>
                          <a:pt x="34" y="30"/>
                        </a:lnTo>
                        <a:lnTo>
                          <a:pt x="29" y="46"/>
                        </a:lnTo>
                        <a:lnTo>
                          <a:pt x="19" y="60"/>
                        </a:lnTo>
                        <a:lnTo>
                          <a:pt x="4" y="70"/>
                        </a:lnTo>
                        <a:lnTo>
                          <a:pt x="0" y="86"/>
                        </a:lnTo>
                        <a:lnTo>
                          <a:pt x="6" y="87"/>
                        </a:lnTo>
                        <a:lnTo>
                          <a:pt x="6" y="72"/>
                        </a:lnTo>
                        <a:lnTo>
                          <a:pt x="26" y="71"/>
                        </a:lnTo>
                        <a:lnTo>
                          <a:pt x="42" y="61"/>
                        </a:lnTo>
                        <a:lnTo>
                          <a:pt x="42" y="40"/>
                        </a:lnTo>
                        <a:lnTo>
                          <a:pt x="46" y="33"/>
                        </a:lnTo>
                        <a:lnTo>
                          <a:pt x="38" y="19"/>
                        </a:lnTo>
                        <a:lnTo>
                          <a:pt x="49" y="15"/>
                        </a:lnTo>
                        <a:lnTo>
                          <a:pt x="56" y="4"/>
                        </a:lnTo>
                        <a:lnTo>
                          <a:pt x="42" y="6"/>
                        </a:lnTo>
                        <a:lnTo>
                          <a:pt x="38" y="0"/>
                        </a:lnTo>
                      </a:path>
                    </a:pathLst>
                  </a:custGeom>
                  <a:solidFill>
                    <a:srgbClr val="3365fb"/>
                  </a:solidFill>
                  <a:ln w="0">
                    <a:noFill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6423120" y="3780720"/>
                    <a:ext cx="1728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21">
                        <a:moveTo>
                          <a:pt x="5" y="0"/>
                        </a:moveTo>
                        <a:lnTo>
                          <a:pt x="0" y="9"/>
                        </a:lnTo>
                        <a:lnTo>
                          <a:pt x="3" y="20"/>
                        </a:lnTo>
                        <a:lnTo>
                          <a:pt x="10" y="12"/>
                        </a:lnTo>
                        <a:lnTo>
                          <a:pt x="5" y="0"/>
                        </a:lnTo>
                      </a:path>
                    </a:pathLst>
                  </a:custGeom>
                  <a:solidFill>
                    <a:srgbClr val="3365fb"/>
                  </a:solidFill>
                  <a:ln w="0">
                    <a:noFill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6561000" y="3813840"/>
                    <a:ext cx="211320" cy="85320"/>
                  </a:xfrm>
                  <a:custGeom>
                    <a:avLst/>
                    <a:gdLst/>
                    <a:ahLst/>
                    <a:rect l="l" t="t" r="r" b="b"/>
                    <a:pathLst>
                      <a:path w="133" h="54">
                        <a:moveTo>
                          <a:pt x="0" y="0"/>
                        </a:moveTo>
                        <a:lnTo>
                          <a:pt x="20" y="4"/>
                        </a:lnTo>
                        <a:lnTo>
                          <a:pt x="50" y="24"/>
                        </a:lnTo>
                        <a:lnTo>
                          <a:pt x="45" y="34"/>
                        </a:lnTo>
                        <a:lnTo>
                          <a:pt x="70" y="44"/>
                        </a:lnTo>
                        <a:lnTo>
                          <a:pt x="132" y="44"/>
                        </a:lnTo>
                        <a:lnTo>
                          <a:pt x="64" y="53"/>
                        </a:lnTo>
                        <a:lnTo>
                          <a:pt x="45" y="34"/>
                        </a:lnTo>
                        <a:lnTo>
                          <a:pt x="28" y="3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3365fb"/>
                  </a:solidFill>
                  <a:ln w="0">
                    <a:noFill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520" bIns="38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6729480" y="3882240"/>
                    <a:ext cx="228600" cy="20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27">
                        <a:moveTo>
                          <a:pt x="119" y="123"/>
                        </a:moveTo>
                        <a:lnTo>
                          <a:pt x="115" y="124"/>
                        </a:lnTo>
                        <a:lnTo>
                          <a:pt x="112" y="126"/>
                        </a:lnTo>
                        <a:lnTo>
                          <a:pt x="109" y="122"/>
                        </a:lnTo>
                        <a:lnTo>
                          <a:pt x="96" y="116"/>
                        </a:lnTo>
                        <a:lnTo>
                          <a:pt x="94" y="107"/>
                        </a:lnTo>
                        <a:lnTo>
                          <a:pt x="90" y="104"/>
                        </a:lnTo>
                        <a:lnTo>
                          <a:pt x="79" y="104"/>
                        </a:lnTo>
                        <a:lnTo>
                          <a:pt x="79" y="98"/>
                        </a:lnTo>
                        <a:lnTo>
                          <a:pt x="76" y="96"/>
                        </a:lnTo>
                        <a:lnTo>
                          <a:pt x="75" y="90"/>
                        </a:lnTo>
                        <a:lnTo>
                          <a:pt x="67" y="89"/>
                        </a:lnTo>
                        <a:lnTo>
                          <a:pt x="59" y="87"/>
                        </a:lnTo>
                        <a:lnTo>
                          <a:pt x="53" y="89"/>
                        </a:lnTo>
                        <a:lnTo>
                          <a:pt x="53" y="90"/>
                        </a:lnTo>
                        <a:lnTo>
                          <a:pt x="38" y="94"/>
                        </a:lnTo>
                        <a:lnTo>
                          <a:pt x="38" y="97"/>
                        </a:lnTo>
                        <a:lnTo>
                          <a:pt x="25" y="97"/>
                        </a:lnTo>
                        <a:lnTo>
                          <a:pt x="17" y="101"/>
                        </a:lnTo>
                        <a:lnTo>
                          <a:pt x="9" y="97"/>
                        </a:lnTo>
                        <a:lnTo>
                          <a:pt x="8" y="96"/>
                        </a:lnTo>
                        <a:lnTo>
                          <a:pt x="8" y="87"/>
                        </a:lnTo>
                        <a:lnTo>
                          <a:pt x="6" y="80"/>
                        </a:lnTo>
                        <a:lnTo>
                          <a:pt x="3" y="72"/>
                        </a:lnTo>
                        <a:lnTo>
                          <a:pt x="5" y="67"/>
                        </a:lnTo>
                        <a:lnTo>
                          <a:pt x="2" y="65"/>
                        </a:lnTo>
                        <a:lnTo>
                          <a:pt x="0" y="54"/>
                        </a:lnTo>
                        <a:lnTo>
                          <a:pt x="2" y="45"/>
                        </a:lnTo>
                        <a:lnTo>
                          <a:pt x="10" y="39"/>
                        </a:lnTo>
                        <a:lnTo>
                          <a:pt x="27" y="35"/>
                        </a:lnTo>
                        <a:lnTo>
                          <a:pt x="31" y="29"/>
                        </a:lnTo>
                        <a:lnTo>
                          <a:pt x="29" y="23"/>
                        </a:lnTo>
                        <a:lnTo>
                          <a:pt x="34" y="22"/>
                        </a:lnTo>
                        <a:lnTo>
                          <a:pt x="35" y="25"/>
                        </a:lnTo>
                        <a:lnTo>
                          <a:pt x="37" y="20"/>
                        </a:lnTo>
                        <a:lnTo>
                          <a:pt x="47" y="13"/>
                        </a:lnTo>
                        <a:lnTo>
                          <a:pt x="53" y="16"/>
                        </a:lnTo>
                        <a:lnTo>
                          <a:pt x="59" y="14"/>
                        </a:lnTo>
                        <a:lnTo>
                          <a:pt x="62" y="7"/>
                        </a:lnTo>
                        <a:lnTo>
                          <a:pt x="68" y="6"/>
                        </a:lnTo>
                        <a:lnTo>
                          <a:pt x="67" y="1"/>
                        </a:lnTo>
                        <a:lnTo>
                          <a:pt x="76" y="4"/>
                        </a:lnTo>
                        <a:lnTo>
                          <a:pt x="84" y="3"/>
                        </a:lnTo>
                        <a:lnTo>
                          <a:pt x="88" y="20"/>
                        </a:lnTo>
                        <a:lnTo>
                          <a:pt x="94" y="25"/>
                        </a:lnTo>
                        <a:lnTo>
                          <a:pt x="99" y="25"/>
                        </a:lnTo>
                        <a:lnTo>
                          <a:pt x="102" y="14"/>
                        </a:lnTo>
                        <a:lnTo>
                          <a:pt x="100" y="9"/>
                        </a:lnTo>
                        <a:lnTo>
                          <a:pt x="102" y="1"/>
                        </a:lnTo>
                        <a:lnTo>
                          <a:pt x="105" y="0"/>
                        </a:lnTo>
                        <a:lnTo>
                          <a:pt x="109" y="10"/>
                        </a:lnTo>
                        <a:lnTo>
                          <a:pt x="112" y="13"/>
                        </a:lnTo>
                        <a:lnTo>
                          <a:pt x="115" y="22"/>
                        </a:lnTo>
                        <a:lnTo>
                          <a:pt x="119" y="35"/>
                        </a:lnTo>
                        <a:lnTo>
                          <a:pt x="126" y="38"/>
                        </a:lnTo>
                        <a:lnTo>
                          <a:pt x="133" y="47"/>
                        </a:lnTo>
                        <a:lnTo>
                          <a:pt x="135" y="52"/>
                        </a:lnTo>
                        <a:lnTo>
                          <a:pt x="141" y="58"/>
                        </a:lnTo>
                        <a:lnTo>
                          <a:pt x="143" y="68"/>
                        </a:lnTo>
                        <a:lnTo>
                          <a:pt x="143" y="76"/>
                        </a:lnTo>
                        <a:lnTo>
                          <a:pt x="141" y="89"/>
                        </a:lnTo>
                        <a:lnTo>
                          <a:pt x="135" y="97"/>
                        </a:lnTo>
                        <a:lnTo>
                          <a:pt x="132" y="107"/>
                        </a:lnTo>
                        <a:lnTo>
                          <a:pt x="132" y="116"/>
                        </a:lnTo>
                        <a:lnTo>
                          <a:pt x="126" y="118"/>
                        </a:lnTo>
                        <a:lnTo>
                          <a:pt x="119" y="123"/>
                        </a:lnTo>
                      </a:path>
                    </a:pathLst>
                  </a:custGeom>
                  <a:solidFill>
                    <a:srgbClr val="3365fb"/>
                  </a:solidFill>
                  <a:ln w="0">
                    <a:noFill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6910200" y="4091760"/>
                    <a:ext cx="1764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16">
                        <a:moveTo>
                          <a:pt x="5" y="14"/>
                        </a:moveTo>
                        <a:lnTo>
                          <a:pt x="2" y="11"/>
                        </a:lnTo>
                        <a:lnTo>
                          <a:pt x="2" y="9"/>
                        </a:lnTo>
                        <a:lnTo>
                          <a:pt x="2" y="6"/>
                        </a:lnTo>
                        <a:lnTo>
                          <a:pt x="1" y="4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lnTo>
                          <a:pt x="5" y="2"/>
                        </a:lnTo>
                        <a:lnTo>
                          <a:pt x="7" y="1"/>
                        </a:lnTo>
                        <a:lnTo>
                          <a:pt x="8" y="1"/>
                        </a:lnTo>
                        <a:lnTo>
                          <a:pt x="10" y="0"/>
                        </a:lnTo>
                        <a:lnTo>
                          <a:pt x="10" y="6"/>
                        </a:lnTo>
                        <a:lnTo>
                          <a:pt x="9" y="9"/>
                        </a:lnTo>
                        <a:lnTo>
                          <a:pt x="8" y="11"/>
                        </a:lnTo>
                        <a:lnTo>
                          <a:pt x="8" y="13"/>
                        </a:lnTo>
                        <a:lnTo>
                          <a:pt x="7" y="14"/>
                        </a:lnTo>
                        <a:lnTo>
                          <a:pt x="7" y="15"/>
                        </a:lnTo>
                        <a:lnTo>
                          <a:pt x="5" y="14"/>
                        </a:lnTo>
                      </a:path>
                    </a:pathLst>
                  </a:custGeom>
                  <a:solidFill>
                    <a:srgbClr val="3365fb"/>
                  </a:solidFill>
                  <a:ln w="0">
                    <a:noFill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6118200" y="3866400"/>
                    <a:ext cx="2556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60">
                        <a:moveTo>
                          <a:pt x="2" y="21"/>
                        </a:moveTo>
                        <a:lnTo>
                          <a:pt x="8" y="16"/>
                        </a:lnTo>
                        <a:lnTo>
                          <a:pt x="12" y="0"/>
                        </a:lnTo>
                        <a:lnTo>
                          <a:pt x="15" y="24"/>
                        </a:lnTo>
                        <a:lnTo>
                          <a:pt x="10" y="53"/>
                        </a:lnTo>
                        <a:lnTo>
                          <a:pt x="0" y="59"/>
                        </a:lnTo>
                        <a:lnTo>
                          <a:pt x="0" y="45"/>
                        </a:lnTo>
                        <a:lnTo>
                          <a:pt x="3" y="36"/>
                        </a:lnTo>
                        <a:lnTo>
                          <a:pt x="2" y="21"/>
                        </a:lnTo>
                      </a:path>
                    </a:pathLst>
                  </a:custGeom>
                  <a:solidFill>
                    <a:srgbClr val="3365fb"/>
                  </a:solidFill>
                  <a:ln w="0">
                    <a:noFill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75" name=""/>
            <p:cNvSpPr/>
            <p:nvPr/>
          </p:nvSpPr>
          <p:spPr>
            <a:xfrm>
              <a:off x="7505640" y="2874960"/>
              <a:ext cx="1641600" cy="118620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Geographi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Inform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ystem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76" name=""/>
          <p:cNvGraphicFramePr/>
          <p:nvPr/>
        </p:nvGraphicFramePr>
        <p:xfrm>
          <a:off x="2819520" y="2971800"/>
          <a:ext cx="2462040" cy="1290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819520" y="2971800"/>
                    <a:ext cx="2462040" cy="1290600"/>
                  </a:xfrm>
                  <a:prstGeom prst="rect">
                    <a:avLst/>
                  </a:prstGeom>
                  <a:ln w="12600">
                    <a:solidFill>
                      <a:srgbClr val="0000ff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752120" y="-28080"/>
            <a:ext cx="7239240" cy="153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Scalability Vs. Single System Image</a:t>
            </a:r>
            <a:br>
              <a:rPr sz="3600"/>
            </a:b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457200" y="1447920"/>
          <a:ext cx="8458200" cy="51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458200" cy="5105160"/>
                  </a:xfrm>
                  <a:prstGeom prst="rect">
                    <a:avLst/>
                  </a:prstGeom>
                  <a:ln w="7632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23" name=""/>
          <p:cNvSpPr/>
          <p:nvPr/>
        </p:nvSpPr>
        <p:spPr>
          <a:xfrm>
            <a:off x="7543800" y="5105520"/>
            <a:ext cx="838080" cy="6094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361960" y="153720"/>
            <a:ext cx="662940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SSI Levels/How do we implement SSI ?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It is a computer science notion of levels of abstractions (house is at a higher level of abstraction than walls, ceilings, and floors).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1225440" y="2978280"/>
            <a:ext cx="6921720" cy="825480"/>
            <a:chOff x="1225440" y="2978280"/>
            <a:chExt cx="6921720" cy="825480"/>
          </a:xfrm>
        </p:grpSpPr>
        <p:sp>
          <p:nvSpPr>
            <p:cNvPr id="427" name=""/>
            <p:cNvSpPr/>
            <p:nvPr/>
          </p:nvSpPr>
          <p:spPr>
            <a:xfrm>
              <a:off x="1225440" y="2978280"/>
              <a:ext cx="6921720" cy="825480"/>
            </a:xfrm>
            <a:prstGeom prst="ellipse">
              <a:avLst/>
            </a:prstGeom>
            <a:solidFill>
              <a:srgbClr val="023cc7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723400" y="3179880"/>
              <a:ext cx="4309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Times New Roman"/>
                </a:rPr>
                <a:t>Application and Subsystem Leve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1225440" y="4044960"/>
            <a:ext cx="6921720" cy="825480"/>
            <a:chOff x="1225440" y="4044960"/>
            <a:chExt cx="6921720" cy="825480"/>
          </a:xfrm>
        </p:grpSpPr>
        <p:sp>
          <p:nvSpPr>
            <p:cNvPr id="430" name=""/>
            <p:cNvSpPr/>
            <p:nvPr/>
          </p:nvSpPr>
          <p:spPr>
            <a:xfrm>
              <a:off x="1225440" y="4044960"/>
              <a:ext cx="6921720" cy="825480"/>
            </a:xfrm>
            <a:prstGeom prst="ellipse">
              <a:avLst/>
            </a:prstGeom>
            <a:solidFill>
              <a:srgbClr val="023cc7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647440" y="4246560"/>
              <a:ext cx="4055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Times New Roman"/>
                </a:rPr>
                <a:t>Operating System Kernel Leve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1225440" y="5187960"/>
            <a:ext cx="6921720" cy="825480"/>
          </a:xfrm>
          <a:prstGeom prst="ellipse">
            <a:avLst/>
          </a:prstGeom>
          <a:solidFill>
            <a:srgbClr val="023cc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558960" y="5389560"/>
            <a:ext cx="2154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ardwar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828440" y="399960"/>
            <a:ext cx="716292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SSI Characteristic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142640" y="175248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1. Every SSI has a boundary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2. Single system support can exist at different levels within a system, one able to be build on another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762120" y="1523880"/>
            <a:ext cx="7302240" cy="471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552760" y="153720"/>
            <a:ext cx="643896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SSI Boundaries -- an applications SSI boundary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6934320" cy="452592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3174840" y="1650960"/>
            <a:ext cx="3937320" cy="4368960"/>
          </a:xfrm>
          <a:prstGeom prst="ellipse">
            <a:avLst/>
          </a:prstGeom>
          <a:solidFill>
            <a:srgbClr val="0000ff"/>
          </a:solidFill>
          <a:ln w="1015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2"/>
          <a:stretch/>
        </p:blipFill>
        <p:spPr>
          <a:xfrm>
            <a:off x="4211640" y="2362320"/>
            <a:ext cx="1994040" cy="297180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4177440" y="5229360"/>
            <a:ext cx="1690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Batch 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1454040" y="5645160"/>
            <a:ext cx="1435320" cy="901800"/>
            <a:chOff x="1454040" y="5645160"/>
            <a:chExt cx="1435320" cy="901800"/>
          </a:xfrm>
        </p:grpSpPr>
        <p:sp>
          <p:nvSpPr>
            <p:cNvPr id="443" name=""/>
            <p:cNvSpPr/>
            <p:nvPr/>
          </p:nvSpPr>
          <p:spPr>
            <a:xfrm>
              <a:off x="1454040" y="5645160"/>
              <a:ext cx="1435320" cy="9018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509480" y="5762520"/>
              <a:ext cx="124812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ffff"/>
                  </a:solidFill>
                  <a:latin typeface="Arial"/>
                </a:rPr>
                <a:t>      </a:t>
              </a:r>
              <a:r>
                <a:rPr b="1" lang="en-US" sz="1800" spc="-1" strike="noStrike">
                  <a:solidFill>
                    <a:srgbClr val="00ffff"/>
                  </a:solidFill>
                  <a:latin typeface="Arial"/>
                </a:rPr>
                <a:t>SS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ffff"/>
                  </a:solidFill>
                  <a:latin typeface="Arial"/>
                </a:rPr>
                <a:t>Bounda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5" name=""/>
          <p:cNvSpPr/>
          <p:nvPr/>
        </p:nvSpPr>
        <p:spPr>
          <a:xfrm flipV="1">
            <a:off x="2616120" y="5308200"/>
            <a:ext cx="1015920" cy="66060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867280" y="6477120"/>
            <a:ext cx="288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ource: In search of clust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552760" y="399960"/>
            <a:ext cx="643896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SSI via OS path!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65280" y="1676160"/>
            <a:ext cx="847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1. Build as a layer on top of the existing O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nefits: makes the system quickly portable, tracks vendor software upgrades, and reduces development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.e. new systems can be built quickly by mapping new services onto the functionality provided by the layer beneath. Eg: Gluni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2. Build SSI at kernel level, True Cluster O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od, but 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Can’t leverage of OS improvements by ven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.g. Unixware, Solaris-MC, and MOSI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828440" y="314280"/>
            <a:ext cx="716292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SSI Representative System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OS level SSI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O NSC UnixW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laris-M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IX, …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Middleware level SSI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M, TreadMark (DSM), Glunix, Condor, Codine, Nimrod, …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Application level SSI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MON, Parallel Oracle, 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4799160" y="2143080"/>
            <a:ext cx="4143240" cy="3098880"/>
          </a:xfrm>
          <a:prstGeom prst="rect">
            <a:avLst/>
          </a:prstGeom>
          <a:solidFill>
            <a:srgbClr val="ccecff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01600" y="2143080"/>
            <a:ext cx="4141800" cy="3098880"/>
          </a:xfrm>
          <a:prstGeom prst="rect">
            <a:avLst/>
          </a:prstGeom>
          <a:solidFill>
            <a:srgbClr val="ccecff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095120" y="228600"/>
            <a:ext cx="7972200" cy="914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SCO NonStop</a:t>
            </a:r>
            <a:r>
              <a:rPr b="1" lang="en-US" sz="3600" spc="-1" strike="noStrike" baseline="30000">
                <a:solidFill>
                  <a:srgbClr val="fafd00"/>
                </a:solidFill>
                <a:latin typeface="Century Gothic"/>
              </a:rPr>
              <a:t>®</a:t>
            </a: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 Cluster for UnixWare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454" name=""/>
          <p:cNvSpPr/>
          <p:nvPr/>
        </p:nvSpPr>
        <p:spPr>
          <a:xfrm>
            <a:off x="1413000" y="5132520"/>
            <a:ext cx="0" cy="523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2680" y="2322360"/>
            <a:ext cx="3684600" cy="560520"/>
          </a:xfrm>
          <a:prstGeom prst="rect">
            <a:avLst/>
          </a:prstGeom>
          <a:solidFill>
            <a:srgbClr val="ffcccc"/>
          </a:solidFill>
          <a:ln w="12600">
            <a:solidFill>
              <a:srgbClr val="ff9999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2320" rIns="112320" tIns="55440" bIns="5544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44520"/>
                <a:tab algn="l" pos="2489040"/>
                <a:tab algn="l" pos="3733920"/>
                <a:tab algn="l" pos="4978440"/>
                <a:tab algn="l" pos="6222960"/>
                <a:tab algn="l" pos="7467480"/>
                <a:tab algn="l" pos="8712360"/>
                <a:tab algn="l" pos="995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s, applications, and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44520"/>
                <a:tab algn="l" pos="2489040"/>
                <a:tab algn="l" pos="3733920"/>
                <a:tab algn="l" pos="4978440"/>
                <a:tab algn="l" pos="6222960"/>
                <a:tab algn="l" pos="7467480"/>
                <a:tab algn="l" pos="8712360"/>
                <a:tab algn="l" pos="995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stems manage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78000" y="3233880"/>
            <a:ext cx="3687480" cy="511200"/>
          </a:xfrm>
          <a:prstGeom prst="rect">
            <a:avLst/>
          </a:prstGeom>
          <a:solidFill>
            <a:srgbClr val="ccccff"/>
          </a:solidFill>
          <a:ln w="12600">
            <a:solidFill>
              <a:srgbClr val="cc99ff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2320" rIns="112320" tIns="55440" bIns="55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44520"/>
                <a:tab algn="l" pos="2489040"/>
                <a:tab algn="l" pos="3733920"/>
                <a:tab algn="l" pos="4978440"/>
                <a:tab algn="l" pos="6222960"/>
                <a:tab algn="l" pos="7467480"/>
                <a:tab algn="l" pos="8712360"/>
                <a:tab algn="l" pos="995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ndard 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44520"/>
                <a:tab algn="l" pos="2489040"/>
                <a:tab algn="l" pos="3733920"/>
                <a:tab algn="l" pos="4978440"/>
                <a:tab algn="l" pos="6222960"/>
                <a:tab algn="l" pos="7467480"/>
                <a:tab algn="l" pos="8712360"/>
                <a:tab algn="l" pos="995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rnel call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80880" y="4029120"/>
            <a:ext cx="2046240" cy="1085760"/>
          </a:xfrm>
          <a:prstGeom prst="rect">
            <a:avLst/>
          </a:prstGeom>
          <a:solidFill>
            <a:srgbClr val="fcfeb9"/>
          </a:solidFill>
          <a:ln w="12600">
            <a:solidFill>
              <a:srgbClr val="cc990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795760" y="4040280"/>
            <a:ext cx="1368360" cy="1101600"/>
          </a:xfrm>
          <a:prstGeom prst="rect">
            <a:avLst/>
          </a:prstGeom>
          <a:solidFill>
            <a:srgbClr val="c8fec8"/>
          </a:solidFill>
          <a:ln w="12600">
            <a:solidFill>
              <a:srgbClr val="00cc66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12320" rIns="112320" tIns="55440" bIns="55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44520"/>
                <a:tab algn="l" pos="2489040"/>
                <a:tab algn="l" pos="3733920"/>
                <a:tab algn="l" pos="4978440"/>
                <a:tab algn="l" pos="6222960"/>
                <a:tab algn="l" pos="7467480"/>
                <a:tab algn="l" pos="8712360"/>
                <a:tab algn="l" pos="995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ul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44520"/>
                <a:tab algn="l" pos="2489040"/>
                <a:tab algn="l" pos="3733920"/>
                <a:tab algn="l" pos="4978440"/>
                <a:tab algn="l" pos="6222960"/>
                <a:tab algn="l" pos="7467480"/>
                <a:tab algn="l" pos="8712360"/>
                <a:tab algn="l" pos="995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44520"/>
                <a:tab algn="l" pos="2489040"/>
                <a:tab algn="l" pos="3733920"/>
                <a:tab algn="l" pos="4978440"/>
                <a:tab algn="l" pos="6222960"/>
                <a:tab algn="l" pos="7467480"/>
                <a:tab algn="l" pos="8712360"/>
                <a:tab algn="l" pos="995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tension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403280" y="290844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429000" y="2922480"/>
            <a:ext cx="0" cy="303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371600" y="3780000"/>
            <a:ext cx="0" cy="260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402000" y="3798720"/>
            <a:ext cx="0" cy="260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003480" y="3343320"/>
            <a:ext cx="110304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2320" rIns="112320" tIns="55440" bIns="55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44520"/>
                <a:tab algn="l" pos="2489040"/>
                <a:tab algn="l" pos="3733920"/>
                <a:tab algn="l" pos="4978440"/>
                <a:tab algn="l" pos="6222960"/>
                <a:tab algn="l" pos="7467480"/>
                <a:tab algn="l" pos="8712360"/>
                <a:tab algn="l" pos="99568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Extension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086280" y="3259080"/>
            <a:ext cx="0" cy="482760"/>
          </a:xfrm>
          <a:prstGeom prst="line">
            <a:avLst/>
          </a:prstGeom>
          <a:ln w="12600">
            <a:solidFill>
              <a:srgbClr val="66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454400" y="1801800"/>
            <a:ext cx="1802880" cy="3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2320" rIns="112320" tIns="55440" bIns="55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44520"/>
                <a:tab algn="l" pos="2489040"/>
                <a:tab algn="l" pos="3733920"/>
                <a:tab algn="l" pos="4978440"/>
                <a:tab algn="l" pos="6222960"/>
                <a:tab algn="l" pos="7467480"/>
                <a:tab algn="l" pos="8712360"/>
                <a:tab algn="l" pos="9956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P or SMP no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4993560" y="2325600"/>
            <a:ext cx="3686040" cy="558720"/>
          </a:xfrm>
          <a:prstGeom prst="rect">
            <a:avLst/>
          </a:prstGeom>
          <a:solidFill>
            <a:srgbClr val="ffcccc"/>
          </a:solidFill>
          <a:ln w="12600">
            <a:solidFill>
              <a:srgbClr val="ff9999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2320" rIns="112320" tIns="55440" bIns="5544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44520"/>
                <a:tab algn="l" pos="2489040"/>
                <a:tab algn="l" pos="3733920"/>
                <a:tab algn="l" pos="4978440"/>
                <a:tab algn="l" pos="6222960"/>
                <a:tab algn="l" pos="7467480"/>
                <a:tab algn="l" pos="8712360"/>
                <a:tab algn="l" pos="995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s, applications, and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44520"/>
                <a:tab algn="l" pos="2489040"/>
                <a:tab algn="l" pos="3733920"/>
                <a:tab algn="l" pos="4978440"/>
                <a:tab algn="l" pos="6222960"/>
                <a:tab algn="l" pos="7467480"/>
                <a:tab algn="l" pos="8712360"/>
                <a:tab algn="l" pos="995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stems manage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4969800" y="3257640"/>
            <a:ext cx="3771720" cy="511200"/>
          </a:xfrm>
          <a:prstGeom prst="rect">
            <a:avLst/>
          </a:prstGeom>
          <a:solidFill>
            <a:srgbClr val="ccccff"/>
          </a:solidFill>
          <a:ln w="12600">
            <a:solidFill>
              <a:srgbClr val="cc99ff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2320" rIns="112320" tIns="55440" bIns="55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44520"/>
                <a:tab algn="l" pos="2489040"/>
                <a:tab algn="l" pos="3733920"/>
                <a:tab algn="l" pos="4978440"/>
                <a:tab algn="l" pos="6222960"/>
                <a:tab algn="l" pos="7467480"/>
                <a:tab algn="l" pos="8712360"/>
                <a:tab algn="l" pos="995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ndard OS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44520"/>
                <a:tab algn="l" pos="2489040"/>
                <a:tab algn="l" pos="3733920"/>
                <a:tab algn="l" pos="4978440"/>
                <a:tab algn="l" pos="6222960"/>
                <a:tab algn="l" pos="7467480"/>
                <a:tab algn="l" pos="8712360"/>
                <a:tab algn="l" pos="995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rnel call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4982400" y="4070520"/>
            <a:ext cx="1436760" cy="1083960"/>
          </a:xfrm>
          <a:prstGeom prst="rect">
            <a:avLst/>
          </a:prstGeom>
          <a:solidFill>
            <a:srgbClr val="c8fec8"/>
          </a:solidFill>
          <a:ln w="12600">
            <a:solidFill>
              <a:srgbClr val="00cc66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12320" rIns="112320" tIns="55440" bIns="55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44520"/>
                <a:tab algn="l" pos="2489040"/>
                <a:tab algn="l" pos="3733920"/>
                <a:tab algn="l" pos="4978440"/>
                <a:tab algn="l" pos="6222960"/>
                <a:tab algn="l" pos="7467480"/>
                <a:tab algn="l" pos="8712360"/>
                <a:tab algn="l" pos="995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ul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44520"/>
                <a:tab algn="l" pos="2489040"/>
                <a:tab algn="l" pos="3733920"/>
                <a:tab algn="l" pos="4978440"/>
                <a:tab algn="l" pos="6222960"/>
                <a:tab algn="l" pos="7467480"/>
                <a:tab algn="l" pos="8712360"/>
                <a:tab algn="l" pos="995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44520"/>
                <a:tab algn="l" pos="2489040"/>
                <a:tab algn="l" pos="3733920"/>
                <a:tab algn="l" pos="4978440"/>
                <a:tab algn="l" pos="6222960"/>
                <a:tab algn="l" pos="7467480"/>
                <a:tab algn="l" pos="8712360"/>
                <a:tab algn="l" pos="995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tens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58280" y="2922480"/>
            <a:ext cx="0" cy="303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656320" y="290844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661000" y="3780000"/>
            <a:ext cx="0" cy="280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4888080" y="3343320"/>
            <a:ext cx="110304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2320" rIns="112320" tIns="55440" bIns="55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44520"/>
                <a:tab algn="l" pos="2489040"/>
                <a:tab algn="l" pos="3733920"/>
                <a:tab algn="l" pos="4978440"/>
                <a:tab algn="l" pos="6222960"/>
                <a:tab algn="l" pos="7467480"/>
                <a:tab algn="l" pos="8712360"/>
                <a:tab algn="l" pos="99568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Extension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913360" y="3255840"/>
            <a:ext cx="0" cy="482760"/>
          </a:xfrm>
          <a:prstGeom prst="line">
            <a:avLst/>
          </a:prstGeom>
          <a:ln w="12600">
            <a:solidFill>
              <a:srgbClr val="66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6464160" y="6265800"/>
            <a:ext cx="936360" cy="101160"/>
            <a:chOff x="6464160" y="6265800"/>
            <a:chExt cx="936360" cy="101160"/>
          </a:xfrm>
        </p:grpSpPr>
        <p:sp>
          <p:nvSpPr>
            <p:cNvPr id="475" name=""/>
            <p:cNvSpPr/>
            <p:nvPr/>
          </p:nvSpPr>
          <p:spPr>
            <a:xfrm>
              <a:off x="6464160" y="6265800"/>
              <a:ext cx="190800" cy="101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838560" y="6265800"/>
              <a:ext cx="187200" cy="101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213320" y="6265800"/>
              <a:ext cx="187200" cy="101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2106720" y="4257720"/>
            <a:ext cx="745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174760" y="4729320"/>
            <a:ext cx="80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915480" y="5637240"/>
            <a:ext cx="991800" cy="3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2320" rIns="112320" tIns="55440" bIns="55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44520"/>
                <a:tab algn="l" pos="2489040"/>
                <a:tab algn="l" pos="3733920"/>
                <a:tab algn="l" pos="4978440"/>
                <a:tab algn="l" pos="6222960"/>
                <a:tab algn="l" pos="7467480"/>
                <a:tab algn="l" pos="8712360"/>
                <a:tab algn="l" pos="9956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232760" y="5637240"/>
            <a:ext cx="991800" cy="3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2320" rIns="112320" tIns="55440" bIns="55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44520"/>
                <a:tab algn="l" pos="2489040"/>
                <a:tab algn="l" pos="3733920"/>
                <a:tab algn="l" pos="4978440"/>
                <a:tab algn="l" pos="6222960"/>
                <a:tab algn="l" pos="7467480"/>
                <a:tab algn="l" pos="8712360"/>
                <a:tab algn="l" pos="9956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728120" y="5132520"/>
            <a:ext cx="0" cy="523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6710400" y="4051440"/>
            <a:ext cx="2046240" cy="1085760"/>
          </a:xfrm>
          <a:prstGeom prst="rect">
            <a:avLst/>
          </a:prstGeom>
          <a:solidFill>
            <a:srgbClr val="fcfeb9"/>
          </a:solidFill>
          <a:ln w="12600">
            <a:solidFill>
              <a:srgbClr val="cc990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12320" rIns="112320" tIns="55440" bIns="55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44520"/>
                <a:tab algn="l" pos="2489040"/>
                <a:tab algn="l" pos="3733920"/>
                <a:tab algn="l" pos="4978440"/>
                <a:tab algn="l" pos="6222960"/>
                <a:tab algn="l" pos="7467480"/>
                <a:tab algn="l" pos="8712360"/>
                <a:tab algn="l" pos="9956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44520"/>
                <a:tab algn="l" pos="2489040"/>
                <a:tab algn="l" pos="3733920"/>
                <a:tab algn="l" pos="4978440"/>
                <a:tab algn="l" pos="6222960"/>
                <a:tab algn="l" pos="7467480"/>
                <a:tab algn="l" pos="8712360"/>
                <a:tab algn="l" pos="9956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44520"/>
                <a:tab algn="l" pos="2489040"/>
                <a:tab algn="l" pos="3733920"/>
                <a:tab algn="l" pos="4978440"/>
                <a:tab algn="l" pos="6222960"/>
                <a:tab algn="l" pos="7467480"/>
                <a:tab algn="l" pos="8712360"/>
                <a:tab algn="l" pos="995688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713720" y="3781440"/>
            <a:ext cx="0" cy="260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6214680" y="4257720"/>
            <a:ext cx="1057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6214680" y="4729320"/>
            <a:ext cx="963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3386160" y="5695920"/>
            <a:ext cx="2592360" cy="9716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022640" y="5987880"/>
            <a:ext cx="1301400" cy="3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2320" rIns="112320" tIns="55440" bIns="55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44520"/>
                <a:tab algn="l" pos="2489040"/>
                <a:tab algn="l" pos="3733920"/>
                <a:tab algn="l" pos="4978440"/>
                <a:tab algn="l" pos="6222960"/>
                <a:tab algn="l" pos="7467480"/>
                <a:tab algn="l" pos="8712360"/>
                <a:tab algn="l" pos="995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erNet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™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344760" y="5230800"/>
            <a:ext cx="1116000" cy="739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4941720" y="5248440"/>
            <a:ext cx="1022400" cy="69372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5413320" y="6313320"/>
            <a:ext cx="9288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54400" y="1801800"/>
            <a:ext cx="1802880" cy="3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2320" rIns="112320" tIns="55440" bIns="55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44520"/>
                <a:tab algn="l" pos="2489040"/>
                <a:tab algn="l" pos="3733920"/>
                <a:tab algn="l" pos="4978440"/>
                <a:tab algn="l" pos="6222960"/>
                <a:tab algn="l" pos="7467480"/>
                <a:tab algn="l" pos="8712360"/>
                <a:tab algn="l" pos="9956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P or SMP no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20760" y="4122720"/>
            <a:ext cx="2050920" cy="10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ndard SCO UnixWare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®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 clustering hook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950160" y="4137120"/>
            <a:ext cx="2049480" cy="10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ndard SCO UnixWare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 clustering hook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>
            <a:off x="5314680" y="5230800"/>
            <a:ext cx="1143000" cy="77004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916360" y="5230800"/>
            <a:ext cx="1116000" cy="739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324480" y="6469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Other nod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714240" y="6257880"/>
            <a:ext cx="18860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114720" y="6257880"/>
            <a:ext cx="291456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2409840" y="74520"/>
            <a:ext cx="6353280" cy="992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afd00"/>
                </a:solidFill>
                <a:latin typeface="Century Gothic"/>
              </a:rPr>
              <a:t>How does NonStop Clusters Work?</a:t>
            </a:r>
            <a:endParaRPr b="1" lang="en-US" sz="31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447560" y="1676520"/>
            <a:ext cx="6933960" cy="4713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 fontScale="99000"/>
          </a:bodyPr>
          <a:p>
            <a:pPr marL="278280" indent="-278280">
              <a:lnSpc>
                <a:spcPct val="90000"/>
              </a:lnSpc>
              <a:spcBef>
                <a:spcPts val="45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entury Gothic"/>
              </a:rPr>
              <a:t>Modular Extensions and Hooks to Provide:</a:t>
            </a:r>
            <a:endParaRPr b="1" lang="en-US" sz="1800" spc="-1" strike="noStrike">
              <a:solidFill>
                <a:srgbClr val="fafd00"/>
              </a:solidFill>
              <a:latin typeface="Century Gothic"/>
            </a:endParaRPr>
          </a:p>
          <a:p>
            <a:pPr lvl="1" marL="625320" indent="-2340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Clusterwide Filesystem vie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25320" indent="-2340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ransparent Clusterwide device acc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25320" indent="-2340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ransparent swap space shar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25320" indent="-2340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ransparent Clusterwide IP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25320" indent="-2340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igh Performance Internode Commun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25320" indent="-2340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ransparent Clusterwide Processes, migration,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25320" indent="-2340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de down cleanup and resource failove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25320" indent="-2340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ransparent Clusterwide parallel TCP/IP network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25320" indent="-2340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pplication Availabi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25320" indent="-2340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lusterwide Membership and Cluster timesyn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25320" indent="-2340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luster System Administr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25320" indent="-2340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ad Level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590920" y="153720"/>
            <a:ext cx="624816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Solaris-MC: Solaris for MultiComputer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400440" y="1371240"/>
            <a:ext cx="243828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1000"/>
          </a:bodyPr>
          <a:p>
            <a:pPr marL="243360" indent="-2433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global file system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43360" indent="-2433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globalized process management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43360" indent="-2433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globalized networking and I/O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1"/>
          <a:stretch/>
        </p:blipFill>
        <p:spPr>
          <a:xfrm>
            <a:off x="685800" y="2457360"/>
            <a:ext cx="5608800" cy="401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Solaris MC component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400800" y="2057040"/>
            <a:ext cx="266688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Object and communication support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High availability support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PXFS global distributed file system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Process mangement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Networking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380880" y="2076480"/>
            <a:ext cx="5608800" cy="401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285640" y="759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Competing Computer Architectures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68400" y="175212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Vector Computers (VC) ---proprietary system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653760" indent="-2512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vided the breakthrough needed for the emergence of computational science, buy they were only a partial answe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Massively Parallel Processors (MPP)-proprietary system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igh cost and a low performance/price rati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ymmetric Multiprocessors (SMP)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ffers from scalabi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Distributed System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fficult to use and hard to extract parallel performanc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Clusters -- gaining popularity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igh Performance Computing---Commodity Supercompu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igh Availability Computing ---Mission Critical Appl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752480" y="380520"/>
            <a:ext cx="7266240" cy="72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Century Gothic"/>
              </a:rPr>
              <a:t>M</a:t>
            </a:r>
            <a:r>
              <a:rPr b="0" i="1" lang="en-US" sz="3200" spc="-1" strike="noStrike">
                <a:solidFill>
                  <a:srgbClr val="fafd00"/>
                </a:solidFill>
                <a:latin typeface="Century Gothic"/>
              </a:rPr>
              <a:t>ulticomputer</a:t>
            </a:r>
            <a:r>
              <a:rPr b="0" i="1" lang="en-US" sz="3600" spc="-1" strike="noStrike">
                <a:solidFill>
                  <a:srgbClr val="fafd00"/>
                </a:solidFill>
                <a:latin typeface="Century Gothic"/>
              </a:rPr>
              <a:t> </a:t>
            </a:r>
            <a:r>
              <a:rPr b="1" i="1" lang="en-US" sz="3600" spc="-1" strike="noStrike">
                <a:solidFill>
                  <a:srgbClr val="fafd00"/>
                </a:solidFill>
                <a:latin typeface="Century Gothic"/>
              </a:rPr>
              <a:t>OS </a:t>
            </a:r>
            <a:r>
              <a:rPr b="0" i="1" lang="en-US" sz="3200" spc="-1" strike="noStrike">
                <a:solidFill>
                  <a:srgbClr val="fafd00"/>
                </a:solidFill>
                <a:latin typeface="Century Gothic"/>
              </a:rPr>
              <a:t>for</a:t>
            </a:r>
            <a:r>
              <a:rPr b="1" i="1" lang="en-US" sz="3600" spc="-1" strike="noStrike">
                <a:solidFill>
                  <a:srgbClr val="fafd00"/>
                </a:solidFill>
                <a:latin typeface="Century Gothic"/>
              </a:rPr>
              <a:t> </a:t>
            </a:r>
            <a:r>
              <a:rPr b="0" i="1" lang="en-US" sz="3600" spc="-1" strike="noStrike">
                <a:solidFill>
                  <a:srgbClr val="fafd00"/>
                </a:solidFill>
                <a:latin typeface="Century Gothic"/>
              </a:rPr>
              <a:t>UN</a:t>
            </a:r>
            <a:r>
              <a:rPr b="1" i="1" lang="en-US" sz="3600" spc="-1" strike="noStrike">
                <a:solidFill>
                  <a:srgbClr val="fafd00"/>
                </a:solidFill>
                <a:latin typeface="Century Gothic"/>
              </a:rPr>
              <a:t>IX (MOSIX)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764640" y="1752120"/>
            <a:ext cx="830268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251280" indent="-2512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An  OS  module  (layer)  that provides the applications with the illusion of working on a single system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51280" indent="-2512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Remote operations are performed like local operation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51280" indent="-2512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Transparent to the application - user interface unchanged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510" name=""/>
          <p:cNvSpPr/>
          <p:nvPr/>
        </p:nvSpPr>
        <p:spPr>
          <a:xfrm>
            <a:off x="2351160" y="5181480"/>
            <a:ext cx="3963960" cy="1214640"/>
          </a:xfrm>
          <a:custGeom>
            <a:avLst/>
            <a:gdLst/>
            <a:ahLst/>
            <a:rect l="l" t="t" r="r" b="b"/>
            <a:pathLst>
              <a:path w="1873" h="1105">
                <a:moveTo>
                  <a:pt x="0" y="0"/>
                </a:moveTo>
                <a:lnTo>
                  <a:pt x="0" y="1104"/>
                </a:lnTo>
                <a:lnTo>
                  <a:pt x="1872" y="1104"/>
                </a:lnTo>
                <a:lnTo>
                  <a:pt x="1872" y="602"/>
                </a:lnTo>
                <a:lnTo>
                  <a:pt x="0" y="0"/>
                </a:lnTo>
              </a:path>
            </a:pathLst>
          </a:custGeom>
          <a:solidFill>
            <a:srgbClr val="ff66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351160" y="4724280"/>
            <a:ext cx="4046400" cy="362160"/>
          </a:xfrm>
          <a:prstGeom prst="roundRect">
            <a:avLst>
              <a:gd name="adj" fmla="val 49995"/>
            </a:avLst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VM / MPI / RS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rot="10800000">
            <a:off x="2351160" y="5181120"/>
            <a:ext cx="3944880" cy="676440"/>
          </a:xfrm>
          <a:prstGeom prst="rtTriangle">
            <a:avLst/>
          </a:prstGeom>
          <a:solidFill>
            <a:srgbClr val="3365f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291360" y="5334120"/>
            <a:ext cx="1404720" cy="255600"/>
          </a:xfrm>
          <a:prstGeom prst="leftArrow">
            <a:avLst>
              <a:gd name="adj1" fmla="val 50000"/>
              <a:gd name="adj2" fmla="val 137369"/>
            </a:avLst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14" name=""/>
          <p:cNvGraphicFramePr/>
          <p:nvPr/>
        </p:nvGraphicFramePr>
        <p:xfrm>
          <a:off x="2351160" y="5410080"/>
          <a:ext cx="1320840" cy="54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1160" y="5410080"/>
                    <a:ext cx="132084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6" name=""/>
          <p:cNvGraphicFramePr/>
          <p:nvPr/>
        </p:nvGraphicFramePr>
        <p:xfrm>
          <a:off x="3687840" y="5638680"/>
          <a:ext cx="1320840" cy="54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87840" y="5638680"/>
                    <a:ext cx="132084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8" name=""/>
          <p:cNvGraphicFramePr/>
          <p:nvPr/>
        </p:nvGraphicFramePr>
        <p:xfrm>
          <a:off x="4321080" y="5867280"/>
          <a:ext cx="1320840" cy="5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21080" y="5867280"/>
                    <a:ext cx="132084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0" name=""/>
          <p:cNvGraphicFramePr/>
          <p:nvPr/>
        </p:nvGraphicFramePr>
        <p:xfrm>
          <a:off x="3054240" y="5562720"/>
          <a:ext cx="1320840" cy="541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54240" y="5562720"/>
                    <a:ext cx="1320840" cy="54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2" name=""/>
          <p:cNvSpPr/>
          <p:nvPr/>
        </p:nvSpPr>
        <p:spPr>
          <a:xfrm rot="1140000">
            <a:off x="4743000" y="5105160"/>
            <a:ext cx="15321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279520" y="3733920"/>
            <a:ext cx="4073760" cy="823680"/>
          </a:xfrm>
          <a:prstGeom prst="roundRect">
            <a:avLst>
              <a:gd name="adj" fmla="val 49995"/>
            </a:avLst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ppl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279520" y="6019920"/>
            <a:ext cx="201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ardware/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249800" y="5791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590920" y="304920"/>
            <a:ext cx="643896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Century Gothic"/>
              </a:rPr>
              <a:t>Main tool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035000" y="3098880"/>
            <a:ext cx="7718400" cy="30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274320" indent="-274320">
              <a:lnSpc>
                <a:spcPct val="105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Century Gothic"/>
              </a:rPr>
              <a:t>Supervised  by distributed  algorithms  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that  respond      on-line  to global resource availability - </a:t>
            </a:r>
            <a:r>
              <a:rPr b="0" lang="en-US" sz="2400" spc="-1" strike="noStrike">
                <a:solidFill>
                  <a:srgbClr val="fafd00"/>
                </a:solidFill>
                <a:latin typeface="Century Gothic"/>
              </a:rPr>
              <a:t>transparently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Century Gothic"/>
              </a:rPr>
              <a:t>Load-balancing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 - migrate process from over-loaded to under-loaded node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Century Gothic"/>
              </a:rPr>
              <a:t>Memory ushering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 - migrate processes from a node that  has exhausted its memory,  to prevent paging/swapping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528" name=""/>
          <p:cNvSpPr/>
          <p:nvPr/>
        </p:nvSpPr>
        <p:spPr>
          <a:xfrm>
            <a:off x="1371600" y="1600200"/>
            <a:ext cx="682632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eemptive process migration that can migrate---&gt;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any process, anywhere, any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Century Gothic"/>
              </a:rPr>
              <a:t>MOSIX for Linux at HUJI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231560" y="1828440"/>
            <a:ext cx="74581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268560" indent="-2685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A scalable cluster configuration: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644400" indent="-214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0 Pentium-II  300 MH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4400" indent="-214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8 Pentium-Pro 200 MHz (some are SMP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4400" indent="-214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6 Pentium-II 400 MHz (some are SMP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8560" indent="-2685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Over 12 GB cluster-wide  RAM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68560" indent="-2685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Connected by the Myrinet 2.56 G.b/s LAN</a:t>
            </a:r>
            <a:br>
              <a:rPr sz="2400"/>
            </a:b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Runs </a:t>
            </a:r>
            <a:r>
              <a:rPr b="0" lang="en-US" sz="2400" spc="-1" strike="noStrike">
                <a:solidFill>
                  <a:srgbClr val="fafd00"/>
                </a:solidFill>
                <a:latin typeface="Century Gothic"/>
              </a:rPr>
              <a:t>Red-Hat 6.0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, based on </a:t>
            </a:r>
            <a:r>
              <a:rPr b="0" lang="en-US" sz="2400" spc="-1" strike="noStrike">
                <a:solidFill>
                  <a:srgbClr val="fafd00"/>
                </a:solidFill>
                <a:latin typeface="Century Gothic"/>
              </a:rPr>
              <a:t>Kernel 2.2.7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68560" indent="-2685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Upgrade: HW with Intel, SW with Linux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68560" indent="-2685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Download MOSIX: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644400" indent="-214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tp://www.mosix.cs.huji.ac.il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828440" y="208800"/>
            <a:ext cx="7162920" cy="87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Nimrod - A Job Management System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</p:txBody>
      </p:sp>
      <p:pic>
        <p:nvPicPr>
          <p:cNvPr id="532" name="nimrod1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6343560" cy="479124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/>
          <p:nvPr/>
        </p:nvSpPr>
        <p:spPr>
          <a:xfrm>
            <a:off x="1515600" y="6218280"/>
            <a:ext cx="66463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dgs.monash.edu.au/~davida/nimrod.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828440" y="399960"/>
            <a:ext cx="716292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Job processing with Nimrod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pic>
        <p:nvPicPr>
          <p:cNvPr id="535" name="nimrod2" descr=""/>
          <p:cNvPicPr/>
          <p:nvPr/>
        </p:nvPicPr>
        <p:blipFill>
          <a:blip r:embed="rId1"/>
          <a:stretch/>
        </p:blipFill>
        <p:spPr>
          <a:xfrm>
            <a:off x="1447920" y="1523880"/>
            <a:ext cx="6343560" cy="479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828440" y="399960"/>
            <a:ext cx="716292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Nimrod Architecture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pic>
        <p:nvPicPr>
          <p:cNvPr id="537" name="nimrod3" descr=""/>
          <p:cNvPicPr/>
          <p:nvPr/>
        </p:nvPicPr>
        <p:blipFill>
          <a:blip r:embed="rId1"/>
          <a:stretch/>
        </p:blipFill>
        <p:spPr>
          <a:xfrm>
            <a:off x="1447920" y="1523880"/>
            <a:ext cx="6553080" cy="491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304920" y="2209680"/>
            <a:ext cx="8686800" cy="4038840"/>
          </a:xfrm>
          <a:prstGeom prst="rect">
            <a:avLst/>
          </a:prstGeom>
          <a:solidFill>
            <a:srgbClr val="99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PARMON: A Cluster Monitoring Tool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380880" y="2362320"/>
            <a:ext cx="8456400" cy="3509640"/>
            <a:chOff x="380880" y="2362320"/>
            <a:chExt cx="8456400" cy="3509640"/>
          </a:xfrm>
        </p:grpSpPr>
        <p:grpSp>
          <p:nvGrpSpPr>
            <p:cNvPr id="541" name=""/>
            <p:cNvGrpSpPr/>
            <p:nvPr/>
          </p:nvGrpSpPr>
          <p:grpSpPr>
            <a:xfrm>
              <a:off x="934920" y="2362320"/>
              <a:ext cx="5136480" cy="3509640"/>
              <a:chOff x="934920" y="2362320"/>
              <a:chExt cx="5136480" cy="3509640"/>
            </a:xfrm>
          </p:grpSpPr>
          <p:sp>
            <p:nvSpPr>
              <p:cNvPr id="542" name=""/>
              <p:cNvSpPr/>
              <p:nvPr/>
            </p:nvSpPr>
            <p:spPr>
              <a:xfrm>
                <a:off x="2767320" y="4066200"/>
                <a:ext cx="377280" cy="349920"/>
              </a:xfrm>
              <a:custGeom>
                <a:avLst/>
                <a:gdLst/>
                <a:ahLst/>
                <a:rect l="l" t="t" r="r" b="b"/>
                <a:pathLst>
                  <a:path w="496" h="477">
                    <a:moveTo>
                      <a:pt x="0" y="477"/>
                    </a:moveTo>
                    <a:lnTo>
                      <a:pt x="128" y="0"/>
                    </a:lnTo>
                    <a:lnTo>
                      <a:pt x="496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107600" y="4215240"/>
                <a:ext cx="5608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flipV="1">
                <a:off x="4033080" y="4533120"/>
                <a:ext cx="680040" cy="105840"/>
              </a:xfrm>
              <a:custGeom>
                <a:avLst/>
                <a:gdLst/>
                <a:ahLst/>
                <a:rect l="l" t="t" r="r" b="b"/>
                <a:pathLst>
                  <a:path w="528" h="1184">
                    <a:moveTo>
                      <a:pt x="0" y="1184"/>
                    </a:moveTo>
                    <a:lnTo>
                      <a:pt x="0" y="0"/>
                    </a:lnTo>
                    <a:lnTo>
                      <a:pt x="528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flipV="1">
                <a:off x="3899880" y="4553640"/>
                <a:ext cx="680040" cy="406800"/>
              </a:xfrm>
              <a:custGeom>
                <a:avLst/>
                <a:gdLst/>
                <a:ahLst/>
                <a:rect l="l" t="t" r="r" b="b"/>
                <a:pathLst>
                  <a:path w="528" h="1184">
                    <a:moveTo>
                      <a:pt x="0" y="1184"/>
                    </a:moveTo>
                    <a:lnTo>
                      <a:pt x="0" y="0"/>
                    </a:lnTo>
                    <a:lnTo>
                      <a:pt x="528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V="1">
                <a:off x="3651480" y="4543560"/>
                <a:ext cx="900000" cy="747000"/>
              </a:xfrm>
              <a:custGeom>
                <a:avLst/>
                <a:gdLst/>
                <a:ahLst/>
                <a:rect l="l" t="t" r="r" b="b"/>
                <a:pathLst>
                  <a:path w="528" h="1184">
                    <a:moveTo>
                      <a:pt x="0" y="1184"/>
                    </a:moveTo>
                    <a:lnTo>
                      <a:pt x="0" y="0"/>
                    </a:lnTo>
                    <a:lnTo>
                      <a:pt x="528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flipV="1">
                <a:off x="3364920" y="4581720"/>
                <a:ext cx="1521720" cy="1172520"/>
              </a:xfrm>
              <a:custGeom>
                <a:avLst/>
                <a:gdLst/>
                <a:ahLst/>
                <a:rect l="l" t="t" r="r" b="b"/>
                <a:pathLst>
                  <a:path w="2000" h="2432">
                    <a:moveTo>
                      <a:pt x="0" y="2432"/>
                    </a:moveTo>
                    <a:lnTo>
                      <a:pt x="0" y="0"/>
                    </a:lnTo>
                    <a:lnTo>
                      <a:pt x="200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3936240" y="3453120"/>
                <a:ext cx="680040" cy="504720"/>
              </a:xfrm>
              <a:custGeom>
                <a:avLst/>
                <a:gdLst/>
                <a:ahLst/>
                <a:rect l="l" t="t" r="r" b="b"/>
                <a:pathLst>
                  <a:path w="528" h="1184">
                    <a:moveTo>
                      <a:pt x="0" y="1184"/>
                    </a:moveTo>
                    <a:lnTo>
                      <a:pt x="0" y="0"/>
                    </a:lnTo>
                    <a:lnTo>
                      <a:pt x="528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3687840" y="3042720"/>
                <a:ext cx="899640" cy="926640"/>
              </a:xfrm>
              <a:custGeom>
                <a:avLst/>
                <a:gdLst/>
                <a:ahLst/>
                <a:rect l="l" t="t" r="r" b="b"/>
                <a:pathLst>
                  <a:path w="528" h="1184">
                    <a:moveTo>
                      <a:pt x="0" y="1184"/>
                    </a:moveTo>
                    <a:lnTo>
                      <a:pt x="0" y="0"/>
                    </a:lnTo>
                    <a:lnTo>
                      <a:pt x="528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3401280" y="2467800"/>
                <a:ext cx="1521360" cy="1454400"/>
              </a:xfrm>
              <a:custGeom>
                <a:avLst/>
                <a:gdLst/>
                <a:ahLst/>
                <a:rect l="l" t="t" r="r" b="b"/>
                <a:pathLst>
                  <a:path w="2000" h="2432">
                    <a:moveTo>
                      <a:pt x="0" y="2432"/>
                    </a:moveTo>
                    <a:lnTo>
                      <a:pt x="0" y="0"/>
                    </a:lnTo>
                    <a:lnTo>
                      <a:pt x="200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2987640" y="4109400"/>
                <a:ext cx="1216800" cy="457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55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588680" y="3822120"/>
                <a:ext cx="1691280" cy="1297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866480" y="3224160"/>
                <a:ext cx="516600" cy="416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54" name=""/>
              <p:cNvGrpSpPr/>
              <p:nvPr/>
            </p:nvGrpSpPr>
            <p:grpSpPr>
              <a:xfrm>
                <a:off x="4487040" y="2362320"/>
                <a:ext cx="1584360" cy="3509640"/>
                <a:chOff x="4487040" y="2362320"/>
                <a:chExt cx="1584360" cy="3509640"/>
              </a:xfrm>
            </p:grpSpPr>
            <p:pic>
              <p:nvPicPr>
                <p:cNvPr id="555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487040" y="5367960"/>
                  <a:ext cx="1584360" cy="504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6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487040" y="4992120"/>
                  <a:ext cx="1584360" cy="504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7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487040" y="4616280"/>
                  <a:ext cx="1584360" cy="504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8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487040" y="4240800"/>
                  <a:ext cx="1584360" cy="504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9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4487040" y="3864960"/>
                  <a:ext cx="1584360" cy="504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0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4487040" y="3489480"/>
                  <a:ext cx="1584360" cy="504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1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4487040" y="3113640"/>
                  <a:ext cx="1584360" cy="504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2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4487040" y="2737800"/>
                  <a:ext cx="1584360" cy="504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3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487040" y="2362320"/>
                  <a:ext cx="1584360" cy="504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64" name=""/>
              <p:cNvSpPr/>
              <p:nvPr/>
            </p:nvSpPr>
            <p:spPr>
              <a:xfrm>
                <a:off x="2061360" y="3992400"/>
                <a:ext cx="1131840" cy="29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PARMON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3060000" y="4133880"/>
                <a:ext cx="1083600" cy="43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ff"/>
                    </a:solidFill>
                    <a:latin typeface="Arial"/>
                  </a:rPr>
                  <a:t>High-Speed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ff"/>
                    </a:solidFill>
                    <a:latin typeface="Arial"/>
                  </a:rPr>
                  <a:t>Switch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aphicFrame>
            <p:nvGraphicFramePr>
              <p:cNvPr id="566" name=""/>
              <p:cNvGraphicFramePr/>
              <p:nvPr/>
            </p:nvGraphicFramePr>
            <p:xfrm>
              <a:off x="934920" y="4262400"/>
              <a:ext cx="1087920" cy="1127160"/>
            </p:xfrm>
            <a:graphic>
              <a:graphicData uri="http://schemas.openxmlformats.org/presentationml/2006/ole">
                <p:oleObj r:id="rId12" spid="">
                  <p:embed/>
                  <p:pic>
                    <p:nvPicPr>
                      <p:cNvPr id="567" name="" descr=""/>
                      <p:cNvPicPr/>
                      <p:nvPr/>
                    </p:nvPicPr>
                    <p:blipFill>
                      <a:blip r:embed="rId13"/>
                      <a:stretch/>
                    </p:blipFill>
                    <p:spPr>
                      <a:xfrm>
                        <a:off x="934920" y="4262400"/>
                        <a:ext cx="1087920" cy="1127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568" name=""/>
            <p:cNvSpPr/>
            <p:nvPr/>
          </p:nvSpPr>
          <p:spPr>
            <a:xfrm>
              <a:off x="6810120" y="3683160"/>
              <a:ext cx="2027160" cy="6094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parmon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 flipV="1">
              <a:off x="6141600" y="2662200"/>
              <a:ext cx="1935000" cy="1020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 flipV="1">
              <a:off x="6126120" y="3027240"/>
              <a:ext cx="1692000" cy="66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 flipV="1">
              <a:off x="6125760" y="3438360"/>
              <a:ext cx="1143000" cy="29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 flipV="1">
              <a:off x="6111720" y="3805200"/>
              <a:ext cx="85248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6126120" y="4140360"/>
              <a:ext cx="83808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6125760" y="4230720"/>
              <a:ext cx="1036440" cy="36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H="1">
              <a:off x="6095880" y="4292640"/>
              <a:ext cx="1371600" cy="66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6095880" y="4307040"/>
              <a:ext cx="1706400" cy="1036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6095520" y="4292640"/>
              <a:ext cx="2073240" cy="141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80880" y="2799000"/>
              <a:ext cx="2027160" cy="6094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parm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585800" y="3454560"/>
              <a:ext cx="304560" cy="31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0" name=""/>
          <p:cNvSpPr/>
          <p:nvPr/>
        </p:nvSpPr>
        <p:spPr>
          <a:xfrm>
            <a:off x="6478200" y="1447920"/>
            <a:ext cx="249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MON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n each n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54440" y="1676520"/>
            <a:ext cx="35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MON Client on JV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Resource Utilization at a Glance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pic>
        <p:nvPicPr>
          <p:cNvPr id="583" name="" descr=""/>
          <p:cNvPicPr/>
          <p:nvPr/>
        </p:nvPicPr>
        <p:blipFill>
          <a:blip r:embed="rId1"/>
          <a:stretch/>
        </p:blipFill>
        <p:spPr>
          <a:xfrm>
            <a:off x="1600200" y="1940040"/>
            <a:ext cx="6291360" cy="42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Relationship Among Middleware Modules 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graphicFrame>
        <p:nvGraphicFramePr>
          <p:cNvPr id="585" name=""/>
          <p:cNvGraphicFramePr/>
          <p:nvPr/>
        </p:nvGraphicFramePr>
        <p:xfrm>
          <a:off x="152280" y="1600200"/>
          <a:ext cx="89154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600200"/>
                    <a:ext cx="89154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980720" y="1828800"/>
            <a:ext cx="6248520" cy="273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afd00"/>
                </a:solidFill>
                <a:latin typeface="Arial"/>
              </a:rPr>
              <a:t>Single I/O Space and </a:t>
            </a:r>
            <a:br>
              <a:rPr sz="4800"/>
            </a:br>
            <a:r>
              <a:rPr b="0" lang="en-US" sz="4800" spc="-1" strike="noStrike">
                <a:solidFill>
                  <a:srgbClr val="fafd00"/>
                </a:solidFill>
                <a:latin typeface="Arial"/>
              </a:rPr>
              <a:t>Design Issues</a:t>
            </a:r>
            <a:endParaRPr b="1" lang="en-US" sz="4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588" name=""/>
          <p:cNvSpPr/>
          <p:nvPr/>
        </p:nvSpPr>
        <p:spPr>
          <a:xfrm>
            <a:off x="2133720" y="76320"/>
            <a:ext cx="6819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Globalised Cluster Stora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80880" y="5029200"/>
            <a:ext cx="8534520" cy="13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Referenc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Designing SSI Clusters with Hierarchical Checkpointing and Single I/O Space”, </a:t>
            </a:r>
            <a:r>
              <a:rPr b="1" i="1" lang="en-US" sz="2000" spc="-1" strike="noStrike">
                <a:solidFill>
                  <a:srgbClr val="fafd00"/>
                </a:solidFill>
                <a:latin typeface="Times New Roman"/>
              </a:rPr>
              <a:t>IEEE Concurrency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, March, 19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y K. Hwang, H. Jin et.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285640" y="759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Technology Trend...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68040" y="1752120"/>
            <a:ext cx="71089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Performance of PC/Workstations components has almost reached performance of those used in supercomputers…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croprocessors (50% to 100% per yea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tworks   (Gigabit .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perating Syst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gramming environm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li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Rate of performance improvements of commodity components is too high.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380880" y="2079720"/>
            <a:ext cx="3983040" cy="40924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ff"/>
                </a:solidFill>
                <a:latin typeface="Times New Roman"/>
              </a:rPr>
              <a:t>Without  Single I/O Sp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677960" y="2351160"/>
            <a:ext cx="1252440" cy="5414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Us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303640" y="2916360"/>
            <a:ext cx="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687240" y="3505320"/>
            <a:ext cx="3259440" cy="540720"/>
            <a:chOff x="687240" y="3505320"/>
            <a:chExt cx="3259440" cy="540720"/>
          </a:xfrm>
        </p:grpSpPr>
        <p:grpSp>
          <p:nvGrpSpPr>
            <p:cNvPr id="594" name=""/>
            <p:cNvGrpSpPr/>
            <p:nvPr/>
          </p:nvGrpSpPr>
          <p:grpSpPr>
            <a:xfrm>
              <a:off x="687240" y="3505320"/>
              <a:ext cx="3259440" cy="540720"/>
              <a:chOff x="687240" y="3505320"/>
              <a:chExt cx="3259440" cy="540720"/>
            </a:xfrm>
          </p:grpSpPr>
          <p:grpSp>
            <p:nvGrpSpPr>
              <p:cNvPr id="595" name=""/>
              <p:cNvGrpSpPr/>
              <p:nvPr/>
            </p:nvGrpSpPr>
            <p:grpSpPr>
              <a:xfrm>
                <a:off x="2442240" y="3505320"/>
                <a:ext cx="626760" cy="540720"/>
                <a:chOff x="2442240" y="3505320"/>
                <a:chExt cx="626760" cy="540720"/>
              </a:xfrm>
            </p:grpSpPr>
            <p:sp>
              <p:nvSpPr>
                <p:cNvPr id="596" name=""/>
                <p:cNvSpPr/>
                <p:nvPr/>
              </p:nvSpPr>
              <p:spPr>
                <a:xfrm>
                  <a:off x="2442240" y="3911040"/>
                  <a:ext cx="626760" cy="135000"/>
                </a:xfrm>
                <a:prstGeom prst="rect">
                  <a:avLst/>
                </a:prstGeom>
                <a:solidFill>
                  <a:srgbClr val="f6bf6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2567520" y="3505320"/>
                  <a:ext cx="375840" cy="405720"/>
                </a:xfrm>
                <a:prstGeom prst="rect">
                  <a:avLst/>
                </a:prstGeom>
                <a:solidFill>
                  <a:srgbClr val="f6bf6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8" name=""/>
              <p:cNvGrpSpPr/>
              <p:nvPr/>
            </p:nvGrpSpPr>
            <p:grpSpPr>
              <a:xfrm>
                <a:off x="3319920" y="3505320"/>
                <a:ext cx="626760" cy="540720"/>
                <a:chOff x="3319920" y="3505320"/>
                <a:chExt cx="626760" cy="540720"/>
              </a:xfrm>
            </p:grpSpPr>
            <p:sp>
              <p:nvSpPr>
                <p:cNvPr id="599" name=""/>
                <p:cNvSpPr/>
                <p:nvPr/>
              </p:nvSpPr>
              <p:spPr>
                <a:xfrm>
                  <a:off x="3319920" y="3911040"/>
                  <a:ext cx="626760" cy="135000"/>
                </a:xfrm>
                <a:prstGeom prst="rect">
                  <a:avLst/>
                </a:prstGeom>
                <a:solidFill>
                  <a:srgbClr val="f6bf6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3445200" y="3505320"/>
                  <a:ext cx="375840" cy="405720"/>
                </a:xfrm>
                <a:prstGeom prst="rect">
                  <a:avLst/>
                </a:prstGeom>
                <a:solidFill>
                  <a:srgbClr val="f6bf6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1" name=""/>
              <p:cNvGrpSpPr/>
              <p:nvPr/>
            </p:nvGrpSpPr>
            <p:grpSpPr>
              <a:xfrm>
                <a:off x="687240" y="3505320"/>
                <a:ext cx="626760" cy="540720"/>
                <a:chOff x="687240" y="3505320"/>
                <a:chExt cx="626760" cy="540720"/>
              </a:xfrm>
            </p:grpSpPr>
            <p:sp>
              <p:nvSpPr>
                <p:cNvPr id="602" name=""/>
                <p:cNvSpPr/>
                <p:nvPr/>
              </p:nvSpPr>
              <p:spPr>
                <a:xfrm>
                  <a:off x="687240" y="3911040"/>
                  <a:ext cx="626760" cy="135000"/>
                </a:xfrm>
                <a:prstGeom prst="rect">
                  <a:avLst/>
                </a:prstGeom>
                <a:solidFill>
                  <a:srgbClr val="f6bf6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812520" y="3505320"/>
                  <a:ext cx="375840" cy="405720"/>
                </a:xfrm>
                <a:prstGeom prst="rect">
                  <a:avLst/>
                </a:prstGeom>
                <a:solidFill>
                  <a:srgbClr val="f6bf6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4" name=""/>
              <p:cNvGrpSpPr/>
              <p:nvPr/>
            </p:nvGrpSpPr>
            <p:grpSpPr>
              <a:xfrm>
                <a:off x="1564560" y="3505320"/>
                <a:ext cx="626760" cy="540720"/>
                <a:chOff x="1564560" y="3505320"/>
                <a:chExt cx="626760" cy="540720"/>
              </a:xfrm>
            </p:grpSpPr>
            <p:sp>
              <p:nvSpPr>
                <p:cNvPr id="605" name=""/>
                <p:cNvSpPr/>
                <p:nvPr/>
              </p:nvSpPr>
              <p:spPr>
                <a:xfrm>
                  <a:off x="1564560" y="3911040"/>
                  <a:ext cx="626760" cy="135000"/>
                </a:xfrm>
                <a:prstGeom prst="rect">
                  <a:avLst/>
                </a:prstGeom>
                <a:solidFill>
                  <a:srgbClr val="f6bf6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1689840" y="3505320"/>
                  <a:ext cx="375840" cy="405720"/>
                </a:xfrm>
                <a:prstGeom prst="rect">
                  <a:avLst/>
                </a:prstGeom>
                <a:solidFill>
                  <a:srgbClr val="f6bf6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07" name=""/>
            <p:cNvSpPr/>
            <p:nvPr/>
          </p:nvSpPr>
          <p:spPr>
            <a:xfrm>
              <a:off x="1439280" y="3909600"/>
              <a:ext cx="1177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316960" y="3909600"/>
              <a:ext cx="1177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194280" y="3909600"/>
              <a:ext cx="1166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4670280" y="2111400"/>
            <a:ext cx="4135680" cy="4060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ff"/>
                </a:solidFill>
                <a:latin typeface="Times New Roman"/>
              </a:rPr>
              <a:t>With Single I/O Space Servi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048360" y="2341440"/>
            <a:ext cx="1252440" cy="6159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Us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675480" y="29559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029200" y="4235400"/>
            <a:ext cx="3176640" cy="3841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I/O Space Servi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888840" y="4249800"/>
            <a:ext cx="311400" cy="512280"/>
            <a:chOff x="888840" y="4249800"/>
            <a:chExt cx="311400" cy="512280"/>
          </a:xfrm>
        </p:grpSpPr>
        <p:sp>
          <p:nvSpPr>
            <p:cNvPr id="615" name=""/>
            <p:cNvSpPr/>
            <p:nvPr/>
          </p:nvSpPr>
          <p:spPr>
            <a:xfrm>
              <a:off x="888840" y="4249800"/>
              <a:ext cx="311400" cy="17100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888840" y="4343040"/>
              <a:ext cx="0" cy="34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198800" y="4349880"/>
              <a:ext cx="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888840" y="4591080"/>
              <a:ext cx="311400" cy="17100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1739880" y="4249800"/>
            <a:ext cx="311040" cy="512280"/>
            <a:chOff x="1739880" y="4249800"/>
            <a:chExt cx="311040" cy="512280"/>
          </a:xfrm>
        </p:grpSpPr>
        <p:sp>
          <p:nvSpPr>
            <p:cNvPr id="620" name=""/>
            <p:cNvSpPr/>
            <p:nvPr/>
          </p:nvSpPr>
          <p:spPr>
            <a:xfrm>
              <a:off x="1739880" y="4249800"/>
              <a:ext cx="311040" cy="17100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739880" y="4343040"/>
              <a:ext cx="0" cy="34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049480" y="4349880"/>
              <a:ext cx="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739880" y="4591080"/>
              <a:ext cx="311040" cy="17100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2576520" y="4253040"/>
            <a:ext cx="311040" cy="510840"/>
            <a:chOff x="2576520" y="4253040"/>
            <a:chExt cx="311040" cy="510840"/>
          </a:xfrm>
        </p:grpSpPr>
        <p:sp>
          <p:nvSpPr>
            <p:cNvPr id="625" name=""/>
            <p:cNvSpPr/>
            <p:nvPr/>
          </p:nvSpPr>
          <p:spPr>
            <a:xfrm>
              <a:off x="2576520" y="4253040"/>
              <a:ext cx="311040" cy="1706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576520" y="4345920"/>
              <a:ext cx="0" cy="34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886120" y="4352760"/>
              <a:ext cx="0" cy="34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576520" y="4593240"/>
              <a:ext cx="311040" cy="1706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3470400" y="4265640"/>
            <a:ext cx="311040" cy="510840"/>
            <a:chOff x="3470400" y="4265640"/>
            <a:chExt cx="311040" cy="510840"/>
          </a:xfrm>
        </p:grpSpPr>
        <p:sp>
          <p:nvSpPr>
            <p:cNvPr id="630" name=""/>
            <p:cNvSpPr/>
            <p:nvPr/>
          </p:nvSpPr>
          <p:spPr>
            <a:xfrm>
              <a:off x="3470400" y="4265640"/>
              <a:ext cx="311040" cy="1706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470400" y="4358520"/>
              <a:ext cx="0" cy="34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780000" y="4365360"/>
              <a:ext cx="0" cy="34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470400" y="4605840"/>
              <a:ext cx="311040" cy="1706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4" name=""/>
          <p:cNvSpPr/>
          <p:nvPr/>
        </p:nvSpPr>
        <p:spPr>
          <a:xfrm>
            <a:off x="1044720" y="406404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895400" y="4046400"/>
            <a:ext cx="0" cy="2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733840" y="406404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625920" y="406404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654960" y="463860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303880" y="4046400"/>
            <a:ext cx="0" cy="18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167520" y="406404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018200" y="406404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897680" y="406224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87800" y="3517920"/>
            <a:ext cx="3259440" cy="542880"/>
            <a:chOff x="4987800" y="3517920"/>
            <a:chExt cx="3259440" cy="542880"/>
          </a:xfrm>
        </p:grpSpPr>
        <p:grpSp>
          <p:nvGrpSpPr>
            <p:cNvPr id="644" name=""/>
            <p:cNvGrpSpPr/>
            <p:nvPr/>
          </p:nvGrpSpPr>
          <p:grpSpPr>
            <a:xfrm>
              <a:off x="4987800" y="3517920"/>
              <a:ext cx="3259440" cy="542880"/>
              <a:chOff x="4987800" y="3517920"/>
              <a:chExt cx="3259440" cy="542880"/>
            </a:xfrm>
          </p:grpSpPr>
          <p:grpSp>
            <p:nvGrpSpPr>
              <p:cNvPr id="645" name=""/>
              <p:cNvGrpSpPr/>
              <p:nvPr/>
            </p:nvGrpSpPr>
            <p:grpSpPr>
              <a:xfrm>
                <a:off x="6742800" y="3517920"/>
                <a:ext cx="626760" cy="542880"/>
                <a:chOff x="6742800" y="3517920"/>
                <a:chExt cx="626760" cy="542880"/>
              </a:xfrm>
            </p:grpSpPr>
            <p:sp>
              <p:nvSpPr>
                <p:cNvPr id="646" name=""/>
                <p:cNvSpPr/>
                <p:nvPr/>
              </p:nvSpPr>
              <p:spPr>
                <a:xfrm>
                  <a:off x="6742800" y="3925080"/>
                  <a:ext cx="626760" cy="135720"/>
                </a:xfrm>
                <a:prstGeom prst="rect">
                  <a:avLst/>
                </a:prstGeom>
                <a:solidFill>
                  <a:srgbClr val="f6bf6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6868080" y="3517920"/>
                  <a:ext cx="375840" cy="407160"/>
                </a:xfrm>
                <a:prstGeom prst="rect">
                  <a:avLst/>
                </a:prstGeom>
                <a:solidFill>
                  <a:srgbClr val="f6bf6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8" name=""/>
              <p:cNvGrpSpPr/>
              <p:nvPr/>
            </p:nvGrpSpPr>
            <p:grpSpPr>
              <a:xfrm>
                <a:off x="7620480" y="3517920"/>
                <a:ext cx="626760" cy="542880"/>
                <a:chOff x="7620480" y="3517920"/>
                <a:chExt cx="626760" cy="542880"/>
              </a:xfrm>
            </p:grpSpPr>
            <p:sp>
              <p:nvSpPr>
                <p:cNvPr id="649" name=""/>
                <p:cNvSpPr/>
                <p:nvPr/>
              </p:nvSpPr>
              <p:spPr>
                <a:xfrm>
                  <a:off x="7620480" y="3925080"/>
                  <a:ext cx="626760" cy="135720"/>
                </a:xfrm>
                <a:prstGeom prst="rect">
                  <a:avLst/>
                </a:prstGeom>
                <a:solidFill>
                  <a:srgbClr val="f6bf6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7745760" y="3517920"/>
                  <a:ext cx="375840" cy="407160"/>
                </a:xfrm>
                <a:prstGeom prst="rect">
                  <a:avLst/>
                </a:prstGeom>
                <a:solidFill>
                  <a:srgbClr val="f6bf6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1" name=""/>
              <p:cNvGrpSpPr/>
              <p:nvPr/>
            </p:nvGrpSpPr>
            <p:grpSpPr>
              <a:xfrm>
                <a:off x="4987800" y="3517920"/>
                <a:ext cx="626760" cy="542880"/>
                <a:chOff x="4987800" y="3517920"/>
                <a:chExt cx="626760" cy="542880"/>
              </a:xfrm>
            </p:grpSpPr>
            <p:sp>
              <p:nvSpPr>
                <p:cNvPr id="652" name=""/>
                <p:cNvSpPr/>
                <p:nvPr/>
              </p:nvSpPr>
              <p:spPr>
                <a:xfrm>
                  <a:off x="4987800" y="3925080"/>
                  <a:ext cx="626760" cy="135720"/>
                </a:xfrm>
                <a:prstGeom prst="rect">
                  <a:avLst/>
                </a:prstGeom>
                <a:solidFill>
                  <a:srgbClr val="f6bf6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5113080" y="3517920"/>
                  <a:ext cx="375840" cy="407160"/>
                </a:xfrm>
                <a:prstGeom prst="rect">
                  <a:avLst/>
                </a:prstGeom>
                <a:solidFill>
                  <a:srgbClr val="f6bf6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4" name=""/>
              <p:cNvGrpSpPr/>
              <p:nvPr/>
            </p:nvGrpSpPr>
            <p:grpSpPr>
              <a:xfrm>
                <a:off x="5865120" y="3517920"/>
                <a:ext cx="626760" cy="542880"/>
                <a:chOff x="5865120" y="3517920"/>
                <a:chExt cx="626760" cy="542880"/>
              </a:xfrm>
            </p:grpSpPr>
            <p:sp>
              <p:nvSpPr>
                <p:cNvPr id="655" name=""/>
                <p:cNvSpPr/>
                <p:nvPr/>
              </p:nvSpPr>
              <p:spPr>
                <a:xfrm>
                  <a:off x="5865120" y="3925080"/>
                  <a:ext cx="626760" cy="135720"/>
                </a:xfrm>
                <a:prstGeom prst="rect">
                  <a:avLst/>
                </a:prstGeom>
                <a:solidFill>
                  <a:srgbClr val="f6bf6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5990400" y="3517920"/>
                  <a:ext cx="375840" cy="407160"/>
                </a:xfrm>
                <a:prstGeom prst="rect">
                  <a:avLst/>
                </a:prstGeom>
                <a:solidFill>
                  <a:srgbClr val="f6bf6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7" name=""/>
            <p:cNvSpPr/>
            <p:nvPr/>
          </p:nvSpPr>
          <p:spPr>
            <a:xfrm>
              <a:off x="5739840" y="3923640"/>
              <a:ext cx="1177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617520" y="3923640"/>
              <a:ext cx="1177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494840" y="3923640"/>
              <a:ext cx="1166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6080040" y="4809960"/>
            <a:ext cx="1188360" cy="510840"/>
            <a:chOff x="6080040" y="4809960"/>
            <a:chExt cx="1188360" cy="510840"/>
          </a:xfrm>
        </p:grpSpPr>
        <p:sp>
          <p:nvSpPr>
            <p:cNvPr id="661" name=""/>
            <p:cNvSpPr/>
            <p:nvPr/>
          </p:nvSpPr>
          <p:spPr>
            <a:xfrm>
              <a:off x="6080040" y="4809960"/>
              <a:ext cx="1188360" cy="170640"/>
            </a:xfrm>
            <a:prstGeom prst="ellipse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080040" y="4902840"/>
              <a:ext cx="0" cy="34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263720" y="4909680"/>
              <a:ext cx="0" cy="34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080040" y="5150160"/>
              <a:ext cx="1188360" cy="170640"/>
            </a:xfrm>
            <a:prstGeom prst="ellipse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5" name=""/>
          <p:cNvSpPr/>
          <p:nvPr/>
        </p:nvSpPr>
        <p:spPr>
          <a:xfrm>
            <a:off x="1866960" y="152280"/>
            <a:ext cx="7048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Clusters with &amp; without Single I/O Spa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285640" y="-152640"/>
            <a:ext cx="655308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Benefits of Single I/O Space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295280" y="2743200"/>
            <a:ext cx="746784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25000"/>
              </a:lnSpc>
              <a:spcBef>
                <a:spcPts val="675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Eliminate the gap between accessing local disk(s) and remote disks</a:t>
            </a:r>
            <a:endParaRPr b="1" lang="en-US" sz="18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125000"/>
              </a:lnSpc>
              <a:spcBef>
                <a:spcPts val="675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upport persistent programming paradigm</a:t>
            </a:r>
            <a:endParaRPr b="1" lang="en-US" sz="18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125000"/>
              </a:lnSpc>
              <a:spcBef>
                <a:spcPts val="675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Allow striping on remote disks, accelerate parallel I/O operations</a:t>
            </a:r>
            <a:endParaRPr b="1" lang="en-US" sz="18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125000"/>
              </a:lnSpc>
              <a:spcBef>
                <a:spcPts val="675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Facilitate the implementation of distributed checkpointing and recovery schemes</a:t>
            </a:r>
            <a:endParaRPr b="1" lang="en-US" sz="18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  <p:transition spd="med">
    <p:wipe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904760" y="7632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Single I/O Space Design Issue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600200" y="2590920"/>
            <a:ext cx="7238880" cy="333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5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tegrated I/O Space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15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ddressing and Mapping Mechanism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15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ata movement procedure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380880" y="1828800"/>
            <a:ext cx="8458200" cy="457200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286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Arial"/>
              </a:rPr>
              <a:t>Integrated I/O Space</a:t>
            </a:r>
            <a:endParaRPr b="1" lang="en-US" sz="4000" spc="-1" strike="noStrike">
              <a:solidFill>
                <a:srgbClr val="fafd00"/>
              </a:solidFill>
              <a:latin typeface="Century Gothic"/>
            </a:endParaRPr>
          </a:p>
        </p:txBody>
      </p:sp>
      <p:grpSp>
        <p:nvGrpSpPr>
          <p:cNvPr id="672" name=""/>
          <p:cNvGrpSpPr/>
          <p:nvPr/>
        </p:nvGrpSpPr>
        <p:grpSpPr>
          <a:xfrm>
            <a:off x="447840" y="2057400"/>
            <a:ext cx="8391240" cy="4249800"/>
            <a:chOff x="447840" y="2057400"/>
            <a:chExt cx="8391240" cy="4249800"/>
          </a:xfrm>
        </p:grpSpPr>
        <p:sp>
          <p:nvSpPr>
            <p:cNvPr id="673" name=""/>
            <p:cNvSpPr/>
            <p:nvPr/>
          </p:nvSpPr>
          <p:spPr>
            <a:xfrm>
              <a:off x="447840" y="3321000"/>
              <a:ext cx="1469880" cy="84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equential addresses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698480" y="2301840"/>
              <a:ext cx="0" cy="4005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983040" y="2057400"/>
              <a:ext cx="387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Kabel Ult BT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Kabel Ult BT"/>
                </a:rPr>
                <a:t>. . 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487600" y="2133720"/>
              <a:ext cx="4240080" cy="279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502000" y="2416320"/>
              <a:ext cx="4225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487600" y="2698920"/>
              <a:ext cx="4224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487600" y="3189240"/>
              <a:ext cx="422424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487600" y="3490920"/>
              <a:ext cx="4224240" cy="1440"/>
            </a:xfrm>
            <a:prstGeom prst="line">
              <a:avLst/>
            </a:prstGeom>
            <a:ln w="23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471760" y="3765600"/>
              <a:ext cx="4224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487600" y="4046400"/>
              <a:ext cx="4224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471760" y="4603680"/>
              <a:ext cx="4224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656440" y="3560760"/>
              <a:ext cx="340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1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218040" y="3483000"/>
              <a:ext cx="0" cy="1438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978360" y="3500280"/>
              <a:ext cx="3240" cy="1438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952960" y="3505320"/>
              <a:ext cx="0" cy="1363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582640" y="4114800"/>
              <a:ext cx="31932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D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319200" y="4102200"/>
              <a:ext cx="31932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D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015600" y="4125960"/>
              <a:ext cx="35748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D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470480" y="3430440"/>
              <a:ext cx="387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Kabel Ult BT"/>
                </a:rPr>
                <a:t>. . . 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470480" y="3705120"/>
              <a:ext cx="387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Kabel Ult BT"/>
                </a:rPr>
                <a:t>. . . 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191840" y="4102200"/>
              <a:ext cx="494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Kabel Ult BT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Kabel Ult BT"/>
                </a:rPr>
                <a:t>. . . 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332600" y="4502160"/>
              <a:ext cx="44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Kabel Ult BT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Kabel Ult BT"/>
                </a:rPr>
                <a:t>. . . 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016080" y="2149560"/>
              <a:ext cx="0" cy="135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497400" y="2141640"/>
              <a:ext cx="1440" cy="135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137280" y="2149560"/>
              <a:ext cx="0" cy="135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983040" y="2360520"/>
              <a:ext cx="387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Kabel Ult BT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Kabel Ult BT"/>
                </a:rPr>
                <a:t>. . 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983040" y="3076560"/>
              <a:ext cx="387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Kabel Ult BT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Kabel Ult BT"/>
                </a:rPr>
                <a:t>. . 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531160" y="2182680"/>
              <a:ext cx="351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1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056400" y="2182680"/>
              <a:ext cx="351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1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226200" y="2171880"/>
              <a:ext cx="31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1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577240" y="2454120"/>
              <a:ext cx="351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2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056400" y="2454120"/>
              <a:ext cx="351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2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224760" y="2478240"/>
              <a:ext cx="31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2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559960" y="3252960"/>
              <a:ext cx="36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n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045600" y="3252960"/>
              <a:ext cx="36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n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215040" y="3270240"/>
              <a:ext cx="32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686680" y="3830760"/>
              <a:ext cx="340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1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640600" y="4683240"/>
              <a:ext cx="351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1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402360" y="3560760"/>
              <a:ext cx="340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2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388320" y="3819600"/>
              <a:ext cx="340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2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467520" y="4683240"/>
              <a:ext cx="351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2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119280" y="3552840"/>
              <a:ext cx="40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m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119280" y="3830760"/>
              <a:ext cx="40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m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116400" y="4692600"/>
              <a:ext cx="41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m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922040" y="2112840"/>
              <a:ext cx="34200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D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929240" y="2478240"/>
              <a:ext cx="38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D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953000" y="3224160"/>
              <a:ext cx="34812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D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278840" y="2201760"/>
              <a:ext cx="823680" cy="12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Local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isks,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RAD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pace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278120" y="3805200"/>
              <a:ext cx="1549080" cy="9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hared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AIDs,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NASD Space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808680" y="2182680"/>
              <a:ext cx="406440" cy="1228680"/>
            </a:xfrm>
            <a:custGeom>
              <a:avLst/>
              <a:gdLst>
                <a:gd name="textAreaLeft" fmla="*/ 0 w 406440"/>
                <a:gd name="textAreaRight" fmla="*/ 146880 w 406440"/>
                <a:gd name="textAreaTop" fmla="*/ 32040 h 1228680"/>
                <a:gd name="textAreaBottom" fmla="*/ 1196640 h 122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838920" y="3535200"/>
              <a:ext cx="362160" cy="1333800"/>
            </a:xfrm>
            <a:custGeom>
              <a:avLst/>
              <a:gdLst>
                <a:gd name="textAreaLeft" fmla="*/ 0 w 362160"/>
                <a:gd name="textAreaRight" fmla="*/ 130680 w 362160"/>
                <a:gd name="textAreaTop" fmla="*/ 34560 h 1333800"/>
                <a:gd name="textAreaBottom" fmla="*/ 1299240 h 133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983040" y="2708280"/>
              <a:ext cx="387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Kabel Ult BT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Kabel Ult BT"/>
                </a:rPr>
                <a:t>. . 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482920" y="4902120"/>
              <a:ext cx="4246560" cy="13082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498760" y="5338800"/>
              <a:ext cx="4214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017880" y="4930920"/>
              <a:ext cx="8650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881440" y="5759280"/>
              <a:ext cx="110016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726000" y="5076720"/>
              <a:ext cx="188748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.   .   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808680" y="4917960"/>
              <a:ext cx="411120" cy="1233720"/>
            </a:xfrm>
            <a:custGeom>
              <a:avLst/>
              <a:gdLst>
                <a:gd name="textAreaLeft" fmla="*/ 0 w 411120"/>
                <a:gd name="textAreaRight" fmla="*/ 148320 w 411120"/>
                <a:gd name="textAreaTop" fmla="*/ 32040 h 1233720"/>
                <a:gd name="textAreaBottom" fmla="*/ 1201680 h 123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202520" y="5076720"/>
              <a:ext cx="163656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eripheral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NAP Space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482920" y="5759280"/>
              <a:ext cx="4216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7188120" y="3090960"/>
            <a:ext cx="1586160" cy="18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r-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ddlew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lus some Modified 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ystem Cal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2449440" y="2133720"/>
            <a:ext cx="2833920" cy="539640"/>
          </a:xfrm>
          <a:prstGeom prst="rect">
            <a:avLst/>
          </a:prstGeom>
          <a:solidFill>
            <a:srgbClr val="f6bf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User Appl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147680" y="5126040"/>
            <a:ext cx="507960" cy="571320"/>
          </a:xfrm>
          <a:prstGeom prst="can">
            <a:avLst>
              <a:gd name="adj" fmla="val 2500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rot="5400000">
            <a:off x="1815120" y="5118840"/>
            <a:ext cx="250920" cy="1535040"/>
          </a:xfrm>
          <a:custGeom>
            <a:avLst/>
            <a:gdLst>
              <a:gd name="textAreaLeft" fmla="*/ 0 w 250920"/>
              <a:gd name="textAreaRight" fmla="*/ 90720 w 250920"/>
              <a:gd name="textAreaTop" fmla="*/ 39960 h 1535040"/>
              <a:gd name="textAreaBottom" fmla="*/ 1495080 h 1535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778040" y="5427720"/>
            <a:ext cx="4665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503360" y="5999040"/>
            <a:ext cx="1039680" cy="4921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AD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15880" y="3090960"/>
            <a:ext cx="6113520" cy="183816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57360" y="4027320"/>
            <a:ext cx="5803920" cy="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833400" y="4203720"/>
            <a:ext cx="1157400" cy="528480"/>
          </a:xfrm>
          <a:prstGeom prst="rect">
            <a:avLst/>
          </a:prstGeom>
          <a:solidFill>
            <a:srgbClr val="0000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/O Ag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700200" y="3211560"/>
            <a:ext cx="1473120" cy="496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Name Ag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705040" y="3219480"/>
            <a:ext cx="1816200" cy="72396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Disk/RAID/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NAP Mapp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834080" y="3219480"/>
            <a:ext cx="1473120" cy="48888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Block Mo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328840" y="5141880"/>
            <a:ext cx="507960" cy="569880"/>
          </a:xfrm>
          <a:prstGeom prst="can">
            <a:avLst>
              <a:gd name="adj" fmla="val 2500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2166840" y="4186080"/>
            <a:ext cx="1208160" cy="500400"/>
          </a:xfrm>
          <a:prstGeom prst="rect">
            <a:avLst/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/O Ag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322880" y="5081760"/>
            <a:ext cx="507960" cy="58896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543480" y="5081760"/>
            <a:ext cx="507960" cy="58896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rot="5400000">
            <a:off x="4007160" y="5299560"/>
            <a:ext cx="257040" cy="1087560"/>
          </a:xfrm>
          <a:custGeom>
            <a:avLst/>
            <a:gdLst>
              <a:gd name="textAreaLeft" fmla="*/ 0 w 257040"/>
              <a:gd name="textAreaRight" fmla="*/ 92880 w 257040"/>
              <a:gd name="textAreaTop" fmla="*/ 28080 h 1087560"/>
              <a:gd name="textAreaBottom" fmla="*/ 1059480 h 108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728880" y="6018120"/>
            <a:ext cx="952560" cy="4748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AS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790800" y="4940280"/>
            <a:ext cx="0" cy="150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583160" y="492912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625920" y="4191120"/>
            <a:ext cx="1262160" cy="566640"/>
          </a:xfrm>
          <a:prstGeom prst="rect">
            <a:avLst/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/O Ag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113360" y="4756320"/>
            <a:ext cx="0" cy="207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V="1">
            <a:off x="304920" y="2890440"/>
            <a:ext cx="6783120" cy="20520"/>
          </a:xfrm>
          <a:prstGeom prst="line">
            <a:avLst/>
          </a:prstGeom>
          <a:ln w="381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727680" y="3146400"/>
            <a:ext cx="371520" cy="1784520"/>
          </a:xfrm>
          <a:custGeom>
            <a:avLst/>
            <a:gdLst>
              <a:gd name="textAreaLeft" fmla="*/ 0 w 371520"/>
              <a:gd name="textAreaRight" fmla="*/ 134280 w 371520"/>
              <a:gd name="textAreaTop" fmla="*/ 46440 h 1784520"/>
              <a:gd name="textAreaBottom" fmla="*/ 1738080 h 1784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rot="5400000">
            <a:off x="5617080" y="5090040"/>
            <a:ext cx="236520" cy="1473120"/>
          </a:xfrm>
          <a:custGeom>
            <a:avLst/>
            <a:gdLst>
              <a:gd name="textAreaLeft" fmla="*/ 0 w 236520"/>
              <a:gd name="textAreaRight" fmla="*/ 85320 w 236520"/>
              <a:gd name="textAreaTop" fmla="*/ 38160 h 1473120"/>
              <a:gd name="textAreaBottom" fmla="*/ 1434960 h 1473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489640" y="5985000"/>
            <a:ext cx="745920" cy="490320"/>
          </a:xfrm>
          <a:prstGeom prst="rect">
            <a:avLst/>
          </a:prstGeom>
          <a:solidFill>
            <a:srgbClr val="99cc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A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111640" y="4186080"/>
            <a:ext cx="1262160" cy="584280"/>
          </a:xfrm>
          <a:prstGeom prst="rect">
            <a:avLst/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/O Ag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 flipH="1">
            <a:off x="5690880" y="4781520"/>
            <a:ext cx="3240" cy="41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627520" y="5126040"/>
            <a:ext cx="893880" cy="414360"/>
          </a:xfrm>
          <a:prstGeom prst="flowChartMagneticTap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313240" y="5195880"/>
            <a:ext cx="893880" cy="414360"/>
          </a:xfrm>
          <a:prstGeom prst="flowChartMagneticTap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986360" y="5278320"/>
            <a:ext cx="893880" cy="416160"/>
          </a:xfrm>
          <a:prstGeom prst="flowChartMagneticTap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413000" y="4754520"/>
            <a:ext cx="0" cy="46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H="1">
            <a:off x="2569680" y="4718160"/>
            <a:ext cx="3240" cy="44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666880" y="0"/>
            <a:ext cx="6286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Arial"/>
              </a:rPr>
              <a:t>Addressing and Mapp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057400" y="149040"/>
            <a:ext cx="6858000" cy="84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Data Movement Procedure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768" name=""/>
          <p:cNvSpPr/>
          <p:nvPr/>
        </p:nvSpPr>
        <p:spPr>
          <a:xfrm>
            <a:off x="2860560" y="4203720"/>
            <a:ext cx="1173240" cy="496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de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692680" y="5805360"/>
            <a:ext cx="1843200" cy="70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r S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f the NAS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025880" y="4734000"/>
            <a:ext cx="912960" cy="853920"/>
          </a:xfrm>
          <a:prstGeom prst="rect">
            <a:avLst/>
          </a:prstGeom>
          <a:solidFill>
            <a:srgbClr val="fc012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lock Mo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236600" y="4160880"/>
            <a:ext cx="1687680" cy="15811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457280" y="4203720"/>
            <a:ext cx="1220760" cy="668160"/>
          </a:xfrm>
          <a:prstGeom prst="rect">
            <a:avLst/>
          </a:prstGeom>
          <a:solidFill>
            <a:srgbClr val="ff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ser Applic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496880" y="5018040"/>
            <a:ext cx="1181160" cy="44136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/O Ag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V="1">
            <a:off x="1601640" y="4733640"/>
            <a:ext cx="1800" cy="468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614600" y="5805360"/>
            <a:ext cx="817560" cy="839880"/>
          </a:xfrm>
          <a:prstGeom prst="can">
            <a:avLst>
              <a:gd name="adj" fmla="val 25000"/>
            </a:avLst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014560" y="5459400"/>
            <a:ext cx="0" cy="34596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691320" y="4257720"/>
            <a:ext cx="1685880" cy="14288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991200" y="4370400"/>
            <a:ext cx="13114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de 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7047000" y="4871880"/>
            <a:ext cx="1181160" cy="43200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/O Ag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7140600" y="5805360"/>
            <a:ext cx="817560" cy="900360"/>
          </a:xfrm>
          <a:prstGeom prst="can">
            <a:avLst>
              <a:gd name="adj" fmla="val 25000"/>
            </a:avLst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7510320" y="5299200"/>
            <a:ext cx="0" cy="5014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7230960" y="6113520"/>
            <a:ext cx="462240" cy="480960"/>
          </a:xfrm>
          <a:prstGeom prst="rect">
            <a:avLst/>
          </a:prstGeom>
          <a:solidFill>
            <a:srgbClr val="f6bf69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H="1" flipV="1">
            <a:off x="7319520" y="5235120"/>
            <a:ext cx="190440" cy="878040"/>
          </a:xfrm>
          <a:prstGeom prst="line">
            <a:avLst/>
          </a:prstGeom>
          <a:ln w="1908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835600" y="4871880"/>
            <a:ext cx="531720" cy="486000"/>
          </a:xfrm>
          <a:prstGeom prst="rect">
            <a:avLst/>
          </a:prstGeom>
          <a:solidFill>
            <a:srgbClr val="f6bf69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H="1" flipV="1">
            <a:off x="6405480" y="5017680"/>
            <a:ext cx="650880" cy="324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H="1" flipV="1">
            <a:off x="4930920" y="4978080"/>
            <a:ext cx="922320" cy="46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 flipH="1">
            <a:off x="2584440" y="4940280"/>
            <a:ext cx="1486080" cy="40320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671480" y="6113520"/>
            <a:ext cx="7606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LD</a:t>
            </a:r>
            <a:r>
              <a:rPr b="1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938320" y="1565280"/>
            <a:ext cx="1057320" cy="387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de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502240" y="3138480"/>
            <a:ext cx="1446120" cy="846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or S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f the NAS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4948200" y="1773360"/>
            <a:ext cx="965160" cy="690480"/>
          </a:xfrm>
          <a:prstGeom prst="rect">
            <a:avLst/>
          </a:prstGeom>
          <a:solidFill>
            <a:srgbClr val="fc012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lock Mo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490760" y="1646280"/>
            <a:ext cx="1519200" cy="13762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635120" y="1738440"/>
            <a:ext cx="1276200" cy="618840"/>
          </a:xfrm>
          <a:prstGeom prst="rect">
            <a:avLst/>
          </a:prstGeom>
          <a:solidFill>
            <a:srgbClr val="ff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ser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712880" y="2565360"/>
            <a:ext cx="1089000" cy="38088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/O Ag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800360" y="2328840"/>
            <a:ext cx="0" cy="297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800360" y="3238560"/>
            <a:ext cx="734760" cy="660240"/>
          </a:xfrm>
          <a:prstGeom prst="can">
            <a:avLst>
              <a:gd name="adj" fmla="val 25000"/>
            </a:avLst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2190600" y="2946240"/>
            <a:ext cx="0" cy="30168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6519960" y="1943280"/>
            <a:ext cx="1519200" cy="9936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647040" y="1925640"/>
            <a:ext cx="121104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de 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6727680" y="2392200"/>
            <a:ext cx="1101960" cy="42732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/O Ag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775560" y="3097080"/>
            <a:ext cx="736560" cy="792360"/>
          </a:xfrm>
          <a:prstGeom prst="can">
            <a:avLst>
              <a:gd name="adj" fmla="val 25000"/>
            </a:avLst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7129440" y="2784600"/>
            <a:ext cx="14400" cy="31248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6942240" y="3340080"/>
            <a:ext cx="415800" cy="425520"/>
          </a:xfrm>
          <a:prstGeom prst="rect">
            <a:avLst/>
          </a:prstGeom>
          <a:solidFill>
            <a:srgbClr val="f6bf69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176640" y="2049480"/>
            <a:ext cx="952560" cy="95580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lock 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2701800" y="2463840"/>
            <a:ext cx="498600" cy="26496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4175280" y="2019240"/>
            <a:ext cx="785520" cy="2383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872320" y="2087640"/>
            <a:ext cx="866520" cy="47124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835280" y="3424320"/>
            <a:ext cx="74772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746280" y="4079880"/>
            <a:ext cx="801684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Adoption of the Approach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pic>
        <p:nvPicPr>
          <p:cNvPr id="811" name="hotmail_logo" descr=""/>
          <p:cNvPicPr/>
          <p:nvPr/>
        </p:nvPicPr>
        <p:blipFill>
          <a:blip r:embed="rId1"/>
          <a:stretch/>
        </p:blipFill>
        <p:spPr>
          <a:xfrm>
            <a:off x="6705720" y="3448080"/>
            <a:ext cx="2133360" cy="1596960"/>
          </a:xfrm>
          <a:prstGeom prst="rect">
            <a:avLst/>
          </a:prstGeom>
          <a:ln w="0">
            <a:noFill/>
          </a:ln>
        </p:spPr>
      </p:pic>
      <p:grpSp>
        <p:nvGrpSpPr>
          <p:cNvPr id="812" name=""/>
          <p:cNvGrpSpPr/>
          <p:nvPr/>
        </p:nvGrpSpPr>
        <p:grpSpPr>
          <a:xfrm>
            <a:off x="2057400" y="3067200"/>
            <a:ext cx="2666520" cy="2151000"/>
            <a:chOff x="2057400" y="3067200"/>
            <a:chExt cx="2666520" cy="2151000"/>
          </a:xfrm>
        </p:grpSpPr>
        <p:graphicFrame>
          <p:nvGraphicFramePr>
            <p:cNvPr id="813" name=""/>
            <p:cNvGraphicFramePr/>
            <p:nvPr/>
          </p:nvGraphicFramePr>
          <p:xfrm>
            <a:off x="2057400" y="3067200"/>
            <a:ext cx="2196720" cy="417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1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057400" y="3067200"/>
                      <a:ext cx="2196720" cy="41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5" name="" descr=""/>
            <p:cNvPicPr/>
            <p:nvPr/>
          </p:nvPicPr>
          <p:blipFill>
            <a:blip r:embed="rId4"/>
            <a:stretch/>
          </p:blipFill>
          <p:spPr>
            <a:xfrm>
              <a:off x="2199960" y="3484800"/>
              <a:ext cx="2523960" cy="1733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16" name=""/>
          <p:cNvGrpSpPr/>
          <p:nvPr/>
        </p:nvGrpSpPr>
        <p:grpSpPr>
          <a:xfrm>
            <a:off x="2057400" y="4514760"/>
            <a:ext cx="5000760" cy="2006640"/>
            <a:chOff x="2057400" y="4514760"/>
            <a:chExt cx="5000760" cy="2006640"/>
          </a:xfrm>
        </p:grpSpPr>
        <p:graphicFrame>
          <p:nvGraphicFramePr>
            <p:cNvPr id="817" name=""/>
            <p:cNvGraphicFramePr/>
            <p:nvPr/>
          </p:nvGraphicFramePr>
          <p:xfrm>
            <a:off x="4010040" y="4514760"/>
            <a:ext cx="2349720" cy="598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1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010040" y="4514760"/>
                      <a:ext cx="2349720" cy="59832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819" name=""/>
            <p:cNvGraphicFramePr/>
            <p:nvPr/>
          </p:nvGraphicFramePr>
          <p:xfrm>
            <a:off x="2057400" y="5113080"/>
            <a:ext cx="5000760" cy="14083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2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057400" y="5113080"/>
                      <a:ext cx="5000760" cy="140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21" name="hotbot" descr=""/>
          <p:cNvPicPr/>
          <p:nvPr/>
        </p:nvPicPr>
        <p:blipFill>
          <a:blip r:embed="rId9"/>
          <a:stretch/>
        </p:blipFill>
        <p:spPr>
          <a:xfrm>
            <a:off x="5638680" y="1461960"/>
            <a:ext cx="3048120" cy="919440"/>
          </a:xfrm>
          <a:prstGeom prst="rect">
            <a:avLst/>
          </a:prstGeom>
          <a:ln w="0">
            <a:noFill/>
          </a:ln>
        </p:spPr>
      </p:pic>
      <p:grpSp>
        <p:nvGrpSpPr>
          <p:cNvPr id="822" name=""/>
          <p:cNvGrpSpPr/>
          <p:nvPr/>
        </p:nvGrpSpPr>
        <p:grpSpPr>
          <a:xfrm>
            <a:off x="2057400" y="1390680"/>
            <a:ext cx="3352320" cy="1599480"/>
            <a:chOff x="2057400" y="1390680"/>
            <a:chExt cx="3352320" cy="1599480"/>
          </a:xfrm>
        </p:grpSpPr>
        <p:sp>
          <p:nvSpPr>
            <p:cNvPr id="823" name=""/>
            <p:cNvSpPr/>
            <p:nvPr/>
          </p:nvSpPr>
          <p:spPr>
            <a:xfrm>
              <a:off x="2057400" y="1390680"/>
              <a:ext cx="3352320" cy="1492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24" name="hplogo" descr=""/>
            <p:cNvPicPr/>
            <p:nvPr/>
          </p:nvPicPr>
          <p:blipFill>
            <a:blip r:embed="rId10"/>
            <a:stretch/>
          </p:blipFill>
          <p:spPr>
            <a:xfrm>
              <a:off x="2057400" y="1390680"/>
              <a:ext cx="1833480" cy="69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5" name="netserver_cluster" descr=""/>
            <p:cNvPicPr/>
            <p:nvPr/>
          </p:nvPicPr>
          <p:blipFill>
            <a:blip r:embed="rId11"/>
            <a:stretch/>
          </p:blipFill>
          <p:spPr>
            <a:xfrm>
              <a:off x="3838320" y="1456920"/>
              <a:ext cx="1269720" cy="153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26" name=""/>
          <p:cNvGrpSpPr/>
          <p:nvPr/>
        </p:nvGrpSpPr>
        <p:grpSpPr>
          <a:xfrm>
            <a:off x="304920" y="4362480"/>
            <a:ext cx="3267000" cy="2190600"/>
            <a:chOff x="304920" y="4362480"/>
            <a:chExt cx="3267000" cy="2190600"/>
          </a:xfrm>
        </p:grpSpPr>
        <p:pic>
          <p:nvPicPr>
            <p:cNvPr id="827" name="suncluster" descr=""/>
            <p:cNvPicPr/>
            <p:nvPr/>
          </p:nvPicPr>
          <p:blipFill>
            <a:blip r:embed="rId12"/>
            <a:stretch/>
          </p:blipFill>
          <p:spPr>
            <a:xfrm>
              <a:off x="533520" y="4667040"/>
              <a:ext cx="3038400" cy="188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8" name="sunlogo" descr=""/>
            <p:cNvPicPr/>
            <p:nvPr/>
          </p:nvPicPr>
          <p:blipFill>
            <a:blip r:embed="rId13"/>
            <a:stretch/>
          </p:blipFill>
          <p:spPr>
            <a:xfrm>
              <a:off x="304920" y="4362480"/>
              <a:ext cx="141912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29" name=""/>
          <p:cNvGrpSpPr/>
          <p:nvPr/>
        </p:nvGrpSpPr>
        <p:grpSpPr>
          <a:xfrm>
            <a:off x="380880" y="2000160"/>
            <a:ext cx="1781280" cy="2265480"/>
            <a:chOff x="380880" y="2000160"/>
            <a:chExt cx="1781280" cy="2265480"/>
          </a:xfrm>
        </p:grpSpPr>
        <p:pic>
          <p:nvPicPr>
            <p:cNvPr id="830" name="ibmcluster" descr=""/>
            <p:cNvPicPr/>
            <p:nvPr/>
          </p:nvPicPr>
          <p:blipFill>
            <a:blip r:embed="rId14"/>
            <a:stretch/>
          </p:blipFill>
          <p:spPr>
            <a:xfrm>
              <a:off x="380880" y="2000160"/>
              <a:ext cx="1781280" cy="20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1" name="ibm_logo" descr=""/>
            <p:cNvPicPr/>
            <p:nvPr/>
          </p:nvPicPr>
          <p:blipFill>
            <a:blip r:embed="rId15"/>
            <a:stretch/>
          </p:blipFill>
          <p:spPr>
            <a:xfrm>
              <a:off x="914400" y="3752640"/>
              <a:ext cx="1219320" cy="51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32" name=""/>
          <p:cNvGrpSpPr/>
          <p:nvPr/>
        </p:nvGrpSpPr>
        <p:grpSpPr>
          <a:xfrm>
            <a:off x="5257800" y="2552760"/>
            <a:ext cx="1905120" cy="1809720"/>
            <a:chOff x="5257800" y="2552760"/>
            <a:chExt cx="1905120" cy="1809720"/>
          </a:xfrm>
        </p:grpSpPr>
        <p:pic>
          <p:nvPicPr>
            <p:cNvPr id="833" name="cdaclogo" descr=""/>
            <p:cNvPicPr/>
            <p:nvPr/>
          </p:nvPicPr>
          <p:blipFill>
            <a:blip r:embed="rId16"/>
            <a:stretch/>
          </p:blipFill>
          <p:spPr>
            <a:xfrm>
              <a:off x="5562720" y="2552760"/>
              <a:ext cx="142884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4" name="paramapp" descr=""/>
            <p:cNvPicPr/>
            <p:nvPr/>
          </p:nvPicPr>
          <p:blipFill>
            <a:blip r:embed="rId17"/>
            <a:stretch/>
          </p:blipFill>
          <p:spPr>
            <a:xfrm>
              <a:off x="5257800" y="2934000"/>
              <a:ext cx="1905120" cy="1428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35" name="atlogo" descr=""/>
          <p:cNvPicPr/>
          <p:nvPr/>
        </p:nvPicPr>
        <p:blipFill>
          <a:blip r:embed="rId18"/>
          <a:stretch/>
        </p:blipFill>
        <p:spPr>
          <a:xfrm>
            <a:off x="7543800" y="520056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   </a:t>
            </a: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Summary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47728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c0128"/>
              </a:buClr>
              <a:buSzPct val="75000"/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We have discussed Cluster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  <a:p>
            <a:pPr lvl="1" marL="685800" indent="-228600">
              <a:spcBef>
                <a:spcPts val="799"/>
              </a:spcBef>
              <a:buClr>
                <a:srgbClr val="ffffff"/>
              </a:buClr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abling Technolog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spcBef>
                <a:spcPts val="799"/>
              </a:spcBef>
              <a:buClr>
                <a:srgbClr val="ffffff"/>
              </a:buClr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chitecture &amp; its Compon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spcBef>
                <a:spcPts val="799"/>
              </a:spcBef>
              <a:buClr>
                <a:srgbClr val="ffffff"/>
              </a:buClr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uster Middlew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spcBef>
                <a:spcPts val="799"/>
              </a:spcBef>
              <a:buClr>
                <a:srgbClr val="ffffff"/>
              </a:buClr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ngle System Im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spcBef>
                <a:spcPts val="799"/>
              </a:spcBef>
              <a:buClr>
                <a:srgbClr val="ffffff"/>
              </a:buClr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resentative SSI T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     </a:t>
            </a: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Conclusions Remark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47728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marL="231480" indent="-231480">
              <a:lnSpc>
                <a:spcPct val="90000"/>
              </a:lnSpc>
              <a:spcBef>
                <a:spcPts val="1049"/>
              </a:spcBef>
              <a:buClr>
                <a:srgbClr val="fc0128"/>
              </a:buClr>
              <a:buSzPct val="75000"/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Clusters are promising..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  <a:p>
            <a:pPr lvl="1" marL="555480" indent="-185040">
              <a:spcBef>
                <a:spcPts val="799"/>
              </a:spcBef>
              <a:buClr>
                <a:srgbClr val="ffffff"/>
              </a:buClr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lve parallel processing parado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55480" indent="-185040">
              <a:spcBef>
                <a:spcPts val="799"/>
              </a:spcBef>
              <a:buClr>
                <a:srgbClr val="ffffff"/>
              </a:buClr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ffer incremental growth and matches with funding patter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55480" indent="-185040">
              <a:spcBef>
                <a:spcPts val="799"/>
              </a:spcBef>
              <a:buClr>
                <a:srgbClr val="ffffff"/>
              </a:buClr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trends in hardware and software technologies are likely to make clusters more promising and fill SSI gap..so th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55480" indent="-185040">
              <a:spcBef>
                <a:spcPts val="799"/>
              </a:spcBef>
              <a:buClr>
                <a:srgbClr val="ffffff"/>
              </a:buClr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usters based supercomputers can be seen everywher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377800" y="167760"/>
            <a:ext cx="6638760" cy="444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85680" rIns="85680" tIns="42840" bIns="4284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Times New Roman"/>
              </a:rPr>
              <a:t>Breaking High Performance Computing Barriers</a:t>
            </a:r>
            <a:endParaRPr b="1" lang="en-US" sz="2200" spc="-1" strike="noStrike">
              <a:solidFill>
                <a:srgbClr val="fafd00"/>
              </a:solidFill>
              <a:latin typeface="Century Gothic"/>
            </a:endParaRPr>
          </a:p>
        </p:txBody>
      </p:sp>
      <p:grpSp>
        <p:nvGrpSpPr>
          <p:cNvPr id="841" name=""/>
          <p:cNvGrpSpPr/>
          <p:nvPr/>
        </p:nvGrpSpPr>
        <p:grpSpPr>
          <a:xfrm>
            <a:off x="1449360" y="4005360"/>
            <a:ext cx="1719360" cy="1179360"/>
            <a:chOff x="1449360" y="4005360"/>
            <a:chExt cx="1719360" cy="1179360"/>
          </a:xfrm>
        </p:grpSpPr>
        <p:grpSp>
          <p:nvGrpSpPr>
            <p:cNvPr id="842" name=""/>
            <p:cNvGrpSpPr/>
            <p:nvPr/>
          </p:nvGrpSpPr>
          <p:grpSpPr>
            <a:xfrm>
              <a:off x="1825560" y="4908600"/>
              <a:ext cx="1057320" cy="199800"/>
              <a:chOff x="1825560" y="4908600"/>
              <a:chExt cx="1057320" cy="199800"/>
            </a:xfrm>
          </p:grpSpPr>
          <p:grpSp>
            <p:nvGrpSpPr>
              <p:cNvPr id="843" name=""/>
              <p:cNvGrpSpPr/>
              <p:nvPr/>
            </p:nvGrpSpPr>
            <p:grpSpPr>
              <a:xfrm>
                <a:off x="1825560" y="4908600"/>
                <a:ext cx="1057320" cy="199800"/>
                <a:chOff x="1825560" y="4908600"/>
                <a:chExt cx="1057320" cy="199800"/>
              </a:xfrm>
            </p:grpSpPr>
            <p:sp>
              <p:nvSpPr>
                <p:cNvPr id="844" name=""/>
                <p:cNvSpPr/>
                <p:nvPr/>
              </p:nvSpPr>
              <p:spPr>
                <a:xfrm>
                  <a:off x="1832040" y="5079960"/>
                  <a:ext cx="1041480" cy="2844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1825560" y="4908600"/>
                  <a:ext cx="1057320" cy="169920"/>
                </a:xfrm>
                <a:custGeom>
                  <a:avLst/>
                  <a:gdLst/>
                  <a:ahLst/>
                  <a:rect l="l" t="t" r="r" b="b"/>
                  <a:pathLst>
                    <a:path w="666" h="107">
                      <a:moveTo>
                        <a:pt x="0" y="106"/>
                      </a:moveTo>
                      <a:lnTo>
                        <a:pt x="665" y="106"/>
                      </a:lnTo>
                      <a:lnTo>
                        <a:pt x="626" y="1"/>
                      </a:lnTo>
                      <a:lnTo>
                        <a:pt x="49" y="0"/>
                      </a:lnTo>
                      <a:lnTo>
                        <a:pt x="0" y="106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1857240" y="4927680"/>
                  <a:ext cx="989280" cy="128520"/>
                </a:xfrm>
                <a:custGeom>
                  <a:avLst/>
                  <a:gdLst/>
                  <a:ahLst/>
                  <a:rect l="l" t="t" r="r" b="b"/>
                  <a:pathLst>
                    <a:path w="623" h="81">
                      <a:moveTo>
                        <a:pt x="35" y="0"/>
                      </a:moveTo>
                      <a:lnTo>
                        <a:pt x="0" y="80"/>
                      </a:lnTo>
                      <a:lnTo>
                        <a:pt x="622" y="80"/>
                      </a:lnTo>
                      <a:lnTo>
                        <a:pt x="593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7" name=""/>
              <p:cNvGrpSpPr/>
              <p:nvPr/>
            </p:nvGrpSpPr>
            <p:grpSpPr>
              <a:xfrm>
                <a:off x="1940040" y="4924440"/>
                <a:ext cx="833400" cy="39600"/>
                <a:chOff x="1940040" y="4924440"/>
                <a:chExt cx="833400" cy="39600"/>
              </a:xfrm>
            </p:grpSpPr>
            <p:sp>
              <p:nvSpPr>
                <p:cNvPr id="848" name=""/>
                <p:cNvSpPr/>
                <p:nvPr/>
              </p:nvSpPr>
              <p:spPr>
                <a:xfrm>
                  <a:off x="1940040" y="4924440"/>
                  <a:ext cx="36360" cy="27000"/>
                </a:xfrm>
                <a:custGeom>
                  <a:avLst/>
                  <a:gdLst/>
                  <a:ahLst/>
                  <a:rect l="l" t="t" r="r" b="b"/>
                  <a:pathLst>
                    <a:path w="23" h="17">
                      <a:moveTo>
                        <a:pt x="6" y="0"/>
                      </a:moveTo>
                      <a:lnTo>
                        <a:pt x="22" y="0"/>
                      </a:lnTo>
                      <a:lnTo>
                        <a:pt x="17" y="16"/>
                      </a:lnTo>
                      <a:lnTo>
                        <a:pt x="0" y="16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2022480" y="4924440"/>
                  <a:ext cx="131760" cy="23760"/>
                </a:xfrm>
                <a:custGeom>
                  <a:avLst/>
                  <a:gdLst/>
                  <a:ahLst/>
                  <a:rect l="l" t="t" r="r" b="b"/>
                  <a:pathLst>
                    <a:path w="83" h="15">
                      <a:moveTo>
                        <a:pt x="4" y="0"/>
                      </a:moveTo>
                      <a:lnTo>
                        <a:pt x="82" y="0"/>
                      </a:lnTo>
                      <a:lnTo>
                        <a:pt x="79" y="14"/>
                      </a:lnTo>
                      <a:lnTo>
                        <a:pt x="0" y="14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2189160" y="4924440"/>
                  <a:ext cx="127080" cy="27000"/>
                </a:xfrm>
                <a:custGeom>
                  <a:avLst/>
                  <a:gdLst/>
                  <a:ahLst/>
                  <a:rect l="l" t="t" r="r" b="b"/>
                  <a:pathLst>
                    <a:path w="80" h="17">
                      <a:moveTo>
                        <a:pt x="3" y="0"/>
                      </a:moveTo>
                      <a:lnTo>
                        <a:pt x="79" y="0"/>
                      </a:lnTo>
                      <a:lnTo>
                        <a:pt x="78" y="16"/>
                      </a:lnTo>
                      <a:lnTo>
                        <a:pt x="0" y="16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2340000" y="4924440"/>
                  <a:ext cx="130320" cy="27000"/>
                </a:xfrm>
                <a:custGeom>
                  <a:avLst/>
                  <a:gdLst/>
                  <a:ahLst/>
                  <a:rect l="l" t="t" r="r" b="b"/>
                  <a:pathLst>
                    <a:path w="82" h="17">
                      <a:moveTo>
                        <a:pt x="1" y="0"/>
                      </a:moveTo>
                      <a:lnTo>
                        <a:pt x="81" y="0"/>
                      </a:lnTo>
                      <a:lnTo>
                        <a:pt x="81" y="16"/>
                      </a:lnTo>
                      <a:lnTo>
                        <a:pt x="0" y="16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2494080" y="4924440"/>
                  <a:ext cx="112680" cy="28440"/>
                </a:xfrm>
                <a:custGeom>
                  <a:avLst/>
                  <a:gdLst/>
                  <a:ahLst/>
                  <a:rect l="l" t="t" r="r" b="b"/>
                  <a:pathLst>
                    <a:path w="71" h="18">
                      <a:moveTo>
                        <a:pt x="0" y="0"/>
                      </a:moveTo>
                      <a:lnTo>
                        <a:pt x="68" y="0"/>
                      </a:lnTo>
                      <a:lnTo>
                        <a:pt x="70" y="17"/>
                      </a:lnTo>
                      <a:lnTo>
                        <a:pt x="0" y="1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>
                  <a:off x="2635200" y="4940280"/>
                  <a:ext cx="138240" cy="23760"/>
                </a:xfrm>
                <a:custGeom>
                  <a:avLst/>
                  <a:gdLst/>
                  <a:ahLst/>
                  <a:rect l="l" t="t" r="r" b="b"/>
                  <a:pathLst>
                    <a:path w="87" h="15">
                      <a:moveTo>
                        <a:pt x="0" y="0"/>
                      </a:moveTo>
                      <a:lnTo>
                        <a:pt x="78" y="0"/>
                      </a:lnTo>
                      <a:lnTo>
                        <a:pt x="86" y="14"/>
                      </a:lnTo>
                      <a:lnTo>
                        <a:pt x="4" y="1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4" name=""/>
              <p:cNvGrpSpPr/>
              <p:nvPr/>
            </p:nvGrpSpPr>
            <p:grpSpPr>
              <a:xfrm>
                <a:off x="1914480" y="4968720"/>
                <a:ext cx="862200" cy="66960"/>
                <a:chOff x="1914480" y="4968720"/>
                <a:chExt cx="862200" cy="66960"/>
              </a:xfrm>
            </p:grpSpPr>
            <p:grpSp>
              <p:nvGrpSpPr>
                <p:cNvPr id="855" name=""/>
                <p:cNvGrpSpPr/>
                <p:nvPr/>
              </p:nvGrpSpPr>
              <p:grpSpPr>
                <a:xfrm>
                  <a:off x="1990800" y="4971960"/>
                  <a:ext cx="420480" cy="57240"/>
                  <a:chOff x="1990800" y="4971960"/>
                  <a:chExt cx="420480" cy="57240"/>
                </a:xfrm>
              </p:grpSpPr>
              <p:sp>
                <p:nvSpPr>
                  <p:cNvPr id="856" name=""/>
                  <p:cNvSpPr/>
                  <p:nvPr/>
                </p:nvSpPr>
                <p:spPr>
                  <a:xfrm>
                    <a:off x="1990800" y="4971960"/>
                    <a:ext cx="3967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7" name=""/>
                  <p:cNvSpPr/>
                  <p:nvPr/>
                </p:nvSpPr>
                <p:spPr>
                  <a:xfrm>
                    <a:off x="2008080" y="4991040"/>
                    <a:ext cx="4032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8" name=""/>
                  <p:cNvSpPr/>
                  <p:nvPr/>
                </p:nvSpPr>
                <p:spPr>
                  <a:xfrm>
                    <a:off x="2013120" y="5010120"/>
                    <a:ext cx="3492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9" name=""/>
                  <p:cNvSpPr/>
                  <p:nvPr/>
                </p:nvSpPr>
                <p:spPr>
                  <a:xfrm>
                    <a:off x="2021040" y="5029200"/>
                    <a:ext cx="363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60" name=""/>
                <p:cNvGrpSpPr/>
                <p:nvPr/>
              </p:nvGrpSpPr>
              <p:grpSpPr>
                <a:xfrm>
                  <a:off x="1914480" y="4979880"/>
                  <a:ext cx="60480" cy="38160"/>
                  <a:chOff x="1914480" y="4979880"/>
                  <a:chExt cx="60480" cy="38160"/>
                </a:xfrm>
              </p:grpSpPr>
              <p:sp>
                <p:nvSpPr>
                  <p:cNvPr id="861" name=""/>
                  <p:cNvSpPr/>
                  <p:nvPr/>
                </p:nvSpPr>
                <p:spPr>
                  <a:xfrm>
                    <a:off x="1933560" y="4979880"/>
                    <a:ext cx="284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2" name=""/>
                  <p:cNvSpPr/>
                  <p:nvPr/>
                </p:nvSpPr>
                <p:spPr>
                  <a:xfrm>
                    <a:off x="1925640" y="5000760"/>
                    <a:ext cx="270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3" name=""/>
                  <p:cNvSpPr/>
                  <p:nvPr/>
                </p:nvSpPr>
                <p:spPr>
                  <a:xfrm>
                    <a:off x="1914480" y="5018040"/>
                    <a:ext cx="60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64" name=""/>
                <p:cNvGrpSpPr/>
                <p:nvPr/>
              </p:nvGrpSpPr>
              <p:grpSpPr>
                <a:xfrm>
                  <a:off x="2082960" y="4968720"/>
                  <a:ext cx="382320" cy="61920"/>
                  <a:chOff x="2082960" y="4968720"/>
                  <a:chExt cx="382320" cy="61920"/>
                </a:xfrm>
              </p:grpSpPr>
              <p:sp>
                <p:nvSpPr>
                  <p:cNvPr id="865" name=""/>
                  <p:cNvSpPr/>
                  <p:nvPr/>
                </p:nvSpPr>
                <p:spPr>
                  <a:xfrm>
                    <a:off x="2082960" y="5029200"/>
                    <a:ext cx="2347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6" name=""/>
                  <p:cNvSpPr/>
                  <p:nvPr/>
                </p:nvSpPr>
                <p:spPr>
                  <a:xfrm>
                    <a:off x="2419200" y="4968720"/>
                    <a:ext cx="460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7" name=""/>
                  <p:cNvSpPr/>
                  <p:nvPr/>
                </p:nvSpPr>
                <p:spPr>
                  <a:xfrm>
                    <a:off x="2435400" y="4991040"/>
                    <a:ext cx="29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8" name=""/>
                  <p:cNvSpPr/>
                  <p:nvPr/>
                </p:nvSpPr>
                <p:spPr>
                  <a:xfrm>
                    <a:off x="2403360" y="5011560"/>
                    <a:ext cx="619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9" name=""/>
                  <p:cNvSpPr/>
                  <p:nvPr/>
                </p:nvSpPr>
                <p:spPr>
                  <a:xfrm>
                    <a:off x="2340000" y="5029200"/>
                    <a:ext cx="270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0" name=""/>
                  <p:cNvSpPr/>
                  <p:nvPr/>
                </p:nvSpPr>
                <p:spPr>
                  <a:xfrm>
                    <a:off x="2392200" y="5030640"/>
                    <a:ext cx="716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71" name=""/>
                <p:cNvGrpSpPr/>
                <p:nvPr/>
              </p:nvGrpSpPr>
              <p:grpSpPr>
                <a:xfrm>
                  <a:off x="2500200" y="4979880"/>
                  <a:ext cx="109800" cy="52560"/>
                  <a:chOff x="2500200" y="4979880"/>
                  <a:chExt cx="109800" cy="52560"/>
                </a:xfrm>
              </p:grpSpPr>
              <p:sp>
                <p:nvSpPr>
                  <p:cNvPr id="872" name=""/>
                  <p:cNvSpPr/>
                  <p:nvPr/>
                </p:nvSpPr>
                <p:spPr>
                  <a:xfrm>
                    <a:off x="2500200" y="4979880"/>
                    <a:ext cx="1033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3" name=""/>
                  <p:cNvSpPr/>
                  <p:nvPr/>
                </p:nvSpPr>
                <p:spPr>
                  <a:xfrm>
                    <a:off x="2516040" y="5005440"/>
                    <a:ext cx="907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4" name=""/>
                  <p:cNvSpPr/>
                  <p:nvPr/>
                </p:nvSpPr>
                <p:spPr>
                  <a:xfrm>
                    <a:off x="2517840" y="5032440"/>
                    <a:ext cx="921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75" name=""/>
                <p:cNvGrpSpPr/>
                <p:nvPr/>
              </p:nvGrpSpPr>
              <p:grpSpPr>
                <a:xfrm>
                  <a:off x="2643120" y="4979880"/>
                  <a:ext cx="133560" cy="55800"/>
                  <a:chOff x="2643120" y="4979880"/>
                  <a:chExt cx="133560" cy="55800"/>
                </a:xfrm>
              </p:grpSpPr>
              <p:sp>
                <p:nvSpPr>
                  <p:cNvPr id="876" name=""/>
                  <p:cNvSpPr/>
                  <p:nvPr/>
                </p:nvSpPr>
                <p:spPr>
                  <a:xfrm>
                    <a:off x="2654280" y="4979880"/>
                    <a:ext cx="98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7" name=""/>
                  <p:cNvSpPr/>
                  <p:nvPr/>
                </p:nvSpPr>
                <p:spPr>
                  <a:xfrm>
                    <a:off x="2643120" y="5002200"/>
                    <a:ext cx="77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8" name=""/>
                  <p:cNvSpPr/>
                  <p:nvPr/>
                </p:nvSpPr>
                <p:spPr>
                  <a:xfrm>
                    <a:off x="2654280" y="5018040"/>
                    <a:ext cx="71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9" name=""/>
                  <p:cNvSpPr/>
                  <p:nvPr/>
                </p:nvSpPr>
                <p:spPr>
                  <a:xfrm>
                    <a:off x="2649600" y="5035680"/>
                    <a:ext cx="921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0" name=""/>
                  <p:cNvSpPr/>
                  <p:nvPr/>
                </p:nvSpPr>
                <p:spPr>
                  <a:xfrm>
                    <a:off x="2752560" y="500220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1" name=""/>
                  <p:cNvSpPr/>
                  <p:nvPr/>
                </p:nvSpPr>
                <p:spPr>
                  <a:xfrm>
                    <a:off x="2762280" y="5027760"/>
                    <a:ext cx="14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882" name=""/>
            <p:cNvGrpSpPr/>
            <p:nvPr/>
          </p:nvGrpSpPr>
          <p:grpSpPr>
            <a:xfrm>
              <a:off x="2889360" y="5018040"/>
              <a:ext cx="279360" cy="166680"/>
              <a:chOff x="2889360" y="5018040"/>
              <a:chExt cx="279360" cy="166680"/>
            </a:xfrm>
          </p:grpSpPr>
          <p:sp>
            <p:nvSpPr>
              <p:cNvPr id="883" name=""/>
              <p:cNvSpPr/>
              <p:nvPr/>
            </p:nvSpPr>
            <p:spPr>
              <a:xfrm>
                <a:off x="2889360" y="5018040"/>
                <a:ext cx="279360" cy="111240"/>
              </a:xfrm>
              <a:custGeom>
                <a:avLst/>
                <a:gdLst/>
                <a:ahLst/>
                <a:rect l="l" t="t" r="r" b="b"/>
                <a:pathLst>
                  <a:path w="176" h="70">
                    <a:moveTo>
                      <a:pt x="0" y="0"/>
                    </a:moveTo>
                    <a:lnTo>
                      <a:pt x="33" y="3"/>
                    </a:lnTo>
                    <a:lnTo>
                      <a:pt x="57" y="5"/>
                    </a:lnTo>
                    <a:lnTo>
                      <a:pt x="78" y="8"/>
                    </a:lnTo>
                    <a:lnTo>
                      <a:pt x="100" y="13"/>
                    </a:lnTo>
                    <a:lnTo>
                      <a:pt x="115" y="16"/>
                    </a:lnTo>
                    <a:lnTo>
                      <a:pt x="134" y="21"/>
                    </a:lnTo>
                    <a:lnTo>
                      <a:pt x="144" y="24"/>
                    </a:lnTo>
                    <a:lnTo>
                      <a:pt x="152" y="26"/>
                    </a:lnTo>
                    <a:lnTo>
                      <a:pt x="156" y="28"/>
                    </a:lnTo>
                    <a:lnTo>
                      <a:pt x="160" y="29"/>
                    </a:lnTo>
                    <a:lnTo>
                      <a:pt x="164" y="31"/>
                    </a:lnTo>
                    <a:lnTo>
                      <a:pt x="169" y="34"/>
                    </a:lnTo>
                    <a:lnTo>
                      <a:pt x="173" y="37"/>
                    </a:lnTo>
                    <a:lnTo>
                      <a:pt x="175" y="41"/>
                    </a:lnTo>
                    <a:lnTo>
                      <a:pt x="175" y="44"/>
                    </a:lnTo>
                    <a:lnTo>
                      <a:pt x="174" y="48"/>
                    </a:lnTo>
                    <a:lnTo>
                      <a:pt x="173" y="53"/>
                    </a:lnTo>
                    <a:lnTo>
                      <a:pt x="171" y="57"/>
                    </a:lnTo>
                    <a:lnTo>
                      <a:pt x="168" y="60"/>
                    </a:lnTo>
                    <a:lnTo>
                      <a:pt x="164" y="64"/>
                    </a:lnTo>
                    <a:lnTo>
                      <a:pt x="160" y="66"/>
                    </a:lnTo>
                    <a:lnTo>
                      <a:pt x="155" y="67"/>
                    </a:lnTo>
                    <a:lnTo>
                      <a:pt x="150" y="69"/>
                    </a:lnTo>
                    <a:lnTo>
                      <a:pt x="143" y="69"/>
                    </a:lnTo>
                    <a:lnTo>
                      <a:pt x="137" y="68"/>
                    </a:lnTo>
                    <a:lnTo>
                      <a:pt x="127" y="66"/>
                    </a:lnTo>
                  </a:path>
                </a:pathLst>
              </a:custGeom>
              <a:noFill/>
              <a:ln cap="rnd" w="255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84" name=""/>
              <p:cNvGrpSpPr/>
              <p:nvPr/>
            </p:nvGrpSpPr>
            <p:grpSpPr>
              <a:xfrm>
                <a:off x="2901960" y="5073480"/>
                <a:ext cx="193680" cy="111240"/>
                <a:chOff x="2901960" y="5073480"/>
                <a:chExt cx="193680" cy="111240"/>
              </a:xfrm>
            </p:grpSpPr>
            <p:grpSp>
              <p:nvGrpSpPr>
                <p:cNvPr id="885" name=""/>
                <p:cNvGrpSpPr/>
                <p:nvPr/>
              </p:nvGrpSpPr>
              <p:grpSpPr>
                <a:xfrm>
                  <a:off x="2901960" y="5073480"/>
                  <a:ext cx="193680" cy="111240"/>
                  <a:chOff x="2901960" y="5073480"/>
                  <a:chExt cx="193680" cy="111240"/>
                </a:xfrm>
              </p:grpSpPr>
              <p:sp>
                <p:nvSpPr>
                  <p:cNvPr id="886" name=""/>
                  <p:cNvSpPr/>
                  <p:nvPr/>
                </p:nvSpPr>
                <p:spPr>
                  <a:xfrm>
                    <a:off x="2901960" y="5073480"/>
                    <a:ext cx="11916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44">
                        <a:moveTo>
                          <a:pt x="0" y="26"/>
                        </a:moveTo>
                        <a:lnTo>
                          <a:pt x="19" y="0"/>
                        </a:lnTo>
                        <a:lnTo>
                          <a:pt x="74" y="14"/>
                        </a:lnTo>
                        <a:lnTo>
                          <a:pt x="52" y="43"/>
                        </a:lnTo>
                        <a:lnTo>
                          <a:pt x="0" y="26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7" name=""/>
                  <p:cNvSpPr/>
                  <p:nvPr/>
                </p:nvSpPr>
                <p:spPr>
                  <a:xfrm>
                    <a:off x="2901960" y="5116680"/>
                    <a:ext cx="84240" cy="6804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43">
                        <a:moveTo>
                          <a:pt x="0" y="0"/>
                        </a:moveTo>
                        <a:lnTo>
                          <a:pt x="0" y="23"/>
                        </a:lnTo>
                        <a:lnTo>
                          <a:pt x="1" y="23"/>
                        </a:lnTo>
                        <a:lnTo>
                          <a:pt x="52" y="42"/>
                        </a:lnTo>
                        <a:lnTo>
                          <a:pt x="52" y="18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8" name=""/>
                  <p:cNvSpPr/>
                  <p:nvPr/>
                </p:nvSpPr>
                <p:spPr>
                  <a:xfrm>
                    <a:off x="2987640" y="5099040"/>
                    <a:ext cx="10800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54">
                        <a:moveTo>
                          <a:pt x="0" y="29"/>
                        </a:moveTo>
                        <a:lnTo>
                          <a:pt x="21" y="0"/>
                        </a:lnTo>
                        <a:lnTo>
                          <a:pt x="67" y="8"/>
                        </a:lnTo>
                        <a:lnTo>
                          <a:pt x="67" y="29"/>
                        </a:lnTo>
                        <a:lnTo>
                          <a:pt x="0" y="53"/>
                        </a:lnTo>
                        <a:lnTo>
                          <a:pt x="0" y="29"/>
                        </a:lnTo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9" name=""/>
                  <p:cNvSpPr/>
                  <p:nvPr/>
                </p:nvSpPr>
                <p:spPr>
                  <a:xfrm>
                    <a:off x="2933640" y="5073480"/>
                    <a:ext cx="16200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22">
                        <a:moveTo>
                          <a:pt x="0" y="0"/>
                        </a:moveTo>
                        <a:lnTo>
                          <a:pt x="51" y="5"/>
                        </a:lnTo>
                        <a:lnTo>
                          <a:pt x="101" y="21"/>
                        </a:lnTo>
                        <a:lnTo>
                          <a:pt x="55" y="14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90" name=""/>
                <p:cNvGrpSpPr/>
                <p:nvPr/>
              </p:nvGrpSpPr>
              <p:grpSpPr>
                <a:xfrm>
                  <a:off x="2908440" y="5101920"/>
                  <a:ext cx="179280" cy="58680"/>
                  <a:chOff x="2908440" y="5101920"/>
                  <a:chExt cx="179280" cy="58680"/>
                </a:xfrm>
              </p:grpSpPr>
              <p:sp>
                <p:nvSpPr>
                  <p:cNvPr id="891" name=""/>
                  <p:cNvSpPr/>
                  <p:nvPr/>
                </p:nvSpPr>
                <p:spPr>
                  <a:xfrm>
                    <a:off x="2908440" y="5132520"/>
                    <a:ext cx="72720" cy="15840"/>
                  </a:xfrm>
                  <a:prstGeom prst="line">
                    <a:avLst/>
                  </a:prstGeom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2" name=""/>
                  <p:cNvSpPr/>
                  <p:nvPr/>
                </p:nvSpPr>
                <p:spPr>
                  <a:xfrm flipV="1">
                    <a:off x="2995560" y="5101920"/>
                    <a:ext cx="20520" cy="58680"/>
                  </a:xfrm>
                  <a:prstGeom prst="line">
                    <a:avLst/>
                  </a:prstGeom>
                  <a:ln w="12600">
                    <a:solidFill>
                      <a:srgbClr val="60606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3" name=""/>
                  <p:cNvSpPr/>
                  <p:nvPr/>
                </p:nvSpPr>
                <p:spPr>
                  <a:xfrm>
                    <a:off x="3030480" y="5108400"/>
                    <a:ext cx="57240" cy="6480"/>
                  </a:xfrm>
                  <a:prstGeom prst="line">
                    <a:avLst/>
                  </a:prstGeom>
                  <a:ln w="12600">
                    <a:solidFill>
                      <a:srgbClr val="60606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894" name=""/>
            <p:cNvGrpSpPr/>
            <p:nvPr/>
          </p:nvGrpSpPr>
          <p:grpSpPr>
            <a:xfrm>
              <a:off x="2068560" y="4805280"/>
              <a:ext cx="560520" cy="96840"/>
              <a:chOff x="2068560" y="4805280"/>
              <a:chExt cx="560520" cy="96840"/>
            </a:xfrm>
          </p:grpSpPr>
          <p:sp>
            <p:nvSpPr>
              <p:cNvPr id="895" name=""/>
              <p:cNvSpPr/>
              <p:nvPr/>
            </p:nvSpPr>
            <p:spPr>
              <a:xfrm>
                <a:off x="2068560" y="4805280"/>
                <a:ext cx="560520" cy="54000"/>
              </a:xfrm>
              <a:custGeom>
                <a:avLst/>
                <a:gdLst/>
                <a:ahLst/>
                <a:rect l="l" t="t" r="r" b="b"/>
                <a:pathLst>
                  <a:path w="353" h="34">
                    <a:moveTo>
                      <a:pt x="0" y="33"/>
                    </a:moveTo>
                    <a:lnTo>
                      <a:pt x="352" y="33"/>
                    </a:lnTo>
                    <a:lnTo>
                      <a:pt x="332" y="0"/>
                    </a:lnTo>
                    <a:lnTo>
                      <a:pt x="21" y="0"/>
                    </a:lnTo>
                    <a:lnTo>
                      <a:pt x="0" y="33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073240" y="4862520"/>
                <a:ext cx="547560" cy="3960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97" name=""/>
            <p:cNvSpPr/>
            <p:nvPr/>
          </p:nvSpPr>
          <p:spPr>
            <a:xfrm>
              <a:off x="2198520" y="4759200"/>
              <a:ext cx="300240" cy="100080"/>
            </a:xfrm>
            <a:custGeom>
              <a:avLst/>
              <a:gdLst/>
              <a:ahLst/>
              <a:rect l="l" t="t" r="r" b="b"/>
              <a:pathLst>
                <a:path w="189" h="63">
                  <a:moveTo>
                    <a:pt x="0" y="35"/>
                  </a:moveTo>
                  <a:lnTo>
                    <a:pt x="0" y="0"/>
                  </a:lnTo>
                  <a:lnTo>
                    <a:pt x="188" y="0"/>
                  </a:lnTo>
                  <a:lnTo>
                    <a:pt x="188" y="36"/>
                  </a:lnTo>
                  <a:lnTo>
                    <a:pt x="187" y="39"/>
                  </a:lnTo>
                  <a:lnTo>
                    <a:pt x="185" y="42"/>
                  </a:lnTo>
                  <a:lnTo>
                    <a:pt x="182" y="45"/>
                  </a:lnTo>
                  <a:lnTo>
                    <a:pt x="178" y="47"/>
                  </a:lnTo>
                  <a:lnTo>
                    <a:pt x="172" y="50"/>
                  </a:lnTo>
                  <a:lnTo>
                    <a:pt x="167" y="52"/>
                  </a:lnTo>
                  <a:lnTo>
                    <a:pt x="161" y="54"/>
                  </a:lnTo>
                  <a:lnTo>
                    <a:pt x="154" y="56"/>
                  </a:lnTo>
                  <a:lnTo>
                    <a:pt x="148" y="57"/>
                  </a:lnTo>
                  <a:lnTo>
                    <a:pt x="138" y="59"/>
                  </a:lnTo>
                  <a:lnTo>
                    <a:pt x="130" y="60"/>
                  </a:lnTo>
                  <a:lnTo>
                    <a:pt x="122" y="61"/>
                  </a:lnTo>
                  <a:lnTo>
                    <a:pt x="113" y="62"/>
                  </a:lnTo>
                  <a:lnTo>
                    <a:pt x="102" y="62"/>
                  </a:lnTo>
                  <a:lnTo>
                    <a:pt x="89" y="62"/>
                  </a:lnTo>
                  <a:lnTo>
                    <a:pt x="77" y="62"/>
                  </a:lnTo>
                  <a:lnTo>
                    <a:pt x="66" y="61"/>
                  </a:lnTo>
                  <a:lnTo>
                    <a:pt x="55" y="60"/>
                  </a:lnTo>
                  <a:lnTo>
                    <a:pt x="46" y="59"/>
                  </a:lnTo>
                  <a:lnTo>
                    <a:pt x="39" y="57"/>
                  </a:lnTo>
                  <a:lnTo>
                    <a:pt x="31" y="55"/>
                  </a:lnTo>
                  <a:lnTo>
                    <a:pt x="24" y="53"/>
                  </a:lnTo>
                  <a:lnTo>
                    <a:pt x="17" y="51"/>
                  </a:lnTo>
                  <a:lnTo>
                    <a:pt x="12" y="48"/>
                  </a:lnTo>
                  <a:lnTo>
                    <a:pt x="8" y="46"/>
                  </a:lnTo>
                  <a:lnTo>
                    <a:pt x="5" y="43"/>
                  </a:lnTo>
                  <a:lnTo>
                    <a:pt x="3" y="41"/>
                  </a:lnTo>
                  <a:lnTo>
                    <a:pt x="1" y="38"/>
                  </a:lnTo>
                  <a:lnTo>
                    <a:pt x="0" y="35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004840" y="4005360"/>
              <a:ext cx="682920" cy="766800"/>
            </a:xfrm>
            <a:custGeom>
              <a:avLst/>
              <a:gdLst>
                <a:gd name="textAreaLeft" fmla="*/ 3960 w 682920"/>
                <a:gd name="textAreaRight" fmla="*/ 678960 w 682920"/>
                <a:gd name="textAreaTop" fmla="*/ 3960 h 766800"/>
                <a:gd name="textAreaBottom" fmla="*/ 762840 h 766800"/>
              </a:gdLst>
              <a:ahLst/>
              <a:rect l="textAreaLeft" t="textAreaTop" r="textAreaRight" b="textAreaBottom"/>
              <a:pathLst>
                <a:path w="21600" h="24252">
                  <a:moveTo>
                    <a:pt x="458" y="0"/>
                  </a:moveTo>
                  <a:arcTo wR="458" hR="458" stAng="16200000" swAng="-5400000"/>
                  <a:lnTo>
                    <a:pt x="0" y="23794"/>
                  </a:lnTo>
                  <a:arcTo wR="458" hR="458" stAng="10800000" swAng="-5400000"/>
                  <a:lnTo>
                    <a:pt x="21142" y="24252"/>
                  </a:lnTo>
                  <a:arcTo wR="458" hR="458" stAng="5400000" swAng="-5400000"/>
                  <a:lnTo>
                    <a:pt x="21600" y="458"/>
                  </a:lnTo>
                  <a:arcTo wR="458" hR="458" stAng="0" swAng="-5400000"/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052720" y="4065480"/>
              <a:ext cx="598320" cy="636840"/>
            </a:xfrm>
            <a:custGeom>
              <a:avLst/>
              <a:gdLst>
                <a:gd name="textAreaLeft" fmla="*/ 29160 w 598320"/>
                <a:gd name="textAreaRight" fmla="*/ 569160 w 598320"/>
                <a:gd name="textAreaTop" fmla="*/ 29160 h 636840"/>
                <a:gd name="textAreaBottom" fmla="*/ 607680 h 636840"/>
              </a:gdLst>
              <a:ahLst/>
              <a:rect l="textAreaLeft" t="textAreaTop" r="textAreaRight" b="textAreaBottom"/>
              <a:pathLst>
                <a:path w="21600" h="22990">
                  <a:moveTo>
                    <a:pt x="3600" y="0"/>
                  </a:moveTo>
                  <a:arcTo wR="3600" hR="3600" stAng="16200000" swAng="-5400000"/>
                  <a:lnTo>
                    <a:pt x="0" y="19390"/>
                  </a:lnTo>
                  <a:arcTo wR="3600" hR="3600" stAng="10800000" swAng="-5400000"/>
                  <a:lnTo>
                    <a:pt x="18000" y="229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066760" y="4741920"/>
              <a:ext cx="61920" cy="9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527120" y="4148280"/>
              <a:ext cx="192240" cy="2617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02" name=""/>
            <p:cNvGrpSpPr/>
            <p:nvPr/>
          </p:nvGrpSpPr>
          <p:grpSpPr>
            <a:xfrm>
              <a:off x="1449360" y="4089240"/>
              <a:ext cx="279360" cy="1051200"/>
              <a:chOff x="1449360" y="4089240"/>
              <a:chExt cx="279360" cy="1051200"/>
            </a:xfrm>
          </p:grpSpPr>
          <p:sp>
            <p:nvSpPr>
              <p:cNvPr id="903" name=""/>
              <p:cNvSpPr/>
              <p:nvPr/>
            </p:nvSpPr>
            <p:spPr>
              <a:xfrm>
                <a:off x="1522440" y="4091040"/>
                <a:ext cx="206280" cy="103968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449360" y="4089240"/>
                <a:ext cx="68400" cy="1051200"/>
              </a:xfrm>
              <a:custGeom>
                <a:avLst/>
                <a:gdLst/>
                <a:ahLst/>
                <a:rect l="l" t="t" r="r" b="b"/>
                <a:pathLst>
                  <a:path w="43" h="662">
                    <a:moveTo>
                      <a:pt x="42" y="0"/>
                    </a:moveTo>
                    <a:lnTo>
                      <a:pt x="42" y="661"/>
                    </a:lnTo>
                    <a:lnTo>
                      <a:pt x="0" y="598"/>
                    </a:lnTo>
                    <a:lnTo>
                      <a:pt x="0" y="70"/>
                    </a:lnTo>
                    <a:lnTo>
                      <a:pt x="42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05" name=""/>
            <p:cNvSpPr/>
            <p:nvPr/>
          </p:nvSpPr>
          <p:spPr>
            <a:xfrm>
              <a:off x="1504800" y="4113360"/>
              <a:ext cx="0" cy="100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06" name=""/>
            <p:cNvGrpSpPr/>
            <p:nvPr/>
          </p:nvGrpSpPr>
          <p:grpSpPr>
            <a:xfrm>
              <a:off x="1544760" y="4811760"/>
              <a:ext cx="166680" cy="261720"/>
              <a:chOff x="1544760" y="4811760"/>
              <a:chExt cx="166680" cy="261720"/>
            </a:xfrm>
          </p:grpSpPr>
          <p:grpSp>
            <p:nvGrpSpPr>
              <p:cNvPr id="907" name=""/>
              <p:cNvGrpSpPr/>
              <p:nvPr/>
            </p:nvGrpSpPr>
            <p:grpSpPr>
              <a:xfrm>
                <a:off x="1544760" y="4811760"/>
                <a:ext cx="58680" cy="261720"/>
                <a:chOff x="1544760" y="4811760"/>
                <a:chExt cx="58680" cy="261720"/>
              </a:xfrm>
            </p:grpSpPr>
            <p:sp>
              <p:nvSpPr>
                <p:cNvPr id="908" name=""/>
                <p:cNvSpPr/>
                <p:nvPr/>
              </p:nvSpPr>
              <p:spPr>
                <a:xfrm>
                  <a:off x="1544760" y="5029200"/>
                  <a:ext cx="58680" cy="442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1544760" y="4960800"/>
                  <a:ext cx="58680" cy="223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1544760" y="4879800"/>
                  <a:ext cx="58680" cy="320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1544760" y="4811760"/>
                  <a:ext cx="58680" cy="223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2" name=""/>
              <p:cNvSpPr/>
              <p:nvPr/>
            </p:nvSpPr>
            <p:spPr>
              <a:xfrm>
                <a:off x="1654200" y="5029200"/>
                <a:ext cx="57240" cy="44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1654200" y="4960800"/>
                <a:ext cx="57240" cy="22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1654200" y="4879800"/>
                <a:ext cx="57240" cy="32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1654200" y="4811760"/>
                <a:ext cx="57240" cy="22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16" name=""/>
            <p:cNvSpPr/>
            <p:nvPr/>
          </p:nvSpPr>
          <p:spPr>
            <a:xfrm>
              <a:off x="1554120" y="4336920"/>
              <a:ext cx="142920" cy="1303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544760" y="4559400"/>
              <a:ext cx="158760" cy="1936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18" name=""/>
            <p:cNvGrpSpPr/>
            <p:nvPr/>
          </p:nvGrpSpPr>
          <p:grpSpPr>
            <a:xfrm>
              <a:off x="1554120" y="4229280"/>
              <a:ext cx="142920" cy="72720"/>
              <a:chOff x="1554120" y="4229280"/>
              <a:chExt cx="142920" cy="72720"/>
            </a:xfrm>
          </p:grpSpPr>
          <p:sp>
            <p:nvSpPr>
              <p:cNvPr id="919" name=""/>
              <p:cNvSpPr/>
              <p:nvPr/>
            </p:nvSpPr>
            <p:spPr>
              <a:xfrm>
                <a:off x="1554120" y="4229280"/>
                <a:ext cx="142920" cy="7272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1558800" y="4240080"/>
                <a:ext cx="138240" cy="5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58800" y="4273560"/>
                <a:ext cx="138240" cy="111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22" name=""/>
          <p:cNvGrpSpPr/>
          <p:nvPr/>
        </p:nvGrpSpPr>
        <p:grpSpPr>
          <a:xfrm>
            <a:off x="3330720" y="2841480"/>
            <a:ext cx="796680" cy="1441440"/>
            <a:chOff x="3330720" y="2841480"/>
            <a:chExt cx="796680" cy="1441440"/>
          </a:xfrm>
        </p:grpSpPr>
        <p:sp>
          <p:nvSpPr>
            <p:cNvPr id="923" name=""/>
            <p:cNvSpPr/>
            <p:nvPr/>
          </p:nvSpPr>
          <p:spPr>
            <a:xfrm>
              <a:off x="3330720" y="2841480"/>
              <a:ext cx="790560" cy="13608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4" name=""/>
            <p:cNvGrpSpPr/>
            <p:nvPr/>
          </p:nvGrpSpPr>
          <p:grpSpPr>
            <a:xfrm>
              <a:off x="3376440" y="3309840"/>
              <a:ext cx="702000" cy="846360"/>
              <a:chOff x="3376440" y="3309840"/>
              <a:chExt cx="702000" cy="846360"/>
            </a:xfrm>
          </p:grpSpPr>
          <p:sp>
            <p:nvSpPr>
              <p:cNvPr id="925" name=""/>
              <p:cNvSpPr/>
              <p:nvPr/>
            </p:nvSpPr>
            <p:spPr>
              <a:xfrm>
                <a:off x="3376440" y="3309840"/>
                <a:ext cx="702000" cy="84636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376440" y="4095720"/>
                <a:ext cx="7020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3376440" y="4030560"/>
                <a:ext cx="7020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376440" y="3963960"/>
                <a:ext cx="7020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376440" y="3898800"/>
                <a:ext cx="7020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3376440" y="3830760"/>
                <a:ext cx="7020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3376440" y="3765600"/>
                <a:ext cx="7020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3376440" y="3699000"/>
                <a:ext cx="7020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376440" y="3633840"/>
                <a:ext cx="7020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3376440" y="3567240"/>
                <a:ext cx="7020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3376440" y="3500280"/>
                <a:ext cx="7020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3376440" y="3435480"/>
                <a:ext cx="7020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3376440" y="3368520"/>
                <a:ext cx="7020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38" name=""/>
            <p:cNvSpPr/>
            <p:nvPr/>
          </p:nvSpPr>
          <p:spPr>
            <a:xfrm>
              <a:off x="3338640" y="2863800"/>
              <a:ext cx="788760" cy="335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610080" y="2887560"/>
              <a:ext cx="0" cy="26532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3733920" y="2881440"/>
              <a:ext cx="30456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600" rIns="66600" tIns="33480" bIns="33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8800"/>
                  <a:tab algn="l" pos="1317600"/>
                  <a:tab algn="l" pos="1976400"/>
                  <a:tab algn="l" pos="2635200"/>
                  <a:tab algn="l" pos="3294000"/>
                  <a:tab algn="l" pos="3952800"/>
                  <a:tab algn="l" pos="4611600"/>
                  <a:tab algn="l" pos="5270400"/>
                  <a:tab algn="l" pos="5929200"/>
                  <a:tab algn="l" pos="6588000"/>
                  <a:tab algn="l" pos="7246800"/>
                  <a:tab algn="l" pos="7905600"/>
                  <a:tab algn="l" pos="8564400"/>
                  <a:tab algn="l" pos="9223200"/>
                  <a:tab algn="l" pos="9882360"/>
                  <a:tab algn="l" pos="10541160"/>
                </a:tabLst>
              </a:pPr>
              <a:r>
                <a:rPr b="1" lang="en-US" sz="600" spc="-1" strike="noStrike">
                  <a:solidFill>
                    <a:srgbClr val="0000ff"/>
                  </a:solidFill>
                  <a:latin typeface="Arial"/>
                </a:rPr>
                <a:t>2100</a:t>
              </a:r>
              <a:endParaRPr b="0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3973680" y="2909880"/>
              <a:ext cx="82440" cy="349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3354480" y="2909880"/>
              <a:ext cx="81000" cy="349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3425760" y="4211640"/>
              <a:ext cx="25560" cy="7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013280" y="4211640"/>
              <a:ext cx="25200" cy="7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45" name=""/>
          <p:cNvGrpSpPr/>
          <p:nvPr/>
        </p:nvGrpSpPr>
        <p:grpSpPr>
          <a:xfrm>
            <a:off x="4668840" y="1930320"/>
            <a:ext cx="1217520" cy="1487520"/>
            <a:chOff x="4668840" y="1930320"/>
            <a:chExt cx="1217520" cy="1487520"/>
          </a:xfrm>
        </p:grpSpPr>
        <p:sp>
          <p:nvSpPr>
            <p:cNvPr id="946" name=""/>
            <p:cNvSpPr/>
            <p:nvPr/>
          </p:nvSpPr>
          <p:spPr>
            <a:xfrm>
              <a:off x="5068800" y="2608200"/>
              <a:ext cx="471600" cy="1065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47" name=""/>
            <p:cNvGrpSpPr/>
            <p:nvPr/>
          </p:nvGrpSpPr>
          <p:grpSpPr>
            <a:xfrm>
              <a:off x="4668840" y="3038400"/>
              <a:ext cx="222120" cy="362160"/>
              <a:chOff x="4668840" y="3038400"/>
              <a:chExt cx="222120" cy="362160"/>
            </a:xfrm>
          </p:grpSpPr>
          <p:sp>
            <p:nvSpPr>
              <p:cNvPr id="948" name=""/>
              <p:cNvSpPr/>
              <p:nvPr/>
            </p:nvSpPr>
            <p:spPr>
              <a:xfrm>
                <a:off x="4668840" y="3038400"/>
                <a:ext cx="220680" cy="34128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949" name=""/>
              <p:cNvGrpSpPr/>
              <p:nvPr/>
            </p:nvGrpSpPr>
            <p:grpSpPr>
              <a:xfrm>
                <a:off x="4683240" y="3159000"/>
                <a:ext cx="195120" cy="209520"/>
                <a:chOff x="4683240" y="3159000"/>
                <a:chExt cx="195120" cy="209520"/>
              </a:xfrm>
            </p:grpSpPr>
            <p:sp>
              <p:nvSpPr>
                <p:cNvPr id="950" name=""/>
                <p:cNvSpPr/>
                <p:nvPr/>
              </p:nvSpPr>
              <p:spPr>
                <a:xfrm>
                  <a:off x="4683240" y="3159000"/>
                  <a:ext cx="195120" cy="209520"/>
                </a:xfrm>
                <a:prstGeom prst="rect">
                  <a:avLst/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4683240" y="3357720"/>
                  <a:ext cx="19512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4683240" y="3340080"/>
                  <a:ext cx="19512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4683240" y="3322800"/>
                  <a:ext cx="19512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4683240" y="3306600"/>
                  <a:ext cx="19512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4683240" y="3289320"/>
                  <a:ext cx="19512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4683240" y="3271680"/>
                  <a:ext cx="19512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4683240" y="3254400"/>
                  <a:ext cx="19512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4683240" y="3238560"/>
                  <a:ext cx="19512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4683240" y="3220920"/>
                  <a:ext cx="19512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4683240" y="3203640"/>
                  <a:ext cx="19512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4683240" y="3187800"/>
                  <a:ext cx="19512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4683240" y="3170160"/>
                  <a:ext cx="19512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63" name=""/>
              <p:cNvSpPr/>
              <p:nvPr/>
            </p:nvSpPr>
            <p:spPr>
              <a:xfrm>
                <a:off x="4672080" y="3044880"/>
                <a:ext cx="218880" cy="76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746600" y="3051000"/>
                <a:ext cx="0" cy="5724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782240" y="3040200"/>
                <a:ext cx="93600" cy="4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9360" bIns="9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4600"/>
                    <a:tab algn="l" pos="349200"/>
                    <a:tab algn="l" pos="523800"/>
                    <a:tab algn="l" pos="698400"/>
                    <a:tab algn="l" pos="873000"/>
                    <a:tab algn="l" pos="1047600"/>
                    <a:tab algn="l" pos="1222200"/>
                    <a:tab algn="l" pos="1397160"/>
                    <a:tab algn="l" pos="1571760"/>
                    <a:tab algn="l" pos="1746360"/>
                    <a:tab algn="l" pos="1920960"/>
                    <a:tab algn="l" pos="2095560"/>
                    <a:tab algn="l" pos="2270160"/>
                    <a:tab algn="l" pos="2444760"/>
                    <a:tab algn="l" pos="2619360"/>
                    <a:tab algn="l" pos="2793960"/>
                    <a:tab algn="l" pos="2968560"/>
                    <a:tab algn="l" pos="3143160"/>
                    <a:tab algn="l" pos="3317760"/>
                    <a:tab algn="l" pos="3492360"/>
                  </a:tabLst>
                </a:pPr>
                <a:r>
                  <a:rPr b="1" lang="en-US" sz="200" spc="-1" strike="noStrike">
                    <a:solidFill>
                      <a:srgbClr val="0000ff"/>
                    </a:solidFill>
                    <a:latin typeface="Arial"/>
                  </a:rPr>
                  <a:t>2100</a:t>
                </a:r>
                <a:endParaRPr b="0" lang="en-US" sz="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4854600" y="3056040"/>
                <a:ext cx="17280" cy="144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4676760" y="3056040"/>
                <a:ext cx="14400" cy="144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4695840" y="3392640"/>
                <a:ext cx="1440" cy="7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4865760" y="3392640"/>
                <a:ext cx="1440" cy="7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70" name=""/>
            <p:cNvGrpSpPr/>
            <p:nvPr/>
          </p:nvGrpSpPr>
          <p:grpSpPr>
            <a:xfrm>
              <a:off x="5014800" y="3044880"/>
              <a:ext cx="222480" cy="361800"/>
              <a:chOff x="5014800" y="3044880"/>
              <a:chExt cx="222480" cy="361800"/>
            </a:xfrm>
          </p:grpSpPr>
          <p:sp>
            <p:nvSpPr>
              <p:cNvPr id="971" name=""/>
              <p:cNvSpPr/>
              <p:nvPr/>
            </p:nvSpPr>
            <p:spPr>
              <a:xfrm>
                <a:off x="5014800" y="3044880"/>
                <a:ext cx="222480" cy="34128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972" name=""/>
              <p:cNvGrpSpPr/>
              <p:nvPr/>
            </p:nvGrpSpPr>
            <p:grpSpPr>
              <a:xfrm>
                <a:off x="5029200" y="3164040"/>
                <a:ext cx="193680" cy="209520"/>
                <a:chOff x="5029200" y="3164040"/>
                <a:chExt cx="193680" cy="209520"/>
              </a:xfrm>
            </p:grpSpPr>
            <p:sp>
              <p:nvSpPr>
                <p:cNvPr id="973" name=""/>
                <p:cNvSpPr/>
                <p:nvPr/>
              </p:nvSpPr>
              <p:spPr>
                <a:xfrm>
                  <a:off x="5029200" y="3164040"/>
                  <a:ext cx="193680" cy="209520"/>
                </a:xfrm>
                <a:prstGeom prst="rect">
                  <a:avLst/>
                </a:prstGeom>
                <a:blipFill rotWithShape="0">
                  <a:blip r:embed="rId6"/>
                  <a:srcRect/>
                  <a:tile tx="0" ty="0" sx="100000" sy="100000" algn="ctr"/>
                </a:blipFill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5029200" y="336384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5029200" y="334656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5029200" y="332892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5029200" y="331308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5029200" y="329580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5029200" y="327816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5029200" y="326088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5029200" y="324468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5029200" y="322596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5029200" y="320976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5029200" y="319248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5029200" y="317664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6" name=""/>
              <p:cNvSpPr/>
              <p:nvPr/>
            </p:nvSpPr>
            <p:spPr>
              <a:xfrm>
                <a:off x="5018040" y="3051000"/>
                <a:ext cx="219240" cy="76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5092560" y="3057480"/>
                <a:ext cx="0" cy="5868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5128200" y="3046320"/>
                <a:ext cx="93600" cy="4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9360" bIns="9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4600"/>
                    <a:tab algn="l" pos="349200"/>
                    <a:tab algn="l" pos="523800"/>
                    <a:tab algn="l" pos="698400"/>
                    <a:tab algn="l" pos="873000"/>
                    <a:tab algn="l" pos="1047600"/>
                    <a:tab algn="l" pos="1222200"/>
                    <a:tab algn="l" pos="1397160"/>
                    <a:tab algn="l" pos="1571760"/>
                    <a:tab algn="l" pos="1746360"/>
                    <a:tab algn="l" pos="1920960"/>
                    <a:tab algn="l" pos="2095560"/>
                    <a:tab algn="l" pos="2270160"/>
                    <a:tab algn="l" pos="2444760"/>
                    <a:tab algn="l" pos="2619360"/>
                    <a:tab algn="l" pos="2793960"/>
                    <a:tab algn="l" pos="2968560"/>
                    <a:tab algn="l" pos="3143160"/>
                    <a:tab algn="l" pos="3317760"/>
                    <a:tab algn="l" pos="3492360"/>
                  </a:tabLst>
                </a:pPr>
                <a:r>
                  <a:rPr b="1" lang="en-US" sz="200" spc="-1" strike="noStrike">
                    <a:solidFill>
                      <a:srgbClr val="0000ff"/>
                    </a:solidFill>
                    <a:latin typeface="Arial"/>
                  </a:rPr>
                  <a:t>2100</a:t>
                </a:r>
                <a:endParaRPr b="0" lang="en-US" sz="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5200560" y="3056040"/>
                <a:ext cx="17640" cy="1116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5022720" y="3056040"/>
                <a:ext cx="12960" cy="1116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5041800" y="3398760"/>
                <a:ext cx="1800" cy="7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5207040" y="33987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93" name=""/>
            <p:cNvGrpSpPr/>
            <p:nvPr/>
          </p:nvGrpSpPr>
          <p:grpSpPr>
            <a:xfrm>
              <a:off x="5321160" y="3044880"/>
              <a:ext cx="223920" cy="361800"/>
              <a:chOff x="5321160" y="3044880"/>
              <a:chExt cx="223920" cy="361800"/>
            </a:xfrm>
          </p:grpSpPr>
          <p:sp>
            <p:nvSpPr>
              <p:cNvPr id="994" name=""/>
              <p:cNvSpPr/>
              <p:nvPr/>
            </p:nvSpPr>
            <p:spPr>
              <a:xfrm>
                <a:off x="5321160" y="3044880"/>
                <a:ext cx="222480" cy="34128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995" name=""/>
              <p:cNvGrpSpPr/>
              <p:nvPr/>
            </p:nvGrpSpPr>
            <p:grpSpPr>
              <a:xfrm>
                <a:off x="5335560" y="3164040"/>
                <a:ext cx="193680" cy="209520"/>
                <a:chOff x="5335560" y="3164040"/>
                <a:chExt cx="193680" cy="209520"/>
              </a:xfrm>
            </p:grpSpPr>
            <p:sp>
              <p:nvSpPr>
                <p:cNvPr id="996" name=""/>
                <p:cNvSpPr/>
                <p:nvPr/>
              </p:nvSpPr>
              <p:spPr>
                <a:xfrm>
                  <a:off x="5335560" y="3164040"/>
                  <a:ext cx="193680" cy="209520"/>
                </a:xfrm>
                <a:prstGeom prst="rect">
                  <a:avLst/>
                </a:prstGeom>
                <a:blipFill rotWithShape="0">
                  <a:blip r:embed="rId7"/>
                  <a:srcRect/>
                  <a:tile tx="0" ty="0" sx="100000" sy="100000" algn="ctr"/>
                </a:blipFill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5335560" y="336384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5335560" y="334656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5335560" y="332892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5335560" y="331308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5335560" y="329580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5335560" y="327816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5335560" y="326088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5335560" y="324468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5335560" y="322596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5335560" y="320976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5335560" y="319248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5335560" y="317664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09" name=""/>
              <p:cNvSpPr/>
              <p:nvPr/>
            </p:nvSpPr>
            <p:spPr>
              <a:xfrm>
                <a:off x="5324400" y="3051000"/>
                <a:ext cx="220680" cy="76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5400720" y="3057480"/>
                <a:ext cx="0" cy="5868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5436360" y="3046320"/>
                <a:ext cx="93600" cy="4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9360" bIns="9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4600"/>
                    <a:tab algn="l" pos="349200"/>
                    <a:tab algn="l" pos="523800"/>
                    <a:tab algn="l" pos="698400"/>
                    <a:tab algn="l" pos="873000"/>
                    <a:tab algn="l" pos="1047600"/>
                    <a:tab algn="l" pos="1222200"/>
                    <a:tab algn="l" pos="1397160"/>
                    <a:tab algn="l" pos="1571760"/>
                    <a:tab algn="l" pos="1746360"/>
                    <a:tab algn="l" pos="1920960"/>
                    <a:tab algn="l" pos="2095560"/>
                    <a:tab algn="l" pos="2270160"/>
                    <a:tab algn="l" pos="2444760"/>
                    <a:tab algn="l" pos="2619360"/>
                    <a:tab algn="l" pos="2793960"/>
                    <a:tab algn="l" pos="2968560"/>
                    <a:tab algn="l" pos="3143160"/>
                    <a:tab algn="l" pos="3317760"/>
                    <a:tab algn="l" pos="3492360"/>
                  </a:tabLst>
                </a:pPr>
                <a:r>
                  <a:rPr b="1" lang="en-US" sz="200" spc="-1" strike="noStrike">
                    <a:solidFill>
                      <a:srgbClr val="0000ff"/>
                    </a:solidFill>
                    <a:latin typeface="Arial"/>
                  </a:rPr>
                  <a:t>2100</a:t>
                </a:r>
                <a:endParaRPr b="0" lang="en-US" sz="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5506920" y="3056040"/>
                <a:ext cx="17640" cy="1116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5329080" y="3056040"/>
                <a:ext cx="14400" cy="1116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5343480" y="3398760"/>
                <a:ext cx="11160" cy="7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5514840" y="33987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16" name=""/>
            <p:cNvGrpSpPr/>
            <p:nvPr/>
          </p:nvGrpSpPr>
          <p:grpSpPr>
            <a:xfrm>
              <a:off x="5664240" y="3056040"/>
              <a:ext cx="222120" cy="361800"/>
              <a:chOff x="5664240" y="3056040"/>
              <a:chExt cx="222120" cy="361800"/>
            </a:xfrm>
          </p:grpSpPr>
          <p:sp>
            <p:nvSpPr>
              <p:cNvPr id="1017" name=""/>
              <p:cNvSpPr/>
              <p:nvPr/>
            </p:nvSpPr>
            <p:spPr>
              <a:xfrm>
                <a:off x="5664240" y="3056040"/>
                <a:ext cx="220680" cy="34128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18" name=""/>
              <p:cNvGrpSpPr/>
              <p:nvPr/>
            </p:nvGrpSpPr>
            <p:grpSpPr>
              <a:xfrm>
                <a:off x="5676840" y="3176640"/>
                <a:ext cx="193680" cy="209520"/>
                <a:chOff x="5676840" y="3176640"/>
                <a:chExt cx="193680" cy="209520"/>
              </a:xfrm>
            </p:grpSpPr>
            <p:sp>
              <p:nvSpPr>
                <p:cNvPr id="1019" name=""/>
                <p:cNvSpPr/>
                <p:nvPr/>
              </p:nvSpPr>
              <p:spPr>
                <a:xfrm>
                  <a:off x="5676840" y="3176640"/>
                  <a:ext cx="193680" cy="209520"/>
                </a:xfrm>
                <a:prstGeom prst="rect">
                  <a:avLst/>
                </a:prstGeom>
                <a:blipFill rotWithShape="0">
                  <a:blip r:embed="rId8"/>
                  <a:srcRect/>
                  <a:tile tx="0" ty="0" sx="100000" sy="100000" algn="ctr"/>
                </a:blipFill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5676840" y="337500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5676840" y="335772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5676840" y="334008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5676840" y="332424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5676840" y="330660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5676840" y="328932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5676840" y="327348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5676840" y="325440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5676840" y="323856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5676840" y="322092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5676840" y="320508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5676840" y="318780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2" name=""/>
              <p:cNvSpPr/>
              <p:nvPr/>
            </p:nvSpPr>
            <p:spPr>
              <a:xfrm>
                <a:off x="5667480" y="3062160"/>
                <a:ext cx="218880" cy="76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5740560" y="3068640"/>
                <a:ext cx="0" cy="5724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5777640" y="3057480"/>
                <a:ext cx="93600" cy="4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9360" bIns="9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4600"/>
                    <a:tab algn="l" pos="349200"/>
                    <a:tab algn="l" pos="523800"/>
                    <a:tab algn="l" pos="698400"/>
                    <a:tab algn="l" pos="873000"/>
                    <a:tab algn="l" pos="1047600"/>
                    <a:tab algn="l" pos="1222200"/>
                    <a:tab algn="l" pos="1397160"/>
                    <a:tab algn="l" pos="1571760"/>
                    <a:tab algn="l" pos="1746360"/>
                    <a:tab algn="l" pos="1920960"/>
                    <a:tab algn="l" pos="2095560"/>
                    <a:tab algn="l" pos="2270160"/>
                    <a:tab algn="l" pos="2444760"/>
                    <a:tab algn="l" pos="2619360"/>
                    <a:tab algn="l" pos="2793960"/>
                    <a:tab algn="l" pos="2968560"/>
                    <a:tab algn="l" pos="3143160"/>
                    <a:tab algn="l" pos="3317760"/>
                    <a:tab algn="l" pos="3492360"/>
                  </a:tabLst>
                </a:pPr>
                <a:r>
                  <a:rPr b="1" lang="en-US" sz="200" spc="-1" strike="noStrike">
                    <a:solidFill>
                      <a:srgbClr val="0000ff"/>
                    </a:solidFill>
                    <a:latin typeface="Arial"/>
                  </a:rPr>
                  <a:t>2100</a:t>
                </a:r>
                <a:endParaRPr b="0" lang="en-US" sz="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5848200" y="3073320"/>
                <a:ext cx="19080" cy="180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5670720" y="3073320"/>
                <a:ext cx="15840" cy="180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5691240" y="3409920"/>
                <a:ext cx="1440" cy="7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5861160" y="3409920"/>
                <a:ext cx="1440" cy="7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39" name=""/>
            <p:cNvSpPr/>
            <p:nvPr/>
          </p:nvSpPr>
          <p:spPr>
            <a:xfrm flipH="1">
              <a:off x="4740120" y="2741760"/>
              <a:ext cx="301680" cy="24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 flipH="1">
              <a:off x="5060520" y="2763720"/>
              <a:ext cx="103320" cy="222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5353200" y="2763720"/>
              <a:ext cx="77760" cy="222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5583240" y="2763720"/>
              <a:ext cx="193680" cy="227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43" name=""/>
            <p:cNvGrpSpPr/>
            <p:nvPr/>
          </p:nvGrpSpPr>
          <p:grpSpPr>
            <a:xfrm>
              <a:off x="4668840" y="1947960"/>
              <a:ext cx="222120" cy="361800"/>
              <a:chOff x="4668840" y="1947960"/>
              <a:chExt cx="222120" cy="361800"/>
            </a:xfrm>
          </p:grpSpPr>
          <p:sp>
            <p:nvSpPr>
              <p:cNvPr id="1044" name=""/>
              <p:cNvSpPr/>
              <p:nvPr/>
            </p:nvSpPr>
            <p:spPr>
              <a:xfrm>
                <a:off x="4668840" y="1947960"/>
                <a:ext cx="220680" cy="34128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45" name=""/>
              <p:cNvGrpSpPr/>
              <p:nvPr/>
            </p:nvGrpSpPr>
            <p:grpSpPr>
              <a:xfrm>
                <a:off x="4683240" y="2068560"/>
                <a:ext cx="195120" cy="208080"/>
                <a:chOff x="4683240" y="2068560"/>
                <a:chExt cx="195120" cy="208080"/>
              </a:xfrm>
            </p:grpSpPr>
            <p:sp>
              <p:nvSpPr>
                <p:cNvPr id="1046" name=""/>
                <p:cNvSpPr/>
                <p:nvPr/>
              </p:nvSpPr>
              <p:spPr>
                <a:xfrm>
                  <a:off x="4683240" y="2068560"/>
                  <a:ext cx="195120" cy="208080"/>
                </a:xfrm>
                <a:prstGeom prst="rect">
                  <a:avLst/>
                </a:prstGeom>
                <a:blipFill rotWithShape="0">
                  <a:blip r:embed="rId9"/>
                  <a:srcRect/>
                  <a:tile tx="0" ty="0" sx="100000" sy="100000" algn="ctr"/>
                </a:blipFill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4683240" y="2266920"/>
                  <a:ext cx="19512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4683240" y="2249640"/>
                  <a:ext cx="19512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4683240" y="2232000"/>
                  <a:ext cx="19512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4683240" y="2216160"/>
                  <a:ext cx="19512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4683240" y="2198520"/>
                  <a:ext cx="19512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4683240" y="2181240"/>
                  <a:ext cx="19512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4683240" y="2163600"/>
                  <a:ext cx="19512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>
                  <a:off x="4683240" y="2147760"/>
                  <a:ext cx="19512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4683240" y="2128680"/>
                  <a:ext cx="19512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4683240" y="2112840"/>
                  <a:ext cx="19512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4683240" y="2095560"/>
                  <a:ext cx="19512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4683240" y="2079720"/>
                  <a:ext cx="19512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9" name=""/>
              <p:cNvSpPr/>
              <p:nvPr/>
            </p:nvSpPr>
            <p:spPr>
              <a:xfrm>
                <a:off x="4672080" y="1954080"/>
                <a:ext cx="218880" cy="76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4746600" y="1960560"/>
                <a:ext cx="0" cy="5724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4782240" y="1949400"/>
                <a:ext cx="93600" cy="4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9360" bIns="9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4600"/>
                    <a:tab algn="l" pos="349200"/>
                    <a:tab algn="l" pos="523800"/>
                    <a:tab algn="l" pos="698400"/>
                    <a:tab algn="l" pos="873000"/>
                    <a:tab algn="l" pos="1047600"/>
                    <a:tab algn="l" pos="1222200"/>
                    <a:tab algn="l" pos="1397160"/>
                    <a:tab algn="l" pos="1571760"/>
                    <a:tab algn="l" pos="1746360"/>
                    <a:tab algn="l" pos="1920960"/>
                    <a:tab algn="l" pos="2095560"/>
                    <a:tab algn="l" pos="2270160"/>
                    <a:tab algn="l" pos="2444760"/>
                    <a:tab algn="l" pos="2619360"/>
                    <a:tab algn="l" pos="2793960"/>
                    <a:tab algn="l" pos="2968560"/>
                    <a:tab algn="l" pos="3143160"/>
                    <a:tab algn="l" pos="3317760"/>
                    <a:tab algn="l" pos="3492360"/>
                  </a:tabLst>
                </a:pPr>
                <a:r>
                  <a:rPr b="1" lang="en-US" sz="200" spc="-1" strike="noStrike">
                    <a:solidFill>
                      <a:srgbClr val="0000ff"/>
                    </a:solidFill>
                    <a:latin typeface="Arial"/>
                  </a:rPr>
                  <a:t>2100</a:t>
                </a:r>
                <a:endParaRPr b="0" lang="en-US" sz="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4854600" y="1959120"/>
                <a:ext cx="17280" cy="1080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4676760" y="1959120"/>
                <a:ext cx="14400" cy="1080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4695840" y="2301840"/>
                <a:ext cx="1440" cy="7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4865760" y="2301840"/>
                <a:ext cx="1440" cy="7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66" name=""/>
            <p:cNvGrpSpPr/>
            <p:nvPr/>
          </p:nvGrpSpPr>
          <p:grpSpPr>
            <a:xfrm>
              <a:off x="5014800" y="1941480"/>
              <a:ext cx="222480" cy="362160"/>
              <a:chOff x="5014800" y="1941480"/>
              <a:chExt cx="222480" cy="362160"/>
            </a:xfrm>
          </p:grpSpPr>
          <p:sp>
            <p:nvSpPr>
              <p:cNvPr id="1067" name=""/>
              <p:cNvSpPr/>
              <p:nvPr/>
            </p:nvSpPr>
            <p:spPr>
              <a:xfrm>
                <a:off x="5014800" y="1941480"/>
                <a:ext cx="222480" cy="34128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68" name=""/>
              <p:cNvGrpSpPr/>
              <p:nvPr/>
            </p:nvGrpSpPr>
            <p:grpSpPr>
              <a:xfrm>
                <a:off x="5029200" y="2062080"/>
                <a:ext cx="193680" cy="209520"/>
                <a:chOff x="5029200" y="2062080"/>
                <a:chExt cx="193680" cy="209520"/>
              </a:xfrm>
            </p:grpSpPr>
            <p:sp>
              <p:nvSpPr>
                <p:cNvPr id="1069" name=""/>
                <p:cNvSpPr/>
                <p:nvPr/>
              </p:nvSpPr>
              <p:spPr>
                <a:xfrm>
                  <a:off x="5029200" y="2062080"/>
                  <a:ext cx="193680" cy="209520"/>
                </a:xfrm>
                <a:prstGeom prst="rect">
                  <a:avLst/>
                </a:prstGeom>
                <a:blipFill rotWithShape="0">
                  <a:blip r:embed="rId10"/>
                  <a:srcRect/>
                  <a:tile tx="0" ty="0" sx="100000" sy="100000" algn="ctr"/>
                </a:blipFill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5029200" y="226044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>
                  <a:off x="5029200" y="224316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5029200" y="222552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5029200" y="220968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5029200" y="219060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5029200" y="217476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5029200" y="215748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7" name=""/>
                <p:cNvSpPr/>
                <p:nvPr/>
              </p:nvSpPr>
              <p:spPr>
                <a:xfrm>
                  <a:off x="5029200" y="214164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>
                  <a:off x="5029200" y="212400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5029200" y="210672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>
                  <a:off x="5029200" y="209088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>
                  <a:off x="5029200" y="207324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82" name=""/>
              <p:cNvSpPr/>
              <p:nvPr/>
            </p:nvSpPr>
            <p:spPr>
              <a:xfrm>
                <a:off x="5018040" y="1947960"/>
                <a:ext cx="219240" cy="777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5092560" y="1954080"/>
                <a:ext cx="0" cy="5724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5128200" y="1943280"/>
                <a:ext cx="93600" cy="4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9360" bIns="9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4600"/>
                    <a:tab algn="l" pos="349200"/>
                    <a:tab algn="l" pos="523800"/>
                    <a:tab algn="l" pos="698400"/>
                    <a:tab algn="l" pos="873000"/>
                    <a:tab algn="l" pos="1047600"/>
                    <a:tab algn="l" pos="1222200"/>
                    <a:tab algn="l" pos="1397160"/>
                    <a:tab algn="l" pos="1571760"/>
                    <a:tab algn="l" pos="1746360"/>
                    <a:tab algn="l" pos="1920960"/>
                    <a:tab algn="l" pos="2095560"/>
                    <a:tab algn="l" pos="2270160"/>
                    <a:tab algn="l" pos="2444760"/>
                    <a:tab algn="l" pos="2619360"/>
                    <a:tab algn="l" pos="2793960"/>
                    <a:tab algn="l" pos="2968560"/>
                    <a:tab algn="l" pos="3143160"/>
                    <a:tab algn="l" pos="3317760"/>
                    <a:tab algn="l" pos="3492360"/>
                  </a:tabLst>
                </a:pPr>
                <a:r>
                  <a:rPr b="1" lang="en-US" sz="200" spc="-1" strike="noStrike">
                    <a:solidFill>
                      <a:srgbClr val="0000ff"/>
                    </a:solidFill>
                    <a:latin typeface="Arial"/>
                  </a:rPr>
                  <a:t>2100</a:t>
                </a:r>
                <a:endParaRPr b="0" lang="en-US" sz="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5200560" y="1959120"/>
                <a:ext cx="17640" cy="144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5022720" y="1959120"/>
                <a:ext cx="12960" cy="144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5041800" y="2295360"/>
                <a:ext cx="1800" cy="8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5207040" y="2295360"/>
                <a:ext cx="9360" cy="8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89" name=""/>
            <p:cNvGrpSpPr/>
            <p:nvPr/>
          </p:nvGrpSpPr>
          <p:grpSpPr>
            <a:xfrm>
              <a:off x="5321160" y="1941480"/>
              <a:ext cx="223920" cy="362160"/>
              <a:chOff x="5321160" y="1941480"/>
              <a:chExt cx="223920" cy="362160"/>
            </a:xfrm>
          </p:grpSpPr>
          <p:sp>
            <p:nvSpPr>
              <p:cNvPr id="1090" name=""/>
              <p:cNvSpPr/>
              <p:nvPr/>
            </p:nvSpPr>
            <p:spPr>
              <a:xfrm>
                <a:off x="5321160" y="1941480"/>
                <a:ext cx="222480" cy="34128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91" name=""/>
              <p:cNvGrpSpPr/>
              <p:nvPr/>
            </p:nvGrpSpPr>
            <p:grpSpPr>
              <a:xfrm>
                <a:off x="5335560" y="2062080"/>
                <a:ext cx="193680" cy="209520"/>
                <a:chOff x="5335560" y="2062080"/>
                <a:chExt cx="193680" cy="209520"/>
              </a:xfrm>
            </p:grpSpPr>
            <p:sp>
              <p:nvSpPr>
                <p:cNvPr id="1092" name=""/>
                <p:cNvSpPr/>
                <p:nvPr/>
              </p:nvSpPr>
              <p:spPr>
                <a:xfrm>
                  <a:off x="5335560" y="2062080"/>
                  <a:ext cx="193680" cy="209520"/>
                </a:xfrm>
                <a:prstGeom prst="rect">
                  <a:avLst/>
                </a:prstGeom>
                <a:blipFill rotWithShape="0">
                  <a:blip r:embed="rId11"/>
                  <a:srcRect/>
                  <a:tile tx="0" ty="0" sx="100000" sy="100000" algn="ctr"/>
                </a:blipFill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5335560" y="226044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5335560" y="224316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>
                  <a:off x="5335560" y="222552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5335560" y="220968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5335560" y="219060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>
                  <a:off x="5335560" y="217476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>
                  <a:off x="5335560" y="215748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5335560" y="214164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>
                  <a:off x="5335560" y="212400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>
                  <a:off x="5335560" y="210672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5335560" y="209088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>
                  <a:off x="5335560" y="207324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05" name=""/>
              <p:cNvSpPr/>
              <p:nvPr/>
            </p:nvSpPr>
            <p:spPr>
              <a:xfrm>
                <a:off x="5324400" y="1947960"/>
                <a:ext cx="220680" cy="777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5400720" y="1954080"/>
                <a:ext cx="0" cy="5724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5436360" y="1943280"/>
                <a:ext cx="93600" cy="4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9360" bIns="9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4600"/>
                    <a:tab algn="l" pos="349200"/>
                    <a:tab algn="l" pos="523800"/>
                    <a:tab algn="l" pos="698400"/>
                    <a:tab algn="l" pos="873000"/>
                    <a:tab algn="l" pos="1047600"/>
                    <a:tab algn="l" pos="1222200"/>
                    <a:tab algn="l" pos="1397160"/>
                    <a:tab algn="l" pos="1571760"/>
                    <a:tab algn="l" pos="1746360"/>
                    <a:tab algn="l" pos="1920960"/>
                    <a:tab algn="l" pos="2095560"/>
                    <a:tab algn="l" pos="2270160"/>
                    <a:tab algn="l" pos="2444760"/>
                    <a:tab algn="l" pos="2619360"/>
                    <a:tab algn="l" pos="2793960"/>
                    <a:tab algn="l" pos="2968560"/>
                    <a:tab algn="l" pos="3143160"/>
                    <a:tab algn="l" pos="3317760"/>
                    <a:tab algn="l" pos="3492360"/>
                  </a:tabLst>
                </a:pPr>
                <a:r>
                  <a:rPr b="1" lang="en-US" sz="200" spc="-1" strike="noStrike">
                    <a:solidFill>
                      <a:srgbClr val="0000ff"/>
                    </a:solidFill>
                    <a:latin typeface="Arial"/>
                  </a:rPr>
                  <a:t>2100</a:t>
                </a:r>
                <a:endParaRPr b="0" lang="en-US" sz="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5506920" y="1959120"/>
                <a:ext cx="17640" cy="144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5329080" y="1959120"/>
                <a:ext cx="14400" cy="144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5343480" y="2295360"/>
                <a:ext cx="11160" cy="8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5514840" y="2295360"/>
                <a:ext cx="9720" cy="8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12" name=""/>
            <p:cNvGrpSpPr/>
            <p:nvPr/>
          </p:nvGrpSpPr>
          <p:grpSpPr>
            <a:xfrm>
              <a:off x="5664240" y="1930320"/>
              <a:ext cx="222120" cy="362160"/>
              <a:chOff x="5664240" y="1930320"/>
              <a:chExt cx="222120" cy="362160"/>
            </a:xfrm>
          </p:grpSpPr>
          <p:sp>
            <p:nvSpPr>
              <p:cNvPr id="1113" name=""/>
              <p:cNvSpPr/>
              <p:nvPr/>
            </p:nvSpPr>
            <p:spPr>
              <a:xfrm>
                <a:off x="5664240" y="1930320"/>
                <a:ext cx="220680" cy="34128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14" name=""/>
              <p:cNvGrpSpPr/>
              <p:nvPr/>
            </p:nvGrpSpPr>
            <p:grpSpPr>
              <a:xfrm>
                <a:off x="5676840" y="2050920"/>
                <a:ext cx="193680" cy="209520"/>
                <a:chOff x="5676840" y="2050920"/>
                <a:chExt cx="193680" cy="209520"/>
              </a:xfrm>
            </p:grpSpPr>
            <p:sp>
              <p:nvSpPr>
                <p:cNvPr id="1115" name=""/>
                <p:cNvSpPr/>
                <p:nvPr/>
              </p:nvSpPr>
              <p:spPr>
                <a:xfrm>
                  <a:off x="5676840" y="2050920"/>
                  <a:ext cx="193680" cy="209520"/>
                </a:xfrm>
                <a:prstGeom prst="rect">
                  <a:avLst/>
                </a:prstGeom>
                <a:blipFill rotWithShape="0">
                  <a:blip r:embed="rId12"/>
                  <a:srcRect/>
                  <a:tile tx="0" ty="0" sx="100000" sy="100000" algn="ctr"/>
                </a:blipFill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>
                  <a:off x="5676840" y="224964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>
                  <a:off x="5676840" y="223200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5676840" y="221472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>
                  <a:off x="5676840" y="219852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>
                  <a:off x="5676840" y="218124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5676840" y="216360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>
                  <a:off x="5676840" y="214776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5676840" y="212868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5676840" y="211284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5" name=""/>
                <p:cNvSpPr/>
                <p:nvPr/>
              </p:nvSpPr>
              <p:spPr>
                <a:xfrm>
                  <a:off x="5676840" y="209556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>
                  <a:off x="5676840" y="207972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5676840" y="206208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28" name=""/>
              <p:cNvSpPr/>
              <p:nvPr/>
            </p:nvSpPr>
            <p:spPr>
              <a:xfrm>
                <a:off x="5667480" y="1936800"/>
                <a:ext cx="218880" cy="76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5740560" y="1943280"/>
                <a:ext cx="0" cy="5688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5777640" y="1932120"/>
                <a:ext cx="93600" cy="4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9360" bIns="9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4600"/>
                    <a:tab algn="l" pos="349200"/>
                    <a:tab algn="l" pos="523800"/>
                    <a:tab algn="l" pos="698400"/>
                    <a:tab algn="l" pos="873000"/>
                    <a:tab algn="l" pos="1047600"/>
                    <a:tab algn="l" pos="1222200"/>
                    <a:tab algn="l" pos="1397160"/>
                    <a:tab algn="l" pos="1571760"/>
                    <a:tab algn="l" pos="1746360"/>
                    <a:tab algn="l" pos="1920960"/>
                    <a:tab algn="l" pos="2095560"/>
                    <a:tab algn="l" pos="2270160"/>
                    <a:tab algn="l" pos="2444760"/>
                    <a:tab algn="l" pos="2619360"/>
                    <a:tab algn="l" pos="2793960"/>
                    <a:tab algn="l" pos="2968560"/>
                    <a:tab algn="l" pos="3143160"/>
                    <a:tab algn="l" pos="3317760"/>
                    <a:tab algn="l" pos="3492360"/>
                  </a:tabLst>
                </a:pPr>
                <a:r>
                  <a:rPr b="1" lang="en-US" sz="200" spc="-1" strike="noStrike">
                    <a:solidFill>
                      <a:srgbClr val="0000ff"/>
                    </a:solidFill>
                    <a:latin typeface="Arial"/>
                  </a:rPr>
                  <a:t>2100</a:t>
                </a:r>
                <a:endParaRPr b="0" lang="en-US" sz="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5848200" y="1947960"/>
                <a:ext cx="19080" cy="144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5670720" y="1947960"/>
                <a:ext cx="15840" cy="144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5691240" y="2284560"/>
                <a:ext cx="1440" cy="7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5861160" y="2284560"/>
                <a:ext cx="1440" cy="7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35" name=""/>
            <p:cNvSpPr/>
            <p:nvPr/>
          </p:nvSpPr>
          <p:spPr>
            <a:xfrm flipH="1" flipV="1">
              <a:off x="4739760" y="2344680"/>
              <a:ext cx="289080" cy="26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H="1" flipV="1">
              <a:off x="5060520" y="2349360"/>
              <a:ext cx="103320" cy="24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V="1">
              <a:off x="5353200" y="2349360"/>
              <a:ext cx="77760" cy="24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V="1">
              <a:off x="5583240" y="2344320"/>
              <a:ext cx="193680" cy="252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39" name=""/>
          <p:cNvGrpSpPr/>
          <p:nvPr/>
        </p:nvGrpSpPr>
        <p:grpSpPr>
          <a:xfrm>
            <a:off x="6289560" y="1057320"/>
            <a:ext cx="1847880" cy="1993680"/>
            <a:chOff x="6289560" y="1057320"/>
            <a:chExt cx="1847880" cy="1993680"/>
          </a:xfrm>
        </p:grpSpPr>
        <p:pic>
          <p:nvPicPr>
            <p:cNvPr id="1140" name="" descr=""/>
            <p:cNvPicPr/>
            <p:nvPr/>
          </p:nvPicPr>
          <p:blipFill>
            <a:blip r:embed="rId13"/>
            <a:stretch/>
          </p:blipFill>
          <p:spPr>
            <a:xfrm>
              <a:off x="6550200" y="1542960"/>
              <a:ext cx="1360440" cy="1028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41" name=""/>
            <p:cNvGrpSpPr/>
            <p:nvPr/>
          </p:nvGrpSpPr>
          <p:grpSpPr>
            <a:xfrm>
              <a:off x="7089840" y="1057320"/>
              <a:ext cx="338040" cy="447480"/>
              <a:chOff x="7089840" y="1057320"/>
              <a:chExt cx="338040" cy="447480"/>
            </a:xfrm>
          </p:grpSpPr>
          <p:sp>
            <p:nvSpPr>
              <p:cNvPr id="1142" name=""/>
              <p:cNvSpPr/>
              <p:nvPr/>
            </p:nvSpPr>
            <p:spPr>
              <a:xfrm>
                <a:off x="7189920" y="1252440"/>
                <a:ext cx="147600" cy="6660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43" name=""/>
              <p:cNvGrpSpPr/>
              <p:nvPr/>
            </p:nvGrpSpPr>
            <p:grpSpPr>
              <a:xfrm>
                <a:off x="7089840" y="1318680"/>
                <a:ext cx="338040" cy="186120"/>
                <a:chOff x="7089840" y="1318680"/>
                <a:chExt cx="338040" cy="186120"/>
              </a:xfrm>
            </p:grpSpPr>
            <p:sp>
              <p:nvSpPr>
                <p:cNvPr id="1144" name=""/>
                <p:cNvSpPr/>
                <p:nvPr/>
              </p:nvSpPr>
              <p:spPr>
                <a:xfrm flipV="1">
                  <a:off x="7110360" y="1320480"/>
                  <a:ext cx="65160" cy="114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 flipV="1">
                  <a:off x="7215120" y="1320480"/>
                  <a:ext cx="0" cy="1062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 flipV="1">
                  <a:off x="7305840" y="1318680"/>
                  <a:ext cx="0" cy="109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7089840" y="1434960"/>
                  <a:ext cx="28440" cy="637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7197840" y="1428840"/>
                  <a:ext cx="33120" cy="7596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>
                  <a:off x="7286760" y="1427040"/>
                  <a:ext cx="29880" cy="748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>
                  <a:off x="7400880" y="1434960"/>
                  <a:ext cx="27000" cy="637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 flipH="1" flipV="1">
                  <a:off x="7330680" y="1320480"/>
                  <a:ext cx="95400" cy="114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2" name=""/>
              <p:cNvGrpSpPr/>
              <p:nvPr/>
            </p:nvGrpSpPr>
            <p:grpSpPr>
              <a:xfrm>
                <a:off x="7089840" y="1057320"/>
                <a:ext cx="338040" cy="173160"/>
                <a:chOff x="7089840" y="1057320"/>
                <a:chExt cx="338040" cy="173160"/>
              </a:xfrm>
            </p:grpSpPr>
            <p:sp>
              <p:nvSpPr>
                <p:cNvPr id="1153" name=""/>
                <p:cNvSpPr/>
                <p:nvPr/>
              </p:nvSpPr>
              <p:spPr>
                <a:xfrm>
                  <a:off x="7110360" y="1139760"/>
                  <a:ext cx="65160" cy="90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7215120" y="1149480"/>
                  <a:ext cx="0" cy="792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7305840" y="1144440"/>
                  <a:ext cx="0" cy="860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7089840" y="1063800"/>
                  <a:ext cx="28440" cy="6336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7197840" y="1057320"/>
                  <a:ext cx="33120" cy="745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7286760" y="1060560"/>
                  <a:ext cx="29880" cy="7596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>
                  <a:off x="7400880" y="1063800"/>
                  <a:ext cx="27000" cy="6336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 flipH="1">
                  <a:off x="7330680" y="1139760"/>
                  <a:ext cx="95400" cy="90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61" name=""/>
            <p:cNvGrpSpPr/>
            <p:nvPr/>
          </p:nvGrpSpPr>
          <p:grpSpPr>
            <a:xfrm>
              <a:off x="7799400" y="1332000"/>
              <a:ext cx="338040" cy="446040"/>
              <a:chOff x="7799400" y="1332000"/>
              <a:chExt cx="338040" cy="446040"/>
            </a:xfrm>
          </p:grpSpPr>
          <p:sp>
            <p:nvSpPr>
              <p:cNvPr id="1162" name=""/>
              <p:cNvSpPr/>
              <p:nvPr/>
            </p:nvSpPr>
            <p:spPr>
              <a:xfrm>
                <a:off x="7899480" y="1527120"/>
                <a:ext cx="147600" cy="6660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63" name=""/>
              <p:cNvGrpSpPr/>
              <p:nvPr/>
            </p:nvGrpSpPr>
            <p:grpSpPr>
              <a:xfrm>
                <a:off x="7799400" y="1593360"/>
                <a:ext cx="338040" cy="184680"/>
                <a:chOff x="7799400" y="1593360"/>
                <a:chExt cx="338040" cy="184680"/>
              </a:xfrm>
            </p:grpSpPr>
            <p:sp>
              <p:nvSpPr>
                <p:cNvPr id="1164" name=""/>
                <p:cNvSpPr/>
                <p:nvPr/>
              </p:nvSpPr>
              <p:spPr>
                <a:xfrm flipV="1">
                  <a:off x="7819920" y="1593720"/>
                  <a:ext cx="65160" cy="115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 flipV="1">
                  <a:off x="7924680" y="1595160"/>
                  <a:ext cx="0" cy="104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 flipV="1">
                  <a:off x="8012160" y="1593360"/>
                  <a:ext cx="0" cy="109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7799400" y="1709640"/>
                  <a:ext cx="27000" cy="637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7907400" y="1703520"/>
                  <a:ext cx="31680" cy="745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7996320" y="1700280"/>
                  <a:ext cx="28440" cy="7596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8110440" y="1709640"/>
                  <a:ext cx="27000" cy="637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 flipH="1" flipV="1">
                  <a:off x="8040240" y="1593720"/>
                  <a:ext cx="95400" cy="115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2" name=""/>
              <p:cNvGrpSpPr/>
              <p:nvPr/>
            </p:nvGrpSpPr>
            <p:grpSpPr>
              <a:xfrm>
                <a:off x="7799400" y="1332000"/>
                <a:ext cx="338040" cy="172800"/>
                <a:chOff x="7799400" y="1332000"/>
                <a:chExt cx="338040" cy="172800"/>
              </a:xfrm>
            </p:grpSpPr>
            <p:sp>
              <p:nvSpPr>
                <p:cNvPr id="1173" name=""/>
                <p:cNvSpPr/>
                <p:nvPr/>
              </p:nvSpPr>
              <p:spPr>
                <a:xfrm>
                  <a:off x="7819920" y="1414440"/>
                  <a:ext cx="65160" cy="90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>
                  <a:off x="7924680" y="1422360"/>
                  <a:ext cx="0" cy="81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>
                  <a:off x="8012160" y="1419120"/>
                  <a:ext cx="0" cy="85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>
                  <a:off x="7799400" y="1336680"/>
                  <a:ext cx="27000" cy="6516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>
                  <a:off x="7907400" y="1332000"/>
                  <a:ext cx="31680" cy="745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7996320" y="1335240"/>
                  <a:ext cx="28440" cy="745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8110440" y="1336680"/>
                  <a:ext cx="27000" cy="6516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 flipH="1">
                  <a:off x="8040240" y="1414440"/>
                  <a:ext cx="95400" cy="90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81" name=""/>
            <p:cNvGrpSpPr/>
            <p:nvPr/>
          </p:nvGrpSpPr>
          <p:grpSpPr>
            <a:xfrm>
              <a:off x="7799400" y="2319480"/>
              <a:ext cx="338040" cy="447480"/>
              <a:chOff x="7799400" y="2319480"/>
              <a:chExt cx="338040" cy="447480"/>
            </a:xfrm>
          </p:grpSpPr>
          <p:sp>
            <p:nvSpPr>
              <p:cNvPr id="1182" name=""/>
              <p:cNvSpPr/>
              <p:nvPr/>
            </p:nvSpPr>
            <p:spPr>
              <a:xfrm>
                <a:off x="7899480" y="2514600"/>
                <a:ext cx="147600" cy="6660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83" name=""/>
              <p:cNvGrpSpPr/>
              <p:nvPr/>
            </p:nvGrpSpPr>
            <p:grpSpPr>
              <a:xfrm>
                <a:off x="7799400" y="2581200"/>
                <a:ext cx="338040" cy="185760"/>
                <a:chOff x="7799400" y="2581200"/>
                <a:chExt cx="338040" cy="185760"/>
              </a:xfrm>
            </p:grpSpPr>
            <p:sp>
              <p:nvSpPr>
                <p:cNvPr id="1184" name=""/>
                <p:cNvSpPr/>
                <p:nvPr/>
              </p:nvSpPr>
              <p:spPr>
                <a:xfrm flipV="1">
                  <a:off x="7819920" y="2582640"/>
                  <a:ext cx="65160" cy="114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 flipV="1">
                  <a:off x="7924680" y="2582640"/>
                  <a:ext cx="0" cy="1062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 flipV="1">
                  <a:off x="8012160" y="2581200"/>
                  <a:ext cx="0" cy="109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>
                  <a:off x="7799400" y="2697120"/>
                  <a:ext cx="27000" cy="637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7907400" y="2690640"/>
                  <a:ext cx="31680" cy="763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7996320" y="2689200"/>
                  <a:ext cx="28440" cy="745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8110440" y="2697120"/>
                  <a:ext cx="27000" cy="637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 flipH="1" flipV="1">
                  <a:off x="8040240" y="2582640"/>
                  <a:ext cx="95400" cy="114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2" name=""/>
              <p:cNvGrpSpPr/>
              <p:nvPr/>
            </p:nvGrpSpPr>
            <p:grpSpPr>
              <a:xfrm>
                <a:off x="7799400" y="2319480"/>
                <a:ext cx="338040" cy="172800"/>
                <a:chOff x="7799400" y="2319480"/>
                <a:chExt cx="338040" cy="172800"/>
              </a:xfrm>
            </p:grpSpPr>
            <p:sp>
              <p:nvSpPr>
                <p:cNvPr id="1193" name=""/>
                <p:cNvSpPr/>
                <p:nvPr/>
              </p:nvSpPr>
              <p:spPr>
                <a:xfrm>
                  <a:off x="7819920" y="2401920"/>
                  <a:ext cx="65160" cy="90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>
                  <a:off x="7924680" y="2411280"/>
                  <a:ext cx="0" cy="795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8012160" y="2408400"/>
                  <a:ext cx="0" cy="83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7799400" y="2325600"/>
                  <a:ext cx="27000" cy="637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7907400" y="2319480"/>
                  <a:ext cx="31680" cy="7596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7996320" y="2322360"/>
                  <a:ext cx="28440" cy="763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8110440" y="2325600"/>
                  <a:ext cx="27000" cy="637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 flipH="1">
                  <a:off x="8040240" y="2401920"/>
                  <a:ext cx="95400" cy="90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01" name=""/>
            <p:cNvGrpSpPr/>
            <p:nvPr/>
          </p:nvGrpSpPr>
          <p:grpSpPr>
            <a:xfrm>
              <a:off x="7101000" y="2603520"/>
              <a:ext cx="336600" cy="447480"/>
              <a:chOff x="7101000" y="2603520"/>
              <a:chExt cx="336600" cy="447480"/>
            </a:xfrm>
          </p:grpSpPr>
          <p:sp>
            <p:nvSpPr>
              <p:cNvPr id="1202" name=""/>
              <p:cNvSpPr/>
              <p:nvPr/>
            </p:nvSpPr>
            <p:spPr>
              <a:xfrm>
                <a:off x="7197840" y="2800440"/>
                <a:ext cx="150840" cy="6516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03" name=""/>
              <p:cNvGrpSpPr/>
              <p:nvPr/>
            </p:nvGrpSpPr>
            <p:grpSpPr>
              <a:xfrm>
                <a:off x="7101000" y="2865600"/>
                <a:ext cx="336600" cy="185400"/>
                <a:chOff x="7101000" y="2865600"/>
                <a:chExt cx="336600" cy="185400"/>
              </a:xfrm>
            </p:grpSpPr>
            <p:sp>
              <p:nvSpPr>
                <p:cNvPr id="1204" name=""/>
                <p:cNvSpPr/>
                <p:nvPr/>
              </p:nvSpPr>
              <p:spPr>
                <a:xfrm flipV="1">
                  <a:off x="7120080" y="2866680"/>
                  <a:ext cx="64800" cy="114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 flipV="1">
                  <a:off x="7226280" y="2868120"/>
                  <a:ext cx="0" cy="104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 flipV="1">
                  <a:off x="7313760" y="2865600"/>
                  <a:ext cx="0" cy="11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7101000" y="2981160"/>
                  <a:ext cx="27000" cy="637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>
                  <a:off x="7209000" y="2976480"/>
                  <a:ext cx="31680" cy="745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7296120" y="2973240"/>
                  <a:ext cx="28440" cy="763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0" name=""/>
                <p:cNvSpPr/>
                <p:nvPr/>
              </p:nvSpPr>
              <p:spPr>
                <a:xfrm>
                  <a:off x="7408800" y="2981160"/>
                  <a:ext cx="28800" cy="637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1" name=""/>
                <p:cNvSpPr/>
                <p:nvPr/>
              </p:nvSpPr>
              <p:spPr>
                <a:xfrm flipH="1" flipV="1">
                  <a:off x="7340760" y="2866680"/>
                  <a:ext cx="95040" cy="114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2" name=""/>
              <p:cNvGrpSpPr/>
              <p:nvPr/>
            </p:nvGrpSpPr>
            <p:grpSpPr>
              <a:xfrm>
                <a:off x="7101000" y="2603520"/>
                <a:ext cx="336600" cy="173160"/>
                <a:chOff x="7101000" y="2603520"/>
                <a:chExt cx="336600" cy="173160"/>
              </a:xfrm>
            </p:grpSpPr>
            <p:sp>
              <p:nvSpPr>
                <p:cNvPr id="1213" name=""/>
                <p:cNvSpPr/>
                <p:nvPr/>
              </p:nvSpPr>
              <p:spPr>
                <a:xfrm>
                  <a:off x="7120080" y="2685960"/>
                  <a:ext cx="64800" cy="90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4" name=""/>
                <p:cNvSpPr/>
                <p:nvPr/>
              </p:nvSpPr>
              <p:spPr>
                <a:xfrm>
                  <a:off x="7226280" y="2695680"/>
                  <a:ext cx="0" cy="792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"/>
                <p:cNvSpPr/>
                <p:nvPr/>
              </p:nvSpPr>
              <p:spPr>
                <a:xfrm>
                  <a:off x="7313760" y="2692440"/>
                  <a:ext cx="0" cy="84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6" name=""/>
                <p:cNvSpPr/>
                <p:nvPr/>
              </p:nvSpPr>
              <p:spPr>
                <a:xfrm>
                  <a:off x="7101000" y="2610000"/>
                  <a:ext cx="27000" cy="6336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7" name=""/>
                <p:cNvSpPr/>
                <p:nvPr/>
              </p:nvSpPr>
              <p:spPr>
                <a:xfrm>
                  <a:off x="7209000" y="2603520"/>
                  <a:ext cx="31680" cy="763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8" name=""/>
                <p:cNvSpPr/>
                <p:nvPr/>
              </p:nvSpPr>
              <p:spPr>
                <a:xfrm>
                  <a:off x="7296120" y="2608200"/>
                  <a:ext cx="28440" cy="745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9" name=""/>
                <p:cNvSpPr/>
                <p:nvPr/>
              </p:nvSpPr>
              <p:spPr>
                <a:xfrm>
                  <a:off x="7408800" y="2610000"/>
                  <a:ext cx="28800" cy="6336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 flipH="1">
                  <a:off x="7340760" y="2685960"/>
                  <a:ext cx="95040" cy="90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21" name=""/>
            <p:cNvGrpSpPr/>
            <p:nvPr/>
          </p:nvGrpSpPr>
          <p:grpSpPr>
            <a:xfrm>
              <a:off x="6356520" y="2374920"/>
              <a:ext cx="336240" cy="446040"/>
              <a:chOff x="6356520" y="2374920"/>
              <a:chExt cx="336240" cy="446040"/>
            </a:xfrm>
          </p:grpSpPr>
          <p:sp>
            <p:nvSpPr>
              <p:cNvPr id="1222" name=""/>
              <p:cNvSpPr/>
              <p:nvPr/>
            </p:nvSpPr>
            <p:spPr>
              <a:xfrm>
                <a:off x="6454800" y="2570040"/>
                <a:ext cx="149040" cy="6696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23" name=""/>
              <p:cNvGrpSpPr/>
              <p:nvPr/>
            </p:nvGrpSpPr>
            <p:grpSpPr>
              <a:xfrm>
                <a:off x="6356520" y="2636640"/>
                <a:ext cx="336240" cy="184320"/>
                <a:chOff x="6356520" y="2636640"/>
                <a:chExt cx="336240" cy="184320"/>
              </a:xfrm>
            </p:grpSpPr>
            <p:sp>
              <p:nvSpPr>
                <p:cNvPr id="1224" name=""/>
                <p:cNvSpPr/>
                <p:nvPr/>
              </p:nvSpPr>
              <p:spPr>
                <a:xfrm flipV="1">
                  <a:off x="6377040" y="2636640"/>
                  <a:ext cx="65160" cy="114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 flipV="1">
                  <a:off x="6481800" y="2638080"/>
                  <a:ext cx="0" cy="104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6" name=""/>
                <p:cNvSpPr/>
                <p:nvPr/>
              </p:nvSpPr>
              <p:spPr>
                <a:xfrm flipV="1">
                  <a:off x="6570720" y="2637000"/>
                  <a:ext cx="0" cy="109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7" name=""/>
                <p:cNvSpPr/>
                <p:nvPr/>
              </p:nvSpPr>
              <p:spPr>
                <a:xfrm>
                  <a:off x="6356520" y="2751120"/>
                  <a:ext cx="28440" cy="6516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>
                  <a:off x="6464160" y="2746440"/>
                  <a:ext cx="33480" cy="745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>
                  <a:off x="6551640" y="2743200"/>
                  <a:ext cx="30240" cy="763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6665760" y="2751120"/>
                  <a:ext cx="27000" cy="6516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 flipH="1" flipV="1">
                  <a:off x="6595560" y="2636640"/>
                  <a:ext cx="96840" cy="114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2" name=""/>
              <p:cNvGrpSpPr/>
              <p:nvPr/>
            </p:nvGrpSpPr>
            <p:grpSpPr>
              <a:xfrm>
                <a:off x="6356520" y="2374920"/>
                <a:ext cx="336240" cy="171360"/>
                <a:chOff x="6356520" y="2374920"/>
                <a:chExt cx="336240" cy="171360"/>
              </a:xfrm>
            </p:grpSpPr>
            <p:sp>
              <p:nvSpPr>
                <p:cNvPr id="1233" name=""/>
                <p:cNvSpPr/>
                <p:nvPr/>
              </p:nvSpPr>
              <p:spPr>
                <a:xfrm>
                  <a:off x="6377040" y="2457360"/>
                  <a:ext cx="65160" cy="88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>
                  <a:off x="6481800" y="2465280"/>
                  <a:ext cx="0" cy="81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6570720" y="2462040"/>
                  <a:ext cx="0" cy="84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>
                  <a:off x="6356520" y="2379600"/>
                  <a:ext cx="28440" cy="6516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6464160" y="2374920"/>
                  <a:ext cx="33480" cy="745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6551640" y="2378160"/>
                  <a:ext cx="30240" cy="745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6665760" y="2379600"/>
                  <a:ext cx="27000" cy="6516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 flipH="1">
                  <a:off x="6595560" y="2457360"/>
                  <a:ext cx="96840" cy="88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41" name=""/>
            <p:cNvGrpSpPr/>
            <p:nvPr/>
          </p:nvGrpSpPr>
          <p:grpSpPr>
            <a:xfrm>
              <a:off x="6289560" y="1376280"/>
              <a:ext cx="338400" cy="446040"/>
              <a:chOff x="6289560" y="1376280"/>
              <a:chExt cx="338400" cy="446040"/>
            </a:xfrm>
          </p:grpSpPr>
          <p:sp>
            <p:nvSpPr>
              <p:cNvPr id="1242" name=""/>
              <p:cNvSpPr/>
              <p:nvPr/>
            </p:nvSpPr>
            <p:spPr>
              <a:xfrm>
                <a:off x="6389640" y="1571760"/>
                <a:ext cx="147600" cy="6660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43" name=""/>
              <p:cNvGrpSpPr/>
              <p:nvPr/>
            </p:nvGrpSpPr>
            <p:grpSpPr>
              <a:xfrm>
                <a:off x="6289560" y="1638360"/>
                <a:ext cx="338400" cy="183960"/>
                <a:chOff x="6289560" y="1638360"/>
                <a:chExt cx="338400" cy="183960"/>
              </a:xfrm>
            </p:grpSpPr>
            <p:sp>
              <p:nvSpPr>
                <p:cNvPr id="1244" name=""/>
                <p:cNvSpPr/>
                <p:nvPr/>
              </p:nvSpPr>
              <p:spPr>
                <a:xfrm flipV="1">
                  <a:off x="6310440" y="1639800"/>
                  <a:ext cx="64800" cy="1144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5" name=""/>
                <p:cNvSpPr/>
                <p:nvPr/>
              </p:nvSpPr>
              <p:spPr>
                <a:xfrm flipV="1">
                  <a:off x="6415200" y="1639800"/>
                  <a:ext cx="0" cy="1065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 flipV="1">
                  <a:off x="6504120" y="1638360"/>
                  <a:ext cx="0" cy="109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>
                  <a:off x="6289560" y="1754280"/>
                  <a:ext cx="27000" cy="6336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8" name=""/>
                <p:cNvSpPr/>
                <p:nvPr/>
              </p:nvSpPr>
              <p:spPr>
                <a:xfrm>
                  <a:off x="6397560" y="1747800"/>
                  <a:ext cx="31680" cy="745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6486480" y="1746360"/>
                  <a:ext cx="30240" cy="745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>
                  <a:off x="6600960" y="1754280"/>
                  <a:ext cx="27000" cy="6336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 flipH="1" flipV="1">
                  <a:off x="6531120" y="1639800"/>
                  <a:ext cx="95040" cy="1144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2" name=""/>
              <p:cNvGrpSpPr/>
              <p:nvPr/>
            </p:nvGrpSpPr>
            <p:grpSpPr>
              <a:xfrm>
                <a:off x="6289560" y="1376280"/>
                <a:ext cx="338400" cy="173160"/>
                <a:chOff x="6289560" y="1376280"/>
                <a:chExt cx="338400" cy="173160"/>
              </a:xfrm>
            </p:grpSpPr>
            <p:sp>
              <p:nvSpPr>
                <p:cNvPr id="1253" name=""/>
                <p:cNvSpPr/>
                <p:nvPr/>
              </p:nvSpPr>
              <p:spPr>
                <a:xfrm>
                  <a:off x="6310440" y="1459080"/>
                  <a:ext cx="64800" cy="90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4" name=""/>
                <p:cNvSpPr/>
                <p:nvPr/>
              </p:nvSpPr>
              <p:spPr>
                <a:xfrm>
                  <a:off x="6415200" y="1468440"/>
                  <a:ext cx="0" cy="792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>
                  <a:off x="6504120" y="1463760"/>
                  <a:ext cx="0" cy="85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6" name=""/>
                <p:cNvSpPr/>
                <p:nvPr/>
              </p:nvSpPr>
              <p:spPr>
                <a:xfrm>
                  <a:off x="6289560" y="1382760"/>
                  <a:ext cx="27000" cy="6336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7" name=""/>
                <p:cNvSpPr/>
                <p:nvPr/>
              </p:nvSpPr>
              <p:spPr>
                <a:xfrm>
                  <a:off x="6397560" y="1376280"/>
                  <a:ext cx="31680" cy="745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8" name=""/>
                <p:cNvSpPr/>
                <p:nvPr/>
              </p:nvSpPr>
              <p:spPr>
                <a:xfrm>
                  <a:off x="6486480" y="1379520"/>
                  <a:ext cx="30240" cy="763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9" name=""/>
                <p:cNvSpPr/>
                <p:nvPr/>
              </p:nvSpPr>
              <p:spPr>
                <a:xfrm>
                  <a:off x="6600960" y="1382760"/>
                  <a:ext cx="27000" cy="6336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"/>
                <p:cNvSpPr/>
                <p:nvPr/>
              </p:nvSpPr>
              <p:spPr>
                <a:xfrm flipH="1">
                  <a:off x="6531120" y="1459080"/>
                  <a:ext cx="95040" cy="90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61" name=""/>
          <p:cNvSpPr/>
          <p:nvPr/>
        </p:nvSpPr>
        <p:spPr>
          <a:xfrm rot="16200000">
            <a:off x="-1260360" y="3328200"/>
            <a:ext cx="3962520" cy="771840"/>
          </a:xfrm>
          <a:prstGeom prst="rightArrow">
            <a:avLst>
              <a:gd name="adj1" fmla="val 50000"/>
              <a:gd name="adj2" fmla="val 78862"/>
            </a:avLst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533520" y="5505480"/>
            <a:ext cx="8308800" cy="799920"/>
          </a:xfrm>
          <a:prstGeom prst="rightArrow">
            <a:avLst>
              <a:gd name="adj1" fmla="val 50000"/>
              <a:gd name="adj2" fmla="val 100841"/>
            </a:avLst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 flipH="1">
            <a:off x="685800" y="5695920"/>
            <a:ext cx="598320" cy="289080"/>
          </a:xfrm>
          <a:prstGeom prst="triangle">
            <a:avLst>
              <a:gd name="adj" fmla="val 8819"/>
            </a:avLst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1682640" y="6173640"/>
            <a:ext cx="10782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7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</a:rPr>
              <a:t>Single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</a:rPr>
              <a:t>Processor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3441600" y="6173640"/>
            <a:ext cx="92556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7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</a:rPr>
              <a:t>Share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</a:rPr>
              <a:t>Memory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5200560" y="6173640"/>
            <a:ext cx="9255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5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</a:rPr>
              <a:t>Local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</a:rPr>
              <a:t>Parallel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</a:rPr>
              <a:t>Cluster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7029360" y="6173640"/>
            <a:ext cx="9255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5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</a:rPr>
              <a:t>Global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</a:rPr>
              <a:t>Parallel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</a:rPr>
              <a:t>Cluster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204840" y="2820960"/>
            <a:ext cx="2221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G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F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L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O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cpuPerf" descr=""/>
          <p:cNvPicPr/>
          <p:nvPr/>
        </p:nvPicPr>
        <p:blipFill>
          <a:blip r:embed="rId1"/>
          <a:stretch/>
        </p:blipFill>
        <p:spPr>
          <a:xfrm>
            <a:off x="1038240" y="1447920"/>
            <a:ext cx="7115040" cy="521496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285640" y="759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Technology Trend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Announcement: formation of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IEEE Task Force on Cluster Computing 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(TFCC)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 algn="ctr">
              <a:lnSpc>
                <a:spcPct val="9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 algn="ctr">
              <a:lnSpc>
                <a:spcPct val="9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 algn="ctr">
              <a:lnSpc>
                <a:spcPct val="9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 algn="ctr">
              <a:lnSpc>
                <a:spcPct val="9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 algn="ctr">
              <a:lnSpc>
                <a:spcPct val="9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afd00"/>
                </a:solidFill>
                <a:latin typeface="Century Gothic"/>
              </a:rPr>
              <a:t>http://www.dgs.monash.edu.au/~rajkumar/tfcc/</a:t>
            </a:r>
            <a:endParaRPr b="1" lang="en-US" sz="25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http://www.dcs.port.ac.uk/~mab/tfcc/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grpSp>
        <p:nvGrpSpPr>
          <p:cNvPr id="1271" name=""/>
          <p:cNvGrpSpPr/>
          <p:nvPr/>
        </p:nvGrpSpPr>
        <p:grpSpPr>
          <a:xfrm>
            <a:off x="1219320" y="3124080"/>
            <a:ext cx="1295280" cy="1523880"/>
            <a:chOff x="1219320" y="3124080"/>
            <a:chExt cx="1295280" cy="1523880"/>
          </a:xfrm>
        </p:grpSpPr>
        <p:sp>
          <p:nvSpPr>
            <p:cNvPr id="1272" name=""/>
            <p:cNvSpPr/>
            <p:nvPr/>
          </p:nvSpPr>
          <p:spPr>
            <a:xfrm>
              <a:off x="1219320" y="3124080"/>
              <a:ext cx="1295280" cy="152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73" name="big_ieee" descr=""/>
            <p:cNvPicPr/>
            <p:nvPr/>
          </p:nvPicPr>
          <p:blipFill>
            <a:blip r:embed="rId1"/>
            <a:stretch/>
          </p:blipFill>
          <p:spPr>
            <a:xfrm>
              <a:off x="1447920" y="3336840"/>
              <a:ext cx="824040" cy="100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4" name=""/>
          <p:cNvGrpSpPr/>
          <p:nvPr/>
        </p:nvGrpSpPr>
        <p:grpSpPr>
          <a:xfrm>
            <a:off x="7010280" y="3124080"/>
            <a:ext cx="1295280" cy="1523880"/>
            <a:chOff x="7010280" y="3124080"/>
            <a:chExt cx="1295280" cy="1523880"/>
          </a:xfrm>
        </p:grpSpPr>
        <p:sp>
          <p:nvSpPr>
            <p:cNvPr id="1275" name=""/>
            <p:cNvSpPr/>
            <p:nvPr/>
          </p:nvSpPr>
          <p:spPr>
            <a:xfrm>
              <a:off x="7010280" y="3124080"/>
              <a:ext cx="1295280" cy="152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76" name="cslogo" descr=""/>
            <p:cNvPicPr/>
            <p:nvPr/>
          </p:nvPicPr>
          <p:blipFill>
            <a:blip r:embed="rId2"/>
            <a:stretch/>
          </p:blipFill>
          <p:spPr>
            <a:xfrm>
              <a:off x="7162560" y="3352680"/>
              <a:ext cx="952560" cy="952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77" name="tfcc-logo" descr=""/>
          <p:cNvPicPr/>
          <p:nvPr/>
        </p:nvPicPr>
        <p:blipFill>
          <a:blip r:embed="rId3"/>
          <a:stretch/>
        </p:blipFill>
        <p:spPr>
          <a:xfrm>
            <a:off x="2743200" y="3505320"/>
            <a:ext cx="40100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Well, Read my book for….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914400" y="5866920"/>
            <a:ext cx="6880320" cy="30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4000"/>
          </a:bodyPr>
          <a:p>
            <a:pPr marL="182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http://www.dgs.monash.edu.au/~rajkumar/cluster/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pic>
        <p:nvPicPr>
          <p:cNvPr id="1280" name="v1" descr=""/>
          <p:cNvPicPr/>
          <p:nvPr/>
        </p:nvPicPr>
        <p:blipFill>
          <a:blip r:embed="rId1"/>
          <a:stretch/>
        </p:blipFill>
        <p:spPr>
          <a:xfrm>
            <a:off x="1600200" y="1371600"/>
            <a:ext cx="3429000" cy="4524480"/>
          </a:xfrm>
          <a:prstGeom prst="rect">
            <a:avLst/>
          </a:prstGeom>
          <a:ln w="0">
            <a:noFill/>
          </a:ln>
        </p:spPr>
      </p:pic>
      <p:grpSp>
        <p:nvGrpSpPr>
          <p:cNvPr id="1281" name=""/>
          <p:cNvGrpSpPr/>
          <p:nvPr/>
        </p:nvGrpSpPr>
        <p:grpSpPr>
          <a:xfrm>
            <a:off x="6705720" y="2743200"/>
            <a:ext cx="2076480" cy="3060720"/>
            <a:chOff x="6705720" y="2743200"/>
            <a:chExt cx="2076480" cy="3060720"/>
          </a:xfrm>
        </p:grpSpPr>
        <p:grpSp>
          <p:nvGrpSpPr>
            <p:cNvPr id="1282" name=""/>
            <p:cNvGrpSpPr/>
            <p:nvPr/>
          </p:nvGrpSpPr>
          <p:grpSpPr>
            <a:xfrm>
              <a:off x="6782040" y="3276720"/>
              <a:ext cx="2000160" cy="2527200"/>
              <a:chOff x="6782040" y="3276720"/>
              <a:chExt cx="2000160" cy="2527200"/>
            </a:xfrm>
          </p:grpSpPr>
          <p:sp>
            <p:nvSpPr>
              <p:cNvPr id="1283" name=""/>
              <p:cNvSpPr/>
              <p:nvPr/>
            </p:nvSpPr>
            <p:spPr>
              <a:xfrm>
                <a:off x="6782040" y="3276720"/>
                <a:ext cx="2000160" cy="2527200"/>
              </a:xfrm>
              <a:prstGeom prst="rect">
                <a:avLst/>
              </a:prstGeom>
              <a:gradFill rotWithShape="0">
                <a:gsLst>
                  <a:gs pos="0">
                    <a:srgbClr val="fafd00"/>
                  </a:gs>
                  <a:gs pos="100000">
                    <a:srgbClr val="adaf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aphicFrame>
            <p:nvGraphicFramePr>
              <p:cNvPr id="1284" name=""/>
              <p:cNvGraphicFramePr/>
              <p:nvPr/>
            </p:nvGraphicFramePr>
            <p:xfrm>
              <a:off x="6834600" y="3400560"/>
              <a:ext cx="1886040" cy="227088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1285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6834600" y="3400560"/>
                        <a:ext cx="1886040" cy="2270880"/>
                      </a:xfrm>
                      <a:prstGeom prst="rect">
                        <a:avLst/>
                      </a:prstGeom>
                      <a:ln w="0">
                        <a:noFill/>
                      </a:ln>
                      <a:effectLst>
                        <a:outerShdw dist="107932" dir="2700000" blurRad="0" rotWithShape="0">
                          <a:srgbClr val="000000"/>
                        </a:outerShdw>
                      </a:effectLst>
                    </p:spPr>
                  </p:pic>
                </p:oleObj>
              </a:graphicData>
            </a:graphic>
          </p:graphicFrame>
        </p:grpSp>
        <p:sp>
          <p:nvSpPr>
            <p:cNvPr id="1286" name=""/>
            <p:cNvSpPr/>
            <p:nvPr/>
          </p:nvSpPr>
          <p:spPr>
            <a:xfrm>
              <a:off x="6705720" y="2743200"/>
              <a:ext cx="2057400" cy="820440"/>
            </a:xfrm>
            <a:prstGeom prst="rect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fbfc65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c0128"/>
                  </a:solidFill>
                  <a:latin typeface="Monotype Corsiva"/>
                </a:rPr>
                <a:t>Thank You  ..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 flipH="1">
              <a:off x="8077320" y="3276720"/>
              <a:ext cx="45720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ff"/>
                  </a:solidFill>
                  <a:latin typeface="Times New Roman"/>
                </a:rPr>
                <a:t>?</a:t>
              </a:r>
              <a:endParaRPr b="0" lang="en-US" sz="6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88" name="v2" descr=""/>
          <p:cNvPicPr/>
          <p:nvPr/>
        </p:nvPicPr>
        <p:blipFill>
          <a:blip r:embed="rId4"/>
          <a:stretch/>
        </p:blipFill>
        <p:spPr>
          <a:xfrm>
            <a:off x="5105520" y="4114800"/>
            <a:ext cx="1307880" cy="177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  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grpSp>
        <p:nvGrpSpPr>
          <p:cNvPr id="1290" name=""/>
          <p:cNvGrpSpPr/>
          <p:nvPr/>
        </p:nvGrpSpPr>
        <p:grpSpPr>
          <a:xfrm>
            <a:off x="2590920" y="533520"/>
            <a:ext cx="4336920" cy="5906880"/>
            <a:chOff x="2590920" y="533520"/>
            <a:chExt cx="4336920" cy="5906880"/>
          </a:xfrm>
        </p:grpSpPr>
        <p:grpSp>
          <p:nvGrpSpPr>
            <p:cNvPr id="1291" name=""/>
            <p:cNvGrpSpPr/>
            <p:nvPr/>
          </p:nvGrpSpPr>
          <p:grpSpPr>
            <a:xfrm>
              <a:off x="2719080" y="1106640"/>
              <a:ext cx="4095720" cy="5333760"/>
              <a:chOff x="2719080" y="1106640"/>
              <a:chExt cx="4095720" cy="5333760"/>
            </a:xfrm>
          </p:grpSpPr>
          <p:sp>
            <p:nvSpPr>
              <p:cNvPr id="1292" name=""/>
              <p:cNvSpPr/>
              <p:nvPr/>
            </p:nvSpPr>
            <p:spPr>
              <a:xfrm>
                <a:off x="2719080" y="1106640"/>
                <a:ext cx="4095720" cy="5333760"/>
              </a:xfrm>
              <a:prstGeom prst="rect">
                <a:avLst/>
              </a:prstGeom>
              <a:gradFill rotWithShape="0">
                <a:gsLst>
                  <a:gs pos="0">
                    <a:srgbClr val="fafd00"/>
                  </a:gs>
                  <a:gs pos="100000">
                    <a:srgbClr val="adaf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aphicFrame>
            <p:nvGraphicFramePr>
              <p:cNvPr id="1293" name=""/>
              <p:cNvGraphicFramePr/>
              <p:nvPr/>
            </p:nvGraphicFramePr>
            <p:xfrm>
              <a:off x="2826720" y="1368360"/>
              <a:ext cx="3862080" cy="47926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294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826720" y="1368360"/>
                        <a:ext cx="3862080" cy="4792680"/>
                      </a:xfrm>
                      <a:prstGeom prst="rect">
                        <a:avLst/>
                      </a:prstGeom>
                      <a:ln w="0">
                        <a:noFill/>
                      </a:ln>
                      <a:effectLst>
                        <a:outerShdw dist="107932" dir="2700000" blurRad="0" rotWithShape="0">
                          <a:srgbClr val="000000"/>
                        </a:outerShdw>
                      </a:effectLst>
                    </p:spPr>
                  </p:pic>
                </p:oleObj>
              </a:graphicData>
            </a:graphic>
          </p:graphicFrame>
        </p:grpSp>
        <p:sp>
          <p:nvSpPr>
            <p:cNvPr id="1295" name=""/>
            <p:cNvSpPr/>
            <p:nvPr/>
          </p:nvSpPr>
          <p:spPr>
            <a:xfrm>
              <a:off x="2590920" y="533520"/>
              <a:ext cx="4336920" cy="576360"/>
            </a:xfrm>
            <a:prstGeom prst="rect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fbfc65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c0128"/>
                  </a:solidFill>
                  <a:latin typeface="Monotype Corsiva"/>
                </a:rPr>
                <a:t>Thank You  ...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5619240" y="1227240"/>
              <a:ext cx="51984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ff"/>
                  </a:solidFill>
                  <a:latin typeface="Times New Roman"/>
                </a:rPr>
                <a:t>?</a:t>
              </a:r>
              <a:endParaRPr b="0" lang="en-US" sz="6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Century Gothic"/>
              </a:rPr>
              <a:t>Pointers to Literature on Cluster Computing</a:t>
            </a:r>
            <a:endParaRPr b="1" lang="en-US" sz="4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Appendix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Reading Resources..1a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Internet &amp; WWW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968400" y="167616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lvl="1" marL="705600" indent="-27144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mputer Architecture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www.cs.wisc.edu/~arch/www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FS &amp; Parallel I/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cs.dartmouth.edu/pario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inux Parallel Proces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yara.ecn.purdue.edu/~pplinux/Sites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SM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cs.umd.edu/~keleher/dsm.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Reading Resources..1b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Internet &amp; WWW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968400" y="167616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lvl="1" marL="720720" indent="-27720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olaris-M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tp://www.sunlabs.com/research/solaris-m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croprocessors: Recent Advanc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microprocessor.sscc.r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eowulf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beowulf.or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OSIX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mosix.cs.huji.ac.il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Reading Resources..2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Paper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lvl="1" marL="631440" indent="-24264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A Case of NOW, </a:t>
            </a:r>
            <a:r>
              <a:rPr b="1" i="1" lang="en-US" sz="2400" spc="-1" strike="noStrike">
                <a:solidFill>
                  <a:srgbClr val="fafd00"/>
                </a:solidFill>
                <a:latin typeface="Times New Roman"/>
              </a:rPr>
              <a:t>IEEE Micro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, Feb’9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280" indent="-194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y Anderson, Culler, Paters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Designing SSI Clusters with Hierarchical Checkpointing and Single I/O Space”, </a:t>
            </a:r>
            <a:r>
              <a:rPr b="1" i="1" lang="en-US" sz="2400" spc="-1" strike="noStrike">
                <a:solidFill>
                  <a:srgbClr val="fafd00"/>
                </a:solidFill>
                <a:latin typeface="Times New Roman"/>
              </a:rPr>
              <a:t>IEEE Concurrency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, March, 199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280" indent="-194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y K. Hwang, H. Jin et.a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Cluster Computing: The Commodity Supercomputing, </a:t>
            </a:r>
            <a:r>
              <a:rPr b="1" i="1" lang="en-US" sz="2400" spc="-1" strike="noStrike">
                <a:solidFill>
                  <a:srgbClr val="fafd00"/>
                </a:solidFill>
                <a:latin typeface="Times New Roman"/>
              </a:rPr>
              <a:t>Journal of Software Practice and Experience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, June 199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280" indent="-194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y Mark Baker &amp; Rajkumar Buyy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Implementing a Full Single System Image UnixWare Cluster: Middleware vs. Underw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280" indent="-194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ruce Walker and Douglas Steel (SCO NSC Unixwar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280" indent="-194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dgs.monash.edu.au/~rajkumar/pdpta99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Reading Resources..3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Book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968400" y="167616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In Search of Clus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y G.Pfister, Prentice Hall (2ed), 9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afd00"/>
                </a:solidFill>
                <a:uFillTx/>
                <a:latin typeface="Times New Roman"/>
              </a:rPr>
              <a:t>High Performance Cluster Compu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olume1:  Architectures and Sys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olume2: Programming and Appl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dited by Rajkumar Buyya, Prentice Hall, 1999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Scalable Parallel Compu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y K Hwang &amp; Z Xu, McGraw Hill,9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The Need for Alternative Supercomputing Resource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Cannot afford to buy “Big Iron” machines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ue to their high cost and short life spa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t-down of fun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n’t  “fit” better into today's funding mode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Paradox: time required to develop a parallel application for solving GCA is equal to: 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lf Life of Parallel Supercomput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Clusters are best-alternative!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Supercomputing-class commodity components are available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They “fit” very well with today’s/future funding model.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Can leverage upon future technological advances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LSI, CPUs, Networks, Disk, Memory, Cache, OS, programming tools, applications,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Best of both Worlds!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High Performance Computing (</a:t>
            </a: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talk focused on this</a:t>
            </a: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)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lvl="1" marL="676080" indent="-25992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arallel computers/supercomputer-class workstation clus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ependable parallel comput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High Availability Computing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lvl="1" marL="676080" indent="-25992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ssion-critical system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ault-tolerant compu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28T12:47:46Z</dcterms:created>
  <dc:creator>Rajkumar</dc:creator>
  <dc:description>At Singapore National University
March 31st, 1998</dc:description>
  <dc:language>en-US</dc:language>
  <cp:lastModifiedBy>Rajkumar Buyya</cp:lastModifiedBy>
  <cp:lastPrinted>1999-07-02T16:05:46Z</cp:lastPrinted>
  <dcterms:modified xsi:type="dcterms:W3CDTF">1999-07-29T11:03:46Z</dcterms:modified>
  <cp:revision>208</cp:revision>
  <dc:subject>HPC on Cluster</dc:subject>
  <dc:title>Cluster Compu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www.dgs.monash.edu.au/~rajkumar</vt:lpwstr>
  </property>
  <property fmtid="{D5CDD505-2E9C-101B-9397-08002B2CF9AE}" pid="9" name="LinkColor">
    <vt:r8>16711782</vt:r8>
  </property>
  <property fmtid="{D5CDD505-2E9C-101B-9397-08002B2CF9AE}" pid="10" name="MailAddress">
    <vt:lpwstr>rajkumar@dgs.monash.edu.a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\temp\norway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