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45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3.png" ContentType="image/png"/>
  <Override PartName="/ppt/media/image121.wmf" ContentType="image/x-wmf"/>
  <Override PartName="/ppt/media/image118.png" ContentType="image/png"/>
  <Override PartName="/ppt/media/image15.jpeg" ContentType="image/jpeg"/>
  <Override PartName="/ppt/media/image58.png" ContentType="image/png"/>
  <Override PartName="/ppt/media/image80.wmf" ContentType="image/x-wmf"/>
  <Override PartName="/ppt/media/image12.wmf" ContentType="image/x-wmf"/>
  <Override PartName="/ppt/media/image3.wmf" ContentType="image/x-wmf"/>
  <Override PartName="/ppt/media/image88.png" ContentType="image/png"/>
  <Override PartName="/ppt/media/image45.wmf" ContentType="image/x-wmf"/>
  <Override PartName="/ppt/media/image61.png" ContentType="image/png"/>
  <Override PartName="/ppt/media/image5.jpeg" ContentType="image/jpeg"/>
  <Override PartName="/ppt/media/image4.png" ContentType="image/png"/>
  <Override PartName="/ppt/media/image40.wmf" ContentType="image/x-wmf"/>
  <Override PartName="/ppt/media/image83.png" ContentType="image/png"/>
  <Override PartName="/ppt/media/image7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33.wmf" ContentType="image/x-wmf"/>
  <Override PartName="/ppt/media/image62.jpeg" ContentType="image/jpeg"/>
  <Override PartName="/ppt/media/image27.png" ContentType="image/png"/>
  <Override PartName="/ppt/media/image13.png" ContentType="image/png"/>
  <Override PartName="/ppt/media/image42.wmf" ContentType="image/x-wmf"/>
  <Override PartName="/ppt/media/image78.wmf" ContentType="image/x-wmf"/>
  <Override PartName="/ppt/media/image10.png" ContentType="image/png"/>
  <Override PartName="/ppt/media/image112.png" ContentType="image/png"/>
  <Override PartName="/ppt/media/image6.wmf" ContentType="image/x-wmf"/>
  <Override PartName="/ppt/media/image47.wmf" ContentType="image/x-wmf"/>
  <Override PartName="/ppt/media/image34.wmf" ContentType="image/x-wmf"/>
  <Override PartName="/ppt/media/image49.png" ContentType="image/png"/>
  <Override PartName="/ppt/media/image100.png" ContentType="image/png"/>
  <Override PartName="/ppt/media/image71.wmf" ContentType="image/x-wmf"/>
  <Override PartName="/ppt/media/image52.wmf" ContentType="image/x-wmf"/>
  <Override PartName="/ppt/media/image32.png" ContentType="image/png"/>
  <Override PartName="/ppt/media/image129.png" ContentType="image/png"/>
  <Override PartName="/ppt/media/image11.png" ContentType="image/png"/>
  <Override PartName="/ppt/media/image48.png" ContentType="image/png"/>
  <Override PartName="/ppt/media/image70.wmf" ContentType="image/x-wmf"/>
  <Override PartName="/ppt/media/image8.png" ContentType="image/png"/>
  <Override PartName="/ppt/media/image30.png" ContentType="image/png"/>
  <Override PartName="/ppt/media/image127.png" ContentType="image/png"/>
  <Override PartName="/ppt/media/image122.wmf" ContentType="image/x-wmf"/>
  <Override PartName="/ppt/media/image51.jpeg" ContentType="image/jpeg"/>
  <Override PartName="/ppt/media/image14.wmf" ContentType="image/x-wmf"/>
  <Override PartName="/ppt/media/image57.png" ContentType="image/png"/>
  <Override PartName="/ppt/media/image128.png" ContentType="image/png"/>
  <Override PartName="/ppt/media/image130.png" ContentType="image/png"/>
  <Override PartName="/ppt/media/image79.png" ContentType="image/png"/>
  <Override PartName="/ppt/media/image23.png" ContentType="image/png"/>
  <Override PartName="/ppt/media/image76.png" ContentType="image/png"/>
  <Override PartName="/ppt/media/image53.jpeg" ContentType="image/jpeg"/>
  <Override PartName="/ppt/media/image43.wmf" ContentType="image/x-wmf"/>
  <Override PartName="/ppt/media/image31.png" ContentType="image/png"/>
  <Override PartName="/ppt/media/image9.png" ContentType="image/png"/>
  <Override PartName="/ppt/media/image46.wmf" ContentType="image/x-wmf"/>
  <Override PartName="/ppt/media/image89.png" ContentType="image/png"/>
  <Override PartName="/ppt/media/image50.jpeg" ContentType="image/jpeg"/>
  <Override PartName="/ppt/media/image44.wmf" ContentType="image/x-wmf"/>
  <Override PartName="/ppt/media/image2.wmf" ContentType="image/x-wmf"/>
  <Override PartName="/ppt/media/image87.png" ContentType="image/png"/>
  <Override PartName="/ppt/media/image39.wmf" ContentType="image/x-wmf"/>
  <Override PartName="/ppt/media/image38.wmf" ContentType="image/x-wmf"/>
  <Override PartName="/ppt/media/image93.wmf" ContentType="image/x-wmf"/>
  <Override PartName="/ppt/media/image25.wmf" ContentType="image/x-wmf"/>
  <Override PartName="/ppt/media/image68.png" ContentType="image/png"/>
  <Override PartName="/ppt/media/image90.wmf" ContentType="image/x-wmf"/>
  <Override PartName="/ppt/media/image18.png" ContentType="image/png"/>
  <Override PartName="/ppt/media/image86.png" ContentType="image/png"/>
  <Override PartName="/ppt/media/image54.jpeg" ContentType="image/jpeg"/>
  <Override PartName="/ppt/media/image1.wmf" ContentType="image/x-wmf"/>
  <Override PartName="/ppt/media/image29.png" ContentType="image/png"/>
  <Override PartName="/ppt/media/image56.wmf" ContentType="image/x-wmf"/>
  <Override PartName="/ppt/media/image99.png" ContentType="image/png"/>
  <Override PartName="/ppt/media/image20.wmf" ContentType="image/x-wmf"/>
  <Override PartName="/ppt/media/image63.png" ContentType="image/png"/>
  <Override PartName="/ppt/media/image85.png" ContentType="image/png"/>
  <Override PartName="/ppt/media/image17.png" ContentType="image/png"/>
  <Override PartName="/ppt/media/image82.png" ContentType="image/png"/>
  <Override PartName="/ppt/media/image19.wmf" ContentType="image/x-wmf"/>
  <Override PartName="/ppt/media/image113.png" ContentType="image/png"/>
  <Override PartName="/ppt/media/image21.wmf" ContentType="image/x-wmf"/>
  <Override PartName="/ppt/media/image64.png" ContentType="image/png"/>
  <Override PartName="/ppt/media/image59.png" ContentType="image/png"/>
  <Override PartName="/ppt/media/image81.wmf" ContentType="image/x-wmf"/>
  <Override PartName="/ppt/media/image110.png" ContentType="image/png"/>
  <Override PartName="/ppt/media/image22.png" ContentType="image/png"/>
  <Override PartName="/ppt/media/image119.png" ContentType="image/png"/>
  <Override PartName="/ppt/media/image55.jpeg" ContentType="image/jpeg"/>
  <Override PartName="/ppt/media/image24.png" ContentType="image/png"/>
  <Override PartName="/ppt/media/image94.png" ContentType="image/png"/>
  <Override PartName="/ppt/media/image26.png" ContentType="image/png"/>
  <Override PartName="/ppt/media/image6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9.wmf" ContentType="image/x-wmf"/>
  <Override PartName="/ppt/media/image120.wmf" ContentType="image/x-wmf"/>
  <Override PartName="/ppt/media/image72.wmf" ContentType="image/x-wmf"/>
  <Override PartName="/ppt/media/image73.png" ContentType="image/png"/>
  <Override PartName="/ppt/media/image74.png" ContentType="image/png"/>
  <Override PartName="/ppt/media/image75.png" ContentType="image/png"/>
  <Override PartName="/ppt/media/image77.wmf" ContentType="image/x-wmf"/>
  <Override PartName="/ppt/media/image106.png" ContentType="image/png"/>
  <Override PartName="/ppt/media/image91.wmf" ContentType="image/x-wmf"/>
  <Override PartName="/ppt/media/image92.wmf" ContentType="image/x-wmf"/>
  <Override PartName="/ppt/media/image95.wmf" ContentType="image/x-wmf"/>
  <Override PartName="/ppt/media/image124.png" ContentType="image/png"/>
  <Override PartName="/ppt/media/image28.wmf" ContentType="image/x-wmf"/>
  <Override PartName="/ppt/media/image96.wmf" ContentType="image/x-wmf"/>
  <Override PartName="/ppt/media/image125.png" ContentType="image/png"/>
  <Override PartName="/ppt/media/image97.jpeg" ContentType="image/jpeg"/>
  <Override PartName="/ppt/media/image98.png" ContentType="image/png"/>
  <Override PartName="/ppt/media/image131.jpeg" ContentType="image/jpeg"/>
  <Override PartName="/ppt/media/image101.wmf" ContentType="image/x-wmf"/>
  <Override PartName="/ppt/media/image102.wmf" ContentType="image/x-wmf"/>
  <Override PartName="/ppt/media/image36.png" ContentType="image/png"/>
  <Override PartName="/ppt/media/image103.wmf" ContentType="image/x-wmf"/>
  <Override PartName="/ppt/media/image37.png" ContentType="image/png"/>
  <Override PartName="/ppt/media/image104.wmf" ContentType="image/x-wmf"/>
  <Override PartName="/ppt/media/image105.wmf" ContentType="image/x-wmf"/>
  <Override PartName="/ppt/media/image107.wmf" ContentType="image/x-wmf"/>
  <Override PartName="/ppt/media/image108.wmf" ContentType="image/x-wmf"/>
  <Override PartName="/ppt/media/image35.jpeg" ContentType="image/jpeg"/>
  <Override PartName="/ppt/media/image109.png" ContentType="image/png"/>
  <Override PartName="/ppt/media/image111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2880" y="748800"/>
            <a:ext cx="4940280" cy="370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"/>
          <p:cNvSpPr/>
          <p:nvPr/>
        </p:nvSpPr>
        <p:spPr>
          <a:xfrm>
            <a:off x="3821040" y="-3240"/>
            <a:ext cx="2927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3821040" y="9416880"/>
            <a:ext cx="2927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-3240" y="9416880"/>
            <a:ext cx="2924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-3240" y="-324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5" name="PlaceHolder 1"/>
          <p:cNvSpPr>
            <a:spLocks noGrp="1"/>
          </p:cNvSpPr>
          <p:nvPr>
            <p:ph type="sldImg"/>
          </p:nvPr>
        </p:nvSpPr>
        <p:spPr>
          <a:xfrm>
            <a:off x="1170000" y="952560"/>
            <a:ext cx="4405320" cy="3303360"/>
          </a:xfrm>
          <a:prstGeom prst="rect">
            <a:avLst/>
          </a:prstGeom>
          <a:ln w="0">
            <a:noFill/>
          </a:ln>
        </p:spPr>
      </p:sp>
      <p:sp>
        <p:nvSpPr>
          <p:cNvPr id="3886" name="PlaceHolder 2"/>
          <p:cNvSpPr>
            <a:spLocks noGrp="1"/>
          </p:cNvSpPr>
          <p:nvPr>
            <p:ph type="body"/>
          </p:nvPr>
        </p:nvSpPr>
        <p:spPr>
          <a:xfrm>
            <a:off x="1496880" y="5105520"/>
            <a:ext cx="3794400" cy="33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"/>
          <p:cNvSpPr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1" name="PlaceHolder 1"/>
          <p:cNvSpPr>
            <a:spLocks noGrp="1"/>
          </p:cNvSpPr>
          <p:nvPr>
            <p:ph type="sldImg"/>
          </p:nvPr>
        </p:nvSpPr>
        <p:spPr>
          <a:xfrm>
            <a:off x="1181160" y="915840"/>
            <a:ext cx="4387680" cy="3291120"/>
          </a:xfrm>
          <a:prstGeom prst="rect">
            <a:avLst/>
          </a:prstGeom>
          <a:ln w="0">
            <a:noFill/>
          </a:ln>
        </p:spPr>
      </p:sp>
      <p:sp>
        <p:nvSpPr>
          <p:cNvPr id="3892" name="PlaceHolder 2"/>
          <p:cNvSpPr>
            <a:spLocks noGrp="1"/>
          </p:cNvSpPr>
          <p:nvPr>
            <p:ph type="body"/>
          </p:nvPr>
        </p:nvSpPr>
        <p:spPr>
          <a:xfrm>
            <a:off x="1514520" y="5132160"/>
            <a:ext cx="3890880" cy="33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7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98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3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0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9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1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5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16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1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22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3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3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9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4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"/>
          <p:cNvSpPr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000" bIns="4500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5" name="PlaceHolder 1"/>
          <p:cNvSpPr>
            <a:spLocks noGrp="1"/>
          </p:cNvSpPr>
          <p:nvPr>
            <p:ph type="sldImg"/>
          </p:nvPr>
        </p:nvSpPr>
        <p:spPr>
          <a:xfrm>
            <a:off x="903240" y="75096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946" name="PlaceHolder 2"/>
          <p:cNvSpPr>
            <a:spLocks noGrp="1"/>
          </p:cNvSpPr>
          <p:nvPr>
            <p:ph type="body"/>
          </p:nvPr>
        </p:nvSpPr>
        <p:spPr>
          <a:xfrm>
            <a:off x="896400" y="4708440"/>
            <a:ext cx="49532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52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processor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s cleaver marketing g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crosoft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gates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has monopoli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working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as a simple means of data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l sized an opport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2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9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5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5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56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62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7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68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3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7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9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88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6228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5652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6840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6228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35652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52760" y="75960"/>
            <a:ext cx="64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1219320"/>
            <a:ext cx="7238880" cy="7596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17360" y="66600"/>
            <a:ext cx="1325520" cy="1603440"/>
            <a:chOff x="117360" y="66600"/>
            <a:chExt cx="1325520" cy="160344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303120" y="457200"/>
              <a:ext cx="976320" cy="82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" name=""/>
            <p:cNvGrpSpPr/>
            <p:nvPr/>
          </p:nvGrpSpPr>
          <p:grpSpPr>
            <a:xfrm>
              <a:off x="692280" y="66600"/>
              <a:ext cx="242280" cy="358920"/>
              <a:chOff x="692280" y="66600"/>
              <a:chExt cx="242280" cy="358920"/>
            </a:xfrm>
          </p:grpSpPr>
          <p:sp>
            <p:nvSpPr>
              <p:cNvPr id="4" name=""/>
              <p:cNvSpPr/>
              <p:nvPr/>
            </p:nvSpPr>
            <p:spPr>
              <a:xfrm>
                <a:off x="765000" y="222120"/>
                <a:ext cx="10188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692280" y="274680"/>
                <a:ext cx="242280" cy="150840"/>
                <a:chOff x="692280" y="274680"/>
                <a:chExt cx="242280" cy="150840"/>
              </a:xfrm>
            </p:grpSpPr>
            <p:sp>
              <p:nvSpPr>
                <p:cNvPr id="6" name=""/>
                <p:cNvSpPr/>
                <p:nvPr/>
              </p:nvSpPr>
              <p:spPr>
                <a:xfrm flipV="1">
                  <a:off x="708120" y="275760"/>
                  <a:ext cx="4284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781200" y="275760"/>
                  <a:ext cx="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flipV="1">
                  <a:off x="846000" y="27468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692280" y="37152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71480" y="366840"/>
                  <a:ext cx="176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831960" y="36360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915840" y="371520"/>
                  <a:ext cx="1440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861480" y="275760"/>
                  <a:ext cx="7308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92280" y="66600"/>
                <a:ext cx="242280" cy="138240"/>
                <a:chOff x="692280" y="66600"/>
                <a:chExt cx="242280" cy="13824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708120" y="133200"/>
                  <a:ext cx="4284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81200" y="141120"/>
                  <a:ext cx="0" cy="6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46000" y="136440"/>
                  <a:ext cx="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92280" y="712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71480" y="66600"/>
                  <a:ext cx="176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831960" y="6984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915840" y="71280"/>
                  <a:ext cx="1440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61480" y="133200"/>
                  <a:ext cx="7308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" name=""/>
            <p:cNvGrpSpPr/>
            <p:nvPr/>
          </p:nvGrpSpPr>
          <p:grpSpPr>
            <a:xfrm>
              <a:off x="1201680" y="287280"/>
              <a:ext cx="241200" cy="355680"/>
              <a:chOff x="1201680" y="287280"/>
              <a:chExt cx="241200" cy="355680"/>
            </a:xfrm>
          </p:grpSpPr>
          <p:sp>
            <p:nvSpPr>
              <p:cNvPr id="24" name=""/>
              <p:cNvSpPr/>
              <p:nvPr/>
            </p:nvSpPr>
            <p:spPr>
              <a:xfrm>
                <a:off x="1273320" y="444600"/>
                <a:ext cx="102960" cy="522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" name=""/>
              <p:cNvGrpSpPr/>
              <p:nvPr/>
            </p:nvGrpSpPr>
            <p:grpSpPr>
              <a:xfrm>
                <a:off x="1201680" y="496440"/>
                <a:ext cx="241200" cy="146520"/>
                <a:chOff x="1201680" y="496440"/>
                <a:chExt cx="241200" cy="146520"/>
              </a:xfrm>
            </p:grpSpPr>
            <p:sp>
              <p:nvSpPr>
                <p:cNvPr id="26" name=""/>
                <p:cNvSpPr/>
                <p:nvPr/>
              </p:nvSpPr>
              <p:spPr>
                <a:xfrm flipV="1">
                  <a:off x="1217520" y="496440"/>
                  <a:ext cx="4284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 flipV="1">
                  <a:off x="1290600" y="498600"/>
                  <a:ext cx="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 flipV="1">
                  <a:off x="1351080" y="496800"/>
                  <a:ext cx="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01680" y="59220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278000" y="587520"/>
                  <a:ext cx="20520" cy="55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344600" y="584280"/>
                  <a:ext cx="158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1425600" y="59220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 flipH="1" flipV="1">
                  <a:off x="1371600" y="496440"/>
                  <a:ext cx="7128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" name=""/>
              <p:cNvGrpSpPr/>
              <p:nvPr/>
            </p:nvGrpSpPr>
            <p:grpSpPr>
              <a:xfrm>
                <a:off x="1201680" y="287280"/>
                <a:ext cx="241200" cy="138240"/>
                <a:chOff x="1201680" y="287280"/>
                <a:chExt cx="241200" cy="138240"/>
              </a:xfrm>
            </p:grpSpPr>
            <p:sp>
              <p:nvSpPr>
                <p:cNvPr id="35" name=""/>
                <p:cNvSpPr/>
                <p:nvPr/>
              </p:nvSpPr>
              <p:spPr>
                <a:xfrm>
                  <a:off x="1217520" y="353880"/>
                  <a:ext cx="4284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1290600" y="360360"/>
                  <a:ext cx="0" cy="63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1351080" y="357120"/>
                  <a:ext cx="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201680" y="290520"/>
                  <a:ext cx="1584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1278000" y="287280"/>
                  <a:ext cx="2052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1344600" y="290520"/>
                  <a:ext cx="158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1425600" y="290520"/>
                  <a:ext cx="1584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 flipH="1">
                  <a:off x="1371600" y="353880"/>
                  <a:ext cx="7128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" name=""/>
            <p:cNvGrpSpPr/>
            <p:nvPr/>
          </p:nvGrpSpPr>
          <p:grpSpPr>
            <a:xfrm>
              <a:off x="1201680" y="1084320"/>
              <a:ext cx="241200" cy="357120"/>
              <a:chOff x="1201680" y="1084320"/>
              <a:chExt cx="241200" cy="357120"/>
            </a:xfrm>
          </p:grpSpPr>
          <p:sp>
            <p:nvSpPr>
              <p:cNvPr id="44" name=""/>
              <p:cNvSpPr/>
              <p:nvPr/>
            </p:nvSpPr>
            <p:spPr>
              <a:xfrm>
                <a:off x="1273320" y="1239840"/>
                <a:ext cx="10296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1201680" y="1292040"/>
                <a:ext cx="241200" cy="149400"/>
                <a:chOff x="1201680" y="1292040"/>
                <a:chExt cx="241200" cy="149400"/>
              </a:xfrm>
            </p:grpSpPr>
            <p:sp>
              <p:nvSpPr>
                <p:cNvPr id="46" name=""/>
                <p:cNvSpPr/>
                <p:nvPr/>
              </p:nvSpPr>
              <p:spPr>
                <a:xfrm flipV="1">
                  <a:off x="1217520" y="1292400"/>
                  <a:ext cx="42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flipV="1">
                  <a:off x="1290600" y="1292400"/>
                  <a:ext cx="0" cy="88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flipV="1">
                  <a:off x="1351080" y="1292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201680" y="13874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278000" y="1382760"/>
                  <a:ext cx="2052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44600" y="1380960"/>
                  <a:ext cx="158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425600" y="13874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 flipV="1">
                  <a:off x="1371600" y="1292400"/>
                  <a:ext cx="7128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201680" y="1084320"/>
                <a:ext cx="241200" cy="135000"/>
                <a:chOff x="1201680" y="1084320"/>
                <a:chExt cx="241200" cy="135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217520" y="114948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90600" y="1157400"/>
                  <a:ext cx="0" cy="60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351080" y="1155600"/>
                  <a:ext cx="0" cy="6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01680" y="10890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78000" y="1084320"/>
                  <a:ext cx="2052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344600" y="1085760"/>
                  <a:ext cx="158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425600" y="10890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1371600" y="1149480"/>
                  <a:ext cx="712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700200" y="1311120"/>
              <a:ext cx="239760" cy="358920"/>
              <a:chOff x="700200" y="1311120"/>
              <a:chExt cx="239760" cy="358920"/>
            </a:xfrm>
          </p:grpSpPr>
          <p:sp>
            <p:nvSpPr>
              <p:cNvPr id="64" name=""/>
              <p:cNvSpPr/>
              <p:nvPr/>
            </p:nvSpPr>
            <p:spPr>
              <a:xfrm>
                <a:off x="771480" y="1469880"/>
                <a:ext cx="101520" cy="49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700200" y="1519200"/>
                <a:ext cx="239760" cy="150840"/>
                <a:chOff x="700200" y="1519200"/>
                <a:chExt cx="239760" cy="150840"/>
              </a:xfrm>
            </p:grpSpPr>
            <p:sp>
              <p:nvSpPr>
                <p:cNvPr id="66" name=""/>
                <p:cNvSpPr/>
                <p:nvPr/>
              </p:nvSpPr>
              <p:spPr>
                <a:xfrm flipV="1">
                  <a:off x="716040" y="1521000"/>
                  <a:ext cx="42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789120" y="1522440"/>
                  <a:ext cx="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849240" y="1519200"/>
                  <a:ext cx="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00200" y="16160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76160" y="1612800"/>
                  <a:ext cx="2088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39880" y="1609560"/>
                  <a:ext cx="17280" cy="59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20880" y="1616040"/>
                  <a:ext cx="172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 flipV="1">
                  <a:off x="870120" y="1521000"/>
                  <a:ext cx="69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700200" y="1311120"/>
                <a:ext cx="239760" cy="138240"/>
                <a:chOff x="700200" y="1311120"/>
                <a:chExt cx="239760" cy="1382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716040" y="1378080"/>
                  <a:ext cx="42840" cy="7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89120" y="1387440"/>
                  <a:ext cx="0" cy="60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49240" y="1382760"/>
                  <a:ext cx="0" cy="6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00200" y="13176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76160" y="1311120"/>
                  <a:ext cx="20880" cy="59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39880" y="1316160"/>
                  <a:ext cx="172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920880" y="1317600"/>
                  <a:ext cx="1728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>
                  <a:off x="870120" y="1378080"/>
                  <a:ext cx="69840" cy="7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" name=""/>
            <p:cNvGrpSpPr/>
            <p:nvPr/>
          </p:nvGrpSpPr>
          <p:grpSpPr>
            <a:xfrm>
              <a:off x="163440" y="1127160"/>
              <a:ext cx="246240" cy="357120"/>
              <a:chOff x="163440" y="1127160"/>
              <a:chExt cx="246240" cy="357120"/>
            </a:xfrm>
          </p:grpSpPr>
          <p:sp>
            <p:nvSpPr>
              <p:cNvPr id="84" name=""/>
              <p:cNvSpPr/>
              <p:nvPr/>
            </p:nvSpPr>
            <p:spPr>
              <a:xfrm>
                <a:off x="236520" y="1285920"/>
                <a:ext cx="104760" cy="507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63440" y="1336320"/>
                <a:ext cx="246240" cy="147960"/>
                <a:chOff x="163440" y="1336320"/>
                <a:chExt cx="246240" cy="147960"/>
              </a:xfrm>
            </p:grpSpPr>
            <p:sp>
              <p:nvSpPr>
                <p:cNvPr id="86" name=""/>
                <p:cNvSpPr/>
                <p:nvPr/>
              </p:nvSpPr>
              <p:spPr>
                <a:xfrm flipV="1">
                  <a:off x="181080" y="1336680"/>
                  <a:ext cx="4284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254160" y="1337760"/>
                  <a:ext cx="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318960" y="1336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63440" y="1430280"/>
                  <a:ext cx="1908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43000" y="1427040"/>
                  <a:ext cx="1908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920" y="142560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5920" y="1430280"/>
                  <a:ext cx="1728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 flipV="1">
                  <a:off x="334800" y="1336680"/>
                  <a:ext cx="7488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63440" y="1127160"/>
                <a:ext cx="246240" cy="136440"/>
                <a:chOff x="163440" y="1127160"/>
                <a:chExt cx="246240" cy="1364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81080" y="119376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54160" y="1200240"/>
                  <a:ext cx="0" cy="63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18960" y="1198440"/>
                  <a:ext cx="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63440" y="1131840"/>
                  <a:ext cx="190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43000" y="112716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4920" y="113040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85920" y="1131840"/>
                  <a:ext cx="172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334800" y="1193760"/>
                  <a:ext cx="748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" name=""/>
            <p:cNvGrpSpPr/>
            <p:nvPr/>
          </p:nvGrpSpPr>
          <p:grpSpPr>
            <a:xfrm>
              <a:off x="117360" y="324000"/>
              <a:ext cx="241200" cy="355320"/>
              <a:chOff x="117360" y="324000"/>
              <a:chExt cx="241200" cy="355320"/>
            </a:xfrm>
          </p:grpSpPr>
          <p:sp>
            <p:nvSpPr>
              <p:cNvPr id="104" name=""/>
              <p:cNvSpPr/>
              <p:nvPr/>
            </p:nvSpPr>
            <p:spPr>
              <a:xfrm>
                <a:off x="187200" y="480960"/>
                <a:ext cx="10332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117360" y="533160"/>
                <a:ext cx="241200" cy="146160"/>
                <a:chOff x="117360" y="533160"/>
                <a:chExt cx="241200" cy="146160"/>
              </a:xfrm>
            </p:grpSpPr>
            <p:sp>
              <p:nvSpPr>
                <p:cNvPr id="106" name=""/>
                <p:cNvSpPr/>
                <p:nvPr/>
              </p:nvSpPr>
              <p:spPr>
                <a:xfrm flipV="1">
                  <a:off x="131760" y="533520"/>
                  <a:ext cx="4284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208080" y="533160"/>
                  <a:ext cx="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68200" y="533160"/>
                  <a:ext cx="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17360" y="62712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95120" y="62244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58840" y="622440"/>
                  <a:ext cx="19080" cy="55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41280" y="62712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285480" y="533520"/>
                  <a:ext cx="7308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17360" y="324000"/>
                <a:ext cx="241200" cy="136440"/>
                <a:chOff x="117360" y="324000"/>
                <a:chExt cx="241200" cy="136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31760" y="39060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08080" y="396720"/>
                  <a:ext cx="0" cy="6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8200" y="393840"/>
                  <a:ext cx="0" cy="6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7360" y="3286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95120" y="32400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58840" y="32544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1280" y="3286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285480" y="390600"/>
                  <a:ext cx="730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10480" y="6461280"/>
            <a:ext cx="53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A1BD-AC77-4F6C-9F8C-E4C4D8BB21AD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2.png"/><Relationship Id="rId13" Type="http://schemas.openxmlformats.org/officeDocument/2006/relationships/image" Target="../media/image84.png"/><Relationship Id="rId14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2.wmf"/><Relationship Id="rId5" Type="http://schemas.openxmlformats.org/officeDocument/2006/relationships/image" Target="../media/image92.wmf"/><Relationship Id="rId6" Type="http://schemas.openxmlformats.org/officeDocument/2006/relationships/image" Target="../media/image92.wmf"/><Relationship Id="rId7" Type="http://schemas.openxmlformats.org/officeDocument/2006/relationships/image" Target="../media/image92.wmf"/><Relationship Id="rId8" Type="http://schemas.openxmlformats.org/officeDocument/2006/relationships/image" Target="../media/image92.wmf"/><Relationship Id="rId9" Type="http://schemas.openxmlformats.org/officeDocument/2006/relationships/image" Target="../media/image92.wmf"/><Relationship Id="rId10" Type="http://schemas.openxmlformats.org/officeDocument/2006/relationships/image" Target="../media/image92.wmf"/><Relationship Id="rId11" Type="http://schemas.openxmlformats.org/officeDocument/2006/relationships/image" Target="../media/image92.wmf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6.wmf"/><Relationship Id="rId4" Type="http://schemas.openxmlformats.org/officeDocument/2006/relationships/image" Target="../media/image96.wmf"/><Relationship Id="rId5" Type="http://schemas.openxmlformats.org/officeDocument/2006/relationships/image" Target="../media/image95.wmf"/><Relationship Id="rId6" Type="http://schemas.openxmlformats.org/officeDocument/2006/relationships/image" Target="../media/image95.wmf"/><Relationship Id="rId7" Type="http://schemas.openxmlformats.org/officeDocument/2006/relationships/image" Target="../media/image95.wmf"/><Relationship Id="rId8" Type="http://schemas.openxmlformats.org/officeDocument/2006/relationships/image" Target="../media/image95.wmf"/><Relationship Id="rId9" Type="http://schemas.openxmlformats.org/officeDocument/2006/relationships/image" Target="../media/image95.wmf"/><Relationship Id="rId10" Type="http://schemas.openxmlformats.org/officeDocument/2006/relationships/image" Target="../media/image95.wmf"/><Relationship Id="rId11" Type="http://schemas.openxmlformats.org/officeDocument/2006/relationships/image" Target="../media/image95.wmf"/><Relationship Id="rId12" Type="http://schemas.openxmlformats.org/officeDocument/2006/relationships/image" Target="../media/image95.wmf"/><Relationship Id="rId13" Type="http://schemas.openxmlformats.org/officeDocument/2006/relationships/image" Target="../media/image95.wmf"/><Relationship Id="rId14" Type="http://schemas.openxmlformats.org/officeDocument/2006/relationships/image" Target="../media/image96.wmf"/><Relationship Id="rId15" Type="http://schemas.openxmlformats.org/officeDocument/2006/relationships/image" Target="../media/image96.wmf"/><Relationship Id="rId16" Type="http://schemas.openxmlformats.org/officeDocument/2006/relationships/image" Target="../media/image96.wmf"/><Relationship Id="rId17" Type="http://schemas.openxmlformats.org/officeDocument/2006/relationships/image" Target="../media/image95.wmf"/><Relationship Id="rId18" Type="http://schemas.openxmlformats.org/officeDocument/2006/relationships/image" Target="../media/image95.wmf"/><Relationship Id="rId19" Type="http://schemas.openxmlformats.org/officeDocument/2006/relationships/image" Target="../media/image95.wmf"/><Relationship Id="rId20" Type="http://schemas.openxmlformats.org/officeDocument/2006/relationships/image" Target="../media/image95.wmf"/><Relationship Id="rId21" Type="http://schemas.openxmlformats.org/officeDocument/2006/relationships/image" Target="../media/image95.wmf"/><Relationship Id="rId22" Type="http://schemas.openxmlformats.org/officeDocument/2006/relationships/image" Target="../media/image95.wmf"/><Relationship Id="rId23" Type="http://schemas.openxmlformats.org/officeDocument/2006/relationships/image" Target="../media/image95.wmf"/><Relationship Id="rId24" Type="http://schemas.openxmlformats.org/officeDocument/2006/relationships/image" Target="../media/image95.wmf"/><Relationship Id="rId25" Type="http://schemas.openxmlformats.org/officeDocument/2006/relationships/image" Target="../media/image95.wmf"/><Relationship Id="rId26" Type="http://schemas.openxmlformats.org/officeDocument/2006/relationships/image" Target="../media/image96.wmf"/><Relationship Id="rId27" Type="http://schemas.openxmlformats.org/officeDocument/2006/relationships/image" Target="../media/image96.wmf"/><Relationship Id="rId28" Type="http://schemas.openxmlformats.org/officeDocument/2006/relationships/image" Target="../media/image96.wmf"/><Relationship Id="rId29" Type="http://schemas.openxmlformats.org/officeDocument/2006/relationships/image" Target="../media/image95.wmf"/><Relationship Id="rId30" Type="http://schemas.openxmlformats.org/officeDocument/2006/relationships/image" Target="../media/image95.wmf"/><Relationship Id="rId31" Type="http://schemas.openxmlformats.org/officeDocument/2006/relationships/image" Target="../media/image95.wmf"/><Relationship Id="rId32" Type="http://schemas.openxmlformats.org/officeDocument/2006/relationships/image" Target="../media/image95.wmf"/><Relationship Id="rId33" Type="http://schemas.openxmlformats.org/officeDocument/2006/relationships/image" Target="../media/image95.wmf"/><Relationship Id="rId34" Type="http://schemas.openxmlformats.org/officeDocument/2006/relationships/image" Target="../media/image95.wmf"/><Relationship Id="rId35" Type="http://schemas.openxmlformats.org/officeDocument/2006/relationships/image" Target="../media/image95.wmf"/><Relationship Id="rId36" Type="http://schemas.openxmlformats.org/officeDocument/2006/relationships/image" Target="../media/image95.wmf"/><Relationship Id="rId3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100.png"/><Relationship Id="rId6" Type="http://schemas.openxmlformats.org/officeDocument/2006/relationships/image" Target="../media/image99.png"/><Relationship Id="rId7" Type="http://schemas.openxmlformats.org/officeDocument/2006/relationships/image" Target="../media/image100.png"/><Relationship Id="rId8" Type="http://schemas.openxmlformats.org/officeDocument/2006/relationships/image" Target="../media/image99.png"/><Relationship Id="rId9" Type="http://schemas.openxmlformats.org/officeDocument/2006/relationships/image" Target="../media/image100.png"/><Relationship Id="rId10" Type="http://schemas.openxmlformats.org/officeDocument/2006/relationships/image" Target="../media/image101.wmf"/><Relationship Id="rId11" Type="http://schemas.openxmlformats.org/officeDocument/2006/relationships/image" Target="../media/image102.wmf"/><Relationship Id="rId12" Type="http://schemas.openxmlformats.org/officeDocument/2006/relationships/image" Target="../media/image103.wmf"/><Relationship Id="rId13" Type="http://schemas.openxmlformats.org/officeDocument/2006/relationships/image" Target="../media/image104.wmf"/><Relationship Id="rId14" Type="http://schemas.openxmlformats.org/officeDocument/2006/relationships/image" Target="../media/image105.wmf"/><Relationship Id="rId15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image" Target="../media/image18.png"/><Relationship Id="rId7" Type="http://schemas.openxmlformats.org/officeDocument/2006/relationships/image" Target="../media/image109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0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11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12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13.png"/><Relationship Id="rId16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0.png"/><Relationship Id="rId8" Type="http://schemas.openxmlformats.org/officeDocument/2006/relationships/image" Target="../media/image119.png"/><Relationship Id="rId9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0.wmf"/><Relationship Id="rId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1.wmf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2.wmf"/><Relationship Id="rId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1.wmf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7.png"/><Relationship Id="rId3" Type="http://schemas.openxmlformats.org/officeDocument/2006/relationships/image" Target="../media/image108.wmf"/><Relationship Id="rId4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8.png"/><Relationship Id="rId3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2.xml"/><Relationship Id="rId1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image" Target="../media/image5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9.png"/><Relationship Id="rId9" Type="http://schemas.openxmlformats.org/officeDocument/2006/relationships/image" Target="../media/image23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jpe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7.png"/><Relationship Id="rId18" Type="http://schemas.openxmlformats.org/officeDocument/2006/relationships/image" Target="../media/image68.png"/><Relationship Id="rId1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4.wmf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5486400"/>
            <a:ext cx="89917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ajkumar Buyya,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ash University, Melbour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: rajkumar@csse.monash.edu.au / rajkumar@buyy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: http://www.ccse.monash.edu.au/~rajkumar / www.buyya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igh Performance Cluster Computing</a:t>
            </a:r>
            <a:br>
              <a:rPr sz="32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Architecture, Systems, and Applications)</a:t>
            </a:r>
            <a:br>
              <a:rPr sz="2000"/>
            </a:b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00200" y="1295280"/>
            <a:ext cx="6934320" cy="4114800"/>
            <a:chOff x="1600200" y="1295280"/>
            <a:chExt cx="6934320" cy="4114800"/>
          </a:xfrm>
        </p:grpSpPr>
        <p:sp>
          <p:nvSpPr>
            <p:cNvPr id="169" name=""/>
            <p:cNvSpPr/>
            <p:nvPr/>
          </p:nvSpPr>
          <p:spPr>
            <a:xfrm>
              <a:off x="1600200" y="1295280"/>
              <a:ext cx="6934320" cy="411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1672200" y="1361880"/>
              <a:ext cx="6584760" cy="39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3891240" y="1406160"/>
              <a:ext cx="3738600" cy="3815280"/>
            </a:xfrm>
            <a:prstGeom prst="ellipse">
              <a:avLst/>
            </a:prstGeom>
            <a:solidFill>
              <a:srgbClr val="0000ff"/>
            </a:solidFill>
            <a:ln w="1015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875840" y="2027160"/>
              <a:ext cx="1893240" cy="259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232920" y="3048120"/>
            <a:ext cx="1229400" cy="11912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S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9720" y="1096560"/>
            <a:ext cx="8515440" cy="1112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4640" bIns="446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Application Case Study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Web Serving and E-Commerce”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887560" y="3402000"/>
            <a:ext cx="1731600" cy="1755000"/>
            <a:chOff x="2887560" y="3402000"/>
            <a:chExt cx="1731600" cy="1755000"/>
          </a:xfrm>
        </p:grpSpPr>
        <p:pic>
          <p:nvPicPr>
            <p:cNvPr id="421" name="" descr=""/>
            <p:cNvPicPr/>
            <p:nvPr/>
          </p:nvPicPr>
          <p:blipFill>
            <a:blip r:embed="rId1"/>
            <a:stretch/>
          </p:blipFill>
          <p:spPr>
            <a:xfrm>
              <a:off x="2953440" y="3402000"/>
              <a:ext cx="1406520" cy="127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"/>
            <p:cNvGrpSpPr/>
            <p:nvPr/>
          </p:nvGrpSpPr>
          <p:grpSpPr>
            <a:xfrm>
              <a:off x="2887560" y="4366080"/>
              <a:ext cx="1731600" cy="790920"/>
              <a:chOff x="2887560" y="4366080"/>
              <a:chExt cx="1731600" cy="790920"/>
            </a:xfrm>
          </p:grpSpPr>
          <p:pic>
            <p:nvPicPr>
              <p:cNvPr id="4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7560" y="4366080"/>
                <a:ext cx="1464840" cy="55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76840" y="4444920"/>
                <a:ext cx="1464840" cy="55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4680" y="4523400"/>
                <a:ext cx="1466640" cy="55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54320" y="4600800"/>
                <a:ext cx="1464840" cy="55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27" name=""/>
          <p:cNvGrpSpPr/>
          <p:nvPr/>
        </p:nvGrpSpPr>
        <p:grpSpPr>
          <a:xfrm>
            <a:off x="5108400" y="3525840"/>
            <a:ext cx="1366200" cy="1730880"/>
            <a:chOff x="5108400" y="3525840"/>
            <a:chExt cx="1366200" cy="1730880"/>
          </a:xfrm>
        </p:grpSpPr>
        <p:pic>
          <p:nvPicPr>
            <p:cNvPr id="428" name="" descr=""/>
            <p:cNvPicPr/>
            <p:nvPr/>
          </p:nvPicPr>
          <p:blipFill>
            <a:blip r:embed="rId6"/>
            <a:stretch/>
          </p:blipFill>
          <p:spPr>
            <a:xfrm>
              <a:off x="5301360" y="3947400"/>
              <a:ext cx="1005480" cy="89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9" name=""/>
            <p:cNvGrpSpPr/>
            <p:nvPr/>
          </p:nvGrpSpPr>
          <p:grpSpPr>
            <a:xfrm>
              <a:off x="5700240" y="3525840"/>
              <a:ext cx="249840" cy="388440"/>
              <a:chOff x="5700240" y="3525840"/>
              <a:chExt cx="249840" cy="388440"/>
            </a:xfrm>
          </p:grpSpPr>
          <p:sp>
            <p:nvSpPr>
              <p:cNvPr id="430" name=""/>
              <p:cNvSpPr/>
              <p:nvPr/>
            </p:nvSpPr>
            <p:spPr>
              <a:xfrm>
                <a:off x="5774040" y="3695400"/>
                <a:ext cx="109080" cy="57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5700240" y="3753360"/>
                <a:ext cx="249840" cy="160920"/>
                <a:chOff x="5700240" y="3753360"/>
                <a:chExt cx="249840" cy="160920"/>
              </a:xfrm>
            </p:grpSpPr>
            <p:sp>
              <p:nvSpPr>
                <p:cNvPr id="432" name=""/>
                <p:cNvSpPr/>
                <p:nvPr/>
              </p:nvSpPr>
              <p:spPr>
                <a:xfrm flipV="1">
                  <a:off x="5715360" y="3754440"/>
                  <a:ext cx="4824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5792760" y="375480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5860080" y="3753360"/>
                  <a:ext cx="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700240" y="3853800"/>
                  <a:ext cx="2088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780160" y="3848400"/>
                  <a:ext cx="24480" cy="65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846040" y="3846960"/>
                  <a:ext cx="21960" cy="648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930280" y="38538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5878800" y="3754440"/>
                  <a:ext cx="7056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700240" y="3525840"/>
                <a:ext cx="249840" cy="150480"/>
                <a:chOff x="5700240" y="3525840"/>
                <a:chExt cx="249840" cy="15048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715360" y="3597480"/>
                  <a:ext cx="48240" cy="78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92760" y="3605760"/>
                  <a:ext cx="0" cy="68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860080" y="3601440"/>
                  <a:ext cx="0" cy="7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700240" y="3531240"/>
                  <a:ext cx="2088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780160" y="3525840"/>
                  <a:ext cx="244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846040" y="3528360"/>
                  <a:ext cx="21960" cy="65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930280" y="353124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5878800" y="3597480"/>
                  <a:ext cx="70560" cy="78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" name=""/>
            <p:cNvGrpSpPr/>
            <p:nvPr/>
          </p:nvGrpSpPr>
          <p:grpSpPr>
            <a:xfrm>
              <a:off x="6225120" y="3764520"/>
              <a:ext cx="249480" cy="385920"/>
              <a:chOff x="6225120" y="3764520"/>
              <a:chExt cx="249480" cy="385920"/>
            </a:xfrm>
          </p:grpSpPr>
          <p:sp>
            <p:nvSpPr>
              <p:cNvPr id="450" name=""/>
              <p:cNvSpPr/>
              <p:nvPr/>
            </p:nvSpPr>
            <p:spPr>
              <a:xfrm>
                <a:off x="6298920" y="3933360"/>
                <a:ext cx="109080" cy="57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225120" y="3990960"/>
                <a:ext cx="249480" cy="159480"/>
                <a:chOff x="6225120" y="3990960"/>
                <a:chExt cx="249480" cy="159480"/>
              </a:xfrm>
            </p:grpSpPr>
            <p:sp>
              <p:nvSpPr>
                <p:cNvPr id="452" name=""/>
                <p:cNvSpPr/>
                <p:nvPr/>
              </p:nvSpPr>
              <p:spPr>
                <a:xfrm flipV="1">
                  <a:off x="6240240" y="3991320"/>
                  <a:ext cx="47880" cy="100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6317640" y="399240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6382080" y="3990960"/>
                  <a:ext cx="0" cy="9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225120" y="40914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304680" y="408600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6370560" y="4083480"/>
                  <a:ext cx="20880" cy="6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454800" y="40914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 flipV="1">
                  <a:off x="6402960" y="3991320"/>
                  <a:ext cx="70200" cy="100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225120" y="3764520"/>
                <a:ext cx="249480" cy="149400"/>
                <a:chOff x="6225120" y="3764520"/>
                <a:chExt cx="249480" cy="1494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240240" y="3835800"/>
                  <a:ext cx="47880" cy="7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317640" y="3842640"/>
                  <a:ext cx="0" cy="7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382080" y="3839760"/>
                  <a:ext cx="0" cy="7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225120" y="3768480"/>
                  <a:ext cx="19800" cy="56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304680" y="376452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370560" y="3767040"/>
                  <a:ext cx="208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454800" y="3768480"/>
                  <a:ext cx="19800" cy="561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6402960" y="3835800"/>
                  <a:ext cx="70200" cy="7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9" name=""/>
            <p:cNvGrpSpPr/>
            <p:nvPr/>
          </p:nvGrpSpPr>
          <p:grpSpPr>
            <a:xfrm>
              <a:off x="6225120" y="4622760"/>
              <a:ext cx="249480" cy="387000"/>
              <a:chOff x="6225120" y="4622760"/>
              <a:chExt cx="249480" cy="387000"/>
            </a:xfrm>
          </p:grpSpPr>
          <p:sp>
            <p:nvSpPr>
              <p:cNvPr id="470" name=""/>
              <p:cNvSpPr/>
              <p:nvPr/>
            </p:nvSpPr>
            <p:spPr>
              <a:xfrm>
                <a:off x="6298920" y="4791600"/>
                <a:ext cx="109080" cy="57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6225120" y="4848840"/>
                <a:ext cx="249480" cy="160920"/>
                <a:chOff x="6225120" y="4848840"/>
                <a:chExt cx="249480" cy="160920"/>
              </a:xfrm>
            </p:grpSpPr>
            <p:sp>
              <p:nvSpPr>
                <p:cNvPr id="472" name=""/>
                <p:cNvSpPr/>
                <p:nvPr/>
              </p:nvSpPr>
              <p:spPr>
                <a:xfrm flipV="1">
                  <a:off x="6240240" y="4850640"/>
                  <a:ext cx="47880" cy="98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V="1">
                  <a:off x="6317640" y="4850280"/>
                  <a:ext cx="0" cy="9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6382080" y="4848840"/>
                  <a:ext cx="0" cy="9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25120" y="494964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304680" y="4943880"/>
                  <a:ext cx="23400" cy="65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70560" y="4942440"/>
                  <a:ext cx="208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454800" y="494964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>
                  <a:off x="6402960" y="4850640"/>
                  <a:ext cx="70200" cy="98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225120" y="4622760"/>
                <a:ext cx="249480" cy="149400"/>
                <a:chOff x="6225120" y="4622760"/>
                <a:chExt cx="249480" cy="1494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40240" y="4694040"/>
                  <a:ext cx="47880" cy="7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317640" y="4701960"/>
                  <a:ext cx="0" cy="68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382080" y="4699440"/>
                  <a:ext cx="0" cy="72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225120" y="46278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304680" y="4622760"/>
                  <a:ext cx="23400" cy="65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370560" y="4624920"/>
                  <a:ext cx="20880" cy="65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454800" y="462780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6402960" y="4694040"/>
                  <a:ext cx="70200" cy="7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5708880" y="4868280"/>
              <a:ext cx="248760" cy="388440"/>
              <a:chOff x="5708880" y="4868280"/>
              <a:chExt cx="248760" cy="388440"/>
            </a:xfrm>
          </p:grpSpPr>
          <p:sp>
            <p:nvSpPr>
              <p:cNvPr id="490" name=""/>
              <p:cNvSpPr/>
              <p:nvPr/>
            </p:nvSpPr>
            <p:spPr>
              <a:xfrm>
                <a:off x="5780160" y="5039280"/>
                <a:ext cx="111240" cy="565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5708880" y="5095800"/>
                <a:ext cx="248760" cy="160920"/>
                <a:chOff x="5708880" y="5095800"/>
                <a:chExt cx="248760" cy="160920"/>
              </a:xfrm>
            </p:grpSpPr>
            <p:sp>
              <p:nvSpPr>
                <p:cNvPr id="492" name=""/>
                <p:cNvSpPr/>
                <p:nvPr/>
              </p:nvSpPr>
              <p:spPr>
                <a:xfrm flipV="1">
                  <a:off x="5722920" y="5096880"/>
                  <a:ext cx="4788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5801400" y="5098320"/>
                  <a:ext cx="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5865840" y="5095800"/>
                  <a:ext cx="0" cy="96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708880" y="5196240"/>
                  <a:ext cx="1980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788440" y="519228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52880" y="5189400"/>
                  <a:ext cx="2088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936400" y="5196240"/>
                  <a:ext cx="21240" cy="550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5885640" y="5096880"/>
                  <a:ext cx="7020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708880" y="4868280"/>
                <a:ext cx="248760" cy="150480"/>
                <a:chOff x="5708880" y="4868280"/>
                <a:chExt cx="248760" cy="15048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722920" y="4939920"/>
                  <a:ext cx="47880" cy="78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801400" y="4948200"/>
                  <a:ext cx="0" cy="68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865840" y="4945320"/>
                  <a:ext cx="0" cy="73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708880" y="487368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8440" y="4868280"/>
                  <a:ext cx="234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852880" y="4872240"/>
                  <a:ext cx="208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36400" y="4873680"/>
                  <a:ext cx="2124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5885640" y="4939920"/>
                  <a:ext cx="70200" cy="78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9" name=""/>
            <p:cNvGrpSpPr/>
            <p:nvPr/>
          </p:nvGrpSpPr>
          <p:grpSpPr>
            <a:xfrm>
              <a:off x="5157720" y="4669560"/>
              <a:ext cx="248400" cy="387000"/>
              <a:chOff x="5157720" y="4669560"/>
              <a:chExt cx="248400" cy="387000"/>
            </a:xfrm>
          </p:grpSpPr>
          <p:sp>
            <p:nvSpPr>
              <p:cNvPr id="510" name=""/>
              <p:cNvSpPr/>
              <p:nvPr/>
            </p:nvSpPr>
            <p:spPr>
              <a:xfrm>
                <a:off x="5230440" y="4839120"/>
                <a:ext cx="110160" cy="57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5157720" y="4896720"/>
                <a:ext cx="248400" cy="159840"/>
                <a:chOff x="5157720" y="4896720"/>
                <a:chExt cx="248400" cy="159840"/>
              </a:xfrm>
            </p:grpSpPr>
            <p:sp>
              <p:nvSpPr>
                <p:cNvPr id="512" name=""/>
                <p:cNvSpPr/>
                <p:nvPr/>
              </p:nvSpPr>
              <p:spPr>
                <a:xfrm flipV="1">
                  <a:off x="5172840" y="4896720"/>
                  <a:ext cx="4788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5250240" y="4898160"/>
                  <a:ext cx="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5316120" y="4897080"/>
                  <a:ext cx="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157720" y="4996080"/>
                  <a:ext cx="2088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237280" y="4992120"/>
                  <a:ext cx="244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302080" y="4989240"/>
                  <a:ext cx="2232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86320" y="4996080"/>
                  <a:ext cx="1980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flipV="1">
                  <a:off x="5334480" y="4896720"/>
                  <a:ext cx="7164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5157720" y="4669560"/>
                <a:ext cx="248400" cy="148680"/>
                <a:chOff x="5157720" y="4669560"/>
                <a:chExt cx="248400" cy="1486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5172840" y="4740840"/>
                  <a:ext cx="47880" cy="77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250240" y="4747680"/>
                  <a:ext cx="0" cy="7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316120" y="4745160"/>
                  <a:ext cx="0" cy="730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157720" y="4673520"/>
                  <a:ext cx="2088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237280" y="4669560"/>
                  <a:ext cx="2448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302080" y="4672080"/>
                  <a:ext cx="2232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386320" y="4673520"/>
                  <a:ext cx="1980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5334480" y="4740840"/>
                  <a:ext cx="71640" cy="77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" name=""/>
            <p:cNvGrpSpPr/>
            <p:nvPr/>
          </p:nvGrpSpPr>
          <p:grpSpPr>
            <a:xfrm>
              <a:off x="5108400" y="3801960"/>
              <a:ext cx="249840" cy="387360"/>
              <a:chOff x="5108400" y="3801960"/>
              <a:chExt cx="249840" cy="387360"/>
            </a:xfrm>
          </p:grpSpPr>
          <p:sp>
            <p:nvSpPr>
              <p:cNvPr id="530" name=""/>
              <p:cNvSpPr/>
              <p:nvPr/>
            </p:nvSpPr>
            <p:spPr>
              <a:xfrm>
                <a:off x="5182200" y="3971880"/>
                <a:ext cx="109080" cy="576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5108400" y="4029840"/>
                <a:ext cx="249840" cy="159480"/>
                <a:chOff x="5108400" y="4029840"/>
                <a:chExt cx="249840" cy="159480"/>
              </a:xfrm>
            </p:grpSpPr>
            <p:sp>
              <p:nvSpPr>
                <p:cNvPr id="532" name=""/>
                <p:cNvSpPr/>
                <p:nvPr/>
              </p:nvSpPr>
              <p:spPr>
                <a:xfrm flipV="1">
                  <a:off x="5123520" y="4030920"/>
                  <a:ext cx="47880" cy="9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5201280" y="4030560"/>
                  <a:ext cx="0" cy="92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V="1">
                  <a:off x="5266800" y="4029840"/>
                  <a:ext cx="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108400" y="413028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187960" y="412488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253840" y="4123440"/>
                  <a:ext cx="2232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338440" y="413028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 flipV="1">
                  <a:off x="5286600" y="4030920"/>
                  <a:ext cx="70200" cy="99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5108400" y="3801960"/>
                <a:ext cx="249840" cy="150120"/>
                <a:chOff x="5108400" y="3801960"/>
                <a:chExt cx="249840" cy="15012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5123520" y="3873600"/>
                  <a:ext cx="47880" cy="78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201280" y="3881880"/>
                  <a:ext cx="0" cy="68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266800" y="3877920"/>
                  <a:ext cx="0" cy="7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108400" y="380736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187960" y="3801960"/>
                  <a:ext cx="23400" cy="64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253840" y="3804480"/>
                  <a:ext cx="2232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338440" y="3807360"/>
                  <a:ext cx="19800" cy="547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5286600" y="3873600"/>
                  <a:ext cx="70200" cy="78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sired SSI Servi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Entry Poi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net cluster.my_institute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net node1.cluster. institute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File Hierarchy: xFS, AFS, Solaris MC Prox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Control Point: Management from single GU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virtual network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memory space - Network RAM / DS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Job Management: Glunix, Codine, LSF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User Interface: Like workstation/PC windowing environment (CDE in Solaris/NT), may it can use Web technolog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295640" cy="83808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 flipH="1">
            <a:off x="2895480" y="2590920"/>
            <a:ext cx="533520" cy="5331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895480" y="2590920"/>
            <a:ext cx="533520" cy="5331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vailability Support  Func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I/O Space (SIO)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node can access any peripheral or disk devices without the knowledge of physical lo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ngle Process Space (SP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process on any node create process with cluster wide process wide and they communicate through signal, pipes, etc, as if they are one a single no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heckpointing and Process Migration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s the process state and intermediate results in memory to disk to support rollback recovery when node fails. PM for Load balancing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duction in the risk of operator err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r need not be aware of the underlying system architecture to use these machines effective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752120" y="-27360"/>
            <a:ext cx="72392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calability Vs. Single System Imag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472" name=""/>
          <p:cNvGraphicFramePr/>
          <p:nvPr/>
        </p:nvGraphicFramePr>
        <p:xfrm>
          <a:off x="457200" y="1447920"/>
          <a:ext cx="84582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458200" cy="5105160"/>
                  </a:xfrm>
                  <a:prstGeom prst="rect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4" name=""/>
          <p:cNvSpPr/>
          <p:nvPr/>
        </p:nvSpPr>
        <p:spPr>
          <a:xfrm>
            <a:off x="7543800" y="5105520"/>
            <a:ext cx="838080" cy="609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361960" y="153720"/>
            <a:ext cx="6629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Levels/How do we implement SSI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t is a computer science notion of levels of abstractions (house is at a higher level of abstraction than walls, ceilings, and floors)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1225440" y="2978280"/>
            <a:ext cx="6921720" cy="825480"/>
            <a:chOff x="1225440" y="2978280"/>
            <a:chExt cx="6921720" cy="825480"/>
          </a:xfrm>
        </p:grpSpPr>
        <p:sp>
          <p:nvSpPr>
            <p:cNvPr id="1478" name=""/>
            <p:cNvSpPr/>
            <p:nvPr/>
          </p:nvSpPr>
          <p:spPr>
            <a:xfrm>
              <a:off x="1225440" y="2978280"/>
              <a:ext cx="692172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23400" y="3179880"/>
              <a:ext cx="430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Application and Subsystem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1225440" y="4044960"/>
            <a:ext cx="6921720" cy="825480"/>
            <a:chOff x="1225440" y="4044960"/>
            <a:chExt cx="6921720" cy="825480"/>
          </a:xfrm>
        </p:grpSpPr>
        <p:sp>
          <p:nvSpPr>
            <p:cNvPr id="1481" name=""/>
            <p:cNvSpPr/>
            <p:nvPr/>
          </p:nvSpPr>
          <p:spPr>
            <a:xfrm>
              <a:off x="1225440" y="4044960"/>
              <a:ext cx="692172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647440" y="4246560"/>
              <a:ext cx="405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Operating System Kernel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3" name=""/>
          <p:cNvSpPr/>
          <p:nvPr/>
        </p:nvSpPr>
        <p:spPr>
          <a:xfrm>
            <a:off x="1225440" y="5187960"/>
            <a:ext cx="6921720" cy="825480"/>
          </a:xfrm>
          <a:prstGeom prst="ellipse">
            <a:avLst/>
          </a:prstGeom>
          <a:solidFill>
            <a:srgbClr val="023cc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558960" y="5389560"/>
            <a:ext cx="215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rdwar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at Application and Subsystem Leve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463680" y="1530360"/>
            <a:ext cx="8383680" cy="4908960"/>
            <a:chOff x="463680" y="1530360"/>
            <a:chExt cx="8383680" cy="4908960"/>
          </a:xfrm>
        </p:grpSpPr>
        <p:sp>
          <p:nvSpPr>
            <p:cNvPr id="1487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16240" y="2387520"/>
              <a:ext cx="1312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37240" y="2387520"/>
              <a:ext cx="2310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luster batch system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ystem manag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1480" y="3378240"/>
              <a:ext cx="124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b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15520" y="4444920"/>
              <a:ext cx="1290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033640" y="3301920"/>
              <a:ext cx="2051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istributed DB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SF DME, Lotu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tes, MPI, PV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06280" y="2387520"/>
              <a:ext cx="1617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 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764400" y="2387520"/>
              <a:ext cx="1342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hat a us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a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039400" y="4368960"/>
              <a:ext cx="177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n NFS, OSF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FS, NetWare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d so 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82600" y="3378240"/>
              <a:ext cx="142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 sub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838920" y="3378240"/>
              <a:ext cx="1688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SI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plications o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sub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84840" y="4444920"/>
              <a:ext cx="2162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mplicitly support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ny application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d subsyste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03040" y="4444920"/>
              <a:ext cx="1990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hared portion of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2920" y="5435640"/>
              <a:ext cx="84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oolk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116440" y="5435640"/>
              <a:ext cx="17481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SF DCE, Su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NC+, Apoll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o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77640" y="5435640"/>
              <a:ext cx="19692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st level o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pport for heter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geneous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705560" y="5435640"/>
              <a:ext cx="2033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licit toolk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acilities: user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ervice name,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c) In search of 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at Operating System Kernel Leve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463680" y="1530360"/>
            <a:ext cx="8312040" cy="4908960"/>
            <a:chOff x="463680" y="1530360"/>
            <a:chExt cx="8312040" cy="4908960"/>
          </a:xfrm>
        </p:grpSpPr>
        <p:sp>
          <p:nvSpPr>
            <p:cNvPr id="1518" name=""/>
            <p:cNvSpPr/>
            <p:nvPr/>
          </p:nvSpPr>
          <p:spPr>
            <a:xfrm>
              <a:off x="463680" y="1530360"/>
              <a:ext cx="8216640" cy="4863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63680" y="228600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47000" y="1701720"/>
              <a:ext cx="774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9051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574360" y="170172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xamp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6483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05720" y="1530360"/>
              <a:ext cx="0" cy="486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63680" y="327672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63680" y="441972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63680" y="5410080"/>
              <a:ext cx="82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012640" y="1701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ounda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916680" y="1701720"/>
              <a:ext cx="145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mporta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10840" y="2235240"/>
              <a:ext cx="1166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rnel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S Lay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031120" y="2311560"/>
              <a:ext cx="2667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olaris MC, Unixwa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SIX, Sprite,Amoe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GLuni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92560" y="3378240"/>
              <a:ext cx="1170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rfa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15880" y="4444920"/>
              <a:ext cx="10317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irt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030400" y="3301920"/>
              <a:ext cx="220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NIX (Sun) vnode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ocus (IBM) vpro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28880" y="2235240"/>
              <a:ext cx="2098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ach name spac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iles, processes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ipes, devices, etc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53960" y="2311560"/>
              <a:ext cx="20116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rnel support 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pplications, ad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bsyste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035800" y="4368960"/>
              <a:ext cx="2616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ne suppor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perating system 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629960" y="3301920"/>
              <a:ext cx="16459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ype of 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bjects: files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ocesses, etc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56120" y="3378240"/>
              <a:ext cx="18594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odularizes SS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de withi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685920" y="4444920"/>
              <a:ext cx="18806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y simplif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mplemen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f kernel objec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05560" y="4444920"/>
              <a:ext cx="18014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ach distribut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virtual 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p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08680" y="5511960"/>
              <a:ext cx="141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08520" y="5435640"/>
              <a:ext cx="2639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ch, PARAS, Chorus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SF/1AD, Amoeb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686280" y="5435640"/>
              <a:ext cx="20894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mplicit SSI 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ll system servi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00880" y="5435640"/>
              <a:ext cx="1432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ach 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utside th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c) In search of 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at Harware Leve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8" name=""/>
          <p:cNvSpPr/>
          <p:nvPr/>
        </p:nvSpPr>
        <p:spPr>
          <a:xfrm>
            <a:off x="463680" y="1530360"/>
            <a:ext cx="8216640" cy="48639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63680" y="2286000"/>
            <a:ext cx="821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47000" y="1701720"/>
            <a:ext cx="77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905120" y="1530360"/>
            <a:ext cx="0" cy="486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574360" y="1701720"/>
            <a:ext cx="124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648320" y="1530360"/>
            <a:ext cx="0" cy="486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705720" y="1530360"/>
            <a:ext cx="0" cy="486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63680" y="3352680"/>
            <a:ext cx="821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63680" y="4419720"/>
            <a:ext cx="821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63680" y="5410080"/>
            <a:ext cx="821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012640" y="1701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und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916680" y="1701720"/>
            <a:ext cx="145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or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15880" y="44449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041200" y="4368960"/>
            <a:ext cx="140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, D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679440" y="4444920"/>
            <a:ext cx="2098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ter communica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on and synchro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705560" y="4444920"/>
            <a:ext cx="1661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15520" y="5511960"/>
            <a:ext cx="1095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I/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114280" y="5435640"/>
            <a:ext cx="236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, SMP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686640" y="543564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er over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uster I/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704480" y="5435640"/>
            <a:ext cx="1868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ory and I/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ice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1301760" y="2444760"/>
            <a:ext cx="6921360" cy="825480"/>
            <a:chOff x="1301760" y="2444760"/>
            <a:chExt cx="6921360" cy="825480"/>
          </a:xfrm>
        </p:grpSpPr>
        <p:sp>
          <p:nvSpPr>
            <p:cNvPr id="1569" name=""/>
            <p:cNvSpPr/>
            <p:nvPr/>
          </p:nvSpPr>
          <p:spPr>
            <a:xfrm>
              <a:off x="1301760" y="244476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799360" y="2646360"/>
              <a:ext cx="430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Application and Subsystem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1301760" y="3511440"/>
            <a:ext cx="6921360" cy="825480"/>
            <a:chOff x="1301760" y="3511440"/>
            <a:chExt cx="6921360" cy="825480"/>
          </a:xfrm>
        </p:grpSpPr>
        <p:sp>
          <p:nvSpPr>
            <p:cNvPr id="1572" name=""/>
            <p:cNvSpPr/>
            <p:nvPr/>
          </p:nvSpPr>
          <p:spPr>
            <a:xfrm>
              <a:off x="1301760" y="3511440"/>
              <a:ext cx="6921360" cy="825480"/>
            </a:xfrm>
            <a:prstGeom prst="ellipse">
              <a:avLst/>
            </a:prstGeom>
            <a:solidFill>
              <a:srgbClr val="023c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723760" y="3713040"/>
              <a:ext cx="405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Operating System Kernel 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>
            <a:off x="7081920" y="6472080"/>
            <a:ext cx="199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c) In search of 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Characteristic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1. Every SSI has a boundary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2. Single system support can exist at different levels within a system, one able to be build on anoth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/>
          <p:nvPr/>
        </p:nvSpPr>
        <p:spPr>
          <a:xfrm>
            <a:off x="762120" y="1523880"/>
            <a:ext cx="7302240" cy="47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Boundaries -- an applications SSI boundar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579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934320" cy="4525920"/>
          </a:xfrm>
          <a:prstGeom prst="rect">
            <a:avLst/>
          </a:prstGeom>
          <a:ln w="0">
            <a:noFill/>
          </a:ln>
        </p:spPr>
      </p:pic>
      <p:sp>
        <p:nvSpPr>
          <p:cNvPr id="1580" name=""/>
          <p:cNvSpPr/>
          <p:nvPr/>
        </p:nvSpPr>
        <p:spPr>
          <a:xfrm>
            <a:off x="3174840" y="1650960"/>
            <a:ext cx="3937320" cy="4368960"/>
          </a:xfrm>
          <a:prstGeom prst="ellipse">
            <a:avLst/>
          </a:prstGeom>
          <a:solidFill>
            <a:srgbClr val="0000ff"/>
          </a:solidFill>
          <a:ln w="1015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2"/>
          <a:stretch/>
        </p:blipFill>
        <p:spPr>
          <a:xfrm>
            <a:off x="4211640" y="2362320"/>
            <a:ext cx="1994040" cy="2971800"/>
          </a:xfrm>
          <a:prstGeom prst="rect">
            <a:avLst/>
          </a:prstGeom>
          <a:ln w="0">
            <a:noFill/>
          </a:ln>
        </p:spPr>
      </p:pic>
      <p:sp>
        <p:nvSpPr>
          <p:cNvPr id="1582" name=""/>
          <p:cNvSpPr/>
          <p:nvPr/>
        </p:nvSpPr>
        <p:spPr>
          <a:xfrm>
            <a:off x="4177440" y="52293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Batch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1454040" y="5645160"/>
            <a:ext cx="1435320" cy="901800"/>
            <a:chOff x="1454040" y="5645160"/>
            <a:chExt cx="1435320" cy="901800"/>
          </a:xfrm>
        </p:grpSpPr>
        <p:sp>
          <p:nvSpPr>
            <p:cNvPr id="1584" name=""/>
            <p:cNvSpPr/>
            <p:nvPr/>
          </p:nvSpPr>
          <p:spPr>
            <a:xfrm>
              <a:off x="1454040" y="5645160"/>
              <a:ext cx="1435320" cy="9018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509480" y="5762520"/>
              <a:ext cx="124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SS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Bound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 flipV="1">
            <a:off x="2616120" y="5308200"/>
            <a:ext cx="1015920" cy="6606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755480" y="6189840"/>
            <a:ext cx="1144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c) In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f 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lationship Among Middleware Modules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589" name=""/>
          <p:cNvGraphicFramePr/>
          <p:nvPr/>
        </p:nvGraphicFramePr>
        <p:xfrm>
          <a:off x="0" y="1600200"/>
          <a:ext cx="91440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69360" y="296640"/>
            <a:ext cx="77742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E-Commerce and PDC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20720" y="1904760"/>
            <a:ext cx="796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hat are/will be the major problems/issues in eCommerce? How will or can PDC be applied to solve some of them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ther than “Compute Power”, what else can PDC contribute to e-commerc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ow would/could the different forms of PDC (clusters, hypercluster, GRID,…) be applied to e-commerc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uld you describe one hot research topic for PDC applying to e-commerc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killer e-commerce application for PDC 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…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via OS path!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65280" y="1676160"/>
            <a:ext cx="847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1. Build as a layer on top of the existing O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: makes the system quickly portable, tracks vendor software upgrades, and reduces developmen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new systems can be built quickly by mapping new services onto the functionality provided by the layer beneath. Eg: Glun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2. Build SSI at kernel level, True Cluster O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, but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an’t leverage of OS improvements by ven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Unixware, Solaris-MC, and MOS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828440" y="31428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SI Representative System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OS level SS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 NSC Unix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is-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IX,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Middleware level SS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, TreadMarks (DSM), Glunix, Condor, Codine, Nimrod, 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pplication level SS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MON, Parallel Oracle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4799160" y="2143080"/>
            <a:ext cx="4143240" cy="3098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01600" y="2143080"/>
            <a:ext cx="4141800" cy="3098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095120" y="76320"/>
            <a:ext cx="7972200" cy="838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Century Gothic"/>
              </a:rPr>
              <a:t>SCO NonStop</a:t>
            </a:r>
            <a:r>
              <a:rPr b="1" lang="en-US" sz="3400" spc="-1" strike="noStrike" baseline="30000">
                <a:solidFill>
                  <a:srgbClr val="fafd00"/>
                </a:solidFill>
                <a:latin typeface="Century Gothic"/>
              </a:rPr>
              <a:t>®</a:t>
            </a:r>
            <a:r>
              <a:rPr b="1" lang="en-US" sz="3400" spc="-1" strike="noStrike">
                <a:solidFill>
                  <a:srgbClr val="fafd00"/>
                </a:solidFill>
                <a:latin typeface="Century Gothic"/>
              </a:rPr>
              <a:t> Cluster for UnixWare</a:t>
            </a:r>
            <a:endParaRPr b="1" lang="en-US" sz="3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8" name=""/>
          <p:cNvSpPr/>
          <p:nvPr/>
        </p:nvSpPr>
        <p:spPr>
          <a:xfrm>
            <a:off x="1413000" y="5132520"/>
            <a:ext cx="0" cy="523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2680" y="2322360"/>
            <a:ext cx="3684600" cy="560520"/>
          </a:xfrm>
          <a:prstGeom prst="rect">
            <a:avLst/>
          </a:prstGeom>
          <a:solidFill>
            <a:srgbClr val="ffcccc"/>
          </a:solidFill>
          <a:ln w="12600">
            <a:solidFill>
              <a:srgbClr val="ff99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, applications,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78000" y="3233880"/>
            <a:ext cx="3687480" cy="511200"/>
          </a:xfrm>
          <a:prstGeom prst="rect">
            <a:avLst/>
          </a:prstGeom>
          <a:solidFill>
            <a:srgbClr val="ccccff"/>
          </a:solidFill>
          <a:ln w="12600">
            <a:solidFill>
              <a:srgbClr val="cc99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a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80880" y="4029120"/>
            <a:ext cx="2046240" cy="1085760"/>
          </a:xfrm>
          <a:prstGeom prst="rect">
            <a:avLst/>
          </a:prstGeom>
          <a:solidFill>
            <a:srgbClr val="fcfeb9"/>
          </a:solidFill>
          <a:ln w="12600">
            <a:solidFill>
              <a:srgbClr val="cc99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795760" y="4040280"/>
            <a:ext cx="1368360" cy="1101600"/>
          </a:xfrm>
          <a:prstGeom prst="rect">
            <a:avLst/>
          </a:prstGeom>
          <a:solidFill>
            <a:srgbClr val="c8fec8"/>
          </a:solidFill>
          <a:ln w="12600">
            <a:solidFill>
              <a:srgbClr val="00cc66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o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403280" y="2908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429000" y="292248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371600" y="3780000"/>
            <a:ext cx="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402000" y="379872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003480" y="3343320"/>
            <a:ext cx="11030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086280" y="3259080"/>
            <a:ext cx="0" cy="482760"/>
          </a:xfrm>
          <a:prstGeom prst="line">
            <a:avLst/>
          </a:prstGeom>
          <a:ln w="1260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454400" y="1801800"/>
            <a:ext cx="18028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or SMP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4993560" y="2325600"/>
            <a:ext cx="3686040" cy="558720"/>
          </a:xfrm>
          <a:prstGeom prst="rect">
            <a:avLst/>
          </a:prstGeom>
          <a:solidFill>
            <a:srgbClr val="ffcccc"/>
          </a:solidFill>
          <a:ln w="12600">
            <a:solidFill>
              <a:srgbClr val="ff99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, applications,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s 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4969800" y="3257640"/>
            <a:ext cx="3771720" cy="511200"/>
          </a:xfrm>
          <a:prstGeom prst="rect">
            <a:avLst/>
          </a:prstGeom>
          <a:solidFill>
            <a:srgbClr val="ccccff"/>
          </a:solidFill>
          <a:ln w="12600">
            <a:solidFill>
              <a:srgbClr val="cc99f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OS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cal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4982400" y="4070520"/>
            <a:ext cx="1436760" cy="1083960"/>
          </a:xfrm>
          <a:prstGeom prst="rect">
            <a:avLst/>
          </a:prstGeom>
          <a:solidFill>
            <a:srgbClr val="c8fec8"/>
          </a:solidFill>
          <a:ln w="12600">
            <a:solidFill>
              <a:srgbClr val="00cc66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658280" y="292248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656320" y="2908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661000" y="37800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4888080" y="3343320"/>
            <a:ext cx="11030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913360" y="3255840"/>
            <a:ext cx="0" cy="482760"/>
          </a:xfrm>
          <a:prstGeom prst="line">
            <a:avLst/>
          </a:prstGeom>
          <a:ln w="1260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6464160" y="6265800"/>
            <a:ext cx="936360" cy="101160"/>
            <a:chOff x="6464160" y="6265800"/>
            <a:chExt cx="936360" cy="101160"/>
          </a:xfrm>
        </p:grpSpPr>
        <p:sp>
          <p:nvSpPr>
            <p:cNvPr id="1619" name=""/>
            <p:cNvSpPr/>
            <p:nvPr/>
          </p:nvSpPr>
          <p:spPr>
            <a:xfrm>
              <a:off x="6464160" y="6265800"/>
              <a:ext cx="190800" cy="10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838560" y="6265800"/>
              <a:ext cx="187200" cy="10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13320" y="6265800"/>
              <a:ext cx="187200" cy="101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2106720" y="4257720"/>
            <a:ext cx="74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174760" y="4729320"/>
            <a:ext cx="80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915480" y="5637240"/>
            <a:ext cx="9918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232760" y="5637240"/>
            <a:ext cx="9918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28120" y="5132520"/>
            <a:ext cx="0" cy="523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6710400" y="4051440"/>
            <a:ext cx="2046240" cy="1085760"/>
          </a:xfrm>
          <a:prstGeom prst="rect">
            <a:avLst/>
          </a:prstGeom>
          <a:solidFill>
            <a:srgbClr val="fcfeb9"/>
          </a:solidFill>
          <a:ln w="12600">
            <a:solidFill>
              <a:srgbClr val="cc99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713720" y="3781440"/>
            <a:ext cx="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6214680" y="4257720"/>
            <a:ext cx="1057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6214680" y="472932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1" name="" descr=""/>
          <p:cNvPicPr/>
          <p:nvPr/>
        </p:nvPicPr>
        <p:blipFill>
          <a:blip r:embed="rId1"/>
          <a:stretch/>
        </p:blipFill>
        <p:spPr>
          <a:xfrm>
            <a:off x="3386160" y="5695920"/>
            <a:ext cx="2592360" cy="97164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4022640" y="5987880"/>
            <a:ext cx="1301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Ne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344760" y="5230800"/>
            <a:ext cx="1116000" cy="739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4941720" y="5248440"/>
            <a:ext cx="1022400" cy="693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5413320" y="631332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954400" y="1801800"/>
            <a:ext cx="18028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2320" rIns="112320" tIns="55440" bIns="55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 or SMP 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20760" y="4122720"/>
            <a:ext cx="20509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SCO UnixWar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®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clustering hoo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950160" y="4137120"/>
            <a:ext cx="204948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SCO UnixWar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clustering hoo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5314680" y="5230800"/>
            <a:ext cx="1143000" cy="77004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916360" y="5230800"/>
            <a:ext cx="1116000" cy="739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324480" y="6469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ther nod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917720" y="762120"/>
            <a:ext cx="5168880" cy="4597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sco.com/products/clusterin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714240" y="6257880"/>
            <a:ext cx="1886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114720" y="6257880"/>
            <a:ext cx="29145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409840" y="74520"/>
            <a:ext cx="6353280" cy="992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How does NonStop Clusters Work?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933960" cy="4713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rmAutofit fontScale="99000"/>
          </a:bodyPr>
          <a:p>
            <a:pPr marL="278280" indent="-2782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Modular Extensions and Hooks to Provide: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Clusterwide Filesystem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device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swap space sha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I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Performance Internode Commun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Processes, migration,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de down cleanup and resource failo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arent Clusterwide parallel TCP/IP networ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usterwide Membership and Cluster timesy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uster System Admin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5320" indent="-2340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Lev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2590920" y="153720"/>
            <a:ext cx="62481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laris-MC: Solaris for MultiCompu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400440" y="1371240"/>
            <a:ext cx="2590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 fi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ized process manage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ized networking and I/O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608800" cy="40197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2130840" y="6248520"/>
            <a:ext cx="55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sun.com/research/solaris-mc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olaris MC compon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6400800" y="2057040"/>
            <a:ext cx="2666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bject and communication suppor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igh availability suppor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XFS global distributed fi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ocess mange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etwork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"/>
          <a:stretch/>
        </p:blipFill>
        <p:spPr>
          <a:xfrm>
            <a:off x="380880" y="2076480"/>
            <a:ext cx="560880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26624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</a:t>
            </a:r>
            <a:r>
              <a:rPr b="0" i="1" lang="en-US" sz="3200" spc="-1" strike="noStrike">
                <a:solidFill>
                  <a:srgbClr val="fafd00"/>
                </a:solidFill>
                <a:latin typeface="Century Gothic"/>
              </a:rPr>
              <a:t>ulticomputer</a:t>
            </a:r>
            <a:r>
              <a:rPr b="0" i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OS </a:t>
            </a:r>
            <a:r>
              <a:rPr b="0" i="1" lang="en-US" sz="3200" spc="-1" strike="noStrike">
                <a:solidFill>
                  <a:srgbClr val="fafd00"/>
                </a:solidFill>
                <a:latin typeface="Century Gothic"/>
              </a:rPr>
              <a:t>for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0" i="1" lang="en-US" sz="3600" spc="-1" strike="noStrike">
                <a:solidFill>
                  <a:srgbClr val="fafd00"/>
                </a:solidFill>
                <a:latin typeface="Century Gothic"/>
              </a:rPr>
              <a:t>UN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IX (MOSIX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840960" y="1523880"/>
            <a:ext cx="830268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  OS  module  (layer)  that provides the applications with the illusion of working on a sing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mote operations are performed like local oper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ransparent to the application - user interface unchang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56" name=""/>
          <p:cNvSpPr/>
          <p:nvPr/>
        </p:nvSpPr>
        <p:spPr>
          <a:xfrm>
            <a:off x="2351160" y="5486400"/>
            <a:ext cx="3963960" cy="1214280"/>
          </a:xfrm>
          <a:custGeom>
            <a:avLst/>
            <a:gdLst/>
            <a:ahLst/>
            <a:rect l="l" t="t" r="r" b="b"/>
            <a:pathLst>
              <a:path w="1873" h="1105">
                <a:moveTo>
                  <a:pt x="0" y="0"/>
                </a:moveTo>
                <a:lnTo>
                  <a:pt x="0" y="1104"/>
                </a:lnTo>
                <a:lnTo>
                  <a:pt x="1872" y="1104"/>
                </a:lnTo>
                <a:lnTo>
                  <a:pt x="1872" y="602"/>
                </a:lnTo>
                <a:lnTo>
                  <a:pt x="0" y="0"/>
                </a:lnTo>
              </a:path>
            </a:pathLst>
          </a:custGeom>
          <a:solidFill>
            <a:srgbClr val="ff66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351160" y="5029200"/>
            <a:ext cx="4046400" cy="36180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VM / MPI / R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rot="10800000">
            <a:off x="2351160" y="5486040"/>
            <a:ext cx="3944880" cy="676440"/>
          </a:xfrm>
          <a:prstGeom prst="rtTriangl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291360" y="5638680"/>
            <a:ext cx="1404720" cy="255600"/>
          </a:xfrm>
          <a:prstGeom prst="leftArrow">
            <a:avLst>
              <a:gd name="adj1" fmla="val 50000"/>
              <a:gd name="adj2" fmla="val 137369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0" name=""/>
          <p:cNvGraphicFramePr/>
          <p:nvPr/>
        </p:nvGraphicFramePr>
        <p:xfrm>
          <a:off x="2351160" y="5715000"/>
          <a:ext cx="132084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1160" y="571500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2" name=""/>
          <p:cNvGraphicFramePr/>
          <p:nvPr/>
        </p:nvGraphicFramePr>
        <p:xfrm>
          <a:off x="3687840" y="5943600"/>
          <a:ext cx="13208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7840" y="594360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"/>
          <p:cNvGraphicFramePr/>
          <p:nvPr/>
        </p:nvGraphicFramePr>
        <p:xfrm>
          <a:off x="4321080" y="6172200"/>
          <a:ext cx="132084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617220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"/>
          <p:cNvGraphicFramePr/>
          <p:nvPr/>
        </p:nvGraphicFramePr>
        <p:xfrm>
          <a:off x="3054240" y="5867280"/>
          <a:ext cx="132084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4240" y="586728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8" name=""/>
          <p:cNvSpPr/>
          <p:nvPr/>
        </p:nvSpPr>
        <p:spPr>
          <a:xfrm rot="1140000">
            <a:off x="4743000" y="5409720"/>
            <a:ext cx="1532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279520" y="4038480"/>
            <a:ext cx="4073760" cy="82404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279520" y="63244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ware/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24980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208600" y="762120"/>
            <a:ext cx="41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mosix.cs.huji.ac.i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ain too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035000" y="3098880"/>
            <a:ext cx="7718400" cy="30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>
              <a:lnSpc>
                <a:spcPct val="105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Supervised  by distributed  algorithms 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at  respond      on-line  to global resource availability -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transpare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Load-balanci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migrate process from over-loaded to under-loaded n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Memory usheri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migrate processes from a node that  has exhausted its memory,  to prevent paging/swapp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75" name=""/>
          <p:cNvSpPr/>
          <p:nvPr/>
        </p:nvSpPr>
        <p:spPr>
          <a:xfrm>
            <a:off x="1371600" y="1600200"/>
            <a:ext cx="6826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emptive process migration that can migrate---&gt;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ny process, anywhere, any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OSIX for Linux at HUJI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231560" y="1828440"/>
            <a:ext cx="7458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 scalable cluster configuration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 Pentium-II  300 M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 Pentium-Pro 200 MHz (some are SM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Pentium-II 400 MHz (some are SM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ver 12 GB cluster-wide  RA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nnected by the Myrinet 2.56 G.b/s LAN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uns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Red-Hat 6.0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, based on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Kernel 2.2.7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pgrade: HW with Intel, SW with Linux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ownload MOSIX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44400" indent="-214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mosix.cs.huji.ac.il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OW @ Berkele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sign &amp; Implementation of higher-level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 OS (Gluni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arallel File Systems (xF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ast Communication (HW for Active Messag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pplication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vercoming technology shortcoming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ault tole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stem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W Goal: Faster for Parallel AND Sequentia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80" name=""/>
          <p:cNvSpPr/>
          <p:nvPr/>
        </p:nvSpPr>
        <p:spPr>
          <a:xfrm>
            <a:off x="2498400" y="624852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now.cs.berkeley.edu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66720" y="147600"/>
            <a:ext cx="814392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Killer Applications of Clus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560" y="1636200"/>
            <a:ext cx="8458200" cy="40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Numerous Scientific &amp; Engineering Apps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Parametric Simulation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Business Application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commerce Applications (Amazon.com, eBay.com …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base Applications (Oracle on clus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 Support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Internet Application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serving / searc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fowares (yahoo.com, AOL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Ps (application service provi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ail, eChat, ePhone, eBook, eCommerce, eBank, eSociety, eAnything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ing Por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ission Critical Application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mand control systems, banks, nuclear reactor control, star-war, and handling life threatening situa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hotmail_logo" descr=""/>
          <p:cNvPicPr/>
          <p:nvPr/>
        </p:nvPicPr>
        <p:blipFill>
          <a:blip r:embed="rId1"/>
          <a:stretch/>
        </p:blipFill>
        <p:spPr>
          <a:xfrm>
            <a:off x="7182000" y="3706920"/>
            <a:ext cx="1290600" cy="966600"/>
          </a:xfrm>
          <a:prstGeom prst="rect">
            <a:avLst/>
          </a:prstGeom>
          <a:ln w="0">
            <a:noFill/>
          </a:ln>
        </p:spPr>
      </p:pic>
      <p:pic>
        <p:nvPicPr>
          <p:cNvPr id="554" name="hotbot" descr=""/>
          <p:cNvPicPr/>
          <p:nvPr/>
        </p:nvPicPr>
        <p:blipFill>
          <a:blip r:embed="rId2"/>
          <a:stretch/>
        </p:blipFill>
        <p:spPr>
          <a:xfrm>
            <a:off x="5985000" y="1305000"/>
            <a:ext cx="3047760" cy="919080"/>
          </a:xfrm>
          <a:prstGeom prst="rect">
            <a:avLst/>
          </a:prstGeom>
          <a:ln w="0">
            <a:noFill/>
          </a:ln>
        </p:spPr>
      </p:pic>
      <p:pic>
        <p:nvPicPr>
          <p:cNvPr id="555" name="amzn-buy" descr=""/>
          <p:cNvPicPr/>
          <p:nvPr/>
        </p:nvPicPr>
        <p:blipFill>
          <a:blip r:embed="rId3"/>
          <a:stretch/>
        </p:blipFill>
        <p:spPr>
          <a:xfrm>
            <a:off x="7478640" y="2612880"/>
            <a:ext cx="1249560" cy="9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OW Software Compon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495360" y="1670040"/>
            <a:ext cx="8146440" cy="4277880"/>
            <a:chOff x="495360" y="1670040"/>
            <a:chExt cx="8146440" cy="4277880"/>
          </a:xfrm>
        </p:grpSpPr>
        <p:sp>
          <p:nvSpPr>
            <p:cNvPr id="1683" name=""/>
            <p:cNvSpPr/>
            <p:nvPr/>
          </p:nvSpPr>
          <p:spPr>
            <a:xfrm>
              <a:off x="495360" y="2679840"/>
              <a:ext cx="1601640" cy="484200"/>
            </a:xfrm>
            <a:custGeom>
              <a:avLst/>
              <a:gdLst/>
              <a:ahLst/>
              <a:rect l="l" t="t" r="r" b="b"/>
              <a:pathLst>
                <a:path w="1009" h="305">
                  <a:moveTo>
                    <a:pt x="1002" y="16"/>
                  </a:moveTo>
                  <a:lnTo>
                    <a:pt x="1002" y="96"/>
                  </a:lnTo>
                  <a:lnTo>
                    <a:pt x="954" y="96"/>
                  </a:lnTo>
                  <a:lnTo>
                    <a:pt x="954" y="240"/>
                  </a:lnTo>
                  <a:lnTo>
                    <a:pt x="1008" y="240"/>
                  </a:lnTo>
                  <a:lnTo>
                    <a:pt x="1008" y="304"/>
                  </a:lnTo>
                  <a:lnTo>
                    <a:pt x="72" y="304"/>
                  </a:lnTo>
                  <a:lnTo>
                    <a:pt x="72" y="216"/>
                  </a:lnTo>
                  <a:lnTo>
                    <a:pt x="0" y="216"/>
                  </a:lnTo>
                  <a:lnTo>
                    <a:pt x="0" y="104"/>
                  </a:lnTo>
                  <a:lnTo>
                    <a:pt x="66" y="104"/>
                  </a:lnTo>
                  <a:lnTo>
                    <a:pt x="66" y="0"/>
                  </a:lnTo>
                  <a:lnTo>
                    <a:pt x="92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35000" y="4971960"/>
              <a:ext cx="1587600" cy="368280"/>
            </a:xfrm>
            <a:prstGeom prst="cube">
              <a:avLst>
                <a:gd name="adj" fmla="val 2499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127520" y="5013360"/>
              <a:ext cx="1249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M L.C.P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47600" y="3257640"/>
              <a:ext cx="1866960" cy="1790640"/>
            </a:xfrm>
            <a:prstGeom prst="cube">
              <a:avLst>
                <a:gd name="adj" fmla="val 24995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47600" y="4260960"/>
              <a:ext cx="1435320" cy="774720"/>
            </a:xfrm>
            <a:prstGeom prst="plus">
              <a:avLst>
                <a:gd name="adj" fmla="val 2499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947880" y="4406760"/>
              <a:ext cx="1609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VN segment Dri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1778040" y="5308560"/>
              <a:ext cx="0" cy="241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090800" y="3629160"/>
              <a:ext cx="1387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ks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1" name=""/>
            <p:cNvGrpSpPr/>
            <p:nvPr/>
          </p:nvGrpSpPr>
          <p:grpSpPr>
            <a:xfrm>
              <a:off x="2649600" y="3257640"/>
              <a:ext cx="1966680" cy="2292120"/>
              <a:chOff x="2649600" y="3257640"/>
              <a:chExt cx="1966680" cy="2292120"/>
            </a:xfrm>
          </p:grpSpPr>
          <p:sp>
            <p:nvSpPr>
              <p:cNvPr id="1692" name=""/>
              <p:cNvSpPr/>
              <p:nvPr/>
            </p:nvSpPr>
            <p:spPr>
              <a:xfrm>
                <a:off x="2736720" y="4971960"/>
                <a:ext cx="1587600" cy="368280"/>
              </a:xfrm>
              <a:prstGeom prst="cube">
                <a:avLst>
                  <a:gd name="adj" fmla="val 24995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829240" y="5013360"/>
                <a:ext cx="1249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AM L.C.P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749680" y="3257640"/>
                <a:ext cx="1866600" cy="1790640"/>
              </a:xfrm>
              <a:prstGeom prst="cube">
                <a:avLst>
                  <a:gd name="adj" fmla="val 24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749680" y="4260960"/>
                <a:ext cx="1434960" cy="774720"/>
              </a:xfrm>
              <a:prstGeom prst="plus">
                <a:avLst>
                  <a:gd name="adj" fmla="val 24995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649600" y="4406760"/>
                <a:ext cx="16095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VN segment Dri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3479760" y="5308560"/>
                <a:ext cx="0" cy="2412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792520" y="3629160"/>
                <a:ext cx="13870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ni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orks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4389480" y="3257640"/>
              <a:ext cx="1967040" cy="2292120"/>
              <a:chOff x="4389480" y="3257640"/>
              <a:chExt cx="1967040" cy="2292120"/>
            </a:xfrm>
          </p:grpSpPr>
          <p:sp>
            <p:nvSpPr>
              <p:cNvPr id="1700" name=""/>
              <p:cNvSpPr/>
              <p:nvPr/>
            </p:nvSpPr>
            <p:spPr>
              <a:xfrm>
                <a:off x="4476600" y="4971960"/>
                <a:ext cx="1587600" cy="368280"/>
              </a:xfrm>
              <a:prstGeom prst="cube">
                <a:avLst>
                  <a:gd name="adj" fmla="val 24995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569120" y="5013360"/>
                <a:ext cx="1249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AM L.C.P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489560" y="3257640"/>
                <a:ext cx="1866960" cy="1790640"/>
              </a:xfrm>
              <a:prstGeom prst="cube">
                <a:avLst>
                  <a:gd name="adj" fmla="val 24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489560" y="4260960"/>
                <a:ext cx="1434960" cy="774720"/>
              </a:xfrm>
              <a:prstGeom prst="plus">
                <a:avLst>
                  <a:gd name="adj" fmla="val 24995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389480" y="4406760"/>
                <a:ext cx="16095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VN segment Dri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5219640" y="5308560"/>
                <a:ext cx="0" cy="2412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532400" y="3629160"/>
                <a:ext cx="13870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ni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orks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6116760" y="3257640"/>
              <a:ext cx="1966680" cy="2292120"/>
              <a:chOff x="6116760" y="3257640"/>
              <a:chExt cx="1966680" cy="2292120"/>
            </a:xfrm>
          </p:grpSpPr>
          <p:sp>
            <p:nvSpPr>
              <p:cNvPr id="1708" name=""/>
              <p:cNvSpPr/>
              <p:nvPr/>
            </p:nvSpPr>
            <p:spPr>
              <a:xfrm>
                <a:off x="6203880" y="4971960"/>
                <a:ext cx="1587600" cy="368280"/>
              </a:xfrm>
              <a:prstGeom prst="cube">
                <a:avLst>
                  <a:gd name="adj" fmla="val 24995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296400" y="5013360"/>
                <a:ext cx="1249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AM L.C.P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216480" y="3257640"/>
                <a:ext cx="1866960" cy="1790640"/>
              </a:xfrm>
              <a:prstGeom prst="cube">
                <a:avLst>
                  <a:gd name="adj" fmla="val 24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216480" y="4260960"/>
                <a:ext cx="1435320" cy="774720"/>
              </a:xfrm>
              <a:prstGeom prst="plus">
                <a:avLst>
                  <a:gd name="adj" fmla="val 24995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116760" y="4406760"/>
                <a:ext cx="16095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VN segment Dri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6946920" y="5308560"/>
                <a:ext cx="0" cy="2412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260760" y="3629160"/>
                <a:ext cx="15501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nix (Solaris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Works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5467320" y="1670040"/>
              <a:ext cx="2197080" cy="431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315040" y="1746360"/>
              <a:ext cx="2197080" cy="419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238400" y="1847880"/>
              <a:ext cx="2171520" cy="406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136520" y="1898640"/>
              <a:ext cx="2197080" cy="406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73160" y="1962000"/>
              <a:ext cx="2171520" cy="419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987560" y="2685960"/>
              <a:ext cx="4165560" cy="457200"/>
            </a:xfrm>
            <a:prstGeom prst="plus">
              <a:avLst>
                <a:gd name="adj" fmla="val 24995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51400" y="2752560"/>
              <a:ext cx="219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Global Layer Unix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5640" y="5518080"/>
              <a:ext cx="7365960" cy="393840"/>
            </a:xfrm>
            <a:prstGeom prst="cube">
              <a:avLst>
                <a:gd name="adj" fmla="val 24995"/>
              </a:avLst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69720" y="5584680"/>
              <a:ext cx="3420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yrinet Scalable Inter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46160" y="2011320"/>
              <a:ext cx="252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arge Seq. Ap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238720" y="1847880"/>
              <a:ext cx="21970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420880" y="1812960"/>
              <a:ext cx="162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allel App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51120" y="2279520"/>
              <a:ext cx="4699080" cy="339840"/>
            </a:xfrm>
            <a:prstGeom prst="plus">
              <a:avLst>
                <a:gd name="adj" fmla="val 24995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845880" y="2214720"/>
              <a:ext cx="431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ockets, Split-C, MPI, HPF, vS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032520" y="2666880"/>
              <a:ext cx="2300400" cy="484200"/>
            </a:xfrm>
            <a:custGeom>
              <a:avLst/>
              <a:gdLst/>
              <a:ahLst/>
              <a:rect l="l" t="t" r="r" b="b"/>
              <a:pathLst>
                <a:path w="1449" h="305">
                  <a:moveTo>
                    <a:pt x="9" y="16"/>
                  </a:moveTo>
                  <a:lnTo>
                    <a:pt x="9" y="96"/>
                  </a:lnTo>
                  <a:lnTo>
                    <a:pt x="78" y="96"/>
                  </a:lnTo>
                  <a:lnTo>
                    <a:pt x="78" y="240"/>
                  </a:lnTo>
                  <a:lnTo>
                    <a:pt x="0" y="240"/>
                  </a:lnTo>
                  <a:lnTo>
                    <a:pt x="0" y="304"/>
                  </a:lnTo>
                  <a:lnTo>
                    <a:pt x="1345" y="304"/>
                  </a:lnTo>
                  <a:lnTo>
                    <a:pt x="1345" y="216"/>
                  </a:lnTo>
                  <a:lnTo>
                    <a:pt x="1448" y="216"/>
                  </a:lnTo>
                  <a:lnTo>
                    <a:pt x="1448" y="104"/>
                  </a:lnTo>
                  <a:lnTo>
                    <a:pt x="1353" y="104"/>
                  </a:lnTo>
                  <a:lnTo>
                    <a:pt x="1353" y="0"/>
                  </a:lnTo>
                  <a:lnTo>
                    <a:pt x="121" y="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222960" y="2739960"/>
              <a:ext cx="2019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tive Messag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22520" y="2749680"/>
              <a:ext cx="111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ame Sv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2" name=""/>
            <p:cNvGrpSpPr/>
            <p:nvPr/>
          </p:nvGrpSpPr>
          <p:grpSpPr>
            <a:xfrm>
              <a:off x="7580520" y="3621960"/>
              <a:ext cx="1061280" cy="1055520"/>
              <a:chOff x="7580520" y="3621960"/>
              <a:chExt cx="1061280" cy="1055520"/>
            </a:xfrm>
          </p:grpSpPr>
          <p:sp>
            <p:nvSpPr>
              <p:cNvPr id="1733" name=""/>
              <p:cNvSpPr/>
              <p:nvPr/>
            </p:nvSpPr>
            <p:spPr>
              <a:xfrm rot="18960000">
                <a:off x="7567560" y="3968280"/>
                <a:ext cx="1066680" cy="393840"/>
              </a:xfrm>
              <a:prstGeom prst="plus">
                <a:avLst>
                  <a:gd name="adj" fmla="val 24995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18960000">
                <a:off x="7640640" y="3941640"/>
                <a:ext cx="1042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chedul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3 Paths for Applications on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OW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Revolutionary (MPP Style): write new programs from scratch using MPP languages, compilers, libraries,…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orting: port programs from mainframes, supercomputers, MPPs, …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Evolutionary: take sequential program &amp; use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3924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1)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Network RAM: first use memory of many computers to reduce disk accesses; if not fast enough, then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2)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llel I/O: use many disks in parallel for accesses not in file cache; if not fast enough, then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3)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llel program: change program until it sees enough processors that is fast=&gt; Large speedup without fine grain parallel progr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/>
          </p:nvPr>
        </p:nvSpPr>
        <p:spPr>
          <a:xfrm>
            <a:off x="2057400" y="3049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Century Gothic"/>
              </a:rPr>
              <a:t>Comparison of 4 Cluster Systems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738" name=""/>
          <p:cNvGraphicFramePr/>
          <p:nvPr/>
        </p:nvGraphicFramePr>
        <p:xfrm>
          <a:off x="380880" y="1676520"/>
          <a:ext cx="858384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5838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Programming Environm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021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Shared Memory Based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S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reads/OpenMP (enabled for cluster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Java threads (HKU JESSICA, IBM cJVM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Message Passing Based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VM (PVM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PI (MPI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metric Computations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28800" indent="-3391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mrod/Clus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Automatic Parallelising Compilers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llel Libraries &amp; Computational Kernels (NetSolve)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/>
          <p:nvPr/>
        </p:nvSpPr>
        <p:spPr>
          <a:xfrm>
            <a:off x="6975360" y="1303200"/>
            <a:ext cx="2154240" cy="5301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ode-Granul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Code I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rge g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task lev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um g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control lev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Function (threa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ne g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data lev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Loop (Compil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y fine g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multiple iss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With hard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828960" y="46080"/>
            <a:ext cx="5210280" cy="868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evels of  Paralle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032360" y="41400"/>
            <a:ext cx="5099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608880" y="200016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871640" y="1697040"/>
            <a:ext cx="1317600" cy="538200"/>
          </a:xfrm>
          <a:prstGeom prst="octagon">
            <a:avLst>
              <a:gd name="adj" fmla="val 29282"/>
            </a:avLst>
          </a:prstGeom>
          <a:solidFill>
            <a:srgbClr val="31650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i-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533760" y="1697040"/>
            <a:ext cx="1317600" cy="538200"/>
          </a:xfrm>
          <a:prstGeom prst="octagon">
            <a:avLst>
              <a:gd name="adj" fmla="val 29282"/>
            </a:avLst>
          </a:prstGeom>
          <a:solidFill>
            <a:srgbClr val="31650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5195880" y="1697040"/>
            <a:ext cx="1316160" cy="538200"/>
          </a:xfrm>
          <a:prstGeom prst="octagon">
            <a:avLst>
              <a:gd name="adj" fmla="val 29282"/>
            </a:avLst>
          </a:prstGeom>
          <a:solidFill>
            <a:srgbClr val="31650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i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314440" y="3019320"/>
            <a:ext cx="762120" cy="119880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func1 (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755880" y="3019320"/>
            <a:ext cx="762120" cy="119880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func2 (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305320" y="3035160"/>
            <a:ext cx="765360" cy="118296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func3 (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079880" y="2247840"/>
            <a:ext cx="0" cy="75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2509560" y="2266920"/>
            <a:ext cx="1576440" cy="73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086360" y="2247840"/>
            <a:ext cx="1760400" cy="75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203560" y="4878360"/>
            <a:ext cx="873000" cy="42876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( 0 ) 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 ( 0 ) 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643200" y="4878360"/>
            <a:ext cx="874800" cy="4287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( 1 )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 ( 1 )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084640" y="4878360"/>
            <a:ext cx="874800" cy="42876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( 2 )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 ( 2 )=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647800" y="5870520"/>
            <a:ext cx="541440" cy="428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867120" y="5870520"/>
            <a:ext cx="541440" cy="428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973760" y="5870520"/>
            <a:ext cx="652320" cy="428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076640" y="4235400"/>
            <a:ext cx="3240" cy="63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2634840" y="4254480"/>
            <a:ext cx="1467000" cy="6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083120" y="4254480"/>
            <a:ext cx="1431720" cy="6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079880" y="5319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2855880" y="5319720"/>
            <a:ext cx="123048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086360" y="5319720"/>
            <a:ext cx="120636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276720" y="198108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6960" y="1752480"/>
            <a:ext cx="160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PVM/MP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876920" y="198108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54440" y="3429000"/>
            <a:ext cx="130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Thread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56240" y="4876920"/>
            <a:ext cx="158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Compil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30400" y="5867280"/>
            <a:ext cx="83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CP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PI (Message Passing Interface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097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A standard message passing interface.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1002600" indent="-366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I 1.0 - May 1994 (started in 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2600" indent="-366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and Fortran bindings (now Jav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ortable (once coded, it can run on virtually all HPC platforms including clusters!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erformance (by exploiting native hardware features)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Functionality (over 115 functions in MPI 1.0)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1002600" indent="-3661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nvironment management, point-to-point &amp; collective communications, process group, communication world, derived data types, and virtual topology routine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Availability - a variety of implementations available, both vendor and public domain.</a:t>
            </a:r>
            <a:r>
              <a:rPr b="1" lang="en-US" sz="21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1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5" name=""/>
          <p:cNvSpPr/>
          <p:nvPr/>
        </p:nvSpPr>
        <p:spPr>
          <a:xfrm>
            <a:off x="3181680" y="955800"/>
            <a:ext cx="3539520" cy="4597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mpi-forum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Sample MPI Program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# include &lt;stdio.h&gt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# include &lt;string.h&gt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#include “mpi.h”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main( int argc, char *argv[ ])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my_rank; /* process rank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p; /*no. of processes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source; /* rank of sender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dest; /* rank of receiver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tag = 0; /* message tag, like “email subject”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char message[100]; /* buffer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Status status; /* function return status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 Start up MPI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Init( &amp;argc, &amp;argv 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 Find our process rank/id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Comm_rank( MPI_COM_WORLD, &amp;my_rank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Find out how many processes/tasks part of this run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Comm_size( MPI_COM_WORLD, &amp;p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78" name=""/>
          <p:cNvSpPr/>
          <p:nvPr/>
        </p:nvSpPr>
        <p:spPr>
          <a:xfrm>
            <a:off x="6248520" y="3200400"/>
            <a:ext cx="380880" cy="380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276720"/>
            <a:ext cx="380880" cy="380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8305920" y="3200400"/>
            <a:ext cx="380880" cy="380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621920" y="3062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162920" y="1828800"/>
            <a:ext cx="609480" cy="533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6553080" y="2362320"/>
            <a:ext cx="68580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V="1">
            <a:off x="7391520" y="243792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 flipV="1">
            <a:off x="7695720" y="2362320"/>
            <a:ext cx="68580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758360" y="151452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as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859800" y="3809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work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641200" y="2286000"/>
            <a:ext cx="13237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lo,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Sample MPI Progra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if( my_rank == 0)  /* Master Process */ 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for( source = 1; source &lt; p; source++)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Recv( message, 100, MPI_CHAR, source, tag, MPI_COM_WORLD, &amp;status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printf(“%s \n”, message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else /* Worker Process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sprintf( message, “Hello, I am your worker process %d!”, my_rank 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dest = 0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Send( message, strlen(message)+1, MPI_CHAR, dest, tag, MPI_COM_WORLD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 Shutdown MPI environment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Finalise(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ecu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cc -o hello hello.c -lmpi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mpirun -p2 hell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1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mpirun -p4 hell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1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2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3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mpirun hell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(no output, there are no workers.., no greeting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304920" y="2209680"/>
            <a:ext cx="8686800" cy="403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MON: A Cluster Monitoring Too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380880" y="2362320"/>
            <a:ext cx="8456400" cy="3509640"/>
            <a:chOff x="380880" y="2362320"/>
            <a:chExt cx="8456400" cy="3509640"/>
          </a:xfrm>
        </p:grpSpPr>
        <p:grpSp>
          <p:nvGrpSpPr>
            <p:cNvPr id="1796" name=""/>
            <p:cNvGrpSpPr/>
            <p:nvPr/>
          </p:nvGrpSpPr>
          <p:grpSpPr>
            <a:xfrm>
              <a:off x="934920" y="2362320"/>
              <a:ext cx="5136480" cy="3509640"/>
              <a:chOff x="934920" y="2362320"/>
              <a:chExt cx="5136480" cy="3509640"/>
            </a:xfrm>
          </p:grpSpPr>
          <p:sp>
            <p:nvSpPr>
              <p:cNvPr id="1797" name=""/>
              <p:cNvSpPr/>
              <p:nvPr/>
            </p:nvSpPr>
            <p:spPr>
              <a:xfrm>
                <a:off x="2767320" y="4066200"/>
                <a:ext cx="377280" cy="349920"/>
              </a:xfrm>
              <a:custGeom>
                <a:avLst/>
                <a:gdLst/>
                <a:ahLst/>
                <a:rect l="l" t="t" r="r" b="b"/>
                <a:pathLst>
                  <a:path w="496" h="477">
                    <a:moveTo>
                      <a:pt x="0" y="477"/>
                    </a:moveTo>
                    <a:lnTo>
                      <a:pt x="128" y="0"/>
                    </a:lnTo>
                    <a:lnTo>
                      <a:pt x="496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107600" y="4215240"/>
                <a:ext cx="56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4033080" y="4533120"/>
                <a:ext cx="680040" cy="10584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3899880" y="4553640"/>
                <a:ext cx="680040" cy="40680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3651480" y="4543560"/>
                <a:ext cx="900000" cy="74700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3364920" y="4581720"/>
                <a:ext cx="1521720" cy="1172520"/>
              </a:xfrm>
              <a:custGeom>
                <a:avLst/>
                <a:gdLst/>
                <a:ahLst/>
                <a:rect l="l" t="t" r="r" b="b"/>
                <a:pathLst>
                  <a:path w="2000" h="2432">
                    <a:moveTo>
                      <a:pt x="0" y="2432"/>
                    </a:moveTo>
                    <a:lnTo>
                      <a:pt x="0" y="0"/>
                    </a:lnTo>
                    <a:lnTo>
                      <a:pt x="20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936240" y="3453120"/>
                <a:ext cx="680040" cy="50472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687840" y="3042720"/>
                <a:ext cx="899640" cy="926640"/>
              </a:xfrm>
              <a:custGeom>
                <a:avLst/>
                <a:gdLst/>
                <a:ahLst/>
                <a:rect l="l" t="t" r="r" b="b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401280" y="2467800"/>
                <a:ext cx="1521360" cy="1454400"/>
              </a:xfrm>
              <a:custGeom>
                <a:avLst/>
                <a:gdLst/>
                <a:ahLst/>
                <a:rect l="l" t="t" r="r" b="b"/>
                <a:pathLst>
                  <a:path w="2000" h="2432">
                    <a:moveTo>
                      <a:pt x="0" y="2432"/>
                    </a:moveTo>
                    <a:lnTo>
                      <a:pt x="0" y="0"/>
                    </a:lnTo>
                    <a:lnTo>
                      <a:pt x="20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987640" y="4109400"/>
                <a:ext cx="1216800" cy="45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8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8680" y="3822120"/>
                <a:ext cx="169128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66480" y="3224160"/>
                <a:ext cx="51660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9" name=""/>
              <p:cNvGrpSpPr/>
              <p:nvPr/>
            </p:nvGrpSpPr>
            <p:grpSpPr>
              <a:xfrm>
                <a:off x="4487040" y="2362320"/>
                <a:ext cx="1584360" cy="3509640"/>
                <a:chOff x="4487040" y="2362320"/>
                <a:chExt cx="1584360" cy="3509640"/>
              </a:xfrm>
            </p:grpSpPr>
            <p:pic>
              <p:nvPicPr>
                <p:cNvPr id="18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87040" y="536796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87040" y="499212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87040" y="461628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87040" y="424080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87040" y="386496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87040" y="348948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87040" y="311364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87040" y="273780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487040" y="236232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19" name=""/>
              <p:cNvSpPr/>
              <p:nvPr/>
            </p:nvSpPr>
            <p:spPr>
              <a:xfrm>
                <a:off x="2061360" y="3992400"/>
                <a:ext cx="113184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ARMON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060000" y="4133880"/>
                <a:ext cx="108360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Arial"/>
                  </a:rPr>
                  <a:t>High-Speed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Arial"/>
                  </a:rPr>
                  <a:t>Switch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821" name=""/>
              <p:cNvGraphicFramePr/>
              <p:nvPr/>
            </p:nvGraphicFramePr>
            <p:xfrm>
              <a:off x="934920" y="4262400"/>
              <a:ext cx="1087920" cy="112716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822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934920" y="4262400"/>
                        <a:ext cx="1087920" cy="11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23" name=""/>
            <p:cNvSpPr/>
            <p:nvPr/>
          </p:nvSpPr>
          <p:spPr>
            <a:xfrm>
              <a:off x="6810120" y="3683160"/>
              <a:ext cx="2027160" cy="60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m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 flipV="1">
              <a:off x="6141600" y="2662200"/>
              <a:ext cx="1935000" cy="102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 flipV="1">
              <a:off x="6126120" y="3027240"/>
              <a:ext cx="1692000" cy="66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 flipV="1">
              <a:off x="6125760" y="3438360"/>
              <a:ext cx="1143000" cy="29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 flipV="1">
              <a:off x="6111720" y="3805200"/>
              <a:ext cx="852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126120" y="4140360"/>
              <a:ext cx="83808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6125760" y="4230720"/>
              <a:ext cx="1036440" cy="36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095880" y="4292640"/>
              <a:ext cx="1371600" cy="66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6095880" y="4307040"/>
              <a:ext cx="1706400" cy="10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6095520" y="4292640"/>
              <a:ext cx="2073240" cy="14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80880" y="2799000"/>
              <a:ext cx="2027160" cy="60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m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585800" y="3454560"/>
              <a:ext cx="30456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5" name=""/>
          <p:cNvSpPr/>
          <p:nvPr/>
        </p:nvSpPr>
        <p:spPr>
          <a:xfrm>
            <a:off x="6478200" y="144792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MON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each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54440" y="167652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MON Client on J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202840" y="632448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buyya.com/parmo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4240" y="147240"/>
            <a:ext cx="8366040" cy="741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Major problems/issues in E-commer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57" name=""/>
          <p:cNvSpPr/>
          <p:nvPr/>
        </p:nvSpPr>
        <p:spPr>
          <a:xfrm>
            <a:off x="2743200" y="1452600"/>
            <a:ext cx="6219720" cy="517680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ocial Issu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Capacity Planning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Multilevel Business Support (e.g., B2P2C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Information Storage, Retrieval, and Updat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Performan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Heterogene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ystem Scalabil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ystem Reliabil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Identification and Authentica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ystem Expandabil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Securi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Cyber Attacks Detection and Control (cyberguard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Data Replication, Consistency, and Caching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1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entury Gothic"/>
              </a:rPr>
              <a:t>Manageability (administration and control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2438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source Utilization at a Glan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839" name="" descr=""/>
          <p:cNvPicPr/>
          <p:nvPr/>
        </p:nvPicPr>
        <p:blipFill>
          <a:blip r:embed="rId1"/>
          <a:stretch/>
        </p:blipFill>
        <p:spPr>
          <a:xfrm>
            <a:off x="1600200" y="1940040"/>
            <a:ext cx="6291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1980720" y="1828800"/>
            <a:ext cx="624852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Single I/O Space and </a:t>
            </a:r>
            <a:br>
              <a:rPr sz="4800"/>
            </a:b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Design Issues</a:t>
            </a:r>
            <a:endParaRPr b="1" lang="en-US" sz="4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41" name=""/>
          <p:cNvSpPr/>
          <p:nvPr/>
        </p:nvSpPr>
        <p:spPr>
          <a:xfrm>
            <a:off x="2133720" y="76320"/>
            <a:ext cx="681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Globalised Cluster Stor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80880" y="5029200"/>
            <a:ext cx="853452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Referenc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Designing SSI Clusters with Hierarchical Checkpointing and Single I/O Space”, </a:t>
            </a: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IEEE Concurrency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, March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K. Hwang, H. Jin et.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380880" y="2079720"/>
            <a:ext cx="3983040" cy="4092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Without  Single I/O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677960" y="2351160"/>
            <a:ext cx="1252440" cy="541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303640" y="291636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687240" y="3505320"/>
            <a:ext cx="3259440" cy="540720"/>
            <a:chOff x="687240" y="3505320"/>
            <a:chExt cx="3259440" cy="540720"/>
          </a:xfrm>
        </p:grpSpPr>
        <p:grpSp>
          <p:nvGrpSpPr>
            <p:cNvPr id="1847" name=""/>
            <p:cNvGrpSpPr/>
            <p:nvPr/>
          </p:nvGrpSpPr>
          <p:grpSpPr>
            <a:xfrm>
              <a:off x="687240" y="3505320"/>
              <a:ext cx="3259440" cy="540720"/>
              <a:chOff x="687240" y="3505320"/>
              <a:chExt cx="3259440" cy="540720"/>
            </a:xfrm>
          </p:grpSpPr>
          <p:grpSp>
            <p:nvGrpSpPr>
              <p:cNvPr id="1848" name=""/>
              <p:cNvGrpSpPr/>
              <p:nvPr/>
            </p:nvGrpSpPr>
            <p:grpSpPr>
              <a:xfrm>
                <a:off x="2442240" y="3505320"/>
                <a:ext cx="626760" cy="540720"/>
                <a:chOff x="2442240" y="3505320"/>
                <a:chExt cx="626760" cy="54072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244224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256752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1" name=""/>
              <p:cNvGrpSpPr/>
              <p:nvPr/>
            </p:nvGrpSpPr>
            <p:grpSpPr>
              <a:xfrm>
                <a:off x="3319920" y="3505320"/>
                <a:ext cx="626760" cy="540720"/>
                <a:chOff x="3319920" y="3505320"/>
                <a:chExt cx="626760" cy="54072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331992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344520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4" name=""/>
              <p:cNvGrpSpPr/>
              <p:nvPr/>
            </p:nvGrpSpPr>
            <p:grpSpPr>
              <a:xfrm>
                <a:off x="687240" y="3505320"/>
                <a:ext cx="626760" cy="540720"/>
                <a:chOff x="687240" y="3505320"/>
                <a:chExt cx="626760" cy="54072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68724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81252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1564560" y="3505320"/>
                <a:ext cx="626760" cy="540720"/>
                <a:chOff x="1564560" y="3505320"/>
                <a:chExt cx="626760" cy="54072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1564560" y="3911040"/>
                  <a:ext cx="626760" cy="13500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1689840" y="3505320"/>
                  <a:ext cx="375840" cy="40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0" name=""/>
            <p:cNvSpPr/>
            <p:nvPr/>
          </p:nvSpPr>
          <p:spPr>
            <a:xfrm>
              <a:off x="1439280" y="390960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316960" y="390960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94280" y="3909600"/>
              <a:ext cx="116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4670280" y="2111400"/>
            <a:ext cx="4135680" cy="4060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Times New Roman"/>
              </a:rPr>
              <a:t>With Single I/O Spac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48360" y="2341440"/>
            <a:ext cx="1252440" cy="615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675480" y="2955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029200" y="4235400"/>
            <a:ext cx="3176640" cy="3841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I/O Spac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7" name=""/>
          <p:cNvGrpSpPr/>
          <p:nvPr/>
        </p:nvGrpSpPr>
        <p:grpSpPr>
          <a:xfrm>
            <a:off x="888840" y="4249800"/>
            <a:ext cx="311400" cy="512280"/>
            <a:chOff x="888840" y="4249800"/>
            <a:chExt cx="311400" cy="512280"/>
          </a:xfrm>
        </p:grpSpPr>
        <p:sp>
          <p:nvSpPr>
            <p:cNvPr id="1868" name=""/>
            <p:cNvSpPr/>
            <p:nvPr/>
          </p:nvSpPr>
          <p:spPr>
            <a:xfrm>
              <a:off x="888840" y="4249800"/>
              <a:ext cx="31140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88840" y="434304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198800" y="4349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88840" y="4591080"/>
              <a:ext cx="31140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739880" y="4249800"/>
            <a:ext cx="311040" cy="512280"/>
            <a:chOff x="1739880" y="4249800"/>
            <a:chExt cx="311040" cy="512280"/>
          </a:xfrm>
        </p:grpSpPr>
        <p:sp>
          <p:nvSpPr>
            <p:cNvPr id="1873" name=""/>
            <p:cNvSpPr/>
            <p:nvPr/>
          </p:nvSpPr>
          <p:spPr>
            <a:xfrm>
              <a:off x="1739880" y="4249800"/>
              <a:ext cx="31104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739880" y="4343040"/>
              <a:ext cx="0" cy="34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049480" y="4349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739880" y="4591080"/>
              <a:ext cx="311040" cy="171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2576520" y="4253040"/>
            <a:ext cx="311040" cy="510840"/>
            <a:chOff x="2576520" y="4253040"/>
            <a:chExt cx="311040" cy="510840"/>
          </a:xfrm>
        </p:grpSpPr>
        <p:sp>
          <p:nvSpPr>
            <p:cNvPr id="1878" name=""/>
            <p:cNvSpPr/>
            <p:nvPr/>
          </p:nvSpPr>
          <p:spPr>
            <a:xfrm>
              <a:off x="2576520" y="42530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76520" y="43459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886120" y="435276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576520" y="45932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3470400" y="4265640"/>
            <a:ext cx="311040" cy="510840"/>
            <a:chOff x="3470400" y="4265640"/>
            <a:chExt cx="311040" cy="510840"/>
          </a:xfrm>
        </p:grpSpPr>
        <p:sp>
          <p:nvSpPr>
            <p:cNvPr id="1883" name=""/>
            <p:cNvSpPr/>
            <p:nvPr/>
          </p:nvSpPr>
          <p:spPr>
            <a:xfrm>
              <a:off x="3470400" y="42656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470400" y="43585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780000" y="436536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470400" y="4605840"/>
              <a:ext cx="311040" cy="170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7" name=""/>
          <p:cNvSpPr/>
          <p:nvPr/>
        </p:nvSpPr>
        <p:spPr>
          <a:xfrm>
            <a:off x="1044720" y="4064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895400" y="404640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733840" y="4064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625920" y="40640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654960" y="463860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303880" y="40464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167520" y="4064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018200" y="4064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897680" y="40622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4987800" y="3517920"/>
            <a:ext cx="3259440" cy="542880"/>
            <a:chOff x="4987800" y="3517920"/>
            <a:chExt cx="3259440" cy="542880"/>
          </a:xfrm>
        </p:grpSpPr>
        <p:grpSp>
          <p:nvGrpSpPr>
            <p:cNvPr id="1897" name=""/>
            <p:cNvGrpSpPr/>
            <p:nvPr/>
          </p:nvGrpSpPr>
          <p:grpSpPr>
            <a:xfrm>
              <a:off x="4987800" y="3517920"/>
              <a:ext cx="3259440" cy="542880"/>
              <a:chOff x="4987800" y="3517920"/>
              <a:chExt cx="3259440" cy="542880"/>
            </a:xfrm>
          </p:grpSpPr>
          <p:grpSp>
            <p:nvGrpSpPr>
              <p:cNvPr id="1898" name=""/>
              <p:cNvGrpSpPr/>
              <p:nvPr/>
            </p:nvGrpSpPr>
            <p:grpSpPr>
              <a:xfrm>
                <a:off x="6742800" y="3517920"/>
                <a:ext cx="626760" cy="542880"/>
                <a:chOff x="6742800" y="3517920"/>
                <a:chExt cx="626760" cy="542880"/>
              </a:xfrm>
            </p:grpSpPr>
            <p:sp>
              <p:nvSpPr>
                <p:cNvPr id="1899" name=""/>
                <p:cNvSpPr/>
                <p:nvPr/>
              </p:nvSpPr>
              <p:spPr>
                <a:xfrm>
                  <a:off x="674280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686808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1" name=""/>
              <p:cNvGrpSpPr/>
              <p:nvPr/>
            </p:nvGrpSpPr>
            <p:grpSpPr>
              <a:xfrm>
                <a:off x="7620480" y="3517920"/>
                <a:ext cx="626760" cy="542880"/>
                <a:chOff x="7620480" y="3517920"/>
                <a:chExt cx="626760" cy="54288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762048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774576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4" name=""/>
              <p:cNvGrpSpPr/>
              <p:nvPr/>
            </p:nvGrpSpPr>
            <p:grpSpPr>
              <a:xfrm>
                <a:off x="4987800" y="3517920"/>
                <a:ext cx="626760" cy="542880"/>
                <a:chOff x="4987800" y="3517920"/>
                <a:chExt cx="626760" cy="542880"/>
              </a:xfrm>
            </p:grpSpPr>
            <p:sp>
              <p:nvSpPr>
                <p:cNvPr id="1905" name=""/>
                <p:cNvSpPr/>
                <p:nvPr/>
              </p:nvSpPr>
              <p:spPr>
                <a:xfrm>
                  <a:off x="498780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11308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7" name=""/>
              <p:cNvGrpSpPr/>
              <p:nvPr/>
            </p:nvGrpSpPr>
            <p:grpSpPr>
              <a:xfrm>
                <a:off x="5865120" y="3517920"/>
                <a:ext cx="626760" cy="542880"/>
                <a:chOff x="5865120" y="3517920"/>
                <a:chExt cx="626760" cy="542880"/>
              </a:xfrm>
            </p:grpSpPr>
            <p:sp>
              <p:nvSpPr>
                <p:cNvPr id="1908" name=""/>
                <p:cNvSpPr/>
                <p:nvPr/>
              </p:nvSpPr>
              <p:spPr>
                <a:xfrm>
                  <a:off x="5865120" y="3925080"/>
                  <a:ext cx="626760" cy="13572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990400" y="3517920"/>
                  <a:ext cx="375840" cy="407160"/>
                </a:xfrm>
                <a:prstGeom prst="rect">
                  <a:avLst/>
                </a:prstGeom>
                <a:solidFill>
                  <a:srgbClr val="f6bf6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0" name=""/>
            <p:cNvSpPr/>
            <p:nvPr/>
          </p:nvSpPr>
          <p:spPr>
            <a:xfrm>
              <a:off x="5739840" y="392364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617520" y="3923640"/>
              <a:ext cx="11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494840" y="3923640"/>
              <a:ext cx="116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6080040" y="4809960"/>
            <a:ext cx="1188360" cy="510840"/>
            <a:chOff x="6080040" y="4809960"/>
            <a:chExt cx="1188360" cy="510840"/>
          </a:xfrm>
        </p:grpSpPr>
        <p:sp>
          <p:nvSpPr>
            <p:cNvPr id="1914" name=""/>
            <p:cNvSpPr/>
            <p:nvPr/>
          </p:nvSpPr>
          <p:spPr>
            <a:xfrm>
              <a:off x="6080040" y="4809960"/>
              <a:ext cx="1188360" cy="170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080040" y="490284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263720" y="490968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080040" y="5150160"/>
              <a:ext cx="1188360" cy="170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866960" y="152280"/>
            <a:ext cx="704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with &amp; without Single I/O Sp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285640" y="-152640"/>
            <a:ext cx="65530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Benefits of Single I/O Spa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295280" y="27432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liminate the gap between accessing local disk(s) and remote disk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upport persistent programming paradigm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llow striping on remote disks, accelerate parallel I/O operation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Facilitate the implementation of distributed checkpointing and recovery scheme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 spd="med">
    <p:wipe dir="r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ingle I/O Space Design Issu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7238880" cy="33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tegrated I/O Spa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dressing and Mapping Mechanis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Data movement procedur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380880" y="1828800"/>
            <a:ext cx="8458200" cy="45720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286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Integrated I/O Space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447840" y="2057400"/>
            <a:ext cx="8391240" cy="4249800"/>
            <a:chOff x="447840" y="2057400"/>
            <a:chExt cx="8391240" cy="4249800"/>
          </a:xfrm>
        </p:grpSpPr>
        <p:sp>
          <p:nvSpPr>
            <p:cNvPr id="1926" name=""/>
            <p:cNvSpPr/>
            <p:nvPr/>
          </p:nvSpPr>
          <p:spPr>
            <a:xfrm>
              <a:off x="447840" y="3321000"/>
              <a:ext cx="146988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quential addresse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698480" y="2301840"/>
              <a:ext cx="0" cy="400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983040" y="205740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487600" y="2133720"/>
              <a:ext cx="4240080" cy="279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502000" y="2416320"/>
              <a:ext cx="422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487600" y="269892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487600" y="3189240"/>
              <a:ext cx="42242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487600" y="3490920"/>
              <a:ext cx="4224240" cy="1440"/>
            </a:xfrm>
            <a:prstGeom prst="line">
              <a:avLst/>
            </a:prstGeom>
            <a:ln w="23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471760" y="376560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487600" y="404640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471760" y="4603680"/>
              <a:ext cx="42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656440" y="356076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18040" y="3483000"/>
              <a:ext cx="0" cy="1438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978360" y="3500280"/>
              <a:ext cx="3240" cy="14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952960" y="3505320"/>
              <a:ext cx="0" cy="136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582640" y="4114800"/>
              <a:ext cx="3193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319200" y="4102200"/>
              <a:ext cx="3193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015600" y="4125960"/>
              <a:ext cx="3574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470480" y="343044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470480" y="370512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191840" y="4102200"/>
              <a:ext cx="49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332600" y="450216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016080" y="2149560"/>
              <a:ext cx="0" cy="13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497400" y="2141640"/>
              <a:ext cx="1440" cy="13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137280" y="2149560"/>
              <a:ext cx="0" cy="135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983040" y="236052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983040" y="307656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31160" y="21826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056400" y="218268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226200" y="217188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1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577240" y="245412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056400" y="245412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2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224760" y="247824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2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9960" y="325296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n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045600" y="3252960"/>
              <a:ext cx="36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n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215040" y="3270240"/>
              <a:ext cx="32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686680" y="383076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640600" y="468324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1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02360" y="356076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2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388320" y="3819600"/>
              <a:ext cx="340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2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67520" y="468324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2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119280" y="35528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m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19280" y="383076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m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16400" y="46926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m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2040" y="2112840"/>
              <a:ext cx="3420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929240" y="24782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D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953000" y="3224160"/>
              <a:ext cx="348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278840" y="2201760"/>
              <a:ext cx="82368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ca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sks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RAD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ac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278120" y="3805200"/>
              <a:ext cx="15490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ared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AIDs,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NASD Spac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808680" y="2182680"/>
              <a:ext cx="406440" cy="1228680"/>
            </a:xfrm>
            <a:custGeom>
              <a:avLst/>
              <a:gdLst>
                <a:gd name="textAreaLeft" fmla="*/ 0 w 406440"/>
                <a:gd name="textAreaRight" fmla="*/ 146880 w 406440"/>
                <a:gd name="textAreaTop" fmla="*/ 32040 h 1228680"/>
                <a:gd name="textAreaBottom" fmla="*/ 1196640 h 122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838920" y="3535200"/>
              <a:ext cx="362160" cy="1333800"/>
            </a:xfrm>
            <a:custGeom>
              <a:avLst/>
              <a:gdLst>
                <a:gd name="textAreaLeft" fmla="*/ 0 w 362160"/>
                <a:gd name="textAreaRight" fmla="*/ 130680 w 362160"/>
                <a:gd name="textAreaTop" fmla="*/ 34560 h 1333800"/>
                <a:gd name="textAreaBottom" fmla="*/ 1299240 h 13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983040" y="2708280"/>
              <a:ext cx="38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Kabel Ult BT"/>
                </a:rPr>
                <a:t>. .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482920" y="4902120"/>
              <a:ext cx="4246560" cy="1308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498760" y="5338800"/>
              <a:ext cx="421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017880" y="4930920"/>
              <a:ext cx="8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881440" y="5759280"/>
              <a:ext cx="11001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726000" y="507672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.   .   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808680" y="4917960"/>
              <a:ext cx="411120" cy="1233720"/>
            </a:xfrm>
            <a:custGeom>
              <a:avLst/>
              <a:gdLst>
                <a:gd name="textAreaLeft" fmla="*/ 0 w 411120"/>
                <a:gd name="textAreaRight" fmla="*/ 148320 w 411120"/>
                <a:gd name="textAreaTop" fmla="*/ 32040 h 1233720"/>
                <a:gd name="textAreaBottom" fmla="*/ 1201680 h 12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202520" y="5076720"/>
              <a:ext cx="16365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ipher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NAP Spac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482920" y="5759280"/>
              <a:ext cx="421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7188120" y="3090960"/>
            <a:ext cx="158616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-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us some Modified 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449440" y="2133720"/>
            <a:ext cx="2833920" cy="53964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r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147680" y="5126040"/>
            <a:ext cx="507960" cy="5713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1815120" y="5118840"/>
            <a:ext cx="250920" cy="1535040"/>
          </a:xfrm>
          <a:custGeom>
            <a:avLst/>
            <a:gdLst>
              <a:gd name="textAreaLeft" fmla="*/ 0 w 250920"/>
              <a:gd name="textAreaRight" fmla="*/ 90720 w 250920"/>
              <a:gd name="textAreaTop" fmla="*/ 39960 h 1535040"/>
              <a:gd name="textAreaBottom" fmla="*/ 1495080 h 15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778040" y="5427720"/>
            <a:ext cx="466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503360" y="5999040"/>
            <a:ext cx="1039680" cy="492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15880" y="3090960"/>
            <a:ext cx="6113520" cy="183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57360" y="4027320"/>
            <a:ext cx="58039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33400" y="4203720"/>
            <a:ext cx="1157400" cy="5284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700200" y="3211560"/>
            <a:ext cx="1473120" cy="496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me Ag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705040" y="3219480"/>
            <a:ext cx="1816200" cy="7239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sk/RAID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P Ma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4834080" y="3219480"/>
            <a:ext cx="1473120" cy="488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lock Mo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328840" y="5141880"/>
            <a:ext cx="507960" cy="56988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166840" y="4186080"/>
            <a:ext cx="1208160" cy="5004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322880" y="5081760"/>
            <a:ext cx="507960" cy="58896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543480" y="5081760"/>
            <a:ext cx="507960" cy="58896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rot="5400000">
            <a:off x="4007160" y="5299560"/>
            <a:ext cx="257040" cy="1087560"/>
          </a:xfrm>
          <a:custGeom>
            <a:avLst/>
            <a:gdLst>
              <a:gd name="textAreaLeft" fmla="*/ 0 w 257040"/>
              <a:gd name="textAreaRight" fmla="*/ 92880 w 257040"/>
              <a:gd name="textAreaTop" fmla="*/ 28080 h 1087560"/>
              <a:gd name="textAreaBottom" fmla="*/ 105948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728880" y="6018120"/>
            <a:ext cx="952560" cy="474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S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790800" y="4940280"/>
            <a:ext cx="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583160" y="492912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625920" y="4191120"/>
            <a:ext cx="1262160" cy="56664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113360" y="4756320"/>
            <a:ext cx="0" cy="20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304920" y="2890440"/>
            <a:ext cx="6783120" cy="20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27680" y="3146400"/>
            <a:ext cx="371520" cy="1784520"/>
          </a:xfrm>
          <a:custGeom>
            <a:avLst/>
            <a:gdLst>
              <a:gd name="textAreaLeft" fmla="*/ 0 w 371520"/>
              <a:gd name="textAreaRight" fmla="*/ 134280 w 371520"/>
              <a:gd name="textAreaTop" fmla="*/ 46440 h 1784520"/>
              <a:gd name="textAreaBottom" fmla="*/ 1738080 h 178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rot="5400000">
            <a:off x="5617080" y="5090040"/>
            <a:ext cx="236520" cy="1473120"/>
          </a:xfrm>
          <a:custGeom>
            <a:avLst/>
            <a:gdLst>
              <a:gd name="textAreaLeft" fmla="*/ 0 w 236520"/>
              <a:gd name="textAreaRight" fmla="*/ 85320 w 236520"/>
              <a:gd name="textAreaTop" fmla="*/ 38160 h 1473120"/>
              <a:gd name="textAreaBottom" fmla="*/ 1434960 h 147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489640" y="5985000"/>
            <a:ext cx="745920" cy="4903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111640" y="4186080"/>
            <a:ext cx="1262160" cy="58428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5690880" y="4781520"/>
            <a:ext cx="324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627520" y="5126040"/>
            <a:ext cx="893880" cy="414360"/>
          </a:xfrm>
          <a:prstGeom prst="flowChartMagnetic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313240" y="5195880"/>
            <a:ext cx="893880" cy="414360"/>
          </a:xfrm>
          <a:prstGeom prst="flowChartMagnetic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4986360" y="5278320"/>
            <a:ext cx="893880" cy="416160"/>
          </a:xfrm>
          <a:prstGeom prst="flowChartMagnetic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413000" y="475452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2569680" y="4718160"/>
            <a:ext cx="324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666880" y="0"/>
            <a:ext cx="628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Addressing and Mapp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2057400" y="149040"/>
            <a:ext cx="6858000" cy="84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ata Movement Procedur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021" name=""/>
          <p:cNvSpPr/>
          <p:nvPr/>
        </p:nvSpPr>
        <p:spPr>
          <a:xfrm>
            <a:off x="2860560" y="4203720"/>
            <a:ext cx="1173240" cy="496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692680" y="5805360"/>
            <a:ext cx="184320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S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the NAS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025880" y="4734000"/>
            <a:ext cx="912960" cy="85392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M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236600" y="4160880"/>
            <a:ext cx="1687680" cy="15811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457280" y="4203720"/>
            <a:ext cx="1220760" cy="6681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496880" y="5018040"/>
            <a:ext cx="1181160" cy="441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V="1">
            <a:off x="1601640" y="4733640"/>
            <a:ext cx="1800" cy="4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614600" y="5805360"/>
            <a:ext cx="817560" cy="83988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014560" y="5459400"/>
            <a:ext cx="0" cy="34596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6691320" y="4257720"/>
            <a:ext cx="1685880" cy="1428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991200" y="4370400"/>
            <a:ext cx="13114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047000" y="4871880"/>
            <a:ext cx="1181160" cy="432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140600" y="5805360"/>
            <a:ext cx="817560" cy="900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510320" y="5299200"/>
            <a:ext cx="0" cy="501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0960" y="6113520"/>
            <a:ext cx="462240" cy="480960"/>
          </a:xfrm>
          <a:prstGeom prst="rect">
            <a:avLst/>
          </a:prstGeom>
          <a:solidFill>
            <a:srgbClr val="f6bf6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7319520" y="5235120"/>
            <a:ext cx="190440" cy="87804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835600" y="4871880"/>
            <a:ext cx="531720" cy="486000"/>
          </a:xfrm>
          <a:prstGeom prst="rect">
            <a:avLst/>
          </a:prstGeom>
          <a:solidFill>
            <a:srgbClr val="f6bf6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H="1" flipV="1">
            <a:off x="6405480" y="5017680"/>
            <a:ext cx="650880" cy="3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 flipV="1">
            <a:off x="4930920" y="4978080"/>
            <a:ext cx="922320" cy="4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>
            <a:off x="2584440" y="4940280"/>
            <a:ext cx="1486080" cy="4032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671480" y="6113520"/>
            <a:ext cx="76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938320" y="1565280"/>
            <a:ext cx="1057320" cy="387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502240" y="3138480"/>
            <a:ext cx="1446120" cy="846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or S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the NAS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948200" y="1773360"/>
            <a:ext cx="965160" cy="6904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M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490760" y="1646280"/>
            <a:ext cx="1519200" cy="1376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635120" y="1738440"/>
            <a:ext cx="1276200" cy="618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712880" y="2565360"/>
            <a:ext cx="1089000" cy="3808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800360" y="2328840"/>
            <a:ext cx="0" cy="29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800360" y="3238560"/>
            <a:ext cx="734760" cy="66024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190600" y="2946240"/>
            <a:ext cx="0" cy="3016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6519960" y="1943280"/>
            <a:ext cx="1519200" cy="9936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6647040" y="1925640"/>
            <a:ext cx="12110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de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6727680" y="2392200"/>
            <a:ext cx="1101960" cy="4273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/O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775560" y="3097080"/>
            <a:ext cx="736560" cy="792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7129440" y="2784600"/>
            <a:ext cx="14400" cy="31248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6942240" y="3340080"/>
            <a:ext cx="415800" cy="425520"/>
          </a:xfrm>
          <a:prstGeom prst="rect">
            <a:avLst/>
          </a:prstGeom>
          <a:solidFill>
            <a:srgbClr val="f6bf6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176640" y="2049480"/>
            <a:ext cx="952560" cy="9558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2701800" y="2463840"/>
            <a:ext cx="498600" cy="2649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4175280" y="2019240"/>
            <a:ext cx="785520" cy="238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872320" y="2087640"/>
            <a:ext cx="866520" cy="471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1835280" y="3424320"/>
            <a:ext cx="747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746280" y="4079880"/>
            <a:ext cx="8016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Next ?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usters of Clusters (HyperCluster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lobal Gri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planetary Gri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niversal Grid?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/>
          <p:nvPr/>
        </p:nvSpPr>
        <p:spPr>
          <a:xfrm>
            <a:off x="666720" y="1630440"/>
            <a:ext cx="7996320" cy="4930560"/>
          </a:xfrm>
          <a:prstGeom prst="rect">
            <a:avLst/>
          </a:prstGeom>
          <a:solidFill>
            <a:srgbClr val="99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221840" y="222120"/>
            <a:ext cx="7921800" cy="1185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 anchorCtr="1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of Clusters (HyperCluster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1184400" y="1779480"/>
            <a:ext cx="7076520" cy="5003280"/>
            <a:chOff x="1184400" y="1779480"/>
            <a:chExt cx="7076520" cy="5003280"/>
          </a:xfrm>
        </p:grpSpPr>
        <p:sp>
          <p:nvSpPr>
            <p:cNvPr id="2068" name=""/>
            <p:cNvSpPr/>
            <p:nvPr/>
          </p:nvSpPr>
          <p:spPr>
            <a:xfrm>
              <a:off x="1184400" y="4236840"/>
              <a:ext cx="2799360" cy="2114280"/>
            </a:xfrm>
            <a:prstGeom prst="roundRect">
              <a:avLst>
                <a:gd name="adj" fmla="val 12495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1369440" y="4295520"/>
              <a:ext cx="2465640" cy="2002320"/>
              <a:chOff x="1369440" y="4295520"/>
              <a:chExt cx="2465640" cy="2002320"/>
            </a:xfrm>
          </p:grpSpPr>
          <p:grpSp>
            <p:nvGrpSpPr>
              <p:cNvPr id="2070" name=""/>
              <p:cNvGrpSpPr/>
              <p:nvPr/>
            </p:nvGrpSpPr>
            <p:grpSpPr>
              <a:xfrm>
                <a:off x="1935000" y="4572000"/>
                <a:ext cx="939960" cy="536040"/>
                <a:chOff x="1935000" y="4572000"/>
                <a:chExt cx="939960" cy="536040"/>
              </a:xfrm>
            </p:grpSpPr>
            <p:pic>
              <p:nvPicPr>
                <p:cNvPr id="20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35000" y="4572000"/>
                  <a:ext cx="37764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72" name=""/>
                <p:cNvGrpSpPr/>
                <p:nvPr/>
              </p:nvGrpSpPr>
              <p:grpSpPr>
                <a:xfrm>
                  <a:off x="2366640" y="4572000"/>
                  <a:ext cx="508320" cy="536040"/>
                  <a:chOff x="2366640" y="4572000"/>
                  <a:chExt cx="508320" cy="536040"/>
                </a:xfrm>
              </p:grpSpPr>
              <p:sp>
                <p:nvSpPr>
                  <p:cNvPr id="2073" name=""/>
                  <p:cNvSpPr/>
                  <p:nvPr/>
                </p:nvSpPr>
                <p:spPr>
                  <a:xfrm>
                    <a:off x="2366640" y="4572000"/>
                    <a:ext cx="508320" cy="536040"/>
                  </a:xfrm>
                  <a:custGeom>
                    <a:avLst/>
                    <a:gdLst>
                      <a:gd name="textAreaLeft" fmla="*/ 18360 w 508320"/>
                      <a:gd name="textAreaRight" fmla="*/ 489960 w 508320"/>
                      <a:gd name="textAreaTop" fmla="*/ 18360 h 536040"/>
                      <a:gd name="textAreaBottom" fmla="*/ 517680 h 536040"/>
                    </a:gdLst>
                    <a:ahLst/>
                    <a:rect l="textAreaLeft" t="textAreaTop" r="textAreaRight" b="textAreaBottom"/>
                    <a:pathLst>
                      <a:path w="21600" h="22777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078"/>
                        </a:lnTo>
                        <a:arcTo wR="2699" hR="2699" stAng="10800000" swAng="-5400000"/>
                        <a:lnTo>
                          <a:pt x="18901" y="22777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2388960" y="4601880"/>
                    <a:ext cx="461520" cy="1404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600" spc="-1" strike="noStrike">
                        <a:solidFill>
                          <a:srgbClr val="f6bf69"/>
                        </a:solidFill>
                        <a:latin typeface="Book Antiqua"/>
                      </a:rPr>
                      <a:t>Scheduler</a:t>
                    </a:r>
                    <a:endParaRPr b="0" lang="en-US" sz="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2388960" y="4815360"/>
                    <a:ext cx="461520" cy="2620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Master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6" name=""/>
              <p:cNvGrpSpPr/>
              <p:nvPr/>
            </p:nvGrpSpPr>
            <p:grpSpPr>
              <a:xfrm>
                <a:off x="3112560" y="4887720"/>
                <a:ext cx="722520" cy="1253160"/>
                <a:chOff x="3112560" y="4887720"/>
                <a:chExt cx="722520" cy="1253160"/>
              </a:xfrm>
            </p:grpSpPr>
            <p:grpSp>
              <p:nvGrpSpPr>
                <p:cNvPr id="2077" name=""/>
                <p:cNvGrpSpPr/>
                <p:nvPr/>
              </p:nvGrpSpPr>
              <p:grpSpPr>
                <a:xfrm>
                  <a:off x="3112560" y="5787360"/>
                  <a:ext cx="531000" cy="353520"/>
                  <a:chOff x="3112560" y="5787360"/>
                  <a:chExt cx="531000" cy="353520"/>
                </a:xfrm>
              </p:grpSpPr>
              <p:sp>
                <p:nvSpPr>
                  <p:cNvPr id="2078" name=""/>
                  <p:cNvSpPr/>
                  <p:nvPr/>
                </p:nvSpPr>
                <p:spPr>
                  <a:xfrm>
                    <a:off x="3112560" y="5787360"/>
                    <a:ext cx="531000" cy="35352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3136680" y="5817600"/>
                    <a:ext cx="484200" cy="2926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1900" spc="-1" strike="noStrike">
                        <a:solidFill>
                          <a:srgbClr val="f6bf69"/>
                        </a:solidFill>
                        <a:latin typeface="Book Antiqua"/>
                      </a:rPr>
                      <a:t> </a:t>
                    </a: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Executi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0" name=""/>
                <p:cNvGrpSpPr/>
                <p:nvPr/>
              </p:nvGrpSpPr>
              <p:grpSpPr>
                <a:xfrm>
                  <a:off x="3202560" y="4887720"/>
                  <a:ext cx="632520" cy="924480"/>
                  <a:chOff x="3202560" y="4887720"/>
                  <a:chExt cx="632520" cy="924480"/>
                </a:xfrm>
              </p:grpSpPr>
              <p:pic>
                <p:nvPicPr>
                  <p:cNvPr id="2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6440" y="4887720"/>
                    <a:ext cx="27864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11080" y="4948200"/>
                    <a:ext cx="27900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7880" y="5009040"/>
                    <a:ext cx="27720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2560" y="521064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7200" y="527184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92200" y="533268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37560" y="5393520"/>
                    <a:ext cx="35208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088" name=""/>
              <p:cNvGrpSpPr/>
              <p:nvPr/>
            </p:nvGrpSpPr>
            <p:grpSpPr>
              <a:xfrm>
                <a:off x="1369440" y="5635800"/>
                <a:ext cx="1272600" cy="662040"/>
                <a:chOff x="1369440" y="5635800"/>
                <a:chExt cx="1272600" cy="66204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1777320" y="5635800"/>
                  <a:ext cx="864720" cy="662040"/>
                  <a:chOff x="1777320" y="5635800"/>
                  <a:chExt cx="864720" cy="66204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1777320" y="5635800"/>
                    <a:ext cx="644400" cy="4752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1799640" y="5666040"/>
                    <a:ext cx="599760" cy="32292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Submit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Graphica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Contro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2183400" y="6089400"/>
                    <a:ext cx="458640" cy="20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f6bf69"/>
                        </a:solidFill>
                        <a:latin typeface="Book Antiqua"/>
                      </a:rPr>
                      <a:t>Clien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3" name=""/>
                <p:cNvGrpSpPr/>
                <p:nvPr/>
              </p:nvGrpSpPr>
              <p:grpSpPr>
                <a:xfrm>
                  <a:off x="1369440" y="5637240"/>
                  <a:ext cx="486720" cy="600840"/>
                  <a:chOff x="1369440" y="5637240"/>
                  <a:chExt cx="486720" cy="600840"/>
                </a:xfrm>
              </p:grpSpPr>
              <p:pic>
                <p:nvPicPr>
                  <p:cNvPr id="20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69440" y="5637240"/>
                    <a:ext cx="35064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4440" y="5697720"/>
                    <a:ext cx="35028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59440" y="575856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05520" y="581940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098" name=""/>
              <p:cNvSpPr/>
              <p:nvPr/>
            </p:nvSpPr>
            <p:spPr>
              <a:xfrm>
                <a:off x="2246760" y="4445280"/>
                <a:ext cx="362520" cy="133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7"/>
                    </a:moveTo>
                    <a:arcTo wR="10800" hR="10800" stAng="-7449" swAng="54074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7"/>
                    </a:moveTo>
                    <a:arcTo wR="10800" hR="10800" stAng="-7449" swAng="5407449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5000" y="4295520"/>
                <a:ext cx="896400" cy="163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6" y="21600"/>
                    </a:moveTo>
                    <a:arcTo wR="10800" hR="10800" stAng="5388491" swAng="54175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6" y="21600"/>
                    </a:moveTo>
                    <a:arcTo wR="10800" hR="10800" stAng="5388491" swAng="5417567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"/>
            <p:cNvSpPr/>
            <p:nvPr/>
          </p:nvSpPr>
          <p:spPr>
            <a:xfrm>
              <a:off x="1346040" y="4218120"/>
              <a:ext cx="9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Book Antiqua"/>
                </a:rPr>
                <a:t>Clu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461560" y="3184920"/>
              <a:ext cx="2799360" cy="2114280"/>
            </a:xfrm>
            <a:prstGeom prst="roundRect">
              <a:avLst>
                <a:gd name="adj" fmla="val 12495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5646600" y="3243600"/>
              <a:ext cx="2465640" cy="2000520"/>
              <a:chOff x="5646600" y="3243600"/>
              <a:chExt cx="2465640" cy="2000520"/>
            </a:xfrm>
          </p:grpSpPr>
          <p:grpSp>
            <p:nvGrpSpPr>
              <p:cNvPr id="2103" name=""/>
              <p:cNvGrpSpPr/>
              <p:nvPr/>
            </p:nvGrpSpPr>
            <p:grpSpPr>
              <a:xfrm>
                <a:off x="6212160" y="3520080"/>
                <a:ext cx="939960" cy="536040"/>
                <a:chOff x="6212160" y="3520080"/>
                <a:chExt cx="939960" cy="536040"/>
              </a:xfrm>
            </p:grpSpPr>
            <p:pic>
              <p:nvPicPr>
                <p:cNvPr id="210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212160" y="3520080"/>
                  <a:ext cx="37764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105" name=""/>
                <p:cNvGrpSpPr/>
                <p:nvPr/>
              </p:nvGrpSpPr>
              <p:grpSpPr>
                <a:xfrm>
                  <a:off x="6643800" y="3520080"/>
                  <a:ext cx="508320" cy="536040"/>
                  <a:chOff x="6643800" y="3520080"/>
                  <a:chExt cx="508320" cy="536040"/>
                </a:xfrm>
              </p:grpSpPr>
              <p:sp>
                <p:nvSpPr>
                  <p:cNvPr id="2106" name=""/>
                  <p:cNvSpPr/>
                  <p:nvPr/>
                </p:nvSpPr>
                <p:spPr>
                  <a:xfrm>
                    <a:off x="6643800" y="3520080"/>
                    <a:ext cx="508320" cy="536040"/>
                  </a:xfrm>
                  <a:custGeom>
                    <a:avLst/>
                    <a:gdLst>
                      <a:gd name="textAreaLeft" fmla="*/ 18360 w 508320"/>
                      <a:gd name="textAreaRight" fmla="*/ 489960 w 508320"/>
                      <a:gd name="textAreaTop" fmla="*/ 18360 h 536040"/>
                      <a:gd name="textAreaBottom" fmla="*/ 517680 h 536040"/>
                    </a:gdLst>
                    <a:ahLst/>
                    <a:rect l="textAreaLeft" t="textAreaTop" r="textAreaRight" b="textAreaBottom"/>
                    <a:pathLst>
                      <a:path w="21600" h="22777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078"/>
                        </a:lnTo>
                        <a:arcTo wR="2699" hR="2699" stAng="10800000" swAng="-5400000"/>
                        <a:lnTo>
                          <a:pt x="18901" y="22777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6666120" y="3549960"/>
                    <a:ext cx="461520" cy="1404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600" spc="-1" strike="noStrike">
                        <a:solidFill>
                          <a:srgbClr val="f6bf69"/>
                        </a:solidFill>
                        <a:latin typeface="Book Antiqua"/>
                      </a:rPr>
                      <a:t>Scheduler</a:t>
                    </a:r>
                    <a:endParaRPr b="0" lang="en-US" sz="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6666120" y="3763080"/>
                    <a:ext cx="461520" cy="26244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Master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9" name=""/>
              <p:cNvGrpSpPr/>
              <p:nvPr/>
            </p:nvGrpSpPr>
            <p:grpSpPr>
              <a:xfrm>
                <a:off x="7389720" y="3835800"/>
                <a:ext cx="722520" cy="1253160"/>
                <a:chOff x="7389720" y="3835800"/>
                <a:chExt cx="722520" cy="1253160"/>
              </a:xfrm>
            </p:grpSpPr>
            <p:grpSp>
              <p:nvGrpSpPr>
                <p:cNvPr id="2110" name=""/>
                <p:cNvGrpSpPr/>
                <p:nvPr/>
              </p:nvGrpSpPr>
              <p:grpSpPr>
                <a:xfrm>
                  <a:off x="7389720" y="4735440"/>
                  <a:ext cx="531000" cy="353520"/>
                  <a:chOff x="7389720" y="4735440"/>
                  <a:chExt cx="531000" cy="353520"/>
                </a:xfrm>
              </p:grpSpPr>
              <p:sp>
                <p:nvSpPr>
                  <p:cNvPr id="2111" name=""/>
                  <p:cNvSpPr/>
                  <p:nvPr/>
                </p:nvSpPr>
                <p:spPr>
                  <a:xfrm>
                    <a:off x="7389720" y="4735440"/>
                    <a:ext cx="531000" cy="35352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7413840" y="4765680"/>
                    <a:ext cx="484200" cy="2926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1900" spc="-1" strike="noStrike">
                        <a:solidFill>
                          <a:srgbClr val="f6bf69"/>
                        </a:solidFill>
                        <a:latin typeface="Book Antiqua"/>
                      </a:rPr>
                      <a:t> </a:t>
                    </a: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Executi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3" name=""/>
                <p:cNvGrpSpPr/>
                <p:nvPr/>
              </p:nvGrpSpPr>
              <p:grpSpPr>
                <a:xfrm>
                  <a:off x="7479720" y="3835800"/>
                  <a:ext cx="632520" cy="924480"/>
                  <a:chOff x="7479720" y="3835800"/>
                  <a:chExt cx="632520" cy="924480"/>
                </a:xfrm>
              </p:grpSpPr>
              <p:pic>
                <p:nvPicPr>
                  <p:cNvPr id="21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43600" y="3835800"/>
                    <a:ext cx="27864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788240" y="3896280"/>
                    <a:ext cx="27900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35040" y="3957120"/>
                    <a:ext cx="27720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79720" y="415872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24360" y="421992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1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569720" y="4280760"/>
                    <a:ext cx="35028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14720" y="4341600"/>
                    <a:ext cx="35208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121" name=""/>
              <p:cNvGrpSpPr/>
              <p:nvPr/>
            </p:nvGrpSpPr>
            <p:grpSpPr>
              <a:xfrm>
                <a:off x="5646600" y="4583520"/>
                <a:ext cx="1272600" cy="660600"/>
                <a:chOff x="5646600" y="4583520"/>
                <a:chExt cx="1272600" cy="660600"/>
              </a:xfrm>
            </p:grpSpPr>
            <p:grpSp>
              <p:nvGrpSpPr>
                <p:cNvPr id="2122" name=""/>
                <p:cNvGrpSpPr/>
                <p:nvPr/>
              </p:nvGrpSpPr>
              <p:grpSpPr>
                <a:xfrm>
                  <a:off x="6054480" y="4583520"/>
                  <a:ext cx="864720" cy="660600"/>
                  <a:chOff x="6054480" y="4583520"/>
                  <a:chExt cx="864720" cy="660600"/>
                </a:xfrm>
              </p:grpSpPr>
              <p:sp>
                <p:nvSpPr>
                  <p:cNvPr id="2123" name=""/>
                  <p:cNvSpPr/>
                  <p:nvPr/>
                </p:nvSpPr>
                <p:spPr>
                  <a:xfrm>
                    <a:off x="6054480" y="4583520"/>
                    <a:ext cx="644400" cy="47556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6076800" y="4613760"/>
                    <a:ext cx="599760" cy="32292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Submit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Graphica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Contro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>
                    <a:off x="6460560" y="5035680"/>
                    <a:ext cx="458640" cy="20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f6bf69"/>
                        </a:solidFill>
                        <a:latin typeface="Book Antiqua"/>
                      </a:rPr>
                      <a:t>Clien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6" name=""/>
                <p:cNvGrpSpPr/>
                <p:nvPr/>
              </p:nvGrpSpPr>
              <p:grpSpPr>
                <a:xfrm>
                  <a:off x="5646600" y="4584960"/>
                  <a:ext cx="486720" cy="600840"/>
                  <a:chOff x="5646600" y="4584960"/>
                  <a:chExt cx="486720" cy="600840"/>
                </a:xfrm>
              </p:grpSpPr>
              <p:pic>
                <p:nvPicPr>
                  <p:cNvPr id="212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46600" y="4584960"/>
                    <a:ext cx="35064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691600" y="4645440"/>
                    <a:ext cx="35028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2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736600" y="470628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3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83040" y="4767120"/>
                    <a:ext cx="35028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131" name=""/>
              <p:cNvSpPr/>
              <p:nvPr/>
            </p:nvSpPr>
            <p:spPr>
              <a:xfrm>
                <a:off x="6524640" y="3392640"/>
                <a:ext cx="361800" cy="13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7"/>
                    </a:moveTo>
                    <a:arcTo wR="10800" hR="10800" stAng="-7449" swAng="54074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7"/>
                    </a:moveTo>
                    <a:arcTo wR="10800" hR="10800" stAng="-7449" swAng="5407449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932160" y="3243600"/>
                <a:ext cx="896400" cy="163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6" y="21600"/>
                    </a:moveTo>
                    <a:arcTo wR="10800" hR="10800" stAng="5388491" swAng="54175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6" y="21600"/>
                    </a:moveTo>
                    <a:arcTo wR="10800" hR="10800" stAng="5388491" swAng="5417567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33" name=""/>
            <p:cNvSpPr/>
            <p:nvPr/>
          </p:nvSpPr>
          <p:spPr>
            <a:xfrm>
              <a:off x="5623560" y="3166200"/>
              <a:ext cx="9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Book Antiqua"/>
                </a:rPr>
                <a:t>Cluster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171520" y="1797840"/>
              <a:ext cx="2799720" cy="2114280"/>
            </a:xfrm>
            <a:prstGeom prst="roundRect">
              <a:avLst>
                <a:gd name="adj" fmla="val 12495"/>
              </a:avLst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5" name=""/>
            <p:cNvGrpSpPr/>
            <p:nvPr/>
          </p:nvGrpSpPr>
          <p:grpSpPr>
            <a:xfrm>
              <a:off x="2356560" y="1856520"/>
              <a:ext cx="2465280" cy="2002320"/>
              <a:chOff x="2356560" y="1856520"/>
              <a:chExt cx="2465280" cy="2002320"/>
            </a:xfrm>
          </p:grpSpPr>
          <p:grpSp>
            <p:nvGrpSpPr>
              <p:cNvPr id="2136" name=""/>
              <p:cNvGrpSpPr/>
              <p:nvPr/>
            </p:nvGrpSpPr>
            <p:grpSpPr>
              <a:xfrm>
                <a:off x="2921760" y="2133000"/>
                <a:ext cx="940320" cy="536040"/>
                <a:chOff x="2921760" y="2133000"/>
                <a:chExt cx="940320" cy="536040"/>
              </a:xfrm>
            </p:grpSpPr>
            <p:pic>
              <p:nvPicPr>
                <p:cNvPr id="213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2921760" y="2133000"/>
                  <a:ext cx="378000" cy="450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138" name=""/>
                <p:cNvGrpSpPr/>
                <p:nvPr/>
              </p:nvGrpSpPr>
              <p:grpSpPr>
                <a:xfrm>
                  <a:off x="3353760" y="2133000"/>
                  <a:ext cx="508320" cy="536040"/>
                  <a:chOff x="3353760" y="2133000"/>
                  <a:chExt cx="508320" cy="536040"/>
                </a:xfrm>
              </p:grpSpPr>
              <p:sp>
                <p:nvSpPr>
                  <p:cNvPr id="2139" name=""/>
                  <p:cNvSpPr/>
                  <p:nvPr/>
                </p:nvSpPr>
                <p:spPr>
                  <a:xfrm>
                    <a:off x="3353760" y="2133000"/>
                    <a:ext cx="508320" cy="536040"/>
                  </a:xfrm>
                  <a:custGeom>
                    <a:avLst/>
                    <a:gdLst>
                      <a:gd name="textAreaLeft" fmla="*/ 18360 w 508320"/>
                      <a:gd name="textAreaRight" fmla="*/ 489960 w 508320"/>
                      <a:gd name="textAreaTop" fmla="*/ 18360 h 536040"/>
                      <a:gd name="textAreaBottom" fmla="*/ 517680 h 536040"/>
                    </a:gdLst>
                    <a:ahLst/>
                    <a:rect l="textAreaLeft" t="textAreaTop" r="textAreaRight" b="textAreaBottom"/>
                    <a:pathLst>
                      <a:path w="21600" h="22777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20078"/>
                        </a:lnTo>
                        <a:arcTo wR="2699" hR="2699" stAng="10800000" swAng="-5400000"/>
                        <a:lnTo>
                          <a:pt x="18901" y="22777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3376080" y="2162880"/>
                    <a:ext cx="461880" cy="14040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600" spc="-1" strike="noStrike">
                        <a:solidFill>
                          <a:srgbClr val="f6bf69"/>
                        </a:solidFill>
                        <a:latin typeface="Book Antiqua"/>
                      </a:rPr>
                      <a:t>Scheduler</a:t>
                    </a:r>
                    <a:endParaRPr b="0" lang="en-US" sz="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3376080" y="2376000"/>
                    <a:ext cx="461880" cy="26244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Master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42" name=""/>
              <p:cNvGrpSpPr/>
              <p:nvPr/>
            </p:nvGrpSpPr>
            <p:grpSpPr>
              <a:xfrm>
                <a:off x="4099680" y="2448720"/>
                <a:ext cx="722160" cy="1253160"/>
                <a:chOff x="4099680" y="2448720"/>
                <a:chExt cx="722160" cy="1253160"/>
              </a:xfrm>
            </p:grpSpPr>
            <p:grpSp>
              <p:nvGrpSpPr>
                <p:cNvPr id="2143" name=""/>
                <p:cNvGrpSpPr/>
                <p:nvPr/>
              </p:nvGrpSpPr>
              <p:grpSpPr>
                <a:xfrm>
                  <a:off x="4099680" y="3348360"/>
                  <a:ext cx="531000" cy="353520"/>
                  <a:chOff x="4099680" y="3348360"/>
                  <a:chExt cx="531000" cy="353520"/>
                </a:xfrm>
              </p:grpSpPr>
              <p:sp>
                <p:nvSpPr>
                  <p:cNvPr id="2144" name=""/>
                  <p:cNvSpPr/>
                  <p:nvPr/>
                </p:nvSpPr>
                <p:spPr>
                  <a:xfrm>
                    <a:off x="4099680" y="3348360"/>
                    <a:ext cx="531000" cy="35352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4123440" y="3378600"/>
                    <a:ext cx="484560" cy="2926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1900" spc="-1" strike="noStrike">
                        <a:solidFill>
                          <a:srgbClr val="f6bf69"/>
                        </a:solidFill>
                        <a:latin typeface="Book Antiqua"/>
                      </a:rPr>
                      <a:t> </a:t>
                    </a: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Executi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6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Daemon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6" name=""/>
                <p:cNvGrpSpPr/>
                <p:nvPr/>
              </p:nvGrpSpPr>
              <p:grpSpPr>
                <a:xfrm>
                  <a:off x="4189320" y="2448720"/>
                  <a:ext cx="632520" cy="924480"/>
                  <a:chOff x="4189320" y="2448720"/>
                  <a:chExt cx="632520" cy="924480"/>
                </a:xfrm>
              </p:grpSpPr>
              <p:pic>
                <p:nvPicPr>
                  <p:cNvPr id="214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53560" y="2448720"/>
                    <a:ext cx="27864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498200" y="2509200"/>
                    <a:ext cx="278640" cy="4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4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45000" y="2570040"/>
                    <a:ext cx="27684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0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189320" y="277164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234320" y="283248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2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4279320" y="2893680"/>
                    <a:ext cx="3506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5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324320" y="2954520"/>
                    <a:ext cx="35244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154" name=""/>
              <p:cNvGrpSpPr/>
              <p:nvPr/>
            </p:nvGrpSpPr>
            <p:grpSpPr>
              <a:xfrm>
                <a:off x="2356560" y="3196800"/>
                <a:ext cx="1273320" cy="662040"/>
                <a:chOff x="2356560" y="3196800"/>
                <a:chExt cx="1273320" cy="662040"/>
              </a:xfrm>
            </p:grpSpPr>
            <p:grpSp>
              <p:nvGrpSpPr>
                <p:cNvPr id="2155" name=""/>
                <p:cNvGrpSpPr/>
                <p:nvPr/>
              </p:nvGrpSpPr>
              <p:grpSpPr>
                <a:xfrm>
                  <a:off x="2764440" y="3196800"/>
                  <a:ext cx="865440" cy="662040"/>
                  <a:chOff x="2764440" y="3196800"/>
                  <a:chExt cx="865440" cy="662040"/>
                </a:xfrm>
              </p:grpSpPr>
              <p:sp>
                <p:nvSpPr>
                  <p:cNvPr id="2156" name=""/>
                  <p:cNvSpPr/>
                  <p:nvPr/>
                </p:nvSpPr>
                <p:spPr>
                  <a:xfrm>
                    <a:off x="2764440" y="3196800"/>
                    <a:ext cx="644760" cy="47520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ff5008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3640" rIns="5364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2786760" y="3227040"/>
                    <a:ext cx="600120" cy="32292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12600">
                    <a:solidFill>
                      <a:srgbClr val="f6bf6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Submit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Graphica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700" spc="-1" strike="noStrike">
                        <a:solidFill>
                          <a:srgbClr val="f6bf69"/>
                        </a:solidFill>
                        <a:latin typeface="Book Antiqua"/>
                      </a:rPr>
                      <a:t>Control</a:t>
                    </a:r>
                    <a:endParaRPr b="0" lang="en-US" sz="7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3170880" y="3650400"/>
                    <a:ext cx="459000" cy="208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4000" rIns="54000" tIns="27000" bIns="27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0" lang="en-US" sz="800" spc="-1" strike="noStrike">
                        <a:solidFill>
                          <a:srgbClr val="f6bf69"/>
                        </a:solidFill>
                        <a:latin typeface="Book Antiqua"/>
                      </a:rPr>
                      <a:t>Clients</a:t>
                    </a:r>
                    <a:endParaRPr b="0" lang="en-US" sz="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2356560" y="3198240"/>
                  <a:ext cx="487080" cy="600840"/>
                  <a:chOff x="2356560" y="3198240"/>
                  <a:chExt cx="487080" cy="600840"/>
                </a:xfrm>
              </p:grpSpPr>
              <p:pic>
                <p:nvPicPr>
                  <p:cNvPr id="2160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2356560" y="3198240"/>
                    <a:ext cx="35100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6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401200" y="3258720"/>
                    <a:ext cx="351000" cy="4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62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446200" y="3319560"/>
                    <a:ext cx="35100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16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492640" y="3380400"/>
                    <a:ext cx="351000" cy="41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164" name=""/>
              <p:cNvSpPr/>
              <p:nvPr/>
            </p:nvSpPr>
            <p:spPr>
              <a:xfrm>
                <a:off x="3234240" y="2005560"/>
                <a:ext cx="362520" cy="13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7"/>
                    </a:moveTo>
                    <a:arcTo wR="10800" hR="10800" stAng="-7449" swAng="54074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7"/>
                    </a:moveTo>
                    <a:arcTo wR="10800" hR="10800" stAng="-7449" swAng="5407449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42120" y="1856520"/>
                <a:ext cx="896400" cy="163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6" y="21600"/>
                    </a:moveTo>
                    <a:arcTo wR="10800" hR="10800" stAng="5388491" swAng="54175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6" y="21600"/>
                    </a:moveTo>
                    <a:arcTo wR="10800" hR="10800" stAng="5388491" swAng="5417567"/>
                  </a:path>
                </a:pathLst>
              </a:custGeom>
              <a:noFill/>
              <a:ln cap="rnd" w="12600">
                <a:solidFill>
                  <a:srgbClr val="f6bf69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66" name=""/>
            <p:cNvSpPr/>
            <p:nvPr/>
          </p:nvSpPr>
          <p:spPr>
            <a:xfrm>
              <a:off x="2333160" y="1779480"/>
              <a:ext cx="9529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Book Antiqua"/>
                </a:rPr>
                <a:t>Clu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7" name=""/>
            <p:cNvGrpSpPr/>
            <p:nvPr/>
          </p:nvGrpSpPr>
          <p:grpSpPr>
            <a:xfrm>
              <a:off x="2550960" y="3099960"/>
              <a:ext cx="4259520" cy="2311560"/>
              <a:chOff x="2550960" y="3099960"/>
              <a:chExt cx="4259520" cy="2311560"/>
            </a:xfrm>
          </p:grpSpPr>
          <p:grpSp>
            <p:nvGrpSpPr>
              <p:cNvPr id="2168" name=""/>
              <p:cNvGrpSpPr/>
              <p:nvPr/>
            </p:nvGrpSpPr>
            <p:grpSpPr>
              <a:xfrm>
                <a:off x="2550960" y="3099960"/>
                <a:ext cx="4259520" cy="2311560"/>
                <a:chOff x="2550960" y="3099960"/>
                <a:chExt cx="4259520" cy="231156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2550960" y="3723120"/>
                  <a:ext cx="3088800" cy="168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358" y="20997"/>
                      </a:moveTo>
                      <a:arcTo wR="10800" hR="10800" stAng="4246047" swAng="899056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358" y="20997"/>
                      </a:moveTo>
                      <a:arcTo wR="10800" hR="10800" stAng="4246047" swAng="8990567"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640" rIns="5364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888280" y="3099960"/>
                  <a:ext cx="3380760" cy="1460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14" y="17727"/>
                      </a:moveTo>
                      <a:arcTo wR="10800" hR="10800" stAng="8406357" swAng="108822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14" y="17727"/>
                      </a:moveTo>
                      <a:arcTo wR="10800" hR="10800" stAng="8406357" swAng="10882297"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640" rIns="5364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5317560" y="3362040"/>
                  <a:ext cx="1492920" cy="121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632" y="1317"/>
                      </a:moveTo>
                      <a:arcTo wR="10800" hR="10800" stAng="-7115289" swAng="113822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632" y="1317"/>
                      </a:moveTo>
                      <a:arcTo wR="10800" hR="10800" stAng="-7115289" swAng="11382231"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640" rIns="5364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457800" y="3466800"/>
                  <a:ext cx="2851920" cy="190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241" y="8037"/>
                      </a:moveTo>
                      <a:arcTo wR="10800" hR="10800" stAng="-889286" swAng="80098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241" y="8037"/>
                      </a:moveTo>
                      <a:arcTo wR="10800" hR="10800" stAng="-889286" swAng="8009805"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cap="rnd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640" rIns="5364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3" name=""/>
              <p:cNvSpPr/>
              <p:nvPr/>
            </p:nvSpPr>
            <p:spPr>
              <a:xfrm>
                <a:off x="3322080" y="3434760"/>
                <a:ext cx="2971080" cy="10753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779640" y="4362480"/>
                <a:ext cx="1154520" cy="746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640" rIns="53640" tIns="26640" bIns="26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5" name=""/>
            <p:cNvSpPr/>
            <p:nvPr/>
          </p:nvSpPr>
          <p:spPr>
            <a:xfrm rot="10800000">
              <a:off x="3565800" y="3669120"/>
              <a:ext cx="950040" cy="73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156"/>
                </a:path>
              </a:pathLst>
            </a:custGeom>
            <a:noFill/>
            <a:ln cap="rnd" w="50760">
              <a:solidFill>
                <a:srgbClr val="0fa9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13200000">
              <a:off x="3866040" y="4644000"/>
              <a:ext cx="2014200" cy="168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50760">
              <a:solidFill>
                <a:srgbClr val="0fa9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10800000">
              <a:off x="5000400" y="3599280"/>
              <a:ext cx="910080" cy="70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4" y="0"/>
                  </a:moveTo>
                  <a:arcTo wR="10800" hR="10800" stAng="-5411345" swAng="5411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4" y="0"/>
                  </a:moveTo>
                  <a:arcTo wR="10800" hR="10800" stAng="-5411345" swAng="5411345"/>
                </a:path>
              </a:pathLst>
            </a:custGeom>
            <a:noFill/>
            <a:ln cap="rnd" w="50760">
              <a:solidFill>
                <a:srgbClr val="0fa90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640" rIns="53640" tIns="26640" bIns="26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256360" y="2669040"/>
              <a:ext cx="1346400" cy="385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US" sz="1900" spc="-1" strike="noStrike">
                  <a:solidFill>
                    <a:srgbClr val="fc0128"/>
                  </a:solidFill>
                  <a:latin typeface="Book Antiqua"/>
                </a:rPr>
                <a:t>LAN/WAN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7000" y="74520"/>
            <a:ext cx="85420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Amazon.com: Online sales/trading killer E-commerce Porta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68400" y="13712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veral Thousands of I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34600" indent="-178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s, publishers, supp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illions of Customer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34600" indent="-178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s details, transactions details, support for transactions updat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Millions) of Partn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34600" indent="-178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track of partners details, tracking referral link to partner and sales and pay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ales based on advertised pri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22840" indent="-222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ales through auction/bid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34600" indent="-178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chanism for participating in the bid (buyers/sellers define rules of the ga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amzn-buy" descr=""/>
          <p:cNvPicPr/>
          <p:nvPr/>
        </p:nvPicPr>
        <p:blipFill>
          <a:blip r:embed="rId1"/>
          <a:stretch/>
        </p:blipFill>
        <p:spPr>
          <a:xfrm>
            <a:off x="7551720" y="1339920"/>
            <a:ext cx="124956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gustomap98" descr=""/>
          <p:cNvPicPr/>
          <p:nvPr/>
        </p:nvPicPr>
        <p:blipFill>
          <a:blip r:embed="rId1"/>
          <a:stretch/>
        </p:blipFill>
        <p:spPr>
          <a:xfrm>
            <a:off x="0" y="2313000"/>
            <a:ext cx="9144000" cy="3395520"/>
          </a:xfrm>
          <a:prstGeom prst="rect">
            <a:avLst/>
          </a:prstGeom>
          <a:ln w="0">
            <a:noFill/>
          </a:ln>
        </p:spPr>
      </p:pic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owards Grid Computing…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517680" y="4838760"/>
            <a:ext cx="449280" cy="350280"/>
            <a:chOff x="517680" y="4838760"/>
            <a:chExt cx="449280" cy="350280"/>
          </a:xfrm>
        </p:grpSpPr>
        <p:sp>
          <p:nvSpPr>
            <p:cNvPr id="2182" name=""/>
            <p:cNvSpPr/>
            <p:nvPr/>
          </p:nvSpPr>
          <p:spPr>
            <a:xfrm>
              <a:off x="517680" y="5093280"/>
              <a:ext cx="449280" cy="95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22440" y="4838760"/>
              <a:ext cx="253080" cy="2484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37920" y="4858560"/>
              <a:ext cx="216000" cy="208080"/>
            </a:xfrm>
            <a:prstGeom prst="roundRect">
              <a:avLst>
                <a:gd name="adj" fmla="val 12486"/>
              </a:avLst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85" name="convex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593640" cy="963720"/>
          </a:xfrm>
          <a:prstGeom prst="rect">
            <a:avLst/>
          </a:prstGeom>
          <a:ln w="0">
            <a:noFill/>
          </a:ln>
        </p:spPr>
      </p:pic>
      <p:pic>
        <p:nvPicPr>
          <p:cNvPr id="2186" name="OriginRack" descr=""/>
          <p:cNvPicPr/>
          <p:nvPr/>
        </p:nvPicPr>
        <p:blipFill>
          <a:blip r:embed="rId3"/>
          <a:stretch/>
        </p:blipFill>
        <p:spPr>
          <a:xfrm>
            <a:off x="5108400" y="3484440"/>
            <a:ext cx="600120" cy="1113120"/>
          </a:xfrm>
          <a:prstGeom prst="rect">
            <a:avLst/>
          </a:prstGeom>
          <a:ln w="0">
            <a:noFill/>
          </a:ln>
        </p:spPr>
      </p:pic>
      <p:pic>
        <p:nvPicPr>
          <p:cNvPr id="2187" name="Sp-cropped" descr=""/>
          <p:cNvPicPr/>
          <p:nvPr/>
        </p:nvPicPr>
        <p:blipFill>
          <a:blip r:embed="rId4"/>
          <a:stretch/>
        </p:blipFill>
        <p:spPr>
          <a:xfrm>
            <a:off x="3627360" y="266868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2188" name="Sp-cropped" descr=""/>
          <p:cNvPicPr/>
          <p:nvPr/>
        </p:nvPicPr>
        <p:blipFill>
          <a:blip r:embed="rId5"/>
          <a:stretch/>
        </p:blipFill>
        <p:spPr>
          <a:xfrm>
            <a:off x="1036800" y="3632040"/>
            <a:ext cx="871200" cy="1260720"/>
          </a:xfrm>
          <a:prstGeom prst="rect">
            <a:avLst/>
          </a:prstGeom>
          <a:ln w="0">
            <a:noFill/>
          </a:ln>
        </p:spPr>
      </p:pic>
      <p:pic>
        <p:nvPicPr>
          <p:cNvPr id="2189" name="OriginRack" descr=""/>
          <p:cNvPicPr/>
          <p:nvPr/>
        </p:nvPicPr>
        <p:blipFill>
          <a:blip r:embed="rId6"/>
          <a:stretch/>
        </p:blipFill>
        <p:spPr>
          <a:xfrm>
            <a:off x="7773840" y="3632040"/>
            <a:ext cx="797040" cy="1474920"/>
          </a:xfrm>
          <a:prstGeom prst="rect">
            <a:avLst/>
          </a:prstGeom>
          <a:ln w="0">
            <a:noFill/>
          </a:ln>
        </p:spPr>
      </p:pic>
      <p:pic>
        <p:nvPicPr>
          <p:cNvPr id="2190" name="Sp-cropped" descr=""/>
          <p:cNvPicPr/>
          <p:nvPr/>
        </p:nvPicPr>
        <p:blipFill>
          <a:blip r:embed="rId7"/>
          <a:stretch/>
        </p:blipFill>
        <p:spPr>
          <a:xfrm>
            <a:off x="8272440" y="4003560"/>
            <a:ext cx="871560" cy="1260720"/>
          </a:xfrm>
          <a:prstGeom prst="rect">
            <a:avLst/>
          </a:prstGeom>
          <a:ln w="0">
            <a:noFill/>
          </a:ln>
        </p:spPr>
      </p:pic>
      <p:pic>
        <p:nvPicPr>
          <p:cNvPr id="2191" name="OriginRack" descr=""/>
          <p:cNvPicPr/>
          <p:nvPr/>
        </p:nvPicPr>
        <p:blipFill>
          <a:blip r:embed="rId8"/>
          <a:stretch/>
        </p:blipFill>
        <p:spPr>
          <a:xfrm>
            <a:off x="814320" y="1779480"/>
            <a:ext cx="600120" cy="1111320"/>
          </a:xfrm>
          <a:prstGeom prst="rect">
            <a:avLst/>
          </a:prstGeom>
          <a:ln w="0">
            <a:noFill/>
          </a:ln>
        </p:spPr>
      </p:pic>
      <p:pic>
        <p:nvPicPr>
          <p:cNvPr id="2192" name="Sp-cropped" descr=""/>
          <p:cNvPicPr/>
          <p:nvPr/>
        </p:nvPicPr>
        <p:blipFill>
          <a:blip r:embed="rId9"/>
          <a:stretch/>
        </p:blipFill>
        <p:spPr>
          <a:xfrm>
            <a:off x="1111320" y="1927080"/>
            <a:ext cx="871560" cy="1260720"/>
          </a:xfrm>
          <a:prstGeom prst="rect">
            <a:avLst/>
          </a:prstGeom>
          <a:ln w="0">
            <a:noFill/>
          </a:ln>
        </p:spPr>
      </p:pic>
      <p:sp>
        <p:nvSpPr>
          <p:cNvPr id="2193" name=""/>
          <p:cNvSpPr/>
          <p:nvPr/>
        </p:nvSpPr>
        <p:spPr>
          <a:xfrm>
            <a:off x="83880" y="6508800"/>
            <a:ext cx="8116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or illustration, placed resources arbitrarily on the GUSTO test-bed!!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51280" y="3508200"/>
            <a:ext cx="371520" cy="50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299200" y="4299120"/>
            <a:ext cx="14292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5001840" y="4299120"/>
            <a:ext cx="14292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7" name="" descr=""/>
          <p:cNvPicPr/>
          <p:nvPr/>
        </p:nvPicPr>
        <p:blipFill>
          <a:blip r:embed="rId10"/>
          <a:stretch/>
        </p:blipFill>
        <p:spPr>
          <a:xfrm>
            <a:off x="480852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2198" name="" descr=""/>
          <p:cNvPicPr/>
          <p:nvPr/>
        </p:nvPicPr>
        <p:blipFill>
          <a:blip r:embed="rId11"/>
          <a:stretch/>
        </p:blipFill>
        <p:spPr>
          <a:xfrm>
            <a:off x="498960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2199" name="" descr=""/>
          <p:cNvPicPr/>
          <p:nvPr/>
        </p:nvPicPr>
        <p:blipFill>
          <a:blip r:embed="rId12"/>
          <a:stretch/>
        </p:blipFill>
        <p:spPr>
          <a:xfrm>
            <a:off x="5256360" y="4522680"/>
            <a:ext cx="384120" cy="555840"/>
          </a:xfrm>
          <a:prstGeom prst="rect">
            <a:avLst/>
          </a:prstGeom>
          <a:ln w="0">
            <a:noFill/>
          </a:ln>
        </p:spPr>
      </p:pic>
      <p:pic>
        <p:nvPicPr>
          <p:cNvPr id="2200" name="" descr=""/>
          <p:cNvPicPr/>
          <p:nvPr/>
        </p:nvPicPr>
        <p:blipFill>
          <a:blip r:embed="rId13"/>
          <a:stretch/>
        </p:blipFill>
        <p:spPr>
          <a:xfrm>
            <a:off x="1998720" y="3781440"/>
            <a:ext cx="1425600" cy="1154160"/>
          </a:xfrm>
          <a:prstGeom prst="rect">
            <a:avLst/>
          </a:prstGeom>
          <a:ln w="0">
            <a:noFill/>
          </a:ln>
        </p:spPr>
      </p:pic>
      <p:pic>
        <p:nvPicPr>
          <p:cNvPr id="2201" name="" descr=""/>
          <p:cNvPicPr/>
          <p:nvPr/>
        </p:nvPicPr>
        <p:blipFill>
          <a:blip r:embed="rId14"/>
          <a:stretch/>
        </p:blipFill>
        <p:spPr>
          <a:xfrm>
            <a:off x="5033880" y="1630440"/>
            <a:ext cx="17780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Grid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7000" y="1560600"/>
            <a:ext cx="777384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 infrastructure that coupl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omputers (PCs, workstations, clusters, traditional supercomputers, and even laptops, notebooks, mobile computers, PDA, and so on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oftware ? (e.g., renting expensive special purpose applications on demand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Databases (e.g., transparent access to human genome database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pecial Instruments (e.g., radio telescope--SETI@Home Searching for Life in galaxy, Austrophysics@Swinburne for pulsars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People (may be even animals who knows ?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cross the local/wide-area networks (enterprise, organisations, or Internet) and presents them as an unified integrated (single) resource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2204" name="radiotelescope" descr=""/>
          <p:cNvPicPr/>
          <p:nvPr/>
        </p:nvPicPr>
        <p:blipFill>
          <a:blip r:embed="rId1"/>
          <a:stretch/>
        </p:blipFill>
        <p:spPr>
          <a:xfrm>
            <a:off x="7921800" y="4300560"/>
            <a:ext cx="1110960" cy="1111320"/>
          </a:xfrm>
          <a:prstGeom prst="rect">
            <a:avLst/>
          </a:prstGeom>
          <a:ln w="0">
            <a:noFill/>
          </a:ln>
        </p:spPr>
      </p:pic>
      <p:pic>
        <p:nvPicPr>
          <p:cNvPr id="2205" name="OriginRack" descr=""/>
          <p:cNvPicPr/>
          <p:nvPr/>
        </p:nvPicPr>
        <p:blipFill>
          <a:blip r:embed="rId2"/>
          <a:stretch/>
        </p:blipFill>
        <p:spPr>
          <a:xfrm>
            <a:off x="7921800" y="1335240"/>
            <a:ext cx="599760" cy="1110960"/>
          </a:xfrm>
          <a:prstGeom prst="rect">
            <a:avLst/>
          </a:prstGeom>
          <a:ln w="0">
            <a:noFill/>
          </a:ln>
        </p:spPr>
      </p:pic>
      <p:pic>
        <p:nvPicPr>
          <p:cNvPr id="2206" name="Sp-cropped" descr=""/>
          <p:cNvPicPr/>
          <p:nvPr/>
        </p:nvPicPr>
        <p:blipFill>
          <a:blip r:embed="rId3"/>
          <a:stretch/>
        </p:blipFill>
        <p:spPr>
          <a:xfrm>
            <a:off x="8366040" y="133524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2207" name="" descr=""/>
          <p:cNvPicPr/>
          <p:nvPr/>
        </p:nvPicPr>
        <p:blipFill>
          <a:blip r:embed="rId4"/>
          <a:stretch/>
        </p:blipFill>
        <p:spPr>
          <a:xfrm>
            <a:off x="7996320" y="5486400"/>
            <a:ext cx="876240" cy="888840"/>
          </a:xfrm>
          <a:prstGeom prst="rect">
            <a:avLst/>
          </a:prstGeom>
          <a:ln w="0">
            <a:noFill/>
          </a:ln>
        </p:spPr>
      </p:pic>
      <p:pic>
        <p:nvPicPr>
          <p:cNvPr id="2208" name="" descr=""/>
          <p:cNvPicPr/>
          <p:nvPr/>
        </p:nvPicPr>
        <p:blipFill>
          <a:blip r:embed="rId5"/>
          <a:stretch/>
        </p:blipFill>
        <p:spPr>
          <a:xfrm>
            <a:off x="7270920" y="5937120"/>
            <a:ext cx="1110960" cy="920880"/>
          </a:xfrm>
          <a:prstGeom prst="rect">
            <a:avLst/>
          </a:prstGeom>
          <a:ln w="0">
            <a:noFill/>
          </a:ln>
        </p:spPr>
      </p:pic>
      <p:pic>
        <p:nvPicPr>
          <p:cNvPr id="2209" name="HumanGenome" descr=""/>
          <p:cNvPicPr/>
          <p:nvPr/>
        </p:nvPicPr>
        <p:blipFill>
          <a:blip r:embed="rId6"/>
          <a:stretch/>
        </p:blipFill>
        <p:spPr>
          <a:xfrm>
            <a:off x="7996320" y="3187800"/>
            <a:ext cx="1009440" cy="1047600"/>
          </a:xfrm>
          <a:prstGeom prst="rect">
            <a:avLst/>
          </a:prstGeom>
          <a:ln w="0">
            <a:noFill/>
          </a:ln>
        </p:spPr>
      </p:pic>
      <p:grpSp>
        <p:nvGrpSpPr>
          <p:cNvPr id="2210" name=""/>
          <p:cNvGrpSpPr/>
          <p:nvPr/>
        </p:nvGrpSpPr>
        <p:grpSpPr>
          <a:xfrm>
            <a:off x="7996320" y="2446200"/>
            <a:ext cx="666720" cy="668520"/>
            <a:chOff x="7996320" y="2446200"/>
            <a:chExt cx="666720" cy="668520"/>
          </a:xfrm>
        </p:grpSpPr>
        <p:sp>
          <p:nvSpPr>
            <p:cNvPr id="2211" name=""/>
            <p:cNvSpPr/>
            <p:nvPr/>
          </p:nvSpPr>
          <p:spPr>
            <a:xfrm>
              <a:off x="7996320" y="2446200"/>
              <a:ext cx="666720" cy="66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12" name="disksoftware" descr=""/>
            <p:cNvPicPr/>
            <p:nvPr/>
          </p:nvPicPr>
          <p:blipFill>
            <a:blip r:embed="rId7"/>
            <a:stretch/>
          </p:blipFill>
          <p:spPr>
            <a:xfrm>
              <a:off x="8070480" y="2520360"/>
              <a:ext cx="518040" cy="519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13" name=""/>
          <p:cNvGraphicFramePr/>
          <p:nvPr/>
        </p:nvGraphicFramePr>
        <p:xfrm>
          <a:off x="7404120" y="1407960"/>
          <a:ext cx="514440" cy="668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404120" y="1407960"/>
                    <a:ext cx="5144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5" name=""/>
          <p:cNvGraphicFramePr/>
          <p:nvPr/>
        </p:nvGraphicFramePr>
        <p:xfrm>
          <a:off x="7404120" y="519120"/>
          <a:ext cx="961920" cy="81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04120" y="519120"/>
                    <a:ext cx="9619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7" name=""/>
          <p:cNvGraphicFramePr/>
          <p:nvPr/>
        </p:nvGraphicFramePr>
        <p:xfrm>
          <a:off x="8394840" y="554040"/>
          <a:ext cx="749160" cy="781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394840" y="554040"/>
                    <a:ext cx="7491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9" name=""/>
          <p:cNvGraphicFramePr/>
          <p:nvPr/>
        </p:nvGraphicFramePr>
        <p:xfrm>
          <a:off x="7477200" y="5114880"/>
          <a:ext cx="398520" cy="446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77200" y="5114880"/>
                    <a:ext cx="3985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47240" y="371160"/>
            <a:ext cx="862668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nceptual view of the Gri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22" name=""/>
          <p:cNvSpPr/>
          <p:nvPr/>
        </p:nvSpPr>
        <p:spPr>
          <a:xfrm>
            <a:off x="6418440" y="4206960"/>
            <a:ext cx="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446880" y="4206960"/>
            <a:ext cx="46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334200" y="4156200"/>
            <a:ext cx="32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172200" y="4089240"/>
            <a:ext cx="14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65720" y="404496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165720" y="406728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8" name=""/>
          <p:cNvGrpSpPr/>
          <p:nvPr/>
        </p:nvGrpSpPr>
        <p:grpSpPr>
          <a:xfrm>
            <a:off x="2073240" y="1482840"/>
            <a:ext cx="4516560" cy="2890800"/>
            <a:chOff x="2073240" y="1482840"/>
            <a:chExt cx="4516560" cy="2890800"/>
          </a:xfrm>
        </p:grpSpPr>
        <p:grpSp>
          <p:nvGrpSpPr>
            <p:cNvPr id="2229" name=""/>
            <p:cNvGrpSpPr/>
            <p:nvPr/>
          </p:nvGrpSpPr>
          <p:grpSpPr>
            <a:xfrm>
              <a:off x="2073240" y="1482840"/>
              <a:ext cx="4516560" cy="2890800"/>
              <a:chOff x="2073240" y="1482840"/>
              <a:chExt cx="4516560" cy="2890800"/>
            </a:xfrm>
          </p:grpSpPr>
          <p:sp>
            <p:nvSpPr>
              <p:cNvPr id="2230" name=""/>
              <p:cNvSpPr/>
              <p:nvPr/>
            </p:nvSpPr>
            <p:spPr>
              <a:xfrm>
                <a:off x="2073240" y="1482840"/>
                <a:ext cx="4516560" cy="2890800"/>
              </a:xfrm>
              <a:prstGeom prst="rect">
                <a:avLst/>
              </a:prstGeom>
              <a:solidFill>
                <a:srgbClr val="ffffff"/>
              </a:solidFill>
              <a:ln cap="sq"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31" name=""/>
              <p:cNvGrpSpPr/>
              <p:nvPr/>
            </p:nvGrpSpPr>
            <p:grpSpPr>
              <a:xfrm>
                <a:off x="2221200" y="1778760"/>
                <a:ext cx="4251960" cy="2379240"/>
                <a:chOff x="2221200" y="1778760"/>
                <a:chExt cx="4251960" cy="2379240"/>
              </a:xfrm>
            </p:grpSpPr>
            <p:sp>
              <p:nvSpPr>
                <p:cNvPr id="2232" name=""/>
                <p:cNvSpPr/>
                <p:nvPr/>
              </p:nvSpPr>
              <p:spPr>
                <a:xfrm>
                  <a:off x="6195600" y="3135960"/>
                  <a:ext cx="9000" cy="1044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5820840" y="313308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5799240" y="303264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5461560" y="3134520"/>
                  <a:ext cx="9000" cy="1033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5412240" y="3031200"/>
                  <a:ext cx="10800" cy="10296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5842440" y="2992320"/>
                  <a:ext cx="262080" cy="792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5371920" y="3129840"/>
                  <a:ext cx="949680" cy="1080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5367600" y="3319560"/>
                  <a:ext cx="21240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5486040" y="3332160"/>
                  <a:ext cx="7272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53596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6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69" y="66"/>
                      </a:lnTo>
                      <a:lnTo>
                        <a:pt x="369" y="66"/>
                      </a:lnTo>
                      <a:lnTo>
                        <a:pt x="4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537192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5530680" y="336456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5396760" y="3191400"/>
                  <a:ext cx="15552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5407200" y="3202200"/>
                  <a:ext cx="1342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5519880" y="3202200"/>
                  <a:ext cx="201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5526360" y="3208680"/>
                  <a:ext cx="90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5526360" y="3254760"/>
                  <a:ext cx="7560" cy="756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5526360" y="3273480"/>
                  <a:ext cx="7560" cy="936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5526360" y="329040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5709960" y="2976840"/>
                  <a:ext cx="184680" cy="63360"/>
                </a:xfrm>
                <a:prstGeom prst="rect">
                  <a:avLst/>
                </a:prstGeom>
                <a:solidFill>
                  <a:srgbClr val="c0c0c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5711400" y="3021480"/>
                  <a:ext cx="182160" cy="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583452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5860800" y="3024720"/>
                  <a:ext cx="4320" cy="16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6084360" y="2975400"/>
                  <a:ext cx="212760" cy="644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6107400" y="3017160"/>
                  <a:ext cx="169920" cy="230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6078600" y="2908800"/>
                  <a:ext cx="231120" cy="66240"/>
                </a:xfrm>
                <a:custGeom>
                  <a:avLst/>
                  <a:gdLst/>
                  <a:ahLst/>
                  <a:rect l="l" t="t" r="r" b="b"/>
                  <a:pathLst>
                    <a:path w="375" h="108">
                      <a:moveTo>
                        <a:pt x="0" y="88"/>
                      </a:moveTo>
                      <a:lnTo>
                        <a:pt x="13" y="108"/>
                      </a:lnTo>
                      <a:lnTo>
                        <a:pt x="352" y="108"/>
                      </a:lnTo>
                      <a:lnTo>
                        <a:pt x="375" y="88"/>
                      </a:lnTo>
                      <a:lnTo>
                        <a:pt x="375" y="0"/>
                      </a:lnTo>
                      <a:lnTo>
                        <a:pt x="0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6072120" y="3009240"/>
                  <a:ext cx="15120" cy="12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6078600" y="2921400"/>
                  <a:ext cx="234000" cy="0"/>
                </a:xfrm>
                <a:prstGeom prst="line">
                  <a:avLst/>
                </a:prstGeom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6135480" y="2904480"/>
                  <a:ext cx="169560" cy="6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6295680" y="2986200"/>
                  <a:ext cx="44640" cy="23040"/>
                </a:xfrm>
                <a:custGeom>
                  <a:avLst/>
                  <a:gdLst/>
                  <a:ahLst/>
                  <a:rect l="l" t="t" r="r" b="b"/>
                  <a:pathLst>
                    <a:path w="73" h="36">
                      <a:moveTo>
                        <a:pt x="0" y="19"/>
                      </a:moveTo>
                      <a:lnTo>
                        <a:pt x="73" y="0"/>
                      </a:lnTo>
                      <a:lnTo>
                        <a:pt x="73" y="13"/>
                      </a:lnTo>
                      <a:lnTo>
                        <a:pt x="0" y="36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6096960" y="2930400"/>
                  <a:ext cx="15120" cy="151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6098400" y="2929320"/>
                  <a:ext cx="12240" cy="151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20" y="4"/>
                      </a:moveTo>
                      <a:lnTo>
                        <a:pt x="3" y="4"/>
                      </a:lnTo>
                      <a:lnTo>
                        <a:pt x="3" y="24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V="1">
                  <a:off x="5461560" y="2966040"/>
                  <a:ext cx="2304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484600" y="296640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5489280" y="2966400"/>
                  <a:ext cx="4320" cy="4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493600" y="2970720"/>
                  <a:ext cx="6120" cy="133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5500080" y="2984400"/>
                  <a:ext cx="2880" cy="612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5502960" y="2990880"/>
                  <a:ext cx="288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5506200" y="2992320"/>
                  <a:ext cx="2880" cy="144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5509440" y="2994120"/>
                  <a:ext cx="4320" cy="10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5514120" y="2994120"/>
                  <a:ext cx="10800" cy="2880"/>
                </a:xfrm>
                <a:prstGeom prst="line">
                  <a:avLst/>
                </a:prstGeom>
                <a:ln w="4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5290200" y="3000240"/>
                  <a:ext cx="229680" cy="42840"/>
                </a:xfrm>
                <a:custGeom>
                  <a:avLst/>
                  <a:gdLst/>
                  <a:ahLst/>
                  <a:rect l="l" t="t" r="r" b="b"/>
                  <a:pathLst>
                    <a:path w="372" h="69">
                      <a:moveTo>
                        <a:pt x="47" y="0"/>
                      </a:moveTo>
                      <a:lnTo>
                        <a:pt x="326" y="0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369" y="69"/>
                      </a:lnTo>
                      <a:lnTo>
                        <a:pt x="7" y="69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5301000" y="300924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5459760" y="3009240"/>
                  <a:ext cx="43200" cy="2592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2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5339520" y="2898000"/>
                  <a:ext cx="126360" cy="99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5357880" y="2912040"/>
                  <a:ext cx="89280" cy="6948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5436720" y="2986200"/>
                  <a:ext cx="12240" cy="5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5518440" y="2835000"/>
                  <a:ext cx="66240" cy="19728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5537160" y="2850480"/>
                  <a:ext cx="36720" cy="583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540040" y="2865960"/>
                  <a:ext cx="12240" cy="27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544720" y="2851920"/>
                  <a:ext cx="2880" cy="56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723640" y="3319560"/>
                  <a:ext cx="2127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841000" y="3332160"/>
                  <a:ext cx="7344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14280" y="3356640"/>
                  <a:ext cx="229680" cy="39960"/>
                </a:xfrm>
                <a:custGeom>
                  <a:avLst/>
                  <a:gdLst/>
                  <a:ahLst/>
                  <a:rect l="l" t="t" r="r" b="b"/>
                  <a:pathLst>
                    <a:path w="372" h="66">
                      <a:moveTo>
                        <a:pt x="46" y="0"/>
                      </a:moveTo>
                      <a:lnTo>
                        <a:pt x="329" y="0"/>
                      </a:lnTo>
                      <a:lnTo>
                        <a:pt x="372" y="59"/>
                      </a:lnTo>
                      <a:lnTo>
                        <a:pt x="372" y="62"/>
                      </a:lnTo>
                      <a:lnTo>
                        <a:pt x="372" y="66"/>
                      </a:lnTo>
                      <a:lnTo>
                        <a:pt x="369" y="66"/>
                      </a:lnTo>
                      <a:lnTo>
                        <a:pt x="7" y="66"/>
                      </a:lnTo>
                      <a:lnTo>
                        <a:pt x="3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726520" y="3364560"/>
                  <a:ext cx="154080" cy="25920"/>
                </a:xfrm>
                <a:custGeom>
                  <a:avLst/>
                  <a:gdLst/>
                  <a:ahLst/>
                  <a:rect l="l" t="t" r="r" b="b"/>
                  <a:pathLst>
                    <a:path w="250" h="43">
                      <a:moveTo>
                        <a:pt x="36" y="0"/>
                      </a:moveTo>
                      <a:lnTo>
                        <a:pt x="237" y="0"/>
                      </a:lnTo>
                      <a:lnTo>
                        <a:pt x="250" y="43"/>
                      </a:lnTo>
                      <a:lnTo>
                        <a:pt x="0" y="43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88528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2" y="0"/>
                      </a:lnTo>
                      <a:lnTo>
                        <a:pt x="75" y="43"/>
                      </a:lnTo>
                      <a:lnTo>
                        <a:pt x="13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754600" y="3191400"/>
                  <a:ext cx="15228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763600" y="3202200"/>
                  <a:ext cx="13248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877720" y="3202200"/>
                  <a:ext cx="1836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882760" y="3208680"/>
                  <a:ext cx="756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880960" y="3254760"/>
                  <a:ext cx="10800" cy="756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880960" y="327348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880960" y="3290400"/>
                  <a:ext cx="10800" cy="1044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0" y="4"/>
                      </a:move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6096960" y="3319560"/>
                  <a:ext cx="209160" cy="6624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6212520" y="3332160"/>
                  <a:ext cx="73800" cy="28800"/>
                </a:xfrm>
                <a:prstGeom prst="rect">
                  <a:avLst/>
                </a:prstGeom>
                <a:solidFill>
                  <a:srgbClr val="808080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6089400" y="3356640"/>
                  <a:ext cx="227880" cy="39960"/>
                </a:xfrm>
                <a:custGeom>
                  <a:avLst/>
                  <a:gdLst/>
                  <a:ahLst/>
                  <a:rect l="l" t="t" r="r" b="b"/>
                  <a:pathLst>
                    <a:path w="371" h="66">
                      <a:moveTo>
                        <a:pt x="46" y="0"/>
                      </a:moveTo>
                      <a:lnTo>
                        <a:pt x="325" y="0"/>
                      </a:lnTo>
                      <a:lnTo>
                        <a:pt x="371" y="59"/>
                      </a:lnTo>
                      <a:lnTo>
                        <a:pt x="371" y="62"/>
                      </a:lnTo>
                      <a:lnTo>
                        <a:pt x="368" y="66"/>
                      </a:lnTo>
                      <a:lnTo>
                        <a:pt x="365" y="66"/>
                      </a:lnTo>
                      <a:lnTo>
                        <a:pt x="3" y="66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0" y="5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6099840" y="3364560"/>
                  <a:ext cx="152640" cy="25920"/>
                </a:xfrm>
                <a:custGeom>
                  <a:avLst/>
                  <a:gdLst/>
                  <a:ahLst/>
                  <a:rect l="l" t="t" r="r" b="b"/>
                  <a:pathLst>
                    <a:path w="247" h="43">
                      <a:moveTo>
                        <a:pt x="33" y="0"/>
                      </a:moveTo>
                      <a:lnTo>
                        <a:pt x="237" y="0"/>
                      </a:lnTo>
                      <a:lnTo>
                        <a:pt x="247" y="43"/>
                      </a:lnTo>
                      <a:lnTo>
                        <a:pt x="0" y="4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6257160" y="3364560"/>
                  <a:ext cx="46440" cy="25920"/>
                </a:xfrm>
                <a:custGeom>
                  <a:avLst/>
                  <a:gdLst/>
                  <a:ahLst/>
                  <a:rect l="l" t="t" r="r" b="b"/>
                  <a:pathLst>
                    <a:path w="75" h="43">
                      <a:moveTo>
                        <a:pt x="0" y="0"/>
                      </a:moveTo>
                      <a:lnTo>
                        <a:pt x="46" y="0"/>
                      </a:lnTo>
                      <a:lnTo>
                        <a:pt x="75" y="43"/>
                      </a:lnTo>
                      <a:lnTo>
                        <a:pt x="16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8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6126120" y="3191400"/>
                  <a:ext cx="152640" cy="12672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6135480" y="3202200"/>
                  <a:ext cx="135360" cy="108000"/>
                </a:xfrm>
                <a:prstGeom prst="rect">
                  <a:avLst/>
                </a:prstGeom>
                <a:solidFill>
                  <a:srgbClr val="114ffb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6249600" y="3202200"/>
                  <a:ext cx="19800" cy="10800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6253920" y="3208680"/>
                  <a:ext cx="10800" cy="7560"/>
                </a:xfrm>
                <a:prstGeom prst="rect">
                  <a:avLst/>
                </a:prstGeom>
                <a:solidFill>
                  <a:srgbClr val="ffffff"/>
                </a:solidFill>
                <a:ln w="18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6253920" y="3254760"/>
                  <a:ext cx="9360" cy="756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4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6253920" y="3273480"/>
                  <a:ext cx="9360" cy="93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4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3"/>
                      </a:lnTo>
                      <a:lnTo>
                        <a:pt x="4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6253920" y="3290400"/>
                  <a:ext cx="9360" cy="104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7" y="4"/>
                      </a:move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0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10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2316" name="" descr=""/>
                <p:cNvPicPr/>
                <p:nvPr/>
              </p:nvPicPr>
              <p:blipFill>
                <a:blip r:embed="rId1"/>
                <a:srcRect l="0" t="0" r="477" b="0"/>
                <a:stretch/>
              </p:blipFill>
              <p:spPr>
                <a:xfrm>
                  <a:off x="2221200" y="2882520"/>
                  <a:ext cx="1208880" cy="87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54280" y="1778760"/>
                  <a:ext cx="687960" cy="86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16480" y="3405960"/>
                  <a:ext cx="769680" cy="75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02840" y="3312000"/>
                  <a:ext cx="462600" cy="838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20" name=""/>
                <p:cNvGrpSpPr/>
                <p:nvPr/>
              </p:nvGrpSpPr>
              <p:grpSpPr>
                <a:xfrm>
                  <a:off x="3325320" y="2005920"/>
                  <a:ext cx="1990800" cy="1533240"/>
                  <a:chOff x="3325320" y="2005920"/>
                  <a:chExt cx="1990800" cy="1533240"/>
                </a:xfrm>
              </p:grpSpPr>
              <p:sp>
                <p:nvSpPr>
                  <p:cNvPr id="2321" name=""/>
                  <p:cNvSpPr/>
                  <p:nvPr/>
                </p:nvSpPr>
                <p:spPr>
                  <a:xfrm>
                    <a:off x="3325320" y="2005920"/>
                    <a:ext cx="1985400" cy="153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20" h="2483">
                        <a:moveTo>
                          <a:pt x="2490" y="214"/>
                        </a:moveTo>
                        <a:lnTo>
                          <a:pt x="2500" y="204"/>
                        </a:lnTo>
                        <a:lnTo>
                          <a:pt x="2510" y="195"/>
                        </a:lnTo>
                        <a:lnTo>
                          <a:pt x="2519" y="195"/>
                        </a:lnTo>
                        <a:lnTo>
                          <a:pt x="2529" y="185"/>
                        </a:lnTo>
                        <a:lnTo>
                          <a:pt x="2539" y="185"/>
                        </a:lnTo>
                        <a:lnTo>
                          <a:pt x="2549" y="185"/>
                        </a:lnTo>
                        <a:lnTo>
                          <a:pt x="2568" y="185"/>
                        </a:lnTo>
                        <a:lnTo>
                          <a:pt x="2578" y="185"/>
                        </a:lnTo>
                        <a:lnTo>
                          <a:pt x="2587" y="185"/>
                        </a:lnTo>
                        <a:lnTo>
                          <a:pt x="2597" y="195"/>
                        </a:lnTo>
                        <a:lnTo>
                          <a:pt x="2607" y="195"/>
                        </a:lnTo>
                        <a:lnTo>
                          <a:pt x="2617" y="195"/>
                        </a:lnTo>
                        <a:lnTo>
                          <a:pt x="2626" y="195"/>
                        </a:lnTo>
                        <a:lnTo>
                          <a:pt x="2636" y="204"/>
                        </a:lnTo>
                        <a:lnTo>
                          <a:pt x="2665" y="204"/>
                        </a:lnTo>
                        <a:lnTo>
                          <a:pt x="2665" y="195"/>
                        </a:lnTo>
                        <a:lnTo>
                          <a:pt x="2675" y="195"/>
                        </a:lnTo>
                        <a:lnTo>
                          <a:pt x="2685" y="185"/>
                        </a:lnTo>
                        <a:lnTo>
                          <a:pt x="2685" y="175"/>
                        </a:lnTo>
                        <a:lnTo>
                          <a:pt x="2694" y="175"/>
                        </a:lnTo>
                        <a:lnTo>
                          <a:pt x="2694" y="166"/>
                        </a:lnTo>
                        <a:lnTo>
                          <a:pt x="2704" y="175"/>
                        </a:lnTo>
                        <a:lnTo>
                          <a:pt x="2724" y="175"/>
                        </a:lnTo>
                        <a:lnTo>
                          <a:pt x="2733" y="175"/>
                        </a:lnTo>
                        <a:lnTo>
                          <a:pt x="2762" y="175"/>
                        </a:lnTo>
                        <a:lnTo>
                          <a:pt x="2772" y="185"/>
                        </a:lnTo>
                        <a:lnTo>
                          <a:pt x="2792" y="185"/>
                        </a:lnTo>
                        <a:lnTo>
                          <a:pt x="2801" y="185"/>
                        </a:lnTo>
                        <a:lnTo>
                          <a:pt x="2811" y="195"/>
                        </a:lnTo>
                        <a:lnTo>
                          <a:pt x="2831" y="195"/>
                        </a:lnTo>
                        <a:lnTo>
                          <a:pt x="2840" y="204"/>
                        </a:lnTo>
                        <a:lnTo>
                          <a:pt x="2850" y="214"/>
                        </a:lnTo>
                        <a:lnTo>
                          <a:pt x="2860" y="214"/>
                        </a:lnTo>
                        <a:lnTo>
                          <a:pt x="2869" y="234"/>
                        </a:lnTo>
                        <a:lnTo>
                          <a:pt x="2879" y="243"/>
                        </a:lnTo>
                        <a:lnTo>
                          <a:pt x="2879" y="253"/>
                        </a:lnTo>
                        <a:lnTo>
                          <a:pt x="2889" y="253"/>
                        </a:lnTo>
                        <a:lnTo>
                          <a:pt x="2899" y="253"/>
                        </a:lnTo>
                        <a:lnTo>
                          <a:pt x="2928" y="253"/>
                        </a:lnTo>
                        <a:lnTo>
                          <a:pt x="2928" y="253"/>
                        </a:lnTo>
                        <a:lnTo>
                          <a:pt x="2967" y="253"/>
                        </a:lnTo>
                        <a:lnTo>
                          <a:pt x="2976" y="253"/>
                        </a:lnTo>
                        <a:lnTo>
                          <a:pt x="2986" y="253"/>
                        </a:lnTo>
                        <a:lnTo>
                          <a:pt x="3006" y="253"/>
                        </a:lnTo>
                        <a:lnTo>
                          <a:pt x="3015" y="253"/>
                        </a:lnTo>
                        <a:lnTo>
                          <a:pt x="3015" y="263"/>
                        </a:lnTo>
                        <a:lnTo>
                          <a:pt x="3025" y="263"/>
                        </a:lnTo>
                        <a:lnTo>
                          <a:pt x="3035" y="273"/>
                        </a:lnTo>
                        <a:lnTo>
                          <a:pt x="3045" y="273"/>
                        </a:lnTo>
                        <a:lnTo>
                          <a:pt x="3064" y="292"/>
                        </a:lnTo>
                        <a:lnTo>
                          <a:pt x="3074" y="312"/>
                        </a:lnTo>
                        <a:lnTo>
                          <a:pt x="3083" y="331"/>
                        </a:lnTo>
                        <a:lnTo>
                          <a:pt x="3093" y="350"/>
                        </a:lnTo>
                        <a:lnTo>
                          <a:pt x="3103" y="370"/>
                        </a:lnTo>
                        <a:lnTo>
                          <a:pt x="3103" y="389"/>
                        </a:lnTo>
                        <a:lnTo>
                          <a:pt x="3103" y="419"/>
                        </a:lnTo>
                        <a:lnTo>
                          <a:pt x="3103" y="438"/>
                        </a:lnTo>
                        <a:lnTo>
                          <a:pt x="3103" y="458"/>
                        </a:lnTo>
                        <a:lnTo>
                          <a:pt x="3103" y="467"/>
                        </a:lnTo>
                        <a:lnTo>
                          <a:pt x="3093" y="487"/>
                        </a:lnTo>
                        <a:lnTo>
                          <a:pt x="3093" y="535"/>
                        </a:lnTo>
                        <a:lnTo>
                          <a:pt x="3103" y="555"/>
                        </a:lnTo>
                        <a:lnTo>
                          <a:pt x="3103" y="594"/>
                        </a:lnTo>
                        <a:lnTo>
                          <a:pt x="3093" y="604"/>
                        </a:lnTo>
                        <a:lnTo>
                          <a:pt x="3093" y="613"/>
                        </a:lnTo>
                        <a:lnTo>
                          <a:pt x="3083" y="623"/>
                        </a:lnTo>
                        <a:lnTo>
                          <a:pt x="3074" y="643"/>
                        </a:lnTo>
                        <a:lnTo>
                          <a:pt x="3054" y="652"/>
                        </a:lnTo>
                        <a:lnTo>
                          <a:pt x="3064" y="662"/>
                        </a:lnTo>
                        <a:lnTo>
                          <a:pt x="3064" y="672"/>
                        </a:lnTo>
                        <a:lnTo>
                          <a:pt x="3074" y="682"/>
                        </a:lnTo>
                        <a:lnTo>
                          <a:pt x="3074" y="691"/>
                        </a:lnTo>
                        <a:lnTo>
                          <a:pt x="3093" y="691"/>
                        </a:lnTo>
                        <a:lnTo>
                          <a:pt x="3103" y="691"/>
                        </a:lnTo>
                        <a:lnTo>
                          <a:pt x="3113" y="701"/>
                        </a:lnTo>
                        <a:lnTo>
                          <a:pt x="3132" y="701"/>
                        </a:lnTo>
                        <a:lnTo>
                          <a:pt x="3142" y="701"/>
                        </a:lnTo>
                        <a:lnTo>
                          <a:pt x="3151" y="711"/>
                        </a:lnTo>
                        <a:lnTo>
                          <a:pt x="3161" y="711"/>
                        </a:lnTo>
                        <a:lnTo>
                          <a:pt x="3181" y="720"/>
                        </a:lnTo>
                        <a:lnTo>
                          <a:pt x="3190" y="740"/>
                        </a:lnTo>
                        <a:lnTo>
                          <a:pt x="3200" y="759"/>
                        </a:lnTo>
                        <a:lnTo>
                          <a:pt x="3210" y="779"/>
                        </a:lnTo>
                        <a:lnTo>
                          <a:pt x="3210" y="798"/>
                        </a:lnTo>
                        <a:lnTo>
                          <a:pt x="3200" y="818"/>
                        </a:lnTo>
                        <a:lnTo>
                          <a:pt x="3200" y="837"/>
                        </a:lnTo>
                        <a:lnTo>
                          <a:pt x="3190" y="867"/>
                        </a:lnTo>
                        <a:lnTo>
                          <a:pt x="3190" y="876"/>
                        </a:lnTo>
                        <a:lnTo>
                          <a:pt x="3190" y="886"/>
                        </a:lnTo>
                        <a:lnTo>
                          <a:pt x="3200" y="886"/>
                        </a:lnTo>
                        <a:lnTo>
                          <a:pt x="3210" y="896"/>
                        </a:lnTo>
                        <a:lnTo>
                          <a:pt x="3210" y="896"/>
                        </a:lnTo>
                        <a:lnTo>
                          <a:pt x="3210" y="905"/>
                        </a:lnTo>
                        <a:lnTo>
                          <a:pt x="3210" y="905"/>
                        </a:lnTo>
                        <a:lnTo>
                          <a:pt x="3220" y="915"/>
                        </a:lnTo>
                        <a:lnTo>
                          <a:pt x="3220" y="915"/>
                        </a:lnTo>
                        <a:lnTo>
                          <a:pt x="3220" y="935"/>
                        </a:lnTo>
                        <a:lnTo>
                          <a:pt x="3220" y="954"/>
                        </a:lnTo>
                        <a:lnTo>
                          <a:pt x="3220" y="964"/>
                        </a:lnTo>
                        <a:lnTo>
                          <a:pt x="3210" y="974"/>
                        </a:lnTo>
                        <a:lnTo>
                          <a:pt x="3210" y="993"/>
                        </a:lnTo>
                        <a:lnTo>
                          <a:pt x="3200" y="1003"/>
                        </a:lnTo>
                        <a:lnTo>
                          <a:pt x="3190" y="1013"/>
                        </a:lnTo>
                        <a:lnTo>
                          <a:pt x="3190" y="1022"/>
                        </a:lnTo>
                        <a:lnTo>
                          <a:pt x="3190" y="1052"/>
                        </a:lnTo>
                        <a:lnTo>
                          <a:pt x="3190" y="1090"/>
                        </a:lnTo>
                        <a:lnTo>
                          <a:pt x="3190" y="1159"/>
                        </a:lnTo>
                        <a:lnTo>
                          <a:pt x="3190" y="1188"/>
                        </a:lnTo>
                        <a:lnTo>
                          <a:pt x="3181" y="1217"/>
                        </a:lnTo>
                        <a:lnTo>
                          <a:pt x="3161" y="1237"/>
                        </a:lnTo>
                        <a:lnTo>
                          <a:pt x="3132" y="1256"/>
                        </a:lnTo>
                        <a:lnTo>
                          <a:pt x="3122" y="1266"/>
                        </a:lnTo>
                        <a:lnTo>
                          <a:pt x="3113" y="1266"/>
                        </a:lnTo>
                        <a:lnTo>
                          <a:pt x="3103" y="1266"/>
                        </a:lnTo>
                        <a:lnTo>
                          <a:pt x="3103" y="1266"/>
                        </a:lnTo>
                        <a:lnTo>
                          <a:pt x="3093" y="1275"/>
                        </a:lnTo>
                        <a:lnTo>
                          <a:pt x="3083" y="1275"/>
                        </a:lnTo>
                        <a:lnTo>
                          <a:pt x="3074" y="1275"/>
                        </a:lnTo>
                        <a:lnTo>
                          <a:pt x="3054" y="1275"/>
                        </a:lnTo>
                        <a:lnTo>
                          <a:pt x="3054" y="1285"/>
                        </a:lnTo>
                        <a:lnTo>
                          <a:pt x="3045" y="1285"/>
                        </a:lnTo>
                        <a:lnTo>
                          <a:pt x="3035" y="1285"/>
                        </a:lnTo>
                        <a:lnTo>
                          <a:pt x="3025" y="1285"/>
                        </a:lnTo>
                        <a:lnTo>
                          <a:pt x="3015" y="1295"/>
                        </a:lnTo>
                        <a:lnTo>
                          <a:pt x="2976" y="1295"/>
                        </a:lnTo>
                        <a:lnTo>
                          <a:pt x="2957" y="1363"/>
                        </a:lnTo>
                        <a:lnTo>
                          <a:pt x="2986" y="1363"/>
                        </a:lnTo>
                        <a:lnTo>
                          <a:pt x="3006" y="1363"/>
                        </a:lnTo>
                        <a:lnTo>
                          <a:pt x="3113" y="1363"/>
                        </a:lnTo>
                        <a:lnTo>
                          <a:pt x="3132" y="1373"/>
                        </a:lnTo>
                        <a:lnTo>
                          <a:pt x="3142" y="1373"/>
                        </a:lnTo>
                        <a:lnTo>
                          <a:pt x="3151" y="1373"/>
                        </a:lnTo>
                        <a:lnTo>
                          <a:pt x="3171" y="1373"/>
                        </a:lnTo>
                        <a:lnTo>
                          <a:pt x="3171" y="1402"/>
                        </a:lnTo>
                        <a:lnTo>
                          <a:pt x="3161" y="1431"/>
                        </a:lnTo>
                        <a:lnTo>
                          <a:pt x="3161" y="1451"/>
                        </a:lnTo>
                        <a:lnTo>
                          <a:pt x="3151" y="1480"/>
                        </a:lnTo>
                        <a:lnTo>
                          <a:pt x="3142" y="1499"/>
                        </a:lnTo>
                        <a:lnTo>
                          <a:pt x="3142" y="1529"/>
                        </a:lnTo>
                        <a:lnTo>
                          <a:pt x="3132" y="1548"/>
                        </a:lnTo>
                        <a:lnTo>
                          <a:pt x="3132" y="1577"/>
                        </a:lnTo>
                        <a:lnTo>
                          <a:pt x="3122" y="1587"/>
                        </a:lnTo>
                        <a:lnTo>
                          <a:pt x="3113" y="1587"/>
                        </a:lnTo>
                        <a:lnTo>
                          <a:pt x="3103" y="1597"/>
                        </a:lnTo>
                        <a:lnTo>
                          <a:pt x="3093" y="1597"/>
                        </a:lnTo>
                        <a:lnTo>
                          <a:pt x="3093" y="1597"/>
                        </a:lnTo>
                        <a:lnTo>
                          <a:pt x="2957" y="1587"/>
                        </a:lnTo>
                        <a:lnTo>
                          <a:pt x="2947" y="1616"/>
                        </a:lnTo>
                        <a:lnTo>
                          <a:pt x="2947" y="1636"/>
                        </a:lnTo>
                        <a:lnTo>
                          <a:pt x="2938" y="1665"/>
                        </a:lnTo>
                        <a:lnTo>
                          <a:pt x="2928" y="1694"/>
                        </a:lnTo>
                        <a:lnTo>
                          <a:pt x="2928" y="1714"/>
                        </a:lnTo>
                        <a:lnTo>
                          <a:pt x="2918" y="1743"/>
                        </a:lnTo>
                        <a:lnTo>
                          <a:pt x="2908" y="1762"/>
                        </a:lnTo>
                        <a:lnTo>
                          <a:pt x="2899" y="1782"/>
                        </a:lnTo>
                        <a:lnTo>
                          <a:pt x="2879" y="1821"/>
                        </a:lnTo>
                        <a:lnTo>
                          <a:pt x="2860" y="1869"/>
                        </a:lnTo>
                        <a:lnTo>
                          <a:pt x="2840" y="1899"/>
                        </a:lnTo>
                        <a:lnTo>
                          <a:pt x="2821" y="1938"/>
                        </a:lnTo>
                        <a:lnTo>
                          <a:pt x="2792" y="1976"/>
                        </a:lnTo>
                        <a:lnTo>
                          <a:pt x="2762" y="2006"/>
                        </a:lnTo>
                        <a:lnTo>
                          <a:pt x="2743" y="2045"/>
                        </a:lnTo>
                        <a:lnTo>
                          <a:pt x="2714" y="2074"/>
                        </a:lnTo>
                        <a:lnTo>
                          <a:pt x="2685" y="2103"/>
                        </a:lnTo>
                        <a:lnTo>
                          <a:pt x="2655" y="2132"/>
                        </a:lnTo>
                        <a:lnTo>
                          <a:pt x="2617" y="2161"/>
                        </a:lnTo>
                        <a:lnTo>
                          <a:pt x="2587" y="2191"/>
                        </a:lnTo>
                        <a:lnTo>
                          <a:pt x="2549" y="2220"/>
                        </a:lnTo>
                        <a:lnTo>
                          <a:pt x="2519" y="2239"/>
                        </a:lnTo>
                        <a:lnTo>
                          <a:pt x="2480" y="2269"/>
                        </a:lnTo>
                        <a:lnTo>
                          <a:pt x="2442" y="2288"/>
                        </a:lnTo>
                        <a:lnTo>
                          <a:pt x="2403" y="2308"/>
                        </a:lnTo>
                        <a:lnTo>
                          <a:pt x="2364" y="2327"/>
                        </a:lnTo>
                        <a:lnTo>
                          <a:pt x="2325" y="2346"/>
                        </a:lnTo>
                        <a:lnTo>
                          <a:pt x="2286" y="2356"/>
                        </a:lnTo>
                        <a:lnTo>
                          <a:pt x="2247" y="2376"/>
                        </a:lnTo>
                        <a:lnTo>
                          <a:pt x="2208" y="2395"/>
                        </a:lnTo>
                        <a:lnTo>
                          <a:pt x="2169" y="2405"/>
                        </a:lnTo>
                        <a:lnTo>
                          <a:pt x="2130" y="2424"/>
                        </a:lnTo>
                        <a:lnTo>
                          <a:pt x="2082" y="2434"/>
                        </a:lnTo>
                        <a:lnTo>
                          <a:pt x="2043" y="2444"/>
                        </a:lnTo>
                        <a:lnTo>
                          <a:pt x="2004" y="2454"/>
                        </a:lnTo>
                        <a:lnTo>
                          <a:pt x="1955" y="2463"/>
                        </a:lnTo>
                        <a:lnTo>
                          <a:pt x="1916" y="2463"/>
                        </a:lnTo>
                        <a:lnTo>
                          <a:pt x="1877" y="2473"/>
                        </a:lnTo>
                        <a:lnTo>
                          <a:pt x="1829" y="2473"/>
                        </a:lnTo>
                        <a:lnTo>
                          <a:pt x="1790" y="2483"/>
                        </a:lnTo>
                        <a:lnTo>
                          <a:pt x="1634" y="2483"/>
                        </a:lnTo>
                        <a:lnTo>
                          <a:pt x="1586" y="2473"/>
                        </a:lnTo>
                        <a:lnTo>
                          <a:pt x="1537" y="2473"/>
                        </a:lnTo>
                        <a:lnTo>
                          <a:pt x="1488" y="2463"/>
                        </a:lnTo>
                        <a:lnTo>
                          <a:pt x="1440" y="2454"/>
                        </a:lnTo>
                        <a:lnTo>
                          <a:pt x="1391" y="2444"/>
                        </a:lnTo>
                        <a:lnTo>
                          <a:pt x="1352" y="2434"/>
                        </a:lnTo>
                        <a:lnTo>
                          <a:pt x="1304" y="2424"/>
                        </a:lnTo>
                        <a:lnTo>
                          <a:pt x="1255" y="2405"/>
                        </a:lnTo>
                        <a:lnTo>
                          <a:pt x="1206" y="2395"/>
                        </a:lnTo>
                        <a:lnTo>
                          <a:pt x="1168" y="2376"/>
                        </a:lnTo>
                        <a:lnTo>
                          <a:pt x="1119" y="2356"/>
                        </a:lnTo>
                        <a:lnTo>
                          <a:pt x="1070" y="2337"/>
                        </a:lnTo>
                        <a:lnTo>
                          <a:pt x="1031" y="2317"/>
                        </a:lnTo>
                        <a:lnTo>
                          <a:pt x="992" y="2288"/>
                        </a:lnTo>
                        <a:lnTo>
                          <a:pt x="954" y="2269"/>
                        </a:lnTo>
                        <a:lnTo>
                          <a:pt x="915" y="2239"/>
                        </a:lnTo>
                        <a:lnTo>
                          <a:pt x="866" y="2210"/>
                        </a:lnTo>
                        <a:lnTo>
                          <a:pt x="827" y="2181"/>
                        </a:lnTo>
                        <a:lnTo>
                          <a:pt x="798" y="2152"/>
                        </a:lnTo>
                        <a:lnTo>
                          <a:pt x="691" y="2054"/>
                        </a:lnTo>
                        <a:lnTo>
                          <a:pt x="662" y="2015"/>
                        </a:lnTo>
                        <a:lnTo>
                          <a:pt x="633" y="1976"/>
                        </a:lnTo>
                        <a:lnTo>
                          <a:pt x="603" y="1938"/>
                        </a:lnTo>
                        <a:lnTo>
                          <a:pt x="574" y="1889"/>
                        </a:lnTo>
                        <a:lnTo>
                          <a:pt x="555" y="1850"/>
                        </a:lnTo>
                        <a:lnTo>
                          <a:pt x="526" y="1801"/>
                        </a:lnTo>
                        <a:lnTo>
                          <a:pt x="506" y="1762"/>
                        </a:lnTo>
                        <a:lnTo>
                          <a:pt x="458" y="1606"/>
                        </a:lnTo>
                        <a:lnTo>
                          <a:pt x="438" y="1606"/>
                        </a:lnTo>
                        <a:lnTo>
                          <a:pt x="166" y="1606"/>
                        </a:lnTo>
                        <a:lnTo>
                          <a:pt x="156" y="1587"/>
                        </a:lnTo>
                        <a:lnTo>
                          <a:pt x="146" y="1568"/>
                        </a:lnTo>
                        <a:lnTo>
                          <a:pt x="146" y="1558"/>
                        </a:lnTo>
                        <a:lnTo>
                          <a:pt x="146" y="1538"/>
                        </a:lnTo>
                        <a:lnTo>
                          <a:pt x="137" y="1529"/>
                        </a:lnTo>
                        <a:lnTo>
                          <a:pt x="137" y="1480"/>
                        </a:lnTo>
                        <a:lnTo>
                          <a:pt x="146" y="1383"/>
                        </a:lnTo>
                        <a:lnTo>
                          <a:pt x="312" y="1373"/>
                        </a:lnTo>
                        <a:lnTo>
                          <a:pt x="312" y="1344"/>
                        </a:lnTo>
                        <a:lnTo>
                          <a:pt x="312" y="1314"/>
                        </a:lnTo>
                        <a:lnTo>
                          <a:pt x="321" y="1295"/>
                        </a:lnTo>
                        <a:lnTo>
                          <a:pt x="331" y="1266"/>
                        </a:lnTo>
                        <a:lnTo>
                          <a:pt x="273" y="1266"/>
                        </a:lnTo>
                        <a:lnTo>
                          <a:pt x="263" y="1266"/>
                        </a:lnTo>
                        <a:lnTo>
                          <a:pt x="253" y="1266"/>
                        </a:lnTo>
                        <a:lnTo>
                          <a:pt x="253" y="1266"/>
                        </a:lnTo>
                        <a:lnTo>
                          <a:pt x="244" y="1256"/>
                        </a:lnTo>
                        <a:lnTo>
                          <a:pt x="234" y="1256"/>
                        </a:lnTo>
                        <a:lnTo>
                          <a:pt x="224" y="1246"/>
                        </a:lnTo>
                        <a:lnTo>
                          <a:pt x="214" y="1237"/>
                        </a:lnTo>
                        <a:lnTo>
                          <a:pt x="205" y="1237"/>
                        </a:lnTo>
                        <a:lnTo>
                          <a:pt x="205" y="1227"/>
                        </a:lnTo>
                        <a:lnTo>
                          <a:pt x="195" y="1217"/>
                        </a:lnTo>
                        <a:lnTo>
                          <a:pt x="185" y="1207"/>
                        </a:lnTo>
                        <a:lnTo>
                          <a:pt x="176" y="1198"/>
                        </a:lnTo>
                        <a:lnTo>
                          <a:pt x="166" y="1188"/>
                        </a:lnTo>
                        <a:lnTo>
                          <a:pt x="166" y="1178"/>
                        </a:lnTo>
                        <a:lnTo>
                          <a:pt x="166" y="1168"/>
                        </a:lnTo>
                        <a:lnTo>
                          <a:pt x="156" y="1159"/>
                        </a:lnTo>
                        <a:lnTo>
                          <a:pt x="156" y="1149"/>
                        </a:lnTo>
                        <a:lnTo>
                          <a:pt x="146" y="1149"/>
                        </a:lnTo>
                        <a:lnTo>
                          <a:pt x="137" y="1139"/>
                        </a:lnTo>
                        <a:lnTo>
                          <a:pt x="127" y="1139"/>
                        </a:lnTo>
                        <a:lnTo>
                          <a:pt x="117" y="1139"/>
                        </a:lnTo>
                        <a:lnTo>
                          <a:pt x="98" y="1120"/>
                        </a:lnTo>
                        <a:lnTo>
                          <a:pt x="98" y="1110"/>
                        </a:lnTo>
                        <a:lnTo>
                          <a:pt x="88" y="1100"/>
                        </a:lnTo>
                        <a:lnTo>
                          <a:pt x="78" y="1090"/>
                        </a:lnTo>
                        <a:lnTo>
                          <a:pt x="78" y="1081"/>
                        </a:lnTo>
                        <a:lnTo>
                          <a:pt x="69" y="1061"/>
                        </a:lnTo>
                        <a:lnTo>
                          <a:pt x="69" y="1052"/>
                        </a:lnTo>
                        <a:lnTo>
                          <a:pt x="59" y="1042"/>
                        </a:lnTo>
                        <a:lnTo>
                          <a:pt x="69" y="1022"/>
                        </a:lnTo>
                        <a:lnTo>
                          <a:pt x="69" y="1003"/>
                        </a:lnTo>
                        <a:lnTo>
                          <a:pt x="49" y="983"/>
                        </a:lnTo>
                        <a:lnTo>
                          <a:pt x="39" y="964"/>
                        </a:lnTo>
                        <a:lnTo>
                          <a:pt x="30" y="935"/>
                        </a:lnTo>
                        <a:lnTo>
                          <a:pt x="10" y="915"/>
                        </a:lnTo>
                        <a:lnTo>
                          <a:pt x="10" y="886"/>
                        </a:lnTo>
                        <a:lnTo>
                          <a:pt x="0" y="857"/>
                        </a:lnTo>
                        <a:lnTo>
                          <a:pt x="10" y="828"/>
                        </a:lnTo>
                        <a:lnTo>
                          <a:pt x="10" y="798"/>
                        </a:lnTo>
                        <a:lnTo>
                          <a:pt x="20" y="789"/>
                        </a:lnTo>
                        <a:lnTo>
                          <a:pt x="30" y="779"/>
                        </a:lnTo>
                        <a:lnTo>
                          <a:pt x="39" y="769"/>
                        </a:lnTo>
                        <a:lnTo>
                          <a:pt x="49" y="759"/>
                        </a:lnTo>
                        <a:lnTo>
                          <a:pt x="78" y="730"/>
                        </a:lnTo>
                        <a:lnTo>
                          <a:pt x="78" y="730"/>
                        </a:lnTo>
                        <a:lnTo>
                          <a:pt x="88" y="720"/>
                        </a:lnTo>
                        <a:lnTo>
                          <a:pt x="98" y="711"/>
                        </a:lnTo>
                        <a:lnTo>
                          <a:pt x="107" y="711"/>
                        </a:lnTo>
                        <a:lnTo>
                          <a:pt x="117" y="701"/>
                        </a:lnTo>
                        <a:lnTo>
                          <a:pt x="137" y="701"/>
                        </a:lnTo>
                        <a:lnTo>
                          <a:pt x="146" y="711"/>
                        </a:lnTo>
                        <a:lnTo>
                          <a:pt x="176" y="740"/>
                        </a:lnTo>
                        <a:lnTo>
                          <a:pt x="176" y="730"/>
                        </a:lnTo>
                        <a:lnTo>
                          <a:pt x="176" y="730"/>
                        </a:lnTo>
                        <a:lnTo>
                          <a:pt x="176" y="720"/>
                        </a:lnTo>
                        <a:lnTo>
                          <a:pt x="166" y="711"/>
                        </a:lnTo>
                        <a:lnTo>
                          <a:pt x="166" y="701"/>
                        </a:lnTo>
                        <a:lnTo>
                          <a:pt x="156" y="701"/>
                        </a:lnTo>
                        <a:lnTo>
                          <a:pt x="156" y="691"/>
                        </a:lnTo>
                        <a:lnTo>
                          <a:pt x="156" y="691"/>
                        </a:lnTo>
                        <a:lnTo>
                          <a:pt x="137" y="662"/>
                        </a:lnTo>
                        <a:lnTo>
                          <a:pt x="127" y="643"/>
                        </a:lnTo>
                        <a:lnTo>
                          <a:pt x="127" y="613"/>
                        </a:lnTo>
                        <a:lnTo>
                          <a:pt x="117" y="594"/>
                        </a:lnTo>
                        <a:lnTo>
                          <a:pt x="117" y="545"/>
                        </a:lnTo>
                        <a:lnTo>
                          <a:pt x="127" y="516"/>
                        </a:lnTo>
                        <a:lnTo>
                          <a:pt x="127" y="497"/>
                        </a:lnTo>
                        <a:lnTo>
                          <a:pt x="137" y="477"/>
                        </a:lnTo>
                        <a:lnTo>
                          <a:pt x="146" y="477"/>
                        </a:lnTo>
                        <a:lnTo>
                          <a:pt x="166" y="467"/>
                        </a:lnTo>
                        <a:lnTo>
                          <a:pt x="176" y="458"/>
                        </a:lnTo>
                        <a:lnTo>
                          <a:pt x="185" y="448"/>
                        </a:lnTo>
                        <a:lnTo>
                          <a:pt x="195" y="448"/>
                        </a:lnTo>
                        <a:lnTo>
                          <a:pt x="214" y="438"/>
                        </a:lnTo>
                        <a:lnTo>
                          <a:pt x="224" y="438"/>
                        </a:lnTo>
                        <a:lnTo>
                          <a:pt x="224" y="389"/>
                        </a:lnTo>
                        <a:lnTo>
                          <a:pt x="224" y="360"/>
                        </a:lnTo>
                        <a:lnTo>
                          <a:pt x="234" y="341"/>
                        </a:lnTo>
                        <a:lnTo>
                          <a:pt x="253" y="321"/>
                        </a:lnTo>
                        <a:lnTo>
                          <a:pt x="273" y="312"/>
                        </a:lnTo>
                        <a:lnTo>
                          <a:pt x="292" y="302"/>
                        </a:lnTo>
                        <a:lnTo>
                          <a:pt x="302" y="282"/>
                        </a:lnTo>
                        <a:lnTo>
                          <a:pt x="321" y="273"/>
                        </a:lnTo>
                        <a:lnTo>
                          <a:pt x="341" y="263"/>
                        </a:lnTo>
                        <a:lnTo>
                          <a:pt x="360" y="253"/>
                        </a:lnTo>
                        <a:lnTo>
                          <a:pt x="380" y="243"/>
                        </a:lnTo>
                        <a:lnTo>
                          <a:pt x="399" y="234"/>
                        </a:lnTo>
                        <a:lnTo>
                          <a:pt x="419" y="224"/>
                        </a:lnTo>
                        <a:lnTo>
                          <a:pt x="438" y="214"/>
                        </a:lnTo>
                        <a:lnTo>
                          <a:pt x="458" y="204"/>
                        </a:lnTo>
                        <a:lnTo>
                          <a:pt x="477" y="195"/>
                        </a:lnTo>
                        <a:lnTo>
                          <a:pt x="496" y="185"/>
                        </a:lnTo>
                        <a:lnTo>
                          <a:pt x="516" y="175"/>
                        </a:lnTo>
                        <a:lnTo>
                          <a:pt x="535" y="166"/>
                        </a:lnTo>
                        <a:lnTo>
                          <a:pt x="545" y="166"/>
                        </a:lnTo>
                        <a:lnTo>
                          <a:pt x="555" y="166"/>
                        </a:lnTo>
                        <a:lnTo>
                          <a:pt x="565" y="156"/>
                        </a:lnTo>
                        <a:lnTo>
                          <a:pt x="574" y="156"/>
                        </a:lnTo>
                        <a:lnTo>
                          <a:pt x="584" y="156"/>
                        </a:lnTo>
                        <a:lnTo>
                          <a:pt x="633" y="156"/>
                        </a:lnTo>
                        <a:lnTo>
                          <a:pt x="642" y="156"/>
                        </a:lnTo>
                        <a:lnTo>
                          <a:pt x="652" y="156"/>
                        </a:lnTo>
                        <a:lnTo>
                          <a:pt x="662" y="166"/>
                        </a:lnTo>
                        <a:lnTo>
                          <a:pt x="662" y="166"/>
                        </a:lnTo>
                        <a:lnTo>
                          <a:pt x="672" y="16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701" y="204"/>
                        </a:lnTo>
                        <a:lnTo>
                          <a:pt x="701" y="224"/>
                        </a:lnTo>
                        <a:lnTo>
                          <a:pt x="701" y="243"/>
                        </a:lnTo>
                        <a:lnTo>
                          <a:pt x="701" y="253"/>
                        </a:lnTo>
                        <a:lnTo>
                          <a:pt x="710" y="273"/>
                        </a:lnTo>
                        <a:lnTo>
                          <a:pt x="710" y="292"/>
                        </a:lnTo>
                        <a:lnTo>
                          <a:pt x="788" y="253"/>
                        </a:lnTo>
                        <a:lnTo>
                          <a:pt x="856" y="263"/>
                        </a:lnTo>
                        <a:lnTo>
                          <a:pt x="905" y="234"/>
                        </a:lnTo>
                        <a:lnTo>
                          <a:pt x="944" y="204"/>
                        </a:lnTo>
                        <a:lnTo>
                          <a:pt x="992" y="175"/>
                        </a:lnTo>
                        <a:lnTo>
                          <a:pt x="1041" y="156"/>
                        </a:lnTo>
                        <a:lnTo>
                          <a:pt x="1090" y="136"/>
                        </a:lnTo>
                        <a:lnTo>
                          <a:pt x="1138" y="117"/>
                        </a:lnTo>
                        <a:lnTo>
                          <a:pt x="1187" y="97"/>
                        </a:lnTo>
                        <a:lnTo>
                          <a:pt x="1236" y="78"/>
                        </a:lnTo>
                        <a:lnTo>
                          <a:pt x="1294" y="58"/>
                        </a:lnTo>
                        <a:lnTo>
                          <a:pt x="1343" y="49"/>
                        </a:lnTo>
                        <a:lnTo>
                          <a:pt x="1391" y="39"/>
                        </a:lnTo>
                        <a:lnTo>
                          <a:pt x="1450" y="29"/>
                        </a:lnTo>
                        <a:lnTo>
                          <a:pt x="1508" y="19"/>
                        </a:lnTo>
                        <a:lnTo>
                          <a:pt x="1557" y="10"/>
                        </a:lnTo>
                        <a:lnTo>
                          <a:pt x="1615" y="10"/>
                        </a:lnTo>
                        <a:lnTo>
                          <a:pt x="1664" y="0"/>
                        </a:lnTo>
                        <a:lnTo>
                          <a:pt x="1780" y="0"/>
                        </a:lnTo>
                        <a:lnTo>
                          <a:pt x="1829" y="10"/>
                        </a:lnTo>
                        <a:lnTo>
                          <a:pt x="1887" y="10"/>
                        </a:lnTo>
                        <a:lnTo>
                          <a:pt x="1946" y="19"/>
                        </a:lnTo>
                        <a:lnTo>
                          <a:pt x="1994" y="29"/>
                        </a:lnTo>
                        <a:lnTo>
                          <a:pt x="2053" y="39"/>
                        </a:lnTo>
                        <a:lnTo>
                          <a:pt x="2101" y="49"/>
                        </a:lnTo>
                        <a:lnTo>
                          <a:pt x="2150" y="58"/>
                        </a:lnTo>
                        <a:lnTo>
                          <a:pt x="2208" y="78"/>
                        </a:lnTo>
                        <a:lnTo>
                          <a:pt x="2257" y="97"/>
                        </a:lnTo>
                        <a:lnTo>
                          <a:pt x="2305" y="117"/>
                        </a:lnTo>
                        <a:lnTo>
                          <a:pt x="2354" y="136"/>
                        </a:lnTo>
                        <a:lnTo>
                          <a:pt x="2403" y="156"/>
                        </a:lnTo>
                        <a:lnTo>
                          <a:pt x="2442" y="185"/>
                        </a:lnTo>
                        <a:lnTo>
                          <a:pt x="2490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4860360" y="2113920"/>
                    <a:ext cx="10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9">
                        <a:moveTo>
                          <a:pt x="175" y="20"/>
                        </a:move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2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78" y="1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75" y="29"/>
                        </a:lnTo>
                        <a:lnTo>
                          <a:pt x="175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4968360" y="2108160"/>
                    <a:ext cx="176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10" y="38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4986360" y="2108160"/>
                    <a:ext cx="120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7">
                        <a:moveTo>
                          <a:pt x="195" y="87"/>
                        </a:moveTo>
                        <a:lnTo>
                          <a:pt x="185" y="77"/>
                        </a:lnTo>
                        <a:lnTo>
                          <a:pt x="185" y="58"/>
                        </a:lnTo>
                        <a:lnTo>
                          <a:pt x="156" y="38"/>
                        </a:lnTo>
                        <a:lnTo>
                          <a:pt x="146" y="38"/>
                        </a:lnTo>
                        <a:lnTo>
                          <a:pt x="137" y="29"/>
                        </a:lnTo>
                        <a:lnTo>
                          <a:pt x="127" y="19"/>
                        </a:lnTo>
                        <a:lnTo>
                          <a:pt x="107" y="19"/>
                        </a:lnTo>
                        <a:lnTo>
                          <a:pt x="98" y="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5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37" y="38"/>
                        </a:lnTo>
                        <a:lnTo>
                          <a:pt x="146" y="38"/>
                        </a:lnTo>
                        <a:lnTo>
                          <a:pt x="156" y="48"/>
                        </a:lnTo>
                        <a:lnTo>
                          <a:pt x="175" y="68"/>
                        </a:lnTo>
                        <a:lnTo>
                          <a:pt x="185" y="77"/>
                        </a:lnTo>
                        <a:lnTo>
                          <a:pt x="185" y="87"/>
                        </a:lnTo>
                        <a:lnTo>
                          <a:pt x="195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5100480" y="216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5106600" y="215604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30"/>
                        </a:moveTo>
                        <a:lnTo>
                          <a:pt x="156" y="30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36" y="30"/>
                        </a:lnTo>
                        <a:lnTo>
                          <a:pt x="146" y="30"/>
                        </a:lnTo>
                        <a:lnTo>
                          <a:pt x="156" y="39"/>
                        </a:lnTo>
                        <a:lnTo>
                          <a:pt x="165" y="30"/>
                        </a:lnTo>
                        <a:lnTo>
                          <a:pt x="156" y="30"/>
                        </a:lnTo>
                        <a:lnTo>
                          <a:pt x="165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5202720" y="2174400"/>
                    <a:ext cx="41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5">
                        <a:moveTo>
                          <a:pt x="68" y="165"/>
                        </a:moveTo>
                        <a:lnTo>
                          <a:pt x="68" y="146"/>
                        </a:lnTo>
                        <a:lnTo>
                          <a:pt x="58" y="116"/>
                        </a:lnTo>
                        <a:lnTo>
                          <a:pt x="58" y="97"/>
                        </a:lnTo>
                        <a:lnTo>
                          <a:pt x="48" y="77"/>
                        </a:lnTo>
                        <a:lnTo>
                          <a:pt x="48" y="58"/>
                        </a:lnTo>
                        <a:lnTo>
                          <a:pt x="2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38" y="58"/>
                        </a:lnTo>
                        <a:lnTo>
                          <a:pt x="38" y="77"/>
                        </a:lnTo>
                        <a:lnTo>
                          <a:pt x="48" y="97"/>
                        </a:lnTo>
                        <a:lnTo>
                          <a:pt x="58" y="116"/>
                        </a:lnTo>
                        <a:lnTo>
                          <a:pt x="58" y="146"/>
                        </a:lnTo>
                        <a:lnTo>
                          <a:pt x="58" y="165"/>
                        </a:lnTo>
                        <a:lnTo>
                          <a:pt x="58" y="15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lnTo>
                          <a:pt x="68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5232240" y="2270160"/>
                    <a:ext cx="12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5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2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5208120" y="235476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0" y="87"/>
                        </a:move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29" y="48"/>
                        </a:lnTo>
                        <a:lnTo>
                          <a:pt x="29" y="5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5208120" y="240840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39"/>
                        </a:moveTo>
                        <a:lnTo>
                          <a:pt x="29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5220360" y="2432520"/>
                    <a:ext cx="65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77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5280480" y="2450520"/>
                    <a:ext cx="23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6">
                        <a:moveTo>
                          <a:pt x="19" y="156"/>
                        </a:moveTo>
                        <a:lnTo>
                          <a:pt x="19" y="166"/>
                        </a:lnTo>
                        <a:lnTo>
                          <a:pt x="29" y="147"/>
                        </a:lnTo>
                        <a:lnTo>
                          <a:pt x="29" y="117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19" y="117"/>
                        </a:lnTo>
                        <a:lnTo>
                          <a:pt x="19" y="147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lnTo>
                          <a:pt x="19" y="166"/>
                        </a:lnTo>
                        <a:lnTo>
                          <a:pt x="19" y="166"/>
                        </a:lnTo>
                        <a:lnTo>
                          <a:pt x="19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5292000" y="2546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30" y="39"/>
                        </a:move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5286600" y="2570760"/>
                    <a:ext cx="29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17">
                        <a:moveTo>
                          <a:pt x="9" y="107"/>
                        </a:moveTo>
                        <a:lnTo>
                          <a:pt x="9" y="11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8" y="39"/>
                        </a:lnTo>
                        <a:lnTo>
                          <a:pt x="48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5256360" y="2637000"/>
                    <a:ext cx="417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44">
                        <a:moveTo>
                          <a:pt x="0" y="244"/>
                        </a:moveTo>
                        <a:lnTo>
                          <a:pt x="10" y="244"/>
                        </a:lnTo>
                        <a:lnTo>
                          <a:pt x="29" y="215"/>
                        </a:lnTo>
                        <a:lnTo>
                          <a:pt x="58" y="195"/>
                        </a:lnTo>
                        <a:lnTo>
                          <a:pt x="58" y="166"/>
                        </a:lnTo>
                        <a:lnTo>
                          <a:pt x="68" y="137"/>
                        </a:lnTo>
                        <a:lnTo>
                          <a:pt x="68" y="68"/>
                        </a:lnTo>
                        <a:lnTo>
                          <a:pt x="58" y="3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58" y="30"/>
                        </a:lnTo>
                        <a:lnTo>
                          <a:pt x="58" y="68"/>
                        </a:lnTo>
                        <a:lnTo>
                          <a:pt x="58" y="137"/>
                        </a:lnTo>
                        <a:lnTo>
                          <a:pt x="58" y="156"/>
                        </a:lnTo>
                        <a:lnTo>
                          <a:pt x="49" y="195"/>
                        </a:lnTo>
                        <a:lnTo>
                          <a:pt x="29" y="215"/>
                        </a:lnTo>
                        <a:lnTo>
                          <a:pt x="0" y="234"/>
                        </a:lnTo>
                        <a:lnTo>
                          <a:pt x="0" y="2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5160240" y="2781360"/>
                    <a:ext cx="9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39">
                        <a:moveTo>
                          <a:pt x="10" y="39"/>
                        </a:move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9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27" y="19"/>
                        </a:lnTo>
                        <a:lnTo>
                          <a:pt x="127" y="10"/>
                        </a:lnTo>
                        <a:lnTo>
                          <a:pt x="137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0"/>
                        </a:lnTo>
                        <a:lnTo>
                          <a:pt x="146" y="0"/>
                        </a:lnTo>
                        <a:lnTo>
                          <a:pt x="137" y="10"/>
                        </a:lnTo>
                        <a:lnTo>
                          <a:pt x="127" y="1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98" y="10"/>
                        </a:lnTo>
                        <a:lnTo>
                          <a:pt x="9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5148360" y="280548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58"/>
                        </a:moveTo>
                        <a:lnTo>
                          <a:pt x="10" y="6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5148360" y="284148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5154480" y="2847600"/>
                    <a:ext cx="12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0">
                        <a:moveTo>
                          <a:pt x="204" y="10"/>
                        </a:moveTo>
                        <a:lnTo>
                          <a:pt x="204" y="10"/>
                        </a:lnTo>
                        <a:lnTo>
                          <a:pt x="184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146" y="10"/>
                        </a:lnTo>
                        <a:lnTo>
                          <a:pt x="165" y="10"/>
                        </a:lnTo>
                        <a:lnTo>
                          <a:pt x="175" y="10"/>
                        </a:lnTo>
                        <a:lnTo>
                          <a:pt x="184" y="20"/>
                        </a:lnTo>
                        <a:lnTo>
                          <a:pt x="204" y="20"/>
                        </a:lnTo>
                        <a:lnTo>
                          <a:pt x="19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lnTo>
                          <a:pt x="20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5256360" y="2853720"/>
                    <a:ext cx="23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4">
                        <a:moveTo>
                          <a:pt x="10" y="204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2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9"/>
                        </a:lnTo>
                        <a:lnTo>
                          <a:pt x="29" y="58"/>
                        </a:lnTo>
                        <a:lnTo>
                          <a:pt x="19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lnTo>
                          <a:pt x="1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5232240" y="29797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5148360" y="298584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36" y="19"/>
                        </a:lnTo>
                        <a:lnTo>
                          <a:pt x="136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5112720" y="2985840"/>
                    <a:ext cx="417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9" y="204"/>
                        </a:moveTo>
                        <a:lnTo>
                          <a:pt x="9" y="175"/>
                        </a:lnTo>
                        <a:lnTo>
                          <a:pt x="29" y="156"/>
                        </a:lnTo>
                        <a:lnTo>
                          <a:pt x="29" y="127"/>
                        </a:lnTo>
                        <a:lnTo>
                          <a:pt x="39" y="107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5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29"/>
                        </a:lnTo>
                        <a:lnTo>
                          <a:pt x="39" y="49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29" y="127"/>
                        </a:lnTo>
                        <a:lnTo>
                          <a:pt x="19" y="146"/>
                        </a:lnTo>
                        <a:lnTo>
                          <a:pt x="9" y="175"/>
                        </a:lnTo>
                        <a:lnTo>
                          <a:pt x="0" y="195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4428720" y="3106080"/>
                    <a:ext cx="68904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8" h="701">
                        <a:moveTo>
                          <a:pt x="0" y="701"/>
                        </a:moveTo>
                        <a:lnTo>
                          <a:pt x="39" y="701"/>
                        </a:lnTo>
                        <a:lnTo>
                          <a:pt x="87" y="691"/>
                        </a:lnTo>
                        <a:lnTo>
                          <a:pt x="126" y="691"/>
                        </a:lnTo>
                        <a:lnTo>
                          <a:pt x="165" y="681"/>
                        </a:lnTo>
                        <a:lnTo>
                          <a:pt x="214" y="672"/>
                        </a:lnTo>
                        <a:lnTo>
                          <a:pt x="253" y="662"/>
                        </a:lnTo>
                        <a:lnTo>
                          <a:pt x="301" y="652"/>
                        </a:lnTo>
                        <a:lnTo>
                          <a:pt x="340" y="642"/>
                        </a:lnTo>
                        <a:lnTo>
                          <a:pt x="379" y="633"/>
                        </a:lnTo>
                        <a:lnTo>
                          <a:pt x="418" y="623"/>
                        </a:lnTo>
                        <a:lnTo>
                          <a:pt x="457" y="603"/>
                        </a:lnTo>
                        <a:lnTo>
                          <a:pt x="496" y="584"/>
                        </a:lnTo>
                        <a:lnTo>
                          <a:pt x="535" y="564"/>
                        </a:lnTo>
                        <a:lnTo>
                          <a:pt x="583" y="545"/>
                        </a:lnTo>
                        <a:lnTo>
                          <a:pt x="613" y="526"/>
                        </a:lnTo>
                        <a:lnTo>
                          <a:pt x="652" y="506"/>
                        </a:lnTo>
                        <a:lnTo>
                          <a:pt x="690" y="487"/>
                        </a:lnTo>
                        <a:lnTo>
                          <a:pt x="729" y="457"/>
                        </a:lnTo>
                        <a:lnTo>
                          <a:pt x="768" y="438"/>
                        </a:lnTo>
                        <a:lnTo>
                          <a:pt x="797" y="409"/>
                        </a:lnTo>
                        <a:lnTo>
                          <a:pt x="827" y="379"/>
                        </a:lnTo>
                        <a:lnTo>
                          <a:pt x="865" y="360"/>
                        </a:lnTo>
                        <a:lnTo>
                          <a:pt x="953" y="263"/>
                        </a:lnTo>
                        <a:lnTo>
                          <a:pt x="982" y="224"/>
                        </a:lnTo>
                        <a:lnTo>
                          <a:pt x="1002" y="194"/>
                        </a:lnTo>
                        <a:lnTo>
                          <a:pt x="1031" y="156"/>
                        </a:lnTo>
                        <a:lnTo>
                          <a:pt x="1050" y="126"/>
                        </a:lnTo>
                        <a:lnTo>
                          <a:pt x="1079" y="87"/>
                        </a:lnTo>
                        <a:lnTo>
                          <a:pt x="1089" y="48"/>
                        </a:lnTo>
                        <a:lnTo>
                          <a:pt x="1118" y="9"/>
                        </a:lnTo>
                        <a:lnTo>
                          <a:pt x="1109" y="0"/>
                        </a:lnTo>
                        <a:lnTo>
                          <a:pt x="1089" y="39"/>
                        </a:lnTo>
                        <a:lnTo>
                          <a:pt x="1070" y="78"/>
                        </a:lnTo>
                        <a:lnTo>
                          <a:pt x="1050" y="117"/>
                        </a:lnTo>
                        <a:lnTo>
                          <a:pt x="1021" y="156"/>
                        </a:lnTo>
                        <a:lnTo>
                          <a:pt x="1002" y="185"/>
                        </a:lnTo>
                        <a:lnTo>
                          <a:pt x="972" y="224"/>
                        </a:lnTo>
                        <a:lnTo>
                          <a:pt x="943" y="263"/>
                        </a:lnTo>
                        <a:lnTo>
                          <a:pt x="914" y="292"/>
                        </a:lnTo>
                        <a:lnTo>
                          <a:pt x="885" y="321"/>
                        </a:lnTo>
                        <a:lnTo>
                          <a:pt x="856" y="350"/>
                        </a:lnTo>
                        <a:lnTo>
                          <a:pt x="827" y="379"/>
                        </a:lnTo>
                        <a:lnTo>
                          <a:pt x="788" y="399"/>
                        </a:lnTo>
                        <a:lnTo>
                          <a:pt x="759" y="428"/>
                        </a:lnTo>
                        <a:lnTo>
                          <a:pt x="729" y="457"/>
                        </a:lnTo>
                        <a:lnTo>
                          <a:pt x="690" y="477"/>
                        </a:lnTo>
                        <a:lnTo>
                          <a:pt x="652" y="496"/>
                        </a:lnTo>
                        <a:lnTo>
                          <a:pt x="613" y="526"/>
                        </a:lnTo>
                        <a:lnTo>
                          <a:pt x="574" y="535"/>
                        </a:lnTo>
                        <a:lnTo>
                          <a:pt x="535" y="555"/>
                        </a:lnTo>
                        <a:lnTo>
                          <a:pt x="496" y="574"/>
                        </a:lnTo>
                        <a:lnTo>
                          <a:pt x="457" y="594"/>
                        </a:lnTo>
                        <a:lnTo>
                          <a:pt x="418" y="613"/>
                        </a:lnTo>
                        <a:lnTo>
                          <a:pt x="379" y="623"/>
                        </a:lnTo>
                        <a:lnTo>
                          <a:pt x="340" y="633"/>
                        </a:lnTo>
                        <a:lnTo>
                          <a:pt x="292" y="642"/>
                        </a:lnTo>
                        <a:lnTo>
                          <a:pt x="253" y="662"/>
                        </a:lnTo>
                        <a:lnTo>
                          <a:pt x="214" y="662"/>
                        </a:lnTo>
                        <a:lnTo>
                          <a:pt x="165" y="672"/>
                        </a:lnTo>
                        <a:lnTo>
                          <a:pt x="126" y="681"/>
                        </a:lnTo>
                        <a:lnTo>
                          <a:pt x="87" y="691"/>
                        </a:lnTo>
                        <a:lnTo>
                          <a:pt x="39" y="691"/>
                        </a:lnTo>
                        <a:lnTo>
                          <a:pt x="0" y="691"/>
                        </a:lnTo>
                        <a:lnTo>
                          <a:pt x="0" y="7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3637080" y="3088440"/>
                    <a:ext cx="79164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4" h="730">
                        <a:moveTo>
                          <a:pt x="0" y="9"/>
                        </a:moveTo>
                        <a:lnTo>
                          <a:pt x="20" y="58"/>
                        </a:lnTo>
                        <a:lnTo>
                          <a:pt x="39" y="97"/>
                        </a:lnTo>
                        <a:lnTo>
                          <a:pt x="68" y="146"/>
                        </a:lnTo>
                        <a:lnTo>
                          <a:pt x="97" y="185"/>
                        </a:lnTo>
                        <a:lnTo>
                          <a:pt x="127" y="223"/>
                        </a:lnTo>
                        <a:lnTo>
                          <a:pt x="156" y="262"/>
                        </a:lnTo>
                        <a:lnTo>
                          <a:pt x="185" y="301"/>
                        </a:lnTo>
                        <a:lnTo>
                          <a:pt x="253" y="370"/>
                        </a:lnTo>
                        <a:lnTo>
                          <a:pt x="282" y="399"/>
                        </a:lnTo>
                        <a:lnTo>
                          <a:pt x="321" y="428"/>
                        </a:lnTo>
                        <a:lnTo>
                          <a:pt x="360" y="467"/>
                        </a:lnTo>
                        <a:lnTo>
                          <a:pt x="399" y="486"/>
                        </a:lnTo>
                        <a:lnTo>
                          <a:pt x="438" y="516"/>
                        </a:lnTo>
                        <a:lnTo>
                          <a:pt x="486" y="545"/>
                        </a:lnTo>
                        <a:lnTo>
                          <a:pt x="525" y="564"/>
                        </a:lnTo>
                        <a:lnTo>
                          <a:pt x="564" y="584"/>
                        </a:lnTo>
                        <a:lnTo>
                          <a:pt x="613" y="603"/>
                        </a:lnTo>
                        <a:lnTo>
                          <a:pt x="652" y="623"/>
                        </a:lnTo>
                        <a:lnTo>
                          <a:pt x="700" y="642"/>
                        </a:lnTo>
                        <a:lnTo>
                          <a:pt x="749" y="662"/>
                        </a:lnTo>
                        <a:lnTo>
                          <a:pt x="798" y="671"/>
                        </a:lnTo>
                        <a:lnTo>
                          <a:pt x="837" y="691"/>
                        </a:lnTo>
                        <a:lnTo>
                          <a:pt x="885" y="691"/>
                        </a:lnTo>
                        <a:lnTo>
                          <a:pt x="934" y="710"/>
                        </a:lnTo>
                        <a:lnTo>
                          <a:pt x="982" y="710"/>
                        </a:lnTo>
                        <a:lnTo>
                          <a:pt x="1031" y="720"/>
                        </a:lnTo>
                        <a:lnTo>
                          <a:pt x="1080" y="730"/>
                        </a:lnTo>
                        <a:lnTo>
                          <a:pt x="1128" y="730"/>
                        </a:lnTo>
                        <a:lnTo>
                          <a:pt x="1284" y="730"/>
                        </a:lnTo>
                        <a:lnTo>
                          <a:pt x="1284" y="720"/>
                        </a:lnTo>
                        <a:lnTo>
                          <a:pt x="1128" y="720"/>
                        </a:lnTo>
                        <a:lnTo>
                          <a:pt x="1080" y="720"/>
                        </a:lnTo>
                        <a:lnTo>
                          <a:pt x="1031" y="710"/>
                        </a:lnTo>
                        <a:lnTo>
                          <a:pt x="982" y="701"/>
                        </a:lnTo>
                        <a:lnTo>
                          <a:pt x="934" y="691"/>
                        </a:lnTo>
                        <a:lnTo>
                          <a:pt x="885" y="691"/>
                        </a:lnTo>
                        <a:lnTo>
                          <a:pt x="846" y="681"/>
                        </a:lnTo>
                        <a:lnTo>
                          <a:pt x="798" y="662"/>
                        </a:lnTo>
                        <a:lnTo>
                          <a:pt x="749" y="652"/>
                        </a:lnTo>
                        <a:lnTo>
                          <a:pt x="700" y="632"/>
                        </a:lnTo>
                        <a:lnTo>
                          <a:pt x="662" y="613"/>
                        </a:lnTo>
                        <a:lnTo>
                          <a:pt x="613" y="603"/>
                        </a:lnTo>
                        <a:lnTo>
                          <a:pt x="574" y="574"/>
                        </a:lnTo>
                        <a:lnTo>
                          <a:pt x="525" y="555"/>
                        </a:lnTo>
                        <a:lnTo>
                          <a:pt x="486" y="535"/>
                        </a:lnTo>
                        <a:lnTo>
                          <a:pt x="448" y="516"/>
                        </a:lnTo>
                        <a:lnTo>
                          <a:pt x="409" y="486"/>
                        </a:lnTo>
                        <a:lnTo>
                          <a:pt x="360" y="457"/>
                        </a:lnTo>
                        <a:lnTo>
                          <a:pt x="331" y="428"/>
                        </a:lnTo>
                        <a:lnTo>
                          <a:pt x="292" y="399"/>
                        </a:lnTo>
                        <a:lnTo>
                          <a:pt x="224" y="331"/>
                        </a:lnTo>
                        <a:lnTo>
                          <a:pt x="185" y="292"/>
                        </a:lnTo>
                        <a:lnTo>
                          <a:pt x="156" y="253"/>
                        </a:lnTo>
                        <a:lnTo>
                          <a:pt x="127" y="214"/>
                        </a:lnTo>
                        <a:lnTo>
                          <a:pt x="97" y="175"/>
                        </a:lnTo>
                        <a:lnTo>
                          <a:pt x="78" y="136"/>
                        </a:lnTo>
                        <a:lnTo>
                          <a:pt x="49" y="97"/>
                        </a:lnTo>
                        <a:lnTo>
                          <a:pt x="29" y="48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3601440" y="29973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58" y="156"/>
                        </a:lnTo>
                        <a:lnTo>
                          <a:pt x="68" y="14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3421440" y="2991960"/>
                    <a:ext cx="18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282" y="9"/>
                        </a:lnTo>
                        <a:lnTo>
                          <a:pt x="302" y="19"/>
                        </a:lnTo>
                        <a:lnTo>
                          <a:pt x="302" y="9"/>
                        </a:lnTo>
                        <a:lnTo>
                          <a:pt x="282" y="0"/>
                        </a:lnTo>
                        <a:lnTo>
                          <a:pt x="224" y="0"/>
                        </a:lnTo>
                        <a:lnTo>
                          <a:pt x="204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3409560" y="2919960"/>
                    <a:ext cx="176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26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107"/>
                        </a:lnTo>
                        <a:lnTo>
                          <a:pt x="19" y="126"/>
                        </a:lnTo>
                        <a:lnTo>
                          <a:pt x="29" y="117"/>
                        </a:lnTo>
                        <a:lnTo>
                          <a:pt x="19" y="107"/>
                        </a:lnTo>
                        <a:lnTo>
                          <a:pt x="19" y="88"/>
                        </a:lnTo>
                        <a:lnTo>
                          <a:pt x="9" y="78"/>
                        </a:lnTo>
                        <a:lnTo>
                          <a:pt x="9" y="5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3409560" y="285372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19" y="10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3415320" y="2847600"/>
                    <a:ext cx="10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9">
                        <a:moveTo>
                          <a:pt x="156" y="10"/>
                        </a:moveTo>
                        <a:lnTo>
                          <a:pt x="166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5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3511440" y="27874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"/>
                        </a:move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3439080" y="2751120"/>
                    <a:ext cx="90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30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59"/>
                        </a:lnTo>
                        <a:lnTo>
                          <a:pt x="88" y="68"/>
                        </a:lnTo>
                        <a:lnTo>
                          <a:pt x="146" y="68"/>
                        </a:lnTo>
                        <a:lnTo>
                          <a:pt x="146" y="59"/>
                        </a:lnTo>
                        <a:lnTo>
                          <a:pt x="78" y="59"/>
                        </a:lnTo>
                        <a:lnTo>
                          <a:pt x="68" y="59"/>
                        </a:lnTo>
                        <a:lnTo>
                          <a:pt x="68" y="49"/>
                        </a:lnTo>
                        <a:lnTo>
                          <a:pt x="59" y="49"/>
                        </a:lnTo>
                        <a:lnTo>
                          <a:pt x="4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3415320" y="27090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30" y="59"/>
                        </a:lnTo>
                        <a:lnTo>
                          <a:pt x="30" y="68"/>
                        </a:lnTo>
                        <a:lnTo>
                          <a:pt x="39" y="7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3379320" y="26913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3361320" y="262512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10" y="1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9" y="87"/>
                        </a:lnTo>
                        <a:lnTo>
                          <a:pt x="19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19" y="87"/>
                        </a:ln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3325320" y="2498400"/>
                    <a:ext cx="4248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15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0" y="59"/>
                        </a:lnTo>
                        <a:lnTo>
                          <a:pt x="0" y="88"/>
                        </a:lnTo>
                        <a:lnTo>
                          <a:pt x="10" y="117"/>
                        </a:lnTo>
                        <a:lnTo>
                          <a:pt x="20" y="137"/>
                        </a:lnTo>
                        <a:lnTo>
                          <a:pt x="39" y="166"/>
                        </a:lnTo>
                        <a:lnTo>
                          <a:pt x="49" y="195"/>
                        </a:lnTo>
                        <a:lnTo>
                          <a:pt x="69" y="215"/>
                        </a:lnTo>
                        <a:lnTo>
                          <a:pt x="69" y="205"/>
                        </a:lnTo>
                        <a:lnTo>
                          <a:pt x="59" y="185"/>
                        </a:lnTo>
                        <a:lnTo>
                          <a:pt x="39" y="156"/>
                        </a:lnTo>
                        <a:lnTo>
                          <a:pt x="30" y="137"/>
                        </a:lnTo>
                        <a:lnTo>
                          <a:pt x="20" y="11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3331440" y="2438640"/>
                    <a:ext cx="90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7">
                        <a:moveTo>
                          <a:pt x="146" y="0"/>
                        </a:move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27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lnTo>
                          <a:pt x="14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3415320" y="2438640"/>
                    <a:ext cx="18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9">
                        <a:moveTo>
                          <a:pt x="20" y="39"/>
                        </a:moveTo>
                        <a:lnTo>
                          <a:pt x="30" y="3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3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0" y="39"/>
                        </a:lnTo>
                        <a:lnTo>
                          <a:pt x="2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3415320" y="24325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49"/>
                        </a:lnTo>
                        <a:lnTo>
                          <a:pt x="30" y="49"/>
                        </a:lnTo>
                        <a:lnTo>
                          <a:pt x="30" y="49"/>
                        </a:lnTo>
                        <a:lnTo>
                          <a:pt x="39" y="3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3391200" y="2306520"/>
                    <a:ext cx="298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4">
                        <a:moveTo>
                          <a:pt x="20" y="0"/>
                        </a:move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20" y="156"/>
                        </a:lnTo>
                        <a:lnTo>
                          <a:pt x="30" y="175"/>
                        </a:lnTo>
                        <a:lnTo>
                          <a:pt x="39" y="204"/>
                        </a:lnTo>
                        <a:lnTo>
                          <a:pt x="49" y="204"/>
                        </a:lnTo>
                        <a:lnTo>
                          <a:pt x="39" y="175"/>
                        </a:lnTo>
                        <a:lnTo>
                          <a:pt x="30" y="156"/>
                        </a:lnTo>
                        <a:lnTo>
                          <a:pt x="20" y="126"/>
                        </a:lnTo>
                        <a:lnTo>
                          <a:pt x="20" y="107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3403440" y="2270160"/>
                    <a:ext cx="5976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9">
                        <a:moveTo>
                          <a:pt x="87" y="10"/>
                        </a:move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68" y="10"/>
                        </a:lnTo>
                        <a:lnTo>
                          <a:pt x="58" y="2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10" y="59"/>
                        </a:lnTo>
                        <a:lnTo>
                          <a:pt x="29" y="4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58" y="3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3457080" y="2216520"/>
                    <a:ext cx="183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0" y="4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3469320" y="2108160"/>
                    <a:ext cx="1854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175">
                        <a:moveTo>
                          <a:pt x="301" y="0"/>
                        </a:moveTo>
                        <a:lnTo>
                          <a:pt x="282" y="9"/>
                        </a:lnTo>
                        <a:lnTo>
                          <a:pt x="262" y="9"/>
                        </a:lnTo>
                        <a:lnTo>
                          <a:pt x="243" y="29"/>
                        </a:lnTo>
                        <a:lnTo>
                          <a:pt x="224" y="38"/>
                        </a:lnTo>
                        <a:lnTo>
                          <a:pt x="204" y="48"/>
                        </a:lnTo>
                        <a:lnTo>
                          <a:pt x="185" y="48"/>
                        </a:lnTo>
                        <a:lnTo>
                          <a:pt x="165" y="58"/>
                        </a:lnTo>
                        <a:lnTo>
                          <a:pt x="146" y="68"/>
                        </a:lnTo>
                        <a:lnTo>
                          <a:pt x="126" y="77"/>
                        </a:lnTo>
                        <a:lnTo>
                          <a:pt x="107" y="87"/>
                        </a:lnTo>
                        <a:lnTo>
                          <a:pt x="87" y="97"/>
                        </a:lnTo>
                        <a:lnTo>
                          <a:pt x="68" y="116"/>
                        </a:lnTo>
                        <a:lnTo>
                          <a:pt x="49" y="126"/>
                        </a:lnTo>
                        <a:lnTo>
                          <a:pt x="29" y="136"/>
                        </a:lnTo>
                        <a:lnTo>
                          <a:pt x="19" y="155"/>
                        </a:lnTo>
                        <a:lnTo>
                          <a:pt x="0" y="175"/>
                        </a:lnTo>
                        <a:lnTo>
                          <a:pt x="10" y="175"/>
                        </a:lnTo>
                        <a:lnTo>
                          <a:pt x="19" y="165"/>
                        </a:lnTo>
                        <a:lnTo>
                          <a:pt x="39" y="146"/>
                        </a:lnTo>
                        <a:lnTo>
                          <a:pt x="58" y="136"/>
                        </a:lnTo>
                        <a:lnTo>
                          <a:pt x="68" y="126"/>
                        </a:lnTo>
                        <a:lnTo>
                          <a:pt x="87" y="107"/>
                        </a:lnTo>
                        <a:lnTo>
                          <a:pt x="107" y="97"/>
                        </a:lnTo>
                        <a:lnTo>
                          <a:pt x="126" y="87"/>
                        </a:lnTo>
                        <a:lnTo>
                          <a:pt x="146" y="77"/>
                        </a:lnTo>
                        <a:lnTo>
                          <a:pt x="165" y="68"/>
                        </a:lnTo>
                        <a:lnTo>
                          <a:pt x="185" y="58"/>
                        </a:lnTo>
                        <a:lnTo>
                          <a:pt x="204" y="48"/>
                        </a:lnTo>
                        <a:lnTo>
                          <a:pt x="224" y="48"/>
                        </a:lnTo>
                        <a:lnTo>
                          <a:pt x="243" y="38"/>
                        </a:lnTo>
                        <a:lnTo>
                          <a:pt x="262" y="29"/>
                        </a:lnTo>
                        <a:lnTo>
                          <a:pt x="282" y="9"/>
                        </a:lnTo>
                        <a:lnTo>
                          <a:pt x="301" y="0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3655080" y="2095920"/>
                    <a:ext cx="900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29">
                        <a:moveTo>
                          <a:pt x="146" y="20"/>
                        </a:moveTo>
                        <a:lnTo>
                          <a:pt x="137" y="20"/>
                        </a:lnTo>
                        <a:lnTo>
                          <a:pt x="137" y="20"/>
                        </a:lnTo>
                        <a:lnTo>
                          <a:pt x="12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9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9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20"/>
                        </a:lnTo>
                        <a:lnTo>
                          <a:pt x="127" y="20"/>
                        </a:lnTo>
                        <a:lnTo>
                          <a:pt x="137" y="29"/>
                        </a:lnTo>
                        <a:lnTo>
                          <a:pt x="146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3739320" y="2108160"/>
                    <a:ext cx="23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26">
                        <a:moveTo>
                          <a:pt x="38" y="116"/>
                        </a:moveTo>
                        <a:lnTo>
                          <a:pt x="38" y="126"/>
                        </a:lnTo>
                        <a:lnTo>
                          <a:pt x="38" y="107"/>
                        </a:lnTo>
                        <a:lnTo>
                          <a:pt x="38" y="87"/>
                        </a:lnTo>
                        <a:lnTo>
                          <a:pt x="38" y="77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19" y="2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77"/>
                        </a:lnTo>
                        <a:lnTo>
                          <a:pt x="29" y="87"/>
                        </a:lnTo>
                        <a:lnTo>
                          <a:pt x="29" y="107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26"/>
                        </a:lnTo>
                        <a:lnTo>
                          <a:pt x="38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3763080" y="21621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3810960" y="216216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68" y="10"/>
                        </a:moveTo>
                        <a:lnTo>
                          <a:pt x="68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3853080" y="2005920"/>
                    <a:ext cx="101340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4" h="263">
                        <a:moveTo>
                          <a:pt x="1634" y="204"/>
                        </a:moveTo>
                        <a:lnTo>
                          <a:pt x="1634" y="204"/>
                        </a:lnTo>
                        <a:lnTo>
                          <a:pt x="1595" y="175"/>
                        </a:lnTo>
                        <a:lnTo>
                          <a:pt x="1547" y="156"/>
                        </a:lnTo>
                        <a:lnTo>
                          <a:pt x="1498" y="127"/>
                        </a:lnTo>
                        <a:lnTo>
                          <a:pt x="1449" y="107"/>
                        </a:lnTo>
                        <a:lnTo>
                          <a:pt x="1401" y="88"/>
                        </a:lnTo>
                        <a:lnTo>
                          <a:pt x="1352" y="78"/>
                        </a:lnTo>
                        <a:lnTo>
                          <a:pt x="1294" y="58"/>
                        </a:lnTo>
                        <a:lnTo>
                          <a:pt x="1245" y="39"/>
                        </a:lnTo>
                        <a:lnTo>
                          <a:pt x="1197" y="39"/>
                        </a:lnTo>
                        <a:lnTo>
                          <a:pt x="1138" y="19"/>
                        </a:lnTo>
                        <a:lnTo>
                          <a:pt x="1090" y="10"/>
                        </a:lnTo>
                        <a:lnTo>
                          <a:pt x="1031" y="10"/>
                        </a:lnTo>
                        <a:lnTo>
                          <a:pt x="973" y="0"/>
                        </a:lnTo>
                        <a:lnTo>
                          <a:pt x="924" y="0"/>
                        </a:lnTo>
                        <a:lnTo>
                          <a:pt x="808" y="0"/>
                        </a:lnTo>
                        <a:lnTo>
                          <a:pt x="759" y="0"/>
                        </a:lnTo>
                        <a:lnTo>
                          <a:pt x="701" y="10"/>
                        </a:lnTo>
                        <a:lnTo>
                          <a:pt x="652" y="10"/>
                        </a:lnTo>
                        <a:lnTo>
                          <a:pt x="594" y="19"/>
                        </a:lnTo>
                        <a:lnTo>
                          <a:pt x="535" y="39"/>
                        </a:lnTo>
                        <a:lnTo>
                          <a:pt x="487" y="39"/>
                        </a:lnTo>
                        <a:lnTo>
                          <a:pt x="438" y="58"/>
                        </a:lnTo>
                        <a:lnTo>
                          <a:pt x="380" y="78"/>
                        </a:lnTo>
                        <a:lnTo>
                          <a:pt x="331" y="88"/>
                        </a:lnTo>
                        <a:lnTo>
                          <a:pt x="282" y="107"/>
                        </a:lnTo>
                        <a:lnTo>
                          <a:pt x="234" y="127"/>
                        </a:lnTo>
                        <a:lnTo>
                          <a:pt x="185" y="156"/>
                        </a:lnTo>
                        <a:lnTo>
                          <a:pt x="136" y="175"/>
                        </a:lnTo>
                        <a:lnTo>
                          <a:pt x="88" y="204"/>
                        </a:lnTo>
                        <a:lnTo>
                          <a:pt x="39" y="234"/>
                        </a:lnTo>
                        <a:lnTo>
                          <a:pt x="0" y="263"/>
                        </a:lnTo>
                        <a:lnTo>
                          <a:pt x="0" y="263"/>
                        </a:lnTo>
                        <a:lnTo>
                          <a:pt x="49" y="243"/>
                        </a:lnTo>
                        <a:lnTo>
                          <a:pt x="98" y="214"/>
                        </a:lnTo>
                        <a:lnTo>
                          <a:pt x="136" y="185"/>
                        </a:lnTo>
                        <a:lnTo>
                          <a:pt x="185" y="166"/>
                        </a:lnTo>
                        <a:lnTo>
                          <a:pt x="234" y="136"/>
                        </a:lnTo>
                        <a:lnTo>
                          <a:pt x="282" y="117"/>
                        </a:lnTo>
                        <a:lnTo>
                          <a:pt x="331" y="97"/>
                        </a:lnTo>
                        <a:lnTo>
                          <a:pt x="389" y="78"/>
                        </a:lnTo>
                        <a:lnTo>
                          <a:pt x="438" y="68"/>
                        </a:lnTo>
                        <a:lnTo>
                          <a:pt x="487" y="49"/>
                        </a:lnTo>
                        <a:lnTo>
                          <a:pt x="535" y="39"/>
                        </a:lnTo>
                        <a:lnTo>
                          <a:pt x="594" y="29"/>
                        </a:lnTo>
                        <a:lnTo>
                          <a:pt x="652" y="19"/>
                        </a:lnTo>
                        <a:lnTo>
                          <a:pt x="701" y="19"/>
                        </a:lnTo>
                        <a:lnTo>
                          <a:pt x="759" y="10"/>
                        </a:lnTo>
                        <a:lnTo>
                          <a:pt x="808" y="10"/>
                        </a:lnTo>
                        <a:lnTo>
                          <a:pt x="924" y="10"/>
                        </a:lnTo>
                        <a:lnTo>
                          <a:pt x="973" y="10"/>
                        </a:lnTo>
                        <a:lnTo>
                          <a:pt x="1031" y="19"/>
                        </a:lnTo>
                        <a:lnTo>
                          <a:pt x="1090" y="19"/>
                        </a:lnTo>
                        <a:lnTo>
                          <a:pt x="1138" y="29"/>
                        </a:lnTo>
                        <a:lnTo>
                          <a:pt x="1197" y="39"/>
                        </a:lnTo>
                        <a:lnTo>
                          <a:pt x="1245" y="49"/>
                        </a:lnTo>
                        <a:lnTo>
                          <a:pt x="1294" y="68"/>
                        </a:lnTo>
                        <a:lnTo>
                          <a:pt x="1352" y="78"/>
                        </a:lnTo>
                        <a:lnTo>
                          <a:pt x="1401" y="97"/>
                        </a:lnTo>
                        <a:lnTo>
                          <a:pt x="1449" y="117"/>
                        </a:lnTo>
                        <a:lnTo>
                          <a:pt x="1498" y="136"/>
                        </a:lnTo>
                        <a:lnTo>
                          <a:pt x="1547" y="166"/>
                        </a:lnTo>
                        <a:lnTo>
                          <a:pt x="1586" y="185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14"/>
                        </a:lnTo>
                        <a:lnTo>
                          <a:pt x="1644" y="214"/>
                        </a:lnTo>
                        <a:lnTo>
                          <a:pt x="1634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3643200" y="2017440"/>
                    <a:ext cx="1318680" cy="15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9" h="2444">
                        <a:moveTo>
                          <a:pt x="1712" y="88"/>
                        </a:moveTo>
                        <a:lnTo>
                          <a:pt x="1712" y="98"/>
                        </a:lnTo>
                        <a:lnTo>
                          <a:pt x="1712" y="108"/>
                        </a:lnTo>
                        <a:lnTo>
                          <a:pt x="1712" y="117"/>
                        </a:lnTo>
                        <a:lnTo>
                          <a:pt x="1721" y="127"/>
                        </a:lnTo>
                        <a:lnTo>
                          <a:pt x="1731" y="127"/>
                        </a:lnTo>
                        <a:lnTo>
                          <a:pt x="1750" y="137"/>
                        </a:lnTo>
                        <a:lnTo>
                          <a:pt x="1760" y="137"/>
                        </a:lnTo>
                        <a:lnTo>
                          <a:pt x="1780" y="147"/>
                        </a:lnTo>
                        <a:lnTo>
                          <a:pt x="1789" y="147"/>
                        </a:lnTo>
                        <a:lnTo>
                          <a:pt x="1809" y="147"/>
                        </a:lnTo>
                        <a:lnTo>
                          <a:pt x="1819" y="156"/>
                        </a:lnTo>
                        <a:lnTo>
                          <a:pt x="1838" y="156"/>
                        </a:lnTo>
                        <a:lnTo>
                          <a:pt x="1848" y="166"/>
                        </a:lnTo>
                        <a:lnTo>
                          <a:pt x="1857" y="176"/>
                        </a:lnTo>
                        <a:lnTo>
                          <a:pt x="1877" y="185"/>
                        </a:lnTo>
                        <a:lnTo>
                          <a:pt x="1887" y="195"/>
                        </a:lnTo>
                        <a:lnTo>
                          <a:pt x="1887" y="205"/>
                        </a:lnTo>
                        <a:lnTo>
                          <a:pt x="1896" y="224"/>
                        </a:lnTo>
                        <a:lnTo>
                          <a:pt x="1906" y="234"/>
                        </a:lnTo>
                        <a:lnTo>
                          <a:pt x="1896" y="244"/>
                        </a:lnTo>
                        <a:lnTo>
                          <a:pt x="1887" y="244"/>
                        </a:lnTo>
                        <a:lnTo>
                          <a:pt x="1877" y="254"/>
                        </a:lnTo>
                        <a:lnTo>
                          <a:pt x="1867" y="244"/>
                        </a:lnTo>
                        <a:lnTo>
                          <a:pt x="1857" y="244"/>
                        </a:lnTo>
                        <a:lnTo>
                          <a:pt x="1848" y="244"/>
                        </a:lnTo>
                        <a:lnTo>
                          <a:pt x="1838" y="234"/>
                        </a:lnTo>
                        <a:lnTo>
                          <a:pt x="1828" y="234"/>
                        </a:lnTo>
                        <a:lnTo>
                          <a:pt x="1819" y="234"/>
                        </a:lnTo>
                        <a:lnTo>
                          <a:pt x="1799" y="224"/>
                        </a:lnTo>
                        <a:lnTo>
                          <a:pt x="1789" y="215"/>
                        </a:lnTo>
                        <a:lnTo>
                          <a:pt x="1780" y="205"/>
                        </a:lnTo>
                        <a:lnTo>
                          <a:pt x="1770" y="195"/>
                        </a:lnTo>
                        <a:lnTo>
                          <a:pt x="1760" y="195"/>
                        </a:lnTo>
                        <a:lnTo>
                          <a:pt x="1750" y="185"/>
                        </a:lnTo>
                        <a:lnTo>
                          <a:pt x="1731" y="176"/>
                        </a:lnTo>
                        <a:lnTo>
                          <a:pt x="1721" y="156"/>
                        </a:lnTo>
                        <a:lnTo>
                          <a:pt x="1712" y="147"/>
                        </a:lnTo>
                        <a:lnTo>
                          <a:pt x="1702" y="147"/>
                        </a:lnTo>
                        <a:lnTo>
                          <a:pt x="1692" y="137"/>
                        </a:lnTo>
                        <a:lnTo>
                          <a:pt x="1673" y="137"/>
                        </a:lnTo>
                        <a:lnTo>
                          <a:pt x="1663" y="127"/>
                        </a:lnTo>
                        <a:lnTo>
                          <a:pt x="1653" y="127"/>
                        </a:lnTo>
                        <a:lnTo>
                          <a:pt x="1634" y="117"/>
                        </a:lnTo>
                        <a:lnTo>
                          <a:pt x="1624" y="117"/>
                        </a:lnTo>
                        <a:lnTo>
                          <a:pt x="1605" y="127"/>
                        </a:lnTo>
                        <a:lnTo>
                          <a:pt x="1595" y="127"/>
                        </a:lnTo>
                        <a:lnTo>
                          <a:pt x="1585" y="127"/>
                        </a:lnTo>
                        <a:lnTo>
                          <a:pt x="1556" y="127"/>
                        </a:lnTo>
                        <a:lnTo>
                          <a:pt x="1546" y="137"/>
                        </a:lnTo>
                        <a:lnTo>
                          <a:pt x="1537" y="137"/>
                        </a:lnTo>
                        <a:lnTo>
                          <a:pt x="1517" y="147"/>
                        </a:lnTo>
                        <a:lnTo>
                          <a:pt x="1498" y="156"/>
                        </a:lnTo>
                        <a:lnTo>
                          <a:pt x="1478" y="166"/>
                        </a:lnTo>
                        <a:lnTo>
                          <a:pt x="1459" y="176"/>
                        </a:lnTo>
                        <a:lnTo>
                          <a:pt x="1449" y="185"/>
                        </a:lnTo>
                        <a:lnTo>
                          <a:pt x="1420" y="185"/>
                        </a:lnTo>
                        <a:lnTo>
                          <a:pt x="1400" y="185"/>
                        </a:lnTo>
                        <a:lnTo>
                          <a:pt x="1381" y="195"/>
                        </a:lnTo>
                        <a:lnTo>
                          <a:pt x="1361" y="195"/>
                        </a:lnTo>
                        <a:lnTo>
                          <a:pt x="1342" y="195"/>
                        </a:lnTo>
                        <a:lnTo>
                          <a:pt x="1323" y="205"/>
                        </a:lnTo>
                        <a:lnTo>
                          <a:pt x="1303" y="215"/>
                        </a:lnTo>
                        <a:lnTo>
                          <a:pt x="1284" y="224"/>
                        </a:lnTo>
                        <a:lnTo>
                          <a:pt x="1274" y="234"/>
                        </a:lnTo>
                        <a:lnTo>
                          <a:pt x="1254" y="244"/>
                        </a:lnTo>
                        <a:lnTo>
                          <a:pt x="1245" y="263"/>
                        </a:lnTo>
                        <a:lnTo>
                          <a:pt x="1245" y="283"/>
                        </a:lnTo>
                        <a:lnTo>
                          <a:pt x="1254" y="293"/>
                        </a:lnTo>
                        <a:lnTo>
                          <a:pt x="1264" y="312"/>
                        </a:lnTo>
                        <a:lnTo>
                          <a:pt x="1274" y="322"/>
                        </a:lnTo>
                        <a:lnTo>
                          <a:pt x="1284" y="331"/>
                        </a:lnTo>
                        <a:lnTo>
                          <a:pt x="1293" y="351"/>
                        </a:lnTo>
                        <a:lnTo>
                          <a:pt x="1303" y="361"/>
                        </a:lnTo>
                        <a:lnTo>
                          <a:pt x="1313" y="370"/>
                        </a:lnTo>
                        <a:lnTo>
                          <a:pt x="1313" y="380"/>
                        </a:lnTo>
                        <a:lnTo>
                          <a:pt x="1303" y="390"/>
                        </a:lnTo>
                        <a:lnTo>
                          <a:pt x="1303" y="400"/>
                        </a:lnTo>
                        <a:lnTo>
                          <a:pt x="1313" y="409"/>
                        </a:lnTo>
                        <a:lnTo>
                          <a:pt x="1313" y="419"/>
                        </a:lnTo>
                        <a:lnTo>
                          <a:pt x="1313" y="439"/>
                        </a:lnTo>
                        <a:lnTo>
                          <a:pt x="1323" y="448"/>
                        </a:lnTo>
                        <a:lnTo>
                          <a:pt x="1361" y="478"/>
                        </a:lnTo>
                        <a:lnTo>
                          <a:pt x="1361" y="487"/>
                        </a:lnTo>
                        <a:lnTo>
                          <a:pt x="1361" y="497"/>
                        </a:lnTo>
                        <a:lnTo>
                          <a:pt x="1371" y="507"/>
                        </a:lnTo>
                        <a:lnTo>
                          <a:pt x="1371" y="516"/>
                        </a:lnTo>
                        <a:lnTo>
                          <a:pt x="1274" y="594"/>
                        </a:lnTo>
                        <a:lnTo>
                          <a:pt x="1274" y="604"/>
                        </a:lnTo>
                        <a:lnTo>
                          <a:pt x="1274" y="604"/>
                        </a:lnTo>
                        <a:lnTo>
                          <a:pt x="1284" y="614"/>
                        </a:lnTo>
                        <a:lnTo>
                          <a:pt x="1284" y="614"/>
                        </a:lnTo>
                        <a:lnTo>
                          <a:pt x="1293" y="624"/>
                        </a:lnTo>
                        <a:lnTo>
                          <a:pt x="1352" y="624"/>
                        </a:lnTo>
                        <a:lnTo>
                          <a:pt x="1361" y="614"/>
                        </a:lnTo>
                        <a:lnTo>
                          <a:pt x="1361" y="614"/>
                        </a:lnTo>
                        <a:lnTo>
                          <a:pt x="1371" y="614"/>
                        </a:lnTo>
                        <a:lnTo>
                          <a:pt x="1381" y="604"/>
                        </a:lnTo>
                        <a:lnTo>
                          <a:pt x="1391" y="604"/>
                        </a:lnTo>
                        <a:lnTo>
                          <a:pt x="1400" y="604"/>
                        </a:lnTo>
                        <a:lnTo>
                          <a:pt x="1449" y="604"/>
                        </a:lnTo>
                        <a:lnTo>
                          <a:pt x="1449" y="594"/>
                        </a:lnTo>
                        <a:lnTo>
                          <a:pt x="1478" y="594"/>
                        </a:lnTo>
                        <a:lnTo>
                          <a:pt x="1488" y="594"/>
                        </a:lnTo>
                        <a:lnTo>
                          <a:pt x="1507" y="594"/>
                        </a:lnTo>
                        <a:lnTo>
                          <a:pt x="1517" y="585"/>
                        </a:lnTo>
                        <a:lnTo>
                          <a:pt x="1537" y="585"/>
                        </a:lnTo>
                        <a:lnTo>
                          <a:pt x="1546" y="594"/>
                        </a:lnTo>
                        <a:lnTo>
                          <a:pt x="1566" y="594"/>
                        </a:lnTo>
                        <a:lnTo>
                          <a:pt x="1575" y="594"/>
                        </a:lnTo>
                        <a:lnTo>
                          <a:pt x="1585" y="624"/>
                        </a:lnTo>
                        <a:lnTo>
                          <a:pt x="1595" y="643"/>
                        </a:lnTo>
                        <a:lnTo>
                          <a:pt x="1595" y="672"/>
                        </a:lnTo>
                        <a:lnTo>
                          <a:pt x="1605" y="701"/>
                        </a:lnTo>
                        <a:lnTo>
                          <a:pt x="1605" y="721"/>
                        </a:lnTo>
                        <a:lnTo>
                          <a:pt x="1614" y="750"/>
                        </a:lnTo>
                        <a:lnTo>
                          <a:pt x="1614" y="809"/>
                        </a:lnTo>
                        <a:lnTo>
                          <a:pt x="1624" y="818"/>
                        </a:lnTo>
                        <a:lnTo>
                          <a:pt x="1634" y="838"/>
                        </a:lnTo>
                        <a:lnTo>
                          <a:pt x="1653" y="838"/>
                        </a:lnTo>
                        <a:lnTo>
                          <a:pt x="1663" y="848"/>
                        </a:lnTo>
                        <a:lnTo>
                          <a:pt x="1673" y="848"/>
                        </a:lnTo>
                        <a:lnTo>
                          <a:pt x="1682" y="857"/>
                        </a:lnTo>
                        <a:lnTo>
                          <a:pt x="1702" y="857"/>
                        </a:lnTo>
                        <a:lnTo>
                          <a:pt x="1712" y="867"/>
                        </a:lnTo>
                        <a:lnTo>
                          <a:pt x="1721" y="867"/>
                        </a:lnTo>
                        <a:lnTo>
                          <a:pt x="1741" y="877"/>
                        </a:lnTo>
                        <a:lnTo>
                          <a:pt x="1750" y="877"/>
                        </a:lnTo>
                        <a:lnTo>
                          <a:pt x="1760" y="886"/>
                        </a:lnTo>
                        <a:lnTo>
                          <a:pt x="1780" y="886"/>
                        </a:lnTo>
                        <a:lnTo>
                          <a:pt x="1789" y="896"/>
                        </a:lnTo>
                        <a:lnTo>
                          <a:pt x="1799" y="896"/>
                        </a:lnTo>
                        <a:lnTo>
                          <a:pt x="1809" y="896"/>
                        </a:lnTo>
                        <a:lnTo>
                          <a:pt x="1809" y="906"/>
                        </a:lnTo>
                        <a:lnTo>
                          <a:pt x="1819" y="916"/>
                        </a:lnTo>
                        <a:lnTo>
                          <a:pt x="1819" y="925"/>
                        </a:lnTo>
                        <a:lnTo>
                          <a:pt x="1828" y="935"/>
                        </a:lnTo>
                        <a:lnTo>
                          <a:pt x="1828" y="935"/>
                        </a:lnTo>
                        <a:lnTo>
                          <a:pt x="1809" y="945"/>
                        </a:lnTo>
                        <a:lnTo>
                          <a:pt x="1809" y="945"/>
                        </a:lnTo>
                        <a:lnTo>
                          <a:pt x="1799" y="945"/>
                        </a:lnTo>
                        <a:lnTo>
                          <a:pt x="1799" y="945"/>
                        </a:lnTo>
                        <a:lnTo>
                          <a:pt x="1789" y="935"/>
                        </a:lnTo>
                        <a:lnTo>
                          <a:pt x="1789" y="935"/>
                        </a:lnTo>
                        <a:lnTo>
                          <a:pt x="1780" y="935"/>
                        </a:lnTo>
                        <a:lnTo>
                          <a:pt x="1770" y="925"/>
                        </a:lnTo>
                        <a:lnTo>
                          <a:pt x="1770" y="916"/>
                        </a:lnTo>
                        <a:lnTo>
                          <a:pt x="1760" y="916"/>
                        </a:lnTo>
                        <a:lnTo>
                          <a:pt x="1750" y="906"/>
                        </a:lnTo>
                        <a:lnTo>
                          <a:pt x="1750" y="906"/>
                        </a:lnTo>
                        <a:lnTo>
                          <a:pt x="1741" y="896"/>
                        </a:lnTo>
                        <a:lnTo>
                          <a:pt x="1731" y="896"/>
                        </a:lnTo>
                        <a:lnTo>
                          <a:pt x="1721" y="896"/>
                        </a:lnTo>
                        <a:lnTo>
                          <a:pt x="1712" y="896"/>
                        </a:lnTo>
                        <a:lnTo>
                          <a:pt x="1712" y="886"/>
                        </a:lnTo>
                        <a:lnTo>
                          <a:pt x="1682" y="886"/>
                        </a:lnTo>
                        <a:lnTo>
                          <a:pt x="1673" y="886"/>
                        </a:lnTo>
                        <a:lnTo>
                          <a:pt x="1663" y="886"/>
                        </a:lnTo>
                        <a:lnTo>
                          <a:pt x="1663" y="896"/>
                        </a:lnTo>
                        <a:lnTo>
                          <a:pt x="1663" y="896"/>
                        </a:lnTo>
                        <a:lnTo>
                          <a:pt x="1663" y="906"/>
                        </a:lnTo>
                        <a:lnTo>
                          <a:pt x="1663" y="916"/>
                        </a:lnTo>
                        <a:lnTo>
                          <a:pt x="1721" y="974"/>
                        </a:lnTo>
                        <a:lnTo>
                          <a:pt x="1712" y="984"/>
                        </a:lnTo>
                        <a:lnTo>
                          <a:pt x="1702" y="984"/>
                        </a:lnTo>
                        <a:lnTo>
                          <a:pt x="1702" y="994"/>
                        </a:lnTo>
                        <a:lnTo>
                          <a:pt x="1692" y="994"/>
                        </a:lnTo>
                        <a:lnTo>
                          <a:pt x="1682" y="1003"/>
                        </a:lnTo>
                        <a:lnTo>
                          <a:pt x="1682" y="1033"/>
                        </a:lnTo>
                        <a:lnTo>
                          <a:pt x="1702" y="1042"/>
                        </a:lnTo>
                        <a:lnTo>
                          <a:pt x="1702" y="1052"/>
                        </a:lnTo>
                        <a:lnTo>
                          <a:pt x="1712" y="1101"/>
                        </a:lnTo>
                        <a:lnTo>
                          <a:pt x="1712" y="1110"/>
                        </a:lnTo>
                        <a:lnTo>
                          <a:pt x="1721" y="1110"/>
                        </a:lnTo>
                        <a:lnTo>
                          <a:pt x="1731" y="1110"/>
                        </a:lnTo>
                        <a:lnTo>
                          <a:pt x="1741" y="1120"/>
                        </a:lnTo>
                        <a:lnTo>
                          <a:pt x="1750" y="1120"/>
                        </a:lnTo>
                        <a:lnTo>
                          <a:pt x="1750" y="1130"/>
                        </a:lnTo>
                        <a:lnTo>
                          <a:pt x="1760" y="1130"/>
                        </a:lnTo>
                        <a:lnTo>
                          <a:pt x="1770" y="1130"/>
                        </a:lnTo>
                        <a:lnTo>
                          <a:pt x="1770" y="1149"/>
                        </a:lnTo>
                        <a:lnTo>
                          <a:pt x="1780" y="1159"/>
                        </a:lnTo>
                        <a:lnTo>
                          <a:pt x="1780" y="1169"/>
                        </a:lnTo>
                        <a:lnTo>
                          <a:pt x="1789" y="1179"/>
                        </a:lnTo>
                        <a:lnTo>
                          <a:pt x="1789" y="1188"/>
                        </a:lnTo>
                        <a:lnTo>
                          <a:pt x="1789" y="1198"/>
                        </a:lnTo>
                        <a:lnTo>
                          <a:pt x="1799" y="1208"/>
                        </a:lnTo>
                        <a:lnTo>
                          <a:pt x="1721" y="1266"/>
                        </a:lnTo>
                        <a:lnTo>
                          <a:pt x="1721" y="1295"/>
                        </a:lnTo>
                        <a:lnTo>
                          <a:pt x="1721" y="1334"/>
                        </a:lnTo>
                        <a:lnTo>
                          <a:pt x="1731" y="1373"/>
                        </a:lnTo>
                        <a:lnTo>
                          <a:pt x="1731" y="1403"/>
                        </a:lnTo>
                        <a:lnTo>
                          <a:pt x="1721" y="1422"/>
                        </a:lnTo>
                        <a:lnTo>
                          <a:pt x="1712" y="1461"/>
                        </a:lnTo>
                        <a:lnTo>
                          <a:pt x="1692" y="1490"/>
                        </a:lnTo>
                        <a:lnTo>
                          <a:pt x="1682" y="1519"/>
                        </a:lnTo>
                        <a:lnTo>
                          <a:pt x="1673" y="1549"/>
                        </a:lnTo>
                        <a:lnTo>
                          <a:pt x="1673" y="1578"/>
                        </a:lnTo>
                        <a:lnTo>
                          <a:pt x="1682" y="1607"/>
                        </a:lnTo>
                        <a:lnTo>
                          <a:pt x="1712" y="1636"/>
                        </a:lnTo>
                        <a:lnTo>
                          <a:pt x="1731" y="1656"/>
                        </a:lnTo>
                        <a:lnTo>
                          <a:pt x="1741" y="1665"/>
                        </a:lnTo>
                        <a:lnTo>
                          <a:pt x="1750" y="1675"/>
                        </a:lnTo>
                        <a:lnTo>
                          <a:pt x="1760" y="1695"/>
                        </a:lnTo>
                        <a:lnTo>
                          <a:pt x="1770" y="1704"/>
                        </a:lnTo>
                        <a:lnTo>
                          <a:pt x="1780" y="1714"/>
                        </a:lnTo>
                        <a:lnTo>
                          <a:pt x="1789" y="1724"/>
                        </a:lnTo>
                        <a:lnTo>
                          <a:pt x="1799" y="1734"/>
                        </a:lnTo>
                        <a:lnTo>
                          <a:pt x="1809" y="1753"/>
                        </a:lnTo>
                        <a:lnTo>
                          <a:pt x="1809" y="1763"/>
                        </a:lnTo>
                        <a:lnTo>
                          <a:pt x="1819" y="1772"/>
                        </a:lnTo>
                        <a:lnTo>
                          <a:pt x="1828" y="1782"/>
                        </a:lnTo>
                        <a:lnTo>
                          <a:pt x="1838" y="1792"/>
                        </a:lnTo>
                        <a:lnTo>
                          <a:pt x="1838" y="1802"/>
                        </a:lnTo>
                        <a:lnTo>
                          <a:pt x="1838" y="1821"/>
                        </a:lnTo>
                        <a:lnTo>
                          <a:pt x="1828" y="1841"/>
                        </a:lnTo>
                        <a:lnTo>
                          <a:pt x="1828" y="1860"/>
                        </a:lnTo>
                        <a:lnTo>
                          <a:pt x="1819" y="1880"/>
                        </a:lnTo>
                        <a:lnTo>
                          <a:pt x="1809" y="1899"/>
                        </a:lnTo>
                        <a:lnTo>
                          <a:pt x="1809" y="1919"/>
                        </a:lnTo>
                        <a:lnTo>
                          <a:pt x="1799" y="1938"/>
                        </a:lnTo>
                        <a:lnTo>
                          <a:pt x="1799" y="1957"/>
                        </a:lnTo>
                        <a:lnTo>
                          <a:pt x="1789" y="1967"/>
                        </a:lnTo>
                        <a:lnTo>
                          <a:pt x="1780" y="1977"/>
                        </a:lnTo>
                        <a:lnTo>
                          <a:pt x="1770" y="1987"/>
                        </a:lnTo>
                        <a:lnTo>
                          <a:pt x="1760" y="1987"/>
                        </a:lnTo>
                        <a:lnTo>
                          <a:pt x="1750" y="1996"/>
                        </a:lnTo>
                        <a:lnTo>
                          <a:pt x="1741" y="1996"/>
                        </a:lnTo>
                        <a:lnTo>
                          <a:pt x="1731" y="2016"/>
                        </a:lnTo>
                        <a:lnTo>
                          <a:pt x="1721" y="2026"/>
                        </a:lnTo>
                        <a:lnTo>
                          <a:pt x="1702" y="2045"/>
                        </a:lnTo>
                        <a:lnTo>
                          <a:pt x="1682" y="2074"/>
                        </a:lnTo>
                        <a:lnTo>
                          <a:pt x="1673" y="2104"/>
                        </a:lnTo>
                        <a:lnTo>
                          <a:pt x="1663" y="2133"/>
                        </a:lnTo>
                        <a:lnTo>
                          <a:pt x="1663" y="2172"/>
                        </a:lnTo>
                        <a:lnTo>
                          <a:pt x="1653" y="2211"/>
                        </a:lnTo>
                        <a:lnTo>
                          <a:pt x="1644" y="2240"/>
                        </a:lnTo>
                        <a:lnTo>
                          <a:pt x="1634" y="2269"/>
                        </a:lnTo>
                        <a:lnTo>
                          <a:pt x="1634" y="2308"/>
                        </a:lnTo>
                        <a:lnTo>
                          <a:pt x="1634" y="2337"/>
                        </a:lnTo>
                        <a:lnTo>
                          <a:pt x="1644" y="2357"/>
                        </a:lnTo>
                        <a:lnTo>
                          <a:pt x="1653" y="2347"/>
                        </a:lnTo>
                        <a:lnTo>
                          <a:pt x="1663" y="2347"/>
                        </a:lnTo>
                        <a:lnTo>
                          <a:pt x="1673" y="2337"/>
                        </a:lnTo>
                        <a:lnTo>
                          <a:pt x="1682" y="2337"/>
                        </a:lnTo>
                        <a:lnTo>
                          <a:pt x="1702" y="2337"/>
                        </a:lnTo>
                        <a:lnTo>
                          <a:pt x="1712" y="2327"/>
                        </a:lnTo>
                        <a:lnTo>
                          <a:pt x="1712" y="2327"/>
                        </a:lnTo>
                        <a:lnTo>
                          <a:pt x="1731" y="2327"/>
                        </a:lnTo>
                        <a:lnTo>
                          <a:pt x="1741" y="2318"/>
                        </a:lnTo>
                        <a:lnTo>
                          <a:pt x="1750" y="2318"/>
                        </a:lnTo>
                        <a:lnTo>
                          <a:pt x="1760" y="2308"/>
                        </a:lnTo>
                        <a:lnTo>
                          <a:pt x="1770" y="2308"/>
                        </a:lnTo>
                        <a:lnTo>
                          <a:pt x="1780" y="2298"/>
                        </a:lnTo>
                        <a:lnTo>
                          <a:pt x="1789" y="2298"/>
                        </a:lnTo>
                        <a:lnTo>
                          <a:pt x="1799" y="2298"/>
                        </a:lnTo>
                        <a:lnTo>
                          <a:pt x="1809" y="2289"/>
                        </a:lnTo>
                        <a:lnTo>
                          <a:pt x="1819" y="2269"/>
                        </a:lnTo>
                        <a:lnTo>
                          <a:pt x="1867" y="2220"/>
                        </a:lnTo>
                        <a:lnTo>
                          <a:pt x="1887" y="2211"/>
                        </a:lnTo>
                        <a:lnTo>
                          <a:pt x="1906" y="2201"/>
                        </a:lnTo>
                        <a:lnTo>
                          <a:pt x="1926" y="2181"/>
                        </a:lnTo>
                        <a:lnTo>
                          <a:pt x="1935" y="2172"/>
                        </a:lnTo>
                        <a:lnTo>
                          <a:pt x="1964" y="2162"/>
                        </a:lnTo>
                        <a:lnTo>
                          <a:pt x="1974" y="2152"/>
                        </a:lnTo>
                        <a:lnTo>
                          <a:pt x="1994" y="2142"/>
                        </a:lnTo>
                        <a:lnTo>
                          <a:pt x="2013" y="2133"/>
                        </a:lnTo>
                        <a:lnTo>
                          <a:pt x="2033" y="2123"/>
                        </a:lnTo>
                        <a:lnTo>
                          <a:pt x="2062" y="2123"/>
                        </a:lnTo>
                        <a:lnTo>
                          <a:pt x="2081" y="2113"/>
                        </a:lnTo>
                        <a:lnTo>
                          <a:pt x="2101" y="2104"/>
                        </a:lnTo>
                        <a:lnTo>
                          <a:pt x="2101" y="2104"/>
                        </a:lnTo>
                        <a:lnTo>
                          <a:pt x="2101" y="2094"/>
                        </a:lnTo>
                        <a:lnTo>
                          <a:pt x="2110" y="2094"/>
                        </a:lnTo>
                        <a:lnTo>
                          <a:pt x="2120" y="2094"/>
                        </a:lnTo>
                        <a:lnTo>
                          <a:pt x="2130" y="2094"/>
                        </a:lnTo>
                        <a:lnTo>
                          <a:pt x="2130" y="2084"/>
                        </a:lnTo>
                        <a:lnTo>
                          <a:pt x="2139" y="2084"/>
                        </a:lnTo>
                        <a:lnTo>
                          <a:pt x="2120" y="2104"/>
                        </a:lnTo>
                        <a:lnTo>
                          <a:pt x="2101" y="2123"/>
                        </a:lnTo>
                        <a:lnTo>
                          <a:pt x="2071" y="2152"/>
                        </a:lnTo>
                        <a:lnTo>
                          <a:pt x="2052" y="2162"/>
                        </a:lnTo>
                        <a:lnTo>
                          <a:pt x="2033" y="2172"/>
                        </a:lnTo>
                        <a:lnTo>
                          <a:pt x="2013" y="2191"/>
                        </a:lnTo>
                        <a:lnTo>
                          <a:pt x="1994" y="2201"/>
                        </a:lnTo>
                        <a:lnTo>
                          <a:pt x="1974" y="2211"/>
                        </a:lnTo>
                        <a:lnTo>
                          <a:pt x="1964" y="2230"/>
                        </a:lnTo>
                        <a:lnTo>
                          <a:pt x="1935" y="2240"/>
                        </a:lnTo>
                        <a:lnTo>
                          <a:pt x="1926" y="2250"/>
                        </a:lnTo>
                        <a:lnTo>
                          <a:pt x="1906" y="2259"/>
                        </a:lnTo>
                        <a:lnTo>
                          <a:pt x="1887" y="2269"/>
                        </a:lnTo>
                        <a:lnTo>
                          <a:pt x="1867" y="2279"/>
                        </a:lnTo>
                        <a:lnTo>
                          <a:pt x="1848" y="2289"/>
                        </a:lnTo>
                        <a:lnTo>
                          <a:pt x="1828" y="2298"/>
                        </a:lnTo>
                        <a:lnTo>
                          <a:pt x="1809" y="2308"/>
                        </a:lnTo>
                        <a:lnTo>
                          <a:pt x="1789" y="2318"/>
                        </a:lnTo>
                        <a:lnTo>
                          <a:pt x="1760" y="2327"/>
                        </a:lnTo>
                        <a:lnTo>
                          <a:pt x="1750" y="2337"/>
                        </a:lnTo>
                        <a:lnTo>
                          <a:pt x="1721" y="2337"/>
                        </a:lnTo>
                        <a:lnTo>
                          <a:pt x="1712" y="2347"/>
                        </a:lnTo>
                        <a:lnTo>
                          <a:pt x="1682" y="2357"/>
                        </a:lnTo>
                        <a:lnTo>
                          <a:pt x="1663" y="2366"/>
                        </a:lnTo>
                        <a:lnTo>
                          <a:pt x="1644" y="2376"/>
                        </a:lnTo>
                        <a:lnTo>
                          <a:pt x="1624" y="2386"/>
                        </a:lnTo>
                        <a:lnTo>
                          <a:pt x="1605" y="2386"/>
                        </a:lnTo>
                        <a:lnTo>
                          <a:pt x="1585" y="2396"/>
                        </a:lnTo>
                        <a:lnTo>
                          <a:pt x="1566" y="2396"/>
                        </a:lnTo>
                        <a:lnTo>
                          <a:pt x="1537" y="2405"/>
                        </a:lnTo>
                        <a:lnTo>
                          <a:pt x="1517" y="2415"/>
                        </a:lnTo>
                        <a:lnTo>
                          <a:pt x="1507" y="2415"/>
                        </a:lnTo>
                        <a:lnTo>
                          <a:pt x="1488" y="2415"/>
                        </a:lnTo>
                        <a:lnTo>
                          <a:pt x="1478" y="2425"/>
                        </a:lnTo>
                        <a:lnTo>
                          <a:pt x="1468" y="2425"/>
                        </a:lnTo>
                        <a:lnTo>
                          <a:pt x="1449" y="2425"/>
                        </a:lnTo>
                        <a:lnTo>
                          <a:pt x="1439" y="2425"/>
                        </a:lnTo>
                        <a:lnTo>
                          <a:pt x="1420" y="2425"/>
                        </a:lnTo>
                        <a:lnTo>
                          <a:pt x="1400" y="2425"/>
                        </a:lnTo>
                        <a:lnTo>
                          <a:pt x="1381" y="2435"/>
                        </a:lnTo>
                        <a:lnTo>
                          <a:pt x="1361" y="2435"/>
                        </a:lnTo>
                        <a:lnTo>
                          <a:pt x="1352" y="2435"/>
                        </a:lnTo>
                        <a:lnTo>
                          <a:pt x="1323" y="2435"/>
                        </a:lnTo>
                        <a:lnTo>
                          <a:pt x="1313" y="2444"/>
                        </a:lnTo>
                        <a:lnTo>
                          <a:pt x="1099" y="2444"/>
                        </a:lnTo>
                        <a:lnTo>
                          <a:pt x="1089" y="2435"/>
                        </a:lnTo>
                        <a:lnTo>
                          <a:pt x="1060" y="2435"/>
                        </a:lnTo>
                        <a:lnTo>
                          <a:pt x="1070" y="2425"/>
                        </a:lnTo>
                        <a:lnTo>
                          <a:pt x="1070" y="2425"/>
                        </a:lnTo>
                        <a:lnTo>
                          <a:pt x="1079" y="2405"/>
                        </a:lnTo>
                        <a:lnTo>
                          <a:pt x="1079" y="2396"/>
                        </a:lnTo>
                        <a:lnTo>
                          <a:pt x="1060" y="2386"/>
                        </a:lnTo>
                        <a:lnTo>
                          <a:pt x="1050" y="2376"/>
                        </a:lnTo>
                        <a:lnTo>
                          <a:pt x="1050" y="2376"/>
                        </a:lnTo>
                        <a:lnTo>
                          <a:pt x="1041" y="2376"/>
                        </a:lnTo>
                        <a:lnTo>
                          <a:pt x="1021" y="2376"/>
                        </a:lnTo>
                        <a:lnTo>
                          <a:pt x="1011" y="2386"/>
                        </a:lnTo>
                        <a:lnTo>
                          <a:pt x="1011" y="2386"/>
                        </a:lnTo>
                        <a:lnTo>
                          <a:pt x="1002" y="2386"/>
                        </a:lnTo>
                        <a:lnTo>
                          <a:pt x="1002" y="2396"/>
                        </a:lnTo>
                        <a:lnTo>
                          <a:pt x="992" y="2405"/>
                        </a:lnTo>
                        <a:lnTo>
                          <a:pt x="992" y="2405"/>
                        </a:lnTo>
                        <a:lnTo>
                          <a:pt x="1002" y="2415"/>
                        </a:lnTo>
                        <a:lnTo>
                          <a:pt x="1002" y="2425"/>
                        </a:lnTo>
                        <a:lnTo>
                          <a:pt x="1011" y="2425"/>
                        </a:lnTo>
                        <a:lnTo>
                          <a:pt x="1011" y="2425"/>
                        </a:lnTo>
                        <a:lnTo>
                          <a:pt x="963" y="2425"/>
                        </a:lnTo>
                        <a:lnTo>
                          <a:pt x="963" y="2425"/>
                        </a:lnTo>
                        <a:lnTo>
                          <a:pt x="953" y="2425"/>
                        </a:lnTo>
                        <a:lnTo>
                          <a:pt x="934" y="2425"/>
                        </a:lnTo>
                        <a:lnTo>
                          <a:pt x="924" y="2425"/>
                        </a:lnTo>
                        <a:lnTo>
                          <a:pt x="924" y="2415"/>
                        </a:lnTo>
                        <a:lnTo>
                          <a:pt x="904" y="2415"/>
                        </a:lnTo>
                        <a:lnTo>
                          <a:pt x="895" y="2415"/>
                        </a:lnTo>
                        <a:lnTo>
                          <a:pt x="885" y="2415"/>
                        </a:lnTo>
                        <a:lnTo>
                          <a:pt x="875" y="2405"/>
                        </a:lnTo>
                        <a:lnTo>
                          <a:pt x="865" y="2405"/>
                        </a:lnTo>
                        <a:lnTo>
                          <a:pt x="856" y="2405"/>
                        </a:lnTo>
                        <a:lnTo>
                          <a:pt x="846" y="2405"/>
                        </a:lnTo>
                        <a:lnTo>
                          <a:pt x="856" y="2396"/>
                        </a:lnTo>
                        <a:lnTo>
                          <a:pt x="856" y="2396"/>
                        </a:lnTo>
                        <a:lnTo>
                          <a:pt x="865" y="2386"/>
                        </a:lnTo>
                        <a:lnTo>
                          <a:pt x="865" y="2376"/>
                        </a:lnTo>
                        <a:lnTo>
                          <a:pt x="856" y="2366"/>
                        </a:lnTo>
                        <a:lnTo>
                          <a:pt x="856" y="2357"/>
                        </a:lnTo>
                        <a:lnTo>
                          <a:pt x="856" y="2347"/>
                        </a:lnTo>
                        <a:lnTo>
                          <a:pt x="856" y="2337"/>
                        </a:lnTo>
                        <a:lnTo>
                          <a:pt x="846" y="2337"/>
                        </a:lnTo>
                        <a:lnTo>
                          <a:pt x="827" y="2337"/>
                        </a:lnTo>
                        <a:lnTo>
                          <a:pt x="817" y="2337"/>
                        </a:lnTo>
                        <a:lnTo>
                          <a:pt x="807" y="2337"/>
                        </a:lnTo>
                        <a:lnTo>
                          <a:pt x="788" y="2327"/>
                        </a:lnTo>
                        <a:lnTo>
                          <a:pt x="788" y="2337"/>
                        </a:lnTo>
                        <a:lnTo>
                          <a:pt x="778" y="2337"/>
                        </a:lnTo>
                        <a:lnTo>
                          <a:pt x="768" y="2347"/>
                        </a:lnTo>
                        <a:lnTo>
                          <a:pt x="768" y="2347"/>
                        </a:lnTo>
                        <a:lnTo>
                          <a:pt x="768" y="2357"/>
                        </a:lnTo>
                        <a:lnTo>
                          <a:pt x="797" y="2386"/>
                        </a:lnTo>
                        <a:lnTo>
                          <a:pt x="768" y="2386"/>
                        </a:lnTo>
                        <a:lnTo>
                          <a:pt x="739" y="2376"/>
                        </a:lnTo>
                        <a:lnTo>
                          <a:pt x="710" y="2357"/>
                        </a:lnTo>
                        <a:lnTo>
                          <a:pt x="681" y="2347"/>
                        </a:lnTo>
                        <a:lnTo>
                          <a:pt x="652" y="2337"/>
                        </a:lnTo>
                        <a:lnTo>
                          <a:pt x="622" y="2327"/>
                        </a:lnTo>
                        <a:lnTo>
                          <a:pt x="593" y="2318"/>
                        </a:lnTo>
                        <a:lnTo>
                          <a:pt x="564" y="2298"/>
                        </a:lnTo>
                        <a:lnTo>
                          <a:pt x="535" y="2289"/>
                        </a:lnTo>
                        <a:lnTo>
                          <a:pt x="506" y="2269"/>
                        </a:lnTo>
                        <a:lnTo>
                          <a:pt x="486" y="2250"/>
                        </a:lnTo>
                        <a:lnTo>
                          <a:pt x="457" y="2240"/>
                        </a:lnTo>
                        <a:lnTo>
                          <a:pt x="428" y="2220"/>
                        </a:lnTo>
                        <a:lnTo>
                          <a:pt x="399" y="2211"/>
                        </a:lnTo>
                        <a:lnTo>
                          <a:pt x="379" y="2191"/>
                        </a:lnTo>
                        <a:lnTo>
                          <a:pt x="350" y="2162"/>
                        </a:lnTo>
                        <a:lnTo>
                          <a:pt x="331" y="2152"/>
                        </a:lnTo>
                        <a:lnTo>
                          <a:pt x="301" y="2123"/>
                        </a:lnTo>
                        <a:lnTo>
                          <a:pt x="282" y="2104"/>
                        </a:lnTo>
                        <a:lnTo>
                          <a:pt x="253" y="2084"/>
                        </a:lnTo>
                        <a:lnTo>
                          <a:pt x="185" y="2016"/>
                        </a:lnTo>
                        <a:lnTo>
                          <a:pt x="175" y="1987"/>
                        </a:lnTo>
                        <a:lnTo>
                          <a:pt x="146" y="1967"/>
                        </a:lnTo>
                        <a:lnTo>
                          <a:pt x="126" y="1948"/>
                        </a:lnTo>
                        <a:lnTo>
                          <a:pt x="107" y="1919"/>
                        </a:lnTo>
                        <a:lnTo>
                          <a:pt x="87" y="1889"/>
                        </a:lnTo>
                        <a:lnTo>
                          <a:pt x="78" y="1860"/>
                        </a:lnTo>
                        <a:lnTo>
                          <a:pt x="58" y="1841"/>
                        </a:lnTo>
                        <a:lnTo>
                          <a:pt x="49" y="1811"/>
                        </a:lnTo>
                        <a:lnTo>
                          <a:pt x="29" y="1782"/>
                        </a:lnTo>
                        <a:lnTo>
                          <a:pt x="0" y="1704"/>
                        </a:lnTo>
                        <a:lnTo>
                          <a:pt x="0" y="1685"/>
                        </a:lnTo>
                        <a:lnTo>
                          <a:pt x="10" y="1685"/>
                        </a:lnTo>
                        <a:lnTo>
                          <a:pt x="10" y="1665"/>
                        </a:lnTo>
                        <a:lnTo>
                          <a:pt x="19" y="1656"/>
                        </a:lnTo>
                        <a:lnTo>
                          <a:pt x="19" y="1636"/>
                        </a:lnTo>
                        <a:lnTo>
                          <a:pt x="29" y="1626"/>
                        </a:lnTo>
                        <a:lnTo>
                          <a:pt x="29" y="1617"/>
                        </a:lnTo>
                        <a:lnTo>
                          <a:pt x="39" y="1607"/>
                        </a:lnTo>
                        <a:lnTo>
                          <a:pt x="29" y="1587"/>
                        </a:lnTo>
                        <a:lnTo>
                          <a:pt x="58" y="1587"/>
                        </a:lnTo>
                        <a:lnTo>
                          <a:pt x="78" y="1587"/>
                        </a:lnTo>
                        <a:lnTo>
                          <a:pt x="87" y="1587"/>
                        </a:lnTo>
                        <a:lnTo>
                          <a:pt x="97" y="1587"/>
                        </a:lnTo>
                        <a:lnTo>
                          <a:pt x="97" y="1597"/>
                        </a:lnTo>
                        <a:lnTo>
                          <a:pt x="97" y="1617"/>
                        </a:lnTo>
                        <a:lnTo>
                          <a:pt x="107" y="1626"/>
                        </a:lnTo>
                        <a:lnTo>
                          <a:pt x="107" y="1636"/>
                        </a:lnTo>
                        <a:lnTo>
                          <a:pt x="107" y="1636"/>
                        </a:lnTo>
                        <a:lnTo>
                          <a:pt x="117" y="1646"/>
                        </a:lnTo>
                        <a:lnTo>
                          <a:pt x="117" y="1646"/>
                        </a:lnTo>
                        <a:lnTo>
                          <a:pt x="126" y="1656"/>
                        </a:lnTo>
                        <a:lnTo>
                          <a:pt x="126" y="1665"/>
                        </a:lnTo>
                        <a:lnTo>
                          <a:pt x="136" y="1665"/>
                        </a:lnTo>
                        <a:lnTo>
                          <a:pt x="136" y="1675"/>
                        </a:lnTo>
                        <a:lnTo>
                          <a:pt x="146" y="1675"/>
                        </a:lnTo>
                        <a:lnTo>
                          <a:pt x="156" y="1675"/>
                        </a:lnTo>
                        <a:lnTo>
                          <a:pt x="165" y="1685"/>
                        </a:lnTo>
                        <a:lnTo>
                          <a:pt x="175" y="1685"/>
                        </a:lnTo>
                        <a:lnTo>
                          <a:pt x="175" y="1685"/>
                        </a:lnTo>
                        <a:lnTo>
                          <a:pt x="194" y="1685"/>
                        </a:lnTo>
                        <a:lnTo>
                          <a:pt x="194" y="1685"/>
                        </a:lnTo>
                        <a:lnTo>
                          <a:pt x="204" y="1685"/>
                        </a:lnTo>
                        <a:lnTo>
                          <a:pt x="204" y="1675"/>
                        </a:lnTo>
                        <a:lnTo>
                          <a:pt x="204" y="1656"/>
                        </a:lnTo>
                        <a:lnTo>
                          <a:pt x="204" y="1636"/>
                        </a:lnTo>
                        <a:lnTo>
                          <a:pt x="204" y="1607"/>
                        </a:lnTo>
                        <a:lnTo>
                          <a:pt x="194" y="1587"/>
                        </a:lnTo>
                        <a:lnTo>
                          <a:pt x="340" y="1587"/>
                        </a:lnTo>
                        <a:lnTo>
                          <a:pt x="311" y="1607"/>
                        </a:lnTo>
                        <a:lnTo>
                          <a:pt x="301" y="1626"/>
                        </a:lnTo>
                        <a:lnTo>
                          <a:pt x="292" y="1646"/>
                        </a:lnTo>
                        <a:lnTo>
                          <a:pt x="292" y="1665"/>
                        </a:lnTo>
                        <a:lnTo>
                          <a:pt x="282" y="1685"/>
                        </a:lnTo>
                        <a:lnTo>
                          <a:pt x="282" y="1704"/>
                        </a:lnTo>
                        <a:lnTo>
                          <a:pt x="292" y="1734"/>
                        </a:lnTo>
                        <a:lnTo>
                          <a:pt x="311" y="1753"/>
                        </a:lnTo>
                        <a:lnTo>
                          <a:pt x="311" y="1753"/>
                        </a:lnTo>
                        <a:lnTo>
                          <a:pt x="321" y="1753"/>
                        </a:lnTo>
                        <a:lnTo>
                          <a:pt x="340" y="1753"/>
                        </a:lnTo>
                        <a:lnTo>
                          <a:pt x="350" y="1763"/>
                        </a:lnTo>
                        <a:lnTo>
                          <a:pt x="350" y="1763"/>
                        </a:lnTo>
                        <a:lnTo>
                          <a:pt x="360" y="1772"/>
                        </a:lnTo>
                        <a:lnTo>
                          <a:pt x="369" y="1772"/>
                        </a:lnTo>
                        <a:lnTo>
                          <a:pt x="379" y="1772"/>
                        </a:lnTo>
                        <a:lnTo>
                          <a:pt x="389" y="1782"/>
                        </a:lnTo>
                        <a:lnTo>
                          <a:pt x="399" y="1782"/>
                        </a:lnTo>
                        <a:lnTo>
                          <a:pt x="408" y="1782"/>
                        </a:lnTo>
                        <a:lnTo>
                          <a:pt x="418" y="1792"/>
                        </a:lnTo>
                        <a:lnTo>
                          <a:pt x="428" y="1772"/>
                        </a:lnTo>
                        <a:lnTo>
                          <a:pt x="438" y="1763"/>
                        </a:lnTo>
                        <a:lnTo>
                          <a:pt x="486" y="1714"/>
                        </a:lnTo>
                        <a:lnTo>
                          <a:pt x="496" y="1695"/>
                        </a:lnTo>
                        <a:lnTo>
                          <a:pt x="506" y="1685"/>
                        </a:lnTo>
                        <a:lnTo>
                          <a:pt x="515" y="1665"/>
                        </a:lnTo>
                        <a:lnTo>
                          <a:pt x="506" y="1656"/>
                        </a:lnTo>
                        <a:lnTo>
                          <a:pt x="506" y="1636"/>
                        </a:lnTo>
                        <a:lnTo>
                          <a:pt x="496" y="1636"/>
                        </a:lnTo>
                        <a:lnTo>
                          <a:pt x="496" y="1626"/>
                        </a:lnTo>
                        <a:lnTo>
                          <a:pt x="486" y="1617"/>
                        </a:lnTo>
                        <a:lnTo>
                          <a:pt x="486" y="1607"/>
                        </a:lnTo>
                        <a:lnTo>
                          <a:pt x="476" y="1597"/>
                        </a:lnTo>
                        <a:lnTo>
                          <a:pt x="467" y="1587"/>
                        </a:lnTo>
                        <a:lnTo>
                          <a:pt x="486" y="1587"/>
                        </a:lnTo>
                        <a:lnTo>
                          <a:pt x="496" y="1578"/>
                        </a:lnTo>
                        <a:lnTo>
                          <a:pt x="515" y="1578"/>
                        </a:lnTo>
                        <a:lnTo>
                          <a:pt x="525" y="1578"/>
                        </a:lnTo>
                        <a:lnTo>
                          <a:pt x="574" y="1578"/>
                        </a:lnTo>
                        <a:lnTo>
                          <a:pt x="593" y="1568"/>
                        </a:lnTo>
                        <a:lnTo>
                          <a:pt x="642" y="1568"/>
                        </a:lnTo>
                        <a:lnTo>
                          <a:pt x="652" y="1568"/>
                        </a:lnTo>
                        <a:lnTo>
                          <a:pt x="661" y="1568"/>
                        </a:lnTo>
                        <a:lnTo>
                          <a:pt x="671" y="1558"/>
                        </a:lnTo>
                        <a:lnTo>
                          <a:pt x="671" y="1432"/>
                        </a:lnTo>
                        <a:lnTo>
                          <a:pt x="661" y="1393"/>
                        </a:lnTo>
                        <a:lnTo>
                          <a:pt x="661" y="1393"/>
                        </a:lnTo>
                        <a:lnTo>
                          <a:pt x="652" y="1383"/>
                        </a:lnTo>
                        <a:lnTo>
                          <a:pt x="652" y="1383"/>
                        </a:lnTo>
                        <a:lnTo>
                          <a:pt x="642" y="1383"/>
                        </a:lnTo>
                        <a:lnTo>
                          <a:pt x="613" y="1383"/>
                        </a:lnTo>
                        <a:lnTo>
                          <a:pt x="613" y="1383"/>
                        </a:lnTo>
                        <a:lnTo>
                          <a:pt x="622" y="1373"/>
                        </a:lnTo>
                        <a:lnTo>
                          <a:pt x="632" y="1373"/>
                        </a:lnTo>
                        <a:lnTo>
                          <a:pt x="642" y="1344"/>
                        </a:lnTo>
                        <a:lnTo>
                          <a:pt x="652" y="1315"/>
                        </a:lnTo>
                        <a:lnTo>
                          <a:pt x="652" y="1188"/>
                        </a:lnTo>
                        <a:lnTo>
                          <a:pt x="652" y="1159"/>
                        </a:lnTo>
                        <a:lnTo>
                          <a:pt x="661" y="1130"/>
                        </a:lnTo>
                        <a:lnTo>
                          <a:pt x="642" y="1101"/>
                        </a:lnTo>
                        <a:lnTo>
                          <a:pt x="632" y="1081"/>
                        </a:lnTo>
                        <a:lnTo>
                          <a:pt x="613" y="1071"/>
                        </a:lnTo>
                        <a:lnTo>
                          <a:pt x="593" y="1052"/>
                        </a:lnTo>
                        <a:lnTo>
                          <a:pt x="574" y="1042"/>
                        </a:lnTo>
                        <a:lnTo>
                          <a:pt x="554" y="1033"/>
                        </a:lnTo>
                        <a:lnTo>
                          <a:pt x="525" y="1023"/>
                        </a:lnTo>
                        <a:lnTo>
                          <a:pt x="506" y="1013"/>
                        </a:lnTo>
                        <a:lnTo>
                          <a:pt x="486" y="1013"/>
                        </a:lnTo>
                        <a:lnTo>
                          <a:pt x="457" y="1013"/>
                        </a:lnTo>
                        <a:lnTo>
                          <a:pt x="438" y="1003"/>
                        </a:lnTo>
                        <a:lnTo>
                          <a:pt x="379" y="1003"/>
                        </a:lnTo>
                        <a:lnTo>
                          <a:pt x="350" y="1013"/>
                        </a:lnTo>
                        <a:lnTo>
                          <a:pt x="331" y="1013"/>
                        </a:lnTo>
                        <a:lnTo>
                          <a:pt x="301" y="1013"/>
                        </a:lnTo>
                        <a:lnTo>
                          <a:pt x="292" y="1023"/>
                        </a:lnTo>
                        <a:lnTo>
                          <a:pt x="272" y="1023"/>
                        </a:lnTo>
                        <a:lnTo>
                          <a:pt x="262" y="1033"/>
                        </a:lnTo>
                        <a:lnTo>
                          <a:pt x="253" y="1042"/>
                        </a:lnTo>
                        <a:lnTo>
                          <a:pt x="243" y="1052"/>
                        </a:lnTo>
                        <a:lnTo>
                          <a:pt x="233" y="1062"/>
                        </a:lnTo>
                        <a:lnTo>
                          <a:pt x="224" y="1071"/>
                        </a:lnTo>
                        <a:lnTo>
                          <a:pt x="224" y="1091"/>
                        </a:lnTo>
                        <a:lnTo>
                          <a:pt x="224" y="1101"/>
                        </a:lnTo>
                        <a:lnTo>
                          <a:pt x="224" y="1110"/>
                        </a:lnTo>
                        <a:lnTo>
                          <a:pt x="224" y="1130"/>
                        </a:lnTo>
                        <a:lnTo>
                          <a:pt x="224" y="1140"/>
                        </a:lnTo>
                        <a:lnTo>
                          <a:pt x="224" y="1149"/>
                        </a:lnTo>
                        <a:lnTo>
                          <a:pt x="224" y="1159"/>
                        </a:lnTo>
                        <a:lnTo>
                          <a:pt x="214" y="1169"/>
                        </a:lnTo>
                        <a:lnTo>
                          <a:pt x="194" y="1169"/>
                        </a:lnTo>
                        <a:lnTo>
                          <a:pt x="185" y="1169"/>
                        </a:lnTo>
                        <a:lnTo>
                          <a:pt x="185" y="1159"/>
                        </a:lnTo>
                        <a:lnTo>
                          <a:pt x="175" y="1149"/>
                        </a:lnTo>
                        <a:lnTo>
                          <a:pt x="175" y="1140"/>
                        </a:lnTo>
                        <a:lnTo>
                          <a:pt x="175" y="1130"/>
                        </a:lnTo>
                        <a:lnTo>
                          <a:pt x="165" y="1110"/>
                        </a:lnTo>
                        <a:lnTo>
                          <a:pt x="165" y="1101"/>
                        </a:lnTo>
                        <a:lnTo>
                          <a:pt x="156" y="1091"/>
                        </a:lnTo>
                        <a:lnTo>
                          <a:pt x="146" y="1081"/>
                        </a:lnTo>
                        <a:lnTo>
                          <a:pt x="165" y="1071"/>
                        </a:lnTo>
                        <a:lnTo>
                          <a:pt x="175" y="1062"/>
                        </a:lnTo>
                        <a:lnTo>
                          <a:pt x="204" y="1033"/>
                        </a:lnTo>
                        <a:lnTo>
                          <a:pt x="214" y="1023"/>
                        </a:lnTo>
                        <a:lnTo>
                          <a:pt x="224" y="1003"/>
                        </a:lnTo>
                        <a:lnTo>
                          <a:pt x="224" y="994"/>
                        </a:lnTo>
                        <a:lnTo>
                          <a:pt x="233" y="984"/>
                        </a:lnTo>
                        <a:lnTo>
                          <a:pt x="243" y="964"/>
                        </a:lnTo>
                        <a:lnTo>
                          <a:pt x="243" y="945"/>
                        </a:lnTo>
                        <a:lnTo>
                          <a:pt x="253" y="935"/>
                        </a:lnTo>
                        <a:lnTo>
                          <a:pt x="262" y="916"/>
                        </a:lnTo>
                        <a:lnTo>
                          <a:pt x="262" y="896"/>
                        </a:lnTo>
                        <a:lnTo>
                          <a:pt x="262" y="886"/>
                        </a:lnTo>
                        <a:lnTo>
                          <a:pt x="272" y="867"/>
                        </a:lnTo>
                        <a:lnTo>
                          <a:pt x="272" y="848"/>
                        </a:lnTo>
                        <a:lnTo>
                          <a:pt x="292" y="848"/>
                        </a:lnTo>
                        <a:lnTo>
                          <a:pt x="311" y="838"/>
                        </a:lnTo>
                        <a:lnTo>
                          <a:pt x="321" y="818"/>
                        </a:lnTo>
                        <a:lnTo>
                          <a:pt x="340" y="809"/>
                        </a:lnTo>
                        <a:lnTo>
                          <a:pt x="350" y="799"/>
                        </a:lnTo>
                        <a:lnTo>
                          <a:pt x="360" y="779"/>
                        </a:lnTo>
                        <a:lnTo>
                          <a:pt x="369" y="760"/>
                        </a:lnTo>
                        <a:lnTo>
                          <a:pt x="369" y="750"/>
                        </a:lnTo>
                        <a:lnTo>
                          <a:pt x="379" y="731"/>
                        </a:lnTo>
                        <a:lnTo>
                          <a:pt x="379" y="711"/>
                        </a:lnTo>
                        <a:lnTo>
                          <a:pt x="369" y="692"/>
                        </a:lnTo>
                        <a:lnTo>
                          <a:pt x="369" y="672"/>
                        </a:lnTo>
                        <a:lnTo>
                          <a:pt x="369" y="672"/>
                        </a:lnTo>
                        <a:lnTo>
                          <a:pt x="379" y="672"/>
                        </a:lnTo>
                        <a:lnTo>
                          <a:pt x="399" y="643"/>
                        </a:lnTo>
                        <a:lnTo>
                          <a:pt x="399" y="643"/>
                        </a:lnTo>
                        <a:lnTo>
                          <a:pt x="408" y="643"/>
                        </a:lnTo>
                        <a:lnTo>
                          <a:pt x="418" y="643"/>
                        </a:lnTo>
                        <a:lnTo>
                          <a:pt x="428" y="643"/>
                        </a:lnTo>
                        <a:lnTo>
                          <a:pt x="438" y="633"/>
                        </a:lnTo>
                        <a:lnTo>
                          <a:pt x="447" y="633"/>
                        </a:lnTo>
                        <a:lnTo>
                          <a:pt x="457" y="633"/>
                        </a:lnTo>
                        <a:lnTo>
                          <a:pt x="467" y="624"/>
                        </a:lnTo>
                        <a:lnTo>
                          <a:pt x="486" y="604"/>
                        </a:lnTo>
                        <a:lnTo>
                          <a:pt x="486" y="594"/>
                        </a:lnTo>
                        <a:lnTo>
                          <a:pt x="496" y="585"/>
                        </a:lnTo>
                        <a:lnTo>
                          <a:pt x="506" y="575"/>
                        </a:lnTo>
                        <a:lnTo>
                          <a:pt x="506" y="575"/>
                        </a:lnTo>
                        <a:lnTo>
                          <a:pt x="515" y="555"/>
                        </a:lnTo>
                        <a:lnTo>
                          <a:pt x="515" y="555"/>
                        </a:lnTo>
                        <a:lnTo>
                          <a:pt x="525" y="546"/>
                        </a:lnTo>
                        <a:lnTo>
                          <a:pt x="535" y="526"/>
                        </a:lnTo>
                        <a:lnTo>
                          <a:pt x="554" y="526"/>
                        </a:lnTo>
                        <a:lnTo>
                          <a:pt x="564" y="516"/>
                        </a:lnTo>
                        <a:lnTo>
                          <a:pt x="574" y="516"/>
                        </a:lnTo>
                        <a:lnTo>
                          <a:pt x="622" y="516"/>
                        </a:lnTo>
                        <a:lnTo>
                          <a:pt x="622" y="536"/>
                        </a:lnTo>
                        <a:lnTo>
                          <a:pt x="622" y="546"/>
                        </a:lnTo>
                        <a:lnTo>
                          <a:pt x="613" y="565"/>
                        </a:lnTo>
                        <a:lnTo>
                          <a:pt x="613" y="585"/>
                        </a:lnTo>
                        <a:lnTo>
                          <a:pt x="603" y="604"/>
                        </a:lnTo>
                        <a:lnTo>
                          <a:pt x="603" y="624"/>
                        </a:lnTo>
                        <a:lnTo>
                          <a:pt x="603" y="633"/>
                        </a:lnTo>
                        <a:lnTo>
                          <a:pt x="593" y="653"/>
                        </a:lnTo>
                        <a:lnTo>
                          <a:pt x="603" y="663"/>
                        </a:lnTo>
                        <a:lnTo>
                          <a:pt x="613" y="672"/>
                        </a:lnTo>
                        <a:lnTo>
                          <a:pt x="622" y="672"/>
                        </a:lnTo>
                        <a:lnTo>
                          <a:pt x="632" y="663"/>
                        </a:lnTo>
                        <a:lnTo>
                          <a:pt x="642" y="663"/>
                        </a:lnTo>
                        <a:lnTo>
                          <a:pt x="652" y="663"/>
                        </a:lnTo>
                        <a:lnTo>
                          <a:pt x="661" y="663"/>
                        </a:lnTo>
                        <a:lnTo>
                          <a:pt x="671" y="653"/>
                        </a:lnTo>
                        <a:lnTo>
                          <a:pt x="700" y="624"/>
                        </a:lnTo>
                        <a:lnTo>
                          <a:pt x="700" y="614"/>
                        </a:lnTo>
                        <a:lnTo>
                          <a:pt x="720" y="594"/>
                        </a:lnTo>
                        <a:lnTo>
                          <a:pt x="729" y="585"/>
                        </a:lnTo>
                        <a:lnTo>
                          <a:pt x="749" y="575"/>
                        </a:lnTo>
                        <a:lnTo>
                          <a:pt x="749" y="565"/>
                        </a:lnTo>
                        <a:lnTo>
                          <a:pt x="758" y="565"/>
                        </a:lnTo>
                        <a:lnTo>
                          <a:pt x="788" y="565"/>
                        </a:lnTo>
                        <a:lnTo>
                          <a:pt x="797" y="565"/>
                        </a:lnTo>
                        <a:lnTo>
                          <a:pt x="807" y="575"/>
                        </a:lnTo>
                        <a:lnTo>
                          <a:pt x="885" y="575"/>
                        </a:lnTo>
                        <a:lnTo>
                          <a:pt x="924" y="536"/>
                        </a:lnTo>
                        <a:lnTo>
                          <a:pt x="924" y="526"/>
                        </a:lnTo>
                        <a:lnTo>
                          <a:pt x="924" y="516"/>
                        </a:lnTo>
                        <a:lnTo>
                          <a:pt x="934" y="507"/>
                        </a:lnTo>
                        <a:lnTo>
                          <a:pt x="934" y="497"/>
                        </a:lnTo>
                        <a:lnTo>
                          <a:pt x="924" y="468"/>
                        </a:lnTo>
                        <a:lnTo>
                          <a:pt x="924" y="448"/>
                        </a:lnTo>
                        <a:lnTo>
                          <a:pt x="924" y="429"/>
                        </a:lnTo>
                        <a:lnTo>
                          <a:pt x="924" y="400"/>
                        </a:lnTo>
                        <a:lnTo>
                          <a:pt x="924" y="390"/>
                        </a:lnTo>
                        <a:lnTo>
                          <a:pt x="934" y="390"/>
                        </a:lnTo>
                        <a:lnTo>
                          <a:pt x="943" y="380"/>
                        </a:lnTo>
                        <a:lnTo>
                          <a:pt x="953" y="390"/>
                        </a:lnTo>
                        <a:lnTo>
                          <a:pt x="963" y="390"/>
                        </a:lnTo>
                        <a:lnTo>
                          <a:pt x="963" y="390"/>
                        </a:lnTo>
                        <a:lnTo>
                          <a:pt x="972" y="390"/>
                        </a:lnTo>
                        <a:lnTo>
                          <a:pt x="982" y="400"/>
                        </a:lnTo>
                        <a:lnTo>
                          <a:pt x="992" y="400"/>
                        </a:lnTo>
                        <a:lnTo>
                          <a:pt x="1002" y="400"/>
                        </a:lnTo>
                        <a:lnTo>
                          <a:pt x="1011" y="400"/>
                        </a:lnTo>
                        <a:lnTo>
                          <a:pt x="1021" y="409"/>
                        </a:lnTo>
                        <a:lnTo>
                          <a:pt x="1031" y="400"/>
                        </a:lnTo>
                        <a:lnTo>
                          <a:pt x="1041" y="400"/>
                        </a:lnTo>
                        <a:lnTo>
                          <a:pt x="1050" y="400"/>
                        </a:lnTo>
                        <a:lnTo>
                          <a:pt x="1050" y="380"/>
                        </a:lnTo>
                        <a:lnTo>
                          <a:pt x="1060" y="370"/>
                        </a:lnTo>
                        <a:lnTo>
                          <a:pt x="1060" y="361"/>
                        </a:lnTo>
                        <a:lnTo>
                          <a:pt x="1060" y="341"/>
                        </a:lnTo>
                        <a:lnTo>
                          <a:pt x="1060" y="331"/>
                        </a:lnTo>
                        <a:lnTo>
                          <a:pt x="1050" y="312"/>
                        </a:lnTo>
                        <a:lnTo>
                          <a:pt x="1050" y="302"/>
                        </a:lnTo>
                        <a:lnTo>
                          <a:pt x="1050" y="283"/>
                        </a:lnTo>
                        <a:lnTo>
                          <a:pt x="1041" y="283"/>
                        </a:lnTo>
                        <a:lnTo>
                          <a:pt x="1031" y="283"/>
                        </a:lnTo>
                        <a:lnTo>
                          <a:pt x="1011" y="273"/>
                        </a:lnTo>
                        <a:lnTo>
                          <a:pt x="1002" y="263"/>
                        </a:lnTo>
                        <a:lnTo>
                          <a:pt x="992" y="263"/>
                        </a:lnTo>
                        <a:lnTo>
                          <a:pt x="972" y="254"/>
                        </a:lnTo>
                        <a:lnTo>
                          <a:pt x="963" y="244"/>
                        </a:lnTo>
                        <a:lnTo>
                          <a:pt x="953" y="244"/>
                        </a:lnTo>
                        <a:lnTo>
                          <a:pt x="943" y="234"/>
                        </a:lnTo>
                        <a:lnTo>
                          <a:pt x="924" y="234"/>
                        </a:lnTo>
                        <a:lnTo>
                          <a:pt x="914" y="234"/>
                        </a:lnTo>
                        <a:lnTo>
                          <a:pt x="846" y="234"/>
                        </a:lnTo>
                        <a:lnTo>
                          <a:pt x="836" y="234"/>
                        </a:lnTo>
                        <a:lnTo>
                          <a:pt x="827" y="215"/>
                        </a:lnTo>
                        <a:lnTo>
                          <a:pt x="817" y="205"/>
                        </a:lnTo>
                        <a:lnTo>
                          <a:pt x="797" y="195"/>
                        </a:lnTo>
                        <a:lnTo>
                          <a:pt x="788" y="185"/>
                        </a:lnTo>
                        <a:lnTo>
                          <a:pt x="778" y="176"/>
                        </a:lnTo>
                        <a:lnTo>
                          <a:pt x="768" y="176"/>
                        </a:lnTo>
                        <a:lnTo>
                          <a:pt x="758" y="166"/>
                        </a:lnTo>
                        <a:lnTo>
                          <a:pt x="749" y="156"/>
                        </a:lnTo>
                        <a:lnTo>
                          <a:pt x="749" y="156"/>
                        </a:lnTo>
                        <a:lnTo>
                          <a:pt x="739" y="147"/>
                        </a:lnTo>
                        <a:lnTo>
                          <a:pt x="729" y="147"/>
                        </a:lnTo>
                        <a:lnTo>
                          <a:pt x="720" y="137"/>
                        </a:lnTo>
                        <a:lnTo>
                          <a:pt x="700" y="137"/>
                        </a:lnTo>
                        <a:lnTo>
                          <a:pt x="710" y="117"/>
                        </a:lnTo>
                        <a:lnTo>
                          <a:pt x="710" y="108"/>
                        </a:lnTo>
                        <a:lnTo>
                          <a:pt x="700" y="98"/>
                        </a:lnTo>
                        <a:lnTo>
                          <a:pt x="700" y="88"/>
                        </a:lnTo>
                        <a:lnTo>
                          <a:pt x="729" y="78"/>
                        </a:lnTo>
                        <a:lnTo>
                          <a:pt x="749" y="59"/>
                        </a:lnTo>
                        <a:lnTo>
                          <a:pt x="788" y="59"/>
                        </a:lnTo>
                        <a:lnTo>
                          <a:pt x="817" y="49"/>
                        </a:lnTo>
                        <a:lnTo>
                          <a:pt x="846" y="39"/>
                        </a:lnTo>
                        <a:lnTo>
                          <a:pt x="875" y="30"/>
                        </a:lnTo>
                        <a:lnTo>
                          <a:pt x="914" y="20"/>
                        </a:lnTo>
                        <a:lnTo>
                          <a:pt x="943" y="20"/>
                        </a:lnTo>
                        <a:lnTo>
                          <a:pt x="972" y="20"/>
                        </a:lnTo>
                        <a:lnTo>
                          <a:pt x="1011" y="10"/>
                        </a:lnTo>
                        <a:lnTo>
                          <a:pt x="1041" y="10"/>
                        </a:lnTo>
                        <a:lnTo>
                          <a:pt x="1070" y="10"/>
                        </a:lnTo>
                        <a:lnTo>
                          <a:pt x="1109" y="0"/>
                        </a:lnTo>
                        <a:lnTo>
                          <a:pt x="1138" y="0"/>
                        </a:lnTo>
                        <a:lnTo>
                          <a:pt x="1177" y="0"/>
                        </a:lnTo>
                        <a:lnTo>
                          <a:pt x="1274" y="0"/>
                        </a:lnTo>
                        <a:lnTo>
                          <a:pt x="1303" y="0"/>
                        </a:lnTo>
                        <a:lnTo>
                          <a:pt x="1332" y="0"/>
                        </a:lnTo>
                        <a:lnTo>
                          <a:pt x="1361" y="10"/>
                        </a:lnTo>
                        <a:lnTo>
                          <a:pt x="1400" y="10"/>
                        </a:lnTo>
                        <a:lnTo>
                          <a:pt x="1430" y="20"/>
                        </a:lnTo>
                        <a:lnTo>
                          <a:pt x="1459" y="20"/>
                        </a:lnTo>
                        <a:lnTo>
                          <a:pt x="1498" y="20"/>
                        </a:lnTo>
                        <a:lnTo>
                          <a:pt x="1527" y="30"/>
                        </a:lnTo>
                        <a:lnTo>
                          <a:pt x="1556" y="39"/>
                        </a:lnTo>
                        <a:lnTo>
                          <a:pt x="1585" y="49"/>
                        </a:lnTo>
                        <a:lnTo>
                          <a:pt x="1624" y="59"/>
                        </a:lnTo>
                        <a:lnTo>
                          <a:pt x="1653" y="59"/>
                        </a:lnTo>
                        <a:lnTo>
                          <a:pt x="1682" y="78"/>
                        </a:lnTo>
                        <a:lnTo>
                          <a:pt x="1712" y="88"/>
                        </a:lnTo>
                        <a:close/>
                      </a:path>
                    </a:pathLst>
                  </a:custGeom>
                  <a:solidFill>
                    <a:srgbClr val="3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>
                    <a:off x="4692960" y="20718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0"/>
                        </a:move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>
                    <a:off x="4692960" y="2084040"/>
                    <a:ext cx="125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36">
                        <a:moveTo>
                          <a:pt x="204" y="136"/>
                        </a:moveTo>
                        <a:lnTo>
                          <a:pt x="204" y="126"/>
                        </a:lnTo>
                        <a:lnTo>
                          <a:pt x="204" y="116"/>
                        </a:lnTo>
                        <a:lnTo>
                          <a:pt x="194" y="97"/>
                        </a:lnTo>
                        <a:lnTo>
                          <a:pt x="185" y="87"/>
                        </a:lnTo>
                        <a:lnTo>
                          <a:pt x="165" y="68"/>
                        </a:lnTo>
                        <a:lnTo>
                          <a:pt x="146" y="58"/>
                        </a:lnTo>
                        <a:lnTo>
                          <a:pt x="136" y="48"/>
                        </a:lnTo>
                        <a:lnTo>
                          <a:pt x="117" y="39"/>
                        </a:lnTo>
                        <a:lnTo>
                          <a:pt x="107" y="39"/>
                        </a:lnTo>
                        <a:lnTo>
                          <a:pt x="97" y="39"/>
                        </a:lnTo>
                        <a:lnTo>
                          <a:pt x="78" y="29"/>
                        </a:ln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39"/>
                        </a:lnTo>
                        <a:lnTo>
                          <a:pt x="78" y="39"/>
                        </a:lnTo>
                        <a:lnTo>
                          <a:pt x="87" y="39"/>
                        </a:lnTo>
                        <a:lnTo>
                          <a:pt x="107" y="48"/>
                        </a:lnTo>
                        <a:lnTo>
                          <a:pt x="117" y="4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5" y="77"/>
                        </a:lnTo>
                        <a:lnTo>
                          <a:pt x="165" y="77"/>
                        </a:lnTo>
                        <a:lnTo>
                          <a:pt x="175" y="87"/>
                        </a:lnTo>
                        <a:lnTo>
                          <a:pt x="185" y="107"/>
                        </a:lnTo>
                        <a:lnTo>
                          <a:pt x="194" y="116"/>
                        </a:lnTo>
                        <a:lnTo>
                          <a:pt x="194" y="136"/>
                        </a:lnTo>
                        <a:lnTo>
                          <a:pt x="194" y="126"/>
                        </a:lnTo>
                        <a:lnTo>
                          <a:pt x="204" y="136"/>
                        </a:lnTo>
                        <a:lnTo>
                          <a:pt x="204" y="126"/>
                        </a:lnTo>
                        <a:lnTo>
                          <a:pt x="204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4770360" y="216216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>
                    <a:off x="4650840" y="2089800"/>
                    <a:ext cx="119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127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30"/>
                        </a:lnTo>
                        <a:lnTo>
                          <a:pt x="68" y="30"/>
                        </a:lnTo>
                        <a:lnTo>
                          <a:pt x="78" y="39"/>
                        </a:lnTo>
                        <a:lnTo>
                          <a:pt x="87" y="49"/>
                        </a:lnTo>
                        <a:lnTo>
                          <a:pt x="97" y="59"/>
                        </a:lnTo>
                        <a:lnTo>
                          <a:pt x="107" y="68"/>
                        </a:lnTo>
                        <a:lnTo>
                          <a:pt x="116" y="78"/>
                        </a:lnTo>
                        <a:lnTo>
                          <a:pt x="126" y="88"/>
                        </a:lnTo>
                        <a:lnTo>
                          <a:pt x="146" y="98"/>
                        </a:lnTo>
                        <a:lnTo>
                          <a:pt x="155" y="107"/>
                        </a:lnTo>
                        <a:lnTo>
                          <a:pt x="165" y="117"/>
                        </a:lnTo>
                        <a:lnTo>
                          <a:pt x="175" y="117"/>
                        </a:lnTo>
                        <a:lnTo>
                          <a:pt x="194" y="127"/>
                        </a:lnTo>
                        <a:lnTo>
                          <a:pt x="194" y="117"/>
                        </a:lnTo>
                        <a:lnTo>
                          <a:pt x="185" y="117"/>
                        </a:lnTo>
                        <a:lnTo>
                          <a:pt x="175" y="107"/>
                        </a:lnTo>
                        <a:lnTo>
                          <a:pt x="165" y="98"/>
                        </a:lnTo>
                        <a:lnTo>
                          <a:pt x="155" y="88"/>
                        </a:lnTo>
                        <a:lnTo>
                          <a:pt x="136" y="78"/>
                        </a:lnTo>
                        <a:lnTo>
                          <a:pt x="126" y="68"/>
                        </a:lnTo>
                        <a:lnTo>
                          <a:pt x="116" y="5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4584960" y="2089800"/>
                    <a:ext cx="65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">
                        <a:moveTo>
                          <a:pt x="10" y="20"/>
                        </a:move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5" name=""/>
                  <p:cNvSpPr/>
                  <p:nvPr/>
                </p:nvSpPr>
                <p:spPr>
                  <a:xfrm>
                    <a:off x="4404600" y="2095920"/>
                    <a:ext cx="18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36">
                        <a:moveTo>
                          <a:pt x="10" y="136"/>
                        </a:moveTo>
                        <a:lnTo>
                          <a:pt x="10" y="136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8" y="78"/>
                        </a:lnTo>
                        <a:lnTo>
                          <a:pt x="107" y="78"/>
                        </a:lnTo>
                        <a:lnTo>
                          <a:pt x="126" y="68"/>
                        </a:lnTo>
                        <a:lnTo>
                          <a:pt x="146" y="68"/>
                        </a:lnTo>
                        <a:lnTo>
                          <a:pt x="165" y="68"/>
                        </a:lnTo>
                        <a:lnTo>
                          <a:pt x="195" y="58"/>
                        </a:lnTo>
                        <a:lnTo>
                          <a:pt x="214" y="58"/>
                        </a:lnTo>
                        <a:lnTo>
                          <a:pt x="233" y="49"/>
                        </a:lnTo>
                        <a:lnTo>
                          <a:pt x="25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10"/>
                        </a:lnTo>
                        <a:lnTo>
                          <a:pt x="292" y="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14" y="49"/>
                        </a:lnTo>
                        <a:lnTo>
                          <a:pt x="185" y="58"/>
                        </a:lnTo>
                        <a:lnTo>
                          <a:pt x="165" y="58"/>
                        </a:lnTo>
                        <a:lnTo>
                          <a:pt x="146" y="58"/>
                        </a:lnTo>
                        <a:lnTo>
                          <a:pt x="126" y="68"/>
                        </a:lnTo>
                        <a:lnTo>
                          <a:pt x="107" y="68"/>
                        </a:lnTo>
                        <a:lnTo>
                          <a:pt x="88" y="68"/>
                        </a:lnTo>
                        <a:lnTo>
                          <a:pt x="68" y="78"/>
                        </a:lnTo>
                        <a:lnTo>
                          <a:pt x="49" y="88"/>
                        </a:lnTo>
                        <a:lnTo>
                          <a:pt x="39" y="107"/>
                        </a:lnTo>
                        <a:lnTo>
                          <a:pt x="19" y="117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0" y="127"/>
                        </a:lnTo>
                        <a:lnTo>
                          <a:pt x="0" y="136"/>
                        </a:lnTo>
                        <a:lnTo>
                          <a:pt x="10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>
                    <a:off x="4404600" y="2179800"/>
                    <a:ext cx="54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07">
                        <a:moveTo>
                          <a:pt x="88" y="107"/>
                        </a:moveTo>
                        <a:lnTo>
                          <a:pt x="88" y="107"/>
                        </a:lnTo>
                        <a:lnTo>
                          <a:pt x="78" y="98"/>
                        </a:lnTo>
                        <a:lnTo>
                          <a:pt x="58" y="8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68" y="107"/>
                        </a:lnTo>
                        <a:lnTo>
                          <a:pt x="78" y="10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lnTo>
                          <a:pt x="88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>
                    <a:off x="4446720" y="224604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78"/>
                        </a:moveTo>
                        <a:lnTo>
                          <a:pt x="20" y="69"/>
                        </a:lnTo>
                        <a:lnTo>
                          <a:pt x="2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69"/>
                        </a:lnTo>
                        <a:lnTo>
                          <a:pt x="20" y="78"/>
                        </a:lnTo>
                        <a:lnTo>
                          <a:pt x="20" y="88"/>
                        </a:lnTo>
                        <a:lnTo>
                          <a:pt x="2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>
                    <a:off x="4458960" y="22942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48" y="68"/>
                        </a:move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49"/>
                        </a:lnTo>
                        <a:lnTo>
                          <a:pt x="38" y="39"/>
                        </a:lnTo>
                        <a:lnTo>
                          <a:pt x="38" y="3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29" y="39"/>
                        </a:lnTo>
                        <a:lnTo>
                          <a:pt x="38" y="49"/>
                        </a:lnTo>
                        <a:lnTo>
                          <a:pt x="38" y="49"/>
                        </a:lnTo>
                        <a:lnTo>
                          <a:pt x="38" y="59"/>
                        </a:lnTo>
                        <a:lnTo>
                          <a:pt x="38" y="68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4422600" y="2330640"/>
                    <a:ext cx="65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7">
                        <a:moveTo>
                          <a:pt x="10" y="87"/>
                        </a:moveTo>
                        <a:lnTo>
                          <a:pt x="10" y="87"/>
                        </a:lnTo>
                        <a:lnTo>
                          <a:pt x="107" y="9"/>
                        </a:lnTo>
                        <a:lnTo>
                          <a:pt x="97" y="0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4422600" y="23842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2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4440600" y="2384280"/>
                    <a:ext cx="90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9">
                        <a:moveTo>
                          <a:pt x="146" y="0"/>
                        </a:move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10" y="3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30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68" y="3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107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>
                    <a:off x="4530600" y="237888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9"/>
                        </a:moveTo>
                        <a:lnTo>
                          <a:pt x="136" y="9"/>
                        </a:lnTo>
                        <a:lnTo>
                          <a:pt x="127" y="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27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>
                    <a:off x="4609080" y="2384280"/>
                    <a:ext cx="295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15">
                        <a:moveTo>
                          <a:pt x="48" y="215"/>
                        </a:moveTo>
                        <a:lnTo>
                          <a:pt x="48" y="215"/>
                        </a:lnTo>
                        <a:lnTo>
                          <a:pt x="48" y="156"/>
                        </a:lnTo>
                        <a:lnTo>
                          <a:pt x="48" y="127"/>
                        </a:lnTo>
                        <a:lnTo>
                          <a:pt x="48" y="98"/>
                        </a:lnTo>
                        <a:lnTo>
                          <a:pt x="39" y="78"/>
                        </a:lnTo>
                        <a:lnTo>
                          <a:pt x="29" y="49"/>
                        </a:lnTo>
                        <a:lnTo>
                          <a:pt x="19" y="3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lnTo>
                          <a:pt x="19" y="49"/>
                        </a:lnTo>
                        <a:lnTo>
                          <a:pt x="29" y="78"/>
                        </a:lnTo>
                        <a:lnTo>
                          <a:pt x="29" y="107"/>
                        </a:lnTo>
                        <a:lnTo>
                          <a:pt x="39" y="127"/>
                        </a:lnTo>
                        <a:lnTo>
                          <a:pt x="39" y="156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39" y="215"/>
                        </a:lnTo>
                        <a:lnTo>
                          <a:pt x="48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4632840" y="2517120"/>
                    <a:ext cx="1195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87">
                        <a:moveTo>
                          <a:pt x="194" y="87"/>
                        </a:moveTo>
                        <a:lnTo>
                          <a:pt x="184" y="77"/>
                        </a:lnTo>
                        <a:lnTo>
                          <a:pt x="175" y="77"/>
                        </a:lnTo>
                        <a:lnTo>
                          <a:pt x="155" y="68"/>
                        </a:lnTo>
                        <a:lnTo>
                          <a:pt x="145" y="68"/>
                        </a:lnTo>
                        <a:lnTo>
                          <a:pt x="136" y="58"/>
                        </a:lnTo>
                        <a:lnTo>
                          <a:pt x="116" y="58"/>
                        </a:lnTo>
                        <a:lnTo>
                          <a:pt x="107" y="48"/>
                        </a:lnTo>
                        <a:lnTo>
                          <a:pt x="97" y="48"/>
                        </a:lnTo>
                        <a:lnTo>
                          <a:pt x="77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97" y="58"/>
                        </a:lnTo>
                        <a:lnTo>
                          <a:pt x="107" y="58"/>
                        </a:lnTo>
                        <a:lnTo>
                          <a:pt x="116" y="68"/>
                        </a:lnTo>
                        <a:lnTo>
                          <a:pt x="136" y="68"/>
                        </a:lnTo>
                        <a:lnTo>
                          <a:pt x="145" y="77"/>
                        </a:lnTo>
                        <a:lnTo>
                          <a:pt x="155" y="77"/>
                        </a:lnTo>
                        <a:lnTo>
                          <a:pt x="165" y="87"/>
                        </a:lnTo>
                        <a:lnTo>
                          <a:pt x="18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lnTo>
                          <a:pt x="194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4752720" y="25707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>
                    <a:off x="474624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>
                    <a:off x="4668840" y="255888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26" y="58"/>
                        </a:lnTo>
                        <a:lnTo>
                          <a:pt x="126" y="48"/>
                        </a:lnTo>
                        <a:lnTo>
                          <a:pt x="117" y="48"/>
                        </a:lnTo>
                        <a:lnTo>
                          <a:pt x="107" y="3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4662720" y="256464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30"/>
                        </a:move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>
                    <a:off x="4668840" y="258300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58" y="58"/>
                        </a:moveTo>
                        <a:lnTo>
                          <a:pt x="58" y="58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58"/>
                        </a:lnTo>
                        <a:lnTo>
                          <a:pt x="49" y="58"/>
                        </a:lnTo>
                        <a:lnTo>
                          <a:pt x="58" y="58"/>
                        </a:lnTo>
                        <a:lnTo>
                          <a:pt x="68" y="58"/>
                        </a:lnTo>
                        <a:lnTo>
                          <a:pt x="58" y="58"/>
                        </a:lnTo>
                        <a:lnTo>
                          <a:pt x="5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>
                    <a:off x="4680360" y="26190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10" y="49"/>
                        </a:move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4680360" y="264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29"/>
                        </a:moveTo>
                        <a:lnTo>
                          <a:pt x="3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lnTo>
                          <a:pt x="3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4692960" y="266724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4692960" y="269748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78" y="29"/>
                        </a:move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>
                    <a:off x="4734720" y="271548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9" y="88"/>
                        </a:move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9" y="68"/>
                        </a:lnTo>
                        <a:lnTo>
                          <a:pt x="19" y="6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4704480" y="2763360"/>
                    <a:ext cx="47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8">
                        <a:moveTo>
                          <a:pt x="10" y="58"/>
                        </a:moveTo>
                        <a:lnTo>
                          <a:pt x="10" y="68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4699080" y="2799360"/>
                    <a:ext cx="176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29" y="137"/>
                        </a:moveTo>
                        <a:lnTo>
                          <a:pt x="19" y="98"/>
                        </a:lnTo>
                        <a:lnTo>
                          <a:pt x="19" y="68"/>
                        </a:lnTo>
                        <a:lnTo>
                          <a:pt x="9" y="2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29"/>
                        </a:lnTo>
                        <a:lnTo>
                          <a:pt x="9" y="68"/>
                        </a:lnTo>
                        <a:lnTo>
                          <a:pt x="9" y="107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4674960" y="2883960"/>
                    <a:ext cx="417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33">
                        <a:moveTo>
                          <a:pt x="39" y="233"/>
                        </a:moveTo>
                        <a:lnTo>
                          <a:pt x="19" y="204"/>
                        </a:lnTo>
                        <a:lnTo>
                          <a:pt x="9" y="175"/>
                        </a:lnTo>
                        <a:lnTo>
                          <a:pt x="9" y="146"/>
                        </a:lnTo>
                        <a:lnTo>
                          <a:pt x="19" y="116"/>
                        </a:lnTo>
                        <a:lnTo>
                          <a:pt x="29" y="87"/>
                        </a:lnTo>
                        <a:lnTo>
                          <a:pt x="39" y="58"/>
                        </a:lnTo>
                        <a:lnTo>
                          <a:pt x="48" y="2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58"/>
                        </a:lnTo>
                        <a:lnTo>
                          <a:pt x="19" y="87"/>
                        </a:lnTo>
                        <a:lnTo>
                          <a:pt x="9" y="116"/>
                        </a:lnTo>
                        <a:lnTo>
                          <a:pt x="0" y="146"/>
                        </a:lnTo>
                        <a:lnTo>
                          <a:pt x="0" y="175"/>
                        </a:lnTo>
                        <a:lnTo>
                          <a:pt x="9" y="204"/>
                        </a:lnTo>
                        <a:lnTo>
                          <a:pt x="29" y="233"/>
                        </a:lnTo>
                        <a:lnTo>
                          <a:pt x="39" y="2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4692960" y="302760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166"/>
                        </a:moveTo>
                        <a:lnTo>
                          <a:pt x="136" y="156"/>
                        </a:lnTo>
                        <a:lnTo>
                          <a:pt x="136" y="146"/>
                        </a:lnTo>
                        <a:lnTo>
                          <a:pt x="126" y="136"/>
                        </a:lnTo>
                        <a:lnTo>
                          <a:pt x="117" y="117"/>
                        </a:lnTo>
                        <a:lnTo>
                          <a:pt x="107" y="107"/>
                        </a:lnTo>
                        <a:lnTo>
                          <a:pt x="97" y="98"/>
                        </a:lnTo>
                        <a:lnTo>
                          <a:pt x="97" y="88"/>
                        </a:lnTo>
                        <a:lnTo>
                          <a:pt x="87" y="78"/>
                        </a:lnTo>
                        <a:lnTo>
                          <a:pt x="58" y="49"/>
                        </a:lnTo>
                        <a:lnTo>
                          <a:pt x="48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59"/>
                        </a:lnTo>
                        <a:lnTo>
                          <a:pt x="68" y="68"/>
                        </a:lnTo>
                        <a:lnTo>
                          <a:pt x="78" y="88"/>
                        </a:lnTo>
                        <a:lnTo>
                          <a:pt x="87" y="98"/>
                        </a:lnTo>
                        <a:lnTo>
                          <a:pt x="107" y="127"/>
                        </a:lnTo>
                        <a:lnTo>
                          <a:pt x="117" y="136"/>
                        </a:lnTo>
                        <a:lnTo>
                          <a:pt x="126" y="146"/>
                        </a:lnTo>
                        <a:lnTo>
                          <a:pt x="126" y="156"/>
                        </a:lnTo>
                        <a:lnTo>
                          <a:pt x="136" y="175"/>
                        </a:lnTo>
                        <a:lnTo>
                          <a:pt x="136" y="166"/>
                        </a:lnTo>
                        <a:lnTo>
                          <a:pt x="146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>
                    <a:off x="4746240" y="3130200"/>
                    <a:ext cx="363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5">
                        <a:moveTo>
                          <a:pt x="10" y="155"/>
                        </a:moveTo>
                        <a:lnTo>
                          <a:pt x="20" y="136"/>
                        </a:lnTo>
                        <a:lnTo>
                          <a:pt x="20" y="117"/>
                        </a:lnTo>
                        <a:lnTo>
                          <a:pt x="30" y="97"/>
                        </a:lnTo>
                        <a:lnTo>
                          <a:pt x="30" y="78"/>
                        </a:lnTo>
                        <a:lnTo>
                          <a:pt x="39" y="58"/>
                        </a:lnTo>
                        <a:lnTo>
                          <a:pt x="49" y="39"/>
                        </a:lnTo>
                        <a:lnTo>
                          <a:pt x="49" y="1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19"/>
                        </a:lnTo>
                        <a:lnTo>
                          <a:pt x="39" y="39"/>
                        </a:lnTo>
                        <a:lnTo>
                          <a:pt x="30" y="58"/>
                        </a:lnTo>
                        <a:lnTo>
                          <a:pt x="20" y="78"/>
                        </a:lnTo>
                        <a:lnTo>
                          <a:pt x="20" y="9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46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>
                    <a:off x="4704480" y="3220560"/>
                    <a:ext cx="478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78"/>
                        </a:move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9" y="4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9"/>
                        </a:lnTo>
                        <a:lnTo>
                          <a:pt x="68" y="0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3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4644720" y="3268800"/>
                    <a:ext cx="65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3">
                        <a:moveTo>
                          <a:pt x="10" y="243"/>
                        </a:moveTo>
                        <a:lnTo>
                          <a:pt x="29" y="214"/>
                        </a:lnTo>
                        <a:lnTo>
                          <a:pt x="39" y="185"/>
                        </a:lnTo>
                        <a:lnTo>
                          <a:pt x="39" y="146"/>
                        </a:lnTo>
                        <a:lnTo>
                          <a:pt x="39" y="116"/>
                        </a:lnTo>
                        <a:lnTo>
                          <a:pt x="49" y="78"/>
                        </a:lnTo>
                        <a:lnTo>
                          <a:pt x="68" y="48"/>
                        </a:lnTo>
                        <a:lnTo>
                          <a:pt x="78" y="1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19"/>
                        </a:lnTo>
                        <a:lnTo>
                          <a:pt x="58" y="48"/>
                        </a:lnTo>
                        <a:lnTo>
                          <a:pt x="39" y="78"/>
                        </a:lnTo>
                        <a:lnTo>
                          <a:pt x="39" y="107"/>
                        </a:lnTo>
                        <a:lnTo>
                          <a:pt x="29" y="146"/>
                        </a:lnTo>
                        <a:lnTo>
                          <a:pt x="29" y="175"/>
                        </a:lnTo>
                        <a:lnTo>
                          <a:pt x="20" y="214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0" y="233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4644720" y="3418920"/>
                    <a:ext cx="17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8">
                        <a:moveTo>
                          <a:pt x="20" y="78"/>
                        </a:moveTo>
                        <a:lnTo>
                          <a:pt x="29" y="78"/>
                        </a:lnTo>
                        <a:lnTo>
                          <a:pt x="20" y="68"/>
                        </a:lnTo>
                        <a:lnTo>
                          <a:pt x="10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0" y="6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4656960" y="3431160"/>
                    <a:ext cx="10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68">
                        <a:moveTo>
                          <a:pt x="155" y="0"/>
                        </a:move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9"/>
                        </a:lnTo>
                        <a:lnTo>
                          <a:pt x="106" y="19"/>
                        </a:lnTo>
                        <a:lnTo>
                          <a:pt x="106" y="19"/>
                        </a:lnTo>
                        <a:lnTo>
                          <a:pt x="97" y="29"/>
                        </a:lnTo>
                        <a:lnTo>
                          <a:pt x="77" y="29"/>
                        </a:lnTo>
                        <a:lnTo>
                          <a:pt x="68" y="38"/>
                        </a:lnTo>
                        <a:lnTo>
                          <a:pt x="68" y="38"/>
                        </a:lnTo>
                        <a:lnTo>
                          <a:pt x="48" y="38"/>
                        </a:lnTo>
                        <a:lnTo>
                          <a:pt x="38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7" y="48"/>
                        </a:lnTo>
                        <a:lnTo>
                          <a:pt x="87" y="38"/>
                        </a:lnTo>
                        <a:lnTo>
                          <a:pt x="97" y="38"/>
                        </a:lnTo>
                        <a:lnTo>
                          <a:pt x="106" y="29"/>
                        </a:lnTo>
                        <a:lnTo>
                          <a:pt x="116" y="29"/>
                        </a:lnTo>
                        <a:lnTo>
                          <a:pt x="126" y="19"/>
                        </a:lnTo>
                        <a:lnTo>
                          <a:pt x="136" y="19"/>
                        </a:lnTo>
                        <a:lnTo>
                          <a:pt x="145" y="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4752720" y="3316680"/>
                    <a:ext cx="185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85">
                        <a:moveTo>
                          <a:pt x="302" y="0"/>
                        </a:moveTo>
                        <a:lnTo>
                          <a:pt x="302" y="0"/>
                        </a:lnTo>
                        <a:lnTo>
                          <a:pt x="282" y="0"/>
                        </a:lnTo>
                        <a:lnTo>
                          <a:pt x="263" y="9"/>
                        </a:lnTo>
                        <a:lnTo>
                          <a:pt x="234" y="19"/>
                        </a:lnTo>
                        <a:lnTo>
                          <a:pt x="214" y="19"/>
                        </a:lnTo>
                        <a:lnTo>
                          <a:pt x="195" y="29"/>
                        </a:lnTo>
                        <a:lnTo>
                          <a:pt x="175" y="38"/>
                        </a:lnTo>
                        <a:lnTo>
                          <a:pt x="156" y="58"/>
                        </a:lnTo>
                        <a:lnTo>
                          <a:pt x="136" y="58"/>
                        </a:lnTo>
                        <a:lnTo>
                          <a:pt x="127" y="77"/>
                        </a:lnTo>
                        <a:lnTo>
                          <a:pt x="97" y="87"/>
                        </a:lnTo>
                        <a:lnTo>
                          <a:pt x="88" y="107"/>
                        </a:lnTo>
                        <a:lnTo>
                          <a:pt x="68" y="116"/>
                        </a:lnTo>
                        <a:lnTo>
                          <a:pt x="49" y="136"/>
                        </a:lnTo>
                        <a:lnTo>
                          <a:pt x="39" y="146"/>
                        </a:lnTo>
                        <a:lnTo>
                          <a:pt x="20" y="165"/>
                        </a:lnTo>
                        <a:lnTo>
                          <a:pt x="0" y="185"/>
                        </a:lnTo>
                        <a:lnTo>
                          <a:pt x="10" y="185"/>
                        </a:lnTo>
                        <a:lnTo>
                          <a:pt x="39" y="155"/>
                        </a:lnTo>
                        <a:lnTo>
                          <a:pt x="58" y="136"/>
                        </a:lnTo>
                        <a:lnTo>
                          <a:pt x="78" y="126"/>
                        </a:lnTo>
                        <a:lnTo>
                          <a:pt x="88" y="107"/>
                        </a:lnTo>
                        <a:lnTo>
                          <a:pt x="107" y="97"/>
                        </a:lnTo>
                        <a:lnTo>
                          <a:pt x="127" y="87"/>
                        </a:lnTo>
                        <a:lnTo>
                          <a:pt x="146" y="68"/>
                        </a:lnTo>
                        <a:lnTo>
                          <a:pt x="165" y="58"/>
                        </a:lnTo>
                        <a:lnTo>
                          <a:pt x="175" y="48"/>
                        </a:lnTo>
                        <a:lnTo>
                          <a:pt x="204" y="38"/>
                        </a:lnTo>
                        <a:lnTo>
                          <a:pt x="214" y="29"/>
                        </a:lnTo>
                        <a:lnTo>
                          <a:pt x="243" y="19"/>
                        </a:lnTo>
                        <a:lnTo>
                          <a:pt x="263" y="19"/>
                        </a:lnTo>
                        <a:lnTo>
                          <a:pt x="282" y="9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9"/>
                        </a:lnTo>
                        <a:lnTo>
                          <a:pt x="302" y="0"/>
                        </a:lnTo>
                        <a:lnTo>
                          <a:pt x="3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4938840" y="3298320"/>
                    <a:ext cx="2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0">
                        <a:moveTo>
                          <a:pt x="38" y="20"/>
                        </a:move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8" y="20"/>
                        </a:lnTo>
                        <a:lnTo>
                          <a:pt x="29" y="10"/>
                        </a:lnTo>
                        <a:lnTo>
                          <a:pt x="38" y="20"/>
                        </a:lnTo>
                        <a:lnTo>
                          <a:pt x="48" y="0"/>
                        </a:lnTo>
                        <a:lnTo>
                          <a:pt x="38" y="10"/>
                        </a:lnTo>
                        <a:lnTo>
                          <a:pt x="3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4578840" y="3304440"/>
                    <a:ext cx="3834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331">
                        <a:moveTo>
                          <a:pt x="10" y="331"/>
                        </a:moveTo>
                        <a:lnTo>
                          <a:pt x="20" y="321"/>
                        </a:lnTo>
                        <a:lnTo>
                          <a:pt x="49" y="321"/>
                        </a:lnTo>
                        <a:lnTo>
                          <a:pt x="68" y="312"/>
                        </a:lnTo>
                        <a:lnTo>
                          <a:pt x="88" y="302"/>
                        </a:lnTo>
                        <a:lnTo>
                          <a:pt x="107" y="302"/>
                        </a:lnTo>
                        <a:lnTo>
                          <a:pt x="127" y="292"/>
                        </a:lnTo>
                        <a:lnTo>
                          <a:pt x="146" y="282"/>
                        </a:lnTo>
                        <a:lnTo>
                          <a:pt x="175" y="282"/>
                        </a:lnTo>
                        <a:lnTo>
                          <a:pt x="195" y="273"/>
                        </a:lnTo>
                        <a:lnTo>
                          <a:pt x="214" y="263"/>
                        </a:lnTo>
                        <a:lnTo>
                          <a:pt x="233" y="253"/>
                        </a:lnTo>
                        <a:lnTo>
                          <a:pt x="253" y="253"/>
                        </a:lnTo>
                        <a:lnTo>
                          <a:pt x="272" y="243"/>
                        </a:lnTo>
                        <a:lnTo>
                          <a:pt x="292" y="234"/>
                        </a:lnTo>
                        <a:lnTo>
                          <a:pt x="311" y="224"/>
                        </a:lnTo>
                        <a:lnTo>
                          <a:pt x="331" y="214"/>
                        </a:lnTo>
                        <a:lnTo>
                          <a:pt x="350" y="205"/>
                        </a:lnTo>
                        <a:lnTo>
                          <a:pt x="370" y="195"/>
                        </a:lnTo>
                        <a:lnTo>
                          <a:pt x="389" y="175"/>
                        </a:lnTo>
                        <a:lnTo>
                          <a:pt x="409" y="166"/>
                        </a:lnTo>
                        <a:lnTo>
                          <a:pt x="428" y="156"/>
                        </a:lnTo>
                        <a:lnTo>
                          <a:pt x="447" y="146"/>
                        </a:lnTo>
                        <a:lnTo>
                          <a:pt x="457" y="136"/>
                        </a:lnTo>
                        <a:lnTo>
                          <a:pt x="486" y="127"/>
                        </a:lnTo>
                        <a:lnTo>
                          <a:pt x="496" y="107"/>
                        </a:lnTo>
                        <a:lnTo>
                          <a:pt x="516" y="97"/>
                        </a:lnTo>
                        <a:lnTo>
                          <a:pt x="535" y="78"/>
                        </a:lnTo>
                        <a:lnTo>
                          <a:pt x="554" y="68"/>
                        </a:lnTo>
                        <a:lnTo>
                          <a:pt x="574" y="58"/>
                        </a:lnTo>
                        <a:lnTo>
                          <a:pt x="603" y="20"/>
                        </a:lnTo>
                        <a:lnTo>
                          <a:pt x="622" y="10"/>
                        </a:lnTo>
                        <a:lnTo>
                          <a:pt x="613" y="0"/>
                        </a:lnTo>
                        <a:lnTo>
                          <a:pt x="603" y="20"/>
                        </a:lnTo>
                        <a:lnTo>
                          <a:pt x="584" y="29"/>
                        </a:lnTo>
                        <a:lnTo>
                          <a:pt x="564" y="49"/>
                        </a:lnTo>
                        <a:lnTo>
                          <a:pt x="545" y="58"/>
                        </a:lnTo>
                        <a:lnTo>
                          <a:pt x="535" y="78"/>
                        </a:lnTo>
                        <a:lnTo>
                          <a:pt x="516" y="88"/>
                        </a:lnTo>
                        <a:lnTo>
                          <a:pt x="496" y="107"/>
                        </a:lnTo>
                        <a:lnTo>
                          <a:pt x="477" y="117"/>
                        </a:lnTo>
                        <a:lnTo>
                          <a:pt x="457" y="127"/>
                        </a:lnTo>
                        <a:lnTo>
                          <a:pt x="438" y="136"/>
                        </a:lnTo>
                        <a:lnTo>
                          <a:pt x="418" y="156"/>
                        </a:lnTo>
                        <a:lnTo>
                          <a:pt x="409" y="166"/>
                        </a:lnTo>
                        <a:lnTo>
                          <a:pt x="379" y="175"/>
                        </a:lnTo>
                        <a:lnTo>
                          <a:pt x="370" y="185"/>
                        </a:lnTo>
                        <a:lnTo>
                          <a:pt x="340" y="195"/>
                        </a:lnTo>
                        <a:lnTo>
                          <a:pt x="321" y="205"/>
                        </a:lnTo>
                        <a:lnTo>
                          <a:pt x="311" y="214"/>
                        </a:lnTo>
                        <a:lnTo>
                          <a:pt x="282" y="224"/>
                        </a:lnTo>
                        <a:lnTo>
                          <a:pt x="272" y="234"/>
                        </a:lnTo>
                        <a:lnTo>
                          <a:pt x="243" y="243"/>
                        </a:lnTo>
                        <a:lnTo>
                          <a:pt x="233" y="253"/>
                        </a:lnTo>
                        <a:lnTo>
                          <a:pt x="204" y="253"/>
                        </a:lnTo>
                        <a:lnTo>
                          <a:pt x="195" y="263"/>
                        </a:lnTo>
                        <a:lnTo>
                          <a:pt x="165" y="273"/>
                        </a:lnTo>
                        <a:lnTo>
                          <a:pt x="146" y="273"/>
                        </a:lnTo>
                        <a:lnTo>
                          <a:pt x="127" y="282"/>
                        </a:lnTo>
                        <a:lnTo>
                          <a:pt x="107" y="292"/>
                        </a:lnTo>
                        <a:lnTo>
                          <a:pt x="88" y="302"/>
                        </a:lnTo>
                        <a:lnTo>
                          <a:pt x="58" y="302"/>
                        </a:lnTo>
                        <a:lnTo>
                          <a:pt x="49" y="312"/>
                        </a:lnTo>
                        <a:lnTo>
                          <a:pt x="20" y="321"/>
                        </a:lnTo>
                        <a:lnTo>
                          <a:pt x="0" y="321"/>
                        </a:lnTo>
                        <a:lnTo>
                          <a:pt x="10" y="3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4285080" y="3502800"/>
                    <a:ext cx="29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49">
                        <a:moveTo>
                          <a:pt x="9" y="30"/>
                        </a:moveTo>
                        <a:lnTo>
                          <a:pt x="19" y="3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116" y="39"/>
                        </a:lnTo>
                        <a:lnTo>
                          <a:pt x="136" y="49"/>
                        </a:lnTo>
                        <a:lnTo>
                          <a:pt x="194" y="49"/>
                        </a:lnTo>
                        <a:lnTo>
                          <a:pt x="204" y="39"/>
                        </a:lnTo>
                        <a:lnTo>
                          <a:pt x="272" y="39"/>
                        </a:lnTo>
                        <a:lnTo>
                          <a:pt x="282" y="39"/>
                        </a:lnTo>
                        <a:lnTo>
                          <a:pt x="311" y="39"/>
                        </a:lnTo>
                        <a:lnTo>
                          <a:pt x="320" y="30"/>
                        </a:lnTo>
                        <a:lnTo>
                          <a:pt x="359" y="30"/>
                        </a:lnTo>
                        <a:lnTo>
                          <a:pt x="369" y="30"/>
                        </a:lnTo>
                        <a:lnTo>
                          <a:pt x="379" y="20"/>
                        </a:lnTo>
                        <a:lnTo>
                          <a:pt x="408" y="20"/>
                        </a:lnTo>
                        <a:lnTo>
                          <a:pt x="427" y="20"/>
                        </a:lnTo>
                        <a:lnTo>
                          <a:pt x="437" y="20"/>
                        </a:lnTo>
                        <a:lnTo>
                          <a:pt x="447" y="20"/>
                        </a:lnTo>
                        <a:lnTo>
                          <a:pt x="466" y="10"/>
                        </a:lnTo>
                        <a:lnTo>
                          <a:pt x="486" y="10"/>
                        </a:lnTo>
                        <a:lnTo>
                          <a:pt x="476" y="0"/>
                        </a:lnTo>
                        <a:lnTo>
                          <a:pt x="466" y="0"/>
                        </a:lnTo>
                        <a:lnTo>
                          <a:pt x="447" y="10"/>
                        </a:lnTo>
                        <a:lnTo>
                          <a:pt x="437" y="10"/>
                        </a:lnTo>
                        <a:lnTo>
                          <a:pt x="418" y="10"/>
                        </a:lnTo>
                        <a:lnTo>
                          <a:pt x="408" y="20"/>
                        </a:lnTo>
                        <a:lnTo>
                          <a:pt x="398" y="20"/>
                        </a:lnTo>
                        <a:lnTo>
                          <a:pt x="379" y="20"/>
                        </a:lnTo>
                        <a:lnTo>
                          <a:pt x="359" y="20"/>
                        </a:lnTo>
                        <a:lnTo>
                          <a:pt x="359" y="20"/>
                        </a:lnTo>
                        <a:lnTo>
                          <a:pt x="320" y="20"/>
                        </a:lnTo>
                        <a:lnTo>
                          <a:pt x="311" y="30"/>
                        </a:lnTo>
                        <a:lnTo>
                          <a:pt x="282" y="30"/>
                        </a:lnTo>
                        <a:lnTo>
                          <a:pt x="272" y="30"/>
                        </a:lnTo>
                        <a:lnTo>
                          <a:pt x="58" y="30"/>
                        </a:lnTo>
                        <a:lnTo>
                          <a:pt x="48" y="3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lnTo>
                          <a:pt x="0" y="30"/>
                        </a:lnTo>
                        <a:lnTo>
                          <a:pt x="19" y="39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4290840" y="34970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20" y="9"/>
                        </a:move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4272840" y="347868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30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4254840" y="34848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1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4254840" y="3502800"/>
                    <a:ext cx="11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0">
                        <a:moveTo>
                          <a:pt x="19" y="20"/>
                        </a:move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4266720" y="351504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4147200" y="349704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7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65" y="39"/>
                        </a:lnTo>
                        <a:lnTo>
                          <a:pt x="194" y="39"/>
                        </a:lnTo>
                        <a:lnTo>
                          <a:pt x="194" y="29"/>
                        </a:lnTo>
                        <a:lnTo>
                          <a:pt x="146" y="29"/>
                        </a:lnTo>
                        <a:lnTo>
                          <a:pt x="146" y="2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19"/>
                        </a:lnTo>
                        <a:lnTo>
                          <a:pt x="87" y="19"/>
                        </a:lnTo>
                        <a:lnTo>
                          <a:pt x="7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4164840" y="34606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4164840" y="346068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>
                    <a:off x="4110840" y="345456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10" y="20"/>
                        </a:move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>
                    <a:off x="4110840" y="346680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39" y="49"/>
                        </a:moveTo>
                        <a:lnTo>
                          <a:pt x="39" y="39"/>
                        </a:lnTo>
                        <a:lnTo>
                          <a:pt x="30" y="2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>
                    <a:off x="3661200" y="3117960"/>
                    <a:ext cx="47340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1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29" y="59"/>
                        </a:lnTo>
                        <a:lnTo>
                          <a:pt x="49" y="88"/>
                        </a:lnTo>
                        <a:lnTo>
                          <a:pt x="58" y="117"/>
                        </a:lnTo>
                        <a:lnTo>
                          <a:pt x="78" y="137"/>
                        </a:lnTo>
                        <a:lnTo>
                          <a:pt x="97" y="166"/>
                        </a:lnTo>
                        <a:lnTo>
                          <a:pt x="117" y="185"/>
                        </a:lnTo>
                        <a:lnTo>
                          <a:pt x="136" y="214"/>
                        </a:lnTo>
                        <a:lnTo>
                          <a:pt x="156" y="234"/>
                        </a:lnTo>
                        <a:lnTo>
                          <a:pt x="175" y="263"/>
                        </a:lnTo>
                        <a:lnTo>
                          <a:pt x="204" y="283"/>
                        </a:lnTo>
                        <a:lnTo>
                          <a:pt x="272" y="351"/>
                        </a:lnTo>
                        <a:lnTo>
                          <a:pt x="292" y="370"/>
                        </a:lnTo>
                        <a:lnTo>
                          <a:pt x="321" y="390"/>
                        </a:lnTo>
                        <a:lnTo>
                          <a:pt x="350" y="409"/>
                        </a:lnTo>
                        <a:lnTo>
                          <a:pt x="370" y="429"/>
                        </a:lnTo>
                        <a:lnTo>
                          <a:pt x="399" y="448"/>
                        </a:lnTo>
                        <a:lnTo>
                          <a:pt x="428" y="458"/>
                        </a:lnTo>
                        <a:lnTo>
                          <a:pt x="457" y="477"/>
                        </a:lnTo>
                        <a:lnTo>
                          <a:pt x="477" y="497"/>
                        </a:lnTo>
                        <a:lnTo>
                          <a:pt x="506" y="507"/>
                        </a:lnTo>
                        <a:lnTo>
                          <a:pt x="535" y="526"/>
                        </a:lnTo>
                        <a:lnTo>
                          <a:pt x="564" y="536"/>
                        </a:lnTo>
                        <a:lnTo>
                          <a:pt x="593" y="555"/>
                        </a:lnTo>
                        <a:lnTo>
                          <a:pt x="623" y="555"/>
                        </a:lnTo>
                        <a:lnTo>
                          <a:pt x="652" y="575"/>
                        </a:lnTo>
                        <a:lnTo>
                          <a:pt x="671" y="584"/>
                        </a:lnTo>
                        <a:lnTo>
                          <a:pt x="710" y="594"/>
                        </a:lnTo>
                        <a:lnTo>
                          <a:pt x="739" y="604"/>
                        </a:lnTo>
                        <a:lnTo>
                          <a:pt x="768" y="614"/>
                        </a:lnTo>
                        <a:lnTo>
                          <a:pt x="768" y="604"/>
                        </a:lnTo>
                        <a:lnTo>
                          <a:pt x="739" y="594"/>
                        </a:lnTo>
                        <a:lnTo>
                          <a:pt x="710" y="584"/>
                        </a:lnTo>
                        <a:lnTo>
                          <a:pt x="681" y="575"/>
                        </a:lnTo>
                        <a:lnTo>
                          <a:pt x="652" y="565"/>
                        </a:lnTo>
                        <a:lnTo>
                          <a:pt x="623" y="555"/>
                        </a:lnTo>
                        <a:lnTo>
                          <a:pt x="593" y="545"/>
                        </a:lnTo>
                        <a:lnTo>
                          <a:pt x="564" y="526"/>
                        </a:lnTo>
                        <a:lnTo>
                          <a:pt x="545" y="516"/>
                        </a:lnTo>
                        <a:lnTo>
                          <a:pt x="506" y="507"/>
                        </a:lnTo>
                        <a:lnTo>
                          <a:pt x="486" y="487"/>
                        </a:lnTo>
                        <a:lnTo>
                          <a:pt x="457" y="468"/>
                        </a:lnTo>
                        <a:lnTo>
                          <a:pt x="428" y="458"/>
                        </a:lnTo>
                        <a:lnTo>
                          <a:pt x="409" y="438"/>
                        </a:lnTo>
                        <a:lnTo>
                          <a:pt x="379" y="419"/>
                        </a:lnTo>
                        <a:lnTo>
                          <a:pt x="350" y="399"/>
                        </a:lnTo>
                        <a:lnTo>
                          <a:pt x="321" y="380"/>
                        </a:lnTo>
                        <a:lnTo>
                          <a:pt x="302" y="360"/>
                        </a:lnTo>
                        <a:lnTo>
                          <a:pt x="282" y="341"/>
                        </a:lnTo>
                        <a:lnTo>
                          <a:pt x="253" y="322"/>
                        </a:lnTo>
                        <a:lnTo>
                          <a:pt x="233" y="292"/>
                        </a:lnTo>
                        <a:lnTo>
                          <a:pt x="204" y="283"/>
                        </a:lnTo>
                        <a:lnTo>
                          <a:pt x="185" y="253"/>
                        </a:lnTo>
                        <a:lnTo>
                          <a:pt x="165" y="234"/>
                        </a:lnTo>
                        <a:lnTo>
                          <a:pt x="146" y="205"/>
                        </a:lnTo>
                        <a:lnTo>
                          <a:pt x="127" y="185"/>
                        </a:lnTo>
                        <a:lnTo>
                          <a:pt x="107" y="156"/>
                        </a:lnTo>
                        <a:lnTo>
                          <a:pt x="88" y="127"/>
                        </a:lnTo>
                        <a:lnTo>
                          <a:pt x="68" y="10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>
                    <a:off x="3637080" y="30643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>
                    <a:off x="3637080" y="300384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3655080" y="299196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9"/>
                        </a:move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3661200" y="299196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29"/>
                        </a:moveTo>
                        <a:lnTo>
                          <a:pt x="7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3702960" y="30099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49"/>
                        </a:moveTo>
                        <a:lnTo>
                          <a:pt x="29" y="58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3720960" y="3040200"/>
                    <a:ext cx="36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9">
                        <a:moveTo>
                          <a:pt x="59" y="29"/>
                        </a:move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9" y="39"/>
                        </a:lnTo>
                        <a:lnTo>
                          <a:pt x="5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3757320" y="30517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3763080" y="299736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0" y="49"/>
                        </a:lnTo>
                        <a:lnTo>
                          <a:pt x="0" y="69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10" y="69"/>
                        </a:lnTo>
                        <a:lnTo>
                          <a:pt x="10" y="4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3763080" y="2991960"/>
                    <a:ext cx="10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9">
                        <a:moveTo>
                          <a:pt x="156" y="9"/>
                        </a:moveTo>
                        <a:lnTo>
                          <a:pt x="146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lnTo>
                          <a:pt x="166" y="0"/>
                        </a:lnTo>
                        <a:lnTo>
                          <a:pt x="146" y="0"/>
                        </a:lnTo>
                        <a:lnTo>
                          <a:pt x="15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3817080" y="2991960"/>
                    <a:ext cx="417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6">
                        <a:moveTo>
                          <a:pt x="10" y="146"/>
                        </a:move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87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3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3817080" y="308232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29"/>
                        </a:move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3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>
                    <a:off x="3853080" y="309996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8" y="29"/>
                        </a:move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59" y="2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>
                    <a:off x="3894840" y="3045600"/>
                    <a:ext cx="655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27">
                        <a:moveTo>
                          <a:pt x="98" y="0"/>
                        </a:moveTo>
                        <a:lnTo>
                          <a:pt x="88" y="20"/>
                        </a:lnTo>
                        <a:lnTo>
                          <a:pt x="78" y="30"/>
                        </a:lnTo>
                        <a:lnTo>
                          <a:pt x="68" y="49"/>
                        </a:lnTo>
                        <a:lnTo>
                          <a:pt x="59" y="59"/>
                        </a:lnTo>
                        <a:lnTo>
                          <a:pt x="30" y="88"/>
                        </a:lnTo>
                        <a:lnTo>
                          <a:pt x="20" y="107"/>
                        </a:lnTo>
                        <a:lnTo>
                          <a:pt x="0" y="117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30" y="98"/>
                        </a:lnTo>
                        <a:lnTo>
                          <a:pt x="49" y="78"/>
                        </a:lnTo>
                        <a:lnTo>
                          <a:pt x="68" y="69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98" y="20"/>
                        </a:lnTo>
                        <a:lnTo>
                          <a:pt x="107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3931200" y="2991960"/>
                    <a:ext cx="2916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8" y="87"/>
                        </a:lnTo>
                        <a:lnTo>
                          <a:pt x="48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3931200" y="2979720"/>
                    <a:ext cx="11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9">
                        <a:moveTo>
                          <a:pt x="194" y="0"/>
                        </a:moveTo>
                        <a:lnTo>
                          <a:pt x="185" y="0"/>
                        </a:lnTo>
                        <a:lnTo>
                          <a:pt x="175" y="10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58" y="10"/>
                        </a:lnTo>
                        <a:lnTo>
                          <a:pt x="48" y="2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48" y="29"/>
                        </a:lnTo>
                        <a:lnTo>
                          <a:pt x="58" y="20"/>
                        </a:lnTo>
                        <a:lnTo>
                          <a:pt x="107" y="20"/>
                        </a:lnTo>
                        <a:lnTo>
                          <a:pt x="12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4050720" y="29739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9"/>
                        </a:move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4050720" y="2871720"/>
                    <a:ext cx="122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5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49"/>
                        </a:lnTo>
                        <a:lnTo>
                          <a:pt x="0" y="127"/>
                        </a:lnTo>
                        <a:lnTo>
                          <a:pt x="10" y="175"/>
                        </a:lnTo>
                        <a:lnTo>
                          <a:pt x="20" y="175"/>
                        </a:lnTo>
                        <a:lnTo>
                          <a:pt x="20" y="4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4015080" y="2865600"/>
                    <a:ext cx="41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4015080" y="28656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4026960" y="2715480"/>
                    <a:ext cx="2376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43">
                        <a:moveTo>
                          <a:pt x="30" y="0"/>
                        </a:moveTo>
                        <a:lnTo>
                          <a:pt x="30" y="29"/>
                        </a:lnTo>
                        <a:lnTo>
                          <a:pt x="20" y="58"/>
                        </a:lnTo>
                        <a:lnTo>
                          <a:pt x="20" y="185"/>
                        </a:lnTo>
                        <a:lnTo>
                          <a:pt x="1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20" y="214"/>
                        </a:lnTo>
                        <a:lnTo>
                          <a:pt x="30" y="185"/>
                        </a:lnTo>
                        <a:lnTo>
                          <a:pt x="30" y="29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>
                    <a:off x="3828960" y="2637000"/>
                    <a:ext cx="221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27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30" y="10"/>
                        </a:lnTo>
                        <a:lnTo>
                          <a:pt x="185" y="1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53" y="30"/>
                        </a:lnTo>
                        <a:lnTo>
                          <a:pt x="273" y="39"/>
                        </a:lnTo>
                        <a:lnTo>
                          <a:pt x="292" y="49"/>
                        </a:lnTo>
                        <a:lnTo>
                          <a:pt x="312" y="68"/>
                        </a:lnTo>
                        <a:lnTo>
                          <a:pt x="321" y="78"/>
                        </a:lnTo>
                        <a:lnTo>
                          <a:pt x="341" y="107"/>
                        </a:lnTo>
                        <a:lnTo>
                          <a:pt x="351" y="127"/>
                        </a:lnTo>
                        <a:lnTo>
                          <a:pt x="360" y="127"/>
                        </a:lnTo>
                        <a:lnTo>
                          <a:pt x="351" y="98"/>
                        </a:lnTo>
                        <a:lnTo>
                          <a:pt x="331" y="78"/>
                        </a:lnTo>
                        <a:lnTo>
                          <a:pt x="312" y="59"/>
                        </a:lnTo>
                        <a:lnTo>
                          <a:pt x="292" y="49"/>
                        </a:lnTo>
                        <a:lnTo>
                          <a:pt x="273" y="30"/>
                        </a:lnTo>
                        <a:lnTo>
                          <a:pt x="253" y="20"/>
                        </a:lnTo>
                        <a:lnTo>
                          <a:pt x="224" y="20"/>
                        </a:lnTo>
                        <a:lnTo>
                          <a:pt x="205" y="1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137" y="0"/>
                        </a:lnTo>
                        <a:lnTo>
                          <a:pt x="78" y="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>
                    <a:off x="3781440" y="2637000"/>
                    <a:ext cx="536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8">
                        <a:moveTo>
                          <a:pt x="0" y="88"/>
                        </a:moveTo>
                        <a:lnTo>
                          <a:pt x="9" y="6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8" y="3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87" y="2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29" y="30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>
                    <a:off x="3763080" y="2691360"/>
                    <a:ext cx="183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88">
                        <a:moveTo>
                          <a:pt x="0" y="88"/>
                        </a:move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0" y="58"/>
                        </a:lnTo>
                        <a:lnTo>
                          <a:pt x="30" y="4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30" y="19"/>
                        </a:lnTo>
                        <a:lnTo>
                          <a:pt x="30" y="5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3757320" y="273960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3727080" y="2685240"/>
                    <a:ext cx="3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9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9" y="49"/>
                        </a:lnTo>
                        <a:lnTo>
                          <a:pt x="39" y="5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98"/>
                        </a:lnTo>
                        <a:lnTo>
                          <a:pt x="58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3733200" y="2541240"/>
                    <a:ext cx="8388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33">
                        <a:moveTo>
                          <a:pt x="126" y="0"/>
                        </a:moveTo>
                        <a:lnTo>
                          <a:pt x="126" y="0"/>
                        </a:lnTo>
                        <a:lnTo>
                          <a:pt x="116" y="19"/>
                        </a:lnTo>
                        <a:lnTo>
                          <a:pt x="116" y="38"/>
                        </a:lnTo>
                        <a:lnTo>
                          <a:pt x="116" y="48"/>
                        </a:lnTo>
                        <a:lnTo>
                          <a:pt x="107" y="68"/>
                        </a:lnTo>
                        <a:lnTo>
                          <a:pt x="107" y="87"/>
                        </a:lnTo>
                        <a:lnTo>
                          <a:pt x="97" y="97"/>
                        </a:lnTo>
                        <a:lnTo>
                          <a:pt x="87" y="116"/>
                        </a:lnTo>
                        <a:lnTo>
                          <a:pt x="87" y="136"/>
                        </a:lnTo>
                        <a:lnTo>
                          <a:pt x="78" y="146"/>
                        </a:lnTo>
                        <a:lnTo>
                          <a:pt x="68" y="155"/>
                        </a:lnTo>
                        <a:lnTo>
                          <a:pt x="58" y="175"/>
                        </a:lnTo>
                        <a:lnTo>
                          <a:pt x="19" y="223"/>
                        </a:lnTo>
                        <a:lnTo>
                          <a:pt x="0" y="233"/>
                        </a:lnTo>
                        <a:lnTo>
                          <a:pt x="0" y="233"/>
                        </a:lnTo>
                        <a:lnTo>
                          <a:pt x="19" y="223"/>
                        </a:lnTo>
                        <a:lnTo>
                          <a:pt x="29" y="214"/>
                        </a:lnTo>
                        <a:lnTo>
                          <a:pt x="48" y="204"/>
                        </a:lnTo>
                        <a:lnTo>
                          <a:pt x="58" y="194"/>
                        </a:lnTo>
                        <a:lnTo>
                          <a:pt x="68" y="175"/>
                        </a:lnTo>
                        <a:lnTo>
                          <a:pt x="78" y="165"/>
                        </a:lnTo>
                        <a:lnTo>
                          <a:pt x="87" y="146"/>
                        </a:lnTo>
                        <a:lnTo>
                          <a:pt x="97" y="136"/>
                        </a:lnTo>
                        <a:lnTo>
                          <a:pt x="97" y="116"/>
                        </a:lnTo>
                        <a:lnTo>
                          <a:pt x="107" y="97"/>
                        </a:lnTo>
                        <a:lnTo>
                          <a:pt x="116" y="87"/>
                        </a:lnTo>
                        <a:lnTo>
                          <a:pt x="116" y="68"/>
                        </a:lnTo>
                        <a:lnTo>
                          <a:pt x="116" y="48"/>
                        </a:lnTo>
                        <a:lnTo>
                          <a:pt x="126" y="38"/>
                        </a:lnTo>
                        <a:lnTo>
                          <a:pt x="126" y="19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3810960" y="2480760"/>
                    <a:ext cx="65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98">
                        <a:moveTo>
                          <a:pt x="97" y="0"/>
                        </a:moveTo>
                        <a:lnTo>
                          <a:pt x="88" y="10"/>
                        </a:lnTo>
                        <a:lnTo>
                          <a:pt x="88" y="29"/>
                        </a:lnTo>
                        <a:lnTo>
                          <a:pt x="78" y="49"/>
                        </a:lnTo>
                        <a:lnTo>
                          <a:pt x="68" y="59"/>
                        </a:lnTo>
                        <a:lnTo>
                          <a:pt x="49" y="68"/>
                        </a:lnTo>
                        <a:lnTo>
                          <a:pt x="39" y="78"/>
                        </a:lnTo>
                        <a:lnTo>
                          <a:pt x="20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20" y="98"/>
                        </a:lnTo>
                        <a:lnTo>
                          <a:pt x="39" y="88"/>
                        </a:lnTo>
                        <a:lnTo>
                          <a:pt x="59" y="78"/>
                        </a:lnTo>
                        <a:lnTo>
                          <a:pt x="78" y="49"/>
                        </a:lnTo>
                        <a:lnTo>
                          <a:pt x="88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3865320" y="243252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9" y="7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3865320" y="24084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3889440" y="2354760"/>
                    <a:ext cx="774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7">
                        <a:moveTo>
                          <a:pt x="116" y="0"/>
                        </a:moveTo>
                        <a:lnTo>
                          <a:pt x="116" y="0"/>
                        </a:lnTo>
                        <a:lnTo>
                          <a:pt x="107" y="9"/>
                        </a:lnTo>
                        <a:lnTo>
                          <a:pt x="107" y="19"/>
                        </a:lnTo>
                        <a:lnTo>
                          <a:pt x="97" y="29"/>
                        </a:lnTo>
                        <a:lnTo>
                          <a:pt x="87" y="39"/>
                        </a:lnTo>
                        <a:lnTo>
                          <a:pt x="87" y="48"/>
                        </a:lnTo>
                        <a:lnTo>
                          <a:pt x="77" y="58"/>
                        </a:lnTo>
                        <a:lnTo>
                          <a:pt x="68" y="6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48" y="87"/>
                        </a:lnTo>
                        <a:lnTo>
                          <a:pt x="39" y="87"/>
                        </a:lnTo>
                        <a:lnTo>
                          <a:pt x="29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97"/>
                        </a:lnTo>
                        <a:lnTo>
                          <a:pt x="39" y="97"/>
                        </a:lnTo>
                        <a:lnTo>
                          <a:pt x="48" y="87"/>
                        </a:lnTo>
                        <a:lnTo>
                          <a:pt x="58" y="87"/>
                        </a:lnTo>
                        <a:lnTo>
                          <a:pt x="87" y="68"/>
                        </a:lnTo>
                        <a:lnTo>
                          <a:pt x="87" y="58"/>
                        </a:lnTo>
                        <a:lnTo>
                          <a:pt x="97" y="48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3960720" y="2330640"/>
                    <a:ext cx="720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8">
                        <a:moveTo>
                          <a:pt x="117" y="9"/>
                        </a:moveTo>
                        <a:lnTo>
                          <a:pt x="107" y="0"/>
                        </a:ln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0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4008960" y="2336400"/>
                    <a:ext cx="23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7">
                        <a:moveTo>
                          <a:pt x="10" y="137"/>
                        </a:moveTo>
                        <a:lnTo>
                          <a:pt x="10" y="117"/>
                        </a:lnTo>
                        <a:lnTo>
                          <a:pt x="10" y="108"/>
                        </a:lnTo>
                        <a:lnTo>
                          <a:pt x="20" y="88"/>
                        </a:lnTo>
                        <a:lnTo>
                          <a:pt x="20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3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20"/>
                        </a:lnTo>
                        <a:lnTo>
                          <a:pt x="20" y="30"/>
                        </a:lnTo>
                        <a:lnTo>
                          <a:pt x="20" y="49"/>
                        </a:lnTo>
                        <a:lnTo>
                          <a:pt x="20" y="69"/>
                        </a:lnTo>
                        <a:lnTo>
                          <a:pt x="10" y="88"/>
                        </a:lnTo>
                        <a:lnTo>
                          <a:pt x="10" y="108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4008960" y="24210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68" y="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4050720" y="2360160"/>
                    <a:ext cx="9612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8">
                        <a:moveTo>
                          <a:pt x="146" y="10"/>
                        </a:moveTo>
                        <a:lnTo>
                          <a:pt x="156" y="10"/>
                        </a:lnTo>
                        <a:lnTo>
                          <a:pt x="136" y="10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30"/>
                        </a:lnTo>
                        <a:lnTo>
                          <a:pt x="39" y="5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0" y="88"/>
                        </a:lnTo>
                        <a:lnTo>
                          <a:pt x="10" y="8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20" y="8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59" y="49"/>
                        </a:lnTo>
                        <a:lnTo>
                          <a:pt x="68" y="39"/>
                        </a:lnTo>
                        <a:lnTo>
                          <a:pt x="68" y="30"/>
                        </a:lnTo>
                        <a:lnTo>
                          <a:pt x="78" y="30"/>
                        </a:lnTo>
                        <a:lnTo>
                          <a:pt x="88" y="20"/>
                        </a:lnTo>
                        <a:lnTo>
                          <a:pt x="88" y="20"/>
                        </a:lnTo>
                        <a:lnTo>
                          <a:pt x="97" y="10"/>
                        </a:lnTo>
                        <a:lnTo>
                          <a:pt x="127" y="1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4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4141080" y="2366640"/>
                    <a:ext cx="4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">
                        <a:moveTo>
                          <a:pt x="68" y="0"/>
                        </a:move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4182840" y="2324520"/>
                    <a:ext cx="360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8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9" y="58"/>
                        </a:lnTo>
                        <a:lnTo>
                          <a:pt x="3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4206960" y="226440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68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4213080" y="22521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58" y="1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4248720" y="225828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9" y="10"/>
                        </a:move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4285080" y="219240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19" y="58"/>
                        </a:lnTo>
                        <a:lnTo>
                          <a:pt x="19" y="78"/>
                        </a:lnTo>
                        <a:lnTo>
                          <a:pt x="9" y="87"/>
                        </a:lnTo>
                        <a:lnTo>
                          <a:pt x="9" y="9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19" y="107"/>
                        </a:lnTo>
                        <a:lnTo>
                          <a:pt x="19" y="87"/>
                        </a:lnTo>
                        <a:lnTo>
                          <a:pt x="19" y="4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4164840" y="2162160"/>
                    <a:ext cx="12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59">
                        <a:moveTo>
                          <a:pt x="0" y="0"/>
                        </a:move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26" y="20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65" y="39"/>
                        </a:lnTo>
                        <a:lnTo>
                          <a:pt x="175" y="49"/>
                        </a:lnTo>
                        <a:lnTo>
                          <a:pt x="195" y="49"/>
                        </a:lnTo>
                        <a:lnTo>
                          <a:pt x="204" y="59"/>
                        </a:lnTo>
                        <a:lnTo>
                          <a:pt x="204" y="49"/>
                        </a:lnTo>
                        <a:lnTo>
                          <a:pt x="195" y="49"/>
                        </a:lnTo>
                        <a:lnTo>
                          <a:pt x="185" y="39"/>
                        </a:lnTo>
                        <a:lnTo>
                          <a:pt x="165" y="2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10"/>
                        </a:lnTo>
                        <a:lnTo>
                          <a:pt x="11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4074840" y="2095920"/>
                    <a:ext cx="90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0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88" y="68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117" y="78"/>
                        </a:lnTo>
                        <a:lnTo>
                          <a:pt x="127" y="88"/>
                        </a:lnTo>
                        <a:lnTo>
                          <a:pt x="127" y="97"/>
                        </a:lnTo>
                        <a:lnTo>
                          <a:pt x="136" y="107"/>
                        </a:lnTo>
                        <a:lnTo>
                          <a:pt x="146" y="107"/>
                        </a:lnTo>
                        <a:lnTo>
                          <a:pt x="146" y="107"/>
                        </a:lnTo>
                        <a:lnTo>
                          <a:pt x="146" y="97"/>
                        </a:lnTo>
                        <a:lnTo>
                          <a:pt x="127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4068720" y="206568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4074840" y="2012040"/>
                    <a:ext cx="623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97">
                        <a:moveTo>
                          <a:pt x="1012" y="97"/>
                        </a:moveTo>
                        <a:lnTo>
                          <a:pt x="1012" y="87"/>
                        </a:lnTo>
                        <a:lnTo>
                          <a:pt x="982" y="78"/>
                        </a:lnTo>
                        <a:lnTo>
                          <a:pt x="953" y="68"/>
                        </a:lnTo>
                        <a:lnTo>
                          <a:pt x="924" y="58"/>
                        </a:lnTo>
                        <a:lnTo>
                          <a:pt x="885" y="48"/>
                        </a:lnTo>
                        <a:lnTo>
                          <a:pt x="856" y="48"/>
                        </a:lnTo>
                        <a:lnTo>
                          <a:pt x="827" y="39"/>
                        </a:lnTo>
                        <a:lnTo>
                          <a:pt x="798" y="29"/>
                        </a:lnTo>
                        <a:lnTo>
                          <a:pt x="768" y="29"/>
                        </a:lnTo>
                        <a:lnTo>
                          <a:pt x="730" y="19"/>
                        </a:lnTo>
                        <a:lnTo>
                          <a:pt x="700" y="19"/>
                        </a:lnTo>
                        <a:lnTo>
                          <a:pt x="661" y="9"/>
                        </a:lnTo>
                        <a:lnTo>
                          <a:pt x="632" y="9"/>
                        </a:lnTo>
                        <a:lnTo>
                          <a:pt x="603" y="9"/>
                        </a:lnTo>
                        <a:lnTo>
                          <a:pt x="574" y="0"/>
                        </a:lnTo>
                        <a:lnTo>
                          <a:pt x="477" y="0"/>
                        </a:lnTo>
                        <a:lnTo>
                          <a:pt x="438" y="9"/>
                        </a:lnTo>
                        <a:lnTo>
                          <a:pt x="409" y="9"/>
                        </a:lnTo>
                        <a:lnTo>
                          <a:pt x="370" y="9"/>
                        </a:lnTo>
                        <a:lnTo>
                          <a:pt x="341" y="9"/>
                        </a:lnTo>
                        <a:lnTo>
                          <a:pt x="311" y="19"/>
                        </a:lnTo>
                        <a:lnTo>
                          <a:pt x="272" y="19"/>
                        </a:lnTo>
                        <a:lnTo>
                          <a:pt x="243" y="29"/>
                        </a:lnTo>
                        <a:lnTo>
                          <a:pt x="214" y="29"/>
                        </a:lnTo>
                        <a:lnTo>
                          <a:pt x="175" y="39"/>
                        </a:lnTo>
                        <a:lnTo>
                          <a:pt x="146" y="48"/>
                        </a:lnTo>
                        <a:lnTo>
                          <a:pt x="117" y="48"/>
                        </a:lnTo>
                        <a:lnTo>
                          <a:pt x="88" y="58"/>
                        </a:lnTo>
                        <a:lnTo>
                          <a:pt x="49" y="68"/>
                        </a:lnTo>
                        <a:lnTo>
                          <a:pt x="29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9" y="87"/>
                        </a:lnTo>
                        <a:lnTo>
                          <a:pt x="58" y="78"/>
                        </a:lnTo>
                        <a:lnTo>
                          <a:pt x="88" y="68"/>
                        </a:lnTo>
                        <a:lnTo>
                          <a:pt x="117" y="58"/>
                        </a:lnTo>
                        <a:lnTo>
                          <a:pt x="146" y="48"/>
                        </a:lnTo>
                        <a:lnTo>
                          <a:pt x="175" y="48"/>
                        </a:lnTo>
                        <a:lnTo>
                          <a:pt x="214" y="39"/>
                        </a:lnTo>
                        <a:lnTo>
                          <a:pt x="243" y="29"/>
                        </a:lnTo>
                        <a:lnTo>
                          <a:pt x="272" y="29"/>
                        </a:lnTo>
                        <a:lnTo>
                          <a:pt x="311" y="29"/>
                        </a:lnTo>
                        <a:lnTo>
                          <a:pt x="341" y="19"/>
                        </a:lnTo>
                        <a:lnTo>
                          <a:pt x="370" y="19"/>
                        </a:lnTo>
                        <a:lnTo>
                          <a:pt x="409" y="19"/>
                        </a:lnTo>
                        <a:lnTo>
                          <a:pt x="438" y="19"/>
                        </a:lnTo>
                        <a:lnTo>
                          <a:pt x="477" y="9"/>
                        </a:lnTo>
                        <a:lnTo>
                          <a:pt x="574" y="9"/>
                        </a:lnTo>
                        <a:lnTo>
                          <a:pt x="603" y="19"/>
                        </a:lnTo>
                        <a:lnTo>
                          <a:pt x="632" y="19"/>
                        </a:lnTo>
                        <a:lnTo>
                          <a:pt x="661" y="19"/>
                        </a:lnTo>
                        <a:lnTo>
                          <a:pt x="700" y="29"/>
                        </a:lnTo>
                        <a:lnTo>
                          <a:pt x="730" y="29"/>
                        </a:lnTo>
                        <a:lnTo>
                          <a:pt x="759" y="29"/>
                        </a:lnTo>
                        <a:lnTo>
                          <a:pt x="798" y="39"/>
                        </a:lnTo>
                        <a:lnTo>
                          <a:pt x="827" y="48"/>
                        </a:lnTo>
                        <a:lnTo>
                          <a:pt x="856" y="48"/>
                        </a:lnTo>
                        <a:lnTo>
                          <a:pt x="885" y="58"/>
                        </a:lnTo>
                        <a:lnTo>
                          <a:pt x="924" y="68"/>
                        </a:lnTo>
                        <a:lnTo>
                          <a:pt x="953" y="78"/>
                        </a:lnTo>
                        <a:lnTo>
                          <a:pt x="982" y="8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97"/>
                        </a:lnTo>
                        <a:lnTo>
                          <a:pt x="1012" y="87"/>
                        </a:lnTo>
                        <a:lnTo>
                          <a:pt x="1012" y="87"/>
                        </a:lnTo>
                        <a:lnTo>
                          <a:pt x="1012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3865320" y="2071800"/>
                    <a:ext cx="42516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555">
                        <a:moveTo>
                          <a:pt x="340" y="59"/>
                        </a:moveTo>
                        <a:lnTo>
                          <a:pt x="360" y="68"/>
                        </a:lnTo>
                        <a:lnTo>
                          <a:pt x="379" y="78"/>
                        </a:lnTo>
                        <a:lnTo>
                          <a:pt x="389" y="88"/>
                        </a:lnTo>
                        <a:lnTo>
                          <a:pt x="408" y="107"/>
                        </a:lnTo>
                        <a:lnTo>
                          <a:pt x="428" y="127"/>
                        </a:lnTo>
                        <a:lnTo>
                          <a:pt x="437" y="136"/>
                        </a:lnTo>
                        <a:lnTo>
                          <a:pt x="467" y="156"/>
                        </a:lnTo>
                        <a:lnTo>
                          <a:pt x="476" y="166"/>
                        </a:lnTo>
                        <a:lnTo>
                          <a:pt x="486" y="166"/>
                        </a:lnTo>
                        <a:lnTo>
                          <a:pt x="525" y="166"/>
                        </a:lnTo>
                        <a:lnTo>
                          <a:pt x="544" y="166"/>
                        </a:lnTo>
                        <a:lnTo>
                          <a:pt x="564" y="166"/>
                        </a:lnTo>
                        <a:lnTo>
                          <a:pt x="574" y="166"/>
                        </a:lnTo>
                        <a:lnTo>
                          <a:pt x="583" y="166"/>
                        </a:lnTo>
                        <a:lnTo>
                          <a:pt x="593" y="175"/>
                        </a:lnTo>
                        <a:lnTo>
                          <a:pt x="603" y="175"/>
                        </a:lnTo>
                        <a:lnTo>
                          <a:pt x="603" y="185"/>
                        </a:lnTo>
                        <a:lnTo>
                          <a:pt x="622" y="185"/>
                        </a:lnTo>
                        <a:lnTo>
                          <a:pt x="632" y="195"/>
                        </a:lnTo>
                        <a:lnTo>
                          <a:pt x="642" y="195"/>
                        </a:lnTo>
                        <a:lnTo>
                          <a:pt x="651" y="195"/>
                        </a:lnTo>
                        <a:lnTo>
                          <a:pt x="651" y="195"/>
                        </a:lnTo>
                        <a:lnTo>
                          <a:pt x="671" y="205"/>
                        </a:lnTo>
                        <a:lnTo>
                          <a:pt x="671" y="214"/>
                        </a:lnTo>
                        <a:lnTo>
                          <a:pt x="681" y="224"/>
                        </a:lnTo>
                        <a:lnTo>
                          <a:pt x="681" y="263"/>
                        </a:lnTo>
                        <a:lnTo>
                          <a:pt x="690" y="273"/>
                        </a:lnTo>
                        <a:lnTo>
                          <a:pt x="681" y="282"/>
                        </a:lnTo>
                        <a:lnTo>
                          <a:pt x="681" y="292"/>
                        </a:lnTo>
                        <a:lnTo>
                          <a:pt x="671" y="292"/>
                        </a:lnTo>
                        <a:lnTo>
                          <a:pt x="651" y="292"/>
                        </a:lnTo>
                        <a:lnTo>
                          <a:pt x="642" y="292"/>
                        </a:lnTo>
                        <a:lnTo>
                          <a:pt x="622" y="292"/>
                        </a:lnTo>
                        <a:lnTo>
                          <a:pt x="612" y="282"/>
                        </a:lnTo>
                        <a:lnTo>
                          <a:pt x="603" y="282"/>
                        </a:lnTo>
                        <a:lnTo>
                          <a:pt x="564" y="282"/>
                        </a:lnTo>
                        <a:lnTo>
                          <a:pt x="564" y="282"/>
                        </a:lnTo>
                        <a:lnTo>
                          <a:pt x="554" y="292"/>
                        </a:lnTo>
                        <a:lnTo>
                          <a:pt x="554" y="292"/>
                        </a:lnTo>
                        <a:lnTo>
                          <a:pt x="544" y="302"/>
                        </a:lnTo>
                        <a:lnTo>
                          <a:pt x="544" y="321"/>
                        </a:lnTo>
                        <a:lnTo>
                          <a:pt x="544" y="351"/>
                        </a:lnTo>
                        <a:lnTo>
                          <a:pt x="554" y="370"/>
                        </a:lnTo>
                        <a:lnTo>
                          <a:pt x="554" y="399"/>
                        </a:lnTo>
                        <a:lnTo>
                          <a:pt x="554" y="419"/>
                        </a:lnTo>
                        <a:lnTo>
                          <a:pt x="544" y="438"/>
                        </a:lnTo>
                        <a:lnTo>
                          <a:pt x="535" y="458"/>
                        </a:lnTo>
                        <a:lnTo>
                          <a:pt x="515" y="467"/>
                        </a:lnTo>
                        <a:lnTo>
                          <a:pt x="505" y="467"/>
                        </a:lnTo>
                        <a:lnTo>
                          <a:pt x="476" y="467"/>
                        </a:lnTo>
                        <a:lnTo>
                          <a:pt x="467" y="467"/>
                        </a:lnTo>
                        <a:lnTo>
                          <a:pt x="437" y="467"/>
                        </a:lnTo>
                        <a:lnTo>
                          <a:pt x="428" y="458"/>
                        </a:lnTo>
                        <a:lnTo>
                          <a:pt x="389" y="458"/>
                        </a:lnTo>
                        <a:lnTo>
                          <a:pt x="389" y="467"/>
                        </a:lnTo>
                        <a:lnTo>
                          <a:pt x="379" y="467"/>
                        </a:lnTo>
                        <a:lnTo>
                          <a:pt x="369" y="477"/>
                        </a:lnTo>
                        <a:lnTo>
                          <a:pt x="360" y="487"/>
                        </a:lnTo>
                        <a:lnTo>
                          <a:pt x="350" y="497"/>
                        </a:lnTo>
                        <a:lnTo>
                          <a:pt x="340" y="506"/>
                        </a:lnTo>
                        <a:lnTo>
                          <a:pt x="330" y="526"/>
                        </a:lnTo>
                        <a:lnTo>
                          <a:pt x="321" y="536"/>
                        </a:lnTo>
                        <a:lnTo>
                          <a:pt x="301" y="545"/>
                        </a:lnTo>
                        <a:lnTo>
                          <a:pt x="292" y="555"/>
                        </a:lnTo>
                        <a:lnTo>
                          <a:pt x="253" y="555"/>
                        </a:lnTo>
                        <a:lnTo>
                          <a:pt x="253" y="545"/>
                        </a:lnTo>
                        <a:lnTo>
                          <a:pt x="262" y="526"/>
                        </a:lnTo>
                        <a:lnTo>
                          <a:pt x="262" y="506"/>
                        </a:lnTo>
                        <a:lnTo>
                          <a:pt x="272" y="487"/>
                        </a:lnTo>
                        <a:lnTo>
                          <a:pt x="272" y="477"/>
                        </a:lnTo>
                        <a:lnTo>
                          <a:pt x="282" y="458"/>
                        </a:lnTo>
                        <a:lnTo>
                          <a:pt x="282" y="438"/>
                        </a:lnTo>
                        <a:lnTo>
                          <a:pt x="292" y="419"/>
                        </a:lnTo>
                        <a:lnTo>
                          <a:pt x="272" y="409"/>
                        </a:lnTo>
                        <a:lnTo>
                          <a:pt x="262" y="409"/>
                        </a:lnTo>
                        <a:lnTo>
                          <a:pt x="243" y="409"/>
                        </a:lnTo>
                        <a:lnTo>
                          <a:pt x="233" y="409"/>
                        </a:lnTo>
                        <a:lnTo>
                          <a:pt x="194" y="409"/>
                        </a:lnTo>
                        <a:lnTo>
                          <a:pt x="175" y="419"/>
                        </a:lnTo>
                        <a:lnTo>
                          <a:pt x="155" y="448"/>
                        </a:lnTo>
                        <a:lnTo>
                          <a:pt x="146" y="458"/>
                        </a:lnTo>
                        <a:lnTo>
                          <a:pt x="136" y="467"/>
                        </a:lnTo>
                        <a:lnTo>
                          <a:pt x="136" y="477"/>
                        </a:lnTo>
                        <a:lnTo>
                          <a:pt x="126" y="487"/>
                        </a:lnTo>
                        <a:lnTo>
                          <a:pt x="116" y="497"/>
                        </a:lnTo>
                        <a:lnTo>
                          <a:pt x="97" y="516"/>
                        </a:lnTo>
                        <a:lnTo>
                          <a:pt x="97" y="526"/>
                        </a:lnTo>
                        <a:lnTo>
                          <a:pt x="78" y="526"/>
                        </a:lnTo>
                        <a:lnTo>
                          <a:pt x="78" y="536"/>
                        </a:lnTo>
                        <a:lnTo>
                          <a:pt x="48" y="536"/>
                        </a:lnTo>
                        <a:lnTo>
                          <a:pt x="48" y="282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0" y="166"/>
                        </a:lnTo>
                        <a:lnTo>
                          <a:pt x="19" y="146"/>
                        </a:lnTo>
                        <a:lnTo>
                          <a:pt x="39" y="146"/>
                        </a:lnTo>
                        <a:lnTo>
                          <a:pt x="48" y="127"/>
                        </a:lnTo>
                        <a:lnTo>
                          <a:pt x="78" y="117"/>
                        </a:lnTo>
                        <a:lnTo>
                          <a:pt x="87" y="107"/>
                        </a:lnTo>
                        <a:lnTo>
                          <a:pt x="116" y="97"/>
                        </a:lnTo>
                        <a:lnTo>
                          <a:pt x="126" y="88"/>
                        </a:lnTo>
                        <a:lnTo>
                          <a:pt x="155" y="68"/>
                        </a:lnTo>
                        <a:lnTo>
                          <a:pt x="165" y="59"/>
                        </a:lnTo>
                        <a:lnTo>
                          <a:pt x="194" y="59"/>
                        </a:lnTo>
                        <a:lnTo>
                          <a:pt x="214" y="49"/>
                        </a:lnTo>
                        <a:lnTo>
                          <a:pt x="233" y="39"/>
                        </a:lnTo>
                        <a:lnTo>
                          <a:pt x="253" y="29"/>
                        </a:lnTo>
                        <a:lnTo>
                          <a:pt x="272" y="20"/>
                        </a:lnTo>
                        <a:lnTo>
                          <a:pt x="292" y="10"/>
                        </a:lnTo>
                        <a:lnTo>
                          <a:pt x="311" y="0"/>
                        </a:lnTo>
                        <a:lnTo>
                          <a:pt x="330" y="10"/>
                        </a:lnTo>
                        <a:lnTo>
                          <a:pt x="330" y="20"/>
                        </a:lnTo>
                        <a:lnTo>
                          <a:pt x="330" y="29"/>
                        </a:lnTo>
                        <a:lnTo>
                          <a:pt x="330" y="49"/>
                        </a:lnTo>
                        <a:lnTo>
                          <a:pt x="330" y="59"/>
                        </a:lnTo>
                        <a:lnTo>
                          <a:pt x="340" y="59"/>
                        </a:lnTo>
                        <a:lnTo>
                          <a:pt x="340" y="5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4074840" y="2108160"/>
                    <a:ext cx="720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7">
                        <a:moveTo>
                          <a:pt x="117" y="87"/>
                        </a:moveTo>
                        <a:lnTo>
                          <a:pt x="107" y="77"/>
                        </a:lnTo>
                        <a:lnTo>
                          <a:pt x="78" y="48"/>
                        </a:lnTo>
                        <a:lnTo>
                          <a:pt x="68" y="38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20" y="19"/>
                        </a:lnTo>
                        <a:lnTo>
                          <a:pt x="39" y="29"/>
                        </a:lnTo>
                        <a:lnTo>
                          <a:pt x="49" y="38"/>
                        </a:lnTo>
                        <a:lnTo>
                          <a:pt x="58" y="48"/>
                        </a:lnTo>
                        <a:lnTo>
                          <a:pt x="107" y="87"/>
                        </a:lnTo>
                        <a:lnTo>
                          <a:pt x="107" y="87"/>
                        </a:lnTo>
                        <a:lnTo>
                          <a:pt x="117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4141080" y="2162160"/>
                    <a:ext cx="10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9">
                        <a:moveTo>
                          <a:pt x="165" y="29"/>
                        </a:moveTo>
                        <a:lnTo>
                          <a:pt x="165" y="39"/>
                        </a:lnTo>
                        <a:lnTo>
                          <a:pt x="156" y="29"/>
                        </a:lnTo>
                        <a:lnTo>
                          <a:pt x="14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49" y="20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127" y="20"/>
                        </a:lnTo>
                        <a:lnTo>
                          <a:pt x="136" y="29"/>
                        </a:lnTo>
                        <a:lnTo>
                          <a:pt x="146" y="29"/>
                        </a:lnTo>
                        <a:lnTo>
                          <a:pt x="156" y="39"/>
                        </a:lnTo>
                        <a:lnTo>
                          <a:pt x="156" y="39"/>
                        </a:lnTo>
                        <a:lnTo>
                          <a:pt x="165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4237200" y="2179800"/>
                    <a:ext cx="53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9">
                        <a:moveTo>
                          <a:pt x="78" y="49"/>
                        </a:moveTo>
                        <a:lnTo>
                          <a:pt x="7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87" y="49"/>
                        </a:lnTo>
                        <a:lnTo>
                          <a:pt x="78" y="39"/>
                        </a:lnTo>
                        <a:lnTo>
                          <a:pt x="78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4278960" y="221004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19" y="5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4200840" y="2246040"/>
                    <a:ext cx="78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20"/>
                        </a:lnTo>
                        <a:lnTo>
                          <a:pt x="107" y="20"/>
                        </a:lnTo>
                        <a:lnTo>
                          <a:pt x="127" y="20"/>
                        </a:lnTo>
                        <a:lnTo>
                          <a:pt x="127" y="1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4182840" y="2258280"/>
                    <a:ext cx="29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65">
                        <a:moveTo>
                          <a:pt x="0" y="165"/>
                        </a:moveTo>
                        <a:lnTo>
                          <a:pt x="20" y="15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39" y="97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1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19"/>
                        </a:lnTo>
                        <a:lnTo>
                          <a:pt x="29" y="49"/>
                        </a:lnTo>
                        <a:lnTo>
                          <a:pt x="29" y="68"/>
                        </a:lnTo>
                        <a:lnTo>
                          <a:pt x="29" y="97"/>
                        </a:lnTo>
                        <a:lnTo>
                          <a:pt x="39" y="117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0" y="156"/>
                        </a:lnTo>
                        <a:lnTo>
                          <a:pt x="0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4080960" y="2354760"/>
                    <a:ext cx="10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9">
                        <a:moveTo>
                          <a:pt x="10" y="29"/>
                        </a:move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78" y="9"/>
                        </a:lnTo>
                        <a:lnTo>
                          <a:pt x="87" y="9"/>
                        </a:lnTo>
                        <a:lnTo>
                          <a:pt x="117" y="9"/>
                        </a:lnTo>
                        <a:lnTo>
                          <a:pt x="12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0"/>
                        </a:lnTo>
                        <a:lnTo>
                          <a:pt x="155" y="9"/>
                        </a:lnTo>
                        <a:lnTo>
                          <a:pt x="126" y="9"/>
                        </a:lnTo>
                        <a:lnTo>
                          <a:pt x="117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4021200" y="2372760"/>
                    <a:ext cx="65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68"/>
                        </a:moveTo>
                        <a:lnTo>
                          <a:pt x="0" y="78"/>
                        </a:lnTo>
                        <a:lnTo>
                          <a:pt x="19" y="78"/>
                        </a:lnTo>
                        <a:lnTo>
                          <a:pt x="39" y="68"/>
                        </a:lnTo>
                        <a:lnTo>
                          <a:pt x="48" y="68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1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10"/>
                        </a:lnTo>
                        <a:lnTo>
                          <a:pt x="87" y="1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19" y="68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4021200" y="2330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29" y="0"/>
                        </a:moveTo>
                        <a:lnTo>
                          <a:pt x="29" y="19"/>
                        </a:lnTo>
                        <a:lnTo>
                          <a:pt x="19" y="39"/>
                        </a:lnTo>
                        <a:lnTo>
                          <a:pt x="19" y="48"/>
                        </a:lnTo>
                        <a:lnTo>
                          <a:pt x="9" y="68"/>
                        </a:lnTo>
                        <a:lnTo>
                          <a:pt x="9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36"/>
                        </a:lnTo>
                        <a:lnTo>
                          <a:pt x="9" y="13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19" y="78"/>
                        </a:lnTo>
                        <a:lnTo>
                          <a:pt x="29" y="58"/>
                        </a:lnTo>
                        <a:lnTo>
                          <a:pt x="29" y="3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3984840" y="2318400"/>
                    <a:ext cx="604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0">
                        <a:moveTo>
                          <a:pt x="0" y="20"/>
                        </a:moveTo>
                        <a:lnTo>
                          <a:pt x="20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lnTo>
                          <a:pt x="98" y="20"/>
                        </a:lnTo>
                        <a:lnTo>
                          <a:pt x="88" y="10"/>
                        </a:ln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3889440" y="2324520"/>
                    <a:ext cx="9540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2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39" y="127"/>
                        </a:lnTo>
                        <a:lnTo>
                          <a:pt x="39" y="127"/>
                        </a:lnTo>
                        <a:lnTo>
                          <a:pt x="58" y="117"/>
                        </a:lnTo>
                        <a:lnTo>
                          <a:pt x="87" y="88"/>
                        </a:lnTo>
                        <a:lnTo>
                          <a:pt x="87" y="78"/>
                        </a:lnTo>
                        <a:lnTo>
                          <a:pt x="97" y="68"/>
                        </a:lnTo>
                        <a:lnTo>
                          <a:pt x="107" y="58"/>
                        </a:lnTo>
                        <a:lnTo>
                          <a:pt x="107" y="49"/>
                        </a:lnTo>
                        <a:lnTo>
                          <a:pt x="116" y="3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6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29"/>
                        </a:lnTo>
                        <a:lnTo>
                          <a:pt x="107" y="49"/>
                        </a:lnTo>
                        <a:lnTo>
                          <a:pt x="97" y="49"/>
                        </a:lnTo>
                        <a:lnTo>
                          <a:pt x="87" y="68"/>
                        </a:lnTo>
                        <a:lnTo>
                          <a:pt x="77" y="88"/>
                        </a:lnTo>
                        <a:lnTo>
                          <a:pt x="68" y="97"/>
                        </a:lnTo>
                        <a:lnTo>
                          <a:pt x="58" y="97"/>
                        </a:lnTo>
                        <a:lnTo>
                          <a:pt x="48" y="107"/>
                        </a:lnTo>
                        <a:lnTo>
                          <a:pt x="39" y="117"/>
                        </a:lnTo>
                        <a:lnTo>
                          <a:pt x="39" y="11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3883320" y="2198520"/>
                    <a:ext cx="1152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3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77"/>
                        </a:lnTo>
                        <a:lnTo>
                          <a:pt x="10" y="165"/>
                        </a:lnTo>
                        <a:lnTo>
                          <a:pt x="10" y="331"/>
                        </a:lnTo>
                        <a:lnTo>
                          <a:pt x="19" y="331"/>
                        </a:lnTo>
                        <a:lnTo>
                          <a:pt x="19" y="77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3859200" y="217440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3859200" y="2071800"/>
                    <a:ext cx="197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166">
                        <a:moveTo>
                          <a:pt x="321" y="0"/>
                        </a:moveTo>
                        <a:lnTo>
                          <a:pt x="302" y="10"/>
                        </a:lnTo>
                        <a:lnTo>
                          <a:pt x="282" y="20"/>
                        </a:lnTo>
                        <a:lnTo>
                          <a:pt x="263" y="20"/>
                        </a:lnTo>
                        <a:lnTo>
                          <a:pt x="243" y="29"/>
                        </a:lnTo>
                        <a:lnTo>
                          <a:pt x="224" y="39"/>
                        </a:lnTo>
                        <a:lnTo>
                          <a:pt x="204" y="49"/>
                        </a:lnTo>
                        <a:lnTo>
                          <a:pt x="175" y="59"/>
                        </a:lnTo>
                        <a:lnTo>
                          <a:pt x="156" y="68"/>
                        </a:lnTo>
                        <a:lnTo>
                          <a:pt x="136" y="78"/>
                        </a:lnTo>
                        <a:lnTo>
                          <a:pt x="117" y="88"/>
                        </a:lnTo>
                        <a:lnTo>
                          <a:pt x="97" y="107"/>
                        </a:lnTo>
                        <a:lnTo>
                          <a:pt x="78" y="107"/>
                        </a:lnTo>
                        <a:lnTo>
                          <a:pt x="58" y="127"/>
                        </a:lnTo>
                        <a:lnTo>
                          <a:pt x="39" y="136"/>
                        </a:lnTo>
                        <a:lnTo>
                          <a:pt x="19" y="146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29" y="156"/>
                        </a:lnTo>
                        <a:lnTo>
                          <a:pt x="49" y="146"/>
                        </a:lnTo>
                        <a:lnTo>
                          <a:pt x="68" y="136"/>
                        </a:lnTo>
                        <a:lnTo>
                          <a:pt x="88" y="117"/>
                        </a:lnTo>
                        <a:lnTo>
                          <a:pt x="107" y="107"/>
                        </a:lnTo>
                        <a:lnTo>
                          <a:pt x="126" y="97"/>
                        </a:lnTo>
                        <a:lnTo>
                          <a:pt x="146" y="88"/>
                        </a:lnTo>
                        <a:lnTo>
                          <a:pt x="165" y="78"/>
                        </a:lnTo>
                        <a:lnTo>
                          <a:pt x="185" y="68"/>
                        </a:lnTo>
                        <a:lnTo>
                          <a:pt x="204" y="59"/>
                        </a:lnTo>
                        <a:lnTo>
                          <a:pt x="224" y="49"/>
                        </a:lnTo>
                        <a:lnTo>
                          <a:pt x="243" y="39"/>
                        </a:lnTo>
                        <a:lnTo>
                          <a:pt x="263" y="29"/>
                        </a:lnTo>
                        <a:lnTo>
                          <a:pt x="282" y="20"/>
                        </a:lnTo>
                        <a:lnTo>
                          <a:pt x="302" y="20"/>
                        </a:lnTo>
                        <a:lnTo>
                          <a:pt x="321" y="10"/>
                        </a:lnTo>
                        <a:lnTo>
                          <a:pt x="321" y="0"/>
                        </a:lnTo>
                        <a:lnTo>
                          <a:pt x="3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4056840" y="2071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4422600" y="2071800"/>
                    <a:ext cx="479520" cy="65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8" h="1061">
                        <a:moveTo>
                          <a:pt x="700" y="117"/>
                        </a:moveTo>
                        <a:lnTo>
                          <a:pt x="700" y="136"/>
                        </a:lnTo>
                        <a:lnTo>
                          <a:pt x="691" y="146"/>
                        </a:lnTo>
                        <a:lnTo>
                          <a:pt x="691" y="175"/>
                        </a:lnTo>
                        <a:lnTo>
                          <a:pt x="691" y="195"/>
                        </a:lnTo>
                        <a:lnTo>
                          <a:pt x="642" y="195"/>
                        </a:lnTo>
                        <a:lnTo>
                          <a:pt x="623" y="195"/>
                        </a:lnTo>
                        <a:lnTo>
                          <a:pt x="623" y="205"/>
                        </a:lnTo>
                        <a:lnTo>
                          <a:pt x="613" y="214"/>
                        </a:lnTo>
                        <a:lnTo>
                          <a:pt x="603" y="224"/>
                        </a:lnTo>
                        <a:lnTo>
                          <a:pt x="593" y="243"/>
                        </a:lnTo>
                        <a:lnTo>
                          <a:pt x="593" y="263"/>
                        </a:lnTo>
                        <a:lnTo>
                          <a:pt x="584" y="282"/>
                        </a:lnTo>
                        <a:lnTo>
                          <a:pt x="584" y="302"/>
                        </a:lnTo>
                        <a:lnTo>
                          <a:pt x="584" y="321"/>
                        </a:lnTo>
                        <a:lnTo>
                          <a:pt x="574" y="341"/>
                        </a:lnTo>
                        <a:lnTo>
                          <a:pt x="574" y="360"/>
                        </a:lnTo>
                        <a:lnTo>
                          <a:pt x="584" y="370"/>
                        </a:lnTo>
                        <a:lnTo>
                          <a:pt x="584" y="390"/>
                        </a:lnTo>
                        <a:lnTo>
                          <a:pt x="593" y="399"/>
                        </a:lnTo>
                        <a:lnTo>
                          <a:pt x="593" y="409"/>
                        </a:lnTo>
                        <a:lnTo>
                          <a:pt x="603" y="419"/>
                        </a:lnTo>
                        <a:lnTo>
                          <a:pt x="613" y="428"/>
                        </a:lnTo>
                        <a:lnTo>
                          <a:pt x="623" y="438"/>
                        </a:lnTo>
                        <a:lnTo>
                          <a:pt x="632" y="448"/>
                        </a:lnTo>
                        <a:lnTo>
                          <a:pt x="642" y="448"/>
                        </a:lnTo>
                        <a:lnTo>
                          <a:pt x="652" y="458"/>
                        </a:lnTo>
                        <a:lnTo>
                          <a:pt x="662" y="458"/>
                        </a:lnTo>
                        <a:lnTo>
                          <a:pt x="671" y="458"/>
                        </a:lnTo>
                        <a:lnTo>
                          <a:pt x="681" y="458"/>
                        </a:lnTo>
                        <a:lnTo>
                          <a:pt x="691" y="458"/>
                        </a:lnTo>
                        <a:lnTo>
                          <a:pt x="700" y="467"/>
                        </a:lnTo>
                        <a:lnTo>
                          <a:pt x="691" y="526"/>
                        </a:lnTo>
                        <a:lnTo>
                          <a:pt x="691" y="740"/>
                        </a:lnTo>
                        <a:lnTo>
                          <a:pt x="700" y="798"/>
                        </a:lnTo>
                        <a:lnTo>
                          <a:pt x="700" y="847"/>
                        </a:lnTo>
                        <a:lnTo>
                          <a:pt x="710" y="906"/>
                        </a:lnTo>
                        <a:lnTo>
                          <a:pt x="710" y="915"/>
                        </a:lnTo>
                        <a:lnTo>
                          <a:pt x="710" y="915"/>
                        </a:lnTo>
                        <a:lnTo>
                          <a:pt x="710" y="935"/>
                        </a:lnTo>
                        <a:lnTo>
                          <a:pt x="720" y="935"/>
                        </a:lnTo>
                        <a:lnTo>
                          <a:pt x="720" y="945"/>
                        </a:lnTo>
                        <a:lnTo>
                          <a:pt x="730" y="945"/>
                        </a:lnTo>
                        <a:lnTo>
                          <a:pt x="749" y="964"/>
                        </a:lnTo>
                        <a:lnTo>
                          <a:pt x="759" y="964"/>
                        </a:lnTo>
                        <a:lnTo>
                          <a:pt x="778" y="1003"/>
                        </a:lnTo>
                        <a:lnTo>
                          <a:pt x="769" y="1003"/>
                        </a:lnTo>
                        <a:lnTo>
                          <a:pt x="759" y="1013"/>
                        </a:lnTo>
                        <a:lnTo>
                          <a:pt x="749" y="1013"/>
                        </a:lnTo>
                        <a:lnTo>
                          <a:pt x="739" y="1013"/>
                        </a:lnTo>
                        <a:lnTo>
                          <a:pt x="730" y="1013"/>
                        </a:lnTo>
                        <a:lnTo>
                          <a:pt x="720" y="1022"/>
                        </a:lnTo>
                        <a:lnTo>
                          <a:pt x="720" y="1022"/>
                        </a:lnTo>
                        <a:lnTo>
                          <a:pt x="720" y="1061"/>
                        </a:lnTo>
                        <a:lnTo>
                          <a:pt x="710" y="1061"/>
                        </a:lnTo>
                        <a:lnTo>
                          <a:pt x="700" y="1061"/>
                        </a:lnTo>
                        <a:lnTo>
                          <a:pt x="700" y="1061"/>
                        </a:lnTo>
                        <a:lnTo>
                          <a:pt x="700" y="1052"/>
                        </a:lnTo>
                        <a:lnTo>
                          <a:pt x="691" y="1052"/>
                        </a:lnTo>
                        <a:lnTo>
                          <a:pt x="691" y="1052"/>
                        </a:lnTo>
                        <a:lnTo>
                          <a:pt x="671" y="1052"/>
                        </a:lnTo>
                        <a:lnTo>
                          <a:pt x="671" y="1052"/>
                        </a:lnTo>
                        <a:lnTo>
                          <a:pt x="662" y="1052"/>
                        </a:lnTo>
                        <a:lnTo>
                          <a:pt x="662" y="1042"/>
                        </a:lnTo>
                        <a:lnTo>
                          <a:pt x="662" y="1042"/>
                        </a:lnTo>
                        <a:lnTo>
                          <a:pt x="662" y="1032"/>
                        </a:lnTo>
                        <a:lnTo>
                          <a:pt x="662" y="1022"/>
                        </a:lnTo>
                        <a:lnTo>
                          <a:pt x="662" y="1022"/>
                        </a:lnTo>
                        <a:lnTo>
                          <a:pt x="652" y="1013"/>
                        </a:lnTo>
                        <a:lnTo>
                          <a:pt x="642" y="1013"/>
                        </a:lnTo>
                        <a:lnTo>
                          <a:pt x="642" y="1013"/>
                        </a:lnTo>
                        <a:lnTo>
                          <a:pt x="623" y="1013"/>
                        </a:lnTo>
                        <a:lnTo>
                          <a:pt x="623" y="983"/>
                        </a:lnTo>
                        <a:lnTo>
                          <a:pt x="623" y="964"/>
                        </a:lnTo>
                        <a:lnTo>
                          <a:pt x="613" y="945"/>
                        </a:lnTo>
                        <a:lnTo>
                          <a:pt x="613" y="925"/>
                        </a:lnTo>
                        <a:lnTo>
                          <a:pt x="613" y="906"/>
                        </a:lnTo>
                        <a:lnTo>
                          <a:pt x="623" y="896"/>
                        </a:lnTo>
                        <a:lnTo>
                          <a:pt x="623" y="886"/>
                        </a:lnTo>
                        <a:lnTo>
                          <a:pt x="632" y="867"/>
                        </a:lnTo>
                        <a:lnTo>
                          <a:pt x="642" y="857"/>
                        </a:lnTo>
                        <a:lnTo>
                          <a:pt x="642" y="837"/>
                        </a:lnTo>
                        <a:lnTo>
                          <a:pt x="623" y="828"/>
                        </a:lnTo>
                        <a:lnTo>
                          <a:pt x="593" y="828"/>
                        </a:lnTo>
                        <a:lnTo>
                          <a:pt x="593" y="828"/>
                        </a:lnTo>
                        <a:lnTo>
                          <a:pt x="584" y="828"/>
                        </a:lnTo>
                        <a:lnTo>
                          <a:pt x="574" y="837"/>
                        </a:lnTo>
                        <a:lnTo>
                          <a:pt x="574" y="818"/>
                        </a:lnTo>
                        <a:lnTo>
                          <a:pt x="564" y="808"/>
                        </a:lnTo>
                        <a:lnTo>
                          <a:pt x="545" y="789"/>
                        </a:lnTo>
                        <a:lnTo>
                          <a:pt x="535" y="789"/>
                        </a:lnTo>
                        <a:lnTo>
                          <a:pt x="525" y="779"/>
                        </a:lnTo>
                        <a:lnTo>
                          <a:pt x="506" y="769"/>
                        </a:lnTo>
                        <a:lnTo>
                          <a:pt x="496" y="769"/>
                        </a:lnTo>
                        <a:lnTo>
                          <a:pt x="486" y="769"/>
                        </a:lnTo>
                        <a:lnTo>
                          <a:pt x="467" y="760"/>
                        </a:lnTo>
                        <a:lnTo>
                          <a:pt x="457" y="760"/>
                        </a:lnTo>
                        <a:lnTo>
                          <a:pt x="448" y="760"/>
                        </a:lnTo>
                        <a:lnTo>
                          <a:pt x="428" y="760"/>
                        </a:lnTo>
                        <a:lnTo>
                          <a:pt x="409" y="750"/>
                        </a:lnTo>
                        <a:lnTo>
                          <a:pt x="399" y="740"/>
                        </a:lnTo>
                        <a:lnTo>
                          <a:pt x="389" y="730"/>
                        </a:lnTo>
                        <a:lnTo>
                          <a:pt x="380" y="721"/>
                        </a:lnTo>
                        <a:lnTo>
                          <a:pt x="360" y="711"/>
                        </a:lnTo>
                        <a:lnTo>
                          <a:pt x="360" y="701"/>
                        </a:lnTo>
                        <a:lnTo>
                          <a:pt x="360" y="682"/>
                        </a:lnTo>
                        <a:lnTo>
                          <a:pt x="360" y="672"/>
                        </a:lnTo>
                        <a:lnTo>
                          <a:pt x="360" y="623"/>
                        </a:lnTo>
                        <a:lnTo>
                          <a:pt x="360" y="604"/>
                        </a:lnTo>
                        <a:lnTo>
                          <a:pt x="360" y="584"/>
                        </a:lnTo>
                        <a:lnTo>
                          <a:pt x="350" y="565"/>
                        </a:lnTo>
                        <a:lnTo>
                          <a:pt x="350" y="545"/>
                        </a:lnTo>
                        <a:lnTo>
                          <a:pt x="341" y="526"/>
                        </a:lnTo>
                        <a:lnTo>
                          <a:pt x="331" y="506"/>
                        </a:lnTo>
                        <a:lnTo>
                          <a:pt x="302" y="487"/>
                        </a:lnTo>
                        <a:lnTo>
                          <a:pt x="273" y="487"/>
                        </a:lnTo>
                        <a:lnTo>
                          <a:pt x="253" y="487"/>
                        </a:lnTo>
                        <a:lnTo>
                          <a:pt x="234" y="487"/>
                        </a:lnTo>
                        <a:lnTo>
                          <a:pt x="214" y="497"/>
                        </a:lnTo>
                        <a:lnTo>
                          <a:pt x="185" y="497"/>
                        </a:lnTo>
                        <a:lnTo>
                          <a:pt x="166" y="497"/>
                        </a:lnTo>
                        <a:lnTo>
                          <a:pt x="146" y="497"/>
                        </a:lnTo>
                        <a:lnTo>
                          <a:pt x="136" y="497"/>
                        </a:lnTo>
                        <a:lnTo>
                          <a:pt x="117" y="506"/>
                        </a:lnTo>
                        <a:lnTo>
                          <a:pt x="88" y="506"/>
                        </a:lnTo>
                        <a:lnTo>
                          <a:pt x="68" y="506"/>
                        </a:lnTo>
                        <a:lnTo>
                          <a:pt x="29" y="506"/>
                        </a:lnTo>
                        <a:lnTo>
                          <a:pt x="39" y="497"/>
                        </a:lnTo>
                        <a:lnTo>
                          <a:pt x="39" y="497"/>
                        </a:lnTo>
                        <a:lnTo>
                          <a:pt x="49" y="487"/>
                        </a:lnTo>
                        <a:lnTo>
                          <a:pt x="59" y="487"/>
                        </a:lnTo>
                        <a:lnTo>
                          <a:pt x="68" y="477"/>
                        </a:lnTo>
                        <a:lnTo>
                          <a:pt x="78" y="467"/>
                        </a:lnTo>
                        <a:lnTo>
                          <a:pt x="88" y="458"/>
                        </a:lnTo>
                        <a:lnTo>
                          <a:pt x="97" y="458"/>
                        </a:lnTo>
                        <a:lnTo>
                          <a:pt x="107" y="458"/>
                        </a:lnTo>
                        <a:lnTo>
                          <a:pt x="127" y="438"/>
                        </a:lnTo>
                        <a:lnTo>
                          <a:pt x="127" y="409"/>
                        </a:lnTo>
                        <a:lnTo>
                          <a:pt x="117" y="390"/>
                        </a:lnTo>
                        <a:lnTo>
                          <a:pt x="107" y="380"/>
                        </a:lnTo>
                        <a:lnTo>
                          <a:pt x="88" y="360"/>
                        </a:lnTo>
                        <a:lnTo>
                          <a:pt x="68" y="341"/>
                        </a:lnTo>
                        <a:lnTo>
                          <a:pt x="59" y="321"/>
                        </a:lnTo>
                        <a:lnTo>
                          <a:pt x="59" y="302"/>
                        </a:lnTo>
                        <a:lnTo>
                          <a:pt x="78" y="282"/>
                        </a:lnTo>
                        <a:lnTo>
                          <a:pt x="68" y="282"/>
                        </a:lnTo>
                        <a:lnTo>
                          <a:pt x="68" y="273"/>
                        </a:lnTo>
                        <a:lnTo>
                          <a:pt x="59" y="263"/>
                        </a:lnTo>
                        <a:lnTo>
                          <a:pt x="49" y="263"/>
                        </a:lnTo>
                        <a:lnTo>
                          <a:pt x="49" y="253"/>
                        </a:lnTo>
                        <a:lnTo>
                          <a:pt x="39" y="243"/>
                        </a:lnTo>
                        <a:lnTo>
                          <a:pt x="29" y="234"/>
                        </a:lnTo>
                        <a:lnTo>
                          <a:pt x="20" y="224"/>
                        </a:lnTo>
                        <a:lnTo>
                          <a:pt x="10" y="214"/>
                        </a:lnTo>
                        <a:lnTo>
                          <a:pt x="10" y="214"/>
                        </a:lnTo>
                        <a:lnTo>
                          <a:pt x="10" y="205"/>
                        </a:lnTo>
                        <a:lnTo>
                          <a:pt x="0" y="195"/>
                        </a:lnTo>
                        <a:lnTo>
                          <a:pt x="0" y="175"/>
                        </a:lnTo>
                        <a:lnTo>
                          <a:pt x="10" y="166"/>
                        </a:lnTo>
                        <a:lnTo>
                          <a:pt x="20" y="156"/>
                        </a:lnTo>
                        <a:lnTo>
                          <a:pt x="29" y="146"/>
                        </a:lnTo>
                        <a:lnTo>
                          <a:pt x="39" y="146"/>
                        </a:lnTo>
                        <a:lnTo>
                          <a:pt x="49" y="136"/>
                        </a:lnTo>
                        <a:lnTo>
                          <a:pt x="68" y="127"/>
                        </a:lnTo>
                        <a:lnTo>
                          <a:pt x="78" y="127"/>
                        </a:lnTo>
                        <a:lnTo>
                          <a:pt x="97" y="127"/>
                        </a:lnTo>
                        <a:lnTo>
                          <a:pt x="107" y="117"/>
                        </a:lnTo>
                        <a:lnTo>
                          <a:pt x="117" y="117"/>
                        </a:lnTo>
                        <a:lnTo>
                          <a:pt x="136" y="117"/>
                        </a:lnTo>
                        <a:lnTo>
                          <a:pt x="146" y="117"/>
                        </a:lnTo>
                        <a:lnTo>
                          <a:pt x="166" y="107"/>
                        </a:lnTo>
                        <a:lnTo>
                          <a:pt x="175" y="10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59"/>
                        </a:lnTo>
                        <a:lnTo>
                          <a:pt x="331" y="59"/>
                        </a:lnTo>
                        <a:lnTo>
                          <a:pt x="341" y="49"/>
                        </a:lnTo>
                        <a:lnTo>
                          <a:pt x="389" y="49"/>
                        </a:lnTo>
                        <a:lnTo>
                          <a:pt x="399" y="59"/>
                        </a:lnTo>
                        <a:lnTo>
                          <a:pt x="399" y="59"/>
                        </a:lnTo>
                        <a:lnTo>
                          <a:pt x="409" y="59"/>
                        </a:lnTo>
                        <a:lnTo>
                          <a:pt x="418" y="59"/>
                        </a:lnTo>
                        <a:lnTo>
                          <a:pt x="438" y="68"/>
                        </a:lnTo>
                        <a:lnTo>
                          <a:pt x="448" y="88"/>
                        </a:lnTo>
                        <a:lnTo>
                          <a:pt x="457" y="97"/>
                        </a:lnTo>
                        <a:lnTo>
                          <a:pt x="477" y="107"/>
                        </a:lnTo>
                        <a:lnTo>
                          <a:pt x="486" y="117"/>
                        </a:lnTo>
                        <a:lnTo>
                          <a:pt x="496" y="127"/>
                        </a:lnTo>
                        <a:lnTo>
                          <a:pt x="516" y="136"/>
                        </a:lnTo>
                        <a:lnTo>
                          <a:pt x="525" y="146"/>
                        </a:lnTo>
                        <a:lnTo>
                          <a:pt x="535" y="156"/>
                        </a:lnTo>
                        <a:lnTo>
                          <a:pt x="555" y="166"/>
                        </a:lnTo>
                        <a:lnTo>
                          <a:pt x="574" y="166"/>
                        </a:lnTo>
                        <a:lnTo>
                          <a:pt x="584" y="175"/>
                        </a:lnTo>
                        <a:lnTo>
                          <a:pt x="593" y="175"/>
                        </a:lnTo>
                        <a:lnTo>
                          <a:pt x="613" y="175"/>
                        </a:lnTo>
                        <a:lnTo>
                          <a:pt x="632" y="175"/>
                        </a:lnTo>
                        <a:lnTo>
                          <a:pt x="652" y="166"/>
                        </a:lnTo>
                        <a:lnTo>
                          <a:pt x="662" y="146"/>
                        </a:lnTo>
                        <a:lnTo>
                          <a:pt x="662" y="136"/>
                        </a:lnTo>
                        <a:lnTo>
                          <a:pt x="652" y="127"/>
                        </a:lnTo>
                        <a:lnTo>
                          <a:pt x="642" y="107"/>
                        </a:lnTo>
                        <a:lnTo>
                          <a:pt x="623" y="107"/>
                        </a:lnTo>
                        <a:lnTo>
                          <a:pt x="613" y="88"/>
                        </a:lnTo>
                        <a:lnTo>
                          <a:pt x="603" y="78"/>
                        </a:lnTo>
                        <a:lnTo>
                          <a:pt x="593" y="59"/>
                        </a:lnTo>
                        <a:lnTo>
                          <a:pt x="574" y="59"/>
                        </a:lnTo>
                        <a:lnTo>
                          <a:pt x="574" y="59"/>
                        </a:lnTo>
                        <a:lnTo>
                          <a:pt x="564" y="59"/>
                        </a:lnTo>
                        <a:lnTo>
                          <a:pt x="555" y="59"/>
                        </a:lnTo>
                        <a:lnTo>
                          <a:pt x="545" y="49"/>
                        </a:lnTo>
                        <a:lnTo>
                          <a:pt x="535" y="49"/>
                        </a:lnTo>
                        <a:lnTo>
                          <a:pt x="525" y="49"/>
                        </a:lnTo>
                        <a:lnTo>
                          <a:pt x="525" y="39"/>
                        </a:lnTo>
                        <a:lnTo>
                          <a:pt x="516" y="39"/>
                        </a:lnTo>
                        <a:lnTo>
                          <a:pt x="506" y="29"/>
                        </a:lnTo>
                        <a:lnTo>
                          <a:pt x="496" y="29"/>
                        </a:lnTo>
                        <a:lnTo>
                          <a:pt x="486" y="29"/>
                        </a:lnTo>
                        <a:lnTo>
                          <a:pt x="477" y="20"/>
                        </a:lnTo>
                        <a:lnTo>
                          <a:pt x="457" y="20"/>
                        </a:lnTo>
                        <a:lnTo>
                          <a:pt x="467" y="0"/>
                        </a:lnTo>
                        <a:lnTo>
                          <a:pt x="486" y="10"/>
                        </a:lnTo>
                        <a:lnTo>
                          <a:pt x="496" y="20"/>
                        </a:lnTo>
                        <a:lnTo>
                          <a:pt x="516" y="20"/>
                        </a:lnTo>
                        <a:lnTo>
                          <a:pt x="525" y="29"/>
                        </a:lnTo>
                        <a:lnTo>
                          <a:pt x="545" y="29"/>
                        </a:lnTo>
                        <a:lnTo>
                          <a:pt x="555" y="39"/>
                        </a:lnTo>
                        <a:lnTo>
                          <a:pt x="574" y="49"/>
                        </a:lnTo>
                        <a:lnTo>
                          <a:pt x="584" y="59"/>
                        </a:lnTo>
                        <a:lnTo>
                          <a:pt x="603" y="59"/>
                        </a:lnTo>
                        <a:lnTo>
                          <a:pt x="613" y="68"/>
                        </a:lnTo>
                        <a:lnTo>
                          <a:pt x="632" y="68"/>
                        </a:lnTo>
                        <a:lnTo>
                          <a:pt x="642" y="78"/>
                        </a:lnTo>
                        <a:lnTo>
                          <a:pt x="662" y="88"/>
                        </a:lnTo>
                        <a:lnTo>
                          <a:pt x="671" y="97"/>
                        </a:lnTo>
                        <a:lnTo>
                          <a:pt x="681" y="107"/>
                        </a:lnTo>
                        <a:lnTo>
                          <a:pt x="700" y="117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4842720" y="2144160"/>
                    <a:ext cx="1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4800600" y="219240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10" y="19"/>
                        </a:move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4776480" y="2198520"/>
                    <a:ext cx="30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5">
                        <a:moveTo>
                          <a:pt x="10" y="155"/>
                        </a:move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10" y="97"/>
                        </a:lnTo>
                        <a:lnTo>
                          <a:pt x="19" y="77"/>
                        </a:lnTo>
                        <a:lnTo>
                          <a:pt x="19" y="58"/>
                        </a:lnTo>
                        <a:lnTo>
                          <a:pt x="29" y="38"/>
                        </a:lnTo>
                        <a:lnTo>
                          <a:pt x="29" y="29"/>
                        </a:lnTo>
                        <a:lnTo>
                          <a:pt x="49" y="9"/>
                        </a:lnTo>
                        <a:lnTo>
                          <a:pt x="39" y="0"/>
                        </a:lnTo>
                        <a:lnTo>
                          <a:pt x="19" y="19"/>
                        </a:lnTo>
                        <a:lnTo>
                          <a:pt x="19" y="38"/>
                        </a:lnTo>
                        <a:lnTo>
                          <a:pt x="10" y="58"/>
                        </a:lnTo>
                        <a:lnTo>
                          <a:pt x="10" y="77"/>
                        </a:lnTo>
                        <a:lnTo>
                          <a:pt x="0" y="97"/>
                        </a:lnTo>
                        <a:lnTo>
                          <a:pt x="0" y="116"/>
                        </a:lnTo>
                        <a:lnTo>
                          <a:pt x="0" y="136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0" y="155"/>
                        </a:lnTo>
                        <a:lnTo>
                          <a:pt x="10" y="1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4776480" y="2294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78"/>
                        </a:move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58" y="88"/>
                        </a:lnTo>
                        <a:lnTo>
                          <a:pt x="58" y="8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6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4812480" y="2342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29"/>
                        </a:move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59" y="20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68" y="20"/>
                        </a:lnTo>
                        <a:lnTo>
                          <a:pt x="6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4848840" y="2360160"/>
                    <a:ext cx="11520" cy="27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9">
                        <a:moveTo>
                          <a:pt x="19" y="439"/>
                        </a:moveTo>
                        <a:lnTo>
                          <a:pt x="19" y="380"/>
                        </a:lnTo>
                        <a:lnTo>
                          <a:pt x="9" y="331"/>
                        </a:lnTo>
                        <a:lnTo>
                          <a:pt x="9" y="273"/>
                        </a:lnTo>
                        <a:lnTo>
                          <a:pt x="9" y="5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59"/>
                        </a:lnTo>
                        <a:lnTo>
                          <a:pt x="0" y="215"/>
                        </a:lnTo>
                        <a:lnTo>
                          <a:pt x="0" y="273"/>
                        </a:lnTo>
                        <a:lnTo>
                          <a:pt x="0" y="331"/>
                        </a:lnTo>
                        <a:lnTo>
                          <a:pt x="9" y="380"/>
                        </a:lnTo>
                        <a:lnTo>
                          <a:pt x="9" y="439"/>
                        </a:lnTo>
                        <a:lnTo>
                          <a:pt x="19" y="4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4854240" y="2631240"/>
                    <a:ext cx="29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8">
                        <a:moveTo>
                          <a:pt x="49" y="48"/>
                        </a:moveTo>
                        <a:lnTo>
                          <a:pt x="49" y="48"/>
                        </a:lnTo>
                        <a:lnTo>
                          <a:pt x="39" y="48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4884480" y="266112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4890600" y="26672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49"/>
                        </a:moveTo>
                        <a:lnTo>
                          <a:pt x="19" y="3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4860360" y="2691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4854240" y="270288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39"/>
                        </a:move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4830840" y="2715480"/>
                    <a:ext cx="291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4830840" y="2721600"/>
                    <a:ext cx="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4818600" y="269136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4800600" y="269136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4794480" y="2643120"/>
                    <a:ext cx="12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10" y="88"/>
                        </a:lnTo>
                        <a:lnTo>
                          <a:pt x="20" y="8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4794480" y="257688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20" y="10"/>
                        </a:moveTo>
                        <a:lnTo>
                          <a:pt x="29" y="1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20" y="97"/>
                        </a:lnTo>
                        <a:lnTo>
                          <a:pt x="20" y="78"/>
                        </a:lnTo>
                        <a:lnTo>
                          <a:pt x="29" y="6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4776480" y="25768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4662720" y="2522520"/>
                    <a:ext cx="1202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7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7" y="49"/>
                        </a:lnTo>
                        <a:lnTo>
                          <a:pt x="136" y="49"/>
                        </a:lnTo>
                        <a:lnTo>
                          <a:pt x="146" y="59"/>
                        </a:lnTo>
                        <a:lnTo>
                          <a:pt x="156" y="68"/>
                        </a:lnTo>
                        <a:lnTo>
                          <a:pt x="185" y="88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85" y="88"/>
                        </a:lnTo>
                        <a:lnTo>
                          <a:pt x="185" y="78"/>
                        </a:lnTo>
                        <a:lnTo>
                          <a:pt x="175" y="68"/>
                        </a:lnTo>
                        <a:lnTo>
                          <a:pt x="156" y="59"/>
                        </a:lnTo>
                        <a:lnTo>
                          <a:pt x="146" y="49"/>
                        </a:lnTo>
                        <a:lnTo>
                          <a:pt x="136" y="39"/>
                        </a:lnTo>
                        <a:lnTo>
                          <a:pt x="127" y="39"/>
                        </a:lnTo>
                        <a:lnTo>
                          <a:pt x="107" y="39"/>
                        </a:lnTo>
                        <a:lnTo>
                          <a:pt x="97" y="3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59" y="3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4644720" y="2456640"/>
                    <a:ext cx="1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20" y="9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4609080" y="23666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39"/>
                        </a:lnTo>
                        <a:lnTo>
                          <a:pt x="29" y="59"/>
                        </a:lnTo>
                        <a:lnTo>
                          <a:pt x="39" y="68"/>
                        </a:lnTo>
                        <a:lnTo>
                          <a:pt x="48" y="88"/>
                        </a:lnTo>
                        <a:lnTo>
                          <a:pt x="48" y="107"/>
                        </a:lnTo>
                        <a:lnTo>
                          <a:pt x="58" y="127"/>
                        </a:lnTo>
                        <a:lnTo>
                          <a:pt x="58" y="146"/>
                        </a:lnTo>
                        <a:lnTo>
                          <a:pt x="68" y="146"/>
                        </a:lnTo>
                        <a:lnTo>
                          <a:pt x="58" y="127"/>
                        </a:lnTo>
                        <a:lnTo>
                          <a:pt x="58" y="107"/>
                        </a:lnTo>
                        <a:lnTo>
                          <a:pt x="58" y="88"/>
                        </a:lnTo>
                        <a:lnTo>
                          <a:pt x="48" y="6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4440600" y="2366640"/>
                    <a:ext cx="168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9">
                        <a:moveTo>
                          <a:pt x="0" y="39"/>
                        </a:move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88" y="29"/>
                        </a:lnTo>
                        <a:lnTo>
                          <a:pt x="107" y="29"/>
                        </a:lnTo>
                        <a:lnTo>
                          <a:pt x="117" y="20"/>
                        </a:lnTo>
                        <a:lnTo>
                          <a:pt x="137" y="20"/>
                        </a:lnTo>
                        <a:lnTo>
                          <a:pt x="156" y="20"/>
                        </a:lnTo>
                        <a:lnTo>
                          <a:pt x="185" y="20"/>
                        </a:lnTo>
                        <a:lnTo>
                          <a:pt x="205" y="20"/>
                        </a:lnTo>
                        <a:lnTo>
                          <a:pt x="224" y="20"/>
                        </a:lnTo>
                        <a:lnTo>
                          <a:pt x="244" y="10"/>
                        </a:lnTo>
                        <a:lnTo>
                          <a:pt x="273" y="10"/>
                        </a:lnTo>
                        <a:lnTo>
                          <a:pt x="273" y="0"/>
                        </a:lnTo>
                        <a:lnTo>
                          <a:pt x="253" y="10"/>
                        </a:lnTo>
                        <a:lnTo>
                          <a:pt x="205" y="10"/>
                        </a:lnTo>
                        <a:lnTo>
                          <a:pt x="185" y="10"/>
                        </a:lnTo>
                        <a:lnTo>
                          <a:pt x="156" y="10"/>
                        </a:lnTo>
                        <a:lnTo>
                          <a:pt x="137" y="2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8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4434840" y="23842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4440600" y="2312640"/>
                    <a:ext cx="60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16">
                        <a:moveTo>
                          <a:pt x="88" y="9"/>
                        </a:moveTo>
                        <a:lnTo>
                          <a:pt x="78" y="9"/>
                        </a:lnTo>
                        <a:lnTo>
                          <a:pt x="88" y="19"/>
                        </a:lnTo>
                        <a:lnTo>
                          <a:pt x="88" y="38"/>
                        </a:lnTo>
                        <a:lnTo>
                          <a:pt x="88" y="48"/>
                        </a:lnTo>
                        <a:lnTo>
                          <a:pt x="78" y="58"/>
                        </a:lnTo>
                        <a:lnTo>
                          <a:pt x="68" y="58"/>
                        </a:lnTo>
                        <a:lnTo>
                          <a:pt x="68" y="68"/>
                        </a:lnTo>
                        <a:lnTo>
                          <a:pt x="59" y="68"/>
                        </a:lnTo>
                        <a:lnTo>
                          <a:pt x="49" y="77"/>
                        </a:lnTo>
                        <a:lnTo>
                          <a:pt x="39" y="77"/>
                        </a:lnTo>
                        <a:lnTo>
                          <a:pt x="30" y="87"/>
                        </a:lnTo>
                        <a:lnTo>
                          <a:pt x="20" y="97"/>
                        </a:lnTo>
                        <a:lnTo>
                          <a:pt x="0" y="107"/>
                        </a:lnTo>
                        <a:lnTo>
                          <a:pt x="0" y="116"/>
                        </a:lnTo>
                        <a:lnTo>
                          <a:pt x="10" y="116"/>
                        </a:lnTo>
                        <a:lnTo>
                          <a:pt x="10" y="116"/>
                        </a:lnTo>
                        <a:lnTo>
                          <a:pt x="20" y="107"/>
                        </a:lnTo>
                        <a:lnTo>
                          <a:pt x="20" y="107"/>
                        </a:lnTo>
                        <a:lnTo>
                          <a:pt x="30" y="97"/>
                        </a:lnTo>
                        <a:lnTo>
                          <a:pt x="39" y="87"/>
                        </a:lnTo>
                        <a:lnTo>
                          <a:pt x="49" y="87"/>
                        </a:lnTo>
                        <a:lnTo>
                          <a:pt x="59" y="77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98" y="48"/>
                        </a:lnTo>
                        <a:lnTo>
                          <a:pt x="98" y="19"/>
                        </a:lnTo>
                        <a:lnTo>
                          <a:pt x="88" y="0"/>
                        </a:lnTo>
                        <a:lnTo>
                          <a:pt x="8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4452840" y="22460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30"/>
                        </a:lnTo>
                        <a:lnTo>
                          <a:pt x="10" y="49"/>
                        </a:lnTo>
                        <a:lnTo>
                          <a:pt x="19" y="59"/>
                        </a:lnTo>
                        <a:lnTo>
                          <a:pt x="29" y="78"/>
                        </a:lnTo>
                        <a:lnTo>
                          <a:pt x="39" y="88"/>
                        </a:lnTo>
                        <a:lnTo>
                          <a:pt x="68" y="11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48" y="8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4440600" y="2216520"/>
                    <a:ext cx="29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4422600" y="21798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59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4422600" y="2131920"/>
                    <a:ext cx="12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78">
                        <a:moveTo>
                          <a:pt x="195" y="0"/>
                        </a:moveTo>
                        <a:lnTo>
                          <a:pt x="185" y="10"/>
                        </a:lnTo>
                        <a:lnTo>
                          <a:pt x="175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36" y="10"/>
                        </a:lnTo>
                        <a:lnTo>
                          <a:pt x="117" y="2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30"/>
                        </a:lnTo>
                        <a:lnTo>
                          <a:pt x="68" y="30"/>
                        </a:lnTo>
                        <a:lnTo>
                          <a:pt x="49" y="30"/>
                        </a:lnTo>
                        <a:lnTo>
                          <a:pt x="39" y="39"/>
                        </a:lnTo>
                        <a:lnTo>
                          <a:pt x="29" y="49"/>
                        </a:lnTo>
                        <a:lnTo>
                          <a:pt x="20" y="49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49"/>
                        </a:lnTo>
                        <a:lnTo>
                          <a:pt x="49" y="49"/>
                        </a:lnTo>
                        <a:lnTo>
                          <a:pt x="49" y="39"/>
                        </a:lnTo>
                        <a:lnTo>
                          <a:pt x="68" y="39"/>
                        </a:lnTo>
                        <a:lnTo>
                          <a:pt x="78" y="39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36" y="20"/>
                        </a:lnTo>
                        <a:lnTo>
                          <a:pt x="146" y="20"/>
                        </a:lnTo>
                        <a:lnTo>
                          <a:pt x="166" y="20"/>
                        </a:lnTo>
                        <a:lnTo>
                          <a:pt x="175" y="20"/>
                        </a:lnTo>
                        <a:lnTo>
                          <a:pt x="185" y="10"/>
                        </a:lnTo>
                        <a:lnTo>
                          <a:pt x="204" y="10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4542840" y="210816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0" y="38"/>
                        </a:lnTo>
                        <a:lnTo>
                          <a:pt x="9" y="48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4591080" y="2102040"/>
                    <a:ext cx="89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9">
                        <a:moveTo>
                          <a:pt x="145" y="10"/>
                        </a:moveTo>
                        <a:lnTo>
                          <a:pt x="136" y="1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38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4680360" y="2108160"/>
                    <a:ext cx="144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126">
                        <a:moveTo>
                          <a:pt x="224" y="107"/>
                        </a:moveTo>
                        <a:lnTo>
                          <a:pt x="234" y="107"/>
                        </a:lnTo>
                        <a:lnTo>
                          <a:pt x="214" y="107"/>
                        </a:lnTo>
                        <a:lnTo>
                          <a:pt x="195" y="116"/>
                        </a:lnTo>
                        <a:lnTo>
                          <a:pt x="175" y="116"/>
                        </a:lnTo>
                        <a:lnTo>
                          <a:pt x="166" y="107"/>
                        </a:lnTo>
                        <a:lnTo>
                          <a:pt x="156" y="107"/>
                        </a:lnTo>
                        <a:lnTo>
                          <a:pt x="137" y="97"/>
                        </a:lnTo>
                        <a:lnTo>
                          <a:pt x="127" y="87"/>
                        </a:lnTo>
                        <a:lnTo>
                          <a:pt x="107" y="87"/>
                        </a:lnTo>
                        <a:lnTo>
                          <a:pt x="98" y="77"/>
                        </a:lnTo>
                        <a:lnTo>
                          <a:pt x="78" y="68"/>
                        </a:lnTo>
                        <a:lnTo>
                          <a:pt x="68" y="48"/>
                        </a:lnTo>
                        <a:lnTo>
                          <a:pt x="59" y="48"/>
                        </a:lnTo>
                        <a:lnTo>
                          <a:pt x="39" y="38"/>
                        </a:lnTo>
                        <a:lnTo>
                          <a:pt x="30" y="1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30" y="29"/>
                        </a:lnTo>
                        <a:lnTo>
                          <a:pt x="39" y="38"/>
                        </a:lnTo>
                        <a:lnTo>
                          <a:pt x="49" y="48"/>
                        </a:lnTo>
                        <a:lnTo>
                          <a:pt x="78" y="77"/>
                        </a:lnTo>
                        <a:lnTo>
                          <a:pt x="88" y="87"/>
                        </a:lnTo>
                        <a:lnTo>
                          <a:pt x="107" y="87"/>
                        </a:lnTo>
                        <a:lnTo>
                          <a:pt x="117" y="97"/>
                        </a:lnTo>
                        <a:lnTo>
                          <a:pt x="137" y="107"/>
                        </a:lnTo>
                        <a:lnTo>
                          <a:pt x="156" y="116"/>
                        </a:lnTo>
                        <a:lnTo>
                          <a:pt x="166" y="116"/>
                        </a:lnTo>
                        <a:lnTo>
                          <a:pt x="175" y="126"/>
                        </a:lnTo>
                        <a:lnTo>
                          <a:pt x="195" y="126"/>
                        </a:lnTo>
                        <a:lnTo>
                          <a:pt x="214" y="116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34" y="116"/>
                        </a:lnTo>
                        <a:lnTo>
                          <a:pt x="234" y="107"/>
                        </a:lnTo>
                        <a:lnTo>
                          <a:pt x="224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4788360" y="2108160"/>
                    <a:ext cx="424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07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20" y="38"/>
                        </a:lnTo>
                        <a:lnTo>
                          <a:pt x="30" y="48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59" y="77"/>
                        </a:lnTo>
                        <a:lnTo>
                          <a:pt x="59" y="87"/>
                        </a:lnTo>
                        <a:lnTo>
                          <a:pt x="49" y="107"/>
                        </a:lnTo>
                        <a:lnTo>
                          <a:pt x="59" y="107"/>
                        </a:lnTo>
                        <a:lnTo>
                          <a:pt x="69" y="87"/>
                        </a:lnTo>
                        <a:lnTo>
                          <a:pt x="69" y="7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29"/>
                        </a:lnTo>
                        <a:lnTo>
                          <a:pt x="2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4699080" y="2084040"/>
                    <a:ext cx="892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48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26" y="48"/>
                        </a:lnTo>
                        <a:lnTo>
                          <a:pt x="145" y="48"/>
                        </a:lnTo>
                        <a:lnTo>
                          <a:pt x="145" y="39"/>
                        </a:lnTo>
                        <a:lnTo>
                          <a:pt x="126" y="39"/>
                        </a:lnTo>
                        <a:lnTo>
                          <a:pt x="126" y="39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4704480" y="20718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4710600" y="2071800"/>
                    <a:ext cx="149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17">
                        <a:moveTo>
                          <a:pt x="233" y="117"/>
                        </a:moveTo>
                        <a:lnTo>
                          <a:pt x="233" y="107"/>
                        </a:lnTo>
                        <a:lnTo>
                          <a:pt x="224" y="107"/>
                        </a:lnTo>
                        <a:lnTo>
                          <a:pt x="204" y="97"/>
                        </a:lnTo>
                        <a:lnTo>
                          <a:pt x="195" y="88"/>
                        </a:lnTo>
                        <a:lnTo>
                          <a:pt x="175" y="78"/>
                        </a:lnTo>
                        <a:lnTo>
                          <a:pt x="165" y="68"/>
                        </a:lnTo>
                        <a:lnTo>
                          <a:pt x="156" y="59"/>
                        </a:lnTo>
                        <a:lnTo>
                          <a:pt x="136" y="59"/>
                        </a:lnTo>
                        <a:lnTo>
                          <a:pt x="117" y="49"/>
                        </a:lnTo>
                        <a:lnTo>
                          <a:pt x="107" y="39"/>
                        </a:lnTo>
                        <a:lnTo>
                          <a:pt x="88" y="39"/>
                        </a:lnTo>
                        <a:lnTo>
                          <a:pt x="78" y="2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58" y="29"/>
                        </a:lnTo>
                        <a:lnTo>
                          <a:pt x="68" y="39"/>
                        </a:lnTo>
                        <a:lnTo>
                          <a:pt x="88" y="49"/>
                        </a:lnTo>
                        <a:lnTo>
                          <a:pt x="107" y="49"/>
                        </a:lnTo>
                        <a:lnTo>
                          <a:pt x="117" y="59"/>
                        </a:lnTo>
                        <a:lnTo>
                          <a:pt x="126" y="59"/>
                        </a:lnTo>
                        <a:lnTo>
                          <a:pt x="146" y="68"/>
                        </a:lnTo>
                        <a:lnTo>
                          <a:pt x="156" y="78"/>
                        </a:lnTo>
                        <a:lnTo>
                          <a:pt x="175" y="88"/>
                        </a:lnTo>
                        <a:lnTo>
                          <a:pt x="195" y="97"/>
                        </a:lnTo>
                        <a:lnTo>
                          <a:pt x="204" y="107"/>
                        </a:lnTo>
                        <a:lnTo>
                          <a:pt x="214" y="107"/>
                        </a:lnTo>
                        <a:lnTo>
                          <a:pt x="233" y="117"/>
                        </a:lnTo>
                        <a:lnTo>
                          <a:pt x="224" y="117"/>
                        </a:lnTo>
                        <a:lnTo>
                          <a:pt x="233" y="117"/>
                        </a:lnTo>
                        <a:lnTo>
                          <a:pt x="243" y="107"/>
                        </a:lnTo>
                        <a:lnTo>
                          <a:pt x="233" y="107"/>
                        </a:lnTo>
                        <a:lnTo>
                          <a:pt x="233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4788360" y="2120040"/>
                    <a:ext cx="443880" cy="29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477">
                        <a:moveTo>
                          <a:pt x="428" y="19"/>
                        </a:moveTo>
                        <a:lnTo>
                          <a:pt x="428" y="19"/>
                        </a:lnTo>
                        <a:lnTo>
                          <a:pt x="448" y="19"/>
                        </a:lnTo>
                        <a:lnTo>
                          <a:pt x="448" y="29"/>
                        </a:lnTo>
                        <a:lnTo>
                          <a:pt x="467" y="29"/>
                        </a:lnTo>
                        <a:lnTo>
                          <a:pt x="477" y="49"/>
                        </a:lnTo>
                        <a:lnTo>
                          <a:pt x="487" y="58"/>
                        </a:lnTo>
                        <a:lnTo>
                          <a:pt x="496" y="68"/>
                        </a:lnTo>
                        <a:lnTo>
                          <a:pt x="496" y="68"/>
                        </a:lnTo>
                        <a:lnTo>
                          <a:pt x="506" y="88"/>
                        </a:lnTo>
                        <a:lnTo>
                          <a:pt x="506" y="97"/>
                        </a:lnTo>
                        <a:lnTo>
                          <a:pt x="516" y="88"/>
                        </a:lnTo>
                        <a:lnTo>
                          <a:pt x="526" y="88"/>
                        </a:lnTo>
                        <a:lnTo>
                          <a:pt x="545" y="78"/>
                        </a:lnTo>
                        <a:lnTo>
                          <a:pt x="565" y="78"/>
                        </a:lnTo>
                        <a:lnTo>
                          <a:pt x="574" y="78"/>
                        </a:lnTo>
                        <a:lnTo>
                          <a:pt x="584" y="78"/>
                        </a:lnTo>
                        <a:lnTo>
                          <a:pt x="603" y="78"/>
                        </a:lnTo>
                        <a:lnTo>
                          <a:pt x="613" y="88"/>
                        </a:lnTo>
                        <a:lnTo>
                          <a:pt x="623" y="88"/>
                        </a:lnTo>
                        <a:lnTo>
                          <a:pt x="642" y="88"/>
                        </a:lnTo>
                        <a:lnTo>
                          <a:pt x="642" y="97"/>
                        </a:lnTo>
                        <a:lnTo>
                          <a:pt x="652" y="107"/>
                        </a:lnTo>
                        <a:lnTo>
                          <a:pt x="662" y="107"/>
                        </a:lnTo>
                        <a:lnTo>
                          <a:pt x="681" y="127"/>
                        </a:lnTo>
                        <a:lnTo>
                          <a:pt x="691" y="146"/>
                        </a:lnTo>
                        <a:lnTo>
                          <a:pt x="701" y="165"/>
                        </a:lnTo>
                        <a:lnTo>
                          <a:pt x="710" y="185"/>
                        </a:lnTo>
                        <a:lnTo>
                          <a:pt x="710" y="204"/>
                        </a:lnTo>
                        <a:lnTo>
                          <a:pt x="720" y="224"/>
                        </a:lnTo>
                        <a:lnTo>
                          <a:pt x="720" y="243"/>
                        </a:lnTo>
                        <a:lnTo>
                          <a:pt x="720" y="263"/>
                        </a:lnTo>
                        <a:lnTo>
                          <a:pt x="701" y="312"/>
                        </a:lnTo>
                        <a:lnTo>
                          <a:pt x="701" y="331"/>
                        </a:lnTo>
                        <a:lnTo>
                          <a:pt x="710" y="350"/>
                        </a:lnTo>
                        <a:lnTo>
                          <a:pt x="710" y="370"/>
                        </a:lnTo>
                        <a:lnTo>
                          <a:pt x="710" y="380"/>
                        </a:lnTo>
                        <a:lnTo>
                          <a:pt x="710" y="409"/>
                        </a:lnTo>
                        <a:lnTo>
                          <a:pt x="701" y="419"/>
                        </a:lnTo>
                        <a:lnTo>
                          <a:pt x="691" y="438"/>
                        </a:lnTo>
                        <a:lnTo>
                          <a:pt x="681" y="448"/>
                        </a:lnTo>
                        <a:lnTo>
                          <a:pt x="681" y="458"/>
                        </a:lnTo>
                        <a:lnTo>
                          <a:pt x="672" y="458"/>
                        </a:lnTo>
                        <a:lnTo>
                          <a:pt x="652" y="467"/>
                        </a:lnTo>
                        <a:lnTo>
                          <a:pt x="642" y="467"/>
                        </a:lnTo>
                        <a:lnTo>
                          <a:pt x="633" y="467"/>
                        </a:lnTo>
                        <a:lnTo>
                          <a:pt x="623" y="467"/>
                        </a:lnTo>
                        <a:lnTo>
                          <a:pt x="613" y="477"/>
                        </a:lnTo>
                        <a:lnTo>
                          <a:pt x="603" y="409"/>
                        </a:lnTo>
                        <a:lnTo>
                          <a:pt x="594" y="399"/>
                        </a:lnTo>
                        <a:lnTo>
                          <a:pt x="574" y="380"/>
                        </a:lnTo>
                        <a:lnTo>
                          <a:pt x="565" y="370"/>
                        </a:lnTo>
                        <a:lnTo>
                          <a:pt x="555" y="350"/>
                        </a:lnTo>
                        <a:lnTo>
                          <a:pt x="555" y="341"/>
                        </a:lnTo>
                        <a:lnTo>
                          <a:pt x="555" y="331"/>
                        </a:lnTo>
                        <a:lnTo>
                          <a:pt x="555" y="312"/>
                        </a:lnTo>
                        <a:lnTo>
                          <a:pt x="555" y="292"/>
                        </a:lnTo>
                        <a:lnTo>
                          <a:pt x="565" y="282"/>
                        </a:lnTo>
                        <a:lnTo>
                          <a:pt x="574" y="263"/>
                        </a:lnTo>
                        <a:lnTo>
                          <a:pt x="574" y="243"/>
                        </a:lnTo>
                        <a:lnTo>
                          <a:pt x="584" y="234"/>
                        </a:lnTo>
                        <a:lnTo>
                          <a:pt x="584" y="214"/>
                        </a:lnTo>
                        <a:lnTo>
                          <a:pt x="574" y="195"/>
                        </a:lnTo>
                        <a:lnTo>
                          <a:pt x="574" y="185"/>
                        </a:lnTo>
                        <a:lnTo>
                          <a:pt x="565" y="175"/>
                        </a:lnTo>
                        <a:lnTo>
                          <a:pt x="555" y="165"/>
                        </a:lnTo>
                        <a:lnTo>
                          <a:pt x="516" y="165"/>
                        </a:lnTo>
                        <a:lnTo>
                          <a:pt x="506" y="165"/>
                        </a:lnTo>
                        <a:lnTo>
                          <a:pt x="506" y="156"/>
                        </a:lnTo>
                        <a:lnTo>
                          <a:pt x="487" y="136"/>
                        </a:lnTo>
                        <a:lnTo>
                          <a:pt x="477" y="127"/>
                        </a:lnTo>
                        <a:lnTo>
                          <a:pt x="467" y="127"/>
                        </a:lnTo>
                        <a:lnTo>
                          <a:pt x="458" y="136"/>
                        </a:lnTo>
                        <a:lnTo>
                          <a:pt x="448" y="136"/>
                        </a:lnTo>
                        <a:lnTo>
                          <a:pt x="448" y="136"/>
                        </a:lnTo>
                        <a:lnTo>
                          <a:pt x="438" y="146"/>
                        </a:lnTo>
                        <a:lnTo>
                          <a:pt x="428" y="146"/>
                        </a:lnTo>
                        <a:lnTo>
                          <a:pt x="428" y="156"/>
                        </a:lnTo>
                        <a:lnTo>
                          <a:pt x="428" y="165"/>
                        </a:lnTo>
                        <a:lnTo>
                          <a:pt x="448" y="165"/>
                        </a:lnTo>
                        <a:lnTo>
                          <a:pt x="448" y="156"/>
                        </a:lnTo>
                        <a:lnTo>
                          <a:pt x="467" y="146"/>
                        </a:lnTo>
                        <a:lnTo>
                          <a:pt x="467" y="146"/>
                        </a:lnTo>
                        <a:lnTo>
                          <a:pt x="506" y="175"/>
                        </a:lnTo>
                        <a:lnTo>
                          <a:pt x="487" y="195"/>
                        </a:lnTo>
                        <a:lnTo>
                          <a:pt x="477" y="195"/>
                        </a:lnTo>
                        <a:lnTo>
                          <a:pt x="467" y="185"/>
                        </a:lnTo>
                        <a:lnTo>
                          <a:pt x="467" y="175"/>
                        </a:lnTo>
                        <a:lnTo>
                          <a:pt x="458" y="175"/>
                        </a:lnTo>
                        <a:lnTo>
                          <a:pt x="448" y="175"/>
                        </a:lnTo>
                        <a:lnTo>
                          <a:pt x="438" y="175"/>
                        </a:lnTo>
                        <a:lnTo>
                          <a:pt x="428" y="175"/>
                        </a:lnTo>
                        <a:lnTo>
                          <a:pt x="419" y="185"/>
                        </a:lnTo>
                        <a:lnTo>
                          <a:pt x="419" y="195"/>
                        </a:lnTo>
                        <a:lnTo>
                          <a:pt x="409" y="195"/>
                        </a:lnTo>
                        <a:lnTo>
                          <a:pt x="409" y="204"/>
                        </a:lnTo>
                        <a:lnTo>
                          <a:pt x="399" y="214"/>
                        </a:lnTo>
                        <a:lnTo>
                          <a:pt x="399" y="224"/>
                        </a:lnTo>
                        <a:lnTo>
                          <a:pt x="389" y="234"/>
                        </a:lnTo>
                        <a:lnTo>
                          <a:pt x="380" y="234"/>
                        </a:lnTo>
                        <a:lnTo>
                          <a:pt x="351" y="234"/>
                        </a:lnTo>
                        <a:lnTo>
                          <a:pt x="341" y="234"/>
                        </a:lnTo>
                        <a:lnTo>
                          <a:pt x="331" y="224"/>
                        </a:lnTo>
                        <a:lnTo>
                          <a:pt x="321" y="224"/>
                        </a:lnTo>
                        <a:lnTo>
                          <a:pt x="321" y="224"/>
                        </a:lnTo>
                        <a:lnTo>
                          <a:pt x="302" y="224"/>
                        </a:lnTo>
                        <a:lnTo>
                          <a:pt x="292" y="234"/>
                        </a:lnTo>
                        <a:lnTo>
                          <a:pt x="292" y="243"/>
                        </a:lnTo>
                        <a:lnTo>
                          <a:pt x="282" y="263"/>
                        </a:lnTo>
                        <a:lnTo>
                          <a:pt x="282" y="273"/>
                        </a:lnTo>
                        <a:lnTo>
                          <a:pt x="273" y="292"/>
                        </a:lnTo>
                        <a:lnTo>
                          <a:pt x="273" y="302"/>
                        </a:lnTo>
                        <a:lnTo>
                          <a:pt x="253" y="312"/>
                        </a:lnTo>
                        <a:lnTo>
                          <a:pt x="244" y="312"/>
                        </a:lnTo>
                        <a:lnTo>
                          <a:pt x="234" y="302"/>
                        </a:lnTo>
                        <a:lnTo>
                          <a:pt x="224" y="302"/>
                        </a:lnTo>
                        <a:lnTo>
                          <a:pt x="224" y="292"/>
                        </a:lnTo>
                        <a:lnTo>
                          <a:pt x="214" y="292"/>
                        </a:lnTo>
                        <a:lnTo>
                          <a:pt x="205" y="292"/>
                        </a:lnTo>
                        <a:lnTo>
                          <a:pt x="205" y="292"/>
                        </a:lnTo>
                        <a:lnTo>
                          <a:pt x="195" y="292"/>
                        </a:lnTo>
                        <a:lnTo>
                          <a:pt x="185" y="302"/>
                        </a:lnTo>
                        <a:lnTo>
                          <a:pt x="185" y="312"/>
                        </a:lnTo>
                        <a:lnTo>
                          <a:pt x="176" y="321"/>
                        </a:lnTo>
                        <a:lnTo>
                          <a:pt x="176" y="331"/>
                        </a:lnTo>
                        <a:lnTo>
                          <a:pt x="156" y="331"/>
                        </a:lnTo>
                        <a:lnTo>
                          <a:pt x="146" y="331"/>
                        </a:lnTo>
                        <a:lnTo>
                          <a:pt x="137" y="331"/>
                        </a:lnTo>
                        <a:lnTo>
                          <a:pt x="117" y="331"/>
                        </a:lnTo>
                        <a:lnTo>
                          <a:pt x="107" y="321"/>
                        </a:lnTo>
                        <a:lnTo>
                          <a:pt x="98" y="312"/>
                        </a:lnTo>
                        <a:lnTo>
                          <a:pt x="78" y="312"/>
                        </a:lnTo>
                        <a:lnTo>
                          <a:pt x="69" y="302"/>
                        </a:lnTo>
                        <a:lnTo>
                          <a:pt x="59" y="312"/>
                        </a:lnTo>
                        <a:lnTo>
                          <a:pt x="59" y="321"/>
                        </a:lnTo>
                        <a:lnTo>
                          <a:pt x="107" y="341"/>
                        </a:lnTo>
                        <a:lnTo>
                          <a:pt x="107" y="360"/>
                        </a:lnTo>
                        <a:lnTo>
                          <a:pt x="107" y="360"/>
                        </a:lnTo>
                        <a:lnTo>
                          <a:pt x="88" y="360"/>
                        </a:lnTo>
                        <a:lnTo>
                          <a:pt x="78" y="360"/>
                        </a:lnTo>
                        <a:lnTo>
                          <a:pt x="69" y="360"/>
                        </a:lnTo>
                        <a:lnTo>
                          <a:pt x="59" y="350"/>
                        </a:lnTo>
                        <a:lnTo>
                          <a:pt x="49" y="341"/>
                        </a:lnTo>
                        <a:lnTo>
                          <a:pt x="30" y="331"/>
                        </a:lnTo>
                        <a:lnTo>
                          <a:pt x="30" y="331"/>
                        </a:lnTo>
                        <a:lnTo>
                          <a:pt x="20" y="321"/>
                        </a:lnTo>
                        <a:lnTo>
                          <a:pt x="10" y="302"/>
                        </a:lnTo>
                        <a:lnTo>
                          <a:pt x="0" y="282"/>
                        </a:lnTo>
                        <a:lnTo>
                          <a:pt x="0" y="243"/>
                        </a:lnTo>
                        <a:lnTo>
                          <a:pt x="10" y="224"/>
                        </a:lnTo>
                        <a:lnTo>
                          <a:pt x="20" y="204"/>
                        </a:lnTo>
                        <a:lnTo>
                          <a:pt x="20" y="185"/>
                        </a:lnTo>
                        <a:lnTo>
                          <a:pt x="20" y="156"/>
                        </a:lnTo>
                        <a:lnTo>
                          <a:pt x="30" y="146"/>
                        </a:lnTo>
                        <a:lnTo>
                          <a:pt x="39" y="136"/>
                        </a:lnTo>
                        <a:lnTo>
                          <a:pt x="49" y="136"/>
                        </a:lnTo>
                        <a:lnTo>
                          <a:pt x="69" y="136"/>
                        </a:lnTo>
                        <a:lnTo>
                          <a:pt x="78" y="136"/>
                        </a:lnTo>
                        <a:lnTo>
                          <a:pt x="98" y="136"/>
                        </a:lnTo>
                        <a:lnTo>
                          <a:pt x="107" y="127"/>
                        </a:lnTo>
                        <a:lnTo>
                          <a:pt x="117" y="117"/>
                        </a:lnTo>
                        <a:lnTo>
                          <a:pt x="117" y="68"/>
                        </a:lnTo>
                        <a:lnTo>
                          <a:pt x="117" y="49"/>
                        </a:lnTo>
                        <a:lnTo>
                          <a:pt x="137" y="29"/>
                        </a:lnTo>
                        <a:lnTo>
                          <a:pt x="146" y="29"/>
                        </a:lnTo>
                        <a:lnTo>
                          <a:pt x="156" y="19"/>
                        </a:lnTo>
                        <a:lnTo>
                          <a:pt x="176" y="1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24" y="19"/>
                        </a:lnTo>
                        <a:lnTo>
                          <a:pt x="244" y="29"/>
                        </a:lnTo>
                        <a:lnTo>
                          <a:pt x="244" y="29"/>
                        </a:lnTo>
                        <a:lnTo>
                          <a:pt x="292" y="29"/>
                        </a:lnTo>
                        <a:lnTo>
                          <a:pt x="302" y="29"/>
                        </a:lnTo>
                        <a:lnTo>
                          <a:pt x="312" y="19"/>
                        </a:lnTo>
                        <a:lnTo>
                          <a:pt x="331" y="0"/>
                        </a:lnTo>
                        <a:lnTo>
                          <a:pt x="341" y="0"/>
                        </a:lnTo>
                        <a:lnTo>
                          <a:pt x="351" y="10"/>
                        </a:lnTo>
                        <a:lnTo>
                          <a:pt x="380" y="10"/>
                        </a:lnTo>
                        <a:lnTo>
                          <a:pt x="389" y="10"/>
                        </a:lnTo>
                        <a:lnTo>
                          <a:pt x="419" y="10"/>
                        </a:lnTo>
                        <a:lnTo>
                          <a:pt x="428" y="19"/>
                        </a:lnTo>
                        <a:close/>
                      </a:path>
                    </a:pathLst>
                  </a:custGeom>
                  <a:solidFill>
                    <a:srgbClr val="6b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5052240" y="213192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5064480" y="213192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69"/>
                        </a:moveTo>
                        <a:lnTo>
                          <a:pt x="68" y="69"/>
                        </a:lnTo>
                        <a:lnTo>
                          <a:pt x="58" y="5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39" y="3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9" y="39"/>
                        </a:lnTo>
                        <a:lnTo>
                          <a:pt x="39" y="49"/>
                        </a:lnTo>
                        <a:lnTo>
                          <a:pt x="48" y="59"/>
                        </a:lnTo>
                        <a:lnTo>
                          <a:pt x="58" y="69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58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5100480" y="2162160"/>
                    <a:ext cx="10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49">
                        <a:moveTo>
                          <a:pt x="175" y="49"/>
                        </a:moveTo>
                        <a:lnTo>
                          <a:pt x="166" y="39"/>
                        </a:lnTo>
                        <a:lnTo>
                          <a:pt x="146" y="29"/>
                        </a:lnTo>
                        <a:lnTo>
                          <a:pt x="136" y="20"/>
                        </a:lnTo>
                        <a:lnTo>
                          <a:pt x="136" y="20"/>
                        </a:lnTo>
                        <a:lnTo>
                          <a:pt x="127" y="1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5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27" y="2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6" y="49"/>
                        </a:lnTo>
                        <a:lnTo>
                          <a:pt x="166" y="49"/>
                        </a:lnTo>
                        <a:lnTo>
                          <a:pt x="175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5202720" y="2192400"/>
                    <a:ext cx="35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6">
                        <a:moveTo>
                          <a:pt x="58" y="146"/>
                        </a:moveTo>
                        <a:lnTo>
                          <a:pt x="48" y="126"/>
                        </a:lnTo>
                        <a:lnTo>
                          <a:pt x="48" y="107"/>
                        </a:lnTo>
                        <a:lnTo>
                          <a:pt x="48" y="87"/>
                        </a:lnTo>
                        <a:lnTo>
                          <a:pt x="38" y="68"/>
                        </a:lnTo>
                        <a:lnTo>
                          <a:pt x="38" y="48"/>
                        </a:lnTo>
                        <a:lnTo>
                          <a:pt x="2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9"/>
                        </a:lnTo>
                        <a:lnTo>
                          <a:pt x="19" y="29"/>
                        </a:lnTo>
                        <a:lnTo>
                          <a:pt x="29" y="48"/>
                        </a:lnTo>
                        <a:lnTo>
                          <a:pt x="29" y="68"/>
                        </a:lnTo>
                        <a:lnTo>
                          <a:pt x="38" y="87"/>
                        </a:lnTo>
                        <a:lnTo>
                          <a:pt x="38" y="107"/>
                        </a:lnTo>
                        <a:lnTo>
                          <a:pt x="38" y="126"/>
                        </a:lnTo>
                        <a:lnTo>
                          <a:pt x="48" y="146"/>
                        </a:lnTo>
                        <a:lnTo>
                          <a:pt x="58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5214240" y="2282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49"/>
                        </a:moveTo>
                        <a:lnTo>
                          <a:pt x="10" y="58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1" name=""/>
                <p:cNvGrpSpPr/>
                <p:nvPr/>
              </p:nvGrpSpPr>
              <p:grpSpPr>
                <a:xfrm>
                  <a:off x="3337920" y="2113560"/>
                  <a:ext cx="1954080" cy="601560"/>
                  <a:chOff x="3337920" y="2113560"/>
                  <a:chExt cx="1954080" cy="601560"/>
                </a:xfrm>
              </p:grpSpPr>
              <p:sp>
                <p:nvSpPr>
                  <p:cNvPr id="2522" name=""/>
                  <p:cNvSpPr/>
                  <p:nvPr/>
                </p:nvSpPr>
                <p:spPr>
                  <a:xfrm>
                    <a:off x="5208120" y="2312280"/>
                    <a:ext cx="23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46">
                        <a:moveTo>
                          <a:pt x="0" y="146"/>
                        </a:moveTo>
                        <a:lnTo>
                          <a:pt x="20" y="126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29" y="38"/>
                        </a:lnTo>
                        <a:lnTo>
                          <a:pt x="29" y="19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9"/>
                        </a:lnTo>
                        <a:lnTo>
                          <a:pt x="20" y="38"/>
                        </a:lnTo>
                        <a:lnTo>
                          <a:pt x="20" y="58"/>
                        </a:lnTo>
                        <a:lnTo>
                          <a:pt x="29" y="68"/>
                        </a:lnTo>
                        <a:lnTo>
                          <a:pt x="20" y="97"/>
                        </a:lnTo>
                        <a:lnTo>
                          <a:pt x="20" y="107"/>
                        </a:lnTo>
                        <a:lnTo>
                          <a:pt x="10" y="11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5160240" y="239652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69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5160240" y="2372400"/>
                    <a:ext cx="61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68">
                        <a:moveTo>
                          <a:pt x="0" y="0"/>
                        </a:move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5130720" y="2312280"/>
                    <a:ext cx="29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7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29" y="77"/>
                        </a:lnTo>
                        <a:lnTo>
                          <a:pt x="39" y="97"/>
                        </a:lnTo>
                        <a:lnTo>
                          <a:pt x="48" y="97"/>
                        </a:lnTo>
                        <a:lnTo>
                          <a:pt x="48" y="97"/>
                        </a:lnTo>
                        <a:lnTo>
                          <a:pt x="10" y="58"/>
                        </a:lnTo>
                        <a:lnTo>
                          <a:pt x="10" y="38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5130720" y="22276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10" y="10"/>
                        </a:move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10" y="88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10" y="11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5106600" y="222156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0" y="10"/>
                        </a:move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5070600" y="219816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0" y="9"/>
                        </a:move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48" y="38"/>
                        </a:lnTo>
                        <a:lnTo>
                          <a:pt x="58" y="48"/>
                        </a:lnTo>
                        <a:lnTo>
                          <a:pt x="68" y="38"/>
                        </a:lnTo>
                        <a:lnTo>
                          <a:pt x="5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8" y="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5046840" y="219816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9" y="29"/>
                        </a:moveTo>
                        <a:lnTo>
                          <a:pt x="9" y="38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9" y="38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5052240" y="22035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5076360" y="220968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39" y="1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5082480" y="222768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29"/>
                        </a:move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5046840" y="222156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20"/>
                        </a:moveTo>
                        <a:lnTo>
                          <a:pt x="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30"/>
                        </a:lnTo>
                        <a:lnTo>
                          <a:pt x="58" y="39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5022720" y="22338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4974480" y="225180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1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78" y="29"/>
                        </a:lnTo>
                        <a:lnTo>
                          <a:pt x="7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4938840" y="225180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29" y="88"/>
                        </a:lnTo>
                        <a:lnTo>
                          <a:pt x="38" y="78"/>
                        </a:lnTo>
                        <a:lnTo>
                          <a:pt x="38" y="59"/>
                        </a:lnTo>
                        <a:lnTo>
                          <a:pt x="48" y="49"/>
                        </a:lnTo>
                        <a:lnTo>
                          <a:pt x="48" y="29"/>
                        </a:lnTo>
                        <a:lnTo>
                          <a:pt x="4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8" y="29"/>
                        </a:lnTo>
                        <a:lnTo>
                          <a:pt x="38" y="39"/>
                        </a:lnTo>
                        <a:lnTo>
                          <a:pt x="29" y="59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9" y="8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4908600" y="230004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0" y="10"/>
                        </a:moveTo>
                        <a:lnTo>
                          <a:pt x="2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4896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0" y="39"/>
                        </a:move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4830840" y="230616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29" y="19"/>
                        </a:lnTo>
                        <a:lnTo>
                          <a:pt x="38" y="2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1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2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4824720" y="23061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4824720" y="231228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58" y="29"/>
                        </a:moveTo>
                        <a:lnTo>
                          <a:pt x="58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58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4848840" y="232416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9" y="2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4794480" y="2318040"/>
                    <a:ext cx="59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9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59" y="39"/>
                        </a:lnTo>
                        <a:lnTo>
                          <a:pt x="68" y="39"/>
                        </a:lnTo>
                        <a:lnTo>
                          <a:pt x="78" y="49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lnTo>
                          <a:pt x="68" y="3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4788360" y="2216160"/>
                    <a:ext cx="183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65">
                        <a:moveTo>
                          <a:pt x="20" y="0"/>
                        </a:moveTo>
                        <a:lnTo>
                          <a:pt x="20" y="29"/>
                        </a:lnTo>
                        <a:lnTo>
                          <a:pt x="10" y="48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0" y="87"/>
                        </a:lnTo>
                        <a:lnTo>
                          <a:pt x="20" y="68"/>
                        </a:lnTo>
                        <a:lnTo>
                          <a:pt x="20" y="48"/>
                        </a:lnTo>
                        <a:lnTo>
                          <a:pt x="30" y="29"/>
                        </a:lnTo>
                        <a:lnTo>
                          <a:pt x="30" y="0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4800600" y="219204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48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78" y="19"/>
                        </a:lnTo>
                        <a:lnTo>
                          <a:pt x="87" y="19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4860360" y="2137320"/>
                    <a:ext cx="122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8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4872600" y="2113560"/>
                    <a:ext cx="11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49">
                        <a:moveTo>
                          <a:pt x="194" y="0"/>
                        </a:moveTo>
                        <a:lnTo>
                          <a:pt x="194" y="10"/>
                        </a:lnTo>
                        <a:lnTo>
                          <a:pt x="184" y="20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55" y="39"/>
                        </a:lnTo>
                        <a:lnTo>
                          <a:pt x="116" y="39"/>
                        </a:lnTo>
                        <a:lnTo>
                          <a:pt x="107" y="29"/>
                        </a:lnTo>
                        <a:lnTo>
                          <a:pt x="87" y="29"/>
                        </a:lnTo>
                        <a:lnTo>
                          <a:pt x="77" y="29"/>
                        </a:lnTo>
                        <a:lnTo>
                          <a:pt x="5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39" y="29"/>
                        </a:lnTo>
                        <a:lnTo>
                          <a:pt x="68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55" y="39"/>
                        </a:lnTo>
                        <a:lnTo>
                          <a:pt x="165" y="39"/>
                        </a:lnTo>
                        <a:lnTo>
                          <a:pt x="175" y="39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94" y="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4992480" y="21135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107" y="29"/>
                        </a:moveTo>
                        <a:lnTo>
                          <a:pt x="97" y="20"/>
                        </a:lnTo>
                        <a:lnTo>
                          <a:pt x="88" y="20"/>
                        </a:lnTo>
                        <a:lnTo>
                          <a:pt x="58" y="20"/>
                        </a:lnTo>
                        <a:lnTo>
                          <a:pt x="4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49" y="20"/>
                        </a:lnTo>
                        <a:lnTo>
                          <a:pt x="5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4884480" y="2174040"/>
                    <a:ext cx="83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46">
                        <a:moveTo>
                          <a:pt x="136" y="9"/>
                        </a:moveTo>
                        <a:lnTo>
                          <a:pt x="68" y="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39" y="68"/>
                        </a:lnTo>
                        <a:lnTo>
                          <a:pt x="49" y="68"/>
                        </a:lnTo>
                        <a:lnTo>
                          <a:pt x="58" y="77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58" y="116"/>
                        </a:lnTo>
                        <a:lnTo>
                          <a:pt x="58" y="116"/>
                        </a:lnTo>
                        <a:lnTo>
                          <a:pt x="49" y="116"/>
                        </a:lnTo>
                        <a:lnTo>
                          <a:pt x="39" y="126"/>
                        </a:lnTo>
                        <a:lnTo>
                          <a:pt x="29" y="136"/>
                        </a:lnTo>
                        <a:lnTo>
                          <a:pt x="29" y="136"/>
                        </a:lnTo>
                        <a:lnTo>
                          <a:pt x="20" y="146"/>
                        </a:lnTo>
                        <a:lnTo>
                          <a:pt x="10" y="146"/>
                        </a:lnTo>
                        <a:lnTo>
                          <a:pt x="20" y="136"/>
                        </a:lnTo>
                        <a:lnTo>
                          <a:pt x="20" y="126"/>
                        </a:lnTo>
                        <a:lnTo>
                          <a:pt x="29" y="116"/>
                        </a:lnTo>
                        <a:lnTo>
                          <a:pt x="39" y="116"/>
                        </a:lnTo>
                        <a:lnTo>
                          <a:pt x="49" y="116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49" y="87"/>
                        </a:lnTo>
                        <a:lnTo>
                          <a:pt x="39" y="77"/>
                        </a:lnTo>
                        <a:lnTo>
                          <a:pt x="29" y="68"/>
                        </a:lnTo>
                        <a:lnTo>
                          <a:pt x="20" y="68"/>
                        </a:lnTo>
                        <a:lnTo>
                          <a:pt x="10" y="68"/>
                        </a:lnTo>
                        <a:lnTo>
                          <a:pt x="0" y="58"/>
                        </a:lnTo>
                        <a:lnTo>
                          <a:pt x="0" y="48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68" y="9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36" y="9"/>
                        </a:lnTo>
                        <a:lnTo>
                          <a:pt x="13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4890600" y="2174040"/>
                    <a:ext cx="77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126" y="19"/>
                        </a:lnTo>
                        <a:lnTo>
                          <a:pt x="126" y="9"/>
                        </a:lnTo>
                        <a:lnTo>
                          <a:pt x="116" y="0"/>
                        </a:lnTo>
                        <a:lnTo>
                          <a:pt x="78" y="0"/>
                        </a:lnTo>
                        <a:lnTo>
                          <a:pt x="78" y="9"/>
                        </a:lnTo>
                        <a:lnTo>
                          <a:pt x="58" y="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4890600" y="2198160"/>
                    <a:ext cx="356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7">
                        <a:moveTo>
                          <a:pt x="58" y="77"/>
                        </a:moveTo>
                        <a:lnTo>
                          <a:pt x="58" y="77"/>
                        </a:lnTo>
                        <a:lnTo>
                          <a:pt x="58" y="58"/>
                        </a:lnTo>
                        <a:lnTo>
                          <a:pt x="58" y="48"/>
                        </a:lnTo>
                        <a:lnTo>
                          <a:pt x="48" y="38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8" y="48"/>
                        </a:lnTo>
                        <a:lnTo>
                          <a:pt x="48" y="58"/>
                        </a:lnTo>
                        <a:lnTo>
                          <a:pt x="48" y="68"/>
                        </a:lnTo>
                        <a:lnTo>
                          <a:pt x="48" y="68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lnTo>
                          <a:pt x="5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4884480" y="224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49" y="1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58" y="0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4890600" y="2227680"/>
                    <a:ext cx="295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9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4884480" y="22035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4884480" y="2167920"/>
                    <a:ext cx="54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8">
                        <a:moveTo>
                          <a:pt x="88" y="0"/>
                        </a:move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10" y="4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8" y="10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4938840" y="216792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48" y="19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3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4860360" y="2233800"/>
                    <a:ext cx="3474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750">
                        <a:moveTo>
                          <a:pt x="438" y="0"/>
                        </a:moveTo>
                        <a:lnTo>
                          <a:pt x="438" y="29"/>
                        </a:lnTo>
                        <a:lnTo>
                          <a:pt x="438" y="58"/>
                        </a:lnTo>
                        <a:lnTo>
                          <a:pt x="438" y="78"/>
                        </a:lnTo>
                        <a:lnTo>
                          <a:pt x="428" y="107"/>
                        </a:lnTo>
                        <a:lnTo>
                          <a:pt x="418" y="127"/>
                        </a:lnTo>
                        <a:lnTo>
                          <a:pt x="418" y="156"/>
                        </a:lnTo>
                        <a:lnTo>
                          <a:pt x="428" y="175"/>
                        </a:lnTo>
                        <a:lnTo>
                          <a:pt x="438" y="204"/>
                        </a:lnTo>
                        <a:lnTo>
                          <a:pt x="457" y="214"/>
                        </a:lnTo>
                        <a:lnTo>
                          <a:pt x="467" y="234"/>
                        </a:lnTo>
                        <a:lnTo>
                          <a:pt x="477" y="253"/>
                        </a:lnTo>
                        <a:lnTo>
                          <a:pt x="477" y="282"/>
                        </a:lnTo>
                        <a:lnTo>
                          <a:pt x="477" y="302"/>
                        </a:lnTo>
                        <a:lnTo>
                          <a:pt x="467" y="331"/>
                        </a:lnTo>
                        <a:lnTo>
                          <a:pt x="467" y="350"/>
                        </a:lnTo>
                        <a:lnTo>
                          <a:pt x="467" y="370"/>
                        </a:lnTo>
                        <a:lnTo>
                          <a:pt x="477" y="370"/>
                        </a:lnTo>
                        <a:lnTo>
                          <a:pt x="477" y="370"/>
                        </a:lnTo>
                        <a:lnTo>
                          <a:pt x="477" y="360"/>
                        </a:lnTo>
                        <a:lnTo>
                          <a:pt x="486" y="360"/>
                        </a:lnTo>
                        <a:lnTo>
                          <a:pt x="486" y="341"/>
                        </a:lnTo>
                        <a:lnTo>
                          <a:pt x="486" y="331"/>
                        </a:lnTo>
                        <a:lnTo>
                          <a:pt x="486" y="321"/>
                        </a:lnTo>
                        <a:lnTo>
                          <a:pt x="496" y="321"/>
                        </a:lnTo>
                        <a:lnTo>
                          <a:pt x="496" y="312"/>
                        </a:lnTo>
                        <a:lnTo>
                          <a:pt x="506" y="302"/>
                        </a:lnTo>
                        <a:lnTo>
                          <a:pt x="516" y="302"/>
                        </a:lnTo>
                        <a:lnTo>
                          <a:pt x="525" y="302"/>
                        </a:lnTo>
                        <a:lnTo>
                          <a:pt x="525" y="292"/>
                        </a:lnTo>
                        <a:lnTo>
                          <a:pt x="545" y="292"/>
                        </a:lnTo>
                        <a:lnTo>
                          <a:pt x="564" y="312"/>
                        </a:lnTo>
                        <a:lnTo>
                          <a:pt x="564" y="321"/>
                        </a:lnTo>
                        <a:lnTo>
                          <a:pt x="564" y="321"/>
                        </a:lnTo>
                        <a:lnTo>
                          <a:pt x="564" y="331"/>
                        </a:lnTo>
                        <a:lnTo>
                          <a:pt x="564" y="331"/>
                        </a:lnTo>
                        <a:lnTo>
                          <a:pt x="555" y="331"/>
                        </a:lnTo>
                        <a:lnTo>
                          <a:pt x="545" y="331"/>
                        </a:lnTo>
                        <a:lnTo>
                          <a:pt x="535" y="341"/>
                        </a:lnTo>
                        <a:lnTo>
                          <a:pt x="525" y="350"/>
                        </a:lnTo>
                        <a:lnTo>
                          <a:pt x="516" y="360"/>
                        </a:lnTo>
                        <a:lnTo>
                          <a:pt x="506" y="370"/>
                        </a:lnTo>
                        <a:lnTo>
                          <a:pt x="486" y="380"/>
                        </a:lnTo>
                        <a:lnTo>
                          <a:pt x="477" y="389"/>
                        </a:lnTo>
                        <a:lnTo>
                          <a:pt x="477" y="409"/>
                        </a:lnTo>
                        <a:lnTo>
                          <a:pt x="477" y="419"/>
                        </a:lnTo>
                        <a:lnTo>
                          <a:pt x="477" y="419"/>
                        </a:lnTo>
                        <a:lnTo>
                          <a:pt x="506" y="389"/>
                        </a:lnTo>
                        <a:lnTo>
                          <a:pt x="506" y="409"/>
                        </a:lnTo>
                        <a:lnTo>
                          <a:pt x="506" y="438"/>
                        </a:lnTo>
                        <a:lnTo>
                          <a:pt x="496" y="458"/>
                        </a:lnTo>
                        <a:lnTo>
                          <a:pt x="496" y="467"/>
                        </a:lnTo>
                        <a:lnTo>
                          <a:pt x="486" y="487"/>
                        </a:lnTo>
                        <a:lnTo>
                          <a:pt x="477" y="497"/>
                        </a:lnTo>
                        <a:lnTo>
                          <a:pt x="457" y="506"/>
                        </a:lnTo>
                        <a:lnTo>
                          <a:pt x="418" y="506"/>
                        </a:lnTo>
                        <a:lnTo>
                          <a:pt x="350" y="672"/>
                        </a:lnTo>
                        <a:lnTo>
                          <a:pt x="350" y="682"/>
                        </a:lnTo>
                        <a:lnTo>
                          <a:pt x="341" y="682"/>
                        </a:lnTo>
                        <a:lnTo>
                          <a:pt x="331" y="691"/>
                        </a:lnTo>
                        <a:lnTo>
                          <a:pt x="331" y="691"/>
                        </a:lnTo>
                        <a:lnTo>
                          <a:pt x="321" y="701"/>
                        </a:lnTo>
                        <a:lnTo>
                          <a:pt x="311" y="701"/>
                        </a:lnTo>
                        <a:lnTo>
                          <a:pt x="302" y="711"/>
                        </a:lnTo>
                        <a:lnTo>
                          <a:pt x="302" y="711"/>
                        </a:lnTo>
                        <a:lnTo>
                          <a:pt x="292" y="711"/>
                        </a:lnTo>
                        <a:lnTo>
                          <a:pt x="282" y="720"/>
                        </a:lnTo>
                        <a:lnTo>
                          <a:pt x="272" y="720"/>
                        </a:lnTo>
                        <a:lnTo>
                          <a:pt x="263" y="720"/>
                        </a:lnTo>
                        <a:lnTo>
                          <a:pt x="263" y="720"/>
                        </a:lnTo>
                        <a:lnTo>
                          <a:pt x="253" y="720"/>
                        </a:lnTo>
                        <a:lnTo>
                          <a:pt x="243" y="730"/>
                        </a:lnTo>
                        <a:lnTo>
                          <a:pt x="234" y="730"/>
                        </a:lnTo>
                        <a:lnTo>
                          <a:pt x="224" y="730"/>
                        </a:lnTo>
                        <a:lnTo>
                          <a:pt x="214" y="730"/>
                        </a:lnTo>
                        <a:lnTo>
                          <a:pt x="204" y="740"/>
                        </a:lnTo>
                        <a:lnTo>
                          <a:pt x="195" y="740"/>
                        </a:lnTo>
                        <a:lnTo>
                          <a:pt x="185" y="740"/>
                        </a:lnTo>
                        <a:lnTo>
                          <a:pt x="165" y="740"/>
                        </a:lnTo>
                        <a:lnTo>
                          <a:pt x="156" y="750"/>
                        </a:lnTo>
                        <a:lnTo>
                          <a:pt x="107" y="750"/>
                        </a:lnTo>
                        <a:lnTo>
                          <a:pt x="97" y="740"/>
                        </a:lnTo>
                        <a:lnTo>
                          <a:pt x="88" y="740"/>
                        </a:lnTo>
                        <a:lnTo>
                          <a:pt x="88" y="730"/>
                        </a:lnTo>
                        <a:lnTo>
                          <a:pt x="78" y="720"/>
                        </a:lnTo>
                        <a:lnTo>
                          <a:pt x="78" y="701"/>
                        </a:lnTo>
                        <a:lnTo>
                          <a:pt x="78" y="691"/>
                        </a:lnTo>
                        <a:lnTo>
                          <a:pt x="49" y="682"/>
                        </a:lnTo>
                        <a:lnTo>
                          <a:pt x="29" y="662"/>
                        </a:lnTo>
                        <a:lnTo>
                          <a:pt x="20" y="643"/>
                        </a:lnTo>
                        <a:lnTo>
                          <a:pt x="10" y="613"/>
                        </a:lnTo>
                        <a:lnTo>
                          <a:pt x="10" y="555"/>
                        </a:lnTo>
                        <a:lnTo>
                          <a:pt x="10" y="526"/>
                        </a:lnTo>
                        <a:lnTo>
                          <a:pt x="0" y="497"/>
                        </a:lnTo>
                        <a:lnTo>
                          <a:pt x="0" y="419"/>
                        </a:lnTo>
                        <a:lnTo>
                          <a:pt x="0" y="243"/>
                        </a:lnTo>
                        <a:lnTo>
                          <a:pt x="10" y="165"/>
                        </a:lnTo>
                        <a:lnTo>
                          <a:pt x="10" y="165"/>
                        </a:lnTo>
                        <a:lnTo>
                          <a:pt x="20" y="165"/>
                        </a:lnTo>
                        <a:lnTo>
                          <a:pt x="39" y="165"/>
                        </a:lnTo>
                        <a:lnTo>
                          <a:pt x="39" y="165"/>
                        </a:lnTo>
                        <a:lnTo>
                          <a:pt x="49" y="165"/>
                        </a:lnTo>
                        <a:lnTo>
                          <a:pt x="59" y="175"/>
                        </a:lnTo>
                        <a:lnTo>
                          <a:pt x="59" y="185"/>
                        </a:lnTo>
                        <a:lnTo>
                          <a:pt x="59" y="185"/>
                        </a:lnTo>
                        <a:lnTo>
                          <a:pt x="68" y="185"/>
                        </a:lnTo>
                        <a:lnTo>
                          <a:pt x="78" y="175"/>
                        </a:lnTo>
                        <a:lnTo>
                          <a:pt x="78" y="165"/>
                        </a:lnTo>
                        <a:lnTo>
                          <a:pt x="78" y="156"/>
                        </a:lnTo>
                        <a:lnTo>
                          <a:pt x="88" y="156"/>
                        </a:lnTo>
                        <a:lnTo>
                          <a:pt x="117" y="156"/>
                        </a:lnTo>
                        <a:lnTo>
                          <a:pt x="127" y="165"/>
                        </a:lnTo>
                        <a:lnTo>
                          <a:pt x="127" y="165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36" y="146"/>
                        </a:lnTo>
                        <a:lnTo>
                          <a:pt x="156" y="136"/>
                        </a:lnTo>
                        <a:lnTo>
                          <a:pt x="175" y="117"/>
                        </a:lnTo>
                        <a:lnTo>
                          <a:pt x="175" y="107"/>
                        </a:lnTo>
                        <a:lnTo>
                          <a:pt x="175" y="97"/>
                        </a:lnTo>
                        <a:lnTo>
                          <a:pt x="175" y="78"/>
                        </a:lnTo>
                        <a:lnTo>
                          <a:pt x="185" y="68"/>
                        </a:lnTo>
                        <a:lnTo>
                          <a:pt x="195" y="58"/>
                        </a:lnTo>
                        <a:lnTo>
                          <a:pt x="204" y="58"/>
                        </a:lnTo>
                        <a:lnTo>
                          <a:pt x="214" y="58"/>
                        </a:lnTo>
                        <a:lnTo>
                          <a:pt x="234" y="58"/>
                        </a:lnTo>
                        <a:lnTo>
                          <a:pt x="253" y="68"/>
                        </a:lnTo>
                        <a:lnTo>
                          <a:pt x="263" y="68"/>
                        </a:lnTo>
                        <a:lnTo>
                          <a:pt x="272" y="58"/>
                        </a:lnTo>
                        <a:lnTo>
                          <a:pt x="282" y="58"/>
                        </a:lnTo>
                        <a:lnTo>
                          <a:pt x="292" y="49"/>
                        </a:lnTo>
                        <a:lnTo>
                          <a:pt x="302" y="39"/>
                        </a:lnTo>
                        <a:lnTo>
                          <a:pt x="302" y="29"/>
                        </a:lnTo>
                        <a:lnTo>
                          <a:pt x="302" y="29"/>
                        </a:lnTo>
                        <a:lnTo>
                          <a:pt x="302" y="19"/>
                        </a:lnTo>
                        <a:lnTo>
                          <a:pt x="321" y="10"/>
                        </a:lnTo>
                        <a:lnTo>
                          <a:pt x="331" y="0"/>
                        </a:lnTo>
                        <a:lnTo>
                          <a:pt x="341" y="10"/>
                        </a:lnTo>
                        <a:lnTo>
                          <a:pt x="341" y="10"/>
                        </a:lnTo>
                        <a:lnTo>
                          <a:pt x="350" y="19"/>
                        </a:lnTo>
                        <a:lnTo>
                          <a:pt x="350" y="19"/>
                        </a:lnTo>
                        <a:lnTo>
                          <a:pt x="360" y="29"/>
                        </a:lnTo>
                        <a:lnTo>
                          <a:pt x="370" y="2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lnTo>
                          <a:pt x="379" y="10"/>
                        </a:lnTo>
                        <a:lnTo>
                          <a:pt x="389" y="10"/>
                        </a:lnTo>
                        <a:lnTo>
                          <a:pt x="389" y="0"/>
                        </a:lnTo>
                        <a:lnTo>
                          <a:pt x="438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5118120" y="2233800"/>
                    <a:ext cx="183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4">
                        <a:moveTo>
                          <a:pt x="20" y="195"/>
                        </a:moveTo>
                        <a:lnTo>
                          <a:pt x="10" y="175"/>
                        </a:lnTo>
                        <a:lnTo>
                          <a:pt x="10" y="156"/>
                        </a:lnTo>
                        <a:lnTo>
                          <a:pt x="10" y="127"/>
                        </a:lnTo>
                        <a:lnTo>
                          <a:pt x="20" y="107"/>
                        </a:lnTo>
                        <a:lnTo>
                          <a:pt x="20" y="78"/>
                        </a:lnTo>
                        <a:lnTo>
                          <a:pt x="30" y="58"/>
                        </a:lnTo>
                        <a:lnTo>
                          <a:pt x="30" y="29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20" y="58"/>
                        </a:lnTo>
                        <a:lnTo>
                          <a:pt x="20" y="78"/>
                        </a:lnTo>
                        <a:lnTo>
                          <a:pt x="10" y="107"/>
                        </a:lnTo>
                        <a:lnTo>
                          <a:pt x="0" y="127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204"/>
                        </a:lnTo>
                        <a:lnTo>
                          <a:pt x="2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5130720" y="2354400"/>
                    <a:ext cx="237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85">
                        <a:moveTo>
                          <a:pt x="29" y="175"/>
                        </a:moveTo>
                        <a:lnTo>
                          <a:pt x="39" y="175"/>
                        </a:lnTo>
                        <a:lnTo>
                          <a:pt x="29" y="155"/>
                        </a:lnTo>
                        <a:lnTo>
                          <a:pt x="39" y="136"/>
                        </a:lnTo>
                        <a:lnTo>
                          <a:pt x="39" y="107"/>
                        </a:lnTo>
                        <a:lnTo>
                          <a:pt x="39" y="87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58"/>
                        </a:lnTo>
                        <a:lnTo>
                          <a:pt x="29" y="107"/>
                        </a:lnTo>
                        <a:lnTo>
                          <a:pt x="29" y="136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lnTo>
                          <a:pt x="29" y="185"/>
                        </a:lnTo>
                        <a:lnTo>
                          <a:pt x="29" y="185"/>
                        </a:lnTo>
                        <a:lnTo>
                          <a:pt x="29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5148360" y="243216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5160240" y="241452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5190120" y="2414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9"/>
                        </a:move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5196600" y="24321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0" y="2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5148360" y="2438640"/>
                    <a:ext cx="54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8">
                        <a:moveTo>
                          <a:pt x="10" y="78"/>
                        </a:move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9" y="58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8" y="19"/>
                        </a:lnTo>
                        <a:lnTo>
                          <a:pt x="4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0" y="8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5148360" y="24868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5154480" y="2468880"/>
                    <a:ext cx="291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39" y="19"/>
                        </a:moveTo>
                        <a:lnTo>
                          <a:pt x="29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39" y="19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29" y="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5142240" y="2474280"/>
                    <a:ext cx="363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20" y="108"/>
                        </a:lnTo>
                        <a:lnTo>
                          <a:pt x="39" y="98"/>
                        </a:ln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49" y="49"/>
                        </a:lnTo>
                        <a:lnTo>
                          <a:pt x="49" y="2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49"/>
                        </a:lnTo>
                        <a:lnTo>
                          <a:pt x="39" y="69"/>
                        </a:lnTo>
                        <a:lnTo>
                          <a:pt x="29" y="78"/>
                        </a:lnTo>
                        <a:lnTo>
                          <a:pt x="29" y="98"/>
                        </a:lnTo>
                        <a:lnTo>
                          <a:pt x="20" y="10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>
                    <a:off x="5118120" y="254124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5076360" y="2546640"/>
                    <a:ext cx="478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76">
                        <a:moveTo>
                          <a:pt x="10" y="176"/>
                        </a:moveTo>
                        <a:lnTo>
                          <a:pt x="10" y="166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0" y="166"/>
                        </a:lnTo>
                        <a:lnTo>
                          <a:pt x="0" y="166"/>
                        </a:lnTo>
                        <a:lnTo>
                          <a:pt x="10" y="176"/>
                        </a:lnTo>
                        <a:lnTo>
                          <a:pt x="10" y="166"/>
                        </a:lnTo>
                        <a:lnTo>
                          <a:pt x="10" y="1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5004720" y="2649240"/>
                    <a:ext cx="774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16" y="0"/>
                        </a:lnTo>
                        <a:lnTo>
                          <a:pt x="116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7" y="19"/>
                        </a:lnTo>
                        <a:lnTo>
                          <a:pt x="87" y="19"/>
                        </a:lnTo>
                        <a:lnTo>
                          <a:pt x="77" y="29"/>
                        </a:lnTo>
                        <a:lnTo>
                          <a:pt x="68" y="2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4914720" y="2679120"/>
                    <a:ext cx="90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77" y="30"/>
                        </a:lnTo>
                        <a:lnTo>
                          <a:pt x="87" y="30"/>
                        </a:lnTo>
                        <a:lnTo>
                          <a:pt x="97" y="3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36" y="10"/>
                        </a:lnTo>
                        <a:lnTo>
                          <a:pt x="126" y="10"/>
                        </a:lnTo>
                        <a:lnTo>
                          <a:pt x="116" y="10"/>
                        </a:lnTo>
                        <a:lnTo>
                          <a:pt x="107" y="1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4902480" y="265536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10" y="4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3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4860360" y="2541240"/>
                    <a:ext cx="47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4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10" y="11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78" y="194"/>
                        </a:lnTo>
                        <a:lnTo>
                          <a:pt x="78" y="18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36"/>
                        </a:lnTo>
                        <a:lnTo>
                          <a:pt x="20" y="116"/>
                        </a:lnTo>
                        <a:lnTo>
                          <a:pt x="2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4860360" y="2330280"/>
                    <a:ext cx="612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41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87"/>
                        </a:lnTo>
                        <a:lnTo>
                          <a:pt x="0" y="263"/>
                        </a:lnTo>
                        <a:lnTo>
                          <a:pt x="0" y="341"/>
                        </a:lnTo>
                        <a:lnTo>
                          <a:pt x="10" y="341"/>
                        </a:lnTo>
                        <a:lnTo>
                          <a:pt x="0" y="263"/>
                        </a:lnTo>
                        <a:lnTo>
                          <a:pt x="0" y="87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4866480" y="23302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4890600" y="2330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4896720" y="2330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4908600" y="232416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4938840" y="23241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4938840" y="23241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4944240" y="2264400"/>
                    <a:ext cx="360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7">
                        <a:moveTo>
                          <a:pt x="59" y="0"/>
                        </a:moveTo>
                        <a:lnTo>
                          <a:pt x="59" y="0"/>
                        </a:lnTo>
                        <a:lnTo>
                          <a:pt x="49" y="9"/>
                        </a:lnTo>
                        <a:lnTo>
                          <a:pt x="39" y="29"/>
                        </a:lnTo>
                        <a:lnTo>
                          <a:pt x="39" y="48"/>
                        </a:lnTo>
                        <a:lnTo>
                          <a:pt x="39" y="58"/>
                        </a:lnTo>
                        <a:lnTo>
                          <a:pt x="29" y="68"/>
                        </a:lnTo>
                        <a:lnTo>
                          <a:pt x="20" y="7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20" y="97"/>
                        </a:lnTo>
                        <a:lnTo>
                          <a:pt x="29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48"/>
                        </a:lnTo>
                        <a:lnTo>
                          <a:pt x="49" y="29"/>
                        </a:lnTo>
                        <a:lnTo>
                          <a:pt x="5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4980600" y="2264400"/>
                    <a:ext cx="65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9">
                        <a:moveTo>
                          <a:pt x="97" y="0"/>
                        </a:moveTo>
                        <a:lnTo>
                          <a:pt x="97" y="0"/>
                        </a:lnTo>
                        <a:lnTo>
                          <a:pt x="87" y="9"/>
                        </a:lnTo>
                        <a:lnTo>
                          <a:pt x="77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7" y="19"/>
                        </a:lnTo>
                        <a:lnTo>
                          <a:pt x="97" y="9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5040360" y="22338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5064480" y="223380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5088600" y="22338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5100480" y="223380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3763080" y="2240280"/>
                    <a:ext cx="540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14">
                        <a:moveTo>
                          <a:pt x="88" y="214"/>
                        </a:moveTo>
                        <a:lnTo>
                          <a:pt x="88" y="185"/>
                        </a:lnTo>
                        <a:lnTo>
                          <a:pt x="78" y="146"/>
                        </a:lnTo>
                        <a:lnTo>
                          <a:pt x="68" y="126"/>
                        </a:lnTo>
                        <a:lnTo>
                          <a:pt x="68" y="97"/>
                        </a:lnTo>
                        <a:lnTo>
                          <a:pt x="59" y="78"/>
                        </a:lnTo>
                        <a:lnTo>
                          <a:pt x="39" y="48"/>
                        </a:lnTo>
                        <a:lnTo>
                          <a:pt x="30" y="2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30" y="19"/>
                        </a:lnTo>
                        <a:lnTo>
                          <a:pt x="4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78" y="126"/>
                        </a:lnTo>
                        <a:lnTo>
                          <a:pt x="78" y="146"/>
                        </a:lnTo>
                        <a:lnTo>
                          <a:pt x="88" y="185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29"/>
                        </a:lnTo>
                        <a:lnTo>
                          <a:pt x="39" y="48"/>
                        </a:lnTo>
                        <a:lnTo>
                          <a:pt x="49" y="78"/>
                        </a:lnTo>
                        <a:lnTo>
                          <a:pt x="59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59" y="68"/>
                        </a:lnTo>
                        <a:lnTo>
                          <a:pt x="49" y="48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3763080" y="224028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3763080" y="2240280"/>
                    <a:ext cx="601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14">
                        <a:moveTo>
                          <a:pt x="88" y="214"/>
                        </a:moveTo>
                        <a:lnTo>
                          <a:pt x="98" y="214"/>
                        </a:lnTo>
                        <a:lnTo>
                          <a:pt x="88" y="185"/>
                        </a:lnTo>
                        <a:lnTo>
                          <a:pt x="88" y="146"/>
                        </a:lnTo>
                        <a:lnTo>
                          <a:pt x="78" y="126"/>
                        </a:lnTo>
                        <a:lnTo>
                          <a:pt x="68" y="97"/>
                        </a:lnTo>
                        <a:lnTo>
                          <a:pt x="68" y="68"/>
                        </a:lnTo>
                        <a:lnTo>
                          <a:pt x="49" y="39"/>
                        </a:lnTo>
                        <a:lnTo>
                          <a:pt x="3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30" y="19"/>
                        </a:lnTo>
                        <a:lnTo>
                          <a:pt x="39" y="48"/>
                        </a:lnTo>
                        <a:lnTo>
                          <a:pt x="59" y="68"/>
                        </a:lnTo>
                        <a:lnTo>
                          <a:pt x="68" y="97"/>
                        </a:lnTo>
                        <a:lnTo>
                          <a:pt x="68" y="126"/>
                        </a:lnTo>
                        <a:lnTo>
                          <a:pt x="78" y="155"/>
                        </a:lnTo>
                        <a:lnTo>
                          <a:pt x="78" y="185"/>
                        </a:lnTo>
                        <a:lnTo>
                          <a:pt x="88" y="214"/>
                        </a:lnTo>
                        <a:lnTo>
                          <a:pt x="98" y="214"/>
                        </a:lnTo>
                        <a:lnTo>
                          <a:pt x="88" y="2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3499920" y="2245680"/>
                    <a:ext cx="2512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85">
                        <a:moveTo>
                          <a:pt x="330" y="137"/>
                        </a:moveTo>
                        <a:lnTo>
                          <a:pt x="320" y="146"/>
                        </a:lnTo>
                        <a:lnTo>
                          <a:pt x="320" y="146"/>
                        </a:lnTo>
                        <a:lnTo>
                          <a:pt x="311" y="156"/>
                        </a:lnTo>
                        <a:lnTo>
                          <a:pt x="301" y="156"/>
                        </a:lnTo>
                        <a:lnTo>
                          <a:pt x="291" y="166"/>
                        </a:lnTo>
                        <a:lnTo>
                          <a:pt x="282" y="166"/>
                        </a:lnTo>
                        <a:lnTo>
                          <a:pt x="272" y="176"/>
                        </a:lnTo>
                        <a:lnTo>
                          <a:pt x="262" y="176"/>
                        </a:lnTo>
                        <a:lnTo>
                          <a:pt x="252" y="176"/>
                        </a:lnTo>
                        <a:lnTo>
                          <a:pt x="233" y="176"/>
                        </a:lnTo>
                        <a:lnTo>
                          <a:pt x="175" y="176"/>
                        </a:lnTo>
                        <a:lnTo>
                          <a:pt x="165" y="185"/>
                        </a:lnTo>
                        <a:lnTo>
                          <a:pt x="155" y="185"/>
                        </a:lnTo>
                        <a:lnTo>
                          <a:pt x="145" y="185"/>
                        </a:lnTo>
                        <a:lnTo>
                          <a:pt x="136" y="185"/>
                        </a:lnTo>
                        <a:lnTo>
                          <a:pt x="116" y="185"/>
                        </a:lnTo>
                        <a:lnTo>
                          <a:pt x="106" y="176"/>
                        </a:lnTo>
                        <a:lnTo>
                          <a:pt x="97" y="176"/>
                        </a:lnTo>
                        <a:lnTo>
                          <a:pt x="87" y="176"/>
                        </a:lnTo>
                        <a:lnTo>
                          <a:pt x="77" y="176"/>
                        </a:lnTo>
                        <a:lnTo>
                          <a:pt x="68" y="166"/>
                        </a:lnTo>
                        <a:lnTo>
                          <a:pt x="58" y="166"/>
                        </a:lnTo>
                        <a:lnTo>
                          <a:pt x="29" y="166"/>
                        </a:lnTo>
                        <a:lnTo>
                          <a:pt x="19" y="166"/>
                        </a:lnTo>
                        <a:lnTo>
                          <a:pt x="9" y="176"/>
                        </a:lnTo>
                        <a:lnTo>
                          <a:pt x="0" y="176"/>
                        </a:lnTo>
                        <a:lnTo>
                          <a:pt x="0" y="176"/>
                        </a:lnTo>
                        <a:lnTo>
                          <a:pt x="9" y="166"/>
                        </a:lnTo>
                        <a:lnTo>
                          <a:pt x="9" y="156"/>
                        </a:lnTo>
                        <a:lnTo>
                          <a:pt x="19" y="15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29" y="137"/>
                        </a:lnTo>
                        <a:lnTo>
                          <a:pt x="68" y="137"/>
                        </a:lnTo>
                        <a:lnTo>
                          <a:pt x="87" y="137"/>
                        </a:lnTo>
                        <a:lnTo>
                          <a:pt x="106" y="137"/>
                        </a:lnTo>
                        <a:lnTo>
                          <a:pt x="116" y="146"/>
                        </a:lnTo>
                        <a:lnTo>
                          <a:pt x="145" y="146"/>
                        </a:lnTo>
                        <a:lnTo>
                          <a:pt x="165" y="146"/>
                        </a:lnTo>
                        <a:lnTo>
                          <a:pt x="223" y="146"/>
                        </a:lnTo>
                        <a:lnTo>
                          <a:pt x="233" y="146"/>
                        </a:lnTo>
                        <a:lnTo>
                          <a:pt x="252" y="146"/>
                        </a:lnTo>
                        <a:lnTo>
                          <a:pt x="272" y="137"/>
                        </a:lnTo>
                        <a:lnTo>
                          <a:pt x="282" y="127"/>
                        </a:lnTo>
                        <a:lnTo>
                          <a:pt x="291" y="127"/>
                        </a:lnTo>
                        <a:lnTo>
                          <a:pt x="311" y="127"/>
                        </a:lnTo>
                        <a:lnTo>
                          <a:pt x="320" y="117"/>
                        </a:lnTo>
                        <a:lnTo>
                          <a:pt x="320" y="117"/>
                        </a:lnTo>
                        <a:lnTo>
                          <a:pt x="359" y="78"/>
                        </a:lnTo>
                        <a:lnTo>
                          <a:pt x="369" y="69"/>
                        </a:lnTo>
                        <a:lnTo>
                          <a:pt x="379" y="49"/>
                        </a:lnTo>
                        <a:lnTo>
                          <a:pt x="389" y="39"/>
                        </a:lnTo>
                        <a:lnTo>
                          <a:pt x="398" y="30"/>
                        </a:lnTo>
                        <a:lnTo>
                          <a:pt x="398" y="20"/>
                        </a:lnTo>
                        <a:lnTo>
                          <a:pt x="408" y="10"/>
                        </a:lnTo>
                        <a:lnTo>
                          <a:pt x="408" y="0"/>
                        </a:lnTo>
                        <a:lnTo>
                          <a:pt x="408" y="20"/>
                        </a:lnTo>
                        <a:lnTo>
                          <a:pt x="408" y="39"/>
                        </a:lnTo>
                        <a:lnTo>
                          <a:pt x="398" y="59"/>
                        </a:lnTo>
                        <a:lnTo>
                          <a:pt x="389" y="78"/>
                        </a:lnTo>
                        <a:lnTo>
                          <a:pt x="379" y="98"/>
                        </a:lnTo>
                        <a:lnTo>
                          <a:pt x="369" y="108"/>
                        </a:lnTo>
                        <a:lnTo>
                          <a:pt x="350" y="127"/>
                        </a:lnTo>
                        <a:lnTo>
                          <a:pt x="330" y="13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3607920" y="2330280"/>
                    <a:ext cx="10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48">
                        <a:moveTo>
                          <a:pt x="9" y="48"/>
                        </a:moveTo>
                        <a:lnTo>
                          <a:pt x="0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19"/>
                        </a:lnTo>
                        <a:lnTo>
                          <a:pt x="145" y="19"/>
                        </a:lnTo>
                        <a:lnTo>
                          <a:pt x="155" y="9"/>
                        </a:lnTo>
                        <a:lnTo>
                          <a:pt x="165" y="0"/>
                        </a:lnTo>
                        <a:lnTo>
                          <a:pt x="155" y="0"/>
                        </a:lnTo>
                        <a:lnTo>
                          <a:pt x="145" y="0"/>
                        </a:lnTo>
                        <a:lnTo>
                          <a:pt x="145" y="9"/>
                        </a:lnTo>
                        <a:lnTo>
                          <a:pt x="136" y="9"/>
                        </a:lnTo>
                        <a:lnTo>
                          <a:pt x="126" y="19"/>
                        </a:lnTo>
                        <a:lnTo>
                          <a:pt x="107" y="1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39"/>
                        </a:lnTo>
                        <a:lnTo>
                          <a:pt x="58" y="39"/>
                        </a:lnTo>
                        <a:lnTo>
                          <a:pt x="0" y="39"/>
                        </a:lnTo>
                        <a:lnTo>
                          <a:pt x="9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3493800" y="2342160"/>
                    <a:ext cx="11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9">
                        <a:moveTo>
                          <a:pt x="0" y="20"/>
                        </a:move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6" y="29"/>
                        </a:lnTo>
                        <a:lnTo>
                          <a:pt x="155" y="39"/>
                        </a:lnTo>
                        <a:lnTo>
                          <a:pt x="165" y="29"/>
                        </a:lnTo>
                        <a:lnTo>
                          <a:pt x="175" y="29"/>
                        </a:lnTo>
                        <a:lnTo>
                          <a:pt x="194" y="29"/>
                        </a:lnTo>
                        <a:lnTo>
                          <a:pt x="185" y="20"/>
                        </a:lnTo>
                        <a:lnTo>
                          <a:pt x="17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16" y="20"/>
                        </a:lnTo>
                        <a:lnTo>
                          <a:pt x="97" y="20"/>
                        </a:ln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3493800" y="2324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3523320" y="2324160"/>
                    <a:ext cx="150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">
                        <a:moveTo>
                          <a:pt x="244" y="0"/>
                        </a:moveTo>
                        <a:lnTo>
                          <a:pt x="224" y="10"/>
                        </a:lnTo>
                        <a:lnTo>
                          <a:pt x="214" y="10"/>
                        </a:lnTo>
                        <a:lnTo>
                          <a:pt x="195" y="10"/>
                        </a:lnTo>
                        <a:lnTo>
                          <a:pt x="185" y="19"/>
                        </a:lnTo>
                        <a:lnTo>
                          <a:pt x="127" y="19"/>
                        </a:lnTo>
                        <a:lnTo>
                          <a:pt x="10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8" y="19"/>
                        </a:lnTo>
                        <a:lnTo>
                          <a:pt x="107" y="29"/>
                        </a:lnTo>
                        <a:lnTo>
                          <a:pt x="185" y="29"/>
                        </a:lnTo>
                        <a:lnTo>
                          <a:pt x="195" y="19"/>
                        </a:lnTo>
                        <a:lnTo>
                          <a:pt x="214" y="19"/>
                        </a:lnTo>
                        <a:lnTo>
                          <a:pt x="234" y="19"/>
                        </a:lnTo>
                        <a:lnTo>
                          <a:pt x="244" y="10"/>
                        </a:lnTo>
                        <a:lnTo>
                          <a:pt x="24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3673800" y="2227680"/>
                    <a:ext cx="83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66">
                        <a:moveTo>
                          <a:pt x="136" y="29"/>
                        </a:moveTo>
                        <a:lnTo>
                          <a:pt x="126" y="29"/>
                        </a:lnTo>
                        <a:lnTo>
                          <a:pt x="126" y="39"/>
                        </a:lnTo>
                        <a:lnTo>
                          <a:pt x="116" y="49"/>
                        </a:lnTo>
                        <a:lnTo>
                          <a:pt x="107" y="59"/>
                        </a:lnTo>
                        <a:lnTo>
                          <a:pt x="97" y="68"/>
                        </a:lnTo>
                        <a:lnTo>
                          <a:pt x="97" y="78"/>
                        </a:lnTo>
                        <a:lnTo>
                          <a:pt x="87" y="88"/>
                        </a:lnTo>
                        <a:lnTo>
                          <a:pt x="87" y="98"/>
                        </a:lnTo>
                        <a:lnTo>
                          <a:pt x="68" y="117"/>
                        </a:lnTo>
                        <a:lnTo>
                          <a:pt x="58" y="117"/>
                        </a:lnTo>
                        <a:lnTo>
                          <a:pt x="48" y="127"/>
                        </a:lnTo>
                        <a:lnTo>
                          <a:pt x="38" y="137"/>
                        </a:lnTo>
                        <a:lnTo>
                          <a:pt x="29" y="146"/>
                        </a:lnTo>
                        <a:lnTo>
                          <a:pt x="19" y="156"/>
                        </a:lnTo>
                        <a:lnTo>
                          <a:pt x="9" y="156"/>
                        </a:lnTo>
                        <a:lnTo>
                          <a:pt x="0" y="156"/>
                        </a:lnTo>
                        <a:lnTo>
                          <a:pt x="0" y="166"/>
                        </a:lnTo>
                        <a:lnTo>
                          <a:pt x="9" y="156"/>
                        </a:lnTo>
                        <a:lnTo>
                          <a:pt x="29" y="156"/>
                        </a:lnTo>
                        <a:lnTo>
                          <a:pt x="38" y="156"/>
                        </a:lnTo>
                        <a:lnTo>
                          <a:pt x="48" y="146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97" y="9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26" y="4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lnTo>
                          <a:pt x="136" y="0"/>
                        </a:lnTo>
                        <a:lnTo>
                          <a:pt x="126" y="29"/>
                        </a:lnTo>
                        <a:lnTo>
                          <a:pt x="136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3703320" y="2245680"/>
                    <a:ext cx="540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37">
                        <a:moveTo>
                          <a:pt x="10" y="137"/>
                        </a:moveTo>
                        <a:lnTo>
                          <a:pt x="29" y="127"/>
                        </a:lnTo>
                        <a:lnTo>
                          <a:pt x="39" y="117"/>
                        </a:lnTo>
                        <a:lnTo>
                          <a:pt x="49" y="98"/>
                        </a:lnTo>
                        <a:lnTo>
                          <a:pt x="59" y="78"/>
                        </a:lnTo>
                        <a:lnTo>
                          <a:pt x="68" y="59"/>
                        </a:lnTo>
                        <a:lnTo>
                          <a:pt x="78" y="39"/>
                        </a:lnTo>
                        <a:lnTo>
                          <a:pt x="7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7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108"/>
                        </a:lnTo>
                        <a:lnTo>
                          <a:pt x="20" y="127"/>
                        </a:lnTo>
                        <a:lnTo>
                          <a:pt x="0" y="137"/>
                        </a:lnTo>
                        <a:lnTo>
                          <a:pt x="10" y="1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3439440" y="2257920"/>
                    <a:ext cx="425880" cy="4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1" h="730">
                        <a:moveTo>
                          <a:pt x="603" y="273"/>
                        </a:moveTo>
                        <a:lnTo>
                          <a:pt x="603" y="292"/>
                        </a:lnTo>
                        <a:lnTo>
                          <a:pt x="593" y="302"/>
                        </a:lnTo>
                        <a:lnTo>
                          <a:pt x="593" y="331"/>
                        </a:lnTo>
                        <a:lnTo>
                          <a:pt x="603" y="341"/>
                        </a:lnTo>
                        <a:lnTo>
                          <a:pt x="613" y="350"/>
                        </a:lnTo>
                        <a:lnTo>
                          <a:pt x="623" y="350"/>
                        </a:lnTo>
                        <a:lnTo>
                          <a:pt x="623" y="331"/>
                        </a:lnTo>
                        <a:lnTo>
                          <a:pt x="623" y="302"/>
                        </a:lnTo>
                        <a:lnTo>
                          <a:pt x="632" y="292"/>
                        </a:lnTo>
                        <a:lnTo>
                          <a:pt x="632" y="282"/>
                        </a:lnTo>
                        <a:lnTo>
                          <a:pt x="642" y="282"/>
                        </a:lnTo>
                        <a:lnTo>
                          <a:pt x="671" y="282"/>
                        </a:lnTo>
                        <a:lnTo>
                          <a:pt x="671" y="282"/>
                        </a:lnTo>
                        <a:lnTo>
                          <a:pt x="681" y="292"/>
                        </a:lnTo>
                        <a:lnTo>
                          <a:pt x="681" y="292"/>
                        </a:lnTo>
                        <a:lnTo>
                          <a:pt x="681" y="302"/>
                        </a:lnTo>
                        <a:lnTo>
                          <a:pt x="691" y="311"/>
                        </a:lnTo>
                        <a:lnTo>
                          <a:pt x="691" y="331"/>
                        </a:lnTo>
                        <a:lnTo>
                          <a:pt x="681" y="350"/>
                        </a:lnTo>
                        <a:lnTo>
                          <a:pt x="681" y="360"/>
                        </a:lnTo>
                        <a:lnTo>
                          <a:pt x="681" y="370"/>
                        </a:lnTo>
                        <a:lnTo>
                          <a:pt x="671" y="380"/>
                        </a:lnTo>
                        <a:lnTo>
                          <a:pt x="671" y="399"/>
                        </a:lnTo>
                        <a:lnTo>
                          <a:pt x="652" y="409"/>
                        </a:lnTo>
                        <a:lnTo>
                          <a:pt x="652" y="419"/>
                        </a:lnTo>
                        <a:lnTo>
                          <a:pt x="642" y="419"/>
                        </a:lnTo>
                        <a:lnTo>
                          <a:pt x="642" y="428"/>
                        </a:lnTo>
                        <a:lnTo>
                          <a:pt x="632" y="428"/>
                        </a:lnTo>
                        <a:lnTo>
                          <a:pt x="623" y="428"/>
                        </a:lnTo>
                        <a:lnTo>
                          <a:pt x="613" y="438"/>
                        </a:lnTo>
                        <a:lnTo>
                          <a:pt x="613" y="428"/>
                        </a:lnTo>
                        <a:lnTo>
                          <a:pt x="613" y="419"/>
                        </a:lnTo>
                        <a:lnTo>
                          <a:pt x="613" y="419"/>
                        </a:lnTo>
                        <a:lnTo>
                          <a:pt x="623" y="409"/>
                        </a:lnTo>
                        <a:lnTo>
                          <a:pt x="623" y="399"/>
                        </a:lnTo>
                        <a:lnTo>
                          <a:pt x="613" y="389"/>
                        </a:lnTo>
                        <a:lnTo>
                          <a:pt x="603" y="389"/>
                        </a:lnTo>
                        <a:lnTo>
                          <a:pt x="593" y="409"/>
                        </a:lnTo>
                        <a:lnTo>
                          <a:pt x="593" y="428"/>
                        </a:lnTo>
                        <a:lnTo>
                          <a:pt x="593" y="448"/>
                        </a:lnTo>
                        <a:lnTo>
                          <a:pt x="584" y="467"/>
                        </a:lnTo>
                        <a:lnTo>
                          <a:pt x="574" y="496"/>
                        </a:lnTo>
                        <a:lnTo>
                          <a:pt x="574" y="526"/>
                        </a:lnTo>
                        <a:lnTo>
                          <a:pt x="564" y="545"/>
                        </a:lnTo>
                        <a:lnTo>
                          <a:pt x="555" y="574"/>
                        </a:lnTo>
                        <a:lnTo>
                          <a:pt x="545" y="594"/>
                        </a:lnTo>
                        <a:lnTo>
                          <a:pt x="525" y="623"/>
                        </a:lnTo>
                        <a:lnTo>
                          <a:pt x="506" y="643"/>
                        </a:lnTo>
                        <a:lnTo>
                          <a:pt x="487" y="662"/>
                        </a:lnTo>
                        <a:lnTo>
                          <a:pt x="467" y="662"/>
                        </a:lnTo>
                        <a:lnTo>
                          <a:pt x="457" y="672"/>
                        </a:lnTo>
                        <a:lnTo>
                          <a:pt x="448" y="681"/>
                        </a:lnTo>
                        <a:lnTo>
                          <a:pt x="428" y="681"/>
                        </a:lnTo>
                        <a:lnTo>
                          <a:pt x="418" y="691"/>
                        </a:lnTo>
                        <a:lnTo>
                          <a:pt x="409" y="701"/>
                        </a:lnTo>
                        <a:lnTo>
                          <a:pt x="399" y="720"/>
                        </a:lnTo>
                        <a:lnTo>
                          <a:pt x="399" y="730"/>
                        </a:lnTo>
                        <a:lnTo>
                          <a:pt x="389" y="730"/>
                        </a:lnTo>
                        <a:lnTo>
                          <a:pt x="380" y="730"/>
                        </a:lnTo>
                        <a:lnTo>
                          <a:pt x="380" y="730"/>
                        </a:lnTo>
                        <a:lnTo>
                          <a:pt x="370" y="720"/>
                        </a:lnTo>
                        <a:lnTo>
                          <a:pt x="370" y="720"/>
                        </a:lnTo>
                        <a:lnTo>
                          <a:pt x="350" y="701"/>
                        </a:lnTo>
                        <a:lnTo>
                          <a:pt x="341" y="681"/>
                        </a:lnTo>
                        <a:lnTo>
                          <a:pt x="331" y="672"/>
                        </a:lnTo>
                        <a:lnTo>
                          <a:pt x="321" y="662"/>
                        </a:lnTo>
                        <a:lnTo>
                          <a:pt x="311" y="652"/>
                        </a:lnTo>
                        <a:lnTo>
                          <a:pt x="292" y="652"/>
                        </a:lnTo>
                        <a:lnTo>
                          <a:pt x="273" y="643"/>
                        </a:lnTo>
                        <a:lnTo>
                          <a:pt x="263" y="643"/>
                        </a:lnTo>
                        <a:lnTo>
                          <a:pt x="243" y="633"/>
                        </a:lnTo>
                        <a:lnTo>
                          <a:pt x="224" y="623"/>
                        </a:lnTo>
                        <a:lnTo>
                          <a:pt x="214" y="604"/>
                        </a:lnTo>
                        <a:lnTo>
                          <a:pt x="195" y="594"/>
                        </a:lnTo>
                        <a:lnTo>
                          <a:pt x="185" y="574"/>
                        </a:lnTo>
                        <a:lnTo>
                          <a:pt x="175" y="555"/>
                        </a:lnTo>
                        <a:lnTo>
                          <a:pt x="166" y="545"/>
                        </a:lnTo>
                        <a:lnTo>
                          <a:pt x="156" y="526"/>
                        </a:lnTo>
                        <a:lnTo>
                          <a:pt x="146" y="506"/>
                        </a:lnTo>
                        <a:lnTo>
                          <a:pt x="146" y="506"/>
                        </a:lnTo>
                        <a:lnTo>
                          <a:pt x="136" y="496"/>
                        </a:lnTo>
                        <a:lnTo>
                          <a:pt x="127" y="487"/>
                        </a:lnTo>
                        <a:lnTo>
                          <a:pt x="117" y="487"/>
                        </a:lnTo>
                        <a:lnTo>
                          <a:pt x="107" y="487"/>
                        </a:lnTo>
                        <a:lnTo>
                          <a:pt x="98" y="477"/>
                        </a:lnTo>
                        <a:lnTo>
                          <a:pt x="88" y="477"/>
                        </a:lnTo>
                        <a:lnTo>
                          <a:pt x="78" y="477"/>
                        </a:lnTo>
                        <a:lnTo>
                          <a:pt x="68" y="467"/>
                        </a:lnTo>
                        <a:lnTo>
                          <a:pt x="59" y="458"/>
                        </a:lnTo>
                        <a:lnTo>
                          <a:pt x="29" y="438"/>
                        </a:lnTo>
                        <a:lnTo>
                          <a:pt x="29" y="419"/>
                        </a:lnTo>
                        <a:lnTo>
                          <a:pt x="29" y="419"/>
                        </a:lnTo>
                        <a:lnTo>
                          <a:pt x="29" y="399"/>
                        </a:lnTo>
                        <a:lnTo>
                          <a:pt x="20" y="389"/>
                        </a:lnTo>
                        <a:lnTo>
                          <a:pt x="20" y="380"/>
                        </a:lnTo>
                        <a:lnTo>
                          <a:pt x="20" y="370"/>
                        </a:lnTo>
                        <a:lnTo>
                          <a:pt x="10" y="370"/>
                        </a:lnTo>
                        <a:lnTo>
                          <a:pt x="10" y="360"/>
                        </a:lnTo>
                        <a:lnTo>
                          <a:pt x="0" y="350"/>
                        </a:lnTo>
                        <a:lnTo>
                          <a:pt x="0" y="331"/>
                        </a:lnTo>
                        <a:lnTo>
                          <a:pt x="10" y="331"/>
                        </a:lnTo>
                        <a:lnTo>
                          <a:pt x="10" y="321"/>
                        </a:lnTo>
                        <a:lnTo>
                          <a:pt x="20" y="311"/>
                        </a:lnTo>
                        <a:lnTo>
                          <a:pt x="29" y="311"/>
                        </a:lnTo>
                        <a:lnTo>
                          <a:pt x="39" y="302"/>
                        </a:lnTo>
                        <a:lnTo>
                          <a:pt x="49" y="302"/>
                        </a:lnTo>
                        <a:lnTo>
                          <a:pt x="59" y="311"/>
                        </a:lnTo>
                        <a:lnTo>
                          <a:pt x="59" y="311"/>
                        </a:lnTo>
                        <a:lnTo>
                          <a:pt x="68" y="321"/>
                        </a:lnTo>
                        <a:lnTo>
                          <a:pt x="68" y="331"/>
                        </a:lnTo>
                        <a:lnTo>
                          <a:pt x="78" y="331"/>
                        </a:lnTo>
                        <a:lnTo>
                          <a:pt x="88" y="341"/>
                        </a:lnTo>
                        <a:lnTo>
                          <a:pt x="88" y="350"/>
                        </a:lnTo>
                        <a:lnTo>
                          <a:pt x="88" y="370"/>
                        </a:lnTo>
                        <a:lnTo>
                          <a:pt x="98" y="370"/>
                        </a:lnTo>
                        <a:lnTo>
                          <a:pt x="98" y="380"/>
                        </a:lnTo>
                        <a:lnTo>
                          <a:pt x="107" y="399"/>
                        </a:lnTo>
                        <a:lnTo>
                          <a:pt x="117" y="409"/>
                        </a:lnTo>
                        <a:lnTo>
                          <a:pt x="117" y="419"/>
                        </a:lnTo>
                        <a:lnTo>
                          <a:pt x="117" y="419"/>
                        </a:lnTo>
                        <a:lnTo>
                          <a:pt x="127" y="419"/>
                        </a:lnTo>
                        <a:lnTo>
                          <a:pt x="136" y="419"/>
                        </a:lnTo>
                        <a:lnTo>
                          <a:pt x="127" y="380"/>
                        </a:lnTo>
                        <a:lnTo>
                          <a:pt x="127" y="360"/>
                        </a:lnTo>
                        <a:lnTo>
                          <a:pt x="117" y="331"/>
                        </a:lnTo>
                        <a:lnTo>
                          <a:pt x="117" y="302"/>
                        </a:lnTo>
                        <a:lnTo>
                          <a:pt x="127" y="282"/>
                        </a:lnTo>
                        <a:lnTo>
                          <a:pt x="127" y="273"/>
                        </a:lnTo>
                        <a:lnTo>
                          <a:pt x="136" y="253"/>
                        </a:lnTo>
                        <a:lnTo>
                          <a:pt x="136" y="243"/>
                        </a:lnTo>
                        <a:lnTo>
                          <a:pt x="136" y="224"/>
                        </a:lnTo>
                        <a:lnTo>
                          <a:pt x="146" y="204"/>
                        </a:lnTo>
                        <a:lnTo>
                          <a:pt x="146" y="185"/>
                        </a:lnTo>
                        <a:lnTo>
                          <a:pt x="136" y="165"/>
                        </a:lnTo>
                        <a:lnTo>
                          <a:pt x="156" y="165"/>
                        </a:lnTo>
                        <a:lnTo>
                          <a:pt x="166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204" y="185"/>
                        </a:lnTo>
                        <a:lnTo>
                          <a:pt x="214" y="185"/>
                        </a:lnTo>
                        <a:lnTo>
                          <a:pt x="224" y="185"/>
                        </a:lnTo>
                        <a:lnTo>
                          <a:pt x="243" y="185"/>
                        </a:lnTo>
                        <a:lnTo>
                          <a:pt x="234" y="195"/>
                        </a:lnTo>
                        <a:lnTo>
                          <a:pt x="234" y="204"/>
                        </a:lnTo>
                        <a:lnTo>
                          <a:pt x="224" y="214"/>
                        </a:lnTo>
                        <a:lnTo>
                          <a:pt x="214" y="224"/>
                        </a:lnTo>
                        <a:lnTo>
                          <a:pt x="214" y="23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24" y="253"/>
                        </a:lnTo>
                        <a:lnTo>
                          <a:pt x="234" y="243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63" y="195"/>
                        </a:lnTo>
                        <a:lnTo>
                          <a:pt x="273" y="185"/>
                        </a:lnTo>
                        <a:lnTo>
                          <a:pt x="282" y="185"/>
                        </a:lnTo>
                        <a:lnTo>
                          <a:pt x="302" y="185"/>
                        </a:lnTo>
                        <a:lnTo>
                          <a:pt x="311" y="185"/>
                        </a:lnTo>
                        <a:lnTo>
                          <a:pt x="311" y="195"/>
                        </a:lnTo>
                        <a:lnTo>
                          <a:pt x="311" y="204"/>
                        </a:lnTo>
                        <a:lnTo>
                          <a:pt x="321" y="214"/>
                        </a:lnTo>
                        <a:lnTo>
                          <a:pt x="331" y="204"/>
                        </a:lnTo>
                        <a:lnTo>
                          <a:pt x="331" y="185"/>
                        </a:lnTo>
                        <a:lnTo>
                          <a:pt x="331" y="185"/>
                        </a:lnTo>
                        <a:lnTo>
                          <a:pt x="341" y="175"/>
                        </a:lnTo>
                        <a:lnTo>
                          <a:pt x="350" y="175"/>
                        </a:lnTo>
                        <a:lnTo>
                          <a:pt x="370" y="165"/>
                        </a:lnTo>
                        <a:lnTo>
                          <a:pt x="380" y="165"/>
                        </a:lnTo>
                        <a:lnTo>
                          <a:pt x="389" y="156"/>
                        </a:lnTo>
                        <a:lnTo>
                          <a:pt x="409" y="156"/>
                        </a:lnTo>
                        <a:lnTo>
                          <a:pt x="418" y="156"/>
                        </a:lnTo>
                        <a:lnTo>
                          <a:pt x="428" y="146"/>
                        </a:lnTo>
                        <a:lnTo>
                          <a:pt x="438" y="136"/>
                        </a:lnTo>
                        <a:lnTo>
                          <a:pt x="448" y="126"/>
                        </a:lnTo>
                        <a:lnTo>
                          <a:pt x="467" y="117"/>
                        </a:lnTo>
                        <a:lnTo>
                          <a:pt x="467" y="107"/>
                        </a:lnTo>
                        <a:lnTo>
                          <a:pt x="477" y="97"/>
                        </a:lnTo>
                        <a:lnTo>
                          <a:pt x="487" y="88"/>
                        </a:lnTo>
                        <a:lnTo>
                          <a:pt x="496" y="78"/>
                        </a:lnTo>
                        <a:lnTo>
                          <a:pt x="506" y="68"/>
                        </a:lnTo>
                        <a:lnTo>
                          <a:pt x="525" y="0"/>
                        </a:lnTo>
                        <a:lnTo>
                          <a:pt x="545" y="29"/>
                        </a:lnTo>
                        <a:lnTo>
                          <a:pt x="564" y="58"/>
                        </a:lnTo>
                        <a:lnTo>
                          <a:pt x="574" y="97"/>
                        </a:lnTo>
                        <a:lnTo>
                          <a:pt x="584" y="126"/>
                        </a:lnTo>
                        <a:lnTo>
                          <a:pt x="593" y="156"/>
                        </a:lnTo>
                        <a:lnTo>
                          <a:pt x="593" y="195"/>
                        </a:lnTo>
                        <a:lnTo>
                          <a:pt x="593" y="234"/>
                        </a:lnTo>
                        <a:lnTo>
                          <a:pt x="603" y="273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3805200" y="2426760"/>
                    <a:ext cx="122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87">
                        <a:moveTo>
                          <a:pt x="10" y="77"/>
                        </a:moveTo>
                        <a:lnTo>
                          <a:pt x="2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3811320" y="243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4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3835440" y="242676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49" y="38"/>
                        </a:move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38"/>
                        </a:lnTo>
                        <a:lnTo>
                          <a:pt x="49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3841560" y="2450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19" y="88"/>
                        </a:lnTo>
                        <a:lnTo>
                          <a:pt x="29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3817440" y="250452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9">
                        <a:moveTo>
                          <a:pt x="0" y="3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3811320" y="2493000"/>
                    <a:ext cx="122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8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3799440" y="249300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9" y="87"/>
                        </a:moveTo>
                        <a:lnTo>
                          <a:pt x="9" y="6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29"/>
                        </a:lnTo>
                        <a:lnTo>
                          <a:pt x="9" y="48"/>
                        </a:lnTo>
                        <a:lnTo>
                          <a:pt x="9" y="68"/>
                        </a:lnTo>
                        <a:lnTo>
                          <a:pt x="0" y="87"/>
                        </a:lnTo>
                        <a:lnTo>
                          <a:pt x="9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3733560" y="2546640"/>
                    <a:ext cx="7128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95">
                        <a:moveTo>
                          <a:pt x="10" y="195"/>
                        </a:moveTo>
                        <a:lnTo>
                          <a:pt x="10" y="195"/>
                        </a:lnTo>
                        <a:lnTo>
                          <a:pt x="29" y="176"/>
                        </a:lnTo>
                        <a:lnTo>
                          <a:pt x="48" y="156"/>
                        </a:lnTo>
                        <a:lnTo>
                          <a:pt x="68" y="137"/>
                        </a:lnTo>
                        <a:lnTo>
                          <a:pt x="78" y="107"/>
                        </a:lnTo>
                        <a:lnTo>
                          <a:pt x="87" y="78"/>
                        </a:lnTo>
                        <a:lnTo>
                          <a:pt x="97" y="59"/>
                        </a:lnTo>
                        <a:lnTo>
                          <a:pt x="107" y="29"/>
                        </a:lnTo>
                        <a:lnTo>
                          <a:pt x="116" y="0"/>
                        </a:lnTo>
                        <a:lnTo>
                          <a:pt x="107" y="0"/>
                        </a:lnTo>
                        <a:lnTo>
                          <a:pt x="97" y="29"/>
                        </a:lnTo>
                        <a:lnTo>
                          <a:pt x="87" y="49"/>
                        </a:lnTo>
                        <a:lnTo>
                          <a:pt x="78" y="78"/>
                        </a:lnTo>
                        <a:lnTo>
                          <a:pt x="68" y="107"/>
                        </a:lnTo>
                        <a:lnTo>
                          <a:pt x="58" y="127"/>
                        </a:lnTo>
                        <a:lnTo>
                          <a:pt x="48" y="146"/>
                        </a:lnTo>
                        <a:lnTo>
                          <a:pt x="29" y="166"/>
                        </a:lnTo>
                        <a:lnTo>
                          <a:pt x="0" y="185"/>
                        </a:lnTo>
                        <a:lnTo>
                          <a:pt x="10" y="1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3679200" y="2661120"/>
                    <a:ext cx="601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20" y="68"/>
                        </a:lnTo>
                        <a:lnTo>
                          <a:pt x="20" y="5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88" y="0"/>
                        </a:lnTo>
                        <a:lnTo>
                          <a:pt x="78" y="10"/>
                        </a:lnTo>
                        <a:lnTo>
                          <a:pt x="68" y="20"/>
                        </a:lnTo>
                        <a:lnTo>
                          <a:pt x="59" y="2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20" y="49"/>
                        </a:lnTo>
                        <a:lnTo>
                          <a:pt x="10" y="59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3655080" y="26913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3589200" y="2649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30" y="19"/>
                        </a:lnTo>
                        <a:lnTo>
                          <a:pt x="49" y="19"/>
                        </a:lnTo>
                        <a:lnTo>
                          <a:pt x="59" y="29"/>
                        </a:lnTo>
                        <a:lnTo>
                          <a:pt x="78" y="39"/>
                        </a:lnTo>
                        <a:lnTo>
                          <a:pt x="88" y="48"/>
                        </a:lnTo>
                        <a:lnTo>
                          <a:pt x="98" y="5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07" y="48"/>
                        </a:lnTo>
                        <a:lnTo>
                          <a:pt x="98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4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3529440" y="2564640"/>
                    <a:ext cx="5940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37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69"/>
                        </a:lnTo>
                        <a:lnTo>
                          <a:pt x="39" y="88"/>
                        </a:lnTo>
                        <a:lnTo>
                          <a:pt x="49" y="98"/>
                        </a:lnTo>
                        <a:lnTo>
                          <a:pt x="58" y="117"/>
                        </a:lnTo>
                        <a:lnTo>
                          <a:pt x="78" y="127"/>
                        </a:lnTo>
                        <a:lnTo>
                          <a:pt x="97" y="137"/>
                        </a:lnTo>
                        <a:lnTo>
                          <a:pt x="97" y="137"/>
                        </a:lnTo>
                        <a:lnTo>
                          <a:pt x="88" y="127"/>
                        </a:lnTo>
                        <a:lnTo>
                          <a:pt x="68" y="108"/>
                        </a:lnTo>
                        <a:lnTo>
                          <a:pt x="58" y="9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3523320" y="2564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3487680" y="254664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3451680" y="250452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48" y="68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3439440" y="2462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58"/>
                        </a:lnTo>
                        <a:lnTo>
                          <a:pt x="20" y="68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3439440" y="2444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3463560" y="24447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2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3487680" y="2468880"/>
                    <a:ext cx="2988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7">
                        <a:moveTo>
                          <a:pt x="49" y="78"/>
                        </a:move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48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39" y="78"/>
                        </a:lnTo>
                        <a:lnTo>
                          <a:pt x="39" y="87"/>
                        </a:lnTo>
                        <a:lnTo>
                          <a:pt x="49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3511800" y="2511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3511800" y="244476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0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87"/>
                        </a:lnTo>
                        <a:lnTo>
                          <a:pt x="19" y="117"/>
                        </a:lnTo>
                        <a:lnTo>
                          <a:pt x="19" y="117"/>
                        </a:lnTo>
                        <a:lnTo>
                          <a:pt x="19" y="7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3511800" y="2354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97"/>
                        </a:lnTo>
                        <a:lnTo>
                          <a:pt x="10" y="117"/>
                        </a:lnTo>
                        <a:lnTo>
                          <a:pt x="0" y="126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10" y="12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29" y="87"/>
                        </a:lnTo>
                        <a:lnTo>
                          <a:pt x="29" y="68"/>
                        </a:lnTo>
                        <a:lnTo>
                          <a:pt x="29" y="48"/>
                        </a:lnTo>
                        <a:lnTo>
                          <a:pt x="29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3523320" y="2354400"/>
                    <a:ext cx="65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107" y="29"/>
                        </a:move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3565080" y="2372400"/>
                    <a:ext cx="23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3565080" y="2366280"/>
                    <a:ext cx="604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98">
                        <a:moveTo>
                          <a:pt x="98" y="0"/>
                        </a:moveTo>
                        <a:lnTo>
                          <a:pt x="78" y="0"/>
                        </a:lnTo>
                        <a:lnTo>
                          <a:pt x="59" y="10"/>
                        </a:lnTo>
                        <a:lnTo>
                          <a:pt x="39" y="29"/>
                        </a:lnTo>
                        <a:lnTo>
                          <a:pt x="30" y="49"/>
                        </a:lnTo>
                        <a:lnTo>
                          <a:pt x="20" y="6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20" y="78"/>
                        </a:lnTo>
                        <a:lnTo>
                          <a:pt x="30" y="6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98" y="10"/>
                        </a:lnTo>
                        <a:lnTo>
                          <a:pt x="98" y="1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3625560" y="236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19" y="29"/>
                        </a:move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3637440" y="236628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3643560" y="2300040"/>
                    <a:ext cx="107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17">
                        <a:moveTo>
                          <a:pt x="165" y="0"/>
                        </a:moveTo>
                        <a:lnTo>
                          <a:pt x="165" y="10"/>
                        </a:lnTo>
                        <a:lnTo>
                          <a:pt x="156" y="20"/>
                        </a:lnTo>
                        <a:lnTo>
                          <a:pt x="146" y="29"/>
                        </a:lnTo>
                        <a:lnTo>
                          <a:pt x="117" y="58"/>
                        </a:lnTo>
                        <a:lnTo>
                          <a:pt x="107" y="68"/>
                        </a:lnTo>
                        <a:lnTo>
                          <a:pt x="97" y="68"/>
                        </a:lnTo>
                        <a:lnTo>
                          <a:pt x="87" y="78"/>
                        </a:lnTo>
                        <a:lnTo>
                          <a:pt x="78" y="8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97"/>
                        </a:lnTo>
                        <a:lnTo>
                          <a:pt x="19" y="9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9" y="107"/>
                        </a:lnTo>
                        <a:lnTo>
                          <a:pt x="39" y="107"/>
                        </a:lnTo>
                        <a:lnTo>
                          <a:pt x="49" y="97"/>
                        </a:lnTo>
                        <a:lnTo>
                          <a:pt x="58" y="97"/>
                        </a:lnTo>
                        <a:lnTo>
                          <a:pt x="78" y="88"/>
                        </a:lnTo>
                        <a:lnTo>
                          <a:pt x="87" y="88"/>
                        </a:lnTo>
                        <a:lnTo>
                          <a:pt x="97" y="78"/>
                        </a:lnTo>
                        <a:lnTo>
                          <a:pt x="107" y="68"/>
                        </a:lnTo>
                        <a:lnTo>
                          <a:pt x="126" y="68"/>
                        </a:lnTo>
                        <a:lnTo>
                          <a:pt x="136" y="49"/>
                        </a:lnTo>
                        <a:lnTo>
                          <a:pt x="146" y="39"/>
                        </a:lnTo>
                        <a:lnTo>
                          <a:pt x="156" y="39"/>
                        </a:lnTo>
                        <a:lnTo>
                          <a:pt x="165" y="20"/>
                        </a:lnTo>
                        <a:lnTo>
                          <a:pt x="175" y="10"/>
                        </a:lnTo>
                        <a:lnTo>
                          <a:pt x="175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3745440" y="225180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29" y="10"/>
                        </a:moveTo>
                        <a:lnTo>
                          <a:pt x="29" y="10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3763080" y="2257920"/>
                    <a:ext cx="4788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73">
                        <a:moveTo>
                          <a:pt x="78" y="273"/>
                        </a:moveTo>
                        <a:lnTo>
                          <a:pt x="78" y="234"/>
                        </a:lnTo>
                        <a:lnTo>
                          <a:pt x="68" y="195"/>
                        </a:lnTo>
                        <a:lnTo>
                          <a:pt x="68" y="156"/>
                        </a:lnTo>
                        <a:lnTo>
                          <a:pt x="68" y="126"/>
                        </a:lnTo>
                        <a:lnTo>
                          <a:pt x="59" y="88"/>
                        </a:lnTo>
                        <a:lnTo>
                          <a:pt x="39" y="58"/>
                        </a:lnTo>
                        <a:lnTo>
                          <a:pt x="30" y="2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29"/>
                        </a:lnTo>
                        <a:lnTo>
                          <a:pt x="30" y="68"/>
                        </a:lnTo>
                        <a:lnTo>
                          <a:pt x="49" y="97"/>
                        </a:lnTo>
                        <a:lnTo>
                          <a:pt x="59" y="126"/>
                        </a:lnTo>
                        <a:lnTo>
                          <a:pt x="59" y="165"/>
                        </a:lnTo>
                        <a:lnTo>
                          <a:pt x="68" y="195"/>
                        </a:lnTo>
                        <a:lnTo>
                          <a:pt x="68" y="234"/>
                        </a:lnTo>
                        <a:lnTo>
                          <a:pt x="68" y="273"/>
                        </a:lnTo>
                        <a:lnTo>
                          <a:pt x="78" y="2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5160240" y="2264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19"/>
                        </a:moveTo>
                        <a:lnTo>
                          <a:pt x="78" y="29"/>
                        </a:lnTo>
                        <a:lnTo>
                          <a:pt x="78" y="4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49" y="78"/>
                        </a:lnTo>
                        <a:lnTo>
                          <a:pt x="49" y="87"/>
                        </a:lnTo>
                        <a:lnTo>
                          <a:pt x="49" y="97"/>
                        </a:lnTo>
                        <a:lnTo>
                          <a:pt x="69" y="107"/>
                        </a:lnTo>
                        <a:lnTo>
                          <a:pt x="69" y="107"/>
                        </a:lnTo>
                        <a:lnTo>
                          <a:pt x="59" y="10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69" y="29"/>
                        </a:lnTo>
                        <a:lnTo>
                          <a:pt x="69" y="29"/>
                        </a:lnTo>
                        <a:lnTo>
                          <a:pt x="59" y="19"/>
                        </a:lnTo>
                        <a:lnTo>
                          <a:pt x="49" y="1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0"/>
                        </a:lnTo>
                        <a:lnTo>
                          <a:pt x="49" y="0"/>
                        </a:lnTo>
                        <a:lnTo>
                          <a:pt x="59" y="9"/>
                        </a:lnTo>
                        <a:lnTo>
                          <a:pt x="69" y="9"/>
                        </a:lnTo>
                        <a:lnTo>
                          <a:pt x="78" y="9"/>
                        </a:lnTo>
                        <a:lnTo>
                          <a:pt x="78" y="9"/>
                        </a:lnTo>
                        <a:lnTo>
                          <a:pt x="7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5184000" y="2275920"/>
                    <a:ext cx="2988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39" y="88"/>
                        </a:moveTo>
                        <a:lnTo>
                          <a:pt x="30" y="78"/>
                        </a:lnTo>
                        <a:lnTo>
                          <a:pt x="20" y="78"/>
                        </a:lnTo>
                        <a:lnTo>
                          <a:pt x="1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30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lnTo>
                          <a:pt x="30" y="78"/>
                        </a:lnTo>
                        <a:lnTo>
                          <a:pt x="3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>
                    <a:off x="5190120" y="232416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5178600" y="23000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19" y="49"/>
                        </a:lnTo>
                        <a:lnTo>
                          <a:pt x="19" y="58"/>
                        </a:lnTo>
                        <a:lnTo>
                          <a:pt x="29" y="4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5184000" y="22759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0" y="10"/>
                        </a:moveTo>
                        <a:lnTo>
                          <a:pt x="30" y="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5160240" y="22698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59" y="20"/>
                        </a:lnTo>
                        <a:lnTo>
                          <a:pt x="69" y="20"/>
                        </a:lnTo>
                        <a:lnTo>
                          <a:pt x="78" y="10"/>
                        </a:lnTo>
                        <a:lnTo>
                          <a:pt x="69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5160240" y="226440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3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5178600" y="226440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58" y="19"/>
                        </a:move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5022720" y="2288520"/>
                    <a:ext cx="658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58">
                        <a:moveTo>
                          <a:pt x="107" y="19"/>
                        </a:moveTo>
                        <a:lnTo>
                          <a:pt x="107" y="29"/>
                        </a:lnTo>
                        <a:lnTo>
                          <a:pt x="107" y="39"/>
                        </a:lnTo>
                        <a:lnTo>
                          <a:pt x="107" y="5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58"/>
                        </a:lnTo>
                        <a:lnTo>
                          <a:pt x="87" y="39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8" y="19"/>
                        </a:lnTo>
                        <a:lnTo>
                          <a:pt x="39" y="19"/>
                        </a:lnTo>
                        <a:lnTo>
                          <a:pt x="9" y="48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97" y="9"/>
                        </a:lnTo>
                        <a:lnTo>
                          <a:pt x="107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5082480" y="230004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49"/>
                        </a:move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>
                    <a:off x="5046840" y="2300040"/>
                    <a:ext cx="41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9">
                        <a:moveTo>
                          <a:pt x="0" y="10"/>
                        </a:move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58" y="39"/>
                        </a:lnTo>
                        <a:lnTo>
                          <a:pt x="68" y="49"/>
                        </a:lnTo>
                        <a:lnTo>
                          <a:pt x="68" y="3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>
                    <a:off x="5022720" y="23000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39"/>
                        </a:moveTo>
                        <a:lnTo>
                          <a:pt x="9" y="39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>
                    <a:off x="5022720" y="2300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9" y="0"/>
                        </a:move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5028120" y="2282040"/>
                    <a:ext cx="60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39">
                        <a:moveTo>
                          <a:pt x="98" y="29"/>
                        </a:moveTo>
                        <a:lnTo>
                          <a:pt x="88" y="19"/>
                        </a:lnTo>
                        <a:lnTo>
                          <a:pt x="78" y="10"/>
                        </a:lnTo>
                        <a:lnTo>
                          <a:pt x="69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69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9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>
                    <a:off x="4914720" y="2318040"/>
                    <a:ext cx="5400" cy="360"/>
                  </a:xfrm>
                  <a:prstGeom prst="rect">
                    <a:avLst/>
                  </a:prstGeom>
                  <a:solidFill>
                    <a:srgbClr val="8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4914720" y="231804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4914720" y="231228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3727440" y="2336040"/>
                    <a:ext cx="59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59">
                        <a:moveTo>
                          <a:pt x="97" y="39"/>
                        </a:moveTo>
                        <a:lnTo>
                          <a:pt x="97" y="49"/>
                        </a:lnTo>
                        <a:lnTo>
                          <a:pt x="8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78" y="3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58" y="20"/>
                        </a:lnTo>
                        <a:lnTo>
                          <a:pt x="49" y="2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0" y="59"/>
                        </a:ln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20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97" y="30"/>
                        </a:lnTo>
                        <a:lnTo>
                          <a:pt x="97" y="39"/>
                        </a:lnTo>
                        <a:lnTo>
                          <a:pt x="97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3781440" y="236016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>
                    <a:off x="3763080" y="23421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3727440" y="2342160"/>
                    <a:ext cx="35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9">
                        <a:moveTo>
                          <a:pt x="0" y="49"/>
                        </a:moveTo>
                        <a:lnTo>
                          <a:pt x="10" y="4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3727440" y="234828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0" y="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3739680" y="2330280"/>
                    <a:ext cx="4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9">
                        <a:moveTo>
                          <a:pt x="68" y="9"/>
                        </a:moveTo>
                        <a:lnTo>
                          <a:pt x="58" y="9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3775320" y="23360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5022720" y="2360160"/>
                    <a:ext cx="53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85">
                        <a:moveTo>
                          <a:pt x="87" y="30"/>
                        </a:moveTo>
                        <a:lnTo>
                          <a:pt x="87" y="39"/>
                        </a:lnTo>
                        <a:lnTo>
                          <a:pt x="78" y="49"/>
                        </a:lnTo>
                        <a:lnTo>
                          <a:pt x="78" y="69"/>
                        </a:lnTo>
                        <a:lnTo>
                          <a:pt x="78" y="108"/>
                        </a:lnTo>
                        <a:lnTo>
                          <a:pt x="68" y="117"/>
                        </a:lnTo>
                        <a:lnTo>
                          <a:pt x="68" y="137"/>
                        </a:lnTo>
                        <a:lnTo>
                          <a:pt x="58" y="156"/>
                        </a:lnTo>
                        <a:lnTo>
                          <a:pt x="58" y="176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78"/>
                        </a:lnTo>
                        <a:lnTo>
                          <a:pt x="29" y="4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9" y="30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87" y="20"/>
                        </a:lnTo>
                        <a:lnTo>
                          <a:pt x="87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5076360" y="23785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5070600" y="238428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5046840" y="2390400"/>
                    <a:ext cx="2952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0" y="146"/>
                        </a:moveTo>
                        <a:lnTo>
                          <a:pt x="9" y="146"/>
                        </a:lnTo>
                        <a:lnTo>
                          <a:pt x="19" y="127"/>
                        </a:lnTo>
                        <a:lnTo>
                          <a:pt x="29" y="11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3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20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19" y="88"/>
                        </a:lnTo>
                        <a:lnTo>
                          <a:pt x="19" y="107"/>
                        </a:lnTo>
                        <a:lnTo>
                          <a:pt x="9" y="117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5034240" y="245016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5028120" y="2372400"/>
                    <a:ext cx="183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36">
                        <a:moveTo>
                          <a:pt x="30" y="10"/>
                        </a:moveTo>
                        <a:lnTo>
                          <a:pt x="20" y="0"/>
                        </a:lnTo>
                        <a:lnTo>
                          <a:pt x="10" y="29"/>
                        </a:lnTo>
                        <a:lnTo>
                          <a:pt x="10" y="58"/>
                        </a:lnTo>
                        <a:lnTo>
                          <a:pt x="0" y="97"/>
                        </a:lnTo>
                        <a:lnTo>
                          <a:pt x="10" y="136"/>
                        </a:lnTo>
                        <a:lnTo>
                          <a:pt x="20" y="126"/>
                        </a:lnTo>
                        <a:lnTo>
                          <a:pt x="20" y="5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5022720" y="2372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5022720" y="236016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5040360" y="236016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58" y="30"/>
                        </a:moveTo>
                        <a:lnTo>
                          <a:pt x="58" y="3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58" y="30"/>
                        </a:lnTo>
                        <a:lnTo>
                          <a:pt x="58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4896720" y="2366280"/>
                    <a:ext cx="475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56">
                        <a:moveTo>
                          <a:pt x="77" y="29"/>
                        </a:move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68" y="49"/>
                        </a:lnTo>
                        <a:lnTo>
                          <a:pt x="58" y="146"/>
                        </a:lnTo>
                        <a:lnTo>
                          <a:pt x="48" y="156"/>
                        </a:lnTo>
                        <a:lnTo>
                          <a:pt x="38" y="136"/>
                        </a:lnTo>
                        <a:lnTo>
                          <a:pt x="29" y="117"/>
                        </a:lnTo>
                        <a:lnTo>
                          <a:pt x="29" y="107"/>
                        </a:lnTo>
                        <a:lnTo>
                          <a:pt x="19" y="88"/>
                        </a:lnTo>
                        <a:lnTo>
                          <a:pt x="19" y="3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3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7" y="29"/>
                        </a:lnTo>
                        <a:lnTo>
                          <a:pt x="77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4938840" y="2384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0" y="2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4926600" y="23965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97"/>
                        </a:moveTo>
                        <a:lnTo>
                          <a:pt x="20" y="97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10" y="97"/>
                        </a:lnTo>
                        <a:lnTo>
                          <a:pt x="20" y="97"/>
                        </a:lnTo>
                        <a:lnTo>
                          <a:pt x="2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4920480" y="24501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>
                    <a:off x="4908600" y="2378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87"/>
                        </a:lnTo>
                        <a:lnTo>
                          <a:pt x="10" y="107"/>
                        </a:lnTo>
                        <a:lnTo>
                          <a:pt x="10" y="116"/>
                        </a:lnTo>
                        <a:lnTo>
                          <a:pt x="29" y="136"/>
                        </a:lnTo>
                        <a:lnTo>
                          <a:pt x="29" y="126"/>
                        </a:lnTo>
                        <a:lnTo>
                          <a:pt x="19" y="116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4890600" y="23785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0" y="19"/>
                        </a:moveTo>
                        <a:lnTo>
                          <a:pt x="10" y="2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4890600" y="2360160"/>
                    <a:ext cx="29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4920480" y="236016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30" y="20"/>
                        </a:lnTo>
                        <a:lnTo>
                          <a:pt x="30" y="30"/>
                        </a:lnTo>
                        <a:lnTo>
                          <a:pt x="30" y="30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504684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19"/>
                        </a:moveTo>
                        <a:lnTo>
                          <a:pt x="29" y="39"/>
                        </a:lnTo>
                        <a:lnTo>
                          <a:pt x="19" y="58"/>
                        </a:lnTo>
                        <a:lnTo>
                          <a:pt x="19" y="88"/>
                        </a:lnTo>
                        <a:lnTo>
                          <a:pt x="19" y="97"/>
                        </a:lnTo>
                        <a:lnTo>
                          <a:pt x="9" y="117"/>
                        </a:lnTo>
                        <a:lnTo>
                          <a:pt x="9" y="126"/>
                        </a:lnTo>
                        <a:lnTo>
                          <a:pt x="9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5046840" y="2384280"/>
                    <a:ext cx="1764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7">
                        <a:moveTo>
                          <a:pt x="0" y="127"/>
                        </a:moveTo>
                        <a:lnTo>
                          <a:pt x="9" y="127"/>
                        </a:lnTo>
                        <a:lnTo>
                          <a:pt x="9" y="107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29" y="69"/>
                        </a:lnTo>
                        <a:lnTo>
                          <a:pt x="29" y="39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69"/>
                        </a:lnTo>
                        <a:lnTo>
                          <a:pt x="9" y="78"/>
                        </a:lnTo>
                        <a:lnTo>
                          <a:pt x="9" y="98"/>
                        </a:lnTo>
                        <a:lnTo>
                          <a:pt x="0" y="107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lnTo>
                          <a:pt x="9" y="137"/>
                        </a:lnTo>
                        <a:lnTo>
                          <a:pt x="9" y="127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5040360" y="2372400"/>
                    <a:ext cx="176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46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19" y="146"/>
                        </a:lnTo>
                        <a:lnTo>
                          <a:pt x="10" y="126"/>
                        </a:lnTo>
                        <a:lnTo>
                          <a:pt x="10" y="10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5052240" y="237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4920480" y="2378520"/>
                    <a:ext cx="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7">
                        <a:moveTo>
                          <a:pt x="10" y="107"/>
                        </a:moveTo>
                        <a:lnTo>
                          <a:pt x="0" y="78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>
                    <a:off x="4914720" y="236628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10"/>
                        </a:moveTo>
                        <a:lnTo>
                          <a:pt x="9" y="20"/>
                        </a:lnTo>
                        <a:lnTo>
                          <a:pt x="0" y="39"/>
                        </a:lnTo>
                        <a:lnTo>
                          <a:pt x="0" y="68"/>
                        </a:lnTo>
                        <a:lnTo>
                          <a:pt x="0" y="98"/>
                        </a:lnTo>
                        <a:lnTo>
                          <a:pt x="9" y="127"/>
                        </a:lnTo>
                        <a:lnTo>
                          <a:pt x="19" y="117"/>
                        </a:lnTo>
                        <a:lnTo>
                          <a:pt x="9" y="98"/>
                        </a:lnTo>
                        <a:lnTo>
                          <a:pt x="9" y="39"/>
                        </a:lnTo>
                        <a:lnTo>
                          <a:pt x="1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4920480" y="2372400"/>
                    <a:ext cx="122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6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20" y="58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9"/>
                        </a:lnTo>
                        <a:lnTo>
                          <a:pt x="10" y="88"/>
                        </a:lnTo>
                        <a:lnTo>
                          <a:pt x="0" y="117"/>
                        </a:lnTo>
                        <a:lnTo>
                          <a:pt x="10" y="107"/>
                        </a:lnTo>
                        <a:lnTo>
                          <a:pt x="0" y="117"/>
                        </a:lnTo>
                        <a:lnTo>
                          <a:pt x="10" y="136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3727440" y="2396520"/>
                    <a:ext cx="6588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46">
                        <a:moveTo>
                          <a:pt x="88" y="58"/>
                        </a:moveTo>
                        <a:lnTo>
                          <a:pt x="107" y="68"/>
                        </a:lnTo>
                        <a:lnTo>
                          <a:pt x="107" y="78"/>
                        </a:lnTo>
                        <a:lnTo>
                          <a:pt x="107" y="78"/>
                        </a:lnTo>
                        <a:lnTo>
                          <a:pt x="97" y="78"/>
                        </a:lnTo>
                        <a:lnTo>
                          <a:pt x="88" y="97"/>
                        </a:lnTo>
                        <a:lnTo>
                          <a:pt x="88" y="97"/>
                        </a:lnTo>
                        <a:lnTo>
                          <a:pt x="78" y="97"/>
                        </a:lnTo>
                        <a:lnTo>
                          <a:pt x="78" y="87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68" y="58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29"/>
                        </a:lnTo>
                        <a:lnTo>
                          <a:pt x="49" y="29"/>
                        </a:lnTo>
                        <a:lnTo>
                          <a:pt x="49" y="1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58"/>
                        </a:lnTo>
                        <a:lnTo>
                          <a:pt x="49" y="87"/>
                        </a:lnTo>
                        <a:lnTo>
                          <a:pt x="49" y="117"/>
                        </a:lnTo>
                        <a:lnTo>
                          <a:pt x="39" y="146"/>
                        </a:lnTo>
                        <a:lnTo>
                          <a:pt x="29" y="146"/>
                        </a:lnTo>
                        <a:lnTo>
                          <a:pt x="20" y="117"/>
                        </a:lnTo>
                        <a:lnTo>
                          <a:pt x="20" y="4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lnTo>
                          <a:pt x="88" y="4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>
                    <a:off x="3781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3781440" y="243864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39"/>
                        </a:move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3775320" y="245016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>
                    <a:off x="3757680" y="240840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39" y="78"/>
                        </a:lnTo>
                        <a:lnTo>
                          <a:pt x="39" y="59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3751560" y="2408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3751560" y="2414520"/>
                    <a:ext cx="11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17">
                        <a:moveTo>
                          <a:pt x="0" y="117"/>
                        </a:moveTo>
                        <a:lnTo>
                          <a:pt x="10" y="117"/>
                        </a:lnTo>
                        <a:lnTo>
                          <a:pt x="10" y="88"/>
                        </a:lnTo>
                        <a:lnTo>
                          <a:pt x="19" y="58"/>
                        </a:lnTo>
                        <a:lnTo>
                          <a:pt x="10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58"/>
                        </a:lnTo>
                        <a:lnTo>
                          <a:pt x="0" y="8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3739680" y="248688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3733560" y="242676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9"/>
                        </a:moveTo>
                        <a:lnTo>
                          <a:pt x="0" y="0"/>
                        </a:lnTo>
                        <a:lnTo>
                          <a:pt x="0" y="68"/>
                        </a:lnTo>
                        <a:lnTo>
                          <a:pt x="10" y="97"/>
                        </a:lnTo>
                        <a:lnTo>
                          <a:pt x="19" y="97"/>
                        </a:ln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19" y="1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3721320" y="242676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3721320" y="239652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0" y="10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49" y="10"/>
                        </a:lnTo>
                        <a:lnTo>
                          <a:pt x="5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3751560" y="239040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20"/>
                        </a:move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3769200" y="240264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0" y="48"/>
                        </a:moveTo>
                        <a:lnTo>
                          <a:pt x="29" y="48"/>
                        </a:lnTo>
                        <a:lnTo>
                          <a:pt x="29" y="48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3565080" y="2408400"/>
                    <a:ext cx="7812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66">
                        <a:moveTo>
                          <a:pt x="117" y="59"/>
                        </a:moveTo>
                        <a:lnTo>
                          <a:pt x="117" y="59"/>
                        </a:lnTo>
                        <a:lnTo>
                          <a:pt x="107" y="59"/>
                        </a:lnTo>
                        <a:lnTo>
                          <a:pt x="107" y="59"/>
                        </a:lnTo>
                        <a:lnTo>
                          <a:pt x="107" y="107"/>
                        </a:lnTo>
                        <a:lnTo>
                          <a:pt x="98" y="137"/>
                        </a:lnTo>
                        <a:lnTo>
                          <a:pt x="98" y="166"/>
                        </a:lnTo>
                        <a:lnTo>
                          <a:pt x="98" y="166"/>
                        </a:lnTo>
                        <a:lnTo>
                          <a:pt x="78" y="166"/>
                        </a:lnTo>
                        <a:lnTo>
                          <a:pt x="78" y="156"/>
                        </a:lnTo>
                        <a:lnTo>
                          <a:pt x="78" y="137"/>
                        </a:lnTo>
                        <a:lnTo>
                          <a:pt x="69" y="117"/>
                        </a:lnTo>
                        <a:lnTo>
                          <a:pt x="69" y="88"/>
                        </a:lnTo>
                        <a:lnTo>
                          <a:pt x="78" y="68"/>
                        </a:lnTo>
                        <a:lnTo>
                          <a:pt x="78" y="49"/>
                        </a:lnTo>
                        <a:lnTo>
                          <a:pt x="88" y="39"/>
                        </a:lnTo>
                        <a:lnTo>
                          <a:pt x="88" y="39"/>
                        </a:lnTo>
                        <a:lnTo>
                          <a:pt x="98" y="39"/>
                        </a:lnTo>
                        <a:lnTo>
                          <a:pt x="98" y="39"/>
                        </a:lnTo>
                        <a:lnTo>
                          <a:pt x="88" y="39"/>
                        </a:lnTo>
                        <a:lnTo>
                          <a:pt x="78" y="39"/>
                        </a:lnTo>
                        <a:lnTo>
                          <a:pt x="59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39" y="107"/>
                        </a:lnTo>
                        <a:lnTo>
                          <a:pt x="30" y="117"/>
                        </a:lnTo>
                        <a:lnTo>
                          <a:pt x="30" y="127"/>
                        </a:lnTo>
                        <a:lnTo>
                          <a:pt x="20" y="127"/>
                        </a:lnTo>
                        <a:lnTo>
                          <a:pt x="20" y="137"/>
                        </a:lnTo>
                        <a:lnTo>
                          <a:pt x="10" y="127"/>
                        </a:lnTo>
                        <a:lnTo>
                          <a:pt x="10" y="137"/>
                        </a:lnTo>
                        <a:lnTo>
                          <a:pt x="10" y="12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20" y="88"/>
                        </a:lnTo>
                        <a:lnTo>
                          <a:pt x="30" y="78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78" y="10"/>
                        </a:ln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98" y="20"/>
                        </a:lnTo>
                        <a:lnTo>
                          <a:pt x="107" y="30"/>
                        </a:lnTo>
                        <a:lnTo>
                          <a:pt x="117" y="30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27" y="49"/>
                        </a:lnTo>
                        <a:lnTo>
                          <a:pt x="117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>
                    <a:off x="3625560" y="24321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>
                    <a:off x="3625560" y="244476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9" y="48"/>
                        </a:lnTo>
                        <a:lnTo>
                          <a:pt x="19" y="2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29"/>
                        </a:lnTo>
                        <a:lnTo>
                          <a:pt x="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>
                    <a:off x="3613320" y="250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3607920" y="2432160"/>
                    <a:ext cx="115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7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9" y="117"/>
                        </a:lnTo>
                        <a:lnTo>
                          <a:pt x="9" y="127"/>
                        </a:lnTo>
                        <a:lnTo>
                          <a:pt x="19" y="127"/>
                        </a:lnTo>
                        <a:lnTo>
                          <a:pt x="9" y="117"/>
                        </a:lnTo>
                        <a:lnTo>
                          <a:pt x="9" y="98"/>
                        </a:lnTo>
                        <a:lnTo>
                          <a:pt x="9" y="78"/>
                        </a:lnTo>
                        <a:lnTo>
                          <a:pt x="9" y="49"/>
                        </a:lnTo>
                        <a:lnTo>
                          <a:pt x="9" y="29"/>
                        </a:lnTo>
                        <a:lnTo>
                          <a:pt x="19" y="2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>
                    <a:off x="3619440" y="24321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>
                    <a:off x="3619440" y="24321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3619440" y="242676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3577680" y="2426760"/>
                    <a:ext cx="41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7">
                        <a:moveTo>
                          <a:pt x="10" y="97"/>
                        </a:moveTo>
                        <a:lnTo>
                          <a:pt x="19" y="87"/>
                        </a:lnTo>
                        <a:lnTo>
                          <a:pt x="19" y="77"/>
                        </a:lnTo>
                        <a:lnTo>
                          <a:pt x="29" y="58"/>
                        </a:lnTo>
                        <a:lnTo>
                          <a:pt x="29" y="48"/>
                        </a:lnTo>
                        <a:lnTo>
                          <a:pt x="39" y="38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10" y="68"/>
                        </a:lnTo>
                        <a:lnTo>
                          <a:pt x="10" y="8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3565080" y="2486880"/>
                    <a:ext cx="18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>
                    <a:off x="3559680" y="24627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>
                    <a:off x="3565080" y="246888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3571200" y="240840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78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lnTo>
                          <a:pt x="0" y="98"/>
                        </a:lnTo>
                        <a:lnTo>
                          <a:pt x="10" y="107"/>
                        </a:lnTo>
                        <a:lnTo>
                          <a:pt x="10" y="8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>
                    <a:off x="3619440" y="24084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29" y="68"/>
                        </a:move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>
                    <a:off x="5184000" y="2444760"/>
                    <a:ext cx="10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65">
                        <a:moveTo>
                          <a:pt x="175" y="58"/>
                        </a:moveTo>
                        <a:lnTo>
                          <a:pt x="175" y="117"/>
                        </a:lnTo>
                        <a:lnTo>
                          <a:pt x="166" y="136"/>
                        </a:lnTo>
                        <a:lnTo>
                          <a:pt x="166" y="156"/>
                        </a:lnTo>
                        <a:lnTo>
                          <a:pt x="146" y="156"/>
                        </a:lnTo>
                        <a:lnTo>
                          <a:pt x="136" y="156"/>
                        </a:lnTo>
                        <a:lnTo>
                          <a:pt x="127" y="156"/>
                        </a:lnTo>
                        <a:lnTo>
                          <a:pt x="117" y="146"/>
                        </a:lnTo>
                        <a:lnTo>
                          <a:pt x="98" y="146"/>
                        </a:lnTo>
                        <a:lnTo>
                          <a:pt x="88" y="14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68" y="126"/>
                        </a:lnTo>
                        <a:lnTo>
                          <a:pt x="78" y="117"/>
                        </a:lnTo>
                        <a:lnTo>
                          <a:pt x="78" y="97"/>
                        </a:lnTo>
                        <a:lnTo>
                          <a:pt x="88" y="78"/>
                        </a:lnTo>
                        <a:lnTo>
                          <a:pt x="88" y="68"/>
                        </a:lnTo>
                        <a:lnTo>
                          <a:pt x="98" y="48"/>
                        </a:lnTo>
                        <a:lnTo>
                          <a:pt x="98" y="29"/>
                        </a:lnTo>
                        <a:lnTo>
                          <a:pt x="107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88" y="9"/>
                        </a:lnTo>
                        <a:lnTo>
                          <a:pt x="88" y="29"/>
                        </a:lnTo>
                        <a:lnTo>
                          <a:pt x="78" y="48"/>
                        </a:lnTo>
                        <a:lnTo>
                          <a:pt x="68" y="68"/>
                        </a:lnTo>
                        <a:lnTo>
                          <a:pt x="68" y="87"/>
                        </a:lnTo>
                        <a:lnTo>
                          <a:pt x="59" y="107"/>
                        </a:lnTo>
                        <a:lnTo>
                          <a:pt x="49" y="117"/>
                        </a:lnTo>
                        <a:lnTo>
                          <a:pt x="49" y="146"/>
                        </a:lnTo>
                        <a:lnTo>
                          <a:pt x="39" y="156"/>
                        </a:lnTo>
                        <a:lnTo>
                          <a:pt x="39" y="165"/>
                        </a:lnTo>
                        <a:lnTo>
                          <a:pt x="30" y="165"/>
                        </a:lnTo>
                        <a:lnTo>
                          <a:pt x="20" y="156"/>
                        </a:lnTo>
                        <a:lnTo>
                          <a:pt x="10" y="156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36"/>
                        </a:lnTo>
                        <a:lnTo>
                          <a:pt x="0" y="87"/>
                        </a:lnTo>
                        <a:lnTo>
                          <a:pt x="0" y="68"/>
                        </a:lnTo>
                        <a:lnTo>
                          <a:pt x="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107" y="0"/>
                        </a:lnTo>
                        <a:lnTo>
                          <a:pt x="127" y="9"/>
                        </a:lnTo>
                        <a:lnTo>
                          <a:pt x="127" y="9"/>
                        </a:lnTo>
                        <a:lnTo>
                          <a:pt x="136" y="19"/>
                        </a:lnTo>
                        <a:lnTo>
                          <a:pt x="146" y="29"/>
                        </a:lnTo>
                        <a:lnTo>
                          <a:pt x="156" y="29"/>
                        </a:lnTo>
                        <a:lnTo>
                          <a:pt x="166" y="39"/>
                        </a:lnTo>
                        <a:lnTo>
                          <a:pt x="175" y="48"/>
                        </a:lnTo>
                        <a:lnTo>
                          <a:pt x="175" y="5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>
                    <a:off x="5280120" y="24804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10" y="107"/>
                        </a:moveTo>
                        <a:lnTo>
                          <a:pt x="10" y="107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29"/>
                        </a:lnTo>
                        <a:lnTo>
                          <a:pt x="10" y="59"/>
                        </a:lnTo>
                        <a:lnTo>
                          <a:pt x="10" y="78"/>
                        </a:lnTo>
                        <a:lnTo>
                          <a:pt x="0" y="98"/>
                        </a:lnTo>
                        <a:lnTo>
                          <a:pt x="10" y="98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>
                    <a:off x="5220360" y="252864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1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7" y="20"/>
                        </a:lnTo>
                        <a:lnTo>
                          <a:pt x="87" y="29"/>
                        </a:lnTo>
                        <a:lnTo>
                          <a:pt x="107" y="29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7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5220360" y="2450160"/>
                    <a:ext cx="295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37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39" y="20"/>
                        </a:lnTo>
                        <a:lnTo>
                          <a:pt x="29" y="39"/>
                        </a:lnTo>
                        <a:lnTo>
                          <a:pt x="29" y="59"/>
                        </a:lnTo>
                        <a:lnTo>
                          <a:pt x="19" y="69"/>
                        </a:lnTo>
                        <a:lnTo>
                          <a:pt x="19" y="88"/>
                        </a:lnTo>
                        <a:lnTo>
                          <a:pt x="9" y="108"/>
                        </a:lnTo>
                        <a:lnTo>
                          <a:pt x="9" y="117"/>
                        </a:lnTo>
                        <a:lnTo>
                          <a:pt x="0" y="137"/>
                        </a:lnTo>
                        <a:lnTo>
                          <a:pt x="9" y="137"/>
                        </a:lnTo>
                        <a:lnTo>
                          <a:pt x="19" y="117"/>
                        </a:lnTo>
                        <a:lnTo>
                          <a:pt x="19" y="108"/>
                        </a:lnTo>
                        <a:lnTo>
                          <a:pt x="29" y="88"/>
                        </a:lnTo>
                        <a:lnTo>
                          <a:pt x="29" y="69"/>
                        </a:lnTo>
                        <a:lnTo>
                          <a:pt x="29" y="59"/>
                        </a:lnTo>
                        <a:lnTo>
                          <a:pt x="39" y="39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>
                    <a:off x="5238360" y="244476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>
                    <a:off x="5208120" y="2450160"/>
                    <a:ext cx="3600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7"/>
                        </a:lnTo>
                        <a:lnTo>
                          <a:pt x="20" y="117"/>
                        </a:lnTo>
                        <a:lnTo>
                          <a:pt x="20" y="98"/>
                        </a:lnTo>
                        <a:lnTo>
                          <a:pt x="29" y="78"/>
                        </a:lnTo>
                        <a:lnTo>
                          <a:pt x="39" y="59"/>
                        </a:lnTo>
                        <a:lnTo>
                          <a:pt x="49" y="39"/>
                        </a:lnTo>
                        <a:lnTo>
                          <a:pt x="49" y="2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9" y="20"/>
                        </a:lnTo>
                        <a:lnTo>
                          <a:pt x="39" y="39"/>
                        </a:lnTo>
                        <a:lnTo>
                          <a:pt x="29" y="59"/>
                        </a:lnTo>
                        <a:lnTo>
                          <a:pt x="20" y="69"/>
                        </a:lnTo>
                        <a:lnTo>
                          <a:pt x="20" y="98"/>
                        </a:lnTo>
                        <a:lnTo>
                          <a:pt x="10" y="108"/>
                        </a:lnTo>
                        <a:lnTo>
                          <a:pt x="0" y="137"/>
                        </a:lnTo>
                        <a:lnTo>
                          <a:pt x="0" y="147"/>
                        </a:lnTo>
                        <a:lnTo>
                          <a:pt x="0" y="147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>
                    <a:off x="5178600" y="2522520"/>
                    <a:ext cx="29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30"/>
                        </a:lnTo>
                        <a:lnTo>
                          <a:pt x="19" y="30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48" y="30"/>
                        </a:lnTo>
                        <a:lnTo>
                          <a:pt x="48" y="30"/>
                        </a:lnTo>
                        <a:lnTo>
                          <a:pt x="39" y="30"/>
                        </a:lnTo>
                        <a:lnTo>
                          <a:pt x="2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>
                    <a:off x="5178600" y="2450160"/>
                    <a:ext cx="237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39" y="0"/>
                        </a:move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9" y="3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98"/>
                        </a:lnTo>
                        <a:lnTo>
                          <a:pt x="0" y="108"/>
                        </a:lnTo>
                        <a:lnTo>
                          <a:pt x="0" y="127"/>
                        </a:lnTo>
                        <a:lnTo>
                          <a:pt x="9" y="127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5202720" y="2444760"/>
                    <a:ext cx="8928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8">
                        <a:moveTo>
                          <a:pt x="145" y="58"/>
                        </a:moveTo>
                        <a:lnTo>
                          <a:pt x="145" y="48"/>
                        </a:lnTo>
                        <a:lnTo>
                          <a:pt x="136" y="39"/>
                        </a:lnTo>
                        <a:lnTo>
                          <a:pt x="136" y="2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97" y="19"/>
                        </a:lnTo>
                        <a:lnTo>
                          <a:pt x="106" y="1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36" y="39"/>
                        </a:lnTo>
                        <a:lnTo>
                          <a:pt x="136" y="48"/>
                        </a:lnTo>
                        <a:lnTo>
                          <a:pt x="145" y="58"/>
                        </a:lnTo>
                        <a:lnTo>
                          <a:pt x="145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3337920" y="2450160"/>
                    <a:ext cx="10764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73">
                        <a:moveTo>
                          <a:pt x="136" y="20"/>
                        </a:moveTo>
                        <a:lnTo>
                          <a:pt x="136" y="39"/>
                        </a:lnTo>
                        <a:lnTo>
                          <a:pt x="146" y="49"/>
                        </a:lnTo>
                        <a:lnTo>
                          <a:pt x="156" y="59"/>
                        </a:lnTo>
                        <a:lnTo>
                          <a:pt x="156" y="69"/>
                        </a:lnTo>
                        <a:lnTo>
                          <a:pt x="165" y="88"/>
                        </a:lnTo>
                        <a:lnTo>
                          <a:pt x="175" y="98"/>
                        </a:lnTo>
                        <a:lnTo>
                          <a:pt x="175" y="108"/>
                        </a:lnTo>
                        <a:lnTo>
                          <a:pt x="175" y="127"/>
                        </a:lnTo>
                        <a:lnTo>
                          <a:pt x="165" y="137"/>
                        </a:lnTo>
                        <a:lnTo>
                          <a:pt x="136" y="166"/>
                        </a:lnTo>
                        <a:lnTo>
                          <a:pt x="126" y="185"/>
                        </a:lnTo>
                        <a:lnTo>
                          <a:pt x="117" y="195"/>
                        </a:lnTo>
                        <a:lnTo>
                          <a:pt x="117" y="215"/>
                        </a:lnTo>
                        <a:lnTo>
                          <a:pt x="107" y="224"/>
                        </a:lnTo>
                        <a:lnTo>
                          <a:pt x="107" y="224"/>
                        </a:lnTo>
                        <a:lnTo>
                          <a:pt x="97" y="234"/>
                        </a:lnTo>
                        <a:lnTo>
                          <a:pt x="87" y="234"/>
                        </a:lnTo>
                        <a:lnTo>
                          <a:pt x="78" y="244"/>
                        </a:lnTo>
                        <a:lnTo>
                          <a:pt x="68" y="254"/>
                        </a:lnTo>
                        <a:lnTo>
                          <a:pt x="58" y="263"/>
                        </a:lnTo>
                        <a:lnTo>
                          <a:pt x="58" y="273"/>
                        </a:lnTo>
                        <a:lnTo>
                          <a:pt x="39" y="254"/>
                        </a:lnTo>
                        <a:lnTo>
                          <a:pt x="29" y="234"/>
                        </a:lnTo>
                        <a:lnTo>
                          <a:pt x="19" y="205"/>
                        </a:lnTo>
                        <a:lnTo>
                          <a:pt x="19" y="185"/>
                        </a:lnTo>
                        <a:lnTo>
                          <a:pt x="10" y="166"/>
                        </a:lnTo>
                        <a:lnTo>
                          <a:pt x="0" y="147"/>
                        </a:lnTo>
                        <a:lnTo>
                          <a:pt x="0" y="117"/>
                        </a:lnTo>
                        <a:lnTo>
                          <a:pt x="10" y="98"/>
                        </a:lnTo>
                        <a:lnTo>
                          <a:pt x="19" y="78"/>
                        </a:lnTo>
                        <a:lnTo>
                          <a:pt x="19" y="59"/>
                        </a:lnTo>
                        <a:lnTo>
                          <a:pt x="39" y="49"/>
                        </a:lnTo>
                        <a:lnTo>
                          <a:pt x="49" y="39"/>
                        </a:lnTo>
                        <a:lnTo>
                          <a:pt x="58" y="30"/>
                        </a:lnTo>
                        <a:lnTo>
                          <a:pt x="68" y="20"/>
                        </a:lnTo>
                        <a:lnTo>
                          <a:pt x="87" y="1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26" y="20"/>
                        </a:lnTo>
                        <a:lnTo>
                          <a:pt x="126" y="20"/>
                        </a:lnTo>
                        <a:lnTo>
                          <a:pt x="136" y="2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>
                    <a:off x="3415320" y="2462760"/>
                    <a:ext cx="36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07">
                        <a:moveTo>
                          <a:pt x="59" y="107"/>
                        </a:moveTo>
                        <a:lnTo>
                          <a:pt x="59" y="88"/>
                        </a:lnTo>
                        <a:lnTo>
                          <a:pt x="49" y="78"/>
                        </a:lnTo>
                        <a:lnTo>
                          <a:pt x="49" y="68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39"/>
                        </a:lnTo>
                        <a:lnTo>
                          <a:pt x="30" y="49"/>
                        </a:lnTo>
                        <a:lnTo>
                          <a:pt x="39" y="68"/>
                        </a:lnTo>
                        <a:lnTo>
                          <a:pt x="39" y="78"/>
                        </a:lnTo>
                        <a:lnTo>
                          <a:pt x="49" y="88"/>
                        </a:lnTo>
                        <a:lnTo>
                          <a:pt x="49" y="107"/>
                        </a:lnTo>
                        <a:lnTo>
                          <a:pt x="49" y="97"/>
                        </a:lnTo>
                        <a:lnTo>
                          <a:pt x="5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>
                    <a:off x="3409920" y="2522520"/>
                    <a:ext cx="41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7">
                        <a:moveTo>
                          <a:pt x="9" y="107"/>
                        </a:move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58" y="2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8" y="20"/>
                        </a:lnTo>
                        <a:lnTo>
                          <a:pt x="39" y="30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>
                    <a:off x="3367800" y="2583000"/>
                    <a:ext cx="47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8">
                        <a:moveTo>
                          <a:pt x="0" y="58"/>
                        </a:moveTo>
                        <a:lnTo>
                          <a:pt x="9" y="58"/>
                        </a:lnTo>
                        <a:lnTo>
                          <a:pt x="9" y="48"/>
                        </a:lnTo>
                        <a:lnTo>
                          <a:pt x="19" y="3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0" y="5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9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>
                    <a:off x="3337920" y="2504520"/>
                    <a:ext cx="356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5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19" y="146"/>
                        </a:lnTo>
                        <a:lnTo>
                          <a:pt x="39" y="166"/>
                        </a:lnTo>
                        <a:lnTo>
                          <a:pt x="49" y="185"/>
                        </a:lnTo>
                        <a:lnTo>
                          <a:pt x="58" y="185"/>
                        </a:lnTo>
                        <a:lnTo>
                          <a:pt x="49" y="156"/>
                        </a:lnTo>
                        <a:lnTo>
                          <a:pt x="29" y="146"/>
                        </a:lnTo>
                        <a:lnTo>
                          <a:pt x="19" y="117"/>
                        </a:lnTo>
                        <a:lnTo>
                          <a:pt x="19" y="97"/>
                        </a:lnTo>
                        <a:lnTo>
                          <a:pt x="10" y="78"/>
                        </a:lnTo>
                        <a:lnTo>
                          <a:pt x="10" y="5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>
                    <a:off x="3337920" y="2444760"/>
                    <a:ext cx="65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07">
                        <a:moveTo>
                          <a:pt x="107" y="0"/>
                        </a:moveTo>
                        <a:lnTo>
                          <a:pt x="87" y="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29" y="5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0" y="97"/>
                        </a:lnTo>
                        <a:lnTo>
                          <a:pt x="10" y="107"/>
                        </a:lnTo>
                        <a:lnTo>
                          <a:pt x="19" y="87"/>
                        </a:lnTo>
                        <a:lnTo>
                          <a:pt x="29" y="78"/>
                        </a:lnTo>
                        <a:lnTo>
                          <a:pt x="39" y="6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107" y="9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>
                    <a:off x="3403800" y="244476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29"/>
                        </a:move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>
                    <a:off x="3829320" y="246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0"/>
                        </a:move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>
                    <a:off x="3835440" y="24627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0" y="49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2" name=""/>
                <p:cNvGrpSpPr/>
                <p:nvPr/>
              </p:nvGrpSpPr>
              <p:grpSpPr>
                <a:xfrm>
                  <a:off x="3373200" y="2456640"/>
                  <a:ext cx="1930680" cy="408960"/>
                  <a:chOff x="3373200" y="2456640"/>
                  <a:chExt cx="1930680" cy="408960"/>
                </a:xfrm>
              </p:grpSpPr>
              <p:sp>
                <p:nvSpPr>
                  <p:cNvPr id="2723" name=""/>
                  <p:cNvSpPr/>
                  <p:nvPr/>
                </p:nvSpPr>
                <p:spPr>
                  <a:xfrm>
                    <a:off x="3823200" y="2486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>
                    <a:off x="3823200" y="245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>
                    <a:off x="3840840" y="245664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29" y="10"/>
                        </a:move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>
                    <a:off x="4878000" y="2468880"/>
                    <a:ext cx="1263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46">
                        <a:moveTo>
                          <a:pt x="166" y="0"/>
                        </a:moveTo>
                        <a:lnTo>
                          <a:pt x="166" y="9"/>
                        </a:lnTo>
                        <a:lnTo>
                          <a:pt x="146" y="9"/>
                        </a:lnTo>
                        <a:lnTo>
                          <a:pt x="127" y="9"/>
                        </a:lnTo>
                        <a:lnTo>
                          <a:pt x="117" y="19"/>
                        </a:lnTo>
                        <a:lnTo>
                          <a:pt x="107" y="19"/>
                        </a:lnTo>
                        <a:lnTo>
                          <a:pt x="98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49" y="58"/>
                        </a:lnTo>
                        <a:lnTo>
                          <a:pt x="39" y="68"/>
                        </a:lnTo>
                        <a:lnTo>
                          <a:pt x="30" y="78"/>
                        </a:lnTo>
                        <a:lnTo>
                          <a:pt x="20" y="87"/>
                        </a:lnTo>
                        <a:lnTo>
                          <a:pt x="20" y="97"/>
                        </a:lnTo>
                        <a:lnTo>
                          <a:pt x="10" y="107"/>
                        </a:lnTo>
                        <a:lnTo>
                          <a:pt x="10" y="107"/>
                        </a:lnTo>
                        <a:lnTo>
                          <a:pt x="20" y="117"/>
                        </a:lnTo>
                        <a:lnTo>
                          <a:pt x="20" y="117"/>
                        </a:lnTo>
                        <a:lnTo>
                          <a:pt x="30" y="117"/>
                        </a:lnTo>
                        <a:lnTo>
                          <a:pt x="39" y="117"/>
                        </a:lnTo>
                        <a:lnTo>
                          <a:pt x="49" y="126"/>
                        </a:lnTo>
                        <a:lnTo>
                          <a:pt x="117" y="126"/>
                        </a:lnTo>
                        <a:lnTo>
                          <a:pt x="127" y="117"/>
                        </a:lnTo>
                        <a:lnTo>
                          <a:pt x="146" y="117"/>
                        </a:lnTo>
                        <a:lnTo>
                          <a:pt x="146" y="117"/>
                        </a:lnTo>
                        <a:lnTo>
                          <a:pt x="175" y="117"/>
                        </a:lnTo>
                        <a:lnTo>
                          <a:pt x="185" y="117"/>
                        </a:lnTo>
                        <a:lnTo>
                          <a:pt x="185" y="117"/>
                        </a:lnTo>
                        <a:lnTo>
                          <a:pt x="185" y="107"/>
                        </a:lnTo>
                        <a:lnTo>
                          <a:pt x="195" y="107"/>
                        </a:lnTo>
                        <a:lnTo>
                          <a:pt x="195" y="97"/>
                        </a:lnTo>
                        <a:lnTo>
                          <a:pt x="185" y="87"/>
                        </a:lnTo>
                        <a:lnTo>
                          <a:pt x="185" y="78"/>
                        </a:lnTo>
                        <a:lnTo>
                          <a:pt x="185" y="78"/>
                        </a:lnTo>
                        <a:lnTo>
                          <a:pt x="195" y="78"/>
                        </a:lnTo>
                        <a:lnTo>
                          <a:pt x="195" y="78"/>
                        </a:lnTo>
                        <a:lnTo>
                          <a:pt x="205" y="87"/>
                        </a:lnTo>
                        <a:lnTo>
                          <a:pt x="205" y="107"/>
                        </a:lnTo>
                        <a:lnTo>
                          <a:pt x="195" y="117"/>
                        </a:lnTo>
                        <a:lnTo>
                          <a:pt x="195" y="126"/>
                        </a:lnTo>
                        <a:lnTo>
                          <a:pt x="185" y="126"/>
                        </a:lnTo>
                        <a:lnTo>
                          <a:pt x="175" y="126"/>
                        </a:lnTo>
                        <a:lnTo>
                          <a:pt x="156" y="126"/>
                        </a:lnTo>
                        <a:lnTo>
                          <a:pt x="146" y="136"/>
                        </a:lnTo>
                        <a:lnTo>
                          <a:pt x="136" y="136"/>
                        </a:lnTo>
                        <a:lnTo>
                          <a:pt x="117" y="136"/>
                        </a:lnTo>
                        <a:lnTo>
                          <a:pt x="107" y="136"/>
                        </a:lnTo>
                        <a:lnTo>
                          <a:pt x="98" y="146"/>
                        </a:lnTo>
                        <a:lnTo>
                          <a:pt x="59" y="146"/>
                        </a:lnTo>
                        <a:lnTo>
                          <a:pt x="39" y="136"/>
                        </a:lnTo>
                        <a:lnTo>
                          <a:pt x="30" y="136"/>
                        </a:lnTo>
                        <a:lnTo>
                          <a:pt x="20" y="126"/>
                        </a:lnTo>
                        <a:lnTo>
                          <a:pt x="10" y="126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59" y="29"/>
                        </a:lnTo>
                        <a:lnTo>
                          <a:pt x="68" y="2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9"/>
                        </a:lnTo>
                        <a:lnTo>
                          <a:pt x="98" y="9"/>
                        </a:lnTo>
                        <a:lnTo>
                          <a:pt x="98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36" y="0"/>
                        </a:lnTo>
                        <a:lnTo>
                          <a:pt x="16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4974120" y="246888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0" y="9"/>
                        </a:move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>
                    <a:off x="4884120" y="2468880"/>
                    <a:ext cx="96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20" y="87"/>
                        </a:lnTo>
                        <a:lnTo>
                          <a:pt x="39" y="68"/>
                        </a:lnTo>
                        <a:lnTo>
                          <a:pt x="39" y="5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17" y="19"/>
                        </a:lnTo>
                        <a:lnTo>
                          <a:pt x="136" y="9"/>
                        </a:lnTo>
                        <a:lnTo>
                          <a:pt x="156" y="9"/>
                        </a:lnTo>
                        <a:lnTo>
                          <a:pt x="156" y="0"/>
                        </a:lnTo>
                        <a:lnTo>
                          <a:pt x="136" y="0"/>
                        </a:lnTo>
                        <a:lnTo>
                          <a:pt x="117" y="9"/>
                        </a:lnTo>
                        <a:lnTo>
                          <a:pt x="107" y="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49" y="39"/>
                        </a:lnTo>
                        <a:lnTo>
                          <a:pt x="20" y="7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>
                    <a:off x="4884120" y="2535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>
                    <a:off x="4908240" y="2535120"/>
                    <a:ext cx="83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10"/>
                        </a:move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97" y="19"/>
                        </a:lnTo>
                        <a:lnTo>
                          <a:pt x="97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1" name=""/>
                  <p:cNvSpPr/>
                  <p:nvPr/>
                </p:nvSpPr>
                <p:spPr>
                  <a:xfrm>
                    <a:off x="4992120" y="252900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>
                    <a:off x="4986000" y="251712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>
                    <a:off x="4986000" y="2517120"/>
                    <a:ext cx="122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>
                    <a:off x="4998240" y="251712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0" y="48"/>
                        </a:move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>
                    <a:off x="4872240" y="2541240"/>
                    <a:ext cx="12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68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26" y="29"/>
                        </a:lnTo>
                        <a:lnTo>
                          <a:pt x="145" y="1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04" y="9"/>
                        </a:lnTo>
                        <a:lnTo>
                          <a:pt x="204" y="0"/>
                        </a:lnTo>
                        <a:lnTo>
                          <a:pt x="194" y="0"/>
                        </a:lnTo>
                        <a:lnTo>
                          <a:pt x="184" y="9"/>
                        </a:ln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5" y="9"/>
                        </a:lnTo>
                        <a:lnTo>
                          <a:pt x="126" y="19"/>
                        </a:lnTo>
                        <a:lnTo>
                          <a:pt x="116" y="19"/>
                        </a:lnTo>
                        <a:lnTo>
                          <a:pt x="107" y="1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4872240" y="248688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58" y="0"/>
                        </a:moveTo>
                        <a:lnTo>
                          <a:pt x="58" y="10"/>
                        </a:lnTo>
                        <a:lnTo>
                          <a:pt x="39" y="29"/>
                        </a:lnTo>
                        <a:lnTo>
                          <a:pt x="29" y="39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4908240" y="2462760"/>
                    <a:ext cx="720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49">
                        <a:moveTo>
                          <a:pt x="117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87" y="10"/>
                        </a:lnTo>
                        <a:lnTo>
                          <a:pt x="11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>
                    <a:off x="4974120" y="246276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3457080" y="2480760"/>
                    <a:ext cx="36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68">
                        <a:moveTo>
                          <a:pt x="59" y="59"/>
                        </a:moveTo>
                        <a:lnTo>
                          <a:pt x="59" y="68"/>
                        </a:lnTo>
                        <a:lnTo>
                          <a:pt x="49" y="68"/>
                        </a:lnTo>
                        <a:lnTo>
                          <a:pt x="49" y="59"/>
                        </a:lnTo>
                        <a:lnTo>
                          <a:pt x="4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9" y="20"/>
                        </a:lnTo>
                        <a:lnTo>
                          <a:pt x="4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59" y="49"/>
                        </a:lnTo>
                        <a:lnTo>
                          <a:pt x="5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>
                    <a:off x="3493080" y="2517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>
                    <a:off x="3480840" y="25110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3451320" y="2486880"/>
                    <a:ext cx="35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8" y="4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>
                    <a:off x="3451320" y="24742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39" y="10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>
                    <a:off x="3469320" y="2480760"/>
                    <a:ext cx="29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9">
                        <a:moveTo>
                          <a:pt x="49" y="59"/>
                        </a:moveTo>
                        <a:lnTo>
                          <a:pt x="39" y="4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2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>
                    <a:off x="3870720" y="2486880"/>
                    <a:ext cx="15012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43">
                        <a:moveTo>
                          <a:pt x="156" y="19"/>
                        </a:moveTo>
                        <a:lnTo>
                          <a:pt x="156" y="68"/>
                        </a:lnTo>
                        <a:lnTo>
                          <a:pt x="176" y="78"/>
                        </a:lnTo>
                        <a:lnTo>
                          <a:pt x="185" y="88"/>
                        </a:lnTo>
                        <a:lnTo>
                          <a:pt x="205" y="88"/>
                        </a:lnTo>
                        <a:lnTo>
                          <a:pt x="224" y="97"/>
                        </a:lnTo>
                        <a:lnTo>
                          <a:pt x="234" y="97"/>
                        </a:lnTo>
                        <a:lnTo>
                          <a:pt x="244" y="117"/>
                        </a:lnTo>
                        <a:lnTo>
                          <a:pt x="244" y="126"/>
                        </a:lnTo>
                        <a:lnTo>
                          <a:pt x="244" y="146"/>
                        </a:lnTo>
                        <a:lnTo>
                          <a:pt x="224" y="156"/>
                        </a:lnTo>
                        <a:lnTo>
                          <a:pt x="214" y="175"/>
                        </a:lnTo>
                        <a:lnTo>
                          <a:pt x="214" y="185"/>
                        </a:lnTo>
                        <a:lnTo>
                          <a:pt x="205" y="204"/>
                        </a:lnTo>
                        <a:lnTo>
                          <a:pt x="205" y="224"/>
                        </a:lnTo>
                        <a:lnTo>
                          <a:pt x="205" y="234"/>
                        </a:lnTo>
                        <a:lnTo>
                          <a:pt x="185" y="243"/>
                        </a:lnTo>
                        <a:lnTo>
                          <a:pt x="166" y="243"/>
                        </a:lnTo>
                        <a:lnTo>
                          <a:pt x="137" y="243"/>
                        </a:lnTo>
                        <a:lnTo>
                          <a:pt x="127" y="234"/>
                        </a:lnTo>
                        <a:lnTo>
                          <a:pt x="117" y="234"/>
                        </a:lnTo>
                        <a:lnTo>
                          <a:pt x="107" y="224"/>
                        </a:lnTo>
                        <a:lnTo>
                          <a:pt x="88" y="224"/>
                        </a:lnTo>
                        <a:lnTo>
                          <a:pt x="69" y="234"/>
                        </a:lnTo>
                        <a:lnTo>
                          <a:pt x="59" y="234"/>
                        </a:lnTo>
                        <a:lnTo>
                          <a:pt x="39" y="234"/>
                        </a:lnTo>
                        <a:lnTo>
                          <a:pt x="39" y="224"/>
                        </a:lnTo>
                        <a:lnTo>
                          <a:pt x="30" y="214"/>
                        </a:lnTo>
                        <a:lnTo>
                          <a:pt x="30" y="195"/>
                        </a:lnTo>
                        <a:lnTo>
                          <a:pt x="20" y="185"/>
                        </a:lnTo>
                        <a:lnTo>
                          <a:pt x="10" y="175"/>
                        </a:lnTo>
                        <a:lnTo>
                          <a:pt x="0" y="175"/>
                        </a:lnTo>
                        <a:lnTo>
                          <a:pt x="0" y="156"/>
                        </a:lnTo>
                        <a:lnTo>
                          <a:pt x="0" y="136"/>
                        </a:lnTo>
                        <a:lnTo>
                          <a:pt x="20" y="136"/>
                        </a:lnTo>
                        <a:lnTo>
                          <a:pt x="30" y="126"/>
                        </a:lnTo>
                        <a:lnTo>
                          <a:pt x="39" y="117"/>
                        </a:lnTo>
                        <a:lnTo>
                          <a:pt x="59" y="107"/>
                        </a:lnTo>
                        <a:lnTo>
                          <a:pt x="69" y="107"/>
                        </a:lnTo>
                        <a:lnTo>
                          <a:pt x="88" y="97"/>
                        </a:lnTo>
                        <a:lnTo>
                          <a:pt x="88" y="88"/>
                        </a:lnTo>
                        <a:lnTo>
                          <a:pt x="98" y="78"/>
                        </a:lnTo>
                        <a:lnTo>
                          <a:pt x="98" y="29"/>
                        </a:lnTo>
                        <a:lnTo>
                          <a:pt x="98" y="19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15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>
                    <a:off x="3960360" y="2498400"/>
                    <a:ext cx="122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9">
                        <a:moveTo>
                          <a:pt x="20" y="49"/>
                        </a:moveTo>
                        <a:lnTo>
                          <a:pt x="20" y="4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>
                    <a:off x="3966840" y="2529000"/>
                    <a:ext cx="594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8" y="78"/>
                        </a:moveTo>
                        <a:lnTo>
                          <a:pt x="88" y="78"/>
                        </a:lnTo>
                        <a:lnTo>
                          <a:pt x="97" y="58"/>
                        </a:lnTo>
                        <a:lnTo>
                          <a:pt x="88" y="39"/>
                        </a:lnTo>
                        <a:lnTo>
                          <a:pt x="88" y="29"/>
                        </a:lnTo>
                        <a:lnTo>
                          <a:pt x="68" y="2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20"/>
                        </a:lnTo>
                        <a:lnTo>
                          <a:pt x="49" y="29"/>
                        </a:lnTo>
                        <a:lnTo>
                          <a:pt x="68" y="29"/>
                        </a:lnTo>
                        <a:lnTo>
                          <a:pt x="78" y="39"/>
                        </a:lnTo>
                        <a:lnTo>
                          <a:pt x="88" y="49"/>
                        </a:lnTo>
                        <a:lnTo>
                          <a:pt x="88" y="5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lnTo>
                          <a:pt x="88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3972960" y="2577240"/>
                    <a:ext cx="47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7">
                        <a:moveTo>
                          <a:pt x="0" y="107"/>
                        </a:moveTo>
                        <a:lnTo>
                          <a:pt x="29" y="97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48" y="58"/>
                        </a:lnTo>
                        <a:lnTo>
                          <a:pt x="48" y="39"/>
                        </a:lnTo>
                        <a:lnTo>
                          <a:pt x="48" y="29"/>
                        </a:lnTo>
                        <a:lnTo>
                          <a:pt x="58" y="10"/>
                        </a:lnTo>
                        <a:lnTo>
                          <a:pt x="78" y="0"/>
                        </a:lnTo>
                        <a:lnTo>
                          <a:pt x="7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39" y="39"/>
                        </a:lnTo>
                        <a:lnTo>
                          <a:pt x="39" y="58"/>
                        </a:lnTo>
                        <a:lnTo>
                          <a:pt x="39" y="78"/>
                        </a:lnTo>
                        <a:lnTo>
                          <a:pt x="29" y="78"/>
                        </a:lnTo>
                        <a:lnTo>
                          <a:pt x="19" y="88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>
                    <a:off x="3913200" y="2625480"/>
                    <a:ext cx="59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9" y="0"/>
                        </a:lnTo>
                        <a:lnTo>
                          <a:pt x="38" y="0"/>
                        </a:lnTo>
                        <a:lnTo>
                          <a:pt x="48" y="10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19"/>
                        </a:lnTo>
                        <a:lnTo>
                          <a:pt x="87" y="19"/>
                        </a:lnTo>
                        <a:lnTo>
                          <a:pt x="77" y="19"/>
                        </a:lnTo>
                        <a:lnTo>
                          <a:pt x="68" y="1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>
                    <a:off x="3864960" y="25887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20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9"/>
                        </a:lnTo>
                        <a:lnTo>
                          <a:pt x="48" y="69"/>
                        </a:lnTo>
                        <a:lnTo>
                          <a:pt x="68" y="78"/>
                        </a:lnTo>
                        <a:lnTo>
                          <a:pt x="78" y="69"/>
                        </a:lnTo>
                        <a:lnTo>
                          <a:pt x="78" y="59"/>
                        </a:lnTo>
                        <a:lnTo>
                          <a:pt x="58" y="59"/>
                        </a:lnTo>
                        <a:lnTo>
                          <a:pt x="48" y="59"/>
                        </a:lnTo>
                        <a:lnTo>
                          <a:pt x="39" y="49"/>
                        </a:lnTo>
                        <a:lnTo>
                          <a:pt x="39" y="3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>
                    <a:off x="3864960" y="2546640"/>
                    <a:ext cx="59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8">
                        <a:moveTo>
                          <a:pt x="87" y="0"/>
                        </a:move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48" y="20"/>
                        </a:lnTo>
                        <a:lnTo>
                          <a:pt x="39" y="20"/>
                        </a:lnTo>
                        <a:lnTo>
                          <a:pt x="19" y="29"/>
                        </a:lnTo>
                        <a:lnTo>
                          <a:pt x="9" y="39"/>
                        </a:lnTo>
                        <a:lnTo>
                          <a:pt x="0" y="59"/>
                        </a:lnTo>
                        <a:lnTo>
                          <a:pt x="0" y="78"/>
                        </a:lnTo>
                        <a:lnTo>
                          <a:pt x="9" y="78"/>
                        </a:lnTo>
                        <a:lnTo>
                          <a:pt x="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>
                    <a:off x="3918600" y="248688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2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20" y="88"/>
                        </a:lnTo>
                        <a:lnTo>
                          <a:pt x="20" y="78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>
                    <a:off x="3942720" y="248688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19"/>
                        </a:move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3882960" y="2498400"/>
                    <a:ext cx="1317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05">
                        <a:moveTo>
                          <a:pt x="156" y="69"/>
                        </a:moveTo>
                        <a:lnTo>
                          <a:pt x="165" y="78"/>
                        </a:lnTo>
                        <a:lnTo>
                          <a:pt x="175" y="78"/>
                        </a:lnTo>
                        <a:lnTo>
                          <a:pt x="185" y="88"/>
                        </a:lnTo>
                        <a:lnTo>
                          <a:pt x="194" y="88"/>
                        </a:lnTo>
                        <a:lnTo>
                          <a:pt x="204" y="98"/>
                        </a:lnTo>
                        <a:lnTo>
                          <a:pt x="214" y="107"/>
                        </a:lnTo>
                        <a:lnTo>
                          <a:pt x="214" y="117"/>
                        </a:lnTo>
                        <a:lnTo>
                          <a:pt x="185" y="137"/>
                        </a:lnTo>
                        <a:lnTo>
                          <a:pt x="185" y="156"/>
                        </a:lnTo>
                        <a:lnTo>
                          <a:pt x="175" y="156"/>
                        </a:lnTo>
                        <a:lnTo>
                          <a:pt x="175" y="166"/>
                        </a:lnTo>
                        <a:lnTo>
                          <a:pt x="175" y="176"/>
                        </a:lnTo>
                        <a:lnTo>
                          <a:pt x="175" y="195"/>
                        </a:lnTo>
                        <a:lnTo>
                          <a:pt x="175" y="195"/>
                        </a:lnTo>
                        <a:lnTo>
                          <a:pt x="175" y="205"/>
                        </a:lnTo>
                        <a:lnTo>
                          <a:pt x="165" y="205"/>
                        </a:lnTo>
                        <a:lnTo>
                          <a:pt x="165" y="205"/>
                        </a:lnTo>
                        <a:lnTo>
                          <a:pt x="156" y="205"/>
                        </a:lnTo>
                        <a:lnTo>
                          <a:pt x="146" y="205"/>
                        </a:lnTo>
                        <a:lnTo>
                          <a:pt x="136" y="205"/>
                        </a:lnTo>
                        <a:lnTo>
                          <a:pt x="117" y="205"/>
                        </a:lnTo>
                        <a:lnTo>
                          <a:pt x="107" y="205"/>
                        </a:lnTo>
                        <a:lnTo>
                          <a:pt x="97" y="195"/>
                        </a:lnTo>
                        <a:lnTo>
                          <a:pt x="78" y="195"/>
                        </a:lnTo>
                        <a:lnTo>
                          <a:pt x="68" y="185"/>
                        </a:lnTo>
                        <a:lnTo>
                          <a:pt x="49" y="195"/>
                        </a:lnTo>
                        <a:lnTo>
                          <a:pt x="39" y="205"/>
                        </a:lnTo>
                        <a:lnTo>
                          <a:pt x="29" y="195"/>
                        </a:lnTo>
                        <a:lnTo>
                          <a:pt x="29" y="195"/>
                        </a:lnTo>
                        <a:lnTo>
                          <a:pt x="19" y="185"/>
                        </a:lnTo>
                        <a:lnTo>
                          <a:pt x="19" y="176"/>
                        </a:lnTo>
                        <a:lnTo>
                          <a:pt x="19" y="16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lnTo>
                          <a:pt x="0" y="137"/>
                        </a:lnTo>
                        <a:lnTo>
                          <a:pt x="0" y="127"/>
                        </a:lnTo>
                        <a:lnTo>
                          <a:pt x="0" y="127"/>
                        </a:lnTo>
                        <a:lnTo>
                          <a:pt x="10" y="117"/>
                        </a:lnTo>
                        <a:lnTo>
                          <a:pt x="19" y="117"/>
                        </a:lnTo>
                        <a:lnTo>
                          <a:pt x="39" y="117"/>
                        </a:lnTo>
                        <a:lnTo>
                          <a:pt x="49" y="107"/>
                        </a:lnTo>
                        <a:lnTo>
                          <a:pt x="49" y="98"/>
                        </a:lnTo>
                        <a:lnTo>
                          <a:pt x="68" y="98"/>
                        </a:lnTo>
                        <a:lnTo>
                          <a:pt x="78" y="88"/>
                        </a:lnTo>
                        <a:lnTo>
                          <a:pt x="87" y="78"/>
                        </a:lnTo>
                        <a:lnTo>
                          <a:pt x="87" y="69"/>
                        </a:lnTo>
                        <a:lnTo>
                          <a:pt x="87" y="49"/>
                        </a:lnTo>
                        <a:lnTo>
                          <a:pt x="97" y="30"/>
                        </a:lnTo>
                        <a:lnTo>
                          <a:pt x="97" y="20"/>
                        </a:lnTo>
                        <a:lnTo>
                          <a:pt x="97" y="10"/>
                        </a:lnTo>
                        <a:lnTo>
                          <a:pt x="97" y="0"/>
                        </a:lnTo>
                        <a:lnTo>
                          <a:pt x="9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lnTo>
                          <a:pt x="117" y="20"/>
                        </a:lnTo>
                        <a:lnTo>
                          <a:pt x="126" y="30"/>
                        </a:lnTo>
                        <a:lnTo>
                          <a:pt x="126" y="49"/>
                        </a:lnTo>
                        <a:lnTo>
                          <a:pt x="126" y="59"/>
                        </a:lnTo>
                        <a:lnTo>
                          <a:pt x="136" y="69"/>
                        </a:lnTo>
                        <a:lnTo>
                          <a:pt x="136" y="69"/>
                        </a:lnTo>
                        <a:lnTo>
                          <a:pt x="156" y="6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>
                    <a:off x="3972960" y="2541240"/>
                    <a:ext cx="41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48">
                        <a:moveTo>
                          <a:pt x="68" y="48"/>
                        </a:moveTo>
                        <a:lnTo>
                          <a:pt x="68" y="38"/>
                        </a:lnTo>
                        <a:lnTo>
                          <a:pt x="68" y="29"/>
                        </a:lnTo>
                        <a:lnTo>
                          <a:pt x="58" y="19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58" y="38"/>
                        </a:lnTo>
                        <a:lnTo>
                          <a:pt x="58" y="38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>
                    <a:off x="3984480" y="2570760"/>
                    <a:ext cx="29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0" y="59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3972960" y="261288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3907080" y="2612880"/>
                    <a:ext cx="658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07" y="20"/>
                        </a:lnTo>
                        <a:lnTo>
                          <a:pt x="97" y="20"/>
                        </a:lnTo>
                        <a:lnTo>
                          <a:pt x="78" y="2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>
                    <a:off x="3882960" y="258876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30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9" y="59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>
                    <a:off x="3876840" y="2559240"/>
                    <a:ext cx="3600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8">
                        <a:moveTo>
                          <a:pt x="59" y="0"/>
                        </a:move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5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9" y="19"/>
                        </a:lnTo>
                        <a:lnTo>
                          <a:pt x="49" y="1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3913200" y="249840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8" y="20"/>
                        </a:lnTo>
                        <a:lnTo>
                          <a:pt x="38" y="30"/>
                        </a:lnTo>
                        <a:lnTo>
                          <a:pt x="38" y="49"/>
                        </a:lnTo>
                        <a:lnTo>
                          <a:pt x="38" y="69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19" y="88"/>
                        </a:lnTo>
                        <a:lnTo>
                          <a:pt x="0" y="98"/>
                        </a:lnTo>
                        <a:lnTo>
                          <a:pt x="0" y="107"/>
                        </a:lnTo>
                        <a:lnTo>
                          <a:pt x="19" y="98"/>
                        </a:lnTo>
                        <a:lnTo>
                          <a:pt x="38" y="88"/>
                        </a:lnTo>
                        <a:lnTo>
                          <a:pt x="38" y="78"/>
                        </a:lnTo>
                        <a:lnTo>
                          <a:pt x="48" y="69"/>
                        </a:lnTo>
                        <a:lnTo>
                          <a:pt x="48" y="49"/>
                        </a:lnTo>
                        <a:lnTo>
                          <a:pt x="48" y="3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3942720" y="249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9" y="19"/>
                        </a:move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>
                    <a:off x="3954960" y="250488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39" y="59"/>
                        </a:move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59"/>
                        </a:lnTo>
                        <a:lnTo>
                          <a:pt x="19" y="68"/>
                        </a:lnTo>
                        <a:lnTo>
                          <a:pt x="39" y="68"/>
                        </a:lnTo>
                        <a:lnTo>
                          <a:pt x="29" y="68"/>
                        </a:lnTo>
                        <a:lnTo>
                          <a:pt x="3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>
                    <a:off x="375084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>
                    <a:off x="3750840" y="253512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>
                    <a:off x="3750840" y="2546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3750840" y="252900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8" name=""/>
                  <p:cNvSpPr/>
                  <p:nvPr/>
                </p:nvSpPr>
                <p:spPr>
                  <a:xfrm>
                    <a:off x="3768840" y="25290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>
                    <a:off x="3691080" y="2541240"/>
                    <a:ext cx="23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39" y="0"/>
                        </a:moveTo>
                        <a:lnTo>
                          <a:pt x="39" y="19"/>
                        </a:lnTo>
                        <a:lnTo>
                          <a:pt x="19" y="38"/>
                        </a:lnTo>
                        <a:lnTo>
                          <a:pt x="19" y="38"/>
                        </a:lnTo>
                        <a:lnTo>
                          <a:pt x="9" y="38"/>
                        </a:lnTo>
                        <a:lnTo>
                          <a:pt x="9" y="3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>
                    <a:off x="3702960" y="2541240"/>
                    <a:ext cx="176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8">
                        <a:moveTo>
                          <a:pt x="0" y="48"/>
                        </a:move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0" y="2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48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>
                    <a:off x="3684960" y="2553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>
                    <a:off x="3691080" y="253512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>
                    <a:off x="3709080" y="253512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9" y="1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"/>
                  <p:cNvSpPr/>
                  <p:nvPr/>
                </p:nvSpPr>
                <p:spPr>
                  <a:xfrm>
                    <a:off x="5088240" y="2541240"/>
                    <a:ext cx="1076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94">
                        <a:moveTo>
                          <a:pt x="146" y="9"/>
                        </a:moveTo>
                        <a:lnTo>
                          <a:pt x="146" y="19"/>
                        </a:lnTo>
                        <a:lnTo>
                          <a:pt x="136" y="29"/>
                        </a:lnTo>
                        <a:lnTo>
                          <a:pt x="126" y="38"/>
                        </a:lnTo>
                        <a:lnTo>
                          <a:pt x="126" y="48"/>
                        </a:lnTo>
                        <a:lnTo>
                          <a:pt x="116" y="58"/>
                        </a:lnTo>
                        <a:lnTo>
                          <a:pt x="116" y="87"/>
                        </a:lnTo>
                        <a:lnTo>
                          <a:pt x="126" y="97"/>
                        </a:lnTo>
                        <a:lnTo>
                          <a:pt x="126" y="107"/>
                        </a:lnTo>
                        <a:lnTo>
                          <a:pt x="136" y="107"/>
                        </a:lnTo>
                        <a:lnTo>
                          <a:pt x="136" y="107"/>
                        </a:lnTo>
                        <a:lnTo>
                          <a:pt x="146" y="116"/>
                        </a:lnTo>
                        <a:lnTo>
                          <a:pt x="155" y="116"/>
                        </a:lnTo>
                        <a:lnTo>
                          <a:pt x="155" y="126"/>
                        </a:lnTo>
                        <a:lnTo>
                          <a:pt x="175" y="126"/>
                        </a:lnTo>
                        <a:lnTo>
                          <a:pt x="175" y="155"/>
                        </a:lnTo>
                        <a:lnTo>
                          <a:pt x="126" y="155"/>
                        </a:lnTo>
                        <a:lnTo>
                          <a:pt x="116" y="146"/>
                        </a:lnTo>
                        <a:lnTo>
                          <a:pt x="107" y="155"/>
                        </a:lnTo>
                        <a:lnTo>
                          <a:pt x="97" y="155"/>
                        </a:lnTo>
                        <a:lnTo>
                          <a:pt x="87" y="155"/>
                        </a:lnTo>
                        <a:lnTo>
                          <a:pt x="78" y="165"/>
                        </a:lnTo>
                        <a:lnTo>
                          <a:pt x="78" y="16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75"/>
                        </a:lnTo>
                        <a:lnTo>
                          <a:pt x="68" y="185"/>
                        </a:lnTo>
                        <a:lnTo>
                          <a:pt x="58" y="194"/>
                        </a:lnTo>
                        <a:lnTo>
                          <a:pt x="58" y="194"/>
                        </a:lnTo>
                        <a:lnTo>
                          <a:pt x="48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29" y="175"/>
                        </a:lnTo>
                        <a:lnTo>
                          <a:pt x="0" y="175"/>
                        </a:lnTo>
                        <a:lnTo>
                          <a:pt x="68" y="38"/>
                        </a:lnTo>
                        <a:lnTo>
                          <a:pt x="78" y="38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107" y="1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46" y="0"/>
                        </a:lnTo>
                        <a:lnTo>
                          <a:pt x="146" y="0"/>
                        </a:lnTo>
                        <a:lnTo>
                          <a:pt x="146" y="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>
                    <a:off x="5159520" y="2541240"/>
                    <a:ext cx="23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7">
                        <a:moveTo>
                          <a:pt x="10" y="87"/>
                        </a:move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38"/>
                        </a:lnTo>
                        <a:lnTo>
                          <a:pt x="20" y="29"/>
                        </a:lnTo>
                        <a:lnTo>
                          <a:pt x="30" y="19"/>
                        </a:lnTo>
                        <a:lnTo>
                          <a:pt x="39" y="9"/>
                        </a:lnTo>
                        <a:lnTo>
                          <a:pt x="30" y="0"/>
                        </a:lnTo>
                        <a:lnTo>
                          <a:pt x="10" y="1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8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10" y="8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>
                    <a:off x="5159520" y="259488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9" y="29"/>
                        </a:lnTo>
                        <a:lnTo>
                          <a:pt x="30" y="20"/>
                        </a:lnTo>
                        <a:lnTo>
                          <a:pt x="3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>
                    <a:off x="5183640" y="2612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1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>
                    <a:off x="5189760" y="261900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>
                    <a:off x="5136120" y="263160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" y="19"/>
                        </a:moveTo>
                        <a:lnTo>
                          <a:pt x="19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4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5123880" y="263700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0" y="39"/>
                        </a:move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>
                    <a:off x="508824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9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5088240" y="255924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68" y="0"/>
                        </a:moveTo>
                        <a:lnTo>
                          <a:pt x="58" y="9"/>
                        </a:lnTo>
                        <a:lnTo>
                          <a:pt x="0" y="146"/>
                        </a:lnTo>
                        <a:lnTo>
                          <a:pt x="9" y="146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5130000" y="2535120"/>
                    <a:ext cx="47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8">
                        <a:moveTo>
                          <a:pt x="78" y="0"/>
                        </a:move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>
                    <a:off x="5172120" y="253512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9" y="19"/>
                        </a:move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>
                    <a:off x="377496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>
                    <a:off x="3774960" y="254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3768840" y="2541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3774960" y="2541240"/>
                    <a:ext cx="11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">
                        <a:moveTo>
                          <a:pt x="19" y="9"/>
                        </a:move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>
                    <a:off x="3421080" y="2541240"/>
                    <a:ext cx="54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68">
                        <a:moveTo>
                          <a:pt x="88" y="29"/>
                        </a:moveTo>
                        <a:lnTo>
                          <a:pt x="88" y="38"/>
                        </a:lnTo>
                        <a:lnTo>
                          <a:pt x="78" y="48"/>
                        </a:lnTo>
                        <a:lnTo>
                          <a:pt x="68" y="48"/>
                        </a:lnTo>
                        <a:lnTo>
                          <a:pt x="68" y="48"/>
                        </a:lnTo>
                        <a:lnTo>
                          <a:pt x="58" y="48"/>
                        </a:lnTo>
                        <a:lnTo>
                          <a:pt x="29" y="48"/>
                        </a:lnTo>
                        <a:lnTo>
                          <a:pt x="20" y="48"/>
                        </a:lnTo>
                        <a:lnTo>
                          <a:pt x="1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5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346320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3433320" y="2564640"/>
                    <a:ext cx="29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3421080" y="257076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>
                    <a:off x="3421080" y="2541240"/>
                    <a:ext cx="29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68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10" y="29"/>
                        </a:lnTo>
                        <a:lnTo>
                          <a:pt x="10" y="38"/>
                        </a:lnTo>
                        <a:lnTo>
                          <a:pt x="0" y="48"/>
                        </a:lnTo>
                        <a:lnTo>
                          <a:pt x="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0" y="38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3451320" y="254124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5207760" y="254124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46" y="68"/>
                        </a:moveTo>
                        <a:lnTo>
                          <a:pt x="146" y="87"/>
                        </a:lnTo>
                        <a:lnTo>
                          <a:pt x="146" y="97"/>
                        </a:lnTo>
                        <a:lnTo>
                          <a:pt x="136" y="116"/>
                        </a:lnTo>
                        <a:lnTo>
                          <a:pt x="136" y="126"/>
                        </a:lnTo>
                        <a:lnTo>
                          <a:pt x="127" y="136"/>
                        </a:lnTo>
                        <a:lnTo>
                          <a:pt x="117" y="155"/>
                        </a:lnTo>
                        <a:lnTo>
                          <a:pt x="107" y="165"/>
                        </a:lnTo>
                        <a:lnTo>
                          <a:pt x="88" y="175"/>
                        </a:lnTo>
                        <a:lnTo>
                          <a:pt x="78" y="175"/>
                        </a:lnTo>
                        <a:lnTo>
                          <a:pt x="68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20" y="165"/>
                        </a:lnTo>
                        <a:lnTo>
                          <a:pt x="10" y="155"/>
                        </a:lnTo>
                        <a:lnTo>
                          <a:pt x="0" y="155"/>
                        </a:lnTo>
                        <a:lnTo>
                          <a:pt x="0" y="146"/>
                        </a:lnTo>
                        <a:lnTo>
                          <a:pt x="0" y="126"/>
                        </a:lnTo>
                        <a:lnTo>
                          <a:pt x="0" y="107"/>
                        </a:lnTo>
                        <a:lnTo>
                          <a:pt x="10" y="97"/>
                        </a:lnTo>
                        <a:lnTo>
                          <a:pt x="10" y="87"/>
                        </a:lnTo>
                        <a:lnTo>
                          <a:pt x="20" y="7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10" y="48"/>
                        </a:lnTo>
                        <a:lnTo>
                          <a:pt x="10" y="48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59" y="9"/>
                        </a:lnTo>
                        <a:lnTo>
                          <a:pt x="68" y="9"/>
                        </a:lnTo>
                        <a:lnTo>
                          <a:pt x="88" y="9"/>
                        </a:lnTo>
                        <a:lnTo>
                          <a:pt x="107" y="19"/>
                        </a:lnTo>
                        <a:lnTo>
                          <a:pt x="117" y="29"/>
                        </a:lnTo>
                        <a:lnTo>
                          <a:pt x="136" y="38"/>
                        </a:lnTo>
                        <a:lnTo>
                          <a:pt x="146" y="48"/>
                        </a:lnTo>
                        <a:lnTo>
                          <a:pt x="146" y="6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5262120" y="2583360"/>
                    <a:ext cx="41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0" y="107"/>
                        </a:moveTo>
                        <a:lnTo>
                          <a:pt x="19" y="107"/>
                        </a:lnTo>
                        <a:lnTo>
                          <a:pt x="29" y="87"/>
                        </a:lnTo>
                        <a:lnTo>
                          <a:pt x="48" y="78"/>
                        </a:lnTo>
                        <a:lnTo>
                          <a:pt x="48" y="68"/>
                        </a:lnTo>
                        <a:lnTo>
                          <a:pt x="58" y="48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58" y="19"/>
                        </a:lnTo>
                        <a:lnTo>
                          <a:pt x="48" y="29"/>
                        </a:lnTo>
                        <a:lnTo>
                          <a:pt x="48" y="39"/>
                        </a:lnTo>
                        <a:lnTo>
                          <a:pt x="48" y="58"/>
                        </a:lnTo>
                        <a:lnTo>
                          <a:pt x="39" y="68"/>
                        </a:lnTo>
                        <a:lnTo>
                          <a:pt x="29" y="87"/>
                        </a:lnTo>
                        <a:lnTo>
                          <a:pt x="9" y="97"/>
                        </a:lnTo>
                        <a:lnTo>
                          <a:pt x="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5202360" y="2631600"/>
                    <a:ext cx="59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9">
                        <a:moveTo>
                          <a:pt x="9" y="0"/>
                        </a:move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29" y="29"/>
                        </a:lnTo>
                        <a:lnTo>
                          <a:pt x="38" y="29"/>
                        </a:lnTo>
                        <a:lnTo>
                          <a:pt x="58" y="29"/>
                        </a:lnTo>
                        <a:lnTo>
                          <a:pt x="77" y="29"/>
                        </a:lnTo>
                        <a:lnTo>
                          <a:pt x="87" y="29"/>
                        </a:lnTo>
                        <a:lnTo>
                          <a:pt x="97" y="29"/>
                        </a:lnTo>
                        <a:lnTo>
                          <a:pt x="97" y="29"/>
                        </a:lnTo>
                        <a:lnTo>
                          <a:pt x="87" y="29"/>
                        </a:lnTo>
                        <a:lnTo>
                          <a:pt x="77" y="19"/>
                        </a:lnTo>
                        <a:lnTo>
                          <a:pt x="58" y="19"/>
                        </a:lnTo>
                        <a:lnTo>
                          <a:pt x="38" y="1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5202360" y="2607480"/>
                    <a:ext cx="5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8">
                        <a:moveTo>
                          <a:pt x="9" y="0"/>
                        </a:moveTo>
                        <a:lnTo>
                          <a:pt x="9" y="39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9" y="1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5207760" y="2570760"/>
                    <a:ext cx="17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59"/>
                        </a:lnTo>
                        <a:lnTo>
                          <a:pt x="10" y="49"/>
                        </a:lnTo>
                        <a:lnTo>
                          <a:pt x="20" y="39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5207760" y="255924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5207760" y="2541240"/>
                    <a:ext cx="29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8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29"/>
                        </a:lnTo>
                        <a:lnTo>
                          <a:pt x="10" y="38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5231880" y="2541240"/>
                    <a:ext cx="720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68">
                        <a:moveTo>
                          <a:pt x="117" y="68"/>
                        </a:moveTo>
                        <a:lnTo>
                          <a:pt x="117" y="58"/>
                        </a:lnTo>
                        <a:lnTo>
                          <a:pt x="107" y="48"/>
                        </a:lnTo>
                        <a:lnTo>
                          <a:pt x="97" y="38"/>
                        </a:lnTo>
                        <a:lnTo>
                          <a:pt x="88" y="19"/>
                        </a:lnTo>
                        <a:lnTo>
                          <a:pt x="68" y="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97" y="38"/>
                        </a:lnTo>
                        <a:lnTo>
                          <a:pt x="97" y="48"/>
                        </a:lnTo>
                        <a:lnTo>
                          <a:pt x="107" y="68"/>
                        </a:lnTo>
                        <a:lnTo>
                          <a:pt x="117" y="68"/>
                        </a:lnTo>
                        <a:lnTo>
                          <a:pt x="117" y="58"/>
                        </a:lnTo>
                        <a:lnTo>
                          <a:pt x="117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3583440" y="255312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49">
                        <a:moveTo>
                          <a:pt x="39" y="10"/>
                        </a:move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4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3583440" y="2559240"/>
                    <a:ext cx="29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9" y="39"/>
                        </a:move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3577320" y="257724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3583440" y="254664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9" y="39"/>
                        </a:lnTo>
                        <a:lnTo>
                          <a:pt x="9" y="3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3601080" y="2546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3960360" y="2553120"/>
                    <a:ext cx="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3960360" y="255312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3960360" y="2559240"/>
                    <a:ext cx="61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3960360" y="2546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5172120" y="255312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9" y="0"/>
                        </a:moveTo>
                        <a:lnTo>
                          <a:pt x="39" y="19"/>
                        </a:ln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58" y="68"/>
                        </a:lnTo>
                        <a:lnTo>
                          <a:pt x="49" y="7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9" y="7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5196240" y="2553120"/>
                    <a:ext cx="1152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8">
                        <a:moveTo>
                          <a:pt x="0" y="88"/>
                        </a:moveTo>
                        <a:lnTo>
                          <a:pt x="0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0" y="2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5" name=""/>
                  <p:cNvSpPr/>
                  <p:nvPr/>
                </p:nvSpPr>
                <p:spPr>
                  <a:xfrm>
                    <a:off x="5172120" y="2594880"/>
                    <a:ext cx="23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5172120" y="2559240"/>
                    <a:ext cx="11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10" y="58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5178240" y="2546640"/>
                    <a:ext cx="29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39" y="10"/>
                        </a:move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20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3564720" y="255924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9"/>
                        </a:moveTo>
                        <a:lnTo>
                          <a:pt x="20" y="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3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3559320" y="2564640"/>
                    <a:ext cx="23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0" y="20"/>
                        </a:move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9" y="3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3559320" y="25592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0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3570840" y="255312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2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4674600" y="2570760"/>
                    <a:ext cx="1317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4" h="224">
                        <a:moveTo>
                          <a:pt x="146" y="78"/>
                        </a:moveTo>
                        <a:lnTo>
                          <a:pt x="146" y="68"/>
                        </a:lnTo>
                        <a:lnTo>
                          <a:pt x="165" y="49"/>
                        </a:lnTo>
                        <a:lnTo>
                          <a:pt x="165" y="49"/>
                        </a:lnTo>
                        <a:lnTo>
                          <a:pt x="175" y="39"/>
                        </a:lnTo>
                        <a:lnTo>
                          <a:pt x="184" y="39"/>
                        </a:lnTo>
                        <a:lnTo>
                          <a:pt x="18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39"/>
                        </a:lnTo>
                        <a:lnTo>
                          <a:pt x="214" y="49"/>
                        </a:lnTo>
                        <a:lnTo>
                          <a:pt x="214" y="59"/>
                        </a:lnTo>
                        <a:lnTo>
                          <a:pt x="204" y="68"/>
                        </a:lnTo>
                        <a:lnTo>
                          <a:pt x="204" y="78"/>
                        </a:lnTo>
                        <a:lnTo>
                          <a:pt x="194" y="88"/>
                        </a:lnTo>
                        <a:lnTo>
                          <a:pt x="184" y="88"/>
                        </a:lnTo>
                        <a:lnTo>
                          <a:pt x="184" y="98"/>
                        </a:lnTo>
                        <a:lnTo>
                          <a:pt x="175" y="107"/>
                        </a:lnTo>
                        <a:lnTo>
                          <a:pt x="184" y="137"/>
                        </a:lnTo>
                        <a:lnTo>
                          <a:pt x="184" y="185"/>
                        </a:lnTo>
                        <a:lnTo>
                          <a:pt x="184" y="214"/>
                        </a:lnTo>
                        <a:lnTo>
                          <a:pt x="175" y="214"/>
                        </a:lnTo>
                        <a:lnTo>
                          <a:pt x="165" y="214"/>
                        </a:lnTo>
                        <a:lnTo>
                          <a:pt x="155" y="214"/>
                        </a:lnTo>
                        <a:lnTo>
                          <a:pt x="146" y="224"/>
                        </a:lnTo>
                        <a:lnTo>
                          <a:pt x="136" y="224"/>
                        </a:lnTo>
                        <a:lnTo>
                          <a:pt x="126" y="224"/>
                        </a:lnTo>
                        <a:lnTo>
                          <a:pt x="116" y="224"/>
                        </a:lnTo>
                        <a:lnTo>
                          <a:pt x="107" y="214"/>
                        </a:lnTo>
                        <a:lnTo>
                          <a:pt x="87" y="214"/>
                        </a:lnTo>
                        <a:lnTo>
                          <a:pt x="87" y="214"/>
                        </a:lnTo>
                        <a:lnTo>
                          <a:pt x="77" y="214"/>
                        </a:lnTo>
                        <a:lnTo>
                          <a:pt x="97" y="214"/>
                        </a:lnTo>
                        <a:lnTo>
                          <a:pt x="116" y="205"/>
                        </a:lnTo>
                        <a:lnTo>
                          <a:pt x="126" y="205"/>
                        </a:lnTo>
                        <a:lnTo>
                          <a:pt x="126" y="195"/>
                        </a:lnTo>
                        <a:lnTo>
                          <a:pt x="136" y="195"/>
                        </a:lnTo>
                        <a:lnTo>
                          <a:pt x="136" y="185"/>
                        </a:lnTo>
                        <a:lnTo>
                          <a:pt x="146" y="175"/>
                        </a:lnTo>
                        <a:lnTo>
                          <a:pt x="146" y="166"/>
                        </a:lnTo>
                        <a:lnTo>
                          <a:pt x="136" y="166"/>
                        </a:lnTo>
                        <a:lnTo>
                          <a:pt x="136" y="156"/>
                        </a:lnTo>
                        <a:lnTo>
                          <a:pt x="126" y="146"/>
                        </a:lnTo>
                        <a:lnTo>
                          <a:pt x="136" y="146"/>
                        </a:lnTo>
                        <a:lnTo>
                          <a:pt x="136" y="137"/>
                        </a:lnTo>
                        <a:lnTo>
                          <a:pt x="136" y="127"/>
                        </a:lnTo>
                        <a:lnTo>
                          <a:pt x="136" y="117"/>
                        </a:lnTo>
                        <a:lnTo>
                          <a:pt x="126" y="107"/>
                        </a:lnTo>
                        <a:lnTo>
                          <a:pt x="116" y="98"/>
                        </a:lnTo>
                        <a:lnTo>
                          <a:pt x="116" y="88"/>
                        </a:lnTo>
                        <a:lnTo>
                          <a:pt x="107" y="88"/>
                        </a:lnTo>
                        <a:lnTo>
                          <a:pt x="87" y="88"/>
                        </a:lnTo>
                        <a:lnTo>
                          <a:pt x="87" y="88"/>
                        </a:lnTo>
                        <a:lnTo>
                          <a:pt x="77" y="78"/>
                        </a:lnTo>
                        <a:lnTo>
                          <a:pt x="68" y="68"/>
                        </a:lnTo>
                        <a:lnTo>
                          <a:pt x="58" y="59"/>
                        </a:lnTo>
                        <a:lnTo>
                          <a:pt x="48" y="49"/>
                        </a:lnTo>
                        <a:lnTo>
                          <a:pt x="29" y="39"/>
                        </a:lnTo>
                        <a:lnTo>
                          <a:pt x="19" y="29"/>
                        </a:lnTo>
                        <a:lnTo>
                          <a:pt x="9" y="2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8" y="20"/>
                        </a:lnTo>
                        <a:lnTo>
                          <a:pt x="58" y="20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07" y="49"/>
                        </a:lnTo>
                        <a:lnTo>
                          <a:pt x="116" y="59"/>
                        </a:lnTo>
                        <a:lnTo>
                          <a:pt x="126" y="68"/>
                        </a:lnTo>
                        <a:lnTo>
                          <a:pt x="136" y="68"/>
                        </a:lnTo>
                        <a:lnTo>
                          <a:pt x="146" y="78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4758480" y="2588760"/>
                    <a:ext cx="29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9">
                        <a:moveTo>
                          <a:pt x="48" y="0"/>
                        </a:move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4788000" y="25887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4782600" y="2594880"/>
                    <a:ext cx="29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8">
                        <a:moveTo>
                          <a:pt x="9" y="68"/>
                        </a:move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4782600" y="2637000"/>
                    <a:ext cx="11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7">
                        <a:moveTo>
                          <a:pt x="9" y="107"/>
                        </a:moveTo>
                        <a:lnTo>
                          <a:pt x="9" y="107"/>
                        </a:lnTo>
                        <a:lnTo>
                          <a:pt x="9" y="78"/>
                        </a:lnTo>
                        <a:lnTo>
                          <a:pt x="19" y="59"/>
                        </a:lnTo>
                        <a:lnTo>
                          <a:pt x="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30"/>
                        </a:lnTo>
                        <a:lnTo>
                          <a:pt x="9" y="78"/>
                        </a:lnTo>
                        <a:lnTo>
                          <a:pt x="0" y="107"/>
                        </a:lnTo>
                        <a:lnTo>
                          <a:pt x="9" y="98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lnTo>
                          <a:pt x="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4734360" y="2697840"/>
                    <a:ext cx="53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10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49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87" y="9"/>
                        </a:lnTo>
                        <a:lnTo>
                          <a:pt x="87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39" y="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4704120" y="2697840"/>
                    <a:ext cx="36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9">
                        <a:moveTo>
                          <a:pt x="29" y="0"/>
                        </a:move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59" y="9"/>
                        </a:lnTo>
                        <a:lnTo>
                          <a:pt x="5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>
                    <a:off x="4721760" y="2679120"/>
                    <a:ext cx="47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9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30"/>
                        </a:lnTo>
                        <a:lnTo>
                          <a:pt x="2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30" y="39"/>
                        </a:lnTo>
                        <a:lnTo>
                          <a:pt x="39" y="39"/>
                        </a:lnTo>
                        <a:lnTo>
                          <a:pt x="4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69" y="1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4752360" y="2661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4752360" y="2643120"/>
                    <a:ext cx="12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4721760" y="2619000"/>
                    <a:ext cx="42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9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49" y="39"/>
                        </a:lnTo>
                        <a:lnTo>
                          <a:pt x="59" y="49"/>
                        </a:lnTo>
                        <a:lnTo>
                          <a:pt x="69" y="39"/>
                        </a:lnTo>
                        <a:lnTo>
                          <a:pt x="59" y="29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4674600" y="2570760"/>
                    <a:ext cx="47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7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9"/>
                        </a:lnTo>
                        <a:lnTo>
                          <a:pt x="39" y="49"/>
                        </a:lnTo>
                        <a:lnTo>
                          <a:pt x="39" y="49"/>
                        </a:lnTo>
                        <a:lnTo>
                          <a:pt x="58" y="59"/>
                        </a:lnTo>
                        <a:lnTo>
                          <a:pt x="77" y="78"/>
                        </a:lnTo>
                        <a:lnTo>
                          <a:pt x="77" y="78"/>
                        </a:lnTo>
                        <a:lnTo>
                          <a:pt x="68" y="59"/>
                        </a:lnTo>
                        <a:lnTo>
                          <a:pt x="58" y="59"/>
                        </a:lnTo>
                        <a:lnTo>
                          <a:pt x="39" y="39"/>
                        </a:lnTo>
                        <a:lnTo>
                          <a:pt x="29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4674600" y="2570760"/>
                    <a:ext cx="90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8">
                        <a:moveTo>
                          <a:pt x="136" y="78"/>
                        </a:moveTo>
                        <a:lnTo>
                          <a:pt x="146" y="68"/>
                        </a:lnTo>
                        <a:lnTo>
                          <a:pt x="136" y="68"/>
                        </a:lnTo>
                        <a:lnTo>
                          <a:pt x="126" y="59"/>
                        </a:lnTo>
                        <a:lnTo>
                          <a:pt x="126" y="59"/>
                        </a:lnTo>
                        <a:lnTo>
                          <a:pt x="116" y="49"/>
                        </a:lnTo>
                        <a:lnTo>
                          <a:pt x="107" y="49"/>
                        </a:lnTo>
                        <a:lnTo>
                          <a:pt x="87" y="39"/>
                        </a:lnTo>
                        <a:lnTo>
                          <a:pt x="77" y="29"/>
                        </a:lnTo>
                        <a:lnTo>
                          <a:pt x="77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68" y="29"/>
                        </a:lnTo>
                        <a:lnTo>
                          <a:pt x="77" y="39"/>
                        </a:lnTo>
                        <a:lnTo>
                          <a:pt x="87" y="49"/>
                        </a:lnTo>
                        <a:lnTo>
                          <a:pt x="97" y="49"/>
                        </a:lnTo>
                        <a:lnTo>
                          <a:pt x="107" y="59"/>
                        </a:lnTo>
                        <a:lnTo>
                          <a:pt x="116" y="68"/>
                        </a:lnTo>
                        <a:lnTo>
                          <a:pt x="126" y="68"/>
                        </a:lnTo>
                        <a:lnTo>
                          <a:pt x="13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78"/>
                        </a:lnTo>
                        <a:lnTo>
                          <a:pt x="146" y="88"/>
                        </a:lnTo>
                        <a:lnTo>
                          <a:pt x="146" y="78"/>
                        </a:lnTo>
                        <a:lnTo>
                          <a:pt x="136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4919760" y="2570760"/>
                    <a:ext cx="1263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27">
                        <a:moveTo>
                          <a:pt x="205" y="10"/>
                        </a:moveTo>
                        <a:lnTo>
                          <a:pt x="205" y="20"/>
                        </a:lnTo>
                        <a:lnTo>
                          <a:pt x="205" y="39"/>
                        </a:lnTo>
                        <a:lnTo>
                          <a:pt x="185" y="49"/>
                        </a:lnTo>
                        <a:lnTo>
                          <a:pt x="175" y="68"/>
                        </a:lnTo>
                        <a:lnTo>
                          <a:pt x="137" y="107"/>
                        </a:lnTo>
                        <a:lnTo>
                          <a:pt x="127" y="117"/>
                        </a:lnTo>
                        <a:lnTo>
                          <a:pt x="107" y="127"/>
                        </a:lnTo>
                        <a:lnTo>
                          <a:pt x="88" y="127"/>
                        </a:lnTo>
                        <a:lnTo>
                          <a:pt x="78" y="117"/>
                        </a:lnTo>
                        <a:lnTo>
                          <a:pt x="59" y="107"/>
                        </a:lnTo>
                        <a:lnTo>
                          <a:pt x="49" y="98"/>
                        </a:lnTo>
                        <a:lnTo>
                          <a:pt x="30" y="88"/>
                        </a:lnTo>
                        <a:lnTo>
                          <a:pt x="30" y="68"/>
                        </a:lnTo>
                        <a:lnTo>
                          <a:pt x="20" y="59"/>
                        </a:lnTo>
                        <a:lnTo>
                          <a:pt x="10" y="39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9" y="0"/>
                        </a:lnTo>
                        <a:lnTo>
                          <a:pt x="20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5040000" y="257724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9">
                        <a:moveTo>
                          <a:pt x="10" y="29"/>
                        </a:move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4974120" y="2594880"/>
                    <a:ext cx="7200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88">
                        <a:moveTo>
                          <a:pt x="0" y="88"/>
                        </a:moveTo>
                        <a:lnTo>
                          <a:pt x="29" y="88"/>
                        </a:lnTo>
                        <a:lnTo>
                          <a:pt x="39" y="78"/>
                        </a:lnTo>
                        <a:lnTo>
                          <a:pt x="58" y="68"/>
                        </a:lnTo>
                        <a:lnTo>
                          <a:pt x="78" y="49"/>
                        </a:lnTo>
                        <a:lnTo>
                          <a:pt x="97" y="29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87" y="20"/>
                        </a:lnTo>
                        <a:lnTo>
                          <a:pt x="78" y="39"/>
                        </a:lnTo>
                        <a:lnTo>
                          <a:pt x="49" y="59"/>
                        </a:lnTo>
                        <a:lnTo>
                          <a:pt x="39" y="68"/>
                        </a:lnTo>
                        <a:lnTo>
                          <a:pt x="19" y="78"/>
                        </a:lnTo>
                        <a:lnTo>
                          <a:pt x="0" y="78"/>
                        </a:lnTo>
                        <a:lnTo>
                          <a:pt x="10" y="78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4919760" y="2583360"/>
                    <a:ext cx="601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0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20" y="58"/>
                        </a:lnTo>
                        <a:lnTo>
                          <a:pt x="30" y="68"/>
                        </a:lnTo>
                        <a:lnTo>
                          <a:pt x="59" y="97"/>
                        </a:lnTo>
                        <a:lnTo>
                          <a:pt x="78" y="107"/>
                        </a:lnTo>
                        <a:lnTo>
                          <a:pt x="88" y="107"/>
                        </a:lnTo>
                        <a:lnTo>
                          <a:pt x="98" y="97"/>
                        </a:lnTo>
                        <a:lnTo>
                          <a:pt x="78" y="97"/>
                        </a:lnTo>
                        <a:lnTo>
                          <a:pt x="59" y="87"/>
                        </a:lnTo>
                        <a:lnTo>
                          <a:pt x="39" y="68"/>
                        </a:lnTo>
                        <a:lnTo>
                          <a:pt x="30" y="48"/>
                        </a:lnTo>
                        <a:lnTo>
                          <a:pt x="20" y="2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4919760" y="257076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39" y="0"/>
                        </a:move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4943880" y="2570760"/>
                    <a:ext cx="10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0">
                        <a:moveTo>
                          <a:pt x="166" y="10"/>
                        </a:moveTo>
                        <a:lnTo>
                          <a:pt x="166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66" y="2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lnTo>
                          <a:pt x="16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3433320" y="2577240"/>
                    <a:ext cx="356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88">
                        <a:moveTo>
                          <a:pt x="48" y="29"/>
                        </a:moveTo>
                        <a:lnTo>
                          <a:pt x="58" y="39"/>
                        </a:lnTo>
                        <a:lnTo>
                          <a:pt x="58" y="49"/>
                        </a:lnTo>
                        <a:lnTo>
                          <a:pt x="48" y="49"/>
                        </a:lnTo>
                        <a:lnTo>
                          <a:pt x="48" y="58"/>
                        </a:lnTo>
                        <a:lnTo>
                          <a:pt x="38" y="68"/>
                        </a:lnTo>
                        <a:lnTo>
                          <a:pt x="38" y="78"/>
                        </a:lnTo>
                        <a:lnTo>
                          <a:pt x="38" y="8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29" y="49"/>
                        </a:lnTo>
                        <a:lnTo>
                          <a:pt x="0" y="19"/>
                        </a:ln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3451320" y="25948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9">
                        <a:moveTo>
                          <a:pt x="9" y="59"/>
                        </a:move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29" y="20"/>
                        </a:lnTo>
                        <a:lnTo>
                          <a:pt x="29" y="2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lnTo>
                          <a:pt x="9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3445200" y="26013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10" y="10"/>
                        </a:move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>
                    <a:off x="3433320" y="2583360"/>
                    <a:ext cx="176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9" y="0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3433320" y="257724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48" y="29"/>
                        </a:moveTo>
                        <a:lnTo>
                          <a:pt x="58" y="2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8" y="19"/>
                        </a:lnTo>
                        <a:lnTo>
                          <a:pt x="48" y="2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4938480" y="2583360"/>
                    <a:ext cx="954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87">
                        <a:moveTo>
                          <a:pt x="155" y="9"/>
                        </a:moveTo>
                        <a:lnTo>
                          <a:pt x="145" y="19"/>
                        </a:lnTo>
                        <a:lnTo>
                          <a:pt x="136" y="39"/>
                        </a:lnTo>
                        <a:lnTo>
                          <a:pt x="126" y="48"/>
                        </a:lnTo>
                        <a:lnTo>
                          <a:pt x="107" y="68"/>
                        </a:lnTo>
                        <a:lnTo>
                          <a:pt x="97" y="78"/>
                        </a:lnTo>
                        <a:lnTo>
                          <a:pt x="87" y="87"/>
                        </a:lnTo>
                        <a:lnTo>
                          <a:pt x="68" y="87"/>
                        </a:lnTo>
                        <a:lnTo>
                          <a:pt x="48" y="87"/>
                        </a:lnTo>
                        <a:lnTo>
                          <a:pt x="48" y="78"/>
                        </a:lnTo>
                        <a:lnTo>
                          <a:pt x="38" y="68"/>
                        </a:lnTo>
                        <a:lnTo>
                          <a:pt x="29" y="68"/>
                        </a:lnTo>
                        <a:lnTo>
                          <a:pt x="19" y="58"/>
                        </a:lnTo>
                        <a:lnTo>
                          <a:pt x="9" y="4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58" y="0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4968000" y="2588760"/>
                    <a:ext cx="65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8">
                        <a:moveTo>
                          <a:pt x="0" y="78"/>
                        </a:moveTo>
                        <a:lnTo>
                          <a:pt x="39" y="78"/>
                        </a:lnTo>
                        <a:lnTo>
                          <a:pt x="49" y="69"/>
                        </a:lnTo>
                        <a:lnTo>
                          <a:pt x="78" y="49"/>
                        </a:lnTo>
                        <a:lnTo>
                          <a:pt x="88" y="30"/>
                        </a:lnTo>
                        <a:lnTo>
                          <a:pt x="97" y="1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88" y="10"/>
                        </a:lnTo>
                        <a:lnTo>
                          <a:pt x="88" y="20"/>
                        </a:lnTo>
                        <a:lnTo>
                          <a:pt x="68" y="39"/>
                        </a:lnTo>
                        <a:lnTo>
                          <a:pt x="59" y="59"/>
                        </a:lnTo>
                        <a:lnTo>
                          <a:pt x="49" y="59"/>
                        </a:lnTo>
                        <a:lnTo>
                          <a:pt x="3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4938480" y="2594880"/>
                    <a:ext cx="29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8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9" y="3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29" y="59"/>
                        </a:lnTo>
                        <a:lnTo>
                          <a:pt x="38" y="59"/>
                        </a:lnTo>
                        <a:lnTo>
                          <a:pt x="48" y="68"/>
                        </a:lnTo>
                        <a:lnTo>
                          <a:pt x="48" y="59"/>
                        </a:lnTo>
                        <a:lnTo>
                          <a:pt x="48" y="59"/>
                        </a:lnTo>
                        <a:lnTo>
                          <a:pt x="38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4938480" y="2583360"/>
                    <a:ext cx="5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9">
                        <a:moveTo>
                          <a:pt x="97" y="0"/>
                        </a:move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4998240" y="258336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58" y="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3649320" y="2583360"/>
                    <a:ext cx="8352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7">
                        <a:moveTo>
                          <a:pt x="136" y="19"/>
                        </a:moveTo>
                        <a:lnTo>
                          <a:pt x="97" y="107"/>
                        </a:lnTo>
                        <a:lnTo>
                          <a:pt x="87" y="117"/>
                        </a:lnTo>
                        <a:lnTo>
                          <a:pt x="77" y="117"/>
                        </a:lnTo>
                        <a:lnTo>
                          <a:pt x="77" y="117"/>
                        </a:lnTo>
                        <a:lnTo>
                          <a:pt x="68" y="117"/>
                        </a:lnTo>
                        <a:lnTo>
                          <a:pt x="58" y="107"/>
                        </a:lnTo>
                        <a:lnTo>
                          <a:pt x="48" y="107"/>
                        </a:lnTo>
                        <a:lnTo>
                          <a:pt x="39" y="97"/>
                        </a:lnTo>
                        <a:lnTo>
                          <a:pt x="39" y="87"/>
                        </a:lnTo>
                        <a:lnTo>
                          <a:pt x="29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39" y="19"/>
                        </a:lnTo>
                        <a:lnTo>
                          <a:pt x="3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7" y="0"/>
                        </a:lnTo>
                        <a:lnTo>
                          <a:pt x="126" y="0"/>
                        </a:lnTo>
                        <a:lnTo>
                          <a:pt x="13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3709080" y="259488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10" y="98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8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3684960" y="26496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3642840" y="2601360"/>
                    <a:ext cx="4176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49"/>
                        </a:lnTo>
                        <a:lnTo>
                          <a:pt x="39" y="58"/>
                        </a:lnTo>
                        <a:lnTo>
                          <a:pt x="49" y="68"/>
                        </a:lnTo>
                        <a:lnTo>
                          <a:pt x="68" y="88"/>
                        </a:lnTo>
                        <a:lnTo>
                          <a:pt x="68" y="78"/>
                        </a:lnTo>
                        <a:lnTo>
                          <a:pt x="49" y="58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29" y="1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3642840" y="2594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3649320" y="2583360"/>
                    <a:ext cx="83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9">
                        <a:moveTo>
                          <a:pt x="136" y="0"/>
                        </a:moveTo>
                        <a:lnTo>
                          <a:pt x="126" y="0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19" y="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9"/>
                        </a:lnTo>
                        <a:lnTo>
                          <a:pt x="77" y="9"/>
                        </a:lnTo>
                        <a:lnTo>
                          <a:pt x="87" y="9"/>
                        </a:lnTo>
                        <a:lnTo>
                          <a:pt x="126" y="9"/>
                        </a:lnTo>
                        <a:lnTo>
                          <a:pt x="126" y="9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3726720" y="25833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>
                    <a:off x="3373200" y="2594880"/>
                    <a:ext cx="900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5">
                        <a:moveTo>
                          <a:pt x="107" y="20"/>
                        </a:moveTo>
                        <a:lnTo>
                          <a:pt x="107" y="39"/>
                        </a:lnTo>
                        <a:lnTo>
                          <a:pt x="107" y="49"/>
                        </a:lnTo>
                        <a:lnTo>
                          <a:pt x="107" y="59"/>
                        </a:lnTo>
                        <a:lnTo>
                          <a:pt x="117" y="68"/>
                        </a:lnTo>
                        <a:lnTo>
                          <a:pt x="127" y="78"/>
                        </a:lnTo>
                        <a:lnTo>
                          <a:pt x="127" y="88"/>
                        </a:lnTo>
                        <a:lnTo>
                          <a:pt x="136" y="88"/>
                        </a:lnTo>
                        <a:lnTo>
                          <a:pt x="136" y="98"/>
                        </a:lnTo>
                        <a:lnTo>
                          <a:pt x="146" y="107"/>
                        </a:lnTo>
                        <a:lnTo>
                          <a:pt x="146" y="136"/>
                        </a:lnTo>
                        <a:lnTo>
                          <a:pt x="127" y="156"/>
                        </a:lnTo>
                        <a:lnTo>
                          <a:pt x="127" y="166"/>
                        </a:lnTo>
                        <a:lnTo>
                          <a:pt x="117" y="166"/>
                        </a:lnTo>
                        <a:lnTo>
                          <a:pt x="107" y="175"/>
                        </a:lnTo>
                        <a:lnTo>
                          <a:pt x="98" y="175"/>
                        </a:lnTo>
                        <a:lnTo>
                          <a:pt x="88" y="175"/>
                        </a:lnTo>
                        <a:lnTo>
                          <a:pt x="59" y="175"/>
                        </a:lnTo>
                        <a:lnTo>
                          <a:pt x="49" y="175"/>
                        </a:lnTo>
                        <a:lnTo>
                          <a:pt x="49" y="166"/>
                        </a:lnTo>
                        <a:lnTo>
                          <a:pt x="39" y="166"/>
                        </a:lnTo>
                        <a:lnTo>
                          <a:pt x="29" y="166"/>
                        </a:lnTo>
                        <a:lnTo>
                          <a:pt x="20" y="146"/>
                        </a:lnTo>
                        <a:lnTo>
                          <a:pt x="20" y="136"/>
                        </a:lnTo>
                        <a:lnTo>
                          <a:pt x="10" y="127"/>
                        </a:lnTo>
                        <a:lnTo>
                          <a:pt x="0" y="107"/>
                        </a:lnTo>
                        <a:lnTo>
                          <a:pt x="0" y="98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0" y="29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68" y="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107" y="2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>
                    <a:off x="3433320" y="2607480"/>
                    <a:ext cx="11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8">
                        <a:moveTo>
                          <a:pt x="9" y="3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48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3433320" y="2631600"/>
                    <a:ext cx="29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7">
                        <a:moveTo>
                          <a:pt x="48" y="77"/>
                        </a:moveTo>
                        <a:lnTo>
                          <a:pt x="48" y="48"/>
                        </a:lnTo>
                        <a:lnTo>
                          <a:pt x="48" y="3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29" y="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38" y="48"/>
                        </a:lnTo>
                        <a:lnTo>
                          <a:pt x="38" y="48"/>
                        </a:lnTo>
                        <a:lnTo>
                          <a:pt x="38" y="68"/>
                        </a:lnTo>
                        <a:lnTo>
                          <a:pt x="48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3433320" y="2673720"/>
                    <a:ext cx="29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8">
                        <a:moveTo>
                          <a:pt x="0" y="48"/>
                        </a:moveTo>
                        <a:lnTo>
                          <a:pt x="9" y="48"/>
                        </a:lnTo>
                        <a:lnTo>
                          <a:pt x="19" y="48"/>
                        </a:lnTo>
                        <a:lnTo>
                          <a:pt x="29" y="39"/>
                        </a:lnTo>
                        <a:lnTo>
                          <a:pt x="38" y="39"/>
                        </a:lnTo>
                        <a:lnTo>
                          <a:pt x="48" y="19"/>
                        </a:lnTo>
                        <a:lnTo>
                          <a:pt x="48" y="9"/>
                        </a:lnTo>
                        <a:lnTo>
                          <a:pt x="48" y="9"/>
                        </a:lnTo>
                        <a:lnTo>
                          <a:pt x="38" y="0"/>
                        </a:lnTo>
                        <a:lnTo>
                          <a:pt x="38" y="9"/>
                        </a:lnTo>
                        <a:lnTo>
                          <a:pt x="38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3390840" y="269136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69" y="10"/>
                        </a:lnTo>
                        <a:lnTo>
                          <a:pt x="5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3373200" y="2625480"/>
                    <a:ext cx="237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lnTo>
                          <a:pt x="0" y="78"/>
                        </a:lnTo>
                        <a:lnTo>
                          <a:pt x="10" y="87"/>
                        </a:lnTo>
                        <a:lnTo>
                          <a:pt x="20" y="97"/>
                        </a:lnTo>
                        <a:lnTo>
                          <a:pt x="29" y="117"/>
                        </a:lnTo>
                        <a:lnTo>
                          <a:pt x="39" y="107"/>
                        </a:lnTo>
                        <a:lnTo>
                          <a:pt x="29" y="97"/>
                        </a:lnTo>
                        <a:lnTo>
                          <a:pt x="20" y="87"/>
                        </a:lnTo>
                        <a:lnTo>
                          <a:pt x="10" y="78"/>
                        </a:lnTo>
                        <a:lnTo>
                          <a:pt x="10" y="58"/>
                        </a:lnTo>
                        <a:lnTo>
                          <a:pt x="0" y="49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3373200" y="2594880"/>
                    <a:ext cx="60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49">
                        <a:moveTo>
                          <a:pt x="98" y="0"/>
                        </a:move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10" y="39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68" y="10"/>
                        </a:lnTo>
                        <a:lnTo>
                          <a:pt x="78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lnTo>
                          <a:pt x="88" y="0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3427200" y="2594880"/>
                    <a:ext cx="11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19" y="2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3660840" y="2594880"/>
                    <a:ext cx="540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78">
                        <a:moveTo>
                          <a:pt x="78" y="20"/>
                        </a:moveTo>
                        <a:lnTo>
                          <a:pt x="88" y="39"/>
                        </a:lnTo>
                        <a:lnTo>
                          <a:pt x="78" y="49"/>
                        </a:lnTo>
                        <a:lnTo>
                          <a:pt x="78" y="68"/>
                        </a:lnTo>
                        <a:lnTo>
                          <a:pt x="68" y="78"/>
                        </a:lnTo>
                        <a:lnTo>
                          <a:pt x="58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9" y="0"/>
                        </a:lnTo>
                        <a:lnTo>
                          <a:pt x="4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8" y="10"/>
                        </a:lnTo>
                        <a:lnTo>
                          <a:pt x="78" y="20"/>
                        </a:lnTo>
                        <a:close/>
                      </a:path>
                    </a:pathLst>
                  </a:custGeom>
                  <a:solidFill>
                    <a:srgbClr val="f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3702960" y="2607480"/>
                    <a:ext cx="12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8">
                        <a:moveTo>
                          <a:pt x="0" y="68"/>
                        </a:moveTo>
                        <a:lnTo>
                          <a:pt x="10" y="6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4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3654720" y="260136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30" y="39"/>
                        </a:lnTo>
                        <a:lnTo>
                          <a:pt x="39" y="49"/>
                        </a:lnTo>
                        <a:lnTo>
                          <a:pt x="59" y="68"/>
                        </a:lnTo>
                        <a:lnTo>
                          <a:pt x="68" y="78"/>
                        </a:lnTo>
                        <a:lnTo>
                          <a:pt x="78" y="78"/>
                        </a:ln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58"/>
                        </a:lnTo>
                        <a:lnTo>
                          <a:pt x="49" y="58"/>
                        </a:lnTo>
                        <a:lnTo>
                          <a:pt x="39" y="39"/>
                        </a:lnTo>
                        <a:lnTo>
                          <a:pt x="30" y="39"/>
                        </a:lnTo>
                        <a:lnTo>
                          <a:pt x="3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3660840" y="2594880"/>
                    <a:ext cx="540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0">
                        <a:moveTo>
                          <a:pt x="88" y="20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4692240" y="2631600"/>
                    <a:ext cx="597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">
                        <a:moveTo>
                          <a:pt x="97" y="29"/>
                        </a:moveTo>
                        <a:lnTo>
                          <a:pt x="87" y="39"/>
                        </a:lnTo>
                        <a:lnTo>
                          <a:pt x="78" y="39"/>
                        </a:lnTo>
                        <a:lnTo>
                          <a:pt x="68" y="48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48"/>
                        </a:lnTo>
                        <a:lnTo>
                          <a:pt x="19" y="48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9" y="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97" y="2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4698720" y="2649600"/>
                    <a:ext cx="53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9">
                        <a:moveTo>
                          <a:pt x="0" y="19"/>
                        </a:move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29" y="19"/>
                        </a:lnTo>
                        <a:lnTo>
                          <a:pt x="58" y="19"/>
                        </a:lnTo>
                        <a:lnTo>
                          <a:pt x="77" y="19"/>
                        </a:lnTo>
                        <a:lnTo>
                          <a:pt x="87" y="0"/>
                        </a:lnTo>
                        <a:lnTo>
                          <a:pt x="87" y="0"/>
                        </a:lnTo>
                        <a:lnTo>
                          <a:pt x="77" y="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2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4692240" y="263700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39"/>
                        </a:lnTo>
                        <a:lnTo>
                          <a:pt x="19" y="39"/>
                        </a:lnTo>
                        <a:lnTo>
                          <a:pt x="19" y="30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4698720" y="2625480"/>
                    <a:ext cx="23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38" y="0"/>
                        </a:moveTo>
                        <a:lnTo>
                          <a:pt x="9" y="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19" y="10"/>
                        </a:lnTo>
                        <a:lnTo>
                          <a:pt x="38" y="10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4721760" y="2625480"/>
                    <a:ext cx="302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19"/>
                        </a:lnTo>
                        <a:lnTo>
                          <a:pt x="3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29"/>
                        </a:lnTo>
                        <a:lnTo>
                          <a:pt x="30" y="2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3463200" y="2637000"/>
                    <a:ext cx="4788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78" y="68"/>
                        </a:moveTo>
                        <a:lnTo>
                          <a:pt x="78" y="68"/>
                        </a:lnTo>
                        <a:lnTo>
                          <a:pt x="68" y="68"/>
                        </a:lnTo>
                        <a:lnTo>
                          <a:pt x="59" y="7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9" y="30"/>
                        </a:lnTo>
                        <a:lnTo>
                          <a:pt x="49" y="49"/>
                        </a:lnTo>
                        <a:lnTo>
                          <a:pt x="59" y="59"/>
                        </a:lnTo>
                        <a:lnTo>
                          <a:pt x="6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3480840" y="267372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9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20" y="9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3463200" y="2637000"/>
                    <a:ext cx="23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59"/>
                        </a:lnTo>
                        <a:lnTo>
                          <a:pt x="29" y="68"/>
                        </a:lnTo>
                        <a:lnTo>
                          <a:pt x="29" y="68"/>
                        </a:lnTo>
                        <a:lnTo>
                          <a:pt x="39" y="6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0" y="30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>
                    <a:off x="3463200" y="2637000"/>
                    <a:ext cx="59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78" y="68"/>
                        </a:moveTo>
                        <a:lnTo>
                          <a:pt x="78" y="59"/>
                        </a:lnTo>
                        <a:lnTo>
                          <a:pt x="78" y="59"/>
                        </a:lnTo>
                        <a:lnTo>
                          <a:pt x="59" y="49"/>
                        </a:lnTo>
                        <a:lnTo>
                          <a:pt x="49" y="49"/>
                        </a:lnTo>
                        <a:lnTo>
                          <a:pt x="39" y="39"/>
                        </a:lnTo>
                        <a:lnTo>
                          <a:pt x="29" y="30"/>
                        </a:lnTo>
                        <a:lnTo>
                          <a:pt x="2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9" y="49"/>
                        </a:lnTo>
                        <a:lnTo>
                          <a:pt x="49" y="59"/>
                        </a:lnTo>
                        <a:lnTo>
                          <a:pt x="59" y="59"/>
                        </a:lnTo>
                        <a:lnTo>
                          <a:pt x="68" y="68"/>
                        </a:lnTo>
                        <a:lnTo>
                          <a:pt x="78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lnTo>
                          <a:pt x="97" y="68"/>
                        </a:lnTo>
                        <a:lnTo>
                          <a:pt x="78" y="59"/>
                        </a:lnTo>
                        <a:lnTo>
                          <a:pt x="78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>
                    <a:off x="5123880" y="2643120"/>
                    <a:ext cx="478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66">
                        <a:moveTo>
                          <a:pt x="78" y="10"/>
                        </a:moveTo>
                        <a:lnTo>
                          <a:pt x="68" y="20"/>
                        </a:lnTo>
                        <a:lnTo>
                          <a:pt x="68" y="49"/>
                        </a:lnTo>
                        <a:lnTo>
                          <a:pt x="58" y="68"/>
                        </a:lnTo>
                        <a:lnTo>
                          <a:pt x="58" y="88"/>
                        </a:lnTo>
                        <a:lnTo>
                          <a:pt x="49" y="97"/>
                        </a:lnTo>
                        <a:lnTo>
                          <a:pt x="49" y="127"/>
                        </a:lnTo>
                        <a:lnTo>
                          <a:pt x="39" y="146"/>
                        </a:lnTo>
                        <a:lnTo>
                          <a:pt x="29" y="166"/>
                        </a:lnTo>
                        <a:lnTo>
                          <a:pt x="29" y="166"/>
                        </a:lnTo>
                        <a:lnTo>
                          <a:pt x="20" y="156"/>
                        </a:lnTo>
                        <a:lnTo>
                          <a:pt x="20" y="156"/>
                        </a:lnTo>
                        <a:lnTo>
                          <a:pt x="10" y="146"/>
                        </a:lnTo>
                        <a:lnTo>
                          <a:pt x="10" y="146"/>
                        </a:lnTo>
                        <a:lnTo>
                          <a:pt x="0" y="146"/>
                        </a:lnTo>
                        <a:lnTo>
                          <a:pt x="0" y="127"/>
                        </a:lnTo>
                        <a:lnTo>
                          <a:pt x="0" y="107"/>
                        </a:ln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20" y="39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0"/>
                        </a:lnTo>
                        <a:lnTo>
                          <a:pt x="78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5141880" y="2649600"/>
                    <a:ext cx="302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0" y="156"/>
                        </a:moveTo>
                        <a:lnTo>
                          <a:pt x="10" y="156"/>
                        </a:lnTo>
                        <a:lnTo>
                          <a:pt x="10" y="136"/>
                        </a:lnTo>
                        <a:lnTo>
                          <a:pt x="20" y="117"/>
                        </a:lnTo>
                        <a:lnTo>
                          <a:pt x="20" y="97"/>
                        </a:lnTo>
                        <a:lnTo>
                          <a:pt x="29" y="78"/>
                        </a:lnTo>
                        <a:lnTo>
                          <a:pt x="39" y="5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39"/>
                        </a:lnTo>
                        <a:lnTo>
                          <a:pt x="29" y="48"/>
                        </a:lnTo>
                        <a:lnTo>
                          <a:pt x="20" y="78"/>
                        </a:lnTo>
                        <a:lnTo>
                          <a:pt x="20" y="87"/>
                        </a:lnTo>
                        <a:lnTo>
                          <a:pt x="10" y="117"/>
                        </a:lnTo>
                        <a:lnTo>
                          <a:pt x="10" y="136"/>
                        </a:lnTo>
                        <a:lnTo>
                          <a:pt x="0" y="156"/>
                        </a:lnTo>
                        <a:lnTo>
                          <a:pt x="10" y="146"/>
                        </a:lnTo>
                        <a:lnTo>
                          <a:pt x="0" y="156"/>
                        </a:lnTo>
                        <a:lnTo>
                          <a:pt x="10" y="156"/>
                        </a:lnTo>
                        <a:lnTo>
                          <a:pt x="10" y="156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5117760" y="2727360"/>
                    <a:ext cx="30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20"/>
                        </a:lnTo>
                        <a:lnTo>
                          <a:pt x="20" y="2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5117760" y="2643120"/>
                    <a:ext cx="302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6">
                        <a:moveTo>
                          <a:pt x="49" y="0"/>
                        </a:moveTo>
                        <a:lnTo>
                          <a:pt x="49" y="10"/>
                        </a:lnTo>
                        <a:lnTo>
                          <a:pt x="30" y="20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27"/>
                        </a:lnTo>
                        <a:lnTo>
                          <a:pt x="0" y="146"/>
                        </a:lnTo>
                        <a:lnTo>
                          <a:pt x="10" y="146"/>
                        </a:lnTo>
                        <a:lnTo>
                          <a:pt x="20" y="12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0" y="68"/>
                        </a:lnTo>
                        <a:lnTo>
                          <a:pt x="30" y="58"/>
                        </a:lnTo>
                        <a:lnTo>
                          <a:pt x="30" y="39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5148000" y="264312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5154120" y="2649600"/>
                    <a:ext cx="954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65">
                        <a:moveTo>
                          <a:pt x="97" y="10"/>
                        </a:move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19"/>
                        </a:lnTo>
                        <a:lnTo>
                          <a:pt x="155" y="19"/>
                        </a:lnTo>
                        <a:lnTo>
                          <a:pt x="146" y="39"/>
                        </a:lnTo>
                        <a:lnTo>
                          <a:pt x="146" y="58"/>
                        </a:lnTo>
                        <a:lnTo>
                          <a:pt x="136" y="78"/>
                        </a:lnTo>
                        <a:lnTo>
                          <a:pt x="136" y="97"/>
                        </a:lnTo>
                        <a:lnTo>
                          <a:pt x="126" y="117"/>
                        </a:lnTo>
                        <a:lnTo>
                          <a:pt x="107" y="136"/>
                        </a:lnTo>
                        <a:lnTo>
                          <a:pt x="97" y="146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6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9" y="126"/>
                        </a:lnTo>
                        <a:lnTo>
                          <a:pt x="9" y="107"/>
                        </a:lnTo>
                        <a:lnTo>
                          <a:pt x="19" y="87"/>
                        </a:lnTo>
                        <a:lnTo>
                          <a:pt x="29" y="58"/>
                        </a:lnTo>
                        <a:lnTo>
                          <a:pt x="39" y="39"/>
                        </a:lnTo>
                        <a:lnTo>
                          <a:pt x="39" y="19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58" y="0"/>
                        </a:lnTo>
                        <a:lnTo>
                          <a:pt x="78" y="0"/>
                        </a:lnTo>
                        <a:lnTo>
                          <a:pt x="87" y="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5213880" y="264960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19"/>
                        </a:moveTo>
                        <a:lnTo>
                          <a:pt x="5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58" y="19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>
                    <a:off x="5202360" y="2661120"/>
                    <a:ext cx="47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46">
                        <a:moveTo>
                          <a:pt x="0" y="146"/>
                        </a:moveTo>
                        <a:lnTo>
                          <a:pt x="19" y="127"/>
                        </a:lnTo>
                        <a:lnTo>
                          <a:pt x="38" y="117"/>
                        </a:lnTo>
                        <a:lnTo>
                          <a:pt x="48" y="98"/>
                        </a:lnTo>
                        <a:lnTo>
                          <a:pt x="58" y="78"/>
                        </a:lnTo>
                        <a:lnTo>
                          <a:pt x="68" y="59"/>
                        </a:lnTo>
                        <a:lnTo>
                          <a:pt x="68" y="39"/>
                        </a:lnTo>
                        <a:lnTo>
                          <a:pt x="77" y="20"/>
                        </a:lnTo>
                        <a:lnTo>
                          <a:pt x="77" y="0"/>
                        </a:lnTo>
                        <a:lnTo>
                          <a:pt x="77" y="0"/>
                        </a:lnTo>
                        <a:lnTo>
                          <a:pt x="68" y="20"/>
                        </a:lnTo>
                        <a:lnTo>
                          <a:pt x="58" y="39"/>
                        </a:lnTo>
                        <a:lnTo>
                          <a:pt x="58" y="59"/>
                        </a:lnTo>
                        <a:lnTo>
                          <a:pt x="48" y="78"/>
                        </a:lnTo>
                        <a:lnTo>
                          <a:pt x="38" y="98"/>
                        </a:lnTo>
                        <a:lnTo>
                          <a:pt x="29" y="107"/>
                        </a:lnTo>
                        <a:lnTo>
                          <a:pt x="9" y="127"/>
                        </a:lnTo>
                        <a:lnTo>
                          <a:pt x="0" y="137"/>
                        </a:lnTo>
                        <a:lnTo>
                          <a:pt x="0" y="137"/>
                        </a:lnTo>
                        <a:lnTo>
                          <a:pt x="0" y="1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5154120" y="274608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78" y="9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0" y="0"/>
                        </a:lnTo>
                        <a:lnTo>
                          <a:pt x="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5154120" y="2643120"/>
                    <a:ext cx="29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39" y="10"/>
                        </a:lnTo>
                        <a:lnTo>
                          <a:pt x="39" y="29"/>
                        </a:lnTo>
                        <a:lnTo>
                          <a:pt x="29" y="4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9" y="107"/>
                        </a:lnTo>
                        <a:lnTo>
                          <a:pt x="0" y="136"/>
                        </a:lnTo>
                        <a:lnTo>
                          <a:pt x="0" y="156"/>
                        </a:lnTo>
                        <a:lnTo>
                          <a:pt x="0" y="175"/>
                        </a:lnTo>
                        <a:lnTo>
                          <a:pt x="9" y="175"/>
                        </a:lnTo>
                        <a:lnTo>
                          <a:pt x="9" y="156"/>
                        </a:lnTo>
                        <a:lnTo>
                          <a:pt x="9" y="136"/>
                        </a:lnTo>
                        <a:lnTo>
                          <a:pt x="19" y="117"/>
                        </a:lnTo>
                        <a:lnTo>
                          <a:pt x="29" y="97"/>
                        </a:lnTo>
                        <a:lnTo>
                          <a:pt x="29" y="68"/>
                        </a:lnTo>
                        <a:lnTo>
                          <a:pt x="39" y="49"/>
                        </a:lnTo>
                        <a:lnTo>
                          <a:pt x="48" y="29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5183640" y="264312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49" y="20"/>
                        </a:moveTo>
                        <a:lnTo>
                          <a:pt x="49" y="2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30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3792960" y="2649600"/>
                    <a:ext cx="23976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341">
                        <a:moveTo>
                          <a:pt x="389" y="97"/>
                        </a:moveTo>
                        <a:lnTo>
                          <a:pt x="389" y="126"/>
                        </a:lnTo>
                        <a:lnTo>
                          <a:pt x="389" y="156"/>
                        </a:lnTo>
                        <a:lnTo>
                          <a:pt x="389" y="272"/>
                        </a:lnTo>
                        <a:lnTo>
                          <a:pt x="379" y="302"/>
                        </a:lnTo>
                        <a:lnTo>
                          <a:pt x="370" y="331"/>
                        </a:lnTo>
                        <a:lnTo>
                          <a:pt x="360" y="341"/>
                        </a:lnTo>
                        <a:lnTo>
                          <a:pt x="350" y="341"/>
                        </a:lnTo>
                        <a:lnTo>
                          <a:pt x="321" y="341"/>
                        </a:lnTo>
                        <a:lnTo>
                          <a:pt x="311" y="341"/>
                        </a:lnTo>
                        <a:lnTo>
                          <a:pt x="292" y="331"/>
                        </a:lnTo>
                        <a:lnTo>
                          <a:pt x="253" y="331"/>
                        </a:lnTo>
                        <a:lnTo>
                          <a:pt x="233" y="341"/>
                        </a:lnTo>
                        <a:lnTo>
                          <a:pt x="204" y="341"/>
                        </a:lnTo>
                        <a:lnTo>
                          <a:pt x="195" y="331"/>
                        </a:lnTo>
                        <a:lnTo>
                          <a:pt x="146" y="331"/>
                        </a:lnTo>
                        <a:lnTo>
                          <a:pt x="126" y="331"/>
                        </a:lnTo>
                        <a:lnTo>
                          <a:pt x="97" y="331"/>
                        </a:lnTo>
                        <a:lnTo>
                          <a:pt x="88" y="321"/>
                        </a:lnTo>
                        <a:lnTo>
                          <a:pt x="39" y="321"/>
                        </a:lnTo>
                        <a:lnTo>
                          <a:pt x="19" y="321"/>
                        </a:lnTo>
                        <a:lnTo>
                          <a:pt x="19" y="321"/>
                        </a:lnTo>
                        <a:lnTo>
                          <a:pt x="19" y="311"/>
                        </a:lnTo>
                        <a:lnTo>
                          <a:pt x="10" y="292"/>
                        </a:lnTo>
                        <a:lnTo>
                          <a:pt x="0" y="272"/>
                        </a:lnTo>
                        <a:lnTo>
                          <a:pt x="0" y="253"/>
                        </a:lnTo>
                        <a:lnTo>
                          <a:pt x="0" y="185"/>
                        </a:lnTo>
                        <a:lnTo>
                          <a:pt x="0" y="165"/>
                        </a:lnTo>
                        <a:lnTo>
                          <a:pt x="0" y="146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48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8"/>
                        </a:lnTo>
                        <a:lnTo>
                          <a:pt x="68" y="48"/>
                        </a:lnTo>
                        <a:lnTo>
                          <a:pt x="78" y="48"/>
                        </a:lnTo>
                        <a:lnTo>
                          <a:pt x="88" y="48"/>
                        </a:lnTo>
                        <a:lnTo>
                          <a:pt x="97" y="48"/>
                        </a:lnTo>
                        <a:lnTo>
                          <a:pt x="107" y="48"/>
                        </a:lnTo>
                        <a:lnTo>
                          <a:pt x="117" y="58"/>
                        </a:lnTo>
                        <a:lnTo>
                          <a:pt x="126" y="58"/>
                        </a:lnTo>
                        <a:lnTo>
                          <a:pt x="136" y="58"/>
                        </a:lnTo>
                        <a:lnTo>
                          <a:pt x="146" y="68"/>
                        </a:lnTo>
                        <a:lnTo>
                          <a:pt x="156" y="68"/>
                        </a:lnTo>
                        <a:lnTo>
                          <a:pt x="165" y="78"/>
                        </a:lnTo>
                        <a:lnTo>
                          <a:pt x="175" y="87"/>
                        </a:lnTo>
                        <a:lnTo>
                          <a:pt x="175" y="78"/>
                        </a:lnTo>
                        <a:lnTo>
                          <a:pt x="185" y="78"/>
                        </a:lnTo>
                        <a:lnTo>
                          <a:pt x="185" y="68"/>
                        </a:lnTo>
                        <a:lnTo>
                          <a:pt x="17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48"/>
                        </a:lnTo>
                        <a:lnTo>
                          <a:pt x="126" y="39"/>
                        </a:lnTo>
                        <a:lnTo>
                          <a:pt x="117" y="39"/>
                        </a:lnTo>
                        <a:lnTo>
                          <a:pt x="117" y="39"/>
                        </a:lnTo>
                        <a:lnTo>
                          <a:pt x="107" y="29"/>
                        </a:lnTo>
                        <a:lnTo>
                          <a:pt x="88" y="29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68" y="19"/>
                        </a:lnTo>
                        <a:lnTo>
                          <a:pt x="58" y="1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75" y="0"/>
                        </a:lnTo>
                        <a:lnTo>
                          <a:pt x="195" y="10"/>
                        </a:lnTo>
                        <a:lnTo>
                          <a:pt x="224" y="10"/>
                        </a:lnTo>
                        <a:lnTo>
                          <a:pt x="243" y="10"/>
                        </a:lnTo>
                        <a:lnTo>
                          <a:pt x="263" y="10"/>
                        </a:lnTo>
                        <a:lnTo>
                          <a:pt x="272" y="19"/>
                        </a:lnTo>
                        <a:lnTo>
                          <a:pt x="292" y="1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31" y="48"/>
                        </a:lnTo>
                        <a:lnTo>
                          <a:pt x="350" y="48"/>
                        </a:lnTo>
                        <a:lnTo>
                          <a:pt x="360" y="58"/>
                        </a:lnTo>
                        <a:lnTo>
                          <a:pt x="370" y="78"/>
                        </a:lnTo>
                        <a:lnTo>
                          <a:pt x="379" y="87"/>
                        </a:lnTo>
                        <a:lnTo>
                          <a:pt x="389" y="97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4021200" y="2709360"/>
                    <a:ext cx="176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34">
                        <a:moveTo>
                          <a:pt x="0" y="234"/>
                        </a:moveTo>
                        <a:lnTo>
                          <a:pt x="9" y="234"/>
                        </a:lnTo>
                        <a:lnTo>
                          <a:pt x="19" y="205"/>
                        </a:lnTo>
                        <a:lnTo>
                          <a:pt x="19" y="175"/>
                        </a:lnTo>
                        <a:lnTo>
                          <a:pt x="19" y="146"/>
                        </a:lnTo>
                        <a:lnTo>
                          <a:pt x="19" y="127"/>
                        </a:lnTo>
                        <a:lnTo>
                          <a:pt x="29" y="88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88"/>
                        </a:lnTo>
                        <a:lnTo>
                          <a:pt x="9" y="127"/>
                        </a:lnTo>
                        <a:lnTo>
                          <a:pt x="9" y="175"/>
                        </a:lnTo>
                        <a:lnTo>
                          <a:pt x="0" y="205"/>
                        </a:lnTo>
                        <a:lnTo>
                          <a:pt x="0" y="234"/>
                        </a:lnTo>
                        <a:lnTo>
                          <a:pt x="0" y="224"/>
                        </a:lnTo>
                        <a:lnTo>
                          <a:pt x="0" y="234"/>
                        </a:lnTo>
                        <a:lnTo>
                          <a:pt x="9" y="234"/>
                        </a:lnTo>
                        <a:lnTo>
                          <a:pt x="0" y="2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3954960" y="2847960"/>
                    <a:ext cx="65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9">
                        <a:moveTo>
                          <a:pt x="0" y="20"/>
                        </a:moveTo>
                        <a:lnTo>
                          <a:pt x="29" y="20"/>
                        </a:lnTo>
                        <a:lnTo>
                          <a:pt x="48" y="20"/>
                        </a:lnTo>
                        <a:lnTo>
                          <a:pt x="58" y="29"/>
                        </a:lnTo>
                        <a:lnTo>
                          <a:pt x="87" y="29"/>
                        </a:lnTo>
                        <a:lnTo>
                          <a:pt x="97" y="2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lnTo>
                          <a:pt x="97" y="10"/>
                        </a:lnTo>
                        <a:lnTo>
                          <a:pt x="87" y="20"/>
                        </a:lnTo>
                        <a:lnTo>
                          <a:pt x="58" y="20"/>
                        </a:lnTo>
                        <a:lnTo>
                          <a:pt x="48" y="1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3804480" y="2847960"/>
                    <a:ext cx="150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0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69" y="10"/>
                        </a:lnTo>
                        <a:lnTo>
                          <a:pt x="78" y="10"/>
                        </a:lnTo>
                        <a:lnTo>
                          <a:pt x="107" y="10"/>
                        </a:lnTo>
                        <a:lnTo>
                          <a:pt x="127" y="20"/>
                        </a:lnTo>
                        <a:lnTo>
                          <a:pt x="176" y="20"/>
                        </a:lnTo>
                        <a:lnTo>
                          <a:pt x="185" y="20"/>
                        </a:lnTo>
                        <a:lnTo>
                          <a:pt x="214" y="20"/>
                        </a:lnTo>
                        <a:lnTo>
                          <a:pt x="234" y="20"/>
                        </a:lnTo>
                        <a:lnTo>
                          <a:pt x="244" y="20"/>
                        </a:lnTo>
                        <a:lnTo>
                          <a:pt x="244" y="10"/>
                        </a:lnTo>
                        <a:lnTo>
                          <a:pt x="127" y="10"/>
                        </a:lnTo>
                        <a:lnTo>
                          <a:pt x="107" y="0"/>
                        </a:lnTo>
                        <a:lnTo>
                          <a:pt x="78" y="0"/>
                        </a:lnTo>
                        <a:lnTo>
                          <a:pt x="6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3804480" y="2836440"/>
                    <a:ext cx="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9">
                        <a:moveTo>
                          <a:pt x="0" y="9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3786840" y="2739600"/>
                    <a:ext cx="17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65">
                        <a:moveTo>
                          <a:pt x="0" y="0"/>
                        </a:moveTo>
                        <a:lnTo>
                          <a:pt x="0" y="107"/>
                        </a:lnTo>
                        <a:lnTo>
                          <a:pt x="10" y="126"/>
                        </a:lnTo>
                        <a:lnTo>
                          <a:pt x="10" y="146"/>
                        </a:lnTo>
                        <a:lnTo>
                          <a:pt x="29" y="165"/>
                        </a:lnTo>
                        <a:lnTo>
                          <a:pt x="29" y="156"/>
                        </a:lnTo>
                        <a:lnTo>
                          <a:pt x="20" y="146"/>
                        </a:lnTo>
                        <a:lnTo>
                          <a:pt x="20" y="126"/>
                        </a:lnTo>
                        <a:lnTo>
                          <a:pt x="10" y="107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3786840" y="266724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0" y="10"/>
                        </a:lnTo>
                        <a:lnTo>
                          <a:pt x="10" y="19"/>
                        </a:lnTo>
                        <a:lnTo>
                          <a:pt x="0" y="39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3804480" y="266724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46" y="58"/>
                        </a:moveTo>
                        <a:lnTo>
                          <a:pt x="156" y="58"/>
                        </a:lnTo>
                        <a:lnTo>
                          <a:pt x="137" y="39"/>
                        </a:lnTo>
                        <a:lnTo>
                          <a:pt x="137" y="29"/>
                        </a:lnTo>
                        <a:lnTo>
                          <a:pt x="127" y="29"/>
                        </a:lnTo>
                        <a:lnTo>
                          <a:pt x="107" y="19"/>
                        </a:lnTo>
                        <a:lnTo>
                          <a:pt x="9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59" y="19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20" y="19"/>
                        </a:lnTo>
                        <a:lnTo>
                          <a:pt x="30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9" y="19"/>
                        </a:lnTo>
                        <a:lnTo>
                          <a:pt x="78" y="29"/>
                        </a:lnTo>
                        <a:lnTo>
                          <a:pt x="98" y="29"/>
                        </a:lnTo>
                        <a:lnTo>
                          <a:pt x="107" y="29"/>
                        </a:lnTo>
                        <a:lnTo>
                          <a:pt x="117" y="39"/>
                        </a:lnTo>
                        <a:lnTo>
                          <a:pt x="127" y="39"/>
                        </a:lnTo>
                        <a:lnTo>
                          <a:pt x="137" y="49"/>
                        </a:lnTo>
                        <a:lnTo>
                          <a:pt x="146" y="49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lnTo>
                          <a:pt x="156" y="58"/>
                        </a:lnTo>
                        <a:lnTo>
                          <a:pt x="156" y="58"/>
                        </a:lnTo>
                        <a:lnTo>
                          <a:pt x="146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3894480" y="2685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3810600" y="2655720"/>
                    <a:ext cx="961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58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59" y="1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78" y="29"/>
                        </a:lnTo>
                        <a:lnTo>
                          <a:pt x="88" y="29"/>
                        </a:lnTo>
                        <a:lnTo>
                          <a:pt x="97" y="38"/>
                        </a:lnTo>
                        <a:lnTo>
                          <a:pt x="107" y="38"/>
                        </a:lnTo>
                        <a:lnTo>
                          <a:pt x="117" y="38"/>
                        </a:lnTo>
                        <a:lnTo>
                          <a:pt x="127" y="48"/>
                        </a:lnTo>
                        <a:lnTo>
                          <a:pt x="127" y="48"/>
                        </a:lnTo>
                        <a:lnTo>
                          <a:pt x="136" y="48"/>
                        </a:lnTo>
                        <a:lnTo>
                          <a:pt x="146" y="58"/>
                        </a:lnTo>
                        <a:lnTo>
                          <a:pt x="156" y="48"/>
                        </a:lnTo>
                        <a:lnTo>
                          <a:pt x="146" y="48"/>
                        </a:lnTo>
                        <a:lnTo>
                          <a:pt x="136" y="38"/>
                        </a:lnTo>
                        <a:lnTo>
                          <a:pt x="127" y="38"/>
                        </a:lnTo>
                        <a:lnTo>
                          <a:pt x="117" y="38"/>
                        </a:lnTo>
                        <a:lnTo>
                          <a:pt x="117" y="29"/>
                        </a:lnTo>
                        <a:lnTo>
                          <a:pt x="107" y="29"/>
                        </a:lnTo>
                        <a:lnTo>
                          <a:pt x="97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59" y="19"/>
                        </a:lnTo>
                        <a:lnTo>
                          <a:pt x="4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3817080" y="2649600"/>
                    <a:ext cx="72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9">
                        <a:moveTo>
                          <a:pt x="117" y="0"/>
                        </a:moveTo>
                        <a:lnTo>
                          <a:pt x="58" y="0"/>
                        </a:lnTo>
                        <a:lnTo>
                          <a:pt x="58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9" y="19"/>
                        </a:lnTo>
                        <a:lnTo>
                          <a:pt x="2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117" y="1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3889080" y="2649600"/>
                    <a:ext cx="1494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107">
                        <a:moveTo>
                          <a:pt x="243" y="97"/>
                        </a:moveTo>
                        <a:lnTo>
                          <a:pt x="233" y="87"/>
                        </a:lnTo>
                        <a:lnTo>
                          <a:pt x="194" y="48"/>
                        </a:lnTo>
                        <a:lnTo>
                          <a:pt x="184" y="39"/>
                        </a:lnTo>
                        <a:lnTo>
                          <a:pt x="165" y="29"/>
                        </a:lnTo>
                        <a:lnTo>
                          <a:pt x="155" y="29"/>
                        </a:lnTo>
                        <a:lnTo>
                          <a:pt x="136" y="19"/>
                        </a:lnTo>
                        <a:lnTo>
                          <a:pt x="126" y="10"/>
                        </a:lnTo>
                        <a:lnTo>
                          <a:pt x="107" y="10"/>
                        </a:lnTo>
                        <a:lnTo>
                          <a:pt x="87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87" y="19"/>
                        </a:lnTo>
                        <a:lnTo>
                          <a:pt x="107" y="19"/>
                        </a:lnTo>
                        <a:lnTo>
                          <a:pt x="11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65" y="39"/>
                        </a:lnTo>
                        <a:lnTo>
                          <a:pt x="175" y="48"/>
                        </a:lnTo>
                        <a:lnTo>
                          <a:pt x="194" y="58"/>
                        </a:lnTo>
                        <a:lnTo>
                          <a:pt x="223" y="87"/>
                        </a:lnTo>
                        <a:lnTo>
                          <a:pt x="233" y="107"/>
                        </a:lnTo>
                        <a:lnTo>
                          <a:pt x="233" y="97"/>
                        </a:lnTo>
                        <a:lnTo>
                          <a:pt x="243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5022360" y="2649600"/>
                    <a:ext cx="2635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321">
                        <a:moveTo>
                          <a:pt x="369" y="204"/>
                        </a:moveTo>
                        <a:lnTo>
                          <a:pt x="360" y="204"/>
                        </a:lnTo>
                        <a:lnTo>
                          <a:pt x="350" y="214"/>
                        </a:lnTo>
                        <a:lnTo>
                          <a:pt x="350" y="214"/>
                        </a:lnTo>
                        <a:lnTo>
                          <a:pt x="340" y="214"/>
                        </a:lnTo>
                        <a:lnTo>
                          <a:pt x="330" y="224"/>
                        </a:lnTo>
                        <a:lnTo>
                          <a:pt x="321" y="224"/>
                        </a:lnTo>
                        <a:lnTo>
                          <a:pt x="311" y="224"/>
                        </a:lnTo>
                        <a:lnTo>
                          <a:pt x="301" y="224"/>
                        </a:lnTo>
                        <a:lnTo>
                          <a:pt x="292" y="224"/>
                        </a:lnTo>
                        <a:lnTo>
                          <a:pt x="262" y="224"/>
                        </a:lnTo>
                        <a:lnTo>
                          <a:pt x="253" y="233"/>
                        </a:lnTo>
                        <a:lnTo>
                          <a:pt x="233" y="233"/>
                        </a:lnTo>
                        <a:lnTo>
                          <a:pt x="233" y="224"/>
                        </a:lnTo>
                        <a:lnTo>
                          <a:pt x="243" y="224"/>
                        </a:lnTo>
                        <a:lnTo>
                          <a:pt x="243" y="214"/>
                        </a:lnTo>
                        <a:lnTo>
                          <a:pt x="233" y="204"/>
                        </a:lnTo>
                        <a:lnTo>
                          <a:pt x="233" y="204"/>
                        </a:lnTo>
                        <a:lnTo>
                          <a:pt x="223" y="214"/>
                        </a:lnTo>
                        <a:lnTo>
                          <a:pt x="223" y="224"/>
                        </a:lnTo>
                        <a:lnTo>
                          <a:pt x="223" y="224"/>
                        </a:lnTo>
                        <a:lnTo>
                          <a:pt x="214" y="233"/>
                        </a:lnTo>
                        <a:lnTo>
                          <a:pt x="214" y="243"/>
                        </a:lnTo>
                        <a:lnTo>
                          <a:pt x="214" y="253"/>
                        </a:lnTo>
                        <a:lnTo>
                          <a:pt x="204" y="263"/>
                        </a:lnTo>
                        <a:lnTo>
                          <a:pt x="204" y="272"/>
                        </a:lnTo>
                        <a:lnTo>
                          <a:pt x="204" y="282"/>
                        </a:lnTo>
                        <a:lnTo>
                          <a:pt x="194" y="292"/>
                        </a:lnTo>
                        <a:lnTo>
                          <a:pt x="194" y="302"/>
                        </a:lnTo>
                        <a:lnTo>
                          <a:pt x="185" y="311"/>
                        </a:lnTo>
                        <a:lnTo>
                          <a:pt x="185" y="321"/>
                        </a:lnTo>
                        <a:lnTo>
                          <a:pt x="0" y="321"/>
                        </a:lnTo>
                        <a:lnTo>
                          <a:pt x="0" y="311"/>
                        </a:lnTo>
                        <a:lnTo>
                          <a:pt x="0" y="302"/>
                        </a:lnTo>
                        <a:lnTo>
                          <a:pt x="0" y="292"/>
                        </a:lnTo>
                        <a:lnTo>
                          <a:pt x="9" y="282"/>
                        </a:lnTo>
                        <a:lnTo>
                          <a:pt x="19" y="253"/>
                        </a:lnTo>
                        <a:lnTo>
                          <a:pt x="39" y="224"/>
                        </a:lnTo>
                        <a:lnTo>
                          <a:pt x="48" y="185"/>
                        </a:lnTo>
                        <a:lnTo>
                          <a:pt x="58" y="156"/>
                        </a:lnTo>
                        <a:lnTo>
                          <a:pt x="68" y="126"/>
                        </a:lnTo>
                        <a:lnTo>
                          <a:pt x="87" y="87"/>
                        </a:lnTo>
                        <a:lnTo>
                          <a:pt x="97" y="58"/>
                        </a:lnTo>
                        <a:lnTo>
                          <a:pt x="107" y="29"/>
                        </a:lnTo>
                        <a:lnTo>
                          <a:pt x="107" y="29"/>
                        </a:lnTo>
                        <a:lnTo>
                          <a:pt x="116" y="29"/>
                        </a:lnTo>
                        <a:lnTo>
                          <a:pt x="116" y="19"/>
                        </a:lnTo>
                        <a:lnTo>
                          <a:pt x="126" y="19"/>
                        </a:lnTo>
                        <a:lnTo>
                          <a:pt x="136" y="29"/>
                        </a:lnTo>
                        <a:lnTo>
                          <a:pt x="146" y="39"/>
                        </a:lnTo>
                        <a:lnTo>
                          <a:pt x="155" y="48"/>
                        </a:lnTo>
                        <a:lnTo>
                          <a:pt x="155" y="78"/>
                        </a:lnTo>
                        <a:lnTo>
                          <a:pt x="146" y="87"/>
                        </a:lnTo>
                        <a:lnTo>
                          <a:pt x="146" y="107"/>
                        </a:lnTo>
                        <a:lnTo>
                          <a:pt x="136" y="126"/>
                        </a:lnTo>
                        <a:lnTo>
                          <a:pt x="136" y="136"/>
                        </a:lnTo>
                        <a:lnTo>
                          <a:pt x="165" y="165"/>
                        </a:lnTo>
                        <a:lnTo>
                          <a:pt x="175" y="175"/>
                        </a:lnTo>
                        <a:lnTo>
                          <a:pt x="185" y="175"/>
                        </a:lnTo>
                        <a:lnTo>
                          <a:pt x="194" y="175"/>
                        </a:lnTo>
                        <a:lnTo>
                          <a:pt x="214" y="185"/>
                        </a:lnTo>
                        <a:lnTo>
                          <a:pt x="223" y="185"/>
                        </a:lnTo>
                        <a:lnTo>
                          <a:pt x="233" y="185"/>
                        </a:lnTo>
                        <a:lnTo>
                          <a:pt x="262" y="185"/>
                        </a:lnTo>
                        <a:lnTo>
                          <a:pt x="272" y="175"/>
                        </a:lnTo>
                        <a:lnTo>
                          <a:pt x="292" y="175"/>
                        </a:lnTo>
                        <a:lnTo>
                          <a:pt x="301" y="175"/>
                        </a:lnTo>
                        <a:lnTo>
                          <a:pt x="311" y="175"/>
                        </a:lnTo>
                        <a:lnTo>
                          <a:pt x="340" y="146"/>
                        </a:lnTo>
                        <a:lnTo>
                          <a:pt x="350" y="136"/>
                        </a:lnTo>
                        <a:lnTo>
                          <a:pt x="360" y="117"/>
                        </a:lnTo>
                        <a:lnTo>
                          <a:pt x="369" y="97"/>
                        </a:lnTo>
                        <a:lnTo>
                          <a:pt x="369" y="78"/>
                        </a:lnTo>
                        <a:lnTo>
                          <a:pt x="379" y="58"/>
                        </a:lnTo>
                        <a:lnTo>
                          <a:pt x="389" y="39"/>
                        </a:lnTo>
                        <a:lnTo>
                          <a:pt x="389" y="19"/>
                        </a:lnTo>
                        <a:lnTo>
                          <a:pt x="418" y="0"/>
                        </a:lnTo>
                        <a:lnTo>
                          <a:pt x="418" y="29"/>
                        </a:lnTo>
                        <a:lnTo>
                          <a:pt x="428" y="58"/>
                        </a:lnTo>
                        <a:lnTo>
                          <a:pt x="428" y="117"/>
                        </a:lnTo>
                        <a:lnTo>
                          <a:pt x="418" y="146"/>
                        </a:lnTo>
                        <a:lnTo>
                          <a:pt x="408" y="175"/>
                        </a:lnTo>
                        <a:lnTo>
                          <a:pt x="389" y="185"/>
                        </a:lnTo>
                        <a:lnTo>
                          <a:pt x="369" y="204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5165640" y="2775600"/>
                    <a:ext cx="83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20" y="29"/>
                        </a:lnTo>
                        <a:lnTo>
                          <a:pt x="29" y="29"/>
                        </a:lnTo>
                        <a:lnTo>
                          <a:pt x="59" y="29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78" y="20"/>
                        </a:lnTo>
                        <a:lnTo>
                          <a:pt x="97" y="20"/>
                        </a:lnTo>
                        <a:lnTo>
                          <a:pt x="107" y="20"/>
                        </a:lnTo>
                        <a:lnTo>
                          <a:pt x="117" y="20"/>
                        </a:lnTo>
                        <a:lnTo>
                          <a:pt x="117" y="10"/>
                        </a:lnTo>
                        <a:lnTo>
                          <a:pt x="127" y="10"/>
                        </a:lnTo>
                        <a:lnTo>
                          <a:pt x="136" y="0"/>
                        </a:lnTo>
                        <a:lnTo>
                          <a:pt x="136" y="0"/>
                        </a:lnTo>
                        <a:lnTo>
                          <a:pt x="12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97" y="10"/>
                        </a:lnTo>
                        <a:lnTo>
                          <a:pt x="88" y="10"/>
                        </a:lnTo>
                        <a:lnTo>
                          <a:pt x="78" y="20"/>
                        </a:lnTo>
                        <a:lnTo>
                          <a:pt x="68" y="20"/>
                        </a:lnTo>
                        <a:lnTo>
                          <a:pt x="68" y="20"/>
                        </a:lnTo>
                        <a:lnTo>
                          <a:pt x="29" y="20"/>
                        </a:lnTo>
                        <a:lnTo>
                          <a:pt x="20" y="2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5165640" y="27756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0" y="10"/>
                        </a:move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5148000" y="277560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10" y="39"/>
                        </a:move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5130000" y="2799720"/>
                    <a:ext cx="23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78"/>
                        </a:moveTo>
                        <a:lnTo>
                          <a:pt x="10" y="78"/>
                        </a:lnTo>
                        <a:lnTo>
                          <a:pt x="19" y="68"/>
                        </a:lnTo>
                        <a:lnTo>
                          <a:pt x="19" y="5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9" y="49"/>
                        </a:lnTo>
                        <a:lnTo>
                          <a:pt x="10" y="59"/>
                        </a:lnTo>
                        <a:lnTo>
                          <a:pt x="10" y="6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lnTo>
                          <a:pt x="1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>
                    <a:off x="5015880" y="2841840"/>
                    <a:ext cx="11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5" y="10"/>
                        </a:lnTo>
                        <a:lnTo>
                          <a:pt x="195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5015880" y="2823840"/>
                    <a:ext cx="115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5022360" y="2667240"/>
                    <a:ext cx="658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53">
                        <a:moveTo>
                          <a:pt x="107" y="0"/>
                        </a:moveTo>
                        <a:lnTo>
                          <a:pt x="87" y="29"/>
                        </a:lnTo>
                        <a:lnTo>
                          <a:pt x="78" y="58"/>
                        </a:lnTo>
                        <a:lnTo>
                          <a:pt x="68" y="97"/>
                        </a:lnTo>
                        <a:lnTo>
                          <a:pt x="48" y="127"/>
                        </a:lnTo>
                        <a:lnTo>
                          <a:pt x="39" y="156"/>
                        </a:lnTo>
                        <a:lnTo>
                          <a:pt x="29" y="195"/>
                        </a:lnTo>
                        <a:lnTo>
                          <a:pt x="19" y="224"/>
                        </a:lnTo>
                        <a:lnTo>
                          <a:pt x="0" y="253"/>
                        </a:lnTo>
                        <a:lnTo>
                          <a:pt x="9" y="253"/>
                        </a:lnTo>
                        <a:lnTo>
                          <a:pt x="29" y="224"/>
                        </a:lnTo>
                        <a:lnTo>
                          <a:pt x="39" y="195"/>
                        </a:lnTo>
                        <a:lnTo>
                          <a:pt x="48" y="156"/>
                        </a:lnTo>
                        <a:lnTo>
                          <a:pt x="58" y="127"/>
                        </a:lnTo>
                        <a:lnTo>
                          <a:pt x="78" y="97"/>
                        </a:lnTo>
                        <a:lnTo>
                          <a:pt x="87" y="68"/>
                        </a:lnTo>
                        <a:lnTo>
                          <a:pt x="97" y="29"/>
                        </a:lnTo>
                        <a:lnTo>
                          <a:pt x="107" y="0"/>
                        </a:lnTo>
                        <a:lnTo>
                          <a:pt x="107" y="10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>
                    <a:off x="5088240" y="2661120"/>
                    <a:ext cx="17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29" y="0"/>
                        </a:move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5099760" y="2661120"/>
                    <a:ext cx="17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17">
                        <a:moveTo>
                          <a:pt x="20" y="117"/>
                        </a:moveTo>
                        <a:lnTo>
                          <a:pt x="20" y="117"/>
                        </a:lnTo>
                        <a:lnTo>
                          <a:pt x="20" y="107"/>
                        </a:lnTo>
                        <a:lnTo>
                          <a:pt x="20" y="88"/>
                        </a:lnTo>
                        <a:lnTo>
                          <a:pt x="29" y="68"/>
                        </a:lnTo>
                        <a:lnTo>
                          <a:pt x="29" y="5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0" y="29"/>
                        </a:lnTo>
                        <a:lnTo>
                          <a:pt x="29" y="3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10" y="88"/>
                        </a:lnTo>
                        <a:lnTo>
                          <a:pt x="10" y="10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10" y="117"/>
                        </a:lnTo>
                        <a:lnTo>
                          <a:pt x="2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5106240" y="2733480"/>
                    <a:ext cx="532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59">
                        <a:moveTo>
                          <a:pt x="87" y="49"/>
                        </a:moveTo>
                        <a:lnTo>
                          <a:pt x="78" y="39"/>
                        </a:lnTo>
                        <a:lnTo>
                          <a:pt x="68" y="39"/>
                        </a:lnTo>
                        <a:lnTo>
                          <a:pt x="49" y="39"/>
                        </a:lnTo>
                        <a:lnTo>
                          <a:pt x="39" y="29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9" y="39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4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78" y="59"/>
                        </a:lnTo>
                        <a:lnTo>
                          <a:pt x="87" y="59"/>
                        </a:lnTo>
                        <a:lnTo>
                          <a:pt x="87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>
                    <a:off x="5159520" y="2746080"/>
                    <a:ext cx="658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9">
                        <a:moveTo>
                          <a:pt x="98" y="0"/>
                        </a:moveTo>
                        <a:lnTo>
                          <a:pt x="88" y="9"/>
                        </a:lnTo>
                        <a:lnTo>
                          <a:pt x="78" y="19"/>
                        </a:lnTo>
                        <a:lnTo>
                          <a:pt x="69" y="19"/>
                        </a:lnTo>
                        <a:lnTo>
                          <a:pt x="49" y="19"/>
                        </a:lnTo>
                        <a:lnTo>
                          <a:pt x="39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69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107" y="9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>
                    <a:off x="5220000" y="2655720"/>
                    <a:ext cx="41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5">
                        <a:moveTo>
                          <a:pt x="68" y="0"/>
                        </a:moveTo>
                        <a:lnTo>
                          <a:pt x="68" y="9"/>
                        </a:lnTo>
                        <a:lnTo>
                          <a:pt x="58" y="29"/>
                        </a:lnTo>
                        <a:lnTo>
                          <a:pt x="58" y="48"/>
                        </a:lnTo>
                        <a:lnTo>
                          <a:pt x="48" y="68"/>
                        </a:lnTo>
                        <a:lnTo>
                          <a:pt x="39" y="77"/>
                        </a:lnTo>
                        <a:lnTo>
                          <a:pt x="29" y="97"/>
                        </a:lnTo>
                        <a:lnTo>
                          <a:pt x="29" y="116"/>
                        </a:lnTo>
                        <a:lnTo>
                          <a:pt x="9" y="136"/>
                        </a:lnTo>
                        <a:lnTo>
                          <a:pt x="0" y="146"/>
                        </a:lnTo>
                        <a:lnTo>
                          <a:pt x="9" y="155"/>
                        </a:lnTo>
                        <a:lnTo>
                          <a:pt x="19" y="136"/>
                        </a:lnTo>
                        <a:lnTo>
                          <a:pt x="29" y="126"/>
                        </a:lnTo>
                        <a:lnTo>
                          <a:pt x="39" y="107"/>
                        </a:lnTo>
                        <a:lnTo>
                          <a:pt x="48" y="87"/>
                        </a:lnTo>
                        <a:lnTo>
                          <a:pt x="58" y="68"/>
                        </a:lnTo>
                        <a:lnTo>
                          <a:pt x="68" y="48"/>
                        </a:lnTo>
                        <a:lnTo>
                          <a:pt x="68" y="2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>
                    <a:off x="5262120" y="26496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39" y="0"/>
                        </a:moveTo>
                        <a:lnTo>
                          <a:pt x="29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5249520" y="2649600"/>
                    <a:ext cx="4176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04">
                        <a:moveTo>
                          <a:pt x="0" y="204"/>
                        </a:moveTo>
                        <a:lnTo>
                          <a:pt x="29" y="195"/>
                        </a:lnTo>
                        <a:lnTo>
                          <a:pt x="49" y="175"/>
                        </a:lnTo>
                        <a:lnTo>
                          <a:pt x="59" y="146"/>
                        </a:lnTo>
                        <a:lnTo>
                          <a:pt x="59" y="117"/>
                        </a:lnTo>
                        <a:lnTo>
                          <a:pt x="68" y="87"/>
                        </a:lnTo>
                        <a:lnTo>
                          <a:pt x="59" y="58"/>
                        </a:lnTo>
                        <a:lnTo>
                          <a:pt x="59" y="2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49" y="29"/>
                        </a:lnTo>
                        <a:lnTo>
                          <a:pt x="49" y="146"/>
                        </a:lnTo>
                        <a:lnTo>
                          <a:pt x="39" y="165"/>
                        </a:lnTo>
                        <a:lnTo>
                          <a:pt x="20" y="185"/>
                        </a:lnTo>
                        <a:lnTo>
                          <a:pt x="0" y="204"/>
                        </a:lnTo>
                        <a:lnTo>
                          <a:pt x="0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3529080" y="2673720"/>
                    <a:ext cx="1620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92">
                        <a:moveTo>
                          <a:pt x="127" y="0"/>
                        </a:moveTo>
                        <a:lnTo>
                          <a:pt x="127" y="9"/>
                        </a:lnTo>
                        <a:lnTo>
                          <a:pt x="127" y="39"/>
                        </a:lnTo>
                        <a:lnTo>
                          <a:pt x="127" y="48"/>
                        </a:lnTo>
                        <a:lnTo>
                          <a:pt x="127" y="78"/>
                        </a:lnTo>
                        <a:lnTo>
                          <a:pt x="136" y="97"/>
                        </a:lnTo>
                        <a:lnTo>
                          <a:pt x="146" y="117"/>
                        </a:lnTo>
                        <a:lnTo>
                          <a:pt x="146" y="126"/>
                        </a:lnTo>
                        <a:lnTo>
                          <a:pt x="165" y="136"/>
                        </a:lnTo>
                        <a:lnTo>
                          <a:pt x="185" y="136"/>
                        </a:lnTo>
                        <a:lnTo>
                          <a:pt x="185" y="156"/>
                        </a:lnTo>
                        <a:lnTo>
                          <a:pt x="185" y="165"/>
                        </a:lnTo>
                        <a:lnTo>
                          <a:pt x="195" y="185"/>
                        </a:lnTo>
                        <a:lnTo>
                          <a:pt x="204" y="185"/>
                        </a:lnTo>
                        <a:lnTo>
                          <a:pt x="214" y="204"/>
                        </a:lnTo>
                        <a:lnTo>
                          <a:pt x="214" y="214"/>
                        </a:lnTo>
                        <a:lnTo>
                          <a:pt x="214" y="224"/>
                        </a:lnTo>
                        <a:lnTo>
                          <a:pt x="204" y="243"/>
                        </a:lnTo>
                        <a:lnTo>
                          <a:pt x="204" y="253"/>
                        </a:lnTo>
                        <a:lnTo>
                          <a:pt x="214" y="263"/>
                        </a:lnTo>
                        <a:lnTo>
                          <a:pt x="214" y="263"/>
                        </a:lnTo>
                        <a:lnTo>
                          <a:pt x="214" y="272"/>
                        </a:lnTo>
                        <a:lnTo>
                          <a:pt x="224" y="272"/>
                        </a:lnTo>
                        <a:lnTo>
                          <a:pt x="224" y="272"/>
                        </a:lnTo>
                        <a:lnTo>
                          <a:pt x="253" y="272"/>
                        </a:lnTo>
                        <a:lnTo>
                          <a:pt x="253" y="272"/>
                        </a:lnTo>
                        <a:lnTo>
                          <a:pt x="263" y="272"/>
                        </a:lnTo>
                        <a:lnTo>
                          <a:pt x="263" y="263"/>
                        </a:lnTo>
                        <a:lnTo>
                          <a:pt x="263" y="272"/>
                        </a:lnTo>
                        <a:lnTo>
                          <a:pt x="10" y="272"/>
                        </a:lnTo>
                        <a:lnTo>
                          <a:pt x="0" y="292"/>
                        </a:lnTo>
                        <a:lnTo>
                          <a:pt x="0" y="263"/>
                        </a:lnTo>
                        <a:lnTo>
                          <a:pt x="0" y="233"/>
                        </a:lnTo>
                        <a:lnTo>
                          <a:pt x="10" y="214"/>
                        </a:lnTo>
                        <a:lnTo>
                          <a:pt x="20" y="185"/>
                        </a:lnTo>
                        <a:lnTo>
                          <a:pt x="29" y="175"/>
                        </a:lnTo>
                        <a:lnTo>
                          <a:pt x="39" y="175"/>
                        </a:lnTo>
                        <a:lnTo>
                          <a:pt x="58" y="165"/>
                        </a:lnTo>
                        <a:lnTo>
                          <a:pt x="68" y="156"/>
                        </a:lnTo>
                        <a:lnTo>
                          <a:pt x="78" y="146"/>
                        </a:lnTo>
                        <a:lnTo>
                          <a:pt x="97" y="136"/>
                        </a:lnTo>
                        <a:lnTo>
                          <a:pt x="107" y="117"/>
                        </a:lnTo>
                        <a:lnTo>
                          <a:pt x="107" y="107"/>
                        </a:lnTo>
                        <a:lnTo>
                          <a:pt x="97" y="97"/>
                        </a:lnTo>
                        <a:lnTo>
                          <a:pt x="97" y="78"/>
                        </a:lnTo>
                        <a:lnTo>
                          <a:pt x="97" y="68"/>
                        </a:lnTo>
                        <a:lnTo>
                          <a:pt x="88" y="58"/>
                        </a:lnTo>
                        <a:lnTo>
                          <a:pt x="88" y="48"/>
                        </a:lnTo>
                        <a:lnTo>
                          <a:pt x="78" y="29"/>
                        </a:lnTo>
                        <a:lnTo>
                          <a:pt x="68" y="19"/>
                        </a:lnTo>
                        <a:lnTo>
                          <a:pt x="78" y="9"/>
                        </a:lnTo>
                        <a:lnTo>
                          <a:pt x="88" y="9"/>
                        </a:lnTo>
                        <a:lnTo>
                          <a:pt x="97" y="9"/>
                        </a:lnTo>
                        <a:lnTo>
                          <a:pt x="107" y="9"/>
                        </a:lnTo>
                        <a:lnTo>
                          <a:pt x="117" y="0"/>
                        </a:lnTo>
                        <a:lnTo>
                          <a:pt x="127" y="0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>
                    <a:off x="3601080" y="2673720"/>
                    <a:ext cx="291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46">
                        <a:moveTo>
                          <a:pt x="48" y="136"/>
                        </a:moveTo>
                        <a:lnTo>
                          <a:pt x="39" y="126"/>
                        </a:lnTo>
                        <a:lnTo>
                          <a:pt x="29" y="107"/>
                        </a:lnTo>
                        <a:lnTo>
                          <a:pt x="19" y="97"/>
                        </a:lnTo>
                        <a:lnTo>
                          <a:pt x="19" y="78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9" y="9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78"/>
                        </a:lnTo>
                        <a:lnTo>
                          <a:pt x="10" y="97"/>
                        </a:lnTo>
                        <a:lnTo>
                          <a:pt x="19" y="117"/>
                        </a:lnTo>
                        <a:lnTo>
                          <a:pt x="29" y="136"/>
                        </a:lnTo>
                        <a:lnTo>
                          <a:pt x="48" y="146"/>
                        </a:lnTo>
                        <a:lnTo>
                          <a:pt x="48" y="1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>
                    <a:off x="3630600" y="275760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3636720" y="2757600"/>
                    <a:ext cx="298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7">
                        <a:moveTo>
                          <a:pt x="39" y="107"/>
                        </a:moveTo>
                        <a:lnTo>
                          <a:pt x="39" y="107"/>
                        </a:lnTo>
                        <a:lnTo>
                          <a:pt x="49" y="88"/>
                        </a:lnTo>
                        <a:lnTo>
                          <a:pt x="49" y="78"/>
                        </a:lnTo>
                        <a:lnTo>
                          <a:pt x="39" y="68"/>
                        </a:lnTo>
                        <a:lnTo>
                          <a:pt x="39" y="49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49"/>
                        </a:lnTo>
                        <a:lnTo>
                          <a:pt x="29" y="58"/>
                        </a:lnTo>
                        <a:lnTo>
                          <a:pt x="29" y="68"/>
                        </a:lnTo>
                        <a:lnTo>
                          <a:pt x="39" y="78"/>
                        </a:lnTo>
                        <a:lnTo>
                          <a:pt x="39" y="88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29" y="97"/>
                        </a:lnTo>
                        <a:lnTo>
                          <a:pt x="29" y="107"/>
                        </a:lnTo>
                        <a:lnTo>
                          <a:pt x="39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>
                    <a:off x="3654720" y="28238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29"/>
                        </a:move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>
                    <a:off x="3666960" y="2836440"/>
                    <a:ext cx="295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">
                        <a:moveTo>
                          <a:pt x="48" y="0"/>
                        </a:move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39" y="9"/>
                        </a:lnTo>
                        <a:lnTo>
                          <a:pt x="39" y="9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3" name=""/>
                <p:cNvGrpSpPr/>
                <p:nvPr/>
              </p:nvGrpSpPr>
              <p:grpSpPr>
                <a:xfrm>
                  <a:off x="3421080" y="2666520"/>
                  <a:ext cx="1847160" cy="793080"/>
                  <a:chOff x="3421080" y="2666520"/>
                  <a:chExt cx="1847160" cy="793080"/>
                </a:xfrm>
              </p:grpSpPr>
              <p:sp>
                <p:nvSpPr>
                  <p:cNvPr id="2924" name=""/>
                  <p:cNvSpPr/>
                  <p:nvPr/>
                </p:nvSpPr>
                <p:spPr>
                  <a:xfrm>
                    <a:off x="3691080" y="283500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0" y="19"/>
                        </a:move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>
                    <a:off x="3535200" y="2840400"/>
                    <a:ext cx="15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0">
                        <a:moveTo>
                          <a:pt x="0" y="10"/>
                        </a:moveTo>
                        <a:lnTo>
                          <a:pt x="253" y="10"/>
                        </a:lnTo>
                        <a:lnTo>
                          <a:pt x="253" y="0"/>
                        </a:lnTo>
                        <a:lnTo>
                          <a:pt x="97" y="0"/>
                        </a:lnTo>
                        <a:lnTo>
                          <a:pt x="78" y="0"/>
                        </a:lnTo>
                        <a:lnTo>
                          <a:pt x="48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>
                    <a:off x="3522600" y="284040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0" y="2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>
                    <a:off x="3522600" y="2786760"/>
                    <a:ext cx="183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7">
                        <a:moveTo>
                          <a:pt x="20" y="0"/>
                        </a:moveTo>
                        <a:lnTo>
                          <a:pt x="10" y="19"/>
                        </a:lnTo>
                        <a:lnTo>
                          <a:pt x="10" y="48"/>
                        </a:lnTo>
                        <a:lnTo>
                          <a:pt x="0" y="7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10" y="7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>
                    <a:off x="3535200" y="2744640"/>
                    <a:ext cx="5940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8">
                        <a:moveTo>
                          <a:pt x="87" y="0"/>
                        </a:moveTo>
                        <a:lnTo>
                          <a:pt x="87" y="19"/>
                        </a:lnTo>
                        <a:lnTo>
                          <a:pt x="68" y="29"/>
                        </a:lnTo>
                        <a:lnTo>
                          <a:pt x="58" y="39"/>
                        </a:lnTo>
                        <a:lnTo>
                          <a:pt x="39" y="48"/>
                        </a:lnTo>
                        <a:lnTo>
                          <a:pt x="29" y="48"/>
                        </a:lnTo>
                        <a:lnTo>
                          <a:pt x="19" y="58"/>
                        </a:lnTo>
                        <a:lnTo>
                          <a:pt x="0" y="68"/>
                        </a:lnTo>
                        <a:lnTo>
                          <a:pt x="1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68" y="3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97" y="9"/>
                        </a:lnTo>
                        <a:lnTo>
                          <a:pt x="97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>
                    <a:off x="3570840" y="2684160"/>
                    <a:ext cx="23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20" y="39"/>
                        </a:lnTo>
                        <a:lnTo>
                          <a:pt x="20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29" y="88"/>
                        </a:lnTo>
                        <a:lnTo>
                          <a:pt x="29" y="98"/>
                        </a:lnTo>
                        <a:lnTo>
                          <a:pt x="39" y="98"/>
                        </a:lnTo>
                        <a:lnTo>
                          <a:pt x="39" y="88"/>
                        </a:lnTo>
                        <a:lnTo>
                          <a:pt x="39" y="78"/>
                        </a:lnTo>
                        <a:lnTo>
                          <a:pt x="29" y="59"/>
                        </a:lnTo>
                        <a:lnTo>
                          <a:pt x="29" y="49"/>
                        </a:lnTo>
                        <a:lnTo>
                          <a:pt x="29" y="29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>
                    <a:off x="3570840" y="266652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68" y="10"/>
                        </a:moveTo>
                        <a:lnTo>
                          <a:pt x="59" y="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20" y="10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0" y="2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>
                    <a:off x="4704840" y="2672640"/>
                    <a:ext cx="47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9">
                        <a:moveTo>
                          <a:pt x="78" y="9"/>
                        </a:move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59" y="2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39" y="0"/>
                        </a:lnTo>
                        <a:lnTo>
                          <a:pt x="59" y="0"/>
                        </a:lnTo>
                        <a:lnTo>
                          <a:pt x="68" y="0"/>
                        </a:lnTo>
                        <a:lnTo>
                          <a:pt x="78" y="9"/>
                        </a:lnTo>
                        <a:close/>
                      </a:path>
                    </a:pathLst>
                  </a:custGeom>
                  <a:solidFill>
                    <a:srgbClr val="ff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4704840" y="2678040"/>
                    <a:ext cx="54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0">
                        <a:moveTo>
                          <a:pt x="0" y="30"/>
                        </a:moveTo>
                        <a:lnTo>
                          <a:pt x="39" y="30"/>
                        </a:lnTo>
                        <a:lnTo>
                          <a:pt x="4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1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>
                    <a:off x="4699080" y="266652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0" y="39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19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>
                    <a:off x="4704840" y="2666520"/>
                    <a:ext cx="54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9">
                        <a:moveTo>
                          <a:pt x="88" y="19"/>
                        </a:move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0"/>
                        </a:lnTo>
                        <a:lnTo>
                          <a:pt x="59" y="10"/>
                        </a:lnTo>
                        <a:lnTo>
                          <a:pt x="68" y="19"/>
                        </a:lnTo>
                        <a:lnTo>
                          <a:pt x="7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lnTo>
                          <a:pt x="88" y="19"/>
                        </a:lnTo>
                        <a:lnTo>
                          <a:pt x="78" y="19"/>
                        </a:lnTo>
                        <a:lnTo>
                          <a:pt x="88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>
                    <a:off x="3427200" y="2672640"/>
                    <a:ext cx="1558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165">
                        <a:moveTo>
                          <a:pt x="253" y="107"/>
                        </a:moveTo>
                        <a:lnTo>
                          <a:pt x="243" y="117"/>
                        </a:lnTo>
                        <a:lnTo>
                          <a:pt x="243" y="126"/>
                        </a:lnTo>
                        <a:lnTo>
                          <a:pt x="233" y="136"/>
                        </a:lnTo>
                        <a:lnTo>
                          <a:pt x="223" y="136"/>
                        </a:lnTo>
                        <a:lnTo>
                          <a:pt x="214" y="146"/>
                        </a:lnTo>
                        <a:lnTo>
                          <a:pt x="204" y="146"/>
                        </a:lnTo>
                        <a:lnTo>
                          <a:pt x="194" y="156"/>
                        </a:lnTo>
                        <a:lnTo>
                          <a:pt x="185" y="165"/>
                        </a:lnTo>
                        <a:lnTo>
                          <a:pt x="175" y="165"/>
                        </a:lnTo>
                        <a:lnTo>
                          <a:pt x="165" y="165"/>
                        </a:lnTo>
                        <a:lnTo>
                          <a:pt x="107" y="165"/>
                        </a:lnTo>
                        <a:lnTo>
                          <a:pt x="97" y="165"/>
                        </a:lnTo>
                        <a:lnTo>
                          <a:pt x="87" y="165"/>
                        </a:lnTo>
                        <a:lnTo>
                          <a:pt x="78" y="156"/>
                        </a:lnTo>
                        <a:lnTo>
                          <a:pt x="68" y="156"/>
                        </a:lnTo>
                        <a:lnTo>
                          <a:pt x="58" y="146"/>
                        </a:lnTo>
                        <a:lnTo>
                          <a:pt x="58" y="136"/>
                        </a:lnTo>
                        <a:lnTo>
                          <a:pt x="48" y="136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48"/>
                        </a:lnTo>
                        <a:lnTo>
                          <a:pt x="48" y="48"/>
                        </a:lnTo>
                        <a:lnTo>
                          <a:pt x="48" y="48"/>
                        </a:lnTo>
                        <a:lnTo>
                          <a:pt x="58" y="39"/>
                        </a:lnTo>
                        <a:lnTo>
                          <a:pt x="68" y="19"/>
                        </a:lnTo>
                        <a:lnTo>
                          <a:pt x="78" y="29"/>
                        </a:lnTo>
                        <a:lnTo>
                          <a:pt x="87" y="29"/>
                        </a:lnTo>
                        <a:lnTo>
                          <a:pt x="87" y="39"/>
                        </a:lnTo>
                        <a:lnTo>
                          <a:pt x="97" y="39"/>
                        </a:lnTo>
                        <a:lnTo>
                          <a:pt x="11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36" y="29"/>
                        </a:lnTo>
                        <a:lnTo>
                          <a:pt x="146" y="19"/>
                        </a:lnTo>
                        <a:lnTo>
                          <a:pt x="155" y="1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75" y="9"/>
                        </a:lnTo>
                        <a:lnTo>
                          <a:pt x="185" y="0"/>
                        </a:lnTo>
                        <a:lnTo>
                          <a:pt x="185" y="0"/>
                        </a:lnTo>
                        <a:lnTo>
                          <a:pt x="204" y="9"/>
                        </a:lnTo>
                        <a:lnTo>
                          <a:pt x="214" y="19"/>
                        </a:lnTo>
                        <a:lnTo>
                          <a:pt x="223" y="39"/>
                        </a:lnTo>
                        <a:lnTo>
                          <a:pt x="223" y="48"/>
                        </a:lnTo>
                        <a:lnTo>
                          <a:pt x="233" y="68"/>
                        </a:lnTo>
                        <a:lnTo>
                          <a:pt x="243" y="78"/>
                        </a:lnTo>
                        <a:lnTo>
                          <a:pt x="243" y="97"/>
                        </a:lnTo>
                        <a:lnTo>
                          <a:pt x="253" y="10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>
                    <a:off x="3541320" y="2738520"/>
                    <a:ext cx="41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8">
                        <a:moveTo>
                          <a:pt x="0" y="58"/>
                        </a:moveTo>
                        <a:lnTo>
                          <a:pt x="9" y="49"/>
                        </a:lnTo>
                        <a:lnTo>
                          <a:pt x="19" y="49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29"/>
                        </a:lnTo>
                        <a:lnTo>
                          <a:pt x="58" y="29"/>
                        </a:lnTo>
                        <a:lnTo>
                          <a:pt x="68" y="19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9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>
                    <a:off x="3456720" y="2756520"/>
                    <a:ext cx="84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9">
                        <a:moveTo>
                          <a:pt x="0" y="0"/>
                        </a:move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59" y="39"/>
                        </a:lnTo>
                        <a:lnTo>
                          <a:pt x="69" y="39"/>
                        </a:lnTo>
                        <a:lnTo>
                          <a:pt x="78" y="39"/>
                        </a:lnTo>
                        <a:lnTo>
                          <a:pt x="88" y="39"/>
                        </a:lnTo>
                        <a:lnTo>
                          <a:pt x="107" y="39"/>
                        </a:lnTo>
                        <a:lnTo>
                          <a:pt x="117" y="39"/>
                        </a:lnTo>
                        <a:lnTo>
                          <a:pt x="127" y="29"/>
                        </a:lnTo>
                        <a:lnTo>
                          <a:pt x="127" y="29"/>
                        </a:lnTo>
                        <a:lnTo>
                          <a:pt x="137" y="29"/>
                        </a:lnTo>
                        <a:lnTo>
                          <a:pt x="137" y="20"/>
                        </a:lnTo>
                        <a:lnTo>
                          <a:pt x="127" y="20"/>
                        </a:lnTo>
                        <a:lnTo>
                          <a:pt x="127" y="29"/>
                        </a:lnTo>
                        <a:lnTo>
                          <a:pt x="49" y="29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>
                    <a:off x="3421080" y="2708280"/>
                    <a:ext cx="35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58" y="78"/>
                        </a:lnTo>
                        <a:lnTo>
                          <a:pt x="58" y="7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>
                    <a:off x="3427200" y="2696760"/>
                    <a:ext cx="41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9">
                        <a:moveTo>
                          <a:pt x="58" y="0"/>
                        </a:moveTo>
                        <a:lnTo>
                          <a:pt x="48" y="0"/>
                        </a:lnTo>
                        <a:lnTo>
                          <a:pt x="48" y="9"/>
                        </a:lnTo>
                        <a:lnTo>
                          <a:pt x="39" y="9"/>
                        </a:lnTo>
                        <a:lnTo>
                          <a:pt x="29" y="9"/>
                        </a:lnTo>
                        <a:lnTo>
                          <a:pt x="29" y="19"/>
                        </a:lnTo>
                        <a:lnTo>
                          <a:pt x="19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>
                    <a:off x="3462840" y="2678040"/>
                    <a:ext cx="12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>
                    <a:off x="3468960" y="2672640"/>
                    <a:ext cx="77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48">
                        <a:moveTo>
                          <a:pt x="126" y="0"/>
                        </a:move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97" y="9"/>
                        </a:lnTo>
                        <a:lnTo>
                          <a:pt x="87" y="9"/>
                        </a:lnTo>
                        <a:lnTo>
                          <a:pt x="87" y="19"/>
                        </a:lnTo>
                        <a:lnTo>
                          <a:pt x="78" y="19"/>
                        </a:lnTo>
                        <a:lnTo>
                          <a:pt x="68" y="19"/>
                        </a:lnTo>
                        <a:lnTo>
                          <a:pt x="68" y="29"/>
                        </a:lnTo>
                        <a:lnTo>
                          <a:pt x="58" y="29"/>
                        </a:lnTo>
                        <a:lnTo>
                          <a:pt x="49" y="3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10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29" y="48"/>
                        </a:lnTo>
                        <a:lnTo>
                          <a:pt x="49" y="48"/>
                        </a:lnTo>
                        <a:lnTo>
                          <a:pt x="58" y="39"/>
                        </a:lnTo>
                        <a:lnTo>
                          <a:pt x="68" y="39"/>
                        </a:lnTo>
                        <a:lnTo>
                          <a:pt x="68" y="29"/>
                        </a:lnTo>
                        <a:lnTo>
                          <a:pt x="78" y="29"/>
                        </a:lnTo>
                        <a:lnTo>
                          <a:pt x="87" y="19"/>
                        </a:lnTo>
                        <a:lnTo>
                          <a:pt x="97" y="19"/>
                        </a:lnTo>
                        <a:lnTo>
                          <a:pt x="107" y="9"/>
                        </a:lnTo>
                        <a:lnTo>
                          <a:pt x="107" y="9"/>
                        </a:lnTo>
                        <a:lnTo>
                          <a:pt x="117" y="9"/>
                        </a:lnTo>
                        <a:lnTo>
                          <a:pt x="126" y="9"/>
                        </a:lnTo>
                        <a:lnTo>
                          <a:pt x="117" y="9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>
                    <a:off x="3541320" y="2672640"/>
                    <a:ext cx="41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17">
                        <a:moveTo>
                          <a:pt x="68" y="117"/>
                        </a:moveTo>
                        <a:lnTo>
                          <a:pt x="68" y="107"/>
                        </a:lnTo>
                        <a:lnTo>
                          <a:pt x="68" y="97"/>
                        </a:lnTo>
                        <a:lnTo>
                          <a:pt x="58" y="78"/>
                        </a:lnTo>
                        <a:lnTo>
                          <a:pt x="58" y="68"/>
                        </a:lnTo>
                        <a:lnTo>
                          <a:pt x="48" y="48"/>
                        </a:lnTo>
                        <a:lnTo>
                          <a:pt x="38" y="39"/>
                        </a:lnTo>
                        <a:lnTo>
                          <a:pt x="29" y="1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9" y="29"/>
                        </a:lnTo>
                        <a:lnTo>
                          <a:pt x="29" y="39"/>
                        </a:lnTo>
                        <a:lnTo>
                          <a:pt x="38" y="48"/>
                        </a:lnTo>
                        <a:lnTo>
                          <a:pt x="48" y="68"/>
                        </a:lnTo>
                        <a:lnTo>
                          <a:pt x="48" y="78"/>
                        </a:lnTo>
                        <a:lnTo>
                          <a:pt x="58" y="9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lnTo>
                          <a:pt x="68" y="107"/>
                        </a:lnTo>
                        <a:lnTo>
                          <a:pt x="68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>
                    <a:off x="4939200" y="2672640"/>
                    <a:ext cx="137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07">
                        <a:moveTo>
                          <a:pt x="175" y="97"/>
                        </a:moveTo>
                        <a:lnTo>
                          <a:pt x="165" y="97"/>
                        </a:lnTo>
                        <a:lnTo>
                          <a:pt x="145" y="97"/>
                        </a:lnTo>
                        <a:lnTo>
                          <a:pt x="136" y="87"/>
                        </a:lnTo>
                        <a:lnTo>
                          <a:pt x="126" y="78"/>
                        </a:lnTo>
                        <a:lnTo>
                          <a:pt x="116" y="6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9" y="107"/>
                        </a:lnTo>
                        <a:lnTo>
                          <a:pt x="9" y="9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9" y="58"/>
                        </a:lnTo>
                        <a:lnTo>
                          <a:pt x="19" y="48"/>
                        </a:lnTo>
                        <a:lnTo>
                          <a:pt x="38" y="48"/>
                        </a:lnTo>
                        <a:lnTo>
                          <a:pt x="48" y="48"/>
                        </a:lnTo>
                        <a:lnTo>
                          <a:pt x="58" y="48"/>
                        </a:lnTo>
                        <a:lnTo>
                          <a:pt x="77" y="48"/>
                        </a:lnTo>
                        <a:lnTo>
                          <a:pt x="87" y="39"/>
                        </a:lnTo>
                        <a:lnTo>
                          <a:pt x="107" y="39"/>
                        </a:lnTo>
                        <a:lnTo>
                          <a:pt x="11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19"/>
                        </a:lnTo>
                        <a:lnTo>
                          <a:pt x="175" y="19"/>
                        </a:lnTo>
                        <a:lnTo>
                          <a:pt x="184" y="19"/>
                        </a:lnTo>
                        <a:lnTo>
                          <a:pt x="194" y="9"/>
                        </a:lnTo>
                        <a:lnTo>
                          <a:pt x="214" y="9"/>
                        </a:lnTo>
                        <a:lnTo>
                          <a:pt x="223" y="0"/>
                        </a:lnTo>
                        <a:lnTo>
                          <a:pt x="175" y="9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>
                    <a:off x="4980960" y="2696760"/>
                    <a:ext cx="65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8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58" y="39"/>
                        </a:lnTo>
                        <a:lnTo>
                          <a:pt x="68" y="48"/>
                        </a:lnTo>
                        <a:lnTo>
                          <a:pt x="77" y="58"/>
                        </a:lnTo>
                        <a:lnTo>
                          <a:pt x="97" y="58"/>
                        </a:lnTo>
                        <a:lnTo>
                          <a:pt x="107" y="68"/>
                        </a:lnTo>
                        <a:lnTo>
                          <a:pt x="107" y="58"/>
                        </a:lnTo>
                        <a:lnTo>
                          <a:pt x="97" y="58"/>
                        </a:lnTo>
                        <a:lnTo>
                          <a:pt x="87" y="48"/>
                        </a:lnTo>
                        <a:lnTo>
                          <a:pt x="68" y="48"/>
                        </a:lnTo>
                        <a:lnTo>
                          <a:pt x="58" y="39"/>
                        </a:lnTo>
                        <a:lnTo>
                          <a:pt x="48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>
                    <a:off x="4939200" y="2702160"/>
                    <a:ext cx="475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9">
                        <a:moveTo>
                          <a:pt x="0" y="59"/>
                        </a:moveTo>
                        <a:lnTo>
                          <a:pt x="9" y="59"/>
                        </a:lnTo>
                        <a:lnTo>
                          <a:pt x="77" y="0"/>
                        </a:lnTo>
                        <a:lnTo>
                          <a:pt x="68" y="0"/>
                        </a:lnTo>
                        <a:lnTo>
                          <a:pt x="0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4939200" y="2702160"/>
                    <a:ext cx="54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9">
                        <a:moveTo>
                          <a:pt x="0" y="0"/>
                        </a:move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0"/>
                        </a:lnTo>
                        <a:lnTo>
                          <a:pt x="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4939200" y="2666520"/>
                    <a:ext cx="1436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68">
                        <a:moveTo>
                          <a:pt x="223" y="10"/>
                        </a:moveTo>
                        <a:lnTo>
                          <a:pt x="223" y="10"/>
                        </a:lnTo>
                        <a:lnTo>
                          <a:pt x="204" y="10"/>
                        </a:lnTo>
                        <a:lnTo>
                          <a:pt x="194" y="19"/>
                        </a:lnTo>
                        <a:lnTo>
                          <a:pt x="184" y="19"/>
                        </a:lnTo>
                        <a:lnTo>
                          <a:pt x="175" y="29"/>
                        </a:lnTo>
                        <a:lnTo>
                          <a:pt x="155" y="29"/>
                        </a:lnTo>
                        <a:lnTo>
                          <a:pt x="145" y="29"/>
                        </a:lnTo>
                        <a:lnTo>
                          <a:pt x="136" y="39"/>
                        </a:lnTo>
                        <a:lnTo>
                          <a:pt x="116" y="39"/>
                        </a:lnTo>
                        <a:lnTo>
                          <a:pt x="97" y="39"/>
                        </a:lnTo>
                        <a:lnTo>
                          <a:pt x="87" y="49"/>
                        </a:lnTo>
                        <a:lnTo>
                          <a:pt x="77" y="49"/>
                        </a:lnTo>
                        <a:lnTo>
                          <a:pt x="58" y="49"/>
                        </a:lnTo>
                        <a:lnTo>
                          <a:pt x="48" y="58"/>
                        </a:lnTo>
                        <a:lnTo>
                          <a:pt x="38" y="5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9" y="68"/>
                        </a:lnTo>
                        <a:lnTo>
                          <a:pt x="19" y="68"/>
                        </a:lnTo>
                        <a:lnTo>
                          <a:pt x="38" y="58"/>
                        </a:lnTo>
                        <a:lnTo>
                          <a:pt x="48" y="58"/>
                        </a:lnTo>
                        <a:lnTo>
                          <a:pt x="58" y="5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107" y="49"/>
                        </a:lnTo>
                        <a:lnTo>
                          <a:pt x="116" y="49"/>
                        </a:lnTo>
                        <a:lnTo>
                          <a:pt x="136" y="49"/>
                        </a:lnTo>
                        <a:lnTo>
                          <a:pt x="145" y="39"/>
                        </a:lnTo>
                        <a:lnTo>
                          <a:pt x="155" y="39"/>
                        </a:lnTo>
                        <a:lnTo>
                          <a:pt x="175" y="29"/>
                        </a:lnTo>
                        <a:lnTo>
                          <a:pt x="184" y="29"/>
                        </a:lnTo>
                        <a:lnTo>
                          <a:pt x="194" y="29"/>
                        </a:lnTo>
                        <a:lnTo>
                          <a:pt x="214" y="19"/>
                        </a:lnTo>
                        <a:lnTo>
                          <a:pt x="223" y="19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lnTo>
                          <a:pt x="233" y="0"/>
                        </a:lnTo>
                        <a:lnTo>
                          <a:pt x="223" y="10"/>
                        </a:lnTo>
                        <a:lnTo>
                          <a:pt x="22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>
                    <a:off x="5047200" y="2672640"/>
                    <a:ext cx="295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0" y="107"/>
                        </a:moveTo>
                        <a:lnTo>
                          <a:pt x="9" y="107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0" y="97"/>
                        </a:lnTo>
                        <a:lnTo>
                          <a:pt x="0" y="97"/>
                        </a:lnTo>
                        <a:lnTo>
                          <a:pt x="0" y="107"/>
                        </a:lnTo>
                        <a:lnTo>
                          <a:pt x="9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>
                    <a:off x="3618720" y="2672640"/>
                    <a:ext cx="54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17">
                        <a:moveTo>
                          <a:pt x="49" y="48"/>
                        </a:moveTo>
                        <a:lnTo>
                          <a:pt x="88" y="78"/>
                        </a:lnTo>
                        <a:lnTo>
                          <a:pt x="78" y="87"/>
                        </a:lnTo>
                        <a:lnTo>
                          <a:pt x="68" y="87"/>
                        </a:lnTo>
                        <a:lnTo>
                          <a:pt x="58" y="97"/>
                        </a:lnTo>
                        <a:lnTo>
                          <a:pt x="58" y="97"/>
                        </a:lnTo>
                        <a:lnTo>
                          <a:pt x="49" y="107"/>
                        </a:lnTo>
                        <a:lnTo>
                          <a:pt x="39" y="107"/>
                        </a:lnTo>
                        <a:lnTo>
                          <a:pt x="39" y="117"/>
                        </a:lnTo>
                        <a:lnTo>
                          <a:pt x="29" y="117"/>
                        </a:lnTo>
                        <a:lnTo>
                          <a:pt x="19" y="117"/>
                        </a:lnTo>
                        <a:lnTo>
                          <a:pt x="10" y="107"/>
                        </a:lnTo>
                        <a:lnTo>
                          <a:pt x="10" y="97"/>
                        </a:lnTo>
                        <a:lnTo>
                          <a:pt x="0" y="87"/>
                        </a:lnTo>
                        <a:lnTo>
                          <a:pt x="0" y="78"/>
                        </a:lnTo>
                        <a:lnTo>
                          <a:pt x="0" y="68"/>
                        </a:lnTo>
                        <a:lnTo>
                          <a:pt x="0" y="48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9" y="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29"/>
                        </a:lnTo>
                        <a:lnTo>
                          <a:pt x="39" y="39"/>
                        </a:lnTo>
                        <a:lnTo>
                          <a:pt x="39" y="48"/>
                        </a:lnTo>
                        <a:lnTo>
                          <a:pt x="49" y="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>
                    <a:off x="3649320" y="27021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39"/>
                        </a:moveTo>
                        <a:lnTo>
                          <a:pt x="39" y="3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2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lnTo>
                          <a:pt x="39" y="39"/>
                        </a:lnTo>
                        <a:lnTo>
                          <a:pt x="39" y="30"/>
                        </a:lnTo>
                        <a:lnTo>
                          <a:pt x="3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>
                    <a:off x="363672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0" y="48"/>
                        </a:moveTo>
                        <a:lnTo>
                          <a:pt x="0" y="48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20" y="29"/>
                        </a:lnTo>
                        <a:lnTo>
                          <a:pt x="39" y="19"/>
                        </a:lnTo>
                        <a:lnTo>
                          <a:pt x="49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>
                    <a:off x="3612600" y="270216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10" y="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9" y="69"/>
                        </a:lnTo>
                        <a:lnTo>
                          <a:pt x="39" y="78"/>
                        </a:lnTo>
                        <a:lnTo>
                          <a:pt x="39" y="69"/>
                        </a:lnTo>
                        <a:lnTo>
                          <a:pt x="29" y="59"/>
                        </a:lnTo>
                        <a:lnTo>
                          <a:pt x="29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>
                    <a:off x="3618720" y="2672640"/>
                    <a:ext cx="61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8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48"/>
                        </a:lnTo>
                        <a:lnTo>
                          <a:pt x="0" y="48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>
                    <a:off x="3618720" y="2672640"/>
                    <a:ext cx="35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58" y="48"/>
                        </a:moveTo>
                        <a:lnTo>
                          <a:pt x="49" y="48"/>
                        </a:lnTo>
                        <a:lnTo>
                          <a:pt x="39" y="3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9" y="19"/>
                        </a:lnTo>
                        <a:lnTo>
                          <a:pt x="29" y="29"/>
                        </a:lnTo>
                        <a:lnTo>
                          <a:pt x="29" y="39"/>
                        </a:lnTo>
                        <a:lnTo>
                          <a:pt x="39" y="48"/>
                        </a:lnTo>
                        <a:lnTo>
                          <a:pt x="39" y="48"/>
                        </a:lnTo>
                        <a:lnTo>
                          <a:pt x="49" y="58"/>
                        </a:lnTo>
                        <a:lnTo>
                          <a:pt x="58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>
                    <a:off x="3684960" y="269028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8">
                        <a:moveTo>
                          <a:pt x="68" y="19"/>
                        </a:moveTo>
                        <a:lnTo>
                          <a:pt x="68" y="68"/>
                        </a:lnTo>
                        <a:lnTo>
                          <a:pt x="68" y="78"/>
                        </a:lnTo>
                        <a:lnTo>
                          <a:pt x="58" y="88"/>
                        </a:lnTo>
                        <a:lnTo>
                          <a:pt x="4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78"/>
                        </a:lnTo>
                        <a:lnTo>
                          <a:pt x="0" y="58"/>
                        </a:lnTo>
                        <a:lnTo>
                          <a:pt x="0" y="4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29"/>
                        </a:lnTo>
                        <a:lnTo>
                          <a:pt x="39" y="19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68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>
                    <a:off x="3715200" y="2702160"/>
                    <a:ext cx="176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8">
                        <a:moveTo>
                          <a:pt x="0" y="78"/>
                        </a:moveTo>
                        <a:lnTo>
                          <a:pt x="9" y="69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19" y="3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49"/>
                        </a:lnTo>
                        <a:lnTo>
                          <a:pt x="9" y="59"/>
                        </a:lnTo>
                        <a:lnTo>
                          <a:pt x="9" y="69"/>
                        </a:lnTo>
                        <a:lnTo>
                          <a:pt x="0" y="69"/>
                        </a:lnTo>
                        <a:lnTo>
                          <a:pt x="0" y="6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>
                    <a:off x="3678840" y="2720520"/>
                    <a:ext cx="363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8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19"/>
                        </a:lnTo>
                        <a:lnTo>
                          <a:pt x="29" y="39"/>
                        </a:lnTo>
                        <a:lnTo>
                          <a:pt x="39" y="39"/>
                        </a:lnTo>
                        <a:lnTo>
                          <a:pt x="49" y="48"/>
                        </a:lnTo>
                        <a:lnTo>
                          <a:pt x="59" y="48"/>
                        </a:lnTo>
                        <a:lnTo>
                          <a:pt x="59" y="39"/>
                        </a:lnTo>
                        <a:lnTo>
                          <a:pt x="49" y="39"/>
                        </a:lnTo>
                        <a:lnTo>
                          <a:pt x="49" y="29"/>
                        </a:lnTo>
                        <a:lnTo>
                          <a:pt x="39" y="29"/>
                        </a:ln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1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>
                    <a:off x="3684960" y="2684160"/>
                    <a:ext cx="4176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8">
                        <a:moveTo>
                          <a:pt x="68" y="10"/>
                        </a:moveTo>
                        <a:lnTo>
                          <a:pt x="58" y="10"/>
                        </a:lnTo>
                        <a:lnTo>
                          <a:pt x="49" y="10"/>
                        </a:lnTo>
                        <a:lnTo>
                          <a:pt x="39" y="20"/>
                        </a:lnTo>
                        <a:lnTo>
                          <a:pt x="29" y="20"/>
                        </a:lnTo>
                        <a:lnTo>
                          <a:pt x="29" y="29"/>
                        </a:lnTo>
                        <a:lnTo>
                          <a:pt x="19" y="39"/>
                        </a:lnTo>
                        <a:lnTo>
                          <a:pt x="10" y="4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19" y="4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39" y="29"/>
                        </a:lnTo>
                        <a:lnTo>
                          <a:pt x="49" y="20"/>
                        </a:lnTo>
                        <a:lnTo>
                          <a:pt x="58" y="20"/>
                        </a:lnTo>
                        <a:lnTo>
                          <a:pt x="68" y="2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lnTo>
                          <a:pt x="68" y="0"/>
                        </a:lnTo>
                        <a:lnTo>
                          <a:pt x="58" y="10"/>
                        </a:lnTo>
                        <a:lnTo>
                          <a:pt x="6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>
                    <a:off x="3720600" y="269028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19"/>
                        </a:move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>
                    <a:off x="3925080" y="2702160"/>
                    <a:ext cx="9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0">
                        <a:moveTo>
                          <a:pt x="156" y="0"/>
                        </a:moveTo>
                        <a:lnTo>
                          <a:pt x="156" y="0"/>
                        </a:lnTo>
                        <a:lnTo>
                          <a:pt x="156" y="10"/>
                        </a:lnTo>
                        <a:lnTo>
                          <a:pt x="156" y="10"/>
                        </a:lnTo>
                        <a:lnTo>
                          <a:pt x="146" y="10"/>
                        </a:lnTo>
                        <a:lnTo>
                          <a:pt x="126" y="10"/>
                        </a:lnTo>
                        <a:lnTo>
                          <a:pt x="117" y="0"/>
                        </a:lnTo>
                        <a:lnTo>
                          <a:pt x="68" y="0"/>
                        </a:lnTo>
                        <a:lnTo>
                          <a:pt x="68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>
                    <a:off x="4021200" y="2702160"/>
                    <a:ext cx="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0">
                        <a:moveTo>
                          <a:pt x="0" y="20"/>
                        </a:move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>
                    <a:off x="3925080" y="2702160"/>
                    <a:ext cx="9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46" y="10"/>
                        </a:lnTo>
                        <a:lnTo>
                          <a:pt x="156" y="20"/>
                        </a:lnTo>
                        <a:lnTo>
                          <a:pt x="156" y="10"/>
                        </a:lnTo>
                        <a:lnTo>
                          <a:pt x="146" y="0"/>
                        </a:lnTo>
                        <a:lnTo>
                          <a:pt x="126" y="0"/>
                        </a:lnTo>
                        <a:lnTo>
                          <a:pt x="117" y="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>
                    <a:off x="3925080" y="269676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>
                    <a:off x="3931200" y="2696760"/>
                    <a:ext cx="95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9">
                        <a:moveTo>
                          <a:pt x="155" y="9"/>
                        </a:moveTo>
                        <a:lnTo>
                          <a:pt x="146" y="9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48" y="9"/>
                        </a:lnTo>
                        <a:lnTo>
                          <a:pt x="58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15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>
                    <a:off x="4746600" y="2702160"/>
                    <a:ext cx="2102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1" h="234">
                        <a:moveTo>
                          <a:pt x="302" y="10"/>
                        </a:moveTo>
                        <a:lnTo>
                          <a:pt x="302" y="39"/>
                        </a:lnTo>
                        <a:lnTo>
                          <a:pt x="312" y="69"/>
                        </a:lnTo>
                        <a:lnTo>
                          <a:pt x="312" y="98"/>
                        </a:lnTo>
                        <a:lnTo>
                          <a:pt x="312" y="127"/>
                        </a:lnTo>
                        <a:lnTo>
                          <a:pt x="321" y="156"/>
                        </a:lnTo>
                        <a:lnTo>
                          <a:pt x="331" y="176"/>
                        </a:lnTo>
                        <a:lnTo>
                          <a:pt x="341" y="205"/>
                        </a:lnTo>
                        <a:lnTo>
                          <a:pt x="341" y="234"/>
                        </a:lnTo>
                        <a:lnTo>
                          <a:pt x="292" y="234"/>
                        </a:lnTo>
                        <a:lnTo>
                          <a:pt x="282" y="234"/>
                        </a:lnTo>
                        <a:lnTo>
                          <a:pt x="273" y="234"/>
                        </a:lnTo>
                        <a:lnTo>
                          <a:pt x="263" y="234"/>
                        </a:lnTo>
                        <a:lnTo>
                          <a:pt x="263" y="224"/>
                        </a:lnTo>
                        <a:lnTo>
                          <a:pt x="253" y="205"/>
                        </a:lnTo>
                        <a:lnTo>
                          <a:pt x="244" y="185"/>
                        </a:lnTo>
                        <a:lnTo>
                          <a:pt x="244" y="176"/>
                        </a:lnTo>
                        <a:lnTo>
                          <a:pt x="244" y="166"/>
                        </a:lnTo>
                        <a:lnTo>
                          <a:pt x="234" y="146"/>
                        </a:lnTo>
                        <a:lnTo>
                          <a:pt x="234" y="137"/>
                        </a:lnTo>
                        <a:lnTo>
                          <a:pt x="224" y="117"/>
                        </a:lnTo>
                        <a:lnTo>
                          <a:pt x="224" y="117"/>
                        </a:lnTo>
                        <a:lnTo>
                          <a:pt x="214" y="127"/>
                        </a:lnTo>
                        <a:lnTo>
                          <a:pt x="214" y="137"/>
                        </a:lnTo>
                        <a:lnTo>
                          <a:pt x="214" y="13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75" y="146"/>
                        </a:lnTo>
                        <a:lnTo>
                          <a:pt x="166" y="146"/>
                        </a:lnTo>
                        <a:lnTo>
                          <a:pt x="146" y="146"/>
                        </a:lnTo>
                        <a:lnTo>
                          <a:pt x="137" y="146"/>
                        </a:lnTo>
                        <a:lnTo>
                          <a:pt x="127" y="156"/>
                        </a:lnTo>
                        <a:lnTo>
                          <a:pt x="98" y="156"/>
                        </a:lnTo>
                        <a:lnTo>
                          <a:pt x="78" y="146"/>
                        </a:lnTo>
                        <a:lnTo>
                          <a:pt x="68" y="146"/>
                        </a:lnTo>
                        <a:lnTo>
                          <a:pt x="59" y="137"/>
                        </a:lnTo>
                        <a:lnTo>
                          <a:pt x="49" y="137"/>
                        </a:lnTo>
                        <a:lnTo>
                          <a:pt x="39" y="127"/>
                        </a:lnTo>
                        <a:lnTo>
                          <a:pt x="30" y="117"/>
                        </a:lnTo>
                        <a:lnTo>
                          <a:pt x="0" y="30"/>
                        </a:lnTo>
                        <a:lnTo>
                          <a:pt x="10" y="30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20"/>
                        </a:lnTo>
                        <a:lnTo>
                          <a:pt x="68" y="20"/>
                        </a:lnTo>
                        <a:lnTo>
                          <a:pt x="78" y="10"/>
                        </a:lnTo>
                        <a:lnTo>
                          <a:pt x="88" y="1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17" y="20"/>
                        </a:lnTo>
                        <a:lnTo>
                          <a:pt x="117" y="30"/>
                        </a:lnTo>
                        <a:lnTo>
                          <a:pt x="117" y="49"/>
                        </a:lnTo>
                        <a:lnTo>
                          <a:pt x="127" y="49"/>
                        </a:lnTo>
                        <a:lnTo>
                          <a:pt x="137" y="49"/>
                        </a:lnTo>
                        <a:lnTo>
                          <a:pt x="137" y="49"/>
                        </a:lnTo>
                        <a:lnTo>
                          <a:pt x="166" y="49"/>
                        </a:lnTo>
                        <a:lnTo>
                          <a:pt x="175" y="59"/>
                        </a:lnTo>
                        <a:lnTo>
                          <a:pt x="185" y="59"/>
                        </a:lnTo>
                        <a:lnTo>
                          <a:pt x="185" y="49"/>
                        </a:lnTo>
                        <a:lnTo>
                          <a:pt x="205" y="49"/>
                        </a:lnTo>
                        <a:lnTo>
                          <a:pt x="205" y="49"/>
                        </a:lnTo>
                        <a:lnTo>
                          <a:pt x="214" y="49"/>
                        </a:lnTo>
                        <a:lnTo>
                          <a:pt x="224" y="39"/>
                        </a:lnTo>
                        <a:lnTo>
                          <a:pt x="214" y="10"/>
                        </a:lnTo>
                        <a:lnTo>
                          <a:pt x="224" y="10"/>
                        </a:lnTo>
                        <a:lnTo>
                          <a:pt x="224" y="0"/>
                        </a:lnTo>
                        <a:lnTo>
                          <a:pt x="234" y="0"/>
                        </a:lnTo>
                        <a:lnTo>
                          <a:pt x="244" y="0"/>
                        </a:lnTo>
                        <a:lnTo>
                          <a:pt x="263" y="0"/>
                        </a:lnTo>
                        <a:lnTo>
                          <a:pt x="273" y="0"/>
                        </a:lnTo>
                        <a:lnTo>
                          <a:pt x="273" y="10"/>
                        </a:lnTo>
                        <a:lnTo>
                          <a:pt x="302" y="1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>
                    <a:off x="4926960" y="2708280"/>
                    <a:ext cx="35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34">
                        <a:moveTo>
                          <a:pt x="49" y="224"/>
                        </a:moveTo>
                        <a:lnTo>
                          <a:pt x="58" y="224"/>
                        </a:lnTo>
                        <a:lnTo>
                          <a:pt x="49" y="195"/>
                        </a:lnTo>
                        <a:lnTo>
                          <a:pt x="39" y="166"/>
                        </a:lnTo>
                        <a:lnTo>
                          <a:pt x="39" y="136"/>
                        </a:lnTo>
                        <a:lnTo>
                          <a:pt x="29" y="117"/>
                        </a:lnTo>
                        <a:lnTo>
                          <a:pt x="20" y="88"/>
                        </a:lnTo>
                        <a:lnTo>
                          <a:pt x="20" y="59"/>
                        </a:lnTo>
                        <a:lnTo>
                          <a:pt x="20" y="29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10" y="29"/>
                        </a:lnTo>
                        <a:lnTo>
                          <a:pt x="10" y="59"/>
                        </a:lnTo>
                        <a:lnTo>
                          <a:pt x="20" y="88"/>
                        </a:lnTo>
                        <a:lnTo>
                          <a:pt x="20" y="11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39" y="195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49" y="224"/>
                        </a:lnTo>
                        <a:lnTo>
                          <a:pt x="58" y="234"/>
                        </a:lnTo>
                        <a:lnTo>
                          <a:pt x="58" y="224"/>
                        </a:lnTo>
                        <a:lnTo>
                          <a:pt x="49" y="2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>
                    <a:off x="4908960" y="2840400"/>
                    <a:ext cx="47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78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49" y="0"/>
                        </a:lnTo>
                        <a:lnTo>
                          <a:pt x="3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4884840" y="2774520"/>
                    <a:ext cx="298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17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78"/>
                        </a:lnTo>
                        <a:lnTo>
                          <a:pt x="29" y="88"/>
                        </a:lnTo>
                        <a:lnTo>
                          <a:pt x="29" y="107"/>
                        </a:lnTo>
                        <a:lnTo>
                          <a:pt x="39" y="117"/>
                        </a:lnTo>
                        <a:lnTo>
                          <a:pt x="49" y="117"/>
                        </a:lnTo>
                        <a:lnTo>
                          <a:pt x="39" y="107"/>
                        </a:lnTo>
                        <a:lnTo>
                          <a:pt x="39" y="88"/>
                        </a:lnTo>
                        <a:lnTo>
                          <a:pt x="29" y="68"/>
                        </a:lnTo>
                        <a:lnTo>
                          <a:pt x="20" y="59"/>
                        </a:lnTo>
                        <a:lnTo>
                          <a:pt x="20" y="49"/>
                        </a:lnTo>
                        <a:lnTo>
                          <a:pt x="20" y="2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>
                    <a:off x="4872960" y="277452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20"/>
                        </a:moveTo>
                        <a:lnTo>
                          <a:pt x="9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>
                    <a:off x="4765320" y="2774520"/>
                    <a:ext cx="113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2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68" y="39"/>
                        </a:lnTo>
                        <a:lnTo>
                          <a:pt x="97" y="39"/>
                        </a:lnTo>
                        <a:lnTo>
                          <a:pt x="107" y="39"/>
                        </a:lnTo>
                        <a:lnTo>
                          <a:pt x="126" y="39"/>
                        </a:lnTo>
                        <a:lnTo>
                          <a:pt x="136" y="29"/>
                        </a:lnTo>
                        <a:lnTo>
                          <a:pt x="145" y="29"/>
                        </a:lnTo>
                        <a:lnTo>
                          <a:pt x="155" y="29"/>
                        </a:lnTo>
                        <a:lnTo>
                          <a:pt x="165" y="20"/>
                        </a:lnTo>
                        <a:lnTo>
                          <a:pt x="184" y="20"/>
                        </a:lnTo>
                        <a:lnTo>
                          <a:pt x="184" y="20"/>
                        </a:lnTo>
                        <a:lnTo>
                          <a:pt x="165" y="20"/>
                        </a:lnTo>
                        <a:lnTo>
                          <a:pt x="155" y="20"/>
                        </a:lnTo>
                        <a:lnTo>
                          <a:pt x="145" y="20"/>
                        </a:lnTo>
                        <a:lnTo>
                          <a:pt x="136" y="20"/>
                        </a:lnTo>
                        <a:lnTo>
                          <a:pt x="116" y="29"/>
                        </a:lnTo>
                        <a:lnTo>
                          <a:pt x="107" y="29"/>
                        </a:lnTo>
                        <a:lnTo>
                          <a:pt x="97" y="29"/>
                        </a:lnTo>
                        <a:lnTo>
                          <a:pt x="68" y="29"/>
                        </a:lnTo>
                        <a:lnTo>
                          <a:pt x="48" y="29"/>
                        </a:lnTo>
                        <a:lnTo>
                          <a:pt x="38" y="29"/>
                        </a:lnTo>
                        <a:lnTo>
                          <a:pt x="29" y="2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4746600" y="272052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0" y="87"/>
                        </a:lnTo>
                        <a:lnTo>
                          <a:pt x="39" y="87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4746600" y="2702160"/>
                    <a:ext cx="72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9">
                        <a:moveTo>
                          <a:pt x="117" y="0"/>
                        </a:moveTo>
                        <a:lnTo>
                          <a:pt x="88" y="0"/>
                        </a:lnTo>
                        <a:lnTo>
                          <a:pt x="88" y="10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49" y="20"/>
                        </a:lnTo>
                        <a:lnTo>
                          <a:pt x="39" y="20"/>
                        </a:lnTo>
                        <a:lnTo>
                          <a:pt x="30" y="2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30" y="30"/>
                        </a:lnTo>
                        <a:lnTo>
                          <a:pt x="39" y="30"/>
                        </a:lnTo>
                        <a:lnTo>
                          <a:pt x="49" y="30"/>
                        </a:lnTo>
                        <a:lnTo>
                          <a:pt x="59" y="20"/>
                        </a:lnTo>
                        <a:lnTo>
                          <a:pt x="59" y="20"/>
                        </a:lnTo>
                        <a:lnTo>
                          <a:pt x="68" y="20"/>
                        </a:lnTo>
                        <a:lnTo>
                          <a:pt x="88" y="20"/>
                        </a:lnTo>
                        <a:lnTo>
                          <a:pt x="98" y="10"/>
                        </a:lnTo>
                        <a:lnTo>
                          <a:pt x="107" y="10"/>
                        </a:lnTo>
                        <a:lnTo>
                          <a:pt x="107" y="10"/>
                        </a:lnTo>
                        <a:lnTo>
                          <a:pt x="117" y="0"/>
                        </a:lnTo>
                        <a:lnTo>
                          <a:pt x="117" y="0"/>
                        </a:lnTo>
                        <a:lnTo>
                          <a:pt x="107" y="0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>
                    <a:off x="4812840" y="2702160"/>
                    <a:ext cx="18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0" y="49"/>
                        </a:moveTo>
                        <a:lnTo>
                          <a:pt x="30" y="49"/>
                        </a:lnTo>
                        <a:lnTo>
                          <a:pt x="2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59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>
                    <a:off x="4825080" y="2732400"/>
                    <a:ext cx="29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">
                        <a:moveTo>
                          <a:pt x="39" y="0"/>
                        </a:move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4849200" y="2726280"/>
                    <a:ext cx="356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0">
                        <a:moveTo>
                          <a:pt x="48" y="10"/>
                        </a:move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39" y="20"/>
                        </a:lnTo>
                        <a:lnTo>
                          <a:pt x="48" y="1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>
                    <a:off x="4872960" y="270216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9" y="49"/>
                        </a:lnTo>
                        <a:lnTo>
                          <a:pt x="19" y="39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>
                    <a:off x="4878720" y="270216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9" y="0"/>
                        </a:moveTo>
                        <a:lnTo>
                          <a:pt x="68" y="10"/>
                        </a:lnTo>
                        <a:lnTo>
                          <a:pt x="59" y="0"/>
                        </a:lnTo>
                        <a:lnTo>
                          <a:pt x="49" y="0"/>
                        </a:lnTo>
                        <a:lnTo>
                          <a:pt x="3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0" y="0"/>
                        </a:lnTo>
                        <a:lnTo>
                          <a:pt x="49" y="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1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8" name=""/>
                  <p:cNvSpPr/>
                  <p:nvPr/>
                </p:nvSpPr>
                <p:spPr>
                  <a:xfrm>
                    <a:off x="4915080" y="2702160"/>
                    <a:ext cx="2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">
                        <a:moveTo>
                          <a:pt x="39" y="10"/>
                        </a:move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9" name=""/>
                  <p:cNvSpPr/>
                  <p:nvPr/>
                </p:nvSpPr>
                <p:spPr>
                  <a:xfrm>
                    <a:off x="3913200" y="2708280"/>
                    <a:ext cx="176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4">
                        <a:moveTo>
                          <a:pt x="19" y="20"/>
                        </a:moveTo>
                        <a:lnTo>
                          <a:pt x="19" y="78"/>
                        </a:lnTo>
                        <a:lnTo>
                          <a:pt x="19" y="117"/>
                        </a:lnTo>
                        <a:lnTo>
                          <a:pt x="29" y="166"/>
                        </a:lnTo>
                        <a:lnTo>
                          <a:pt x="19" y="214"/>
                        </a:lnTo>
                        <a:lnTo>
                          <a:pt x="9" y="214"/>
                        </a:lnTo>
                        <a:lnTo>
                          <a:pt x="9" y="166"/>
                        </a:lnTo>
                        <a:lnTo>
                          <a:pt x="0" y="117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>
                    <a:off x="3918960" y="2720520"/>
                    <a:ext cx="1224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4">
                        <a:moveTo>
                          <a:pt x="10" y="194"/>
                        </a:moveTo>
                        <a:lnTo>
                          <a:pt x="10" y="194"/>
                        </a:lnTo>
                        <a:lnTo>
                          <a:pt x="20" y="146"/>
                        </a:lnTo>
                        <a:lnTo>
                          <a:pt x="20" y="97"/>
                        </a:lnTo>
                        <a:lnTo>
                          <a:pt x="10" y="58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10" y="97"/>
                        </a:lnTo>
                        <a:lnTo>
                          <a:pt x="10" y="146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lnTo>
                          <a:pt x="10" y="1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3913200" y="284040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>
                    <a:off x="3913200" y="2702160"/>
                    <a:ext cx="54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24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69"/>
                        </a:lnTo>
                        <a:lnTo>
                          <a:pt x="0" y="127"/>
                        </a:lnTo>
                        <a:lnTo>
                          <a:pt x="0" y="176"/>
                        </a:lnTo>
                        <a:lnTo>
                          <a:pt x="0" y="224"/>
                        </a:lnTo>
                        <a:lnTo>
                          <a:pt x="9" y="224"/>
                        </a:lnTo>
                        <a:lnTo>
                          <a:pt x="9" y="127"/>
                        </a:lnTo>
                        <a:lnTo>
                          <a:pt x="9" y="69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>
                    <a:off x="3913200" y="270828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>
                    <a:off x="4980960" y="2714400"/>
                    <a:ext cx="2952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48" y="19"/>
                        </a:moveTo>
                        <a:lnTo>
                          <a:pt x="29" y="58"/>
                        </a:lnTo>
                        <a:lnTo>
                          <a:pt x="19" y="39"/>
                        </a:lnTo>
                        <a:lnTo>
                          <a:pt x="9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10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>
                    <a:off x="4998960" y="2726280"/>
                    <a:ext cx="115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9">
                        <a:moveTo>
                          <a:pt x="0" y="39"/>
                        </a:moveTo>
                        <a:lnTo>
                          <a:pt x="0" y="39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>
                    <a:off x="4974840" y="2714400"/>
                    <a:ext cx="2376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29" y="49"/>
                        </a:lnTo>
                        <a:lnTo>
                          <a:pt x="29" y="58"/>
                        </a:lnTo>
                        <a:lnTo>
                          <a:pt x="39" y="58"/>
                        </a:lnTo>
                        <a:lnTo>
                          <a:pt x="39" y="58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29" y="39"/>
                        </a:lnTo>
                        <a:lnTo>
                          <a:pt x="29" y="29"/>
                        </a:lnTo>
                        <a:lnTo>
                          <a:pt x="19" y="2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>
                    <a:off x="4980960" y="2714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29"/>
                        </a:move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9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48" y="29"/>
                        </a:lnTo>
                        <a:lnTo>
                          <a:pt x="48" y="19"/>
                        </a:lnTo>
                        <a:lnTo>
                          <a:pt x="48" y="19"/>
                        </a:lnTo>
                        <a:lnTo>
                          <a:pt x="48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>
                    <a:off x="3709080" y="2726280"/>
                    <a:ext cx="47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8">
                        <a:moveTo>
                          <a:pt x="78" y="98"/>
                        </a:moveTo>
                        <a:lnTo>
                          <a:pt x="39" y="98"/>
                        </a:lnTo>
                        <a:lnTo>
                          <a:pt x="29" y="98"/>
                        </a:lnTo>
                        <a:lnTo>
                          <a:pt x="0" y="98"/>
                        </a:lnTo>
                        <a:lnTo>
                          <a:pt x="0" y="98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10" y="69"/>
                        </a:lnTo>
                        <a:lnTo>
                          <a:pt x="10" y="59"/>
                        </a:lnTo>
                        <a:lnTo>
                          <a:pt x="19" y="49"/>
                        </a:lnTo>
                        <a:lnTo>
                          <a:pt x="29" y="49"/>
                        </a:lnTo>
                        <a:lnTo>
                          <a:pt x="39" y="30"/>
                        </a:lnTo>
                        <a:lnTo>
                          <a:pt x="39" y="2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58" y="10"/>
                        </a:lnTo>
                        <a:lnTo>
                          <a:pt x="68" y="20"/>
                        </a:lnTo>
                        <a:lnTo>
                          <a:pt x="68" y="39"/>
                        </a:lnTo>
                        <a:lnTo>
                          <a:pt x="68" y="49"/>
                        </a:lnTo>
                        <a:lnTo>
                          <a:pt x="68" y="59"/>
                        </a:lnTo>
                        <a:lnTo>
                          <a:pt x="68" y="78"/>
                        </a:lnTo>
                        <a:lnTo>
                          <a:pt x="68" y="88"/>
                        </a:lnTo>
                        <a:lnTo>
                          <a:pt x="78" y="98"/>
                        </a:lnTo>
                        <a:close/>
                      </a:path>
                    </a:pathLst>
                  </a:custGeom>
                  <a:solidFill>
                    <a:srgbClr val="bfb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3702960" y="2786760"/>
                    <a:ext cx="540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88" y="0"/>
                        </a:lnTo>
                        <a:lnTo>
                          <a:pt x="88" y="0"/>
                        </a:lnTo>
                        <a:lnTo>
                          <a:pt x="78" y="0"/>
                        </a:lnTo>
                        <a:lnTo>
                          <a:pt x="68" y="0"/>
                        </a:lnTo>
                        <a:lnTo>
                          <a:pt x="59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3709080" y="2750400"/>
                    <a:ext cx="237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59"/>
                        </a:lnTo>
                        <a:lnTo>
                          <a:pt x="0" y="59"/>
                        </a:lnTo>
                        <a:lnTo>
                          <a:pt x="10" y="59"/>
                        </a:lnTo>
                        <a:lnTo>
                          <a:pt x="10" y="59"/>
                        </a:lnTo>
                        <a:lnTo>
                          <a:pt x="10" y="49"/>
                        </a:lnTo>
                        <a:lnTo>
                          <a:pt x="10" y="3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>
                    <a:off x="3726720" y="272052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9"/>
                        </a:moveTo>
                        <a:lnTo>
                          <a:pt x="20" y="9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0" y="39"/>
                        </a:lnTo>
                        <a:lnTo>
                          <a:pt x="0" y="4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0"/>
                        </a:lnTo>
                        <a:lnTo>
                          <a:pt x="20" y="9"/>
                        </a:lnTo>
                        <a:lnTo>
                          <a:pt x="2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>
                    <a:off x="3739320" y="2726280"/>
                    <a:ext cx="176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7">
                        <a:moveTo>
                          <a:pt x="29" y="98"/>
                        </a:moveTo>
                        <a:lnTo>
                          <a:pt x="29" y="98"/>
                        </a:lnTo>
                        <a:lnTo>
                          <a:pt x="29" y="88"/>
                        </a:lnTo>
                        <a:lnTo>
                          <a:pt x="29" y="7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9"/>
                        </a:lnTo>
                        <a:lnTo>
                          <a:pt x="19" y="2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30"/>
                        </a:lnTo>
                        <a:lnTo>
                          <a:pt x="9" y="39"/>
                        </a:lnTo>
                        <a:lnTo>
                          <a:pt x="19" y="49"/>
                        </a:lnTo>
                        <a:lnTo>
                          <a:pt x="19" y="59"/>
                        </a:lnTo>
                        <a:lnTo>
                          <a:pt x="19" y="78"/>
                        </a:lnTo>
                        <a:lnTo>
                          <a:pt x="19" y="88"/>
                        </a:lnTo>
                        <a:lnTo>
                          <a:pt x="19" y="98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29" y="98"/>
                        </a:lnTo>
                        <a:lnTo>
                          <a:pt x="29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>
                    <a:off x="4951080" y="2726280"/>
                    <a:ext cx="356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6">
                        <a:moveTo>
                          <a:pt x="58" y="49"/>
                        </a:moveTo>
                        <a:lnTo>
                          <a:pt x="49" y="59"/>
                        </a:lnTo>
                        <a:lnTo>
                          <a:pt x="49" y="78"/>
                        </a:lnTo>
                        <a:lnTo>
                          <a:pt x="49" y="98"/>
                        </a:lnTo>
                        <a:lnTo>
                          <a:pt x="39" y="107"/>
                        </a:lnTo>
                        <a:lnTo>
                          <a:pt x="39" y="127"/>
                        </a:lnTo>
                        <a:lnTo>
                          <a:pt x="29" y="137"/>
                        </a:lnTo>
                        <a:lnTo>
                          <a:pt x="29" y="146"/>
                        </a:lnTo>
                        <a:lnTo>
                          <a:pt x="29" y="166"/>
                        </a:lnTo>
                        <a:lnTo>
                          <a:pt x="19" y="146"/>
                        </a:lnTo>
                        <a:lnTo>
                          <a:pt x="19" y="137"/>
                        </a:lnTo>
                        <a:lnTo>
                          <a:pt x="10" y="117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lnTo>
                          <a:pt x="0" y="69"/>
                        </a:lnTo>
                        <a:lnTo>
                          <a:pt x="0" y="49"/>
                        </a:lnTo>
                        <a:lnTo>
                          <a:pt x="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9" y="10"/>
                        </a:lnTo>
                        <a:lnTo>
                          <a:pt x="29" y="0"/>
                        </a:lnTo>
                        <a:lnTo>
                          <a:pt x="58" y="4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4968720" y="2756520"/>
                    <a:ext cx="1764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6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0" y="97"/>
                        </a:lnTo>
                        <a:lnTo>
                          <a:pt x="10" y="8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10"/>
                        </a:lnTo>
                        <a:lnTo>
                          <a:pt x="20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78"/>
                        </a:lnTo>
                        <a:lnTo>
                          <a:pt x="0" y="88"/>
                        </a:lnTo>
                        <a:lnTo>
                          <a:pt x="0" y="9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36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4944600" y="2744640"/>
                    <a:ext cx="237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6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10" y="3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20" y="87"/>
                        </a:lnTo>
                        <a:lnTo>
                          <a:pt x="20" y="107"/>
                        </a:lnTo>
                        <a:lnTo>
                          <a:pt x="29" y="116"/>
                        </a:lnTo>
                        <a:lnTo>
                          <a:pt x="39" y="136"/>
                        </a:lnTo>
                        <a:lnTo>
                          <a:pt x="39" y="136"/>
                        </a:lnTo>
                        <a:lnTo>
                          <a:pt x="39" y="116"/>
                        </a:lnTo>
                        <a:lnTo>
                          <a:pt x="29" y="107"/>
                        </a:lnTo>
                        <a:lnTo>
                          <a:pt x="29" y="87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39"/>
                        </a:lnTo>
                        <a:lnTo>
                          <a:pt x="10" y="1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4944600" y="272628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0"/>
                        </a:move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20" y="30"/>
                        </a:lnTo>
                        <a:lnTo>
                          <a:pt x="20" y="3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4968720" y="27262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9">
                        <a:moveTo>
                          <a:pt x="29" y="49"/>
                        </a:moveTo>
                        <a:lnTo>
                          <a:pt x="29" y="49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20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lnTo>
                          <a:pt x="29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>
                    <a:off x="3649320" y="2732400"/>
                    <a:ext cx="5328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77" y="39"/>
                        </a:moveTo>
                        <a:lnTo>
                          <a:pt x="77" y="49"/>
                        </a:lnTo>
                        <a:lnTo>
                          <a:pt x="87" y="68"/>
                        </a:lnTo>
                        <a:lnTo>
                          <a:pt x="87" y="78"/>
                        </a:lnTo>
                        <a:lnTo>
                          <a:pt x="77" y="88"/>
                        </a:lnTo>
                        <a:lnTo>
                          <a:pt x="77" y="88"/>
                        </a:lnTo>
                        <a:lnTo>
                          <a:pt x="68" y="88"/>
                        </a:lnTo>
                        <a:lnTo>
                          <a:pt x="58" y="88"/>
                        </a:lnTo>
                        <a:lnTo>
                          <a:pt x="58" y="97"/>
                        </a:lnTo>
                        <a:lnTo>
                          <a:pt x="48" y="97"/>
                        </a:lnTo>
                        <a:lnTo>
                          <a:pt x="39" y="97"/>
                        </a:lnTo>
                        <a:lnTo>
                          <a:pt x="39" y="107"/>
                        </a:lnTo>
                        <a:lnTo>
                          <a:pt x="39" y="97"/>
                        </a:lnTo>
                        <a:lnTo>
                          <a:pt x="29" y="88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9" y="59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48" y="0"/>
                        </a:lnTo>
                        <a:lnTo>
                          <a:pt x="77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>
                    <a:off x="3696480" y="2756520"/>
                    <a:ext cx="6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9">
                        <a:moveTo>
                          <a:pt x="0" y="49"/>
                        </a:moveTo>
                        <a:lnTo>
                          <a:pt x="0" y="49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3673080" y="2786760"/>
                    <a:ext cx="23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9" y="9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>
                    <a:off x="3649320" y="2744640"/>
                    <a:ext cx="23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9" y="39"/>
                        </a:lnTo>
                        <a:lnTo>
                          <a:pt x="19" y="48"/>
                        </a:lnTo>
                        <a:lnTo>
                          <a:pt x="19" y="58"/>
                        </a:lnTo>
                        <a:lnTo>
                          <a:pt x="29" y="68"/>
                        </a:lnTo>
                        <a:lnTo>
                          <a:pt x="29" y="77"/>
                        </a:lnTo>
                        <a:lnTo>
                          <a:pt x="39" y="87"/>
                        </a:lnTo>
                        <a:lnTo>
                          <a:pt x="39" y="87"/>
                        </a:lnTo>
                        <a:lnTo>
                          <a:pt x="39" y="77"/>
                        </a:lnTo>
                        <a:lnTo>
                          <a:pt x="39" y="68"/>
                        </a:lnTo>
                        <a:lnTo>
                          <a:pt x="29" y="58"/>
                        </a:lnTo>
                        <a:lnTo>
                          <a:pt x="19" y="48"/>
                        </a:lnTo>
                        <a:lnTo>
                          <a:pt x="19" y="3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>
                    <a:off x="3649320" y="2732400"/>
                    <a:ext cx="295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9">
                        <a:moveTo>
                          <a:pt x="48" y="0"/>
                        </a:move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9" y="20"/>
                        </a:lnTo>
                        <a:lnTo>
                          <a:pt x="0" y="20"/>
                        </a:lnTo>
                        <a:lnTo>
                          <a:pt x="9" y="29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8" y="10"/>
                        </a:lnTo>
                        <a:lnTo>
                          <a:pt x="39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>
                    <a:off x="3673080" y="2732400"/>
                    <a:ext cx="29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9">
                        <a:moveTo>
                          <a:pt x="48" y="39"/>
                        </a:moveTo>
                        <a:lnTo>
                          <a:pt x="38" y="3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3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lnTo>
                          <a:pt x="38" y="39"/>
                        </a:lnTo>
                        <a:lnTo>
                          <a:pt x="4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>
                    <a:off x="5010840" y="2738520"/>
                    <a:ext cx="29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7">
                        <a:moveTo>
                          <a:pt x="49" y="19"/>
                        </a:moveTo>
                        <a:lnTo>
                          <a:pt x="49" y="29"/>
                        </a:lnTo>
                        <a:lnTo>
                          <a:pt x="49" y="39"/>
                        </a:lnTo>
                        <a:lnTo>
                          <a:pt x="49" y="49"/>
                        </a:lnTo>
                        <a:lnTo>
                          <a:pt x="39" y="58"/>
                        </a:lnTo>
                        <a:lnTo>
                          <a:pt x="39" y="68"/>
                        </a:lnTo>
                        <a:lnTo>
                          <a:pt x="29" y="78"/>
                        </a:lnTo>
                        <a:lnTo>
                          <a:pt x="29" y="78"/>
                        </a:lnTo>
                        <a:lnTo>
                          <a:pt x="29" y="97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49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>
                    <a:off x="5023080" y="2750400"/>
                    <a:ext cx="23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88">
                        <a:moveTo>
                          <a:pt x="0" y="78"/>
                        </a:moveTo>
                        <a:lnTo>
                          <a:pt x="9" y="78"/>
                        </a:lnTo>
                        <a:lnTo>
                          <a:pt x="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29" y="3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9" y="20"/>
                        </a:lnTo>
                        <a:lnTo>
                          <a:pt x="19" y="39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0" y="59"/>
                        </a:lnTo>
                        <a:lnTo>
                          <a:pt x="0" y="68"/>
                        </a:lnTo>
                        <a:lnTo>
                          <a:pt x="9" y="68"/>
                        </a:lnTo>
                        <a:lnTo>
                          <a:pt x="0" y="78"/>
                        </a:lnTo>
                        <a:lnTo>
                          <a:pt x="9" y="88"/>
                        </a:lnTo>
                        <a:lnTo>
                          <a:pt x="9" y="78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>
                    <a:off x="5010840" y="2744640"/>
                    <a:ext cx="17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7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20" y="87"/>
                        </a:lnTo>
                        <a:lnTo>
                          <a:pt x="29" y="77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5010840" y="273240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0"/>
                        </a:lnTo>
                        <a:lnTo>
                          <a:pt x="0" y="20"/>
                        </a:lnTo>
                        <a:lnTo>
                          <a:pt x="10" y="2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>
                    <a:off x="5016960" y="2732400"/>
                    <a:ext cx="298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49" y="29"/>
                        </a:moveTo>
                        <a:lnTo>
                          <a:pt x="49" y="2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39" y="29"/>
                        </a:lnTo>
                        <a:lnTo>
                          <a:pt x="39" y="29"/>
                        </a:lnTo>
                        <a:lnTo>
                          <a:pt x="49" y="29"/>
                        </a:lnTo>
                        <a:lnTo>
                          <a:pt x="49" y="20"/>
                        </a:lnTo>
                        <a:lnTo>
                          <a:pt x="4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>
                    <a:off x="3762720" y="2744640"/>
                    <a:ext cx="183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6">
                        <a:moveTo>
                          <a:pt x="30" y="116"/>
                        </a:moveTo>
                        <a:lnTo>
                          <a:pt x="20" y="107"/>
                        </a:lnTo>
                        <a:lnTo>
                          <a:pt x="20" y="87"/>
                        </a:lnTo>
                        <a:lnTo>
                          <a:pt x="10" y="77"/>
                        </a:ln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0" y="39"/>
                        </a:lnTo>
                        <a:lnTo>
                          <a:pt x="0" y="19"/>
                        </a:lnTo>
                        <a:lnTo>
                          <a:pt x="30" y="0"/>
                        </a:lnTo>
                        <a:lnTo>
                          <a:pt x="30" y="1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>
                    <a:off x="3756960" y="2750400"/>
                    <a:ext cx="2376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07">
                        <a:moveTo>
                          <a:pt x="9" y="0"/>
                        </a:moveTo>
                        <a:lnTo>
                          <a:pt x="9" y="30"/>
                        </a:lnTo>
                        <a:lnTo>
                          <a:pt x="9" y="49"/>
                        </a:lnTo>
                        <a:lnTo>
                          <a:pt x="9" y="59"/>
                        </a:lnTo>
                        <a:lnTo>
                          <a:pt x="19" y="68"/>
                        </a:lnTo>
                        <a:lnTo>
                          <a:pt x="19" y="88"/>
                        </a:lnTo>
                        <a:lnTo>
                          <a:pt x="29" y="98"/>
                        </a:lnTo>
                        <a:lnTo>
                          <a:pt x="29" y="107"/>
                        </a:lnTo>
                        <a:lnTo>
                          <a:pt x="39" y="98"/>
                        </a:lnTo>
                        <a:lnTo>
                          <a:pt x="39" y="98"/>
                        </a:lnTo>
                        <a:lnTo>
                          <a:pt x="29" y="78"/>
                        </a:lnTo>
                        <a:lnTo>
                          <a:pt x="29" y="68"/>
                        </a:lnTo>
                        <a:lnTo>
                          <a:pt x="19" y="59"/>
                        </a:lnTo>
                        <a:lnTo>
                          <a:pt x="19" y="49"/>
                        </a:lnTo>
                        <a:lnTo>
                          <a:pt x="19" y="3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3762720" y="2738520"/>
                    <a:ext cx="18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9">
                        <a:moveTo>
                          <a:pt x="30" y="10"/>
                        </a:moveTo>
                        <a:lnTo>
                          <a:pt x="30" y="1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30" y="10"/>
                        </a:lnTo>
                        <a:lnTo>
                          <a:pt x="20" y="10"/>
                        </a:lnTo>
                        <a:lnTo>
                          <a:pt x="30" y="10"/>
                        </a:lnTo>
                        <a:lnTo>
                          <a:pt x="30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3774960" y="2744640"/>
                    <a:ext cx="61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6">
                        <a:moveTo>
                          <a:pt x="0" y="116"/>
                        </a:moveTo>
                        <a:lnTo>
                          <a:pt x="10" y="116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16"/>
                        </a:lnTo>
                        <a:lnTo>
                          <a:pt x="10" y="107"/>
                        </a:lnTo>
                        <a:lnTo>
                          <a:pt x="0" y="116"/>
                        </a:lnTo>
                        <a:lnTo>
                          <a:pt x="10" y="136"/>
                        </a:lnTo>
                        <a:lnTo>
                          <a:pt x="10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>
                    <a:off x="4974840" y="2756520"/>
                    <a:ext cx="417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46">
                        <a:moveTo>
                          <a:pt x="49" y="146"/>
                        </a:moveTo>
                        <a:lnTo>
                          <a:pt x="0" y="146"/>
                        </a:lnTo>
                        <a:lnTo>
                          <a:pt x="10" y="127"/>
                        </a:lnTo>
                        <a:lnTo>
                          <a:pt x="10" y="107"/>
                        </a:lnTo>
                        <a:lnTo>
                          <a:pt x="19" y="88"/>
                        </a:lnTo>
                        <a:lnTo>
                          <a:pt x="19" y="68"/>
                        </a:lnTo>
                        <a:lnTo>
                          <a:pt x="19" y="49"/>
                        </a:lnTo>
                        <a:lnTo>
                          <a:pt x="29" y="29"/>
                        </a:lnTo>
                        <a:lnTo>
                          <a:pt x="29" y="10"/>
                        </a:lnTo>
                        <a:lnTo>
                          <a:pt x="39" y="0"/>
                        </a:lnTo>
                        <a:lnTo>
                          <a:pt x="39" y="10"/>
                        </a:lnTo>
                        <a:lnTo>
                          <a:pt x="49" y="39"/>
                        </a:lnTo>
                        <a:lnTo>
                          <a:pt x="58" y="49"/>
                        </a:lnTo>
                        <a:lnTo>
                          <a:pt x="68" y="78"/>
                        </a:lnTo>
                        <a:lnTo>
                          <a:pt x="68" y="117"/>
                        </a:lnTo>
                        <a:lnTo>
                          <a:pt x="68" y="136"/>
                        </a:lnTo>
                        <a:lnTo>
                          <a:pt x="49" y="146"/>
                        </a:lnTo>
                        <a:close/>
                      </a:path>
                    </a:pathLst>
                  </a:custGeom>
                  <a:solidFill>
                    <a:srgbClr val="f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>
                    <a:off x="4974840" y="284688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>
                    <a:off x="4974840" y="2744640"/>
                    <a:ext cx="23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65">
                        <a:moveTo>
                          <a:pt x="39" y="19"/>
                        </a:move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19" y="48"/>
                        </a:lnTo>
                        <a:lnTo>
                          <a:pt x="19" y="68"/>
                        </a:lnTo>
                        <a:lnTo>
                          <a:pt x="19" y="87"/>
                        </a:lnTo>
                        <a:lnTo>
                          <a:pt x="10" y="107"/>
                        </a:lnTo>
                        <a:lnTo>
                          <a:pt x="10" y="126"/>
                        </a:lnTo>
                        <a:lnTo>
                          <a:pt x="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0" y="155"/>
                        </a:lnTo>
                        <a:lnTo>
                          <a:pt x="19" y="126"/>
                        </a:lnTo>
                        <a:lnTo>
                          <a:pt x="19" y="107"/>
                        </a:lnTo>
                        <a:lnTo>
                          <a:pt x="19" y="97"/>
                        </a:lnTo>
                        <a:lnTo>
                          <a:pt x="29" y="68"/>
                        </a:lnTo>
                        <a:lnTo>
                          <a:pt x="29" y="58"/>
                        </a:lnTo>
                        <a:lnTo>
                          <a:pt x="3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0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>
                    <a:off x="4992840" y="2756520"/>
                    <a:ext cx="2988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56">
                        <a:moveTo>
                          <a:pt x="20" y="156"/>
                        </a:moveTo>
                        <a:lnTo>
                          <a:pt x="20" y="146"/>
                        </a:lnTo>
                        <a:lnTo>
                          <a:pt x="39" y="136"/>
                        </a:lnTo>
                        <a:lnTo>
                          <a:pt x="49" y="117"/>
                        </a:lnTo>
                        <a:lnTo>
                          <a:pt x="49" y="78"/>
                        </a:lnTo>
                        <a:lnTo>
                          <a:pt x="39" y="49"/>
                        </a:lnTo>
                        <a:lnTo>
                          <a:pt x="29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20"/>
                        </a:lnTo>
                        <a:lnTo>
                          <a:pt x="20" y="39"/>
                        </a:lnTo>
                        <a:lnTo>
                          <a:pt x="29" y="58"/>
                        </a:lnTo>
                        <a:lnTo>
                          <a:pt x="39" y="78"/>
                        </a:lnTo>
                        <a:lnTo>
                          <a:pt x="39" y="117"/>
                        </a:lnTo>
                        <a:lnTo>
                          <a:pt x="29" y="127"/>
                        </a:lnTo>
                        <a:lnTo>
                          <a:pt x="10" y="14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lnTo>
                          <a:pt x="20" y="146"/>
                        </a:lnTo>
                        <a:lnTo>
                          <a:pt x="20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4662720" y="2774520"/>
                    <a:ext cx="468000" cy="67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100">
                        <a:moveTo>
                          <a:pt x="166" y="29"/>
                        </a:moveTo>
                        <a:lnTo>
                          <a:pt x="185" y="39"/>
                        </a:lnTo>
                        <a:lnTo>
                          <a:pt x="185" y="49"/>
                        </a:lnTo>
                        <a:lnTo>
                          <a:pt x="195" y="49"/>
                        </a:lnTo>
                        <a:lnTo>
                          <a:pt x="214" y="59"/>
                        </a:lnTo>
                        <a:lnTo>
                          <a:pt x="224" y="59"/>
                        </a:lnTo>
                        <a:lnTo>
                          <a:pt x="234" y="59"/>
                        </a:lnTo>
                        <a:lnTo>
                          <a:pt x="263" y="59"/>
                        </a:lnTo>
                        <a:lnTo>
                          <a:pt x="273" y="59"/>
                        </a:lnTo>
                        <a:lnTo>
                          <a:pt x="302" y="59"/>
                        </a:lnTo>
                        <a:lnTo>
                          <a:pt x="311" y="49"/>
                        </a:lnTo>
                        <a:lnTo>
                          <a:pt x="321" y="49"/>
                        </a:lnTo>
                        <a:lnTo>
                          <a:pt x="331" y="49"/>
                        </a:lnTo>
                        <a:lnTo>
                          <a:pt x="341" y="39"/>
                        </a:lnTo>
                        <a:lnTo>
                          <a:pt x="350" y="39"/>
                        </a:lnTo>
                        <a:lnTo>
                          <a:pt x="360" y="49"/>
                        </a:lnTo>
                        <a:lnTo>
                          <a:pt x="360" y="59"/>
                        </a:lnTo>
                        <a:lnTo>
                          <a:pt x="360" y="68"/>
                        </a:lnTo>
                        <a:lnTo>
                          <a:pt x="360" y="78"/>
                        </a:lnTo>
                        <a:lnTo>
                          <a:pt x="370" y="88"/>
                        </a:lnTo>
                        <a:lnTo>
                          <a:pt x="370" y="98"/>
                        </a:lnTo>
                        <a:lnTo>
                          <a:pt x="380" y="107"/>
                        </a:lnTo>
                        <a:lnTo>
                          <a:pt x="380" y="117"/>
                        </a:lnTo>
                        <a:lnTo>
                          <a:pt x="292" y="117"/>
                        </a:lnTo>
                        <a:lnTo>
                          <a:pt x="273" y="117"/>
                        </a:lnTo>
                        <a:lnTo>
                          <a:pt x="243" y="117"/>
                        </a:lnTo>
                        <a:lnTo>
                          <a:pt x="234" y="127"/>
                        </a:lnTo>
                        <a:lnTo>
                          <a:pt x="214" y="127"/>
                        </a:lnTo>
                        <a:lnTo>
                          <a:pt x="204" y="127"/>
                        </a:lnTo>
                        <a:lnTo>
                          <a:pt x="195" y="127"/>
                        </a:lnTo>
                        <a:lnTo>
                          <a:pt x="195" y="137"/>
                        </a:lnTo>
                        <a:lnTo>
                          <a:pt x="185" y="137"/>
                        </a:lnTo>
                        <a:lnTo>
                          <a:pt x="195" y="156"/>
                        </a:lnTo>
                        <a:lnTo>
                          <a:pt x="195" y="185"/>
                        </a:lnTo>
                        <a:lnTo>
                          <a:pt x="204" y="205"/>
                        </a:lnTo>
                        <a:lnTo>
                          <a:pt x="204" y="234"/>
                        </a:lnTo>
                        <a:lnTo>
                          <a:pt x="214" y="253"/>
                        </a:lnTo>
                        <a:lnTo>
                          <a:pt x="214" y="273"/>
                        </a:lnTo>
                        <a:lnTo>
                          <a:pt x="224" y="29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34" y="322"/>
                        </a:lnTo>
                        <a:lnTo>
                          <a:pt x="243" y="331"/>
                        </a:lnTo>
                        <a:lnTo>
                          <a:pt x="525" y="331"/>
                        </a:lnTo>
                        <a:lnTo>
                          <a:pt x="535" y="341"/>
                        </a:lnTo>
                        <a:lnTo>
                          <a:pt x="623" y="341"/>
                        </a:lnTo>
                        <a:lnTo>
                          <a:pt x="632" y="341"/>
                        </a:lnTo>
                        <a:lnTo>
                          <a:pt x="759" y="341"/>
                        </a:lnTo>
                        <a:lnTo>
                          <a:pt x="759" y="380"/>
                        </a:lnTo>
                        <a:lnTo>
                          <a:pt x="759" y="409"/>
                        </a:lnTo>
                        <a:lnTo>
                          <a:pt x="749" y="438"/>
                        </a:lnTo>
                        <a:lnTo>
                          <a:pt x="739" y="468"/>
                        </a:lnTo>
                        <a:lnTo>
                          <a:pt x="720" y="497"/>
                        </a:lnTo>
                        <a:lnTo>
                          <a:pt x="710" y="526"/>
                        </a:lnTo>
                        <a:lnTo>
                          <a:pt x="700" y="555"/>
                        </a:lnTo>
                        <a:lnTo>
                          <a:pt x="691" y="584"/>
                        </a:lnTo>
                        <a:lnTo>
                          <a:pt x="671" y="614"/>
                        </a:lnTo>
                        <a:lnTo>
                          <a:pt x="662" y="633"/>
                        </a:lnTo>
                        <a:lnTo>
                          <a:pt x="642" y="672"/>
                        </a:lnTo>
                        <a:lnTo>
                          <a:pt x="623" y="692"/>
                        </a:lnTo>
                        <a:lnTo>
                          <a:pt x="603" y="721"/>
                        </a:lnTo>
                        <a:lnTo>
                          <a:pt x="584" y="750"/>
                        </a:lnTo>
                        <a:lnTo>
                          <a:pt x="564" y="769"/>
                        </a:lnTo>
                        <a:lnTo>
                          <a:pt x="545" y="799"/>
                        </a:lnTo>
                        <a:lnTo>
                          <a:pt x="525" y="808"/>
                        </a:lnTo>
                        <a:lnTo>
                          <a:pt x="496" y="828"/>
                        </a:lnTo>
                        <a:lnTo>
                          <a:pt x="477" y="838"/>
                        </a:lnTo>
                        <a:lnTo>
                          <a:pt x="457" y="847"/>
                        </a:lnTo>
                        <a:lnTo>
                          <a:pt x="438" y="857"/>
                        </a:lnTo>
                        <a:lnTo>
                          <a:pt x="409" y="867"/>
                        </a:lnTo>
                        <a:lnTo>
                          <a:pt x="389" y="877"/>
                        </a:lnTo>
                        <a:lnTo>
                          <a:pt x="360" y="886"/>
                        </a:lnTo>
                        <a:lnTo>
                          <a:pt x="341" y="896"/>
                        </a:lnTo>
                        <a:lnTo>
                          <a:pt x="321" y="906"/>
                        </a:lnTo>
                        <a:lnTo>
                          <a:pt x="302" y="915"/>
                        </a:lnTo>
                        <a:lnTo>
                          <a:pt x="273" y="925"/>
                        </a:lnTo>
                        <a:lnTo>
                          <a:pt x="253" y="935"/>
                        </a:lnTo>
                        <a:lnTo>
                          <a:pt x="234" y="954"/>
                        </a:lnTo>
                        <a:lnTo>
                          <a:pt x="214" y="974"/>
                        </a:lnTo>
                        <a:lnTo>
                          <a:pt x="195" y="993"/>
                        </a:lnTo>
                        <a:lnTo>
                          <a:pt x="166" y="1023"/>
                        </a:lnTo>
                        <a:lnTo>
                          <a:pt x="156" y="1032"/>
                        </a:lnTo>
                        <a:lnTo>
                          <a:pt x="146" y="1042"/>
                        </a:lnTo>
                        <a:lnTo>
                          <a:pt x="136" y="1052"/>
                        </a:lnTo>
                        <a:lnTo>
                          <a:pt x="117" y="1062"/>
                        </a:lnTo>
                        <a:lnTo>
                          <a:pt x="107" y="1062"/>
                        </a:lnTo>
                        <a:lnTo>
                          <a:pt x="97" y="1071"/>
                        </a:lnTo>
                        <a:lnTo>
                          <a:pt x="78" y="1071"/>
                        </a:lnTo>
                        <a:lnTo>
                          <a:pt x="68" y="1081"/>
                        </a:lnTo>
                        <a:lnTo>
                          <a:pt x="59" y="1081"/>
                        </a:lnTo>
                        <a:lnTo>
                          <a:pt x="39" y="1081"/>
                        </a:lnTo>
                        <a:lnTo>
                          <a:pt x="29" y="1091"/>
                        </a:lnTo>
                        <a:lnTo>
                          <a:pt x="10" y="1100"/>
                        </a:lnTo>
                        <a:lnTo>
                          <a:pt x="10" y="1100"/>
                        </a:lnTo>
                        <a:lnTo>
                          <a:pt x="0" y="1071"/>
                        </a:lnTo>
                        <a:lnTo>
                          <a:pt x="10" y="1042"/>
                        </a:lnTo>
                        <a:lnTo>
                          <a:pt x="10" y="1013"/>
                        </a:lnTo>
                        <a:lnTo>
                          <a:pt x="10" y="984"/>
                        </a:lnTo>
                        <a:lnTo>
                          <a:pt x="20" y="954"/>
                        </a:lnTo>
                        <a:lnTo>
                          <a:pt x="29" y="925"/>
                        </a:lnTo>
                        <a:lnTo>
                          <a:pt x="39" y="896"/>
                        </a:lnTo>
                        <a:lnTo>
                          <a:pt x="49" y="867"/>
                        </a:lnTo>
                        <a:lnTo>
                          <a:pt x="49" y="847"/>
                        </a:lnTo>
                        <a:lnTo>
                          <a:pt x="59" y="847"/>
                        </a:lnTo>
                        <a:lnTo>
                          <a:pt x="78" y="818"/>
                        </a:lnTo>
                        <a:lnTo>
                          <a:pt x="88" y="808"/>
                        </a:lnTo>
                        <a:lnTo>
                          <a:pt x="97" y="799"/>
                        </a:lnTo>
                        <a:lnTo>
                          <a:pt x="97" y="799"/>
                        </a:lnTo>
                        <a:lnTo>
                          <a:pt x="107" y="789"/>
                        </a:lnTo>
                        <a:lnTo>
                          <a:pt x="117" y="779"/>
                        </a:lnTo>
                        <a:lnTo>
                          <a:pt x="127" y="769"/>
                        </a:lnTo>
                        <a:lnTo>
                          <a:pt x="136" y="760"/>
                        </a:lnTo>
                        <a:lnTo>
                          <a:pt x="146" y="760"/>
                        </a:lnTo>
                        <a:lnTo>
                          <a:pt x="146" y="750"/>
                        </a:lnTo>
                        <a:lnTo>
                          <a:pt x="156" y="740"/>
                        </a:lnTo>
                        <a:lnTo>
                          <a:pt x="166" y="730"/>
                        </a:lnTo>
                        <a:lnTo>
                          <a:pt x="166" y="711"/>
                        </a:lnTo>
                        <a:lnTo>
                          <a:pt x="175" y="682"/>
                        </a:lnTo>
                        <a:lnTo>
                          <a:pt x="185" y="672"/>
                        </a:lnTo>
                        <a:lnTo>
                          <a:pt x="185" y="653"/>
                        </a:lnTo>
                        <a:lnTo>
                          <a:pt x="195" y="633"/>
                        </a:lnTo>
                        <a:lnTo>
                          <a:pt x="195" y="614"/>
                        </a:lnTo>
                        <a:lnTo>
                          <a:pt x="204" y="584"/>
                        </a:lnTo>
                        <a:lnTo>
                          <a:pt x="204" y="575"/>
                        </a:lnTo>
                        <a:lnTo>
                          <a:pt x="195" y="555"/>
                        </a:lnTo>
                        <a:lnTo>
                          <a:pt x="195" y="545"/>
                        </a:lnTo>
                        <a:lnTo>
                          <a:pt x="185" y="526"/>
                        </a:lnTo>
                        <a:lnTo>
                          <a:pt x="175" y="507"/>
                        </a:lnTo>
                        <a:lnTo>
                          <a:pt x="97" y="438"/>
                        </a:lnTo>
                        <a:lnTo>
                          <a:pt x="97" y="419"/>
                        </a:lnTo>
                        <a:lnTo>
                          <a:pt x="68" y="399"/>
                        </a:lnTo>
                        <a:lnTo>
                          <a:pt x="59" y="380"/>
                        </a:lnTo>
                        <a:lnTo>
                          <a:pt x="49" y="370"/>
                        </a:lnTo>
                        <a:lnTo>
                          <a:pt x="49" y="351"/>
                        </a:lnTo>
                        <a:lnTo>
                          <a:pt x="49" y="312"/>
                        </a:lnTo>
                        <a:lnTo>
                          <a:pt x="59" y="283"/>
                        </a:lnTo>
                        <a:lnTo>
                          <a:pt x="59" y="263"/>
                        </a:lnTo>
                        <a:lnTo>
                          <a:pt x="68" y="244"/>
                        </a:lnTo>
                        <a:lnTo>
                          <a:pt x="78" y="224"/>
                        </a:lnTo>
                        <a:lnTo>
                          <a:pt x="88" y="205"/>
                        </a:lnTo>
                        <a:lnTo>
                          <a:pt x="97" y="185"/>
                        </a:lnTo>
                        <a:lnTo>
                          <a:pt x="97" y="156"/>
                        </a:lnTo>
                        <a:lnTo>
                          <a:pt x="97" y="137"/>
                        </a:lnTo>
                        <a:lnTo>
                          <a:pt x="88" y="107"/>
                        </a:lnTo>
                        <a:lnTo>
                          <a:pt x="88" y="59"/>
                        </a:lnTo>
                        <a:lnTo>
                          <a:pt x="97" y="39"/>
                        </a:lnTo>
                        <a:lnTo>
                          <a:pt x="107" y="20"/>
                        </a:lnTo>
                        <a:lnTo>
                          <a:pt x="136" y="10"/>
                        </a:lnTo>
                        <a:lnTo>
                          <a:pt x="146" y="10"/>
                        </a:lnTo>
                        <a:lnTo>
                          <a:pt x="146" y="0"/>
                        </a:lnTo>
                        <a:lnTo>
                          <a:pt x="156" y="10"/>
                        </a:lnTo>
                        <a:lnTo>
                          <a:pt x="156" y="20"/>
                        </a:lnTo>
                        <a:lnTo>
                          <a:pt x="156" y="20"/>
                        </a:lnTo>
                        <a:lnTo>
                          <a:pt x="166" y="29"/>
                        </a:lnTo>
                        <a:close/>
                      </a:path>
                    </a:pathLst>
                  </a:custGeom>
                  <a:solidFill>
                    <a:srgbClr val="3ff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>
                    <a:off x="4765320" y="2792520"/>
                    <a:ext cx="1195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30">
                        <a:moveTo>
                          <a:pt x="194" y="10"/>
                        </a:moveTo>
                        <a:lnTo>
                          <a:pt x="184" y="0"/>
                        </a:lnTo>
                        <a:lnTo>
                          <a:pt x="175" y="10"/>
                        </a:lnTo>
                        <a:lnTo>
                          <a:pt x="165" y="10"/>
                        </a:lnTo>
                        <a:lnTo>
                          <a:pt x="155" y="10"/>
                        </a:lnTo>
                        <a:lnTo>
                          <a:pt x="145" y="20"/>
                        </a:lnTo>
                        <a:lnTo>
                          <a:pt x="126" y="20"/>
                        </a:lnTo>
                        <a:lnTo>
                          <a:pt x="116" y="20"/>
                        </a:lnTo>
                        <a:lnTo>
                          <a:pt x="107" y="20"/>
                        </a:lnTo>
                        <a:lnTo>
                          <a:pt x="97" y="30"/>
                        </a:lnTo>
                        <a:lnTo>
                          <a:pt x="68" y="30"/>
                        </a:lnTo>
                        <a:lnTo>
                          <a:pt x="58" y="20"/>
                        </a:lnTo>
                        <a:lnTo>
                          <a:pt x="48" y="20"/>
                        </a:lnTo>
                        <a:lnTo>
                          <a:pt x="38" y="2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29" y="30"/>
                        </a:lnTo>
                        <a:lnTo>
                          <a:pt x="48" y="30"/>
                        </a:lnTo>
                        <a:lnTo>
                          <a:pt x="58" y="30"/>
                        </a:lnTo>
                        <a:lnTo>
                          <a:pt x="68" y="30"/>
                        </a:lnTo>
                        <a:lnTo>
                          <a:pt x="97" y="30"/>
                        </a:lnTo>
                        <a:lnTo>
                          <a:pt x="107" y="30"/>
                        </a:lnTo>
                        <a:lnTo>
                          <a:pt x="136" y="30"/>
                        </a:lnTo>
                        <a:lnTo>
                          <a:pt x="145" y="30"/>
                        </a:lnTo>
                        <a:lnTo>
                          <a:pt x="155" y="20"/>
                        </a:lnTo>
                        <a:lnTo>
                          <a:pt x="165" y="20"/>
                        </a:lnTo>
                        <a:lnTo>
                          <a:pt x="175" y="20"/>
                        </a:lnTo>
                        <a:lnTo>
                          <a:pt x="194" y="10"/>
                        </a:lnTo>
                        <a:lnTo>
                          <a:pt x="184" y="10"/>
                        </a:lnTo>
                        <a:lnTo>
                          <a:pt x="194" y="10"/>
                        </a:lnTo>
                        <a:lnTo>
                          <a:pt x="194" y="0"/>
                        </a:lnTo>
                        <a:lnTo>
                          <a:pt x="184" y="0"/>
                        </a:lnTo>
                        <a:lnTo>
                          <a:pt x="194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>
                    <a:off x="4878720" y="2798640"/>
                    <a:ext cx="23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8">
                        <a:moveTo>
                          <a:pt x="30" y="78"/>
                        </a:move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59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29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20" y="59"/>
                        </a:lnTo>
                        <a:lnTo>
                          <a:pt x="20" y="68"/>
                        </a:lnTo>
                        <a:lnTo>
                          <a:pt x="30" y="78"/>
                        </a:lnTo>
                        <a:lnTo>
                          <a:pt x="30" y="68"/>
                        </a:lnTo>
                        <a:lnTo>
                          <a:pt x="30" y="78"/>
                        </a:lnTo>
                        <a:lnTo>
                          <a:pt x="39" y="78"/>
                        </a:lnTo>
                        <a:lnTo>
                          <a:pt x="30" y="78"/>
                        </a:lnTo>
                        <a:lnTo>
                          <a:pt x="3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>
                    <a:off x="4788720" y="2840400"/>
                    <a:ext cx="108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0" y="20"/>
                        </a:lnTo>
                        <a:lnTo>
                          <a:pt x="30" y="20"/>
                        </a:lnTo>
                        <a:lnTo>
                          <a:pt x="39" y="20"/>
                        </a:lnTo>
                        <a:lnTo>
                          <a:pt x="69" y="20"/>
                        </a:lnTo>
                        <a:lnTo>
                          <a:pt x="88" y="10"/>
                        </a:lnTo>
                        <a:lnTo>
                          <a:pt x="176" y="10"/>
                        </a:lnTo>
                        <a:lnTo>
                          <a:pt x="176" y="0"/>
                        </a:lnTo>
                        <a:lnTo>
                          <a:pt x="107" y="0"/>
                        </a:lnTo>
                        <a:lnTo>
                          <a:pt x="98" y="10"/>
                        </a:lnTo>
                        <a:lnTo>
                          <a:pt x="39" y="10"/>
                        </a:lnTo>
                        <a:lnTo>
                          <a:pt x="30" y="10"/>
                        </a:lnTo>
                        <a:lnTo>
                          <a:pt x="10" y="1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>
                    <a:off x="477684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10" y="10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>
                    <a:off x="4776840" y="2859120"/>
                    <a:ext cx="3024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85">
                        <a:moveTo>
                          <a:pt x="39" y="185"/>
                        </a:moveTo>
                        <a:lnTo>
                          <a:pt x="49" y="185"/>
                        </a:lnTo>
                        <a:lnTo>
                          <a:pt x="39" y="155"/>
                        </a:lnTo>
                        <a:lnTo>
                          <a:pt x="39" y="136"/>
                        </a:lnTo>
                        <a:lnTo>
                          <a:pt x="29" y="116"/>
                        </a:lnTo>
                        <a:lnTo>
                          <a:pt x="29" y="97"/>
                        </a:lnTo>
                        <a:lnTo>
                          <a:pt x="19" y="68"/>
                        </a:lnTo>
                        <a:lnTo>
                          <a:pt x="19" y="48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48"/>
                        </a:lnTo>
                        <a:lnTo>
                          <a:pt x="10" y="68"/>
                        </a:lnTo>
                        <a:lnTo>
                          <a:pt x="19" y="97"/>
                        </a:lnTo>
                        <a:lnTo>
                          <a:pt x="19" y="116"/>
                        </a:lnTo>
                        <a:lnTo>
                          <a:pt x="29" y="146"/>
                        </a:lnTo>
                        <a:lnTo>
                          <a:pt x="29" y="16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lnTo>
                          <a:pt x="39" y="185"/>
                        </a:lnTo>
                        <a:lnTo>
                          <a:pt x="49" y="185"/>
                        </a:lnTo>
                        <a:lnTo>
                          <a:pt x="39" y="1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>
                    <a:off x="4800960" y="296712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9">
                        <a:moveTo>
                          <a:pt x="29" y="19"/>
                        </a:move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29"/>
                        </a:lnTo>
                        <a:lnTo>
                          <a:pt x="29" y="2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>
                    <a:off x="4818960" y="2973240"/>
                    <a:ext cx="31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29">
                        <a:moveTo>
                          <a:pt x="516" y="19"/>
                        </a:moveTo>
                        <a:lnTo>
                          <a:pt x="506" y="19"/>
                        </a:lnTo>
                        <a:lnTo>
                          <a:pt x="379" y="19"/>
                        </a:lnTo>
                        <a:lnTo>
                          <a:pt x="370" y="9"/>
                        </a:lnTo>
                        <a:lnTo>
                          <a:pt x="253" y="9"/>
                        </a:lnTo>
                        <a:lnTo>
                          <a:pt x="243" y="9"/>
                        </a:lnTo>
                        <a:lnTo>
                          <a:pt x="146" y="9"/>
                        </a:lnTo>
                        <a:lnTo>
                          <a:pt x="127" y="0"/>
                        </a:lnTo>
                        <a:lnTo>
                          <a:pt x="97" y="0"/>
                        </a:lnTo>
                        <a:lnTo>
                          <a:pt x="78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78" y="19"/>
                        </a:lnTo>
                        <a:lnTo>
                          <a:pt x="97" y="9"/>
                        </a:lnTo>
                        <a:lnTo>
                          <a:pt x="127" y="9"/>
                        </a:lnTo>
                        <a:lnTo>
                          <a:pt x="146" y="19"/>
                        </a:lnTo>
                        <a:lnTo>
                          <a:pt x="272" y="19"/>
                        </a:lnTo>
                        <a:lnTo>
                          <a:pt x="282" y="19"/>
                        </a:lnTo>
                        <a:lnTo>
                          <a:pt x="370" y="19"/>
                        </a:lnTo>
                        <a:lnTo>
                          <a:pt x="379" y="29"/>
                        </a:lnTo>
                        <a:lnTo>
                          <a:pt x="506" y="2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lnTo>
                          <a:pt x="516" y="19"/>
                        </a:lnTo>
                        <a:lnTo>
                          <a:pt x="506" y="19"/>
                        </a:lnTo>
                        <a:lnTo>
                          <a:pt x="51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>
                    <a:off x="4992840" y="2985120"/>
                    <a:ext cx="1443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458">
                        <a:moveTo>
                          <a:pt x="10" y="458"/>
                        </a:moveTo>
                        <a:lnTo>
                          <a:pt x="39" y="428"/>
                        </a:lnTo>
                        <a:lnTo>
                          <a:pt x="49" y="409"/>
                        </a:lnTo>
                        <a:lnTo>
                          <a:pt x="78" y="380"/>
                        </a:lnTo>
                        <a:lnTo>
                          <a:pt x="88" y="351"/>
                        </a:lnTo>
                        <a:lnTo>
                          <a:pt x="107" y="331"/>
                        </a:lnTo>
                        <a:lnTo>
                          <a:pt x="127" y="302"/>
                        </a:lnTo>
                        <a:lnTo>
                          <a:pt x="136" y="273"/>
                        </a:lnTo>
                        <a:lnTo>
                          <a:pt x="156" y="243"/>
                        </a:lnTo>
                        <a:lnTo>
                          <a:pt x="175" y="214"/>
                        </a:lnTo>
                        <a:lnTo>
                          <a:pt x="185" y="185"/>
                        </a:lnTo>
                        <a:lnTo>
                          <a:pt x="195" y="156"/>
                        </a:lnTo>
                        <a:lnTo>
                          <a:pt x="204" y="127"/>
                        </a:lnTo>
                        <a:lnTo>
                          <a:pt x="214" y="97"/>
                        </a:lnTo>
                        <a:lnTo>
                          <a:pt x="224" y="68"/>
                        </a:lnTo>
                        <a:lnTo>
                          <a:pt x="224" y="39"/>
                        </a:lnTo>
                        <a:lnTo>
                          <a:pt x="234" y="0"/>
                        </a:lnTo>
                        <a:lnTo>
                          <a:pt x="224" y="0"/>
                        </a:lnTo>
                        <a:lnTo>
                          <a:pt x="224" y="29"/>
                        </a:lnTo>
                        <a:lnTo>
                          <a:pt x="214" y="68"/>
                        </a:lnTo>
                        <a:lnTo>
                          <a:pt x="204" y="97"/>
                        </a:lnTo>
                        <a:lnTo>
                          <a:pt x="195" y="127"/>
                        </a:lnTo>
                        <a:lnTo>
                          <a:pt x="185" y="156"/>
                        </a:lnTo>
                        <a:lnTo>
                          <a:pt x="175" y="185"/>
                        </a:lnTo>
                        <a:lnTo>
                          <a:pt x="165" y="214"/>
                        </a:lnTo>
                        <a:lnTo>
                          <a:pt x="146" y="243"/>
                        </a:lnTo>
                        <a:lnTo>
                          <a:pt x="136" y="273"/>
                        </a:lnTo>
                        <a:lnTo>
                          <a:pt x="117" y="292"/>
                        </a:lnTo>
                        <a:lnTo>
                          <a:pt x="107" y="321"/>
                        </a:lnTo>
                        <a:lnTo>
                          <a:pt x="88" y="351"/>
                        </a:lnTo>
                        <a:lnTo>
                          <a:pt x="68" y="380"/>
                        </a:lnTo>
                        <a:lnTo>
                          <a:pt x="49" y="399"/>
                        </a:lnTo>
                        <a:lnTo>
                          <a:pt x="29" y="428"/>
                        </a:lnTo>
                        <a:lnTo>
                          <a:pt x="0" y="448"/>
                        </a:lnTo>
                        <a:lnTo>
                          <a:pt x="10" y="4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4783320" y="3261600"/>
                    <a:ext cx="21564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204">
                        <a:moveTo>
                          <a:pt x="9" y="204"/>
                        </a:moveTo>
                        <a:lnTo>
                          <a:pt x="29" y="185"/>
                        </a:lnTo>
                        <a:lnTo>
                          <a:pt x="39" y="175"/>
                        </a:lnTo>
                        <a:lnTo>
                          <a:pt x="58" y="156"/>
                        </a:lnTo>
                        <a:lnTo>
                          <a:pt x="78" y="136"/>
                        </a:lnTo>
                        <a:lnTo>
                          <a:pt x="107" y="126"/>
                        </a:lnTo>
                        <a:lnTo>
                          <a:pt x="126" y="117"/>
                        </a:lnTo>
                        <a:lnTo>
                          <a:pt x="146" y="107"/>
                        </a:lnTo>
                        <a:lnTo>
                          <a:pt x="175" y="97"/>
                        </a:lnTo>
                        <a:lnTo>
                          <a:pt x="194" y="88"/>
                        </a:lnTo>
                        <a:lnTo>
                          <a:pt x="214" y="78"/>
                        </a:lnTo>
                        <a:lnTo>
                          <a:pt x="243" y="68"/>
                        </a:lnTo>
                        <a:lnTo>
                          <a:pt x="262" y="58"/>
                        </a:lnTo>
                        <a:lnTo>
                          <a:pt x="291" y="58"/>
                        </a:lnTo>
                        <a:lnTo>
                          <a:pt x="311" y="39"/>
                        </a:lnTo>
                        <a:lnTo>
                          <a:pt x="330" y="29"/>
                        </a:lnTo>
                        <a:lnTo>
                          <a:pt x="350" y="10"/>
                        </a:lnTo>
                        <a:lnTo>
                          <a:pt x="340" y="0"/>
                        </a:lnTo>
                        <a:lnTo>
                          <a:pt x="330" y="19"/>
                        </a:lnTo>
                        <a:lnTo>
                          <a:pt x="301" y="29"/>
                        </a:lnTo>
                        <a:lnTo>
                          <a:pt x="282" y="49"/>
                        </a:lnTo>
                        <a:lnTo>
                          <a:pt x="262" y="58"/>
                        </a:lnTo>
                        <a:lnTo>
                          <a:pt x="243" y="58"/>
                        </a:lnTo>
                        <a:lnTo>
                          <a:pt x="214" y="68"/>
                        </a:lnTo>
                        <a:lnTo>
                          <a:pt x="194" y="78"/>
                        </a:lnTo>
                        <a:lnTo>
                          <a:pt x="165" y="88"/>
                        </a:lnTo>
                        <a:lnTo>
                          <a:pt x="146" y="97"/>
                        </a:lnTo>
                        <a:lnTo>
                          <a:pt x="126" y="107"/>
                        </a:lnTo>
                        <a:lnTo>
                          <a:pt x="97" y="117"/>
                        </a:lnTo>
                        <a:lnTo>
                          <a:pt x="78" y="136"/>
                        </a:lnTo>
                        <a:lnTo>
                          <a:pt x="58" y="146"/>
                        </a:lnTo>
                        <a:lnTo>
                          <a:pt x="39" y="165"/>
                        </a:lnTo>
                        <a:lnTo>
                          <a:pt x="19" y="185"/>
                        </a:lnTo>
                        <a:lnTo>
                          <a:pt x="0" y="204"/>
                        </a:lnTo>
                        <a:lnTo>
                          <a:pt x="9" y="2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4662720" y="3387600"/>
                    <a:ext cx="125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17">
                        <a:moveTo>
                          <a:pt x="0" y="107"/>
                        </a:moveTo>
                        <a:lnTo>
                          <a:pt x="10" y="117"/>
                        </a:lnTo>
                        <a:lnTo>
                          <a:pt x="20" y="107"/>
                        </a:lnTo>
                        <a:lnTo>
                          <a:pt x="29" y="98"/>
                        </a:lnTo>
                        <a:lnTo>
                          <a:pt x="49" y="98"/>
                        </a:lnTo>
                        <a:lnTo>
                          <a:pt x="59" y="88"/>
                        </a:lnTo>
                        <a:lnTo>
                          <a:pt x="68" y="88"/>
                        </a:lnTo>
                        <a:lnTo>
                          <a:pt x="88" y="88"/>
                        </a:lnTo>
                        <a:lnTo>
                          <a:pt x="97" y="78"/>
                        </a:lnTo>
                        <a:lnTo>
                          <a:pt x="107" y="78"/>
                        </a:lnTo>
                        <a:lnTo>
                          <a:pt x="117" y="69"/>
                        </a:lnTo>
                        <a:lnTo>
                          <a:pt x="136" y="69"/>
                        </a:lnTo>
                        <a:lnTo>
                          <a:pt x="146" y="59"/>
                        </a:lnTo>
                        <a:lnTo>
                          <a:pt x="156" y="49"/>
                        </a:lnTo>
                        <a:lnTo>
                          <a:pt x="166" y="39"/>
                        </a:lnTo>
                        <a:lnTo>
                          <a:pt x="185" y="30"/>
                        </a:lnTo>
                        <a:lnTo>
                          <a:pt x="185" y="2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185" y="10"/>
                        </a:lnTo>
                        <a:lnTo>
                          <a:pt x="175" y="20"/>
                        </a:lnTo>
                        <a:lnTo>
                          <a:pt x="166" y="30"/>
                        </a:lnTo>
                        <a:lnTo>
                          <a:pt x="156" y="39"/>
                        </a:lnTo>
                        <a:lnTo>
                          <a:pt x="146" y="49"/>
                        </a:lnTo>
                        <a:lnTo>
                          <a:pt x="127" y="59"/>
                        </a:lnTo>
                        <a:lnTo>
                          <a:pt x="117" y="59"/>
                        </a:lnTo>
                        <a:lnTo>
                          <a:pt x="107" y="69"/>
                        </a:lnTo>
                        <a:lnTo>
                          <a:pt x="97" y="69"/>
                        </a:lnTo>
                        <a:lnTo>
                          <a:pt x="78" y="78"/>
                        </a:lnTo>
                        <a:lnTo>
                          <a:pt x="68" y="78"/>
                        </a:lnTo>
                        <a:lnTo>
                          <a:pt x="59" y="88"/>
                        </a:lnTo>
                        <a:lnTo>
                          <a:pt x="39" y="88"/>
                        </a:lnTo>
                        <a:lnTo>
                          <a:pt x="29" y="88"/>
                        </a:lnTo>
                        <a:lnTo>
                          <a:pt x="10" y="98"/>
                        </a:lnTo>
                        <a:lnTo>
                          <a:pt x="0" y="107"/>
                        </a:lnTo>
                        <a:lnTo>
                          <a:pt x="10" y="10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10" y="11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>
                    <a:off x="4662720" y="3303720"/>
                    <a:ext cx="2988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43">
                        <a:moveTo>
                          <a:pt x="39" y="0"/>
                        </a:moveTo>
                        <a:lnTo>
                          <a:pt x="39" y="10"/>
                        </a:lnTo>
                        <a:lnTo>
                          <a:pt x="39" y="39"/>
                        </a:lnTo>
                        <a:lnTo>
                          <a:pt x="29" y="68"/>
                        </a:lnTo>
                        <a:lnTo>
                          <a:pt x="20" y="88"/>
                        </a:lnTo>
                        <a:lnTo>
                          <a:pt x="10" y="127"/>
                        </a:lnTo>
                        <a:lnTo>
                          <a:pt x="10" y="156"/>
                        </a:lnTo>
                        <a:lnTo>
                          <a:pt x="0" y="185"/>
                        </a:lnTo>
                        <a:lnTo>
                          <a:pt x="0" y="214"/>
                        </a:lnTo>
                        <a:lnTo>
                          <a:pt x="0" y="243"/>
                        </a:lnTo>
                        <a:lnTo>
                          <a:pt x="10" y="243"/>
                        </a:lnTo>
                        <a:lnTo>
                          <a:pt x="10" y="214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20" y="127"/>
                        </a:lnTo>
                        <a:lnTo>
                          <a:pt x="29" y="97"/>
                        </a:lnTo>
                        <a:lnTo>
                          <a:pt x="39" y="68"/>
                        </a:lnTo>
                        <a:lnTo>
                          <a:pt x="39" y="3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"/>
                  <p:cNvSpPr/>
                  <p:nvPr/>
                </p:nvSpPr>
                <p:spPr>
                  <a:xfrm>
                    <a:off x="4686840" y="3261600"/>
                    <a:ext cx="41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8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49" y="19"/>
                        </a:lnTo>
                        <a:lnTo>
                          <a:pt x="39" y="29"/>
                        </a:lnTo>
                        <a:lnTo>
                          <a:pt x="29" y="29"/>
                        </a:lnTo>
                        <a:lnTo>
                          <a:pt x="10" y="49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10" y="78"/>
                        </a:lnTo>
                        <a:lnTo>
                          <a:pt x="20" y="58"/>
                        </a:lnTo>
                        <a:lnTo>
                          <a:pt x="20" y="58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>
                    <a:off x="4722480" y="3219840"/>
                    <a:ext cx="42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8">
                        <a:moveTo>
                          <a:pt x="59" y="9"/>
                        </a:moveTo>
                        <a:lnTo>
                          <a:pt x="59" y="0"/>
                        </a:lnTo>
                        <a:lnTo>
                          <a:pt x="59" y="9"/>
                        </a:lnTo>
                        <a:lnTo>
                          <a:pt x="49" y="19"/>
                        </a:lnTo>
                        <a:lnTo>
                          <a:pt x="30" y="48"/>
                        </a:lnTo>
                        <a:lnTo>
                          <a:pt x="20" y="48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10" y="68"/>
                        </a:lnTo>
                        <a:lnTo>
                          <a:pt x="30" y="48"/>
                        </a:lnTo>
                        <a:lnTo>
                          <a:pt x="39" y="48"/>
                        </a:lnTo>
                        <a:lnTo>
                          <a:pt x="49" y="39"/>
                        </a:lnTo>
                        <a:lnTo>
                          <a:pt x="59" y="29"/>
                        </a:lnTo>
                        <a:lnTo>
                          <a:pt x="69" y="19"/>
                        </a:lnTo>
                        <a:lnTo>
                          <a:pt x="69" y="9"/>
                        </a:lnTo>
                        <a:lnTo>
                          <a:pt x="5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4759200" y="3123360"/>
                    <a:ext cx="356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65">
                        <a:moveTo>
                          <a:pt x="48" y="10"/>
                        </a:moveTo>
                        <a:lnTo>
                          <a:pt x="39" y="19"/>
                        </a:lnTo>
                        <a:lnTo>
                          <a:pt x="39" y="49"/>
                        </a:lnTo>
                        <a:lnTo>
                          <a:pt x="29" y="68"/>
                        </a:lnTo>
                        <a:lnTo>
                          <a:pt x="29" y="78"/>
                        </a:lnTo>
                        <a:lnTo>
                          <a:pt x="19" y="107"/>
                        </a:lnTo>
                        <a:lnTo>
                          <a:pt x="10" y="117"/>
                        </a:lnTo>
                        <a:lnTo>
                          <a:pt x="10" y="146"/>
                        </a:lnTo>
                        <a:lnTo>
                          <a:pt x="0" y="165"/>
                        </a:lnTo>
                        <a:lnTo>
                          <a:pt x="10" y="165"/>
                        </a:lnTo>
                        <a:lnTo>
                          <a:pt x="19" y="146"/>
                        </a:lnTo>
                        <a:lnTo>
                          <a:pt x="19" y="117"/>
                        </a:lnTo>
                        <a:lnTo>
                          <a:pt x="29" y="107"/>
                        </a:lnTo>
                        <a:lnTo>
                          <a:pt x="29" y="88"/>
                        </a:lnTo>
                        <a:lnTo>
                          <a:pt x="39" y="68"/>
                        </a:lnTo>
                        <a:lnTo>
                          <a:pt x="48" y="49"/>
                        </a:lnTo>
                        <a:lnTo>
                          <a:pt x="48" y="19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4686840" y="2991240"/>
                    <a:ext cx="1076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24">
                        <a:moveTo>
                          <a:pt x="0" y="0"/>
                        </a:moveTo>
                        <a:lnTo>
                          <a:pt x="10" y="19"/>
                        </a:lnTo>
                        <a:lnTo>
                          <a:pt x="20" y="29"/>
                        </a:lnTo>
                        <a:lnTo>
                          <a:pt x="29" y="48"/>
                        </a:lnTo>
                        <a:lnTo>
                          <a:pt x="39" y="58"/>
                        </a:lnTo>
                        <a:lnTo>
                          <a:pt x="49" y="78"/>
                        </a:lnTo>
                        <a:lnTo>
                          <a:pt x="58" y="87"/>
                        </a:lnTo>
                        <a:lnTo>
                          <a:pt x="68" y="97"/>
                        </a:lnTo>
                        <a:lnTo>
                          <a:pt x="107" y="136"/>
                        </a:lnTo>
                        <a:lnTo>
                          <a:pt x="117" y="146"/>
                        </a:lnTo>
                        <a:lnTo>
                          <a:pt x="136" y="165"/>
                        </a:lnTo>
                        <a:lnTo>
                          <a:pt x="146" y="175"/>
                        </a:lnTo>
                        <a:lnTo>
                          <a:pt x="146" y="194"/>
                        </a:lnTo>
                        <a:lnTo>
                          <a:pt x="156" y="204"/>
                        </a:lnTo>
                        <a:lnTo>
                          <a:pt x="165" y="224"/>
                        </a:lnTo>
                        <a:lnTo>
                          <a:pt x="175" y="214"/>
                        </a:lnTo>
                        <a:lnTo>
                          <a:pt x="165" y="204"/>
                        </a:lnTo>
                        <a:lnTo>
                          <a:pt x="156" y="185"/>
                        </a:lnTo>
                        <a:lnTo>
                          <a:pt x="146" y="175"/>
                        </a:lnTo>
                        <a:lnTo>
                          <a:pt x="136" y="156"/>
                        </a:lnTo>
                        <a:lnTo>
                          <a:pt x="127" y="146"/>
                        </a:lnTo>
                        <a:lnTo>
                          <a:pt x="107" y="117"/>
                        </a:lnTo>
                        <a:lnTo>
                          <a:pt x="97" y="107"/>
                        </a:lnTo>
                        <a:lnTo>
                          <a:pt x="49" y="58"/>
                        </a:lnTo>
                        <a:lnTo>
                          <a:pt x="29" y="39"/>
                        </a:lnTo>
                        <a:lnTo>
                          <a:pt x="20" y="2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>
                    <a:off x="4686840" y="2888640"/>
                    <a:ext cx="417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6">
                        <a:moveTo>
                          <a:pt x="58" y="0"/>
                        </a:moveTo>
                        <a:lnTo>
                          <a:pt x="49" y="10"/>
                        </a:lnTo>
                        <a:lnTo>
                          <a:pt x="39" y="39"/>
                        </a:lnTo>
                        <a:lnTo>
                          <a:pt x="20" y="49"/>
                        </a:lnTo>
                        <a:lnTo>
                          <a:pt x="20" y="78"/>
                        </a:lnTo>
                        <a:lnTo>
                          <a:pt x="10" y="98"/>
                        </a:lnTo>
                        <a:lnTo>
                          <a:pt x="0" y="117"/>
                        </a:lnTo>
                        <a:lnTo>
                          <a:pt x="0" y="166"/>
                        </a:lnTo>
                        <a:lnTo>
                          <a:pt x="10" y="166"/>
                        </a:lnTo>
                        <a:lnTo>
                          <a:pt x="10" y="127"/>
                        </a:lnTo>
                        <a:lnTo>
                          <a:pt x="20" y="98"/>
                        </a:lnTo>
                        <a:lnTo>
                          <a:pt x="20" y="78"/>
                        </a:lnTo>
                        <a:lnTo>
                          <a:pt x="29" y="59"/>
                        </a:lnTo>
                        <a:lnTo>
                          <a:pt x="49" y="39"/>
                        </a:lnTo>
                        <a:lnTo>
                          <a:pt x="58" y="2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68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4" name=""/>
                  <p:cNvSpPr/>
                  <p:nvPr/>
                </p:nvSpPr>
                <p:spPr>
                  <a:xfrm>
                    <a:off x="4717080" y="2780640"/>
                    <a:ext cx="295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75">
                        <a:moveTo>
                          <a:pt x="48" y="0"/>
                        </a:moveTo>
                        <a:lnTo>
                          <a:pt x="48" y="0"/>
                        </a:lnTo>
                        <a:lnTo>
                          <a:pt x="19" y="10"/>
                        </a:lnTo>
                        <a:lnTo>
                          <a:pt x="9" y="29"/>
                        </a:lnTo>
                        <a:lnTo>
                          <a:pt x="0" y="49"/>
                        </a:lnTo>
                        <a:lnTo>
                          <a:pt x="0" y="97"/>
                        </a:lnTo>
                        <a:lnTo>
                          <a:pt x="0" y="127"/>
                        </a:lnTo>
                        <a:lnTo>
                          <a:pt x="9" y="146"/>
                        </a:lnTo>
                        <a:lnTo>
                          <a:pt x="9" y="175"/>
                        </a:lnTo>
                        <a:lnTo>
                          <a:pt x="19" y="175"/>
                        </a:lnTo>
                        <a:lnTo>
                          <a:pt x="9" y="146"/>
                        </a:lnTo>
                        <a:lnTo>
                          <a:pt x="9" y="127"/>
                        </a:lnTo>
                        <a:lnTo>
                          <a:pt x="9" y="97"/>
                        </a:lnTo>
                        <a:lnTo>
                          <a:pt x="9" y="49"/>
                        </a:lnTo>
                        <a:lnTo>
                          <a:pt x="9" y="39"/>
                        </a:lnTo>
                        <a:lnTo>
                          <a:pt x="19" y="19"/>
                        </a:lnTo>
                        <a:lnTo>
                          <a:pt x="48" y="10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>
                    <a:off x="4746600" y="27745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39" y="29"/>
                        </a:moveTo>
                        <a:lnTo>
                          <a:pt x="30" y="29"/>
                        </a:lnTo>
                        <a:lnTo>
                          <a:pt x="3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30" y="29"/>
                        </a:lnTo>
                        <a:lnTo>
                          <a:pt x="30" y="39"/>
                        </a:lnTo>
                        <a:lnTo>
                          <a:pt x="3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>
                    <a:off x="3666960" y="2798640"/>
                    <a:ext cx="1015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78">
                        <a:moveTo>
                          <a:pt x="155" y="10"/>
                        </a:moveTo>
                        <a:lnTo>
                          <a:pt x="155" y="20"/>
                        </a:lnTo>
                        <a:lnTo>
                          <a:pt x="165" y="39"/>
                        </a:lnTo>
                        <a:lnTo>
                          <a:pt x="165" y="49"/>
                        </a:lnTo>
                        <a:lnTo>
                          <a:pt x="165" y="68"/>
                        </a:lnTo>
                        <a:lnTo>
                          <a:pt x="146" y="78"/>
                        </a:lnTo>
                        <a:lnTo>
                          <a:pt x="136" y="68"/>
                        </a:lnTo>
                        <a:lnTo>
                          <a:pt x="136" y="59"/>
                        </a:lnTo>
                        <a:lnTo>
                          <a:pt x="136" y="59"/>
                        </a:lnTo>
                        <a:lnTo>
                          <a:pt x="126" y="68"/>
                        </a:lnTo>
                        <a:lnTo>
                          <a:pt x="126" y="68"/>
                        </a:lnTo>
                        <a:lnTo>
                          <a:pt x="126" y="78"/>
                        </a:lnTo>
                        <a:lnTo>
                          <a:pt x="117" y="78"/>
                        </a:lnTo>
                        <a:lnTo>
                          <a:pt x="107" y="68"/>
                        </a:lnTo>
                        <a:lnTo>
                          <a:pt x="107" y="49"/>
                        </a:lnTo>
                        <a:lnTo>
                          <a:pt x="97" y="39"/>
                        </a:lnTo>
                        <a:lnTo>
                          <a:pt x="87" y="59"/>
                        </a:lnTo>
                        <a:lnTo>
                          <a:pt x="87" y="68"/>
                        </a:lnTo>
                        <a:lnTo>
                          <a:pt x="78" y="68"/>
                        </a:lnTo>
                        <a:lnTo>
                          <a:pt x="78" y="78"/>
                        </a:lnTo>
                        <a:lnTo>
                          <a:pt x="68" y="68"/>
                        </a:lnTo>
                        <a:lnTo>
                          <a:pt x="58" y="68"/>
                        </a:lnTo>
                        <a:lnTo>
                          <a:pt x="58" y="59"/>
                        </a:lnTo>
                        <a:lnTo>
                          <a:pt x="68" y="49"/>
                        </a:lnTo>
                        <a:lnTo>
                          <a:pt x="58" y="39"/>
                        </a:lnTo>
                        <a:lnTo>
                          <a:pt x="58" y="39"/>
                        </a:lnTo>
                        <a:lnTo>
                          <a:pt x="48" y="39"/>
                        </a:lnTo>
                        <a:lnTo>
                          <a:pt x="48" y="39"/>
                        </a:lnTo>
                        <a:lnTo>
                          <a:pt x="39" y="49"/>
                        </a:lnTo>
                        <a:lnTo>
                          <a:pt x="29" y="49"/>
                        </a:lnTo>
                        <a:lnTo>
                          <a:pt x="19" y="49"/>
                        </a:lnTo>
                        <a:lnTo>
                          <a:pt x="10" y="49"/>
                        </a:lnTo>
                        <a:lnTo>
                          <a:pt x="10" y="4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29" y="0"/>
                        </a:lnTo>
                        <a:lnTo>
                          <a:pt x="126" y="0"/>
                        </a:lnTo>
                        <a:lnTo>
                          <a:pt x="136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f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3756960" y="2804760"/>
                    <a:ext cx="17640" cy="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29" y="58"/>
                        </a:moveTo>
                        <a:lnTo>
                          <a:pt x="29" y="3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29"/>
                        </a:lnTo>
                        <a:lnTo>
                          <a:pt x="19" y="39"/>
                        </a:lnTo>
                        <a:lnTo>
                          <a:pt x="19" y="58"/>
                        </a:lnTo>
                        <a:lnTo>
                          <a:pt x="1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lnTo>
                          <a:pt x="29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3756960" y="2840400"/>
                    <a:ext cx="17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374472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0" y="0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3733200" y="2835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0" y="19"/>
                        </a:move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9"/>
                        </a:lnTo>
                        <a:lnTo>
                          <a:pt x="19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3726720" y="2822760"/>
                    <a:ext cx="12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9"/>
                        </a:ln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0" y="29"/>
                        </a:lnTo>
                        <a:lnTo>
                          <a:pt x="2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3702960" y="28227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0" y="29"/>
                        </a:moveTo>
                        <a:lnTo>
                          <a:pt x="10" y="39"/>
                        </a:lnTo>
                        <a:lnTo>
                          <a:pt x="20" y="39"/>
                        </a:lnTo>
                        <a:lnTo>
                          <a:pt x="29" y="29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39" y="0"/>
                        </a:lnTo>
                        <a:lnTo>
                          <a:pt x="29" y="10"/>
                        </a:lnTo>
                        <a:lnTo>
                          <a:pt x="29" y="20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2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lnTo>
                          <a:pt x="1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3702960" y="2816640"/>
                    <a:ext cx="6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9">
                        <a:moveTo>
                          <a:pt x="0" y="10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3666960" y="2816640"/>
                    <a:ext cx="356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0">
                        <a:moveTo>
                          <a:pt x="0" y="10"/>
                        </a:moveTo>
                        <a:lnTo>
                          <a:pt x="10" y="20"/>
                        </a:lnTo>
                        <a:lnTo>
                          <a:pt x="10" y="30"/>
                        </a:lnTo>
                        <a:lnTo>
                          <a:pt x="19" y="30"/>
                        </a:lnTo>
                        <a:lnTo>
                          <a:pt x="29" y="20"/>
                        </a:lnTo>
                        <a:lnTo>
                          <a:pt x="39" y="20"/>
                        </a:lnTo>
                        <a:lnTo>
                          <a:pt x="48" y="20"/>
                        </a:lnTo>
                        <a:lnTo>
                          <a:pt x="48" y="10"/>
                        </a:lnTo>
                        <a:lnTo>
                          <a:pt x="5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19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3666960" y="27986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9">
                        <a:moveTo>
                          <a:pt x="29" y="0"/>
                        </a:moveTo>
                        <a:lnTo>
                          <a:pt x="29" y="0"/>
                        </a:lnTo>
                        <a:lnTo>
                          <a:pt x="29" y="10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9"/>
                        </a:lnTo>
                        <a:lnTo>
                          <a:pt x="10" y="39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39" y="10"/>
                        </a:lnTo>
                        <a:lnTo>
                          <a:pt x="29" y="1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3684960" y="2798640"/>
                    <a:ext cx="77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">
                        <a:moveTo>
                          <a:pt x="126" y="10"/>
                        </a:moveTo>
                        <a:lnTo>
                          <a:pt x="126" y="0"/>
                        </a:lnTo>
                        <a:lnTo>
                          <a:pt x="107" y="0"/>
                        </a:lnTo>
                        <a:lnTo>
                          <a:pt x="97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7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17" y="10"/>
                        </a:lnTo>
                        <a:lnTo>
                          <a:pt x="126" y="10"/>
                        </a:lnTo>
                        <a:lnTo>
                          <a:pt x="126" y="0"/>
                        </a:lnTo>
                        <a:lnTo>
                          <a:pt x="126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3781080" y="2810880"/>
                    <a:ext cx="1152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8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0" y="58"/>
                        </a:lnTo>
                        <a:lnTo>
                          <a:pt x="0" y="68"/>
                        </a:lnTo>
                        <a:lnTo>
                          <a:pt x="19" y="68"/>
                        </a:lnTo>
                        <a:lnTo>
                          <a:pt x="19" y="58"/>
                        </a:lnTo>
                        <a:lnTo>
                          <a:pt x="0" y="58"/>
                        </a:lnTo>
                        <a:lnTo>
                          <a:pt x="0" y="39"/>
                        </a:lnTo>
                        <a:lnTo>
                          <a:pt x="9" y="3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3781080" y="282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39"/>
                        </a:move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19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9" y="29"/>
                        </a:lnTo>
                        <a:lnTo>
                          <a:pt x="9" y="3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lnTo>
                          <a:pt x="1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3541320" y="2853000"/>
                    <a:ext cx="2397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97">
                        <a:moveTo>
                          <a:pt x="77" y="0"/>
                        </a:moveTo>
                        <a:lnTo>
                          <a:pt x="77" y="10"/>
                        </a:lnTo>
                        <a:lnTo>
                          <a:pt x="77" y="19"/>
                        </a:lnTo>
                        <a:lnTo>
                          <a:pt x="48" y="19"/>
                        </a:lnTo>
                        <a:lnTo>
                          <a:pt x="38" y="19"/>
                        </a:lnTo>
                        <a:lnTo>
                          <a:pt x="38" y="29"/>
                        </a:lnTo>
                        <a:lnTo>
                          <a:pt x="38" y="29"/>
                        </a:lnTo>
                        <a:lnTo>
                          <a:pt x="77" y="29"/>
                        </a:lnTo>
                        <a:lnTo>
                          <a:pt x="87" y="39"/>
                        </a:lnTo>
                        <a:lnTo>
                          <a:pt x="87" y="39"/>
                        </a:lnTo>
                        <a:lnTo>
                          <a:pt x="77" y="39"/>
                        </a:lnTo>
                        <a:lnTo>
                          <a:pt x="68" y="49"/>
                        </a:lnTo>
                        <a:lnTo>
                          <a:pt x="58" y="49"/>
                        </a:lnTo>
                        <a:lnTo>
                          <a:pt x="58" y="49"/>
                        </a:lnTo>
                        <a:lnTo>
                          <a:pt x="58" y="58"/>
                        </a:lnTo>
                        <a:lnTo>
                          <a:pt x="58" y="68"/>
                        </a:lnTo>
                        <a:lnTo>
                          <a:pt x="77" y="68"/>
                        </a:lnTo>
                        <a:lnTo>
                          <a:pt x="77" y="58"/>
                        </a:lnTo>
                        <a:lnTo>
                          <a:pt x="87" y="58"/>
                        </a:lnTo>
                        <a:lnTo>
                          <a:pt x="97" y="68"/>
                        </a:lnTo>
                        <a:lnTo>
                          <a:pt x="97" y="68"/>
                        </a:lnTo>
                        <a:lnTo>
                          <a:pt x="107" y="68"/>
                        </a:lnTo>
                        <a:lnTo>
                          <a:pt x="116" y="68"/>
                        </a:lnTo>
                        <a:lnTo>
                          <a:pt x="116" y="58"/>
                        </a:lnTo>
                        <a:lnTo>
                          <a:pt x="136" y="58"/>
                        </a:lnTo>
                        <a:lnTo>
                          <a:pt x="136" y="68"/>
                        </a:lnTo>
                        <a:lnTo>
                          <a:pt x="145" y="68"/>
                        </a:lnTo>
                        <a:lnTo>
                          <a:pt x="155" y="68"/>
                        </a:lnTo>
                        <a:lnTo>
                          <a:pt x="155" y="6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65" y="58"/>
                        </a:lnTo>
                        <a:lnTo>
                          <a:pt x="175" y="58"/>
                        </a:lnTo>
                        <a:lnTo>
                          <a:pt x="184" y="68"/>
                        </a:lnTo>
                        <a:lnTo>
                          <a:pt x="184" y="68"/>
                        </a:lnTo>
                        <a:lnTo>
                          <a:pt x="194" y="68"/>
                        </a:lnTo>
                        <a:lnTo>
                          <a:pt x="194" y="68"/>
                        </a:lnTo>
                        <a:lnTo>
                          <a:pt x="204" y="68"/>
                        </a:lnTo>
                        <a:lnTo>
                          <a:pt x="214" y="58"/>
                        </a:lnTo>
                        <a:lnTo>
                          <a:pt x="223" y="58"/>
                        </a:lnTo>
                        <a:lnTo>
                          <a:pt x="233" y="68"/>
                        </a:lnTo>
                        <a:lnTo>
                          <a:pt x="243" y="58"/>
                        </a:lnTo>
                        <a:lnTo>
                          <a:pt x="243" y="68"/>
                        </a:lnTo>
                        <a:lnTo>
                          <a:pt x="252" y="68"/>
                        </a:lnTo>
                        <a:lnTo>
                          <a:pt x="252" y="78"/>
                        </a:lnTo>
                        <a:lnTo>
                          <a:pt x="262" y="68"/>
                        </a:lnTo>
                        <a:lnTo>
                          <a:pt x="262" y="58"/>
                        </a:lnTo>
                        <a:lnTo>
                          <a:pt x="262" y="68"/>
                        </a:lnTo>
                        <a:lnTo>
                          <a:pt x="272" y="58"/>
                        </a:lnTo>
                        <a:lnTo>
                          <a:pt x="291" y="5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01" y="68"/>
                        </a:lnTo>
                        <a:lnTo>
                          <a:pt x="311" y="68"/>
                        </a:lnTo>
                        <a:lnTo>
                          <a:pt x="311" y="68"/>
                        </a:lnTo>
                        <a:lnTo>
                          <a:pt x="311" y="58"/>
                        </a:lnTo>
                        <a:lnTo>
                          <a:pt x="330" y="58"/>
                        </a:lnTo>
                        <a:lnTo>
                          <a:pt x="340" y="68"/>
                        </a:lnTo>
                        <a:lnTo>
                          <a:pt x="359" y="68"/>
                        </a:lnTo>
                        <a:lnTo>
                          <a:pt x="369" y="58"/>
                        </a:lnTo>
                        <a:lnTo>
                          <a:pt x="369" y="58"/>
                        </a:lnTo>
                        <a:lnTo>
                          <a:pt x="369" y="49"/>
                        </a:lnTo>
                        <a:lnTo>
                          <a:pt x="359" y="49"/>
                        </a:lnTo>
                        <a:lnTo>
                          <a:pt x="350" y="49"/>
                        </a:lnTo>
                        <a:lnTo>
                          <a:pt x="340" y="39"/>
                        </a:lnTo>
                        <a:lnTo>
                          <a:pt x="311" y="39"/>
                        </a:lnTo>
                        <a:lnTo>
                          <a:pt x="311" y="29"/>
                        </a:lnTo>
                        <a:lnTo>
                          <a:pt x="321" y="39"/>
                        </a:lnTo>
                        <a:lnTo>
                          <a:pt x="379" y="39"/>
                        </a:lnTo>
                        <a:lnTo>
                          <a:pt x="379" y="29"/>
                        </a:lnTo>
                        <a:lnTo>
                          <a:pt x="369" y="19"/>
                        </a:lnTo>
                        <a:lnTo>
                          <a:pt x="359" y="19"/>
                        </a:lnTo>
                        <a:lnTo>
                          <a:pt x="350" y="19"/>
                        </a:lnTo>
                        <a:lnTo>
                          <a:pt x="321" y="19"/>
                        </a:lnTo>
                        <a:lnTo>
                          <a:pt x="311" y="19"/>
                        </a:lnTo>
                        <a:lnTo>
                          <a:pt x="301" y="19"/>
                        </a:lnTo>
                        <a:lnTo>
                          <a:pt x="301" y="10"/>
                        </a:lnTo>
                        <a:lnTo>
                          <a:pt x="291" y="19"/>
                        </a:lnTo>
                        <a:lnTo>
                          <a:pt x="291" y="19"/>
                        </a:lnTo>
                        <a:lnTo>
                          <a:pt x="282" y="19"/>
                        </a:lnTo>
                        <a:lnTo>
                          <a:pt x="282" y="19"/>
                        </a:lnTo>
                        <a:lnTo>
                          <a:pt x="272" y="19"/>
                        </a:lnTo>
                        <a:lnTo>
                          <a:pt x="252" y="19"/>
                        </a:lnTo>
                        <a:lnTo>
                          <a:pt x="252" y="10"/>
                        </a:lnTo>
                        <a:lnTo>
                          <a:pt x="252" y="0"/>
                        </a:lnTo>
                        <a:lnTo>
                          <a:pt x="243" y="10"/>
                        </a:lnTo>
                        <a:lnTo>
                          <a:pt x="243" y="10"/>
                        </a:lnTo>
                        <a:lnTo>
                          <a:pt x="233" y="19"/>
                        </a:lnTo>
                        <a:lnTo>
                          <a:pt x="233" y="19"/>
                        </a:lnTo>
                        <a:lnTo>
                          <a:pt x="223" y="19"/>
                        </a:lnTo>
                        <a:lnTo>
                          <a:pt x="214" y="19"/>
                        </a:lnTo>
                        <a:lnTo>
                          <a:pt x="204" y="19"/>
                        </a:lnTo>
                        <a:lnTo>
                          <a:pt x="204" y="10"/>
                        </a:lnTo>
                        <a:lnTo>
                          <a:pt x="194" y="10"/>
                        </a:lnTo>
                        <a:lnTo>
                          <a:pt x="194" y="10"/>
                        </a:lnTo>
                        <a:lnTo>
                          <a:pt x="184" y="0"/>
                        </a:lnTo>
                        <a:lnTo>
                          <a:pt x="184" y="10"/>
                        </a:lnTo>
                        <a:lnTo>
                          <a:pt x="184" y="19"/>
                        </a:lnTo>
                        <a:lnTo>
                          <a:pt x="145" y="19"/>
                        </a:lnTo>
                        <a:lnTo>
                          <a:pt x="145" y="10"/>
                        </a:lnTo>
                        <a:lnTo>
                          <a:pt x="145" y="10"/>
                        </a:lnTo>
                        <a:lnTo>
                          <a:pt x="145" y="0"/>
                        </a:lnTo>
                        <a:lnTo>
                          <a:pt x="136" y="0"/>
                        </a:lnTo>
                        <a:lnTo>
                          <a:pt x="126" y="10"/>
                        </a:lnTo>
                        <a:lnTo>
                          <a:pt x="126" y="19"/>
                        </a:lnTo>
                        <a:lnTo>
                          <a:pt x="97" y="19"/>
                        </a:lnTo>
                        <a:lnTo>
                          <a:pt x="97" y="0"/>
                        </a:lnTo>
                        <a:lnTo>
                          <a:pt x="252" y="0"/>
                        </a:lnTo>
                        <a:lnTo>
                          <a:pt x="262" y="10"/>
                        </a:lnTo>
                        <a:lnTo>
                          <a:pt x="340" y="10"/>
                        </a:lnTo>
                        <a:lnTo>
                          <a:pt x="350" y="10"/>
                        </a:lnTo>
                        <a:lnTo>
                          <a:pt x="389" y="10"/>
                        </a:lnTo>
                        <a:lnTo>
                          <a:pt x="389" y="29"/>
                        </a:lnTo>
                        <a:lnTo>
                          <a:pt x="389" y="68"/>
                        </a:lnTo>
                        <a:lnTo>
                          <a:pt x="389" y="78"/>
                        </a:lnTo>
                        <a:lnTo>
                          <a:pt x="379" y="97"/>
                        </a:lnTo>
                        <a:lnTo>
                          <a:pt x="19" y="87"/>
                        </a:lnTo>
                        <a:lnTo>
                          <a:pt x="9" y="78"/>
                        </a:lnTo>
                        <a:lnTo>
                          <a:pt x="0" y="68"/>
                        </a:lnTo>
                        <a:lnTo>
                          <a:pt x="0" y="68"/>
                        </a:lnTo>
                        <a:lnTo>
                          <a:pt x="0" y="10"/>
                        </a:lnTo>
                        <a:lnTo>
                          <a:pt x="9" y="0"/>
                        </a:lnTo>
                        <a:lnTo>
                          <a:pt x="19" y="0"/>
                        </a:lnTo>
                        <a:lnTo>
                          <a:pt x="58" y="0"/>
                        </a:lnTo>
                        <a:lnTo>
                          <a:pt x="68" y="0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>
                    <a:off x="3558960" y="2853000"/>
                    <a:ext cx="35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9">
                        <a:moveTo>
                          <a:pt x="9" y="19"/>
                        </a:moveTo>
                        <a:lnTo>
                          <a:pt x="9" y="29"/>
                        </a:lnTo>
                        <a:lnTo>
                          <a:pt x="19" y="19"/>
                        </a:lnTo>
                        <a:lnTo>
                          <a:pt x="48" y="19"/>
                        </a:lnTo>
                        <a:lnTo>
                          <a:pt x="48" y="1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48" y="10"/>
                        </a:lnTo>
                        <a:lnTo>
                          <a:pt x="19" y="10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9" y="29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>
                    <a:off x="3564720" y="2864520"/>
                    <a:ext cx="36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30">
                        <a:moveTo>
                          <a:pt x="49" y="30"/>
                        </a:moveTo>
                        <a:lnTo>
                          <a:pt x="49" y="20"/>
                        </a:ln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lnTo>
                          <a:pt x="59" y="30"/>
                        </a:lnTo>
                        <a:lnTo>
                          <a:pt x="49" y="20"/>
                        </a:lnTo>
                        <a:lnTo>
                          <a:pt x="49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>
                    <a:off x="3570840" y="287712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10" y="19"/>
                        </a:move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4" name=""/>
                  <p:cNvSpPr/>
                  <p:nvPr/>
                </p:nvSpPr>
                <p:spPr>
                  <a:xfrm>
                    <a:off x="3570840" y="2888640"/>
                    <a:ext cx="30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10"/>
                        </a:move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0" y="10"/>
                        </a:lnTo>
                        <a:lnTo>
                          <a:pt x="29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>
                    <a:off x="3601080" y="2894760"/>
                    <a:ext cx="115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>
                    <a:off x="3607200" y="2883240"/>
                    <a:ext cx="54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9" y="9"/>
                        </a:move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9" y="1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9" y="19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3612600" y="288324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20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20" y="9"/>
                        </a:lnTo>
                        <a:lnTo>
                          <a:pt x="20" y="9"/>
                        </a:lnTo>
                        <a:lnTo>
                          <a:pt x="1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lnTo>
                          <a:pt x="2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3625200" y="2894760"/>
                    <a:ext cx="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9" y="0"/>
                        </a:move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3630600" y="288324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20" y="0"/>
                        </a:moveTo>
                        <a:lnTo>
                          <a:pt x="1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20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>
                    <a:off x="3642840" y="2883240"/>
                    <a:ext cx="237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9">
                        <a:moveTo>
                          <a:pt x="29" y="19"/>
                        </a:moveTo>
                        <a:lnTo>
                          <a:pt x="29" y="19"/>
                        </a:lnTo>
                        <a:lnTo>
                          <a:pt x="2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19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lnTo>
                          <a:pt x="29" y="29"/>
                        </a:lnTo>
                        <a:lnTo>
                          <a:pt x="39" y="19"/>
                        </a:lnTo>
                        <a:lnTo>
                          <a:pt x="2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>
                    <a:off x="3660840" y="2888640"/>
                    <a:ext cx="29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0">
                        <a:moveTo>
                          <a:pt x="49" y="0"/>
                        </a:moveTo>
                        <a:lnTo>
                          <a:pt x="4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49" y="1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3691080" y="2888640"/>
                    <a:ext cx="115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9" y="10"/>
                        </a:move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9" y="20"/>
                        </a:lnTo>
                        <a:lnTo>
                          <a:pt x="19" y="2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3" name=""/>
                  <p:cNvSpPr/>
                  <p:nvPr/>
                </p:nvSpPr>
                <p:spPr>
                  <a:xfrm>
                    <a:off x="3696480" y="2888640"/>
                    <a:ext cx="61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4" name=""/>
                  <p:cNvSpPr/>
                  <p:nvPr/>
                </p:nvSpPr>
                <p:spPr>
                  <a:xfrm>
                    <a:off x="3702960" y="2888640"/>
                    <a:ext cx="2988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">
                        <a:moveTo>
                          <a:pt x="39" y="10"/>
                        </a:moveTo>
                        <a:lnTo>
                          <a:pt x="49" y="10"/>
                        </a:lnTo>
                        <a:lnTo>
                          <a:pt x="39" y="1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39" y="1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lnTo>
                          <a:pt x="39" y="20"/>
                        </a:lnTo>
                        <a:lnTo>
                          <a:pt x="39" y="20"/>
                        </a:lnTo>
                        <a:lnTo>
                          <a:pt x="3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>
                    <a:off x="3726720" y="288864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6" name=""/>
                  <p:cNvSpPr/>
                  <p:nvPr/>
                </p:nvSpPr>
                <p:spPr>
                  <a:xfrm>
                    <a:off x="3733200" y="2883240"/>
                    <a:ext cx="41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9">
                        <a:moveTo>
                          <a:pt x="58" y="9"/>
                        </a:moveTo>
                        <a:lnTo>
                          <a:pt x="58" y="0"/>
                        </a:lnTo>
                        <a:lnTo>
                          <a:pt x="48" y="9"/>
                        </a:lnTo>
                        <a:lnTo>
                          <a:pt x="29" y="9"/>
                        </a:lnTo>
                        <a:lnTo>
                          <a:pt x="29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48" y="19"/>
                        </a:lnTo>
                        <a:lnTo>
                          <a:pt x="58" y="1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68" y="9"/>
                        </a:lnTo>
                        <a:lnTo>
                          <a:pt x="68" y="9"/>
                        </a:lnTo>
                        <a:lnTo>
                          <a:pt x="68" y="0"/>
                        </a:lnTo>
                        <a:lnTo>
                          <a:pt x="5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3726720" y="2877120"/>
                    <a:ext cx="47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9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39" y="10"/>
                        </a:lnTo>
                        <a:lnTo>
                          <a:pt x="49" y="10"/>
                        </a:lnTo>
                        <a:lnTo>
                          <a:pt x="58" y="10"/>
                        </a:lnTo>
                        <a:lnTo>
                          <a:pt x="68" y="19"/>
                        </a:lnTo>
                        <a:lnTo>
                          <a:pt x="78" y="10"/>
                        </a:lnTo>
                        <a:lnTo>
                          <a:pt x="68" y="10"/>
                        </a:lnTo>
                        <a:lnTo>
                          <a:pt x="58" y="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3726720" y="287064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1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3733200" y="2870640"/>
                    <a:ext cx="4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">
                        <a:moveTo>
                          <a:pt x="58" y="10"/>
                        </a:moveTo>
                        <a:lnTo>
                          <a:pt x="58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9" y="1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68" y="10"/>
                        </a:lnTo>
                        <a:lnTo>
                          <a:pt x="5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3762720" y="286452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20" y="20"/>
                        </a:lnTo>
                        <a:lnTo>
                          <a:pt x="20" y="1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>
                    <a:off x="3726720" y="2859120"/>
                    <a:ext cx="35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58" y="19"/>
                        </a:lnTo>
                        <a:lnTo>
                          <a:pt x="58" y="9"/>
                        </a:lnTo>
                        <a:lnTo>
                          <a:pt x="4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3696480" y="285912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30" y="9"/>
                        </a:lnTo>
                        <a:lnTo>
                          <a:pt x="30" y="9"/>
                        </a:lnTo>
                        <a:lnTo>
                          <a:pt x="39" y="9"/>
                        </a:lnTo>
                        <a:lnTo>
                          <a:pt x="49" y="9"/>
                        </a:lnTo>
                        <a:lnTo>
                          <a:pt x="49" y="9"/>
                        </a:lnTo>
                        <a:lnTo>
                          <a:pt x="49" y="0"/>
                        </a:lnTo>
                        <a:lnTo>
                          <a:pt x="3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369108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9" y="10"/>
                        </a:moveTo>
                        <a:lnTo>
                          <a:pt x="0" y="10"/>
                        </a:lnTo>
                        <a:lnTo>
                          <a:pt x="9" y="19"/>
                        </a:lnTo>
                        <a:lnTo>
                          <a:pt x="19" y="19"/>
                        </a:lnTo>
                        <a:lnTo>
                          <a:pt x="19" y="1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368496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3660840" y="2853000"/>
                    <a:ext cx="23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0" y="19"/>
                        </a:moveTo>
                        <a:lnTo>
                          <a:pt x="0" y="10"/>
                        </a:ln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29" y="19"/>
                        </a:lnTo>
                        <a:lnTo>
                          <a:pt x="39" y="19"/>
                        </a:lnTo>
                        <a:lnTo>
                          <a:pt x="39" y="19"/>
                        </a:lnTo>
                        <a:lnTo>
                          <a:pt x="20" y="19"/>
                        </a:lnTo>
                        <a:lnTo>
                          <a:pt x="2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3649320" y="2853000"/>
                    <a:ext cx="17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9" y="0"/>
                        </a:moveTo>
                        <a:lnTo>
                          <a:pt x="9" y="10"/>
                        </a:lnTo>
                        <a:lnTo>
                          <a:pt x="19" y="19"/>
                        </a:lnTo>
                        <a:lnTo>
                          <a:pt x="2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3630600" y="2853000"/>
                    <a:ext cx="29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9">
                        <a:moveTo>
                          <a:pt x="0" y="19"/>
                        </a:moveTo>
                        <a:lnTo>
                          <a:pt x="10" y="19"/>
                        </a:lnTo>
                        <a:lnTo>
                          <a:pt x="30" y="19"/>
                        </a:lnTo>
                        <a:lnTo>
                          <a:pt x="39" y="10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30" y="10"/>
                        </a:lnTo>
                        <a:lnTo>
                          <a:pt x="3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>
                    <a:off x="363060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0" y="10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3618720" y="285300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9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>
                    <a:off x="3601080" y="2859120"/>
                    <a:ext cx="17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29" y="9"/>
                        </a:lnTo>
                        <a:lnTo>
                          <a:pt x="29" y="0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>
                    <a:off x="3594960" y="285300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10" y="0"/>
                        </a:moveTo>
                        <a:lnTo>
                          <a:pt x="10" y="19"/>
                        </a:lnTo>
                        <a:lnTo>
                          <a:pt x="20" y="19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3601080" y="2853000"/>
                    <a:ext cx="954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0">
                        <a:moveTo>
                          <a:pt x="155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>
                    <a:off x="3696480" y="2853000"/>
                    <a:ext cx="6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9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>
                    <a:off x="3702960" y="2853000"/>
                    <a:ext cx="781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9">
                        <a:moveTo>
                          <a:pt x="127" y="10"/>
                        </a:moveTo>
                        <a:lnTo>
                          <a:pt x="88" y="10"/>
                        </a:lnTo>
                        <a:lnTo>
                          <a:pt x="78" y="0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lnTo>
                          <a:pt x="10" y="10"/>
                        </a:lnTo>
                        <a:lnTo>
                          <a:pt x="68" y="10"/>
                        </a:lnTo>
                        <a:lnTo>
                          <a:pt x="78" y="19"/>
                        </a:lnTo>
                        <a:lnTo>
                          <a:pt x="127" y="19"/>
                        </a:lnTo>
                        <a:lnTo>
                          <a:pt x="117" y="19"/>
                        </a:lnTo>
                        <a:lnTo>
                          <a:pt x="12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>
                    <a:off x="377496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9" y="77"/>
                        </a:moveTo>
                        <a:lnTo>
                          <a:pt x="19" y="68"/>
                        </a:lnTo>
                        <a:lnTo>
                          <a:pt x="10" y="58"/>
                        </a:lnTo>
                        <a:lnTo>
                          <a:pt x="19" y="39"/>
                        </a:lnTo>
                        <a:lnTo>
                          <a:pt x="10" y="1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10" y="19"/>
                        </a:lnTo>
                        <a:lnTo>
                          <a:pt x="10" y="58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77"/>
                        </a:lnTo>
                        <a:lnTo>
                          <a:pt x="19" y="68"/>
                        </a:lnTo>
                        <a:lnTo>
                          <a:pt x="19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>
                    <a:off x="3774960" y="2901240"/>
                    <a:ext cx="1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9">
                        <a:moveTo>
                          <a:pt x="0" y="19"/>
                        </a:moveTo>
                        <a:lnTo>
                          <a:pt x="0" y="19"/>
                        </a:lnTo>
                        <a:lnTo>
                          <a:pt x="19" y="9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3552840" y="2906640"/>
                    <a:ext cx="22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0">
                        <a:moveTo>
                          <a:pt x="0" y="10"/>
                        </a:moveTo>
                        <a:lnTo>
                          <a:pt x="360" y="10"/>
                        </a:lnTo>
                        <a:lnTo>
                          <a:pt x="3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3535200" y="2853000"/>
                    <a:ext cx="176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7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0" y="68"/>
                        </a:lnTo>
                        <a:lnTo>
                          <a:pt x="10" y="68"/>
                        </a:lnTo>
                        <a:lnTo>
                          <a:pt x="19" y="87"/>
                        </a:lnTo>
                        <a:lnTo>
                          <a:pt x="29" y="97"/>
                        </a:lnTo>
                        <a:lnTo>
                          <a:pt x="29" y="87"/>
                        </a:lnTo>
                        <a:lnTo>
                          <a:pt x="19" y="78"/>
                        </a:lnTo>
                        <a:lnTo>
                          <a:pt x="19" y="68"/>
                        </a:lnTo>
                        <a:lnTo>
                          <a:pt x="10" y="68"/>
                        </a:lnTo>
                        <a:lnTo>
                          <a:pt x="10" y="19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3535200" y="2846880"/>
                    <a:ext cx="59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0">
                        <a:moveTo>
                          <a:pt x="97" y="10"/>
                        </a:moveTo>
                        <a:lnTo>
                          <a:pt x="87" y="10"/>
                        </a:lnTo>
                        <a:lnTo>
                          <a:pt x="78" y="10"/>
                        </a:lnTo>
                        <a:lnTo>
                          <a:pt x="68" y="0"/>
                        </a:lnTo>
                        <a:lnTo>
                          <a:pt x="29" y="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19" y="20"/>
                        </a:lnTo>
                        <a:lnTo>
                          <a:pt x="29" y="10"/>
                        </a:lnTo>
                        <a:lnTo>
                          <a:pt x="68" y="10"/>
                        </a:lnTo>
                        <a:lnTo>
                          <a:pt x="78" y="20"/>
                        </a:lnTo>
                        <a:lnTo>
                          <a:pt x="87" y="2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lnTo>
                          <a:pt x="97" y="10"/>
                        </a:lnTo>
                        <a:lnTo>
                          <a:pt x="87" y="10"/>
                        </a:lnTo>
                        <a:lnTo>
                          <a:pt x="9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4794840" y="2859120"/>
                    <a:ext cx="46800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194">
                        <a:moveTo>
                          <a:pt x="749" y="9"/>
                        </a:moveTo>
                        <a:lnTo>
                          <a:pt x="759" y="9"/>
                        </a:lnTo>
                        <a:lnTo>
                          <a:pt x="759" y="9"/>
                        </a:lnTo>
                        <a:lnTo>
                          <a:pt x="759" y="48"/>
                        </a:lnTo>
                        <a:lnTo>
                          <a:pt x="759" y="58"/>
                        </a:lnTo>
                        <a:lnTo>
                          <a:pt x="759" y="68"/>
                        </a:lnTo>
                        <a:lnTo>
                          <a:pt x="759" y="77"/>
                        </a:lnTo>
                        <a:lnTo>
                          <a:pt x="749" y="97"/>
                        </a:lnTo>
                        <a:lnTo>
                          <a:pt x="739" y="107"/>
                        </a:lnTo>
                        <a:lnTo>
                          <a:pt x="739" y="126"/>
                        </a:lnTo>
                        <a:lnTo>
                          <a:pt x="739" y="146"/>
                        </a:lnTo>
                        <a:lnTo>
                          <a:pt x="739" y="155"/>
                        </a:lnTo>
                        <a:lnTo>
                          <a:pt x="730" y="175"/>
                        </a:lnTo>
                        <a:lnTo>
                          <a:pt x="730" y="185"/>
                        </a:lnTo>
                        <a:lnTo>
                          <a:pt x="720" y="194"/>
                        </a:lnTo>
                        <a:lnTo>
                          <a:pt x="574" y="194"/>
                        </a:lnTo>
                        <a:lnTo>
                          <a:pt x="574" y="185"/>
                        </a:lnTo>
                        <a:lnTo>
                          <a:pt x="564" y="185"/>
                        </a:lnTo>
                        <a:lnTo>
                          <a:pt x="555" y="185"/>
                        </a:lnTo>
                        <a:lnTo>
                          <a:pt x="545" y="185"/>
                        </a:lnTo>
                        <a:lnTo>
                          <a:pt x="545" y="194"/>
                        </a:lnTo>
                        <a:lnTo>
                          <a:pt x="535" y="185"/>
                        </a:lnTo>
                        <a:lnTo>
                          <a:pt x="496" y="185"/>
                        </a:lnTo>
                        <a:lnTo>
                          <a:pt x="477" y="185"/>
                        </a:lnTo>
                        <a:lnTo>
                          <a:pt x="379" y="185"/>
                        </a:lnTo>
                        <a:lnTo>
                          <a:pt x="370" y="185"/>
                        </a:lnTo>
                        <a:lnTo>
                          <a:pt x="282" y="185"/>
                        </a:lnTo>
                        <a:lnTo>
                          <a:pt x="263" y="175"/>
                        </a:lnTo>
                        <a:lnTo>
                          <a:pt x="49" y="175"/>
                        </a:lnTo>
                        <a:lnTo>
                          <a:pt x="29" y="165"/>
                        </a:lnTo>
                        <a:lnTo>
                          <a:pt x="10" y="48"/>
                        </a:lnTo>
                        <a:lnTo>
                          <a:pt x="10" y="39"/>
                        </a:lnTo>
                        <a:lnTo>
                          <a:pt x="10" y="29"/>
                        </a:lnTo>
                        <a:lnTo>
                          <a:pt x="10" y="19"/>
                        </a:lnTo>
                        <a:lnTo>
                          <a:pt x="0" y="9"/>
                        </a:lnTo>
                        <a:lnTo>
                          <a:pt x="20" y="9"/>
                        </a:lnTo>
                        <a:lnTo>
                          <a:pt x="49" y="9"/>
                        </a:lnTo>
                        <a:lnTo>
                          <a:pt x="68" y="0"/>
                        </a:ln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66" y="0"/>
                        </a:lnTo>
                        <a:lnTo>
                          <a:pt x="195" y="0"/>
                        </a:lnTo>
                        <a:lnTo>
                          <a:pt x="331" y="0"/>
                        </a:lnTo>
                        <a:lnTo>
                          <a:pt x="350" y="0"/>
                        </a:lnTo>
                        <a:lnTo>
                          <a:pt x="418" y="0"/>
                        </a:lnTo>
                        <a:lnTo>
                          <a:pt x="448" y="0"/>
                        </a:lnTo>
                        <a:lnTo>
                          <a:pt x="467" y="0"/>
                        </a:lnTo>
                        <a:lnTo>
                          <a:pt x="496" y="0"/>
                        </a:lnTo>
                        <a:lnTo>
                          <a:pt x="700" y="0"/>
                        </a:lnTo>
                        <a:lnTo>
                          <a:pt x="720" y="0"/>
                        </a:lnTo>
                        <a:lnTo>
                          <a:pt x="749" y="9"/>
                        </a:lnTo>
                        <a:close/>
                      </a:path>
                    </a:pathLst>
                  </a:custGeom>
                  <a:solidFill>
                    <a:srgbClr val="b251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>
                    <a:off x="5256720" y="2859120"/>
                    <a:ext cx="115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77">
                        <a:moveTo>
                          <a:pt x="10" y="77"/>
                        </a:moveTo>
                        <a:lnTo>
                          <a:pt x="10" y="68"/>
                        </a:lnTo>
                        <a:lnTo>
                          <a:pt x="10" y="58"/>
                        </a:lnTo>
                        <a:lnTo>
                          <a:pt x="10" y="48"/>
                        </a:lnTo>
                        <a:lnTo>
                          <a:pt x="19" y="39"/>
                        </a:lnTo>
                        <a:lnTo>
                          <a:pt x="19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0" y="19"/>
                        </a:lnTo>
                        <a:lnTo>
                          <a:pt x="10" y="19"/>
                        </a:lnTo>
                        <a:lnTo>
                          <a:pt x="10" y="39"/>
                        </a:lnTo>
                        <a:lnTo>
                          <a:pt x="10" y="48"/>
                        </a:lnTo>
                        <a:lnTo>
                          <a:pt x="10" y="58"/>
                        </a:lnTo>
                        <a:lnTo>
                          <a:pt x="0" y="68"/>
                        </a:lnTo>
                        <a:lnTo>
                          <a:pt x="0" y="77"/>
                        </a:lnTo>
                        <a:lnTo>
                          <a:pt x="0" y="77"/>
                        </a:lnTo>
                        <a:lnTo>
                          <a:pt x="10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5239080" y="2906640"/>
                    <a:ext cx="237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27">
                        <a:moveTo>
                          <a:pt x="0" y="117"/>
                        </a:moveTo>
                        <a:lnTo>
                          <a:pt x="0" y="117"/>
                        </a:lnTo>
                        <a:lnTo>
                          <a:pt x="10" y="108"/>
                        </a:lnTo>
                        <a:lnTo>
                          <a:pt x="19" y="98"/>
                        </a:lnTo>
                        <a:lnTo>
                          <a:pt x="19" y="78"/>
                        </a:lnTo>
                        <a:lnTo>
                          <a:pt x="19" y="69"/>
                        </a:lnTo>
                        <a:lnTo>
                          <a:pt x="29" y="49"/>
                        </a:lnTo>
                        <a:lnTo>
                          <a:pt x="29" y="30"/>
                        </a:lnTo>
                        <a:lnTo>
                          <a:pt x="29" y="2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19" y="20"/>
                        </a:lnTo>
                        <a:lnTo>
                          <a:pt x="19" y="30"/>
                        </a:lnTo>
                        <a:lnTo>
                          <a:pt x="19" y="49"/>
                        </a:lnTo>
                        <a:lnTo>
                          <a:pt x="10" y="69"/>
                        </a:lnTo>
                        <a:lnTo>
                          <a:pt x="10" y="78"/>
                        </a:lnTo>
                        <a:lnTo>
                          <a:pt x="10" y="88"/>
                        </a:lnTo>
                        <a:lnTo>
                          <a:pt x="0" y="108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lnTo>
                          <a:pt x="0" y="127"/>
                        </a:lnTo>
                        <a:lnTo>
                          <a:pt x="0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>
                    <a:off x="5149080" y="2973240"/>
                    <a:ext cx="896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9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46" y="9"/>
                        </a:lnTo>
                        <a:lnTo>
                          <a:pt x="146" y="9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>
                    <a:off x="5124960" y="2973240"/>
                    <a:ext cx="298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9">
                        <a:moveTo>
                          <a:pt x="0" y="9"/>
                        </a:moveTo>
                        <a:lnTo>
                          <a:pt x="10" y="9"/>
                        </a:lnTo>
                        <a:lnTo>
                          <a:pt x="10" y="9"/>
                        </a:lnTo>
                        <a:lnTo>
                          <a:pt x="20" y="9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39" y="9"/>
                        </a:lnTo>
                        <a:lnTo>
                          <a:pt x="49" y="0"/>
                        </a:lnTo>
                        <a:lnTo>
                          <a:pt x="39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4818960" y="2967120"/>
                    <a:ext cx="3060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9">
                        <a:moveTo>
                          <a:pt x="0" y="1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39" y="10"/>
                        </a:lnTo>
                        <a:lnTo>
                          <a:pt x="146" y="10"/>
                        </a:lnTo>
                        <a:lnTo>
                          <a:pt x="156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438" y="10"/>
                        </a:lnTo>
                        <a:lnTo>
                          <a:pt x="457" y="19"/>
                        </a:lnTo>
                        <a:lnTo>
                          <a:pt x="496" y="19"/>
                        </a:lnTo>
                        <a:lnTo>
                          <a:pt x="496" y="10"/>
                        </a:lnTo>
                        <a:lnTo>
                          <a:pt x="457" y="10"/>
                        </a:lnTo>
                        <a:lnTo>
                          <a:pt x="438" y="10"/>
                        </a:lnTo>
                        <a:lnTo>
                          <a:pt x="370" y="10"/>
                        </a:lnTo>
                        <a:lnTo>
                          <a:pt x="360" y="0"/>
                        </a:lnTo>
                        <a:lnTo>
                          <a:pt x="204" y="0"/>
                        </a:lnTo>
                        <a:lnTo>
                          <a:pt x="195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4812840" y="296100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10" y="20"/>
                        </a:lnTo>
                        <a:lnTo>
                          <a:pt x="20" y="1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4794840" y="2888640"/>
                    <a:ext cx="2376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17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29" y="117"/>
                        </a:lnTo>
                        <a:lnTo>
                          <a:pt x="39" y="117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>
                    <a:off x="4794840" y="2864520"/>
                    <a:ext cx="12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10" y="30"/>
                        </a:lnTo>
                        <a:lnTo>
                          <a:pt x="0" y="39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>
                    <a:off x="4794840" y="2853000"/>
                    <a:ext cx="228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29">
                        <a:moveTo>
                          <a:pt x="370" y="0"/>
                        </a:moveTo>
                        <a:lnTo>
                          <a:pt x="350" y="0"/>
                        </a:lnTo>
                        <a:lnTo>
                          <a:pt x="331" y="10"/>
                        </a:lnTo>
                        <a:lnTo>
                          <a:pt x="214" y="10"/>
                        </a:lnTo>
                        <a:lnTo>
                          <a:pt x="195" y="0"/>
                        </a:lnTo>
                        <a:lnTo>
                          <a:pt x="117" y="0"/>
                        </a:lnTo>
                        <a:lnTo>
                          <a:pt x="97" y="10"/>
                        </a:lnTo>
                        <a:lnTo>
                          <a:pt x="68" y="10"/>
                        </a:lnTo>
                        <a:lnTo>
                          <a:pt x="49" y="10"/>
                        </a:lnTo>
                        <a:lnTo>
                          <a:pt x="20" y="19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20" y="19"/>
                        </a:lnTo>
                        <a:lnTo>
                          <a:pt x="49" y="19"/>
                        </a:lnTo>
                        <a:lnTo>
                          <a:pt x="68" y="19"/>
                        </a:lnTo>
                        <a:lnTo>
                          <a:pt x="350" y="19"/>
                        </a:lnTo>
                        <a:lnTo>
                          <a:pt x="370" y="1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5023080" y="2853000"/>
                    <a:ext cx="233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19">
                        <a:moveTo>
                          <a:pt x="379" y="10"/>
                        </a:moveTo>
                        <a:lnTo>
                          <a:pt x="350" y="10"/>
                        </a:lnTo>
                        <a:lnTo>
                          <a:pt x="33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9" y="10"/>
                        </a:lnTo>
                        <a:lnTo>
                          <a:pt x="48" y="19"/>
                        </a:lnTo>
                        <a:lnTo>
                          <a:pt x="175" y="19"/>
                        </a:lnTo>
                        <a:lnTo>
                          <a:pt x="194" y="10"/>
                        </a:lnTo>
                        <a:lnTo>
                          <a:pt x="301" y="10"/>
                        </a:lnTo>
                        <a:lnTo>
                          <a:pt x="330" y="19"/>
                        </a:lnTo>
                        <a:lnTo>
                          <a:pt x="379" y="19"/>
                        </a:lnTo>
                        <a:lnTo>
                          <a:pt x="379" y="19"/>
                        </a:lnTo>
                        <a:lnTo>
                          <a:pt x="379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>
                    <a:off x="3792960" y="2864520"/>
                    <a:ext cx="215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98">
                        <a:moveTo>
                          <a:pt x="175" y="0"/>
                        </a:moveTo>
                        <a:lnTo>
                          <a:pt x="175" y="30"/>
                        </a:lnTo>
                        <a:lnTo>
                          <a:pt x="175" y="49"/>
                        </a:lnTo>
                        <a:lnTo>
                          <a:pt x="165" y="68"/>
                        </a:lnTo>
                        <a:lnTo>
                          <a:pt x="175" y="88"/>
                        </a:lnTo>
                        <a:lnTo>
                          <a:pt x="185" y="88"/>
                        </a:lnTo>
                        <a:lnTo>
                          <a:pt x="195" y="88"/>
                        </a:lnTo>
                        <a:lnTo>
                          <a:pt x="195" y="0"/>
                        </a:lnTo>
                        <a:lnTo>
                          <a:pt x="311" y="0"/>
                        </a:lnTo>
                        <a:lnTo>
                          <a:pt x="321" y="10"/>
                        </a:lnTo>
                        <a:lnTo>
                          <a:pt x="331" y="10"/>
                        </a:lnTo>
                        <a:lnTo>
                          <a:pt x="331" y="10"/>
                        </a:lnTo>
                        <a:lnTo>
                          <a:pt x="340" y="10"/>
                        </a:lnTo>
                        <a:lnTo>
                          <a:pt x="340" y="49"/>
                        </a:lnTo>
                        <a:lnTo>
                          <a:pt x="350" y="68"/>
                        </a:lnTo>
                        <a:lnTo>
                          <a:pt x="350" y="88"/>
                        </a:lnTo>
                        <a:lnTo>
                          <a:pt x="350" y="88"/>
                        </a:lnTo>
                        <a:lnTo>
                          <a:pt x="311" y="88"/>
                        </a:lnTo>
                        <a:lnTo>
                          <a:pt x="282" y="9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117" y="0"/>
                        </a:lnTo>
                        <a:lnTo>
                          <a:pt x="126" y="0"/>
                        </a:lnTo>
                        <a:lnTo>
                          <a:pt x="156" y="0"/>
                        </a:lnTo>
                        <a:lnTo>
                          <a:pt x="165" y="0"/>
                        </a:lnTo>
                        <a:lnTo>
                          <a:pt x="175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3894840" y="2864520"/>
                    <a:ext cx="122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8">
                        <a:moveTo>
                          <a:pt x="10" y="88"/>
                        </a:moveTo>
                        <a:lnTo>
                          <a:pt x="10" y="88"/>
                        </a:lnTo>
                        <a:lnTo>
                          <a:pt x="10" y="68"/>
                        </a:lnTo>
                        <a:lnTo>
                          <a:pt x="10" y="49"/>
                        </a:lnTo>
                        <a:lnTo>
                          <a:pt x="20" y="3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0" y="30"/>
                        </a:lnTo>
                        <a:lnTo>
                          <a:pt x="0" y="49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0" y="88"/>
                        </a:lnTo>
                        <a:lnTo>
                          <a:pt x="10" y="98"/>
                        </a:lnTo>
                        <a:lnTo>
                          <a:pt x="10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3900960" y="2918880"/>
                    <a:ext cx="1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3907080" y="2864520"/>
                    <a:ext cx="61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8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88"/>
                        </a:lnTo>
                        <a:lnTo>
                          <a:pt x="10" y="88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3913200" y="2864520"/>
                    <a:ext cx="95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20">
                        <a:moveTo>
                          <a:pt x="155" y="10"/>
                        </a:moveTo>
                        <a:lnTo>
                          <a:pt x="155" y="10"/>
                        </a:lnTo>
                        <a:lnTo>
                          <a:pt x="145" y="10"/>
                        </a:lnTo>
                        <a:lnTo>
                          <a:pt x="136" y="0"/>
                        </a:lnTo>
                        <a:lnTo>
                          <a:pt x="126" y="0"/>
                        </a:lnTo>
                        <a:lnTo>
                          <a:pt x="116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6" y="10"/>
                        </a:lnTo>
                        <a:lnTo>
                          <a:pt x="126" y="10"/>
                        </a:lnTo>
                        <a:lnTo>
                          <a:pt x="136" y="10"/>
                        </a:lnTo>
                        <a:lnTo>
                          <a:pt x="136" y="20"/>
                        </a:lnTo>
                        <a:lnTo>
                          <a:pt x="145" y="20"/>
                        </a:lnTo>
                        <a:lnTo>
                          <a:pt x="14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lnTo>
                          <a:pt x="1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4002480" y="2870640"/>
                    <a:ext cx="122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78">
                        <a:moveTo>
                          <a:pt x="20" y="78"/>
                        </a:moveTo>
                        <a:lnTo>
                          <a:pt x="20" y="68"/>
                        </a:lnTo>
                        <a:lnTo>
                          <a:pt x="10" y="58"/>
                        </a:lnTo>
                        <a:lnTo>
                          <a:pt x="10" y="39"/>
                        </a:lnTo>
                        <a:lnTo>
                          <a:pt x="10" y="2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0" y="58"/>
                        </a:lnTo>
                        <a:lnTo>
                          <a:pt x="10" y="78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4002480" y="2912760"/>
                    <a:ext cx="1224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20"/>
                        </a:move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lnTo>
                          <a:pt x="10" y="20"/>
                        </a:lnTo>
                        <a:lnTo>
                          <a:pt x="10" y="10"/>
                        </a:lnTo>
                        <a:lnTo>
                          <a:pt x="1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>
                    <a:off x="3799080" y="2918880"/>
                    <a:ext cx="209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9">
                        <a:moveTo>
                          <a:pt x="0" y="10"/>
                        </a:moveTo>
                        <a:lnTo>
                          <a:pt x="272" y="10"/>
                        </a:lnTo>
                        <a:lnTo>
                          <a:pt x="301" y="10"/>
                        </a:lnTo>
                        <a:lnTo>
                          <a:pt x="340" y="10"/>
                        </a:lnTo>
                        <a:lnTo>
                          <a:pt x="340" y="0"/>
                        </a:lnTo>
                        <a:lnTo>
                          <a:pt x="321" y="0"/>
                        </a:lnTo>
                        <a:lnTo>
                          <a:pt x="301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>
                    <a:off x="3792960" y="2918880"/>
                    <a:ext cx="11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9" y="1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3792960" y="2859120"/>
                    <a:ext cx="11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97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19"/>
                        </a:lnTo>
                        <a:lnTo>
                          <a:pt x="0" y="97"/>
                        </a:lnTo>
                        <a:lnTo>
                          <a:pt x="10" y="97"/>
                        </a:lnTo>
                        <a:lnTo>
                          <a:pt x="10" y="19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3799080" y="2859120"/>
                    <a:ext cx="1015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9">
                        <a:moveTo>
                          <a:pt x="165" y="9"/>
                        </a:moveTo>
                        <a:lnTo>
                          <a:pt x="165" y="9"/>
                        </a:lnTo>
                        <a:lnTo>
                          <a:pt x="155" y="9"/>
                        </a:lnTo>
                        <a:lnTo>
                          <a:pt x="146" y="9"/>
                        </a:lnTo>
                        <a:lnTo>
                          <a:pt x="97" y="9"/>
                        </a:lnTo>
                        <a:lnTo>
                          <a:pt x="87" y="0"/>
                        </a:lnTo>
                        <a:lnTo>
                          <a:pt x="58" y="0"/>
                        </a:lnTo>
                        <a:lnTo>
                          <a:pt x="48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58" y="9"/>
                        </a:lnTo>
                        <a:lnTo>
                          <a:pt x="68" y="9"/>
                        </a:lnTo>
                        <a:lnTo>
                          <a:pt x="107" y="9"/>
                        </a:lnTo>
                        <a:lnTo>
                          <a:pt x="116" y="9"/>
                        </a:lnTo>
                        <a:lnTo>
                          <a:pt x="146" y="9"/>
                        </a:lnTo>
                        <a:lnTo>
                          <a:pt x="155" y="19"/>
                        </a:lnTo>
                        <a:lnTo>
                          <a:pt x="165" y="19"/>
                        </a:lnTo>
                        <a:lnTo>
                          <a:pt x="15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lnTo>
                          <a:pt x="16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3421080" y="2864520"/>
                    <a:ext cx="62424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2" h="195">
                        <a:moveTo>
                          <a:pt x="165" y="0"/>
                        </a:moveTo>
                        <a:lnTo>
                          <a:pt x="175" y="10"/>
                        </a:lnTo>
                        <a:lnTo>
                          <a:pt x="175" y="30"/>
                        </a:lnTo>
                        <a:lnTo>
                          <a:pt x="175" y="39"/>
                        </a:lnTo>
                        <a:lnTo>
                          <a:pt x="175" y="49"/>
                        </a:lnTo>
                        <a:lnTo>
                          <a:pt x="185" y="68"/>
                        </a:lnTo>
                        <a:lnTo>
                          <a:pt x="195" y="88"/>
                        </a:lnTo>
                        <a:lnTo>
                          <a:pt x="214" y="88"/>
                        </a:lnTo>
                        <a:lnTo>
                          <a:pt x="350" y="88"/>
                        </a:lnTo>
                        <a:lnTo>
                          <a:pt x="370" y="88"/>
                        </a:lnTo>
                        <a:lnTo>
                          <a:pt x="535" y="88"/>
                        </a:lnTo>
                        <a:lnTo>
                          <a:pt x="56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84" y="88"/>
                        </a:lnTo>
                        <a:lnTo>
                          <a:pt x="593" y="98"/>
                        </a:lnTo>
                        <a:lnTo>
                          <a:pt x="593" y="107"/>
                        </a:lnTo>
                        <a:lnTo>
                          <a:pt x="603" y="117"/>
                        </a:lnTo>
                        <a:lnTo>
                          <a:pt x="953" y="117"/>
                        </a:lnTo>
                        <a:lnTo>
                          <a:pt x="963" y="107"/>
                        </a:lnTo>
                        <a:lnTo>
                          <a:pt x="973" y="98"/>
                        </a:lnTo>
                        <a:lnTo>
                          <a:pt x="973" y="88"/>
                        </a:lnTo>
                        <a:lnTo>
                          <a:pt x="973" y="78"/>
                        </a:lnTo>
                        <a:lnTo>
                          <a:pt x="973" y="68"/>
                        </a:lnTo>
                        <a:lnTo>
                          <a:pt x="963" y="49"/>
                        </a:lnTo>
                        <a:lnTo>
                          <a:pt x="963" y="30"/>
                        </a:lnTo>
                        <a:lnTo>
                          <a:pt x="1002" y="30"/>
                        </a:lnTo>
                        <a:lnTo>
                          <a:pt x="1012" y="39"/>
                        </a:lnTo>
                        <a:lnTo>
                          <a:pt x="1012" y="176"/>
                        </a:lnTo>
                        <a:lnTo>
                          <a:pt x="1002" y="176"/>
                        </a:lnTo>
                        <a:lnTo>
                          <a:pt x="992" y="176"/>
                        </a:lnTo>
                        <a:lnTo>
                          <a:pt x="992" y="185"/>
                        </a:lnTo>
                        <a:lnTo>
                          <a:pt x="953" y="185"/>
                        </a:lnTo>
                        <a:lnTo>
                          <a:pt x="943" y="176"/>
                        </a:lnTo>
                        <a:lnTo>
                          <a:pt x="924" y="185"/>
                        </a:lnTo>
                        <a:lnTo>
                          <a:pt x="905" y="185"/>
                        </a:lnTo>
                        <a:lnTo>
                          <a:pt x="856" y="185"/>
                        </a:lnTo>
                        <a:lnTo>
                          <a:pt x="827" y="195"/>
                        </a:lnTo>
                        <a:lnTo>
                          <a:pt x="661" y="195"/>
                        </a:lnTo>
                        <a:lnTo>
                          <a:pt x="632" y="185"/>
                        </a:lnTo>
                        <a:lnTo>
                          <a:pt x="584" y="185"/>
                        </a:lnTo>
                        <a:lnTo>
                          <a:pt x="564" y="195"/>
                        </a:lnTo>
                        <a:lnTo>
                          <a:pt x="10" y="185"/>
                        </a:lnTo>
                        <a:lnTo>
                          <a:pt x="10" y="156"/>
                        </a:lnTo>
                        <a:lnTo>
                          <a:pt x="0" y="117"/>
                        </a:lnTo>
                        <a:lnTo>
                          <a:pt x="0" y="39"/>
                        </a:lnTo>
                        <a:lnTo>
                          <a:pt x="10" y="0"/>
                        </a:lnTo>
                        <a:lnTo>
                          <a:pt x="165" y="0"/>
                        </a:lnTo>
                        <a:close/>
                      </a:path>
                    </a:pathLst>
                  </a:custGeom>
                  <a:solidFill>
                    <a:srgbClr val="c1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>
                    <a:off x="3522600" y="2864520"/>
                    <a:ext cx="298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49" y="88"/>
                        </a:moveTo>
                        <a:lnTo>
                          <a:pt x="30" y="78"/>
                        </a:lnTo>
                        <a:lnTo>
                          <a:pt x="20" y="68"/>
                        </a:lnTo>
                        <a:lnTo>
                          <a:pt x="20" y="49"/>
                        </a:lnTo>
                        <a:lnTo>
                          <a:pt x="20" y="39"/>
                        </a:lnTo>
                        <a:lnTo>
                          <a:pt x="10" y="3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30"/>
                        </a:lnTo>
                        <a:lnTo>
                          <a:pt x="10" y="39"/>
                        </a:lnTo>
                        <a:lnTo>
                          <a:pt x="10" y="49"/>
                        </a:lnTo>
                        <a:lnTo>
                          <a:pt x="10" y="68"/>
                        </a:lnTo>
                        <a:lnTo>
                          <a:pt x="20" y="78"/>
                        </a:lnTo>
                        <a:lnTo>
                          <a:pt x="30" y="88"/>
                        </a:lnTo>
                        <a:lnTo>
                          <a:pt x="49" y="88"/>
                        </a:lnTo>
                        <a:lnTo>
                          <a:pt x="49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>
                    <a:off x="3552840" y="2918880"/>
                    <a:ext cx="227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0">
                        <a:moveTo>
                          <a:pt x="370" y="0"/>
                        </a:moveTo>
                        <a:lnTo>
                          <a:pt x="370" y="0"/>
                        </a:lnTo>
                        <a:lnTo>
                          <a:pt x="350" y="0"/>
                        </a:lnTo>
                        <a:lnTo>
                          <a:pt x="321" y="0"/>
                        </a:lnTo>
                        <a:lnTo>
                          <a:pt x="185" y="0"/>
                        </a:lnTo>
                        <a:lnTo>
                          <a:pt x="15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56" y="0"/>
                        </a:lnTo>
                        <a:lnTo>
                          <a:pt x="185" y="10"/>
                        </a:lnTo>
                        <a:lnTo>
                          <a:pt x="302" y="10"/>
                        </a:lnTo>
                        <a:lnTo>
                          <a:pt x="321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lnTo>
                          <a:pt x="3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3781080" y="29188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>
                    <a:off x="3781080" y="291888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9">
                        <a:moveTo>
                          <a:pt x="19" y="29"/>
                        </a:moveTo>
                        <a:lnTo>
                          <a:pt x="9" y="1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9"/>
                        </a:lnTo>
                        <a:lnTo>
                          <a:pt x="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lnTo>
                          <a:pt x="19" y="39"/>
                        </a:lnTo>
                        <a:lnTo>
                          <a:pt x="19" y="29"/>
                        </a:lnTo>
                        <a:lnTo>
                          <a:pt x="1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3792960" y="2930760"/>
                    <a:ext cx="215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10">
                        <a:moveTo>
                          <a:pt x="350" y="0"/>
                        </a:moveTo>
                        <a:lnTo>
                          <a:pt x="49" y="0"/>
                        </a:lnTo>
                        <a:lnTo>
                          <a:pt x="19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311" y="10"/>
                        </a:lnTo>
                        <a:lnTo>
                          <a:pt x="331" y="10"/>
                        </a:lnTo>
                        <a:lnTo>
                          <a:pt x="350" y="10"/>
                        </a:lnTo>
                        <a:lnTo>
                          <a:pt x="3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4008960" y="2877120"/>
                    <a:ext cx="1224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7">
                        <a:moveTo>
                          <a:pt x="10" y="0"/>
                        </a:moveTo>
                        <a:lnTo>
                          <a:pt x="10" y="10"/>
                        </a:lnTo>
                        <a:lnTo>
                          <a:pt x="10" y="19"/>
                        </a:lnTo>
                        <a:lnTo>
                          <a:pt x="10" y="29"/>
                        </a:lnTo>
                        <a:lnTo>
                          <a:pt x="10" y="48"/>
                        </a:lnTo>
                        <a:lnTo>
                          <a:pt x="10" y="78"/>
                        </a:lnTo>
                        <a:lnTo>
                          <a:pt x="0" y="87"/>
                        </a:lnTo>
                        <a:lnTo>
                          <a:pt x="0" y="97"/>
                        </a:lnTo>
                        <a:lnTo>
                          <a:pt x="20" y="87"/>
                        </a:lnTo>
                        <a:lnTo>
                          <a:pt x="20" y="78"/>
                        </a:lnTo>
                        <a:lnTo>
                          <a:pt x="20" y="68"/>
                        </a:lnTo>
                        <a:lnTo>
                          <a:pt x="20" y="58"/>
                        </a:lnTo>
                        <a:lnTo>
                          <a:pt x="20" y="48"/>
                        </a:lnTo>
                        <a:lnTo>
                          <a:pt x="20" y="29"/>
                        </a:lnTo>
                        <a:lnTo>
                          <a:pt x="20" y="1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>
                    <a:off x="4015080" y="2877120"/>
                    <a:ext cx="35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9">
                        <a:moveTo>
                          <a:pt x="58" y="39"/>
                        </a:moveTo>
                        <a:lnTo>
                          <a:pt x="49" y="39"/>
                        </a:lnTo>
                        <a:lnTo>
                          <a:pt x="58" y="29"/>
                        </a:lnTo>
                        <a:lnTo>
                          <a:pt x="49" y="19"/>
                        </a:lnTo>
                        <a:lnTo>
                          <a:pt x="49" y="1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29" y="10"/>
                        </a:lnTo>
                        <a:lnTo>
                          <a:pt x="39" y="19"/>
                        </a:lnTo>
                        <a:lnTo>
                          <a:pt x="49" y="19"/>
                        </a:lnTo>
                        <a:lnTo>
                          <a:pt x="49" y="39"/>
                        </a:lnTo>
                        <a:lnTo>
                          <a:pt x="58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>
                    <a:off x="4045320" y="2901240"/>
                    <a:ext cx="54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17">
                        <a:moveTo>
                          <a:pt x="0" y="117"/>
                        </a:moveTo>
                        <a:lnTo>
                          <a:pt x="9" y="11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0" y="107"/>
                        </a:lnTo>
                        <a:lnTo>
                          <a:pt x="0" y="117"/>
                        </a:lnTo>
                        <a:lnTo>
                          <a:pt x="9" y="117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>
                    <a:off x="4002480" y="296712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9">
                        <a:moveTo>
                          <a:pt x="10" y="19"/>
                        </a:moveTo>
                        <a:lnTo>
                          <a:pt x="0" y="19"/>
                        </a:lnTo>
                        <a:lnTo>
                          <a:pt x="10" y="19"/>
                        </a:lnTo>
                        <a:lnTo>
                          <a:pt x="49" y="19"/>
                        </a:lnTo>
                        <a:lnTo>
                          <a:pt x="59" y="19"/>
                        </a:lnTo>
                        <a:lnTo>
                          <a:pt x="59" y="10"/>
                        </a:lnTo>
                        <a:lnTo>
                          <a:pt x="69" y="10"/>
                        </a:lnTo>
                        <a:lnTo>
                          <a:pt x="69" y="0"/>
                        </a:lnTo>
                        <a:lnTo>
                          <a:pt x="59" y="10"/>
                        </a:lnTo>
                        <a:lnTo>
                          <a:pt x="49" y="10"/>
                        </a:lnTo>
                        <a:lnTo>
                          <a:pt x="49" y="10"/>
                        </a:lnTo>
                        <a:lnTo>
                          <a:pt x="1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0" y="10"/>
                        </a:lnTo>
                        <a:lnTo>
                          <a:pt x="1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>
                    <a:off x="3768840" y="2973240"/>
                    <a:ext cx="239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19">
                        <a:moveTo>
                          <a:pt x="0" y="19"/>
                        </a:moveTo>
                        <a:lnTo>
                          <a:pt x="263" y="19"/>
                        </a:lnTo>
                        <a:lnTo>
                          <a:pt x="292" y="19"/>
                        </a:lnTo>
                        <a:lnTo>
                          <a:pt x="311" y="19"/>
                        </a:lnTo>
                        <a:lnTo>
                          <a:pt x="341" y="9"/>
                        </a:lnTo>
                        <a:lnTo>
                          <a:pt x="360" y="9"/>
                        </a:lnTo>
                        <a:lnTo>
                          <a:pt x="389" y="9"/>
                        </a:lnTo>
                        <a:lnTo>
                          <a:pt x="379" y="0"/>
                        </a:lnTo>
                        <a:lnTo>
                          <a:pt x="360" y="0"/>
                        </a:lnTo>
                        <a:lnTo>
                          <a:pt x="341" y="9"/>
                        </a:lnTo>
                        <a:lnTo>
                          <a:pt x="311" y="9"/>
                        </a:lnTo>
                        <a:lnTo>
                          <a:pt x="292" y="9"/>
                        </a:lnTo>
                        <a:lnTo>
                          <a:pt x="0" y="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>
                    <a:off x="3427200" y="2978640"/>
                    <a:ext cx="3416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554" y="1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4" name=""/>
                <p:cNvSpPr/>
                <p:nvPr/>
              </p:nvSpPr>
              <p:spPr>
                <a:xfrm>
                  <a:off x="3421080" y="2884320"/>
                  <a:ext cx="12240" cy="95400"/>
                </a:xfrm>
                <a:custGeom>
                  <a:avLst/>
                  <a:gdLst/>
                  <a:ahLst/>
                  <a:rect l="l" t="t" r="r" b="b"/>
                  <a:pathLst>
                    <a:path w="20" h="155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0" y="87"/>
                      </a:lnTo>
                      <a:lnTo>
                        <a:pt x="0" y="126"/>
                      </a:lnTo>
                      <a:lnTo>
                        <a:pt x="10" y="155"/>
                      </a:lnTo>
                      <a:lnTo>
                        <a:pt x="20" y="155"/>
                      </a:lnTo>
                      <a:lnTo>
                        <a:pt x="10" y="126"/>
                      </a:lnTo>
                      <a:lnTo>
                        <a:pt x="10" y="87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3421080" y="2865960"/>
                  <a:ext cx="5760" cy="23040"/>
                </a:xfrm>
                <a:custGeom>
                  <a:avLst/>
                  <a:gdLst/>
                  <a:ahLst/>
                  <a:rect l="l" t="t" r="r" b="b"/>
                  <a:pathLst>
                    <a:path w="10" h="39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3426840" y="2865960"/>
                  <a:ext cx="101520" cy="360"/>
                </a:xfrm>
                <a:custGeom>
                  <a:avLst/>
                  <a:gdLst/>
                  <a:ahLst/>
                  <a:rect l="l" t="t" r="r" b="b"/>
                  <a:pathLst>
                    <a:path w="165" h="0">
                      <a:moveTo>
                        <a:pt x="165" y="0"/>
                      </a:moveTo>
                      <a:lnTo>
                        <a:pt x="15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55" y="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3607560" y="2872080"/>
                  <a:ext cx="18360" cy="576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19" y="0"/>
                      </a:move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3620160" y="287208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19" h="10">
                      <a:moveTo>
                        <a:pt x="10" y="10"/>
                      </a:move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36014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10"/>
                      </a:moveTo>
                      <a:lnTo>
                        <a:pt x="10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3601440" y="286596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9" y="10"/>
                      </a:lnTo>
                      <a:lnTo>
                        <a:pt x="29" y="1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3636720" y="2872080"/>
                  <a:ext cx="1224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3630600" y="2878200"/>
                  <a:ext cx="18360" cy="612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3630600" y="286596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3636720" y="2865960"/>
                  <a:ext cx="18360" cy="122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9" y="10"/>
                      </a:moveTo>
                      <a:lnTo>
                        <a:pt x="2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2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3648960" y="287208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3667680" y="2872080"/>
                  <a:ext cx="16920" cy="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3661560" y="2872080"/>
                  <a:ext cx="288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39" y="20"/>
                      </a:lnTo>
                      <a:lnTo>
                        <a:pt x="4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3667680" y="2872080"/>
                  <a:ext cx="23040" cy="576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9" y="0"/>
                      </a:move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3684600" y="28720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10" h="20">
                      <a:moveTo>
                        <a:pt x="0" y="2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3696840" y="2872080"/>
                  <a:ext cx="24480" cy="122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30" y="20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3696840" y="2878200"/>
                  <a:ext cx="24480" cy="612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3696840" y="2865960"/>
                  <a:ext cx="30600" cy="18360"/>
                </a:xfrm>
                <a:custGeom>
                  <a:avLst/>
                  <a:gdLst/>
                  <a:ahLst/>
                  <a:rect l="l" t="t" r="r" b="b"/>
                  <a:pathLst>
                    <a:path w="49" h="30">
                      <a:moveTo>
                        <a:pt x="39" y="30"/>
                      </a:moveTo>
                      <a:lnTo>
                        <a:pt x="49" y="20"/>
                      </a:lnTo>
                      <a:lnTo>
                        <a:pt x="49" y="20"/>
                      </a:lnTo>
                      <a:lnTo>
                        <a:pt x="39" y="10"/>
                      </a:lnTo>
                      <a:lnTo>
                        <a:pt x="30" y="10"/>
                      </a:ln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39" y="30"/>
                      </a:lnTo>
                      <a:lnTo>
                        <a:pt x="49" y="30"/>
                      </a:lnTo>
                      <a:lnTo>
                        <a:pt x="49" y="20"/>
                      </a:lnTo>
                      <a:lnTo>
                        <a:pt x="3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3709080" y="2997000"/>
                  <a:ext cx="47880" cy="53640"/>
                </a:xfrm>
                <a:custGeom>
                  <a:avLst/>
                  <a:gdLst/>
                  <a:ahLst/>
                  <a:rect l="l" t="t" r="r" b="b"/>
                  <a:pathLst>
                    <a:path w="78" h="88">
                      <a:moveTo>
                        <a:pt x="78" y="20"/>
                      </a:moveTo>
                      <a:lnTo>
                        <a:pt x="78" y="88"/>
                      </a:lnTo>
                      <a:lnTo>
                        <a:pt x="68" y="88"/>
                      </a:lnTo>
                      <a:lnTo>
                        <a:pt x="68" y="78"/>
                      </a:lnTo>
                      <a:lnTo>
                        <a:pt x="58" y="78"/>
                      </a:lnTo>
                      <a:lnTo>
                        <a:pt x="49" y="69"/>
                      </a:lnTo>
                      <a:lnTo>
                        <a:pt x="49" y="69"/>
                      </a:lnTo>
                      <a:lnTo>
                        <a:pt x="39" y="69"/>
                      </a:lnTo>
                      <a:lnTo>
                        <a:pt x="29" y="59"/>
                      </a:lnTo>
                      <a:lnTo>
                        <a:pt x="29" y="4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10"/>
                      </a:lnTo>
                      <a:lnTo>
                        <a:pt x="78" y="2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3750840" y="3009240"/>
                  <a:ext cx="6120" cy="414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68"/>
                      </a:lnTo>
                      <a:lnTo>
                        <a:pt x="10" y="5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3727800" y="3027960"/>
                  <a:ext cx="29160" cy="2304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20" y="29"/>
                      </a:lnTo>
                      <a:lnTo>
                        <a:pt x="29" y="2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0" y="20"/>
                      </a:lnTo>
                      <a:lnTo>
                        <a:pt x="1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3709080" y="2992320"/>
                  <a:ext cx="18360" cy="41760"/>
                </a:xfrm>
                <a:custGeom>
                  <a:avLst/>
                  <a:gdLst/>
                  <a:ahLst/>
                  <a:rect l="l" t="t" r="r" b="b"/>
                  <a:pathLst>
                    <a:path w="29" h="68">
                      <a:moveTo>
                        <a:pt x="1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9" y="48"/>
                      </a:lnTo>
                      <a:lnTo>
                        <a:pt x="19" y="58"/>
                      </a:lnTo>
                      <a:lnTo>
                        <a:pt x="19" y="58"/>
                      </a:lnTo>
                      <a:lnTo>
                        <a:pt x="29" y="68"/>
                      </a:lnTo>
                      <a:lnTo>
                        <a:pt x="29" y="6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19" y="48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3709080" y="2992320"/>
                  <a:ext cx="47880" cy="16920"/>
                </a:xfrm>
                <a:custGeom>
                  <a:avLst/>
                  <a:gdLst/>
                  <a:ahLst/>
                  <a:rect l="l" t="t" r="r" b="b"/>
                  <a:pathLst>
                    <a:path w="78" h="29">
                      <a:moveTo>
                        <a:pt x="78" y="29"/>
                      </a:moveTo>
                      <a:lnTo>
                        <a:pt x="78" y="19"/>
                      </a:lnTo>
                      <a:lnTo>
                        <a:pt x="68" y="9"/>
                      </a:lnTo>
                      <a:lnTo>
                        <a:pt x="58" y="0"/>
                      </a:lnTo>
                      <a:lnTo>
                        <a:pt x="49" y="0"/>
                      </a:lnTo>
                      <a:lnTo>
                        <a:pt x="39" y="9"/>
                      </a:lnTo>
                      <a:lnTo>
                        <a:pt x="10" y="9"/>
                      </a:lnTo>
                      <a:lnTo>
                        <a:pt x="0" y="19"/>
                      </a:lnTo>
                      <a:lnTo>
                        <a:pt x="29" y="19"/>
                      </a:lnTo>
                      <a:lnTo>
                        <a:pt x="39" y="9"/>
                      </a:lnTo>
                      <a:lnTo>
                        <a:pt x="58" y="9"/>
                      </a:lnTo>
                      <a:lnTo>
                        <a:pt x="68" y="1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3829680" y="2992320"/>
                  <a:ext cx="114120" cy="118800"/>
                </a:xfrm>
                <a:custGeom>
                  <a:avLst/>
                  <a:gdLst/>
                  <a:ahLst/>
                  <a:rect l="l" t="t" r="r" b="b"/>
                  <a:pathLst>
                    <a:path w="185" h="194">
                      <a:moveTo>
                        <a:pt x="146" y="9"/>
                      </a:moveTo>
                      <a:lnTo>
                        <a:pt x="156" y="19"/>
                      </a:lnTo>
                      <a:lnTo>
                        <a:pt x="156" y="29"/>
                      </a:lnTo>
                      <a:lnTo>
                        <a:pt x="166" y="39"/>
                      </a:lnTo>
                      <a:lnTo>
                        <a:pt x="175" y="58"/>
                      </a:lnTo>
                      <a:lnTo>
                        <a:pt x="185" y="58"/>
                      </a:lnTo>
                      <a:lnTo>
                        <a:pt x="185" y="78"/>
                      </a:lnTo>
                      <a:lnTo>
                        <a:pt x="185" y="87"/>
                      </a:lnTo>
                      <a:lnTo>
                        <a:pt x="185" y="107"/>
                      </a:lnTo>
                      <a:lnTo>
                        <a:pt x="185" y="117"/>
                      </a:lnTo>
                      <a:lnTo>
                        <a:pt x="117" y="185"/>
                      </a:lnTo>
                      <a:lnTo>
                        <a:pt x="107" y="194"/>
                      </a:lnTo>
                      <a:lnTo>
                        <a:pt x="98" y="194"/>
                      </a:lnTo>
                      <a:lnTo>
                        <a:pt x="88" y="185"/>
                      </a:lnTo>
                      <a:lnTo>
                        <a:pt x="68" y="175"/>
                      </a:lnTo>
                      <a:lnTo>
                        <a:pt x="59" y="175"/>
                      </a:lnTo>
                      <a:lnTo>
                        <a:pt x="49" y="165"/>
                      </a:lnTo>
                      <a:lnTo>
                        <a:pt x="39" y="156"/>
                      </a:lnTo>
                      <a:lnTo>
                        <a:pt x="20" y="156"/>
                      </a:lnTo>
                      <a:lnTo>
                        <a:pt x="10" y="156"/>
                      </a:lnTo>
                      <a:lnTo>
                        <a:pt x="0" y="136"/>
                      </a:lnTo>
                      <a:lnTo>
                        <a:pt x="0" y="117"/>
                      </a:lnTo>
                      <a:lnTo>
                        <a:pt x="0" y="107"/>
                      </a:lnTo>
                      <a:lnTo>
                        <a:pt x="0" y="78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39" y="29"/>
                      </a:lnTo>
                      <a:lnTo>
                        <a:pt x="49" y="19"/>
                      </a:lnTo>
                      <a:lnTo>
                        <a:pt x="59" y="19"/>
                      </a:lnTo>
                      <a:lnTo>
                        <a:pt x="68" y="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0"/>
                      </a:lnTo>
                      <a:lnTo>
                        <a:pt x="137" y="0"/>
                      </a:lnTo>
                      <a:lnTo>
                        <a:pt x="146" y="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3912840" y="2997000"/>
                  <a:ext cx="36720" cy="60120"/>
                </a:xfrm>
                <a:custGeom>
                  <a:avLst/>
                  <a:gdLst/>
                  <a:ahLst/>
                  <a:rect l="l" t="t" r="r" b="b"/>
                  <a:pathLst>
                    <a:path w="58" h="98">
                      <a:moveTo>
                        <a:pt x="48" y="98"/>
                      </a:moveTo>
                      <a:lnTo>
                        <a:pt x="48" y="98"/>
                      </a:lnTo>
                      <a:lnTo>
                        <a:pt x="58" y="78"/>
                      </a:lnTo>
                      <a:lnTo>
                        <a:pt x="58" y="69"/>
                      </a:lnTo>
                      <a:lnTo>
                        <a:pt x="48" y="49"/>
                      </a:lnTo>
                      <a:lnTo>
                        <a:pt x="48" y="39"/>
                      </a:lnTo>
                      <a:lnTo>
                        <a:pt x="38" y="3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10"/>
                      </a:lnTo>
                      <a:lnTo>
                        <a:pt x="19" y="20"/>
                      </a:lnTo>
                      <a:lnTo>
                        <a:pt x="29" y="39"/>
                      </a:lnTo>
                      <a:lnTo>
                        <a:pt x="38" y="49"/>
                      </a:lnTo>
                      <a:lnTo>
                        <a:pt x="48" y="59"/>
                      </a:lnTo>
                      <a:lnTo>
                        <a:pt x="48" y="69"/>
                      </a:lnTo>
                      <a:lnTo>
                        <a:pt x="48" y="98"/>
                      </a:lnTo>
                      <a:lnTo>
                        <a:pt x="48" y="88"/>
                      </a:lnTo>
                      <a:lnTo>
                        <a:pt x="48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3889800" y="3051000"/>
                  <a:ext cx="54000" cy="60120"/>
                </a:xfrm>
                <a:custGeom>
                  <a:avLst/>
                  <a:gdLst/>
                  <a:ahLst/>
                  <a:rect l="l" t="t" r="r" b="b"/>
                  <a:pathLst>
                    <a:path w="87" h="97">
                      <a:moveTo>
                        <a:pt x="9" y="97"/>
                      </a:moveTo>
                      <a:lnTo>
                        <a:pt x="9" y="97"/>
                      </a:lnTo>
                      <a:lnTo>
                        <a:pt x="19" y="88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7" y="29"/>
                      </a:lnTo>
                      <a:lnTo>
                        <a:pt x="87" y="2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7" y="10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19" y="68"/>
                      </a:lnTo>
                      <a:lnTo>
                        <a:pt x="9" y="88"/>
                      </a:lnTo>
                      <a:lnTo>
                        <a:pt x="0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3835800" y="3081960"/>
                  <a:ext cx="58680" cy="29160"/>
                </a:xfrm>
                <a:custGeom>
                  <a:avLst/>
                  <a:gdLst/>
                  <a:ahLst/>
                  <a:rect l="l" t="t" r="r" b="b"/>
                  <a:pathLst>
                    <a:path w="97" h="4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49" y="29"/>
                      </a:lnTo>
                      <a:lnTo>
                        <a:pt x="58" y="39"/>
                      </a:lnTo>
                      <a:lnTo>
                        <a:pt x="68" y="48"/>
                      </a:lnTo>
                      <a:lnTo>
                        <a:pt x="88" y="48"/>
                      </a:lnTo>
                      <a:lnTo>
                        <a:pt x="97" y="48"/>
                      </a:lnTo>
                      <a:lnTo>
                        <a:pt x="97" y="48"/>
                      </a:lnTo>
                      <a:lnTo>
                        <a:pt x="88" y="39"/>
                      </a:lnTo>
                      <a:lnTo>
                        <a:pt x="78" y="39"/>
                      </a:lnTo>
                      <a:lnTo>
                        <a:pt x="58" y="29"/>
                      </a:lnTo>
                      <a:lnTo>
                        <a:pt x="49" y="19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3823560" y="3040200"/>
                  <a:ext cx="12240" cy="47880"/>
                </a:xfrm>
                <a:custGeom>
                  <a:avLst/>
                  <a:gdLst/>
                  <a:ahLst/>
                  <a:rect l="l" t="t" r="r" b="b"/>
                  <a:pathLst>
                    <a:path w="19" h="78">
                      <a:moveTo>
                        <a:pt x="9" y="0"/>
                      </a:move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9" y="58"/>
                      </a:lnTo>
                      <a:lnTo>
                        <a:pt x="19" y="78"/>
                      </a:lnTo>
                      <a:lnTo>
                        <a:pt x="19" y="78"/>
                      </a:lnTo>
                      <a:lnTo>
                        <a:pt x="19" y="5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19" y="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3829680" y="2992320"/>
                  <a:ext cx="95760" cy="52200"/>
                </a:xfrm>
                <a:custGeom>
                  <a:avLst/>
                  <a:gdLst/>
                  <a:ahLst/>
                  <a:rect l="l" t="t" r="r" b="b"/>
                  <a:pathLst>
                    <a:path w="156" h="87">
                      <a:moveTo>
                        <a:pt x="156" y="9"/>
                      </a:moveTo>
                      <a:lnTo>
                        <a:pt x="146" y="0"/>
                      </a:lnTo>
                      <a:lnTo>
                        <a:pt x="137" y="0"/>
                      </a:lnTo>
                      <a:lnTo>
                        <a:pt x="98" y="0"/>
                      </a:lnTo>
                      <a:lnTo>
                        <a:pt x="88" y="0"/>
                      </a:lnTo>
                      <a:lnTo>
                        <a:pt x="78" y="9"/>
                      </a:lnTo>
                      <a:lnTo>
                        <a:pt x="68" y="9"/>
                      </a:lnTo>
                      <a:lnTo>
                        <a:pt x="59" y="19"/>
                      </a:lnTo>
                      <a:lnTo>
                        <a:pt x="49" y="1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87"/>
                      </a:lnTo>
                      <a:lnTo>
                        <a:pt x="10" y="68"/>
                      </a:lnTo>
                      <a:lnTo>
                        <a:pt x="10" y="58"/>
                      </a:lnTo>
                      <a:lnTo>
                        <a:pt x="20" y="58"/>
                      </a:lnTo>
                      <a:lnTo>
                        <a:pt x="30" y="48"/>
                      </a:lnTo>
                      <a:lnTo>
                        <a:pt x="39" y="3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9" y="19"/>
                      </a:lnTo>
                      <a:lnTo>
                        <a:pt x="68" y="19"/>
                      </a:lnTo>
                      <a:lnTo>
                        <a:pt x="78" y="9"/>
                      </a:lnTo>
                      <a:lnTo>
                        <a:pt x="88" y="9"/>
                      </a:lnTo>
                      <a:lnTo>
                        <a:pt x="98" y="9"/>
                      </a:lnTo>
                      <a:lnTo>
                        <a:pt x="137" y="9"/>
                      </a:lnTo>
                      <a:lnTo>
                        <a:pt x="146" y="9"/>
                      </a:lnTo>
                      <a:lnTo>
                        <a:pt x="137" y="9"/>
                      </a:lnTo>
                      <a:lnTo>
                        <a:pt x="156" y="9"/>
                      </a:lnTo>
                      <a:lnTo>
                        <a:pt x="146" y="0"/>
                      </a:lnTo>
                      <a:lnTo>
                        <a:pt x="15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3620160" y="2997000"/>
                  <a:ext cx="28800" cy="53640"/>
                </a:xfrm>
                <a:custGeom>
                  <a:avLst/>
                  <a:gdLst/>
                  <a:ahLst/>
                  <a:rect l="l" t="t" r="r" b="b"/>
                  <a:pathLst>
                    <a:path w="49" h="88">
                      <a:moveTo>
                        <a:pt x="49" y="10"/>
                      </a:moveTo>
                      <a:lnTo>
                        <a:pt x="29" y="78"/>
                      </a:lnTo>
                      <a:lnTo>
                        <a:pt x="19" y="88"/>
                      </a:lnTo>
                      <a:lnTo>
                        <a:pt x="19" y="78"/>
                      </a:lnTo>
                      <a:lnTo>
                        <a:pt x="10" y="69"/>
                      </a:lnTo>
                      <a:lnTo>
                        <a:pt x="10" y="49"/>
                      </a:lnTo>
                      <a:lnTo>
                        <a:pt x="10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39" y="0"/>
                      </a:lnTo>
                      <a:lnTo>
                        <a:pt x="49" y="10"/>
                      </a:lnTo>
                      <a:lnTo>
                        <a:pt x="49" y="10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3636720" y="3003120"/>
                  <a:ext cx="18360" cy="47880"/>
                </a:xfrm>
                <a:custGeom>
                  <a:avLst/>
                  <a:gdLst/>
                  <a:ahLst/>
                  <a:rect l="l" t="t" r="r" b="b"/>
                  <a:pathLst>
                    <a:path w="29" h="78">
                      <a:moveTo>
                        <a:pt x="0" y="78"/>
                      </a:moveTo>
                      <a:lnTo>
                        <a:pt x="10" y="68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0" y="78"/>
                      </a:lnTo>
                      <a:lnTo>
                        <a:pt x="10" y="78"/>
                      </a:lnTo>
                      <a:lnTo>
                        <a:pt x="10" y="6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3630600" y="304488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3620160" y="2992320"/>
                  <a:ext cx="16560" cy="5868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10" y="58"/>
                      </a:lnTo>
                      <a:lnTo>
                        <a:pt x="10" y="78"/>
                      </a:lnTo>
                      <a:lnTo>
                        <a:pt x="10" y="87"/>
                      </a:lnTo>
                      <a:lnTo>
                        <a:pt x="19" y="97"/>
                      </a:lnTo>
                      <a:lnTo>
                        <a:pt x="2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19" y="58"/>
                      </a:lnTo>
                      <a:lnTo>
                        <a:pt x="10" y="48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3620160" y="2992320"/>
                  <a:ext cx="35280" cy="10800"/>
                </a:xfrm>
                <a:custGeom>
                  <a:avLst/>
                  <a:gdLst/>
                  <a:ahLst/>
                  <a:rect l="l" t="t" r="r" b="b"/>
                  <a:pathLst>
                    <a:path w="58" h="19">
                      <a:moveTo>
                        <a:pt x="58" y="19"/>
                      </a:moveTo>
                      <a:lnTo>
                        <a:pt x="49" y="9"/>
                      </a:lnTo>
                      <a:lnTo>
                        <a:pt x="49" y="9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4045680" y="3027960"/>
                  <a:ext cx="107640" cy="78480"/>
                </a:xfrm>
                <a:custGeom>
                  <a:avLst/>
                  <a:gdLst/>
                  <a:ahLst/>
                  <a:rect l="l" t="t" r="r" b="b"/>
                  <a:pathLst>
                    <a:path w="175" h="127">
                      <a:moveTo>
                        <a:pt x="48" y="20"/>
                      </a:moveTo>
                      <a:lnTo>
                        <a:pt x="68" y="20"/>
                      </a:lnTo>
                      <a:lnTo>
                        <a:pt x="77" y="20"/>
                      </a:lnTo>
                      <a:lnTo>
                        <a:pt x="97" y="20"/>
                      </a:lnTo>
                      <a:lnTo>
                        <a:pt x="97" y="29"/>
                      </a:lnTo>
                      <a:lnTo>
                        <a:pt x="116" y="29"/>
                      </a:lnTo>
                      <a:lnTo>
                        <a:pt x="126" y="39"/>
                      </a:lnTo>
                      <a:lnTo>
                        <a:pt x="136" y="39"/>
                      </a:lnTo>
                      <a:lnTo>
                        <a:pt x="136" y="49"/>
                      </a:lnTo>
                      <a:lnTo>
                        <a:pt x="155" y="59"/>
                      </a:lnTo>
                      <a:lnTo>
                        <a:pt x="155" y="68"/>
                      </a:lnTo>
                      <a:lnTo>
                        <a:pt x="165" y="68"/>
                      </a:lnTo>
                      <a:lnTo>
                        <a:pt x="175" y="78"/>
                      </a:lnTo>
                      <a:lnTo>
                        <a:pt x="175" y="98"/>
                      </a:lnTo>
                      <a:lnTo>
                        <a:pt x="165" y="107"/>
                      </a:lnTo>
                      <a:lnTo>
                        <a:pt x="155" y="117"/>
                      </a:lnTo>
                      <a:lnTo>
                        <a:pt x="145" y="117"/>
                      </a:lnTo>
                      <a:lnTo>
                        <a:pt x="136" y="127"/>
                      </a:lnTo>
                      <a:lnTo>
                        <a:pt x="136" y="127"/>
                      </a:lnTo>
                      <a:lnTo>
                        <a:pt x="97" y="127"/>
                      </a:lnTo>
                      <a:lnTo>
                        <a:pt x="97" y="127"/>
                      </a:lnTo>
                      <a:lnTo>
                        <a:pt x="77" y="127"/>
                      </a:lnTo>
                      <a:lnTo>
                        <a:pt x="58" y="117"/>
                      </a:lnTo>
                      <a:lnTo>
                        <a:pt x="48" y="117"/>
                      </a:lnTo>
                      <a:lnTo>
                        <a:pt x="29" y="117"/>
                      </a:lnTo>
                      <a:lnTo>
                        <a:pt x="19" y="117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88"/>
                      </a:lnTo>
                      <a:lnTo>
                        <a:pt x="9" y="59"/>
                      </a:lnTo>
                      <a:lnTo>
                        <a:pt x="9" y="49"/>
                      </a:lnTo>
                      <a:lnTo>
                        <a:pt x="9" y="39"/>
                      </a:lnTo>
                      <a:lnTo>
                        <a:pt x="0" y="29"/>
                      </a:lnTo>
                      <a:lnTo>
                        <a:pt x="0" y="20"/>
                      </a:lnTo>
                      <a:lnTo>
                        <a:pt x="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4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4074840" y="3034080"/>
                  <a:ext cx="84960" cy="60120"/>
                </a:xfrm>
                <a:custGeom>
                  <a:avLst/>
                  <a:gdLst/>
                  <a:ahLst/>
                  <a:rect l="l" t="t" r="r" b="b"/>
                  <a:pathLst>
                    <a:path w="136" h="97">
                      <a:moveTo>
                        <a:pt x="127" y="97"/>
                      </a:moveTo>
                      <a:lnTo>
                        <a:pt x="127" y="78"/>
                      </a:lnTo>
                      <a:lnTo>
                        <a:pt x="127" y="68"/>
                      </a:lnTo>
                      <a:lnTo>
                        <a:pt x="127" y="58"/>
                      </a:lnTo>
                      <a:lnTo>
                        <a:pt x="117" y="49"/>
                      </a:lnTo>
                      <a:lnTo>
                        <a:pt x="107" y="39"/>
                      </a:lnTo>
                      <a:lnTo>
                        <a:pt x="97" y="39"/>
                      </a:lnTo>
                      <a:lnTo>
                        <a:pt x="88" y="29"/>
                      </a:lnTo>
                      <a:lnTo>
                        <a:pt x="88" y="29"/>
                      </a:lnTo>
                      <a:lnTo>
                        <a:pt x="78" y="19"/>
                      </a:lnTo>
                      <a:lnTo>
                        <a:pt x="68" y="19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9" y="10"/>
                      </a:lnTo>
                      <a:lnTo>
                        <a:pt x="39" y="19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58" y="29"/>
                      </a:lnTo>
                      <a:lnTo>
                        <a:pt x="68" y="29"/>
                      </a:lnTo>
                      <a:lnTo>
                        <a:pt x="78" y="39"/>
                      </a:lnTo>
                      <a:lnTo>
                        <a:pt x="88" y="39"/>
                      </a:lnTo>
                      <a:lnTo>
                        <a:pt x="97" y="39"/>
                      </a:lnTo>
                      <a:lnTo>
                        <a:pt x="97" y="49"/>
                      </a:lnTo>
                      <a:lnTo>
                        <a:pt x="107" y="58"/>
                      </a:lnTo>
                      <a:lnTo>
                        <a:pt x="117" y="68"/>
                      </a:lnTo>
                      <a:lnTo>
                        <a:pt x="117" y="78"/>
                      </a:lnTo>
                      <a:lnTo>
                        <a:pt x="117" y="78"/>
                      </a:lnTo>
                      <a:lnTo>
                        <a:pt x="127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lnTo>
                        <a:pt x="136" y="88"/>
                      </a:lnTo>
                      <a:lnTo>
                        <a:pt x="127" y="88"/>
                      </a:lnTo>
                      <a:lnTo>
                        <a:pt x="127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4057920" y="3088080"/>
                  <a:ext cx="95400" cy="23040"/>
                </a:xfrm>
                <a:custGeom>
                  <a:avLst/>
                  <a:gdLst/>
                  <a:ahLst/>
                  <a:rect l="l" t="t" r="r" b="b"/>
                  <a:pathLst>
                    <a:path w="156" h="38">
                      <a:moveTo>
                        <a:pt x="0" y="19"/>
                      </a:move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78" y="29"/>
                      </a:lnTo>
                      <a:lnTo>
                        <a:pt x="78" y="38"/>
                      </a:lnTo>
                      <a:lnTo>
                        <a:pt x="117" y="38"/>
                      </a:lnTo>
                      <a:lnTo>
                        <a:pt x="117" y="29"/>
                      </a:lnTo>
                      <a:lnTo>
                        <a:pt x="126" y="29"/>
                      </a:lnTo>
                      <a:lnTo>
                        <a:pt x="136" y="19"/>
                      </a:lnTo>
                      <a:lnTo>
                        <a:pt x="156" y="19"/>
                      </a:lnTo>
                      <a:lnTo>
                        <a:pt x="156" y="9"/>
                      </a:lnTo>
                      <a:lnTo>
                        <a:pt x="156" y="0"/>
                      </a:lnTo>
                      <a:lnTo>
                        <a:pt x="136" y="19"/>
                      </a:lnTo>
                      <a:lnTo>
                        <a:pt x="126" y="19"/>
                      </a:lnTo>
                      <a:lnTo>
                        <a:pt x="117" y="19"/>
                      </a:lnTo>
                      <a:lnTo>
                        <a:pt x="117" y="29"/>
                      </a:lnTo>
                      <a:lnTo>
                        <a:pt x="78" y="29"/>
                      </a:lnTo>
                      <a:lnTo>
                        <a:pt x="78" y="19"/>
                      </a:lnTo>
                      <a:lnTo>
                        <a:pt x="58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10" y="9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4045680" y="3040200"/>
                  <a:ext cx="18360" cy="60120"/>
                </a:xfrm>
                <a:custGeom>
                  <a:avLst/>
                  <a:gdLst/>
                  <a:ahLst/>
                  <a:rect l="l" t="t" r="r" b="b"/>
                  <a:pathLst>
                    <a:path w="29" h="9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29"/>
                      </a:lnTo>
                      <a:lnTo>
                        <a:pt x="9" y="39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9" y="87"/>
                      </a:lnTo>
                      <a:lnTo>
                        <a:pt x="19" y="97"/>
                      </a:lnTo>
                      <a:lnTo>
                        <a:pt x="29" y="97"/>
                      </a:lnTo>
                      <a:lnTo>
                        <a:pt x="19" y="87"/>
                      </a:lnTo>
                      <a:lnTo>
                        <a:pt x="19" y="78"/>
                      </a:lnTo>
                      <a:lnTo>
                        <a:pt x="9" y="68"/>
                      </a:lnTo>
                      <a:lnTo>
                        <a:pt x="9" y="39"/>
                      </a:lnTo>
                      <a:lnTo>
                        <a:pt x="9" y="29"/>
                      </a:lnTo>
                      <a:lnTo>
                        <a:pt x="9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4045680" y="3027960"/>
                  <a:ext cx="183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4057920" y="3021480"/>
                  <a:ext cx="16560" cy="18360"/>
                </a:xfrm>
                <a:custGeom>
                  <a:avLst/>
                  <a:gdLst/>
                  <a:ahLst/>
                  <a:rect l="l" t="t" r="r" b="b"/>
                  <a:pathLst>
                    <a:path w="29" h="30">
                      <a:moveTo>
                        <a:pt x="29" y="20"/>
                      </a:move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29" y="10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9" y="20"/>
                      </a:lnTo>
                      <a:lnTo>
                        <a:pt x="2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4051800" y="3040200"/>
                  <a:ext cx="89280" cy="60120"/>
                </a:xfrm>
                <a:custGeom>
                  <a:avLst/>
                  <a:gdLst/>
                  <a:ahLst/>
                  <a:rect l="l" t="t" r="r" b="b"/>
                  <a:pathLst>
                    <a:path w="146" h="97">
                      <a:moveTo>
                        <a:pt x="146" y="78"/>
                      </a:moveTo>
                      <a:lnTo>
                        <a:pt x="136" y="78"/>
                      </a:lnTo>
                      <a:lnTo>
                        <a:pt x="136" y="87"/>
                      </a:lnTo>
                      <a:lnTo>
                        <a:pt x="127" y="87"/>
                      </a:lnTo>
                      <a:lnTo>
                        <a:pt x="117" y="97"/>
                      </a:lnTo>
                      <a:lnTo>
                        <a:pt x="88" y="97"/>
                      </a:lnTo>
                      <a:lnTo>
                        <a:pt x="88" y="87"/>
                      </a:lnTo>
                      <a:lnTo>
                        <a:pt x="68" y="87"/>
                      </a:lnTo>
                      <a:lnTo>
                        <a:pt x="59" y="87"/>
                      </a:lnTo>
                      <a:lnTo>
                        <a:pt x="39" y="87"/>
                      </a:lnTo>
                      <a:lnTo>
                        <a:pt x="39" y="78"/>
                      </a:lnTo>
                      <a:lnTo>
                        <a:pt x="29" y="87"/>
                      </a:lnTo>
                      <a:lnTo>
                        <a:pt x="20" y="78"/>
                      </a:lnTo>
                      <a:lnTo>
                        <a:pt x="20" y="68"/>
                      </a:lnTo>
                      <a:lnTo>
                        <a:pt x="20" y="48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0" y="9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9" y="9"/>
                      </a:lnTo>
                      <a:lnTo>
                        <a:pt x="39" y="9"/>
                      </a:lnTo>
                      <a:lnTo>
                        <a:pt x="49" y="9"/>
                      </a:lnTo>
                      <a:lnTo>
                        <a:pt x="59" y="9"/>
                      </a:lnTo>
                      <a:lnTo>
                        <a:pt x="68" y="19"/>
                      </a:lnTo>
                      <a:lnTo>
                        <a:pt x="88" y="19"/>
                      </a:lnTo>
                      <a:lnTo>
                        <a:pt x="88" y="19"/>
                      </a:lnTo>
                      <a:lnTo>
                        <a:pt x="97" y="29"/>
                      </a:lnTo>
                      <a:lnTo>
                        <a:pt x="117" y="29"/>
                      </a:lnTo>
                      <a:lnTo>
                        <a:pt x="117" y="29"/>
                      </a:lnTo>
                      <a:lnTo>
                        <a:pt x="127" y="39"/>
                      </a:lnTo>
                      <a:lnTo>
                        <a:pt x="136" y="48"/>
                      </a:lnTo>
                      <a:lnTo>
                        <a:pt x="136" y="58"/>
                      </a:lnTo>
                      <a:lnTo>
                        <a:pt x="146" y="68"/>
                      </a:lnTo>
                      <a:lnTo>
                        <a:pt x="146" y="7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4064400" y="3088080"/>
                  <a:ext cx="83160" cy="12240"/>
                </a:xfrm>
                <a:custGeom>
                  <a:avLst/>
                  <a:gdLst/>
                  <a:ahLst/>
                  <a:rect l="l" t="t" r="r" b="b"/>
                  <a:pathLst>
                    <a:path w="136" h="19">
                      <a:moveTo>
                        <a:pt x="0" y="9"/>
                      </a:moveTo>
                      <a:lnTo>
                        <a:pt x="9" y="9"/>
                      </a:lnTo>
                      <a:lnTo>
                        <a:pt x="39" y="9"/>
                      </a:lnTo>
                      <a:lnTo>
                        <a:pt x="48" y="19"/>
                      </a:lnTo>
                      <a:lnTo>
                        <a:pt x="68" y="19"/>
                      </a:lnTo>
                      <a:lnTo>
                        <a:pt x="68" y="19"/>
                      </a:lnTo>
                      <a:lnTo>
                        <a:pt x="107" y="19"/>
                      </a:lnTo>
                      <a:lnTo>
                        <a:pt x="107" y="19"/>
                      </a:lnTo>
                      <a:lnTo>
                        <a:pt x="116" y="9"/>
                      </a:lnTo>
                      <a:lnTo>
                        <a:pt x="126" y="9"/>
                      </a:lnTo>
                      <a:lnTo>
                        <a:pt x="136" y="0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107" y="9"/>
                      </a:lnTo>
                      <a:lnTo>
                        <a:pt x="107" y="9"/>
                      </a:lnTo>
                      <a:lnTo>
                        <a:pt x="97" y="9"/>
                      </a:lnTo>
                      <a:lnTo>
                        <a:pt x="68" y="9"/>
                      </a:lnTo>
                      <a:lnTo>
                        <a:pt x="68" y="9"/>
                      </a:lnTo>
                      <a:lnTo>
                        <a:pt x="48" y="9"/>
                      </a:lnTo>
                      <a:lnTo>
                        <a:pt x="3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4051800" y="3040200"/>
                  <a:ext cx="16920" cy="54000"/>
                </a:xfrm>
                <a:custGeom>
                  <a:avLst/>
                  <a:gdLst/>
                  <a:ahLst/>
                  <a:rect l="l" t="t" r="r" b="b"/>
                  <a:pathLst>
                    <a:path w="29" h="8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0" y="39"/>
                      </a:lnTo>
                      <a:lnTo>
                        <a:pt x="10" y="48"/>
                      </a:lnTo>
                      <a:lnTo>
                        <a:pt x="10" y="58"/>
                      </a:lnTo>
                      <a:lnTo>
                        <a:pt x="20" y="68"/>
                      </a:lnTo>
                      <a:lnTo>
                        <a:pt x="20" y="78"/>
                      </a:lnTo>
                      <a:lnTo>
                        <a:pt x="20" y="87"/>
                      </a:lnTo>
                      <a:lnTo>
                        <a:pt x="29" y="78"/>
                      </a:lnTo>
                      <a:lnTo>
                        <a:pt x="29" y="7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20" y="48"/>
                      </a:lnTo>
                      <a:lnTo>
                        <a:pt x="20" y="2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4051800" y="3034080"/>
                  <a:ext cx="12240" cy="10440"/>
                </a:xfrm>
                <a:custGeom>
                  <a:avLst/>
                  <a:gdLst/>
                  <a:ahLst/>
                  <a:rect l="l" t="t" r="r" b="b"/>
                  <a:pathLst>
                    <a:path w="20" h="19">
                      <a:moveTo>
                        <a:pt x="20" y="0"/>
                      </a:move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4057920" y="3034080"/>
                  <a:ext cx="89280" cy="5364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88"/>
                      </a:moveTo>
                      <a:lnTo>
                        <a:pt x="146" y="88"/>
                      </a:lnTo>
                      <a:lnTo>
                        <a:pt x="136" y="78"/>
                      </a:lnTo>
                      <a:lnTo>
                        <a:pt x="136" y="58"/>
                      </a:lnTo>
                      <a:lnTo>
                        <a:pt x="117" y="39"/>
                      </a:lnTo>
                      <a:lnTo>
                        <a:pt x="107" y="39"/>
                      </a:lnTo>
                      <a:lnTo>
                        <a:pt x="97" y="29"/>
                      </a:lnTo>
                      <a:lnTo>
                        <a:pt x="78" y="29"/>
                      </a:lnTo>
                      <a:lnTo>
                        <a:pt x="78" y="29"/>
                      </a:lnTo>
                      <a:lnTo>
                        <a:pt x="68" y="19"/>
                      </a:lnTo>
                      <a:lnTo>
                        <a:pt x="49" y="19"/>
                      </a:lnTo>
                      <a:lnTo>
                        <a:pt x="39" y="19"/>
                      </a:lnTo>
                      <a:lnTo>
                        <a:pt x="29" y="10"/>
                      </a:lnTo>
                      <a:lnTo>
                        <a:pt x="19" y="1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19"/>
                      </a:lnTo>
                      <a:lnTo>
                        <a:pt x="29" y="1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58" y="29"/>
                      </a:lnTo>
                      <a:lnTo>
                        <a:pt x="78" y="39"/>
                      </a:lnTo>
                      <a:lnTo>
                        <a:pt x="78" y="39"/>
                      </a:lnTo>
                      <a:lnTo>
                        <a:pt x="87" y="39"/>
                      </a:lnTo>
                      <a:lnTo>
                        <a:pt x="97" y="39"/>
                      </a:lnTo>
                      <a:lnTo>
                        <a:pt x="107" y="49"/>
                      </a:lnTo>
                      <a:lnTo>
                        <a:pt x="126" y="68"/>
                      </a:lnTo>
                      <a:lnTo>
                        <a:pt x="126" y="78"/>
                      </a:lnTo>
                      <a:lnTo>
                        <a:pt x="13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lnTo>
                        <a:pt x="1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3937680" y="3069720"/>
                  <a:ext cx="41400" cy="60120"/>
                </a:xfrm>
                <a:custGeom>
                  <a:avLst/>
                  <a:gdLst/>
                  <a:ahLst/>
                  <a:rect l="l" t="t" r="r" b="b"/>
                  <a:pathLst>
                    <a:path w="69" h="98">
                      <a:moveTo>
                        <a:pt x="69" y="59"/>
                      </a:moveTo>
                      <a:lnTo>
                        <a:pt x="69" y="68"/>
                      </a:lnTo>
                      <a:lnTo>
                        <a:pt x="59" y="78"/>
                      </a:lnTo>
                      <a:lnTo>
                        <a:pt x="49" y="88"/>
                      </a:lnTo>
                      <a:lnTo>
                        <a:pt x="39" y="98"/>
                      </a:lnTo>
                      <a:lnTo>
                        <a:pt x="39" y="98"/>
                      </a:lnTo>
                      <a:lnTo>
                        <a:pt x="20" y="98"/>
                      </a:lnTo>
                      <a:lnTo>
                        <a:pt x="20" y="98"/>
                      </a:lnTo>
                      <a:lnTo>
                        <a:pt x="10" y="88"/>
                      </a:lnTo>
                      <a:lnTo>
                        <a:pt x="10" y="78"/>
                      </a:lnTo>
                      <a:lnTo>
                        <a:pt x="10" y="78"/>
                      </a:lnTo>
                      <a:lnTo>
                        <a:pt x="0" y="68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49"/>
                      </a:lnTo>
                      <a:lnTo>
                        <a:pt x="0" y="39"/>
                      </a:lnTo>
                      <a:lnTo>
                        <a:pt x="10" y="30"/>
                      </a:lnTo>
                      <a:lnTo>
                        <a:pt x="20" y="20"/>
                      </a:lnTo>
                      <a:lnTo>
                        <a:pt x="30" y="10"/>
                      </a:lnTo>
                      <a:lnTo>
                        <a:pt x="30" y="0"/>
                      </a:lnTo>
                      <a:lnTo>
                        <a:pt x="39" y="10"/>
                      </a:lnTo>
                      <a:lnTo>
                        <a:pt x="49" y="10"/>
                      </a:lnTo>
                      <a:lnTo>
                        <a:pt x="49" y="20"/>
                      </a:lnTo>
                      <a:lnTo>
                        <a:pt x="59" y="30"/>
                      </a:lnTo>
                      <a:lnTo>
                        <a:pt x="59" y="30"/>
                      </a:lnTo>
                      <a:lnTo>
                        <a:pt x="69" y="39"/>
                      </a:lnTo>
                      <a:lnTo>
                        <a:pt x="69" y="49"/>
                      </a:lnTo>
                      <a:lnTo>
                        <a:pt x="69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3956040" y="3106800"/>
                  <a:ext cx="29160" cy="2916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0" y="48"/>
                      </a:moveTo>
                      <a:lnTo>
                        <a:pt x="9" y="3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39" y="19"/>
                      </a:lnTo>
                      <a:lnTo>
                        <a:pt x="39" y="9"/>
                      </a:lnTo>
                      <a:lnTo>
                        <a:pt x="48" y="0"/>
                      </a:lnTo>
                      <a:lnTo>
                        <a:pt x="39" y="0"/>
                      </a:lnTo>
                      <a:lnTo>
                        <a:pt x="29" y="9"/>
                      </a:lnTo>
                      <a:lnTo>
                        <a:pt x="29" y="9"/>
                      </a:lnTo>
                      <a:lnTo>
                        <a:pt x="29" y="19"/>
                      </a:lnTo>
                      <a:lnTo>
                        <a:pt x="19" y="1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3931200" y="3100320"/>
                  <a:ext cx="24480" cy="3564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19" y="39"/>
                      </a:lnTo>
                      <a:lnTo>
                        <a:pt x="19" y="39"/>
                      </a:lnTo>
                      <a:lnTo>
                        <a:pt x="19" y="49"/>
                      </a:lnTo>
                      <a:lnTo>
                        <a:pt x="29" y="58"/>
                      </a:lnTo>
                      <a:lnTo>
                        <a:pt x="39" y="58"/>
                      </a:lnTo>
                      <a:lnTo>
                        <a:pt x="39" y="49"/>
                      </a:lnTo>
                      <a:lnTo>
                        <a:pt x="39" y="49"/>
                      </a:lnTo>
                      <a:lnTo>
                        <a:pt x="29" y="39"/>
                      </a:lnTo>
                      <a:lnTo>
                        <a:pt x="19" y="39"/>
                      </a:lnTo>
                      <a:lnTo>
                        <a:pt x="19" y="29"/>
                      </a:lnTo>
                      <a:lnTo>
                        <a:pt x="19" y="29"/>
                      </a:lnTo>
                      <a:lnTo>
                        <a:pt x="19" y="19"/>
                      </a:lnTo>
                      <a:lnTo>
                        <a:pt x="19" y="1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393120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9" y="39"/>
                      </a:lnTo>
                      <a:lnTo>
                        <a:pt x="9" y="49"/>
                      </a:lnTo>
                      <a:lnTo>
                        <a:pt x="0" y="59"/>
                      </a:lnTo>
                      <a:lnTo>
                        <a:pt x="9" y="59"/>
                      </a:lnTo>
                      <a:lnTo>
                        <a:pt x="19" y="49"/>
                      </a:lnTo>
                      <a:lnTo>
                        <a:pt x="19" y="39"/>
                      </a:lnTo>
                      <a:lnTo>
                        <a:pt x="29" y="20"/>
                      </a:lnTo>
                      <a:lnTo>
                        <a:pt x="39" y="20"/>
                      </a:lnTo>
                      <a:lnTo>
                        <a:pt x="39" y="10"/>
                      </a:lnTo>
                      <a:lnTo>
                        <a:pt x="48" y="0"/>
                      </a:lnTo>
                      <a:lnTo>
                        <a:pt x="39" y="1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3956040" y="3069720"/>
                  <a:ext cx="29160" cy="37080"/>
                </a:xfrm>
                <a:custGeom>
                  <a:avLst/>
                  <a:gdLst/>
                  <a:ahLst/>
                  <a:rect l="l" t="t" r="r" b="b"/>
                  <a:pathLst>
                    <a:path w="48" h="59">
                      <a:moveTo>
                        <a:pt x="48" y="59"/>
                      </a:moveTo>
                      <a:lnTo>
                        <a:pt x="48" y="49"/>
                      </a:lnTo>
                      <a:lnTo>
                        <a:pt x="39" y="39"/>
                      </a:lnTo>
                      <a:lnTo>
                        <a:pt x="39" y="30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30"/>
                      </a:lnTo>
                      <a:lnTo>
                        <a:pt x="29" y="39"/>
                      </a:lnTo>
                      <a:lnTo>
                        <a:pt x="29" y="4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48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3943800" y="3081960"/>
                  <a:ext cx="23040" cy="4140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39" y="29"/>
                      </a:moveTo>
                      <a:lnTo>
                        <a:pt x="39" y="48"/>
                      </a:lnTo>
                      <a:lnTo>
                        <a:pt x="20" y="68"/>
                      </a:lnTo>
                      <a:lnTo>
                        <a:pt x="20" y="58"/>
                      </a:lnTo>
                      <a:lnTo>
                        <a:pt x="10" y="48"/>
                      </a:lnTo>
                      <a:lnTo>
                        <a:pt x="10" y="48"/>
                      </a:lnTo>
                      <a:lnTo>
                        <a:pt x="0" y="39"/>
                      </a:lnTo>
                      <a:lnTo>
                        <a:pt x="10" y="29"/>
                      </a:lnTo>
                      <a:lnTo>
                        <a:pt x="10" y="19"/>
                      </a:lnTo>
                      <a:lnTo>
                        <a:pt x="20" y="10"/>
                      </a:lnTo>
                      <a:lnTo>
                        <a:pt x="29" y="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3956040" y="3100320"/>
                  <a:ext cx="16560" cy="230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0" y="39"/>
                      </a:moveTo>
                      <a:lnTo>
                        <a:pt x="9" y="39"/>
                      </a:lnTo>
                      <a:lnTo>
                        <a:pt x="29" y="19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0" y="29"/>
                      </a:lnTo>
                      <a:lnTo>
                        <a:pt x="9" y="29"/>
                      </a:lnTo>
                      <a:lnTo>
                        <a:pt x="0" y="39"/>
                      </a:lnTo>
                      <a:lnTo>
                        <a:pt x="9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3943800" y="3106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20" y="29"/>
                      </a:lnTo>
                      <a:lnTo>
                        <a:pt x="29" y="1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3943800" y="308196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29" h="39">
                      <a:moveTo>
                        <a:pt x="29" y="0"/>
                      </a:moveTo>
                      <a:lnTo>
                        <a:pt x="20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0" y="29"/>
                      </a:lnTo>
                      <a:lnTo>
                        <a:pt x="0" y="39"/>
                      </a:lnTo>
                      <a:lnTo>
                        <a:pt x="10" y="39"/>
                      </a:lnTo>
                      <a:lnTo>
                        <a:pt x="10" y="29"/>
                      </a:lnTo>
                      <a:lnTo>
                        <a:pt x="20" y="19"/>
                      </a:lnTo>
                      <a:lnTo>
                        <a:pt x="20" y="10"/>
                      </a:lnTo>
                      <a:lnTo>
                        <a:pt x="29" y="10"/>
                      </a:lnTo>
                      <a:lnTo>
                        <a:pt x="29" y="0"/>
                      </a:lnTo>
                      <a:lnTo>
                        <a:pt x="20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3960720" y="3081960"/>
                  <a:ext cx="12240" cy="1836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20" y="29"/>
                      </a:move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20" y="19"/>
                      </a:lnTo>
                      <a:lnTo>
                        <a:pt x="2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3972960" y="3088080"/>
                  <a:ext cx="371520" cy="361080"/>
                </a:xfrm>
                <a:custGeom>
                  <a:avLst/>
                  <a:gdLst/>
                  <a:ahLst/>
                  <a:rect l="l" t="t" r="r" b="b"/>
                  <a:pathLst>
                    <a:path w="603" h="584">
                      <a:moveTo>
                        <a:pt x="506" y="87"/>
                      </a:moveTo>
                      <a:lnTo>
                        <a:pt x="515" y="107"/>
                      </a:lnTo>
                      <a:lnTo>
                        <a:pt x="525" y="126"/>
                      </a:lnTo>
                      <a:lnTo>
                        <a:pt x="535" y="146"/>
                      </a:lnTo>
                      <a:lnTo>
                        <a:pt x="544" y="165"/>
                      </a:lnTo>
                      <a:lnTo>
                        <a:pt x="554" y="185"/>
                      </a:lnTo>
                      <a:lnTo>
                        <a:pt x="564" y="204"/>
                      </a:lnTo>
                      <a:lnTo>
                        <a:pt x="574" y="214"/>
                      </a:lnTo>
                      <a:lnTo>
                        <a:pt x="583" y="233"/>
                      </a:lnTo>
                      <a:lnTo>
                        <a:pt x="593" y="262"/>
                      </a:lnTo>
                      <a:lnTo>
                        <a:pt x="603" y="301"/>
                      </a:lnTo>
                      <a:lnTo>
                        <a:pt x="603" y="331"/>
                      </a:lnTo>
                      <a:lnTo>
                        <a:pt x="593" y="370"/>
                      </a:lnTo>
                      <a:lnTo>
                        <a:pt x="593" y="399"/>
                      </a:lnTo>
                      <a:lnTo>
                        <a:pt x="583" y="428"/>
                      </a:lnTo>
                      <a:lnTo>
                        <a:pt x="564" y="467"/>
                      </a:lnTo>
                      <a:lnTo>
                        <a:pt x="554" y="496"/>
                      </a:lnTo>
                      <a:lnTo>
                        <a:pt x="428" y="584"/>
                      </a:lnTo>
                      <a:lnTo>
                        <a:pt x="418" y="584"/>
                      </a:lnTo>
                      <a:lnTo>
                        <a:pt x="408" y="584"/>
                      </a:lnTo>
                      <a:lnTo>
                        <a:pt x="408" y="574"/>
                      </a:lnTo>
                      <a:lnTo>
                        <a:pt x="399" y="564"/>
                      </a:lnTo>
                      <a:lnTo>
                        <a:pt x="389" y="564"/>
                      </a:lnTo>
                      <a:lnTo>
                        <a:pt x="389" y="564"/>
                      </a:lnTo>
                      <a:lnTo>
                        <a:pt x="379" y="555"/>
                      </a:lnTo>
                      <a:lnTo>
                        <a:pt x="311" y="555"/>
                      </a:lnTo>
                      <a:lnTo>
                        <a:pt x="301" y="545"/>
                      </a:lnTo>
                      <a:lnTo>
                        <a:pt x="292" y="535"/>
                      </a:lnTo>
                      <a:lnTo>
                        <a:pt x="272" y="516"/>
                      </a:lnTo>
                      <a:lnTo>
                        <a:pt x="253" y="506"/>
                      </a:lnTo>
                      <a:lnTo>
                        <a:pt x="243" y="496"/>
                      </a:lnTo>
                      <a:lnTo>
                        <a:pt x="233" y="486"/>
                      </a:lnTo>
                      <a:lnTo>
                        <a:pt x="214" y="486"/>
                      </a:lnTo>
                      <a:lnTo>
                        <a:pt x="97" y="486"/>
                      </a:lnTo>
                      <a:lnTo>
                        <a:pt x="87" y="477"/>
                      </a:lnTo>
                      <a:lnTo>
                        <a:pt x="68" y="477"/>
                      </a:lnTo>
                      <a:lnTo>
                        <a:pt x="58" y="477"/>
                      </a:lnTo>
                      <a:lnTo>
                        <a:pt x="39" y="477"/>
                      </a:lnTo>
                      <a:lnTo>
                        <a:pt x="29" y="457"/>
                      </a:lnTo>
                      <a:lnTo>
                        <a:pt x="19" y="428"/>
                      </a:lnTo>
                      <a:lnTo>
                        <a:pt x="10" y="408"/>
                      </a:lnTo>
                      <a:lnTo>
                        <a:pt x="10" y="389"/>
                      </a:lnTo>
                      <a:lnTo>
                        <a:pt x="0" y="360"/>
                      </a:lnTo>
                      <a:lnTo>
                        <a:pt x="0" y="262"/>
                      </a:lnTo>
                      <a:lnTo>
                        <a:pt x="10" y="253"/>
                      </a:lnTo>
                      <a:lnTo>
                        <a:pt x="10" y="243"/>
                      </a:lnTo>
                      <a:lnTo>
                        <a:pt x="19" y="233"/>
                      </a:lnTo>
                      <a:lnTo>
                        <a:pt x="29" y="223"/>
                      </a:lnTo>
                      <a:lnTo>
                        <a:pt x="58" y="194"/>
                      </a:lnTo>
                      <a:lnTo>
                        <a:pt x="68" y="185"/>
                      </a:lnTo>
                      <a:lnTo>
                        <a:pt x="78" y="175"/>
                      </a:lnTo>
                      <a:lnTo>
                        <a:pt x="87" y="165"/>
                      </a:lnTo>
                      <a:lnTo>
                        <a:pt x="97" y="165"/>
                      </a:lnTo>
                      <a:lnTo>
                        <a:pt x="107" y="155"/>
                      </a:lnTo>
                      <a:lnTo>
                        <a:pt x="117" y="155"/>
                      </a:lnTo>
                      <a:lnTo>
                        <a:pt x="126" y="146"/>
                      </a:lnTo>
                      <a:lnTo>
                        <a:pt x="146" y="146"/>
                      </a:lnTo>
                      <a:lnTo>
                        <a:pt x="155" y="155"/>
                      </a:lnTo>
                      <a:lnTo>
                        <a:pt x="165" y="155"/>
                      </a:lnTo>
                      <a:lnTo>
                        <a:pt x="175" y="146"/>
                      </a:lnTo>
                      <a:lnTo>
                        <a:pt x="204" y="146"/>
                      </a:lnTo>
                      <a:lnTo>
                        <a:pt x="214" y="146"/>
                      </a:lnTo>
                      <a:lnTo>
                        <a:pt x="233" y="146"/>
                      </a:lnTo>
                      <a:lnTo>
                        <a:pt x="243" y="136"/>
                      </a:lnTo>
                      <a:lnTo>
                        <a:pt x="253" y="136"/>
                      </a:lnTo>
                      <a:lnTo>
                        <a:pt x="262" y="126"/>
                      </a:lnTo>
                      <a:lnTo>
                        <a:pt x="282" y="126"/>
                      </a:lnTo>
                      <a:lnTo>
                        <a:pt x="292" y="126"/>
                      </a:lnTo>
                      <a:lnTo>
                        <a:pt x="330" y="126"/>
                      </a:lnTo>
                      <a:lnTo>
                        <a:pt x="340" y="116"/>
                      </a:lnTo>
                      <a:lnTo>
                        <a:pt x="350" y="107"/>
                      </a:lnTo>
                      <a:lnTo>
                        <a:pt x="360" y="87"/>
                      </a:lnTo>
                      <a:lnTo>
                        <a:pt x="369" y="77"/>
                      </a:lnTo>
                      <a:lnTo>
                        <a:pt x="379" y="58"/>
                      </a:lnTo>
                      <a:lnTo>
                        <a:pt x="379" y="38"/>
                      </a:lnTo>
                      <a:lnTo>
                        <a:pt x="379" y="19"/>
                      </a:lnTo>
                      <a:lnTo>
                        <a:pt x="389" y="0"/>
                      </a:lnTo>
                      <a:lnTo>
                        <a:pt x="389" y="0"/>
                      </a:lnTo>
                      <a:lnTo>
                        <a:pt x="399" y="0"/>
                      </a:lnTo>
                      <a:lnTo>
                        <a:pt x="408" y="0"/>
                      </a:lnTo>
                      <a:lnTo>
                        <a:pt x="408" y="0"/>
                      </a:lnTo>
                      <a:lnTo>
                        <a:pt x="418" y="9"/>
                      </a:lnTo>
                      <a:lnTo>
                        <a:pt x="428" y="19"/>
                      </a:lnTo>
                      <a:lnTo>
                        <a:pt x="457" y="48"/>
                      </a:lnTo>
                      <a:lnTo>
                        <a:pt x="476" y="58"/>
                      </a:lnTo>
                      <a:lnTo>
                        <a:pt x="476" y="68"/>
                      </a:lnTo>
                      <a:lnTo>
                        <a:pt x="496" y="77"/>
                      </a:lnTo>
                      <a:lnTo>
                        <a:pt x="506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4286160" y="3135960"/>
                  <a:ext cx="52200" cy="95400"/>
                </a:xfrm>
                <a:custGeom>
                  <a:avLst/>
                  <a:gdLst/>
                  <a:ahLst/>
                  <a:rect l="l" t="t" r="r" b="b"/>
                  <a:pathLst>
                    <a:path w="87" h="156">
                      <a:moveTo>
                        <a:pt x="87" y="156"/>
                      </a:moveTo>
                      <a:lnTo>
                        <a:pt x="68" y="137"/>
                      </a:lnTo>
                      <a:lnTo>
                        <a:pt x="58" y="117"/>
                      </a:lnTo>
                      <a:lnTo>
                        <a:pt x="48" y="98"/>
                      </a:lnTo>
                      <a:lnTo>
                        <a:pt x="38" y="88"/>
                      </a:lnTo>
                      <a:lnTo>
                        <a:pt x="38" y="59"/>
                      </a:lnTo>
                      <a:lnTo>
                        <a:pt x="29" y="49"/>
                      </a:lnTo>
                      <a:lnTo>
                        <a:pt x="19" y="2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30"/>
                      </a:lnTo>
                      <a:lnTo>
                        <a:pt x="19" y="49"/>
                      </a:lnTo>
                      <a:lnTo>
                        <a:pt x="29" y="69"/>
                      </a:lnTo>
                      <a:lnTo>
                        <a:pt x="29" y="88"/>
                      </a:lnTo>
                      <a:lnTo>
                        <a:pt x="38" y="108"/>
                      </a:lnTo>
                      <a:lnTo>
                        <a:pt x="48" y="127"/>
                      </a:lnTo>
                      <a:lnTo>
                        <a:pt x="58" y="137"/>
                      </a:lnTo>
                      <a:lnTo>
                        <a:pt x="77" y="156"/>
                      </a:lnTo>
                      <a:lnTo>
                        <a:pt x="77" y="156"/>
                      </a:lnTo>
                      <a:lnTo>
                        <a:pt x="87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4315320" y="3231720"/>
                  <a:ext cx="29160" cy="162000"/>
                </a:xfrm>
                <a:custGeom>
                  <a:avLst/>
                  <a:gdLst/>
                  <a:ahLst/>
                  <a:rect l="l" t="t" r="r" b="b"/>
                  <a:pathLst>
                    <a:path w="49" h="263">
                      <a:moveTo>
                        <a:pt x="10" y="263"/>
                      </a:moveTo>
                      <a:lnTo>
                        <a:pt x="10" y="263"/>
                      </a:lnTo>
                      <a:lnTo>
                        <a:pt x="20" y="234"/>
                      </a:lnTo>
                      <a:lnTo>
                        <a:pt x="29" y="195"/>
                      </a:lnTo>
                      <a:lnTo>
                        <a:pt x="39" y="166"/>
                      </a:lnTo>
                      <a:lnTo>
                        <a:pt x="49" y="137"/>
                      </a:lnTo>
                      <a:lnTo>
                        <a:pt x="49" y="98"/>
                      </a:lnTo>
                      <a:lnTo>
                        <a:pt x="49" y="68"/>
                      </a:lnTo>
                      <a:lnTo>
                        <a:pt x="49" y="29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39" y="29"/>
                      </a:lnTo>
                      <a:lnTo>
                        <a:pt x="39" y="68"/>
                      </a:lnTo>
                      <a:lnTo>
                        <a:pt x="39" y="98"/>
                      </a:lnTo>
                      <a:lnTo>
                        <a:pt x="39" y="137"/>
                      </a:lnTo>
                      <a:lnTo>
                        <a:pt x="29" y="166"/>
                      </a:lnTo>
                      <a:lnTo>
                        <a:pt x="20" y="195"/>
                      </a:lnTo>
                      <a:lnTo>
                        <a:pt x="10" y="234"/>
                      </a:lnTo>
                      <a:lnTo>
                        <a:pt x="0" y="25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lnTo>
                        <a:pt x="10" y="2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4236840" y="3387600"/>
                  <a:ext cx="84960" cy="66240"/>
                </a:xfrm>
                <a:custGeom>
                  <a:avLst/>
                  <a:gdLst/>
                  <a:ahLst/>
                  <a:rect l="l" t="t" r="r" b="b"/>
                  <a:pathLst>
                    <a:path w="136" h="107">
                      <a:moveTo>
                        <a:pt x="9" y="107"/>
                      </a:moveTo>
                      <a:lnTo>
                        <a:pt x="9" y="98"/>
                      </a:ln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0" y="98"/>
                      </a:lnTo>
                      <a:lnTo>
                        <a:pt x="9" y="107"/>
                      </a:lnTo>
                      <a:lnTo>
                        <a:pt x="9" y="98"/>
                      </a:lnTo>
                      <a:lnTo>
                        <a:pt x="9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4207680" y="3430800"/>
                  <a:ext cx="35280" cy="23040"/>
                </a:xfrm>
                <a:custGeom>
                  <a:avLst/>
                  <a:gdLst/>
                  <a:ahLst/>
                  <a:rect l="l" t="t" r="r" b="b"/>
                  <a:pathLst>
                    <a:path w="58" h="38">
                      <a:moveTo>
                        <a:pt x="0" y="9"/>
                      </a:move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20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9" y="38"/>
                      </a:lnTo>
                      <a:lnTo>
                        <a:pt x="58" y="38"/>
                      </a:lnTo>
                      <a:lnTo>
                        <a:pt x="49" y="29"/>
                      </a:lnTo>
                      <a:lnTo>
                        <a:pt x="39" y="29"/>
                      </a:lnTo>
                      <a:lnTo>
                        <a:pt x="20" y="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4165920" y="343080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68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68" y="9"/>
                      </a:lnTo>
                      <a:lnTo>
                        <a:pt x="68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4105800" y="3382920"/>
                  <a:ext cx="65880" cy="47880"/>
                </a:xfrm>
                <a:custGeom>
                  <a:avLst/>
                  <a:gdLst/>
                  <a:ahLst/>
                  <a:rect l="l" t="t" r="r" b="b"/>
                  <a:pathLst>
                    <a:path w="107" h="78">
                      <a:moveTo>
                        <a:pt x="0" y="9"/>
                      </a:moveTo>
                      <a:lnTo>
                        <a:pt x="19" y="19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78" y="58"/>
                      </a:lnTo>
                      <a:lnTo>
                        <a:pt x="87" y="68"/>
                      </a:lnTo>
                      <a:lnTo>
                        <a:pt x="97" y="78"/>
                      </a:lnTo>
                      <a:lnTo>
                        <a:pt x="107" y="78"/>
                      </a:lnTo>
                      <a:lnTo>
                        <a:pt x="97" y="58"/>
                      </a:lnTo>
                      <a:lnTo>
                        <a:pt x="87" y="48"/>
                      </a:lnTo>
                      <a:lnTo>
                        <a:pt x="68" y="39"/>
                      </a:lnTo>
                      <a:lnTo>
                        <a:pt x="58" y="39"/>
                      </a:lnTo>
                      <a:lnTo>
                        <a:pt x="48" y="29"/>
                      </a:lnTo>
                      <a:lnTo>
                        <a:pt x="39" y="19"/>
                      </a:lnTo>
                      <a:lnTo>
                        <a:pt x="19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3997800" y="3382920"/>
                  <a:ext cx="108000" cy="4320"/>
                </a:xfrm>
                <a:custGeom>
                  <a:avLst/>
                  <a:gdLst/>
                  <a:ahLst/>
                  <a:rect l="l" t="t" r="r" b="b"/>
                  <a:pathLst>
                    <a:path w="175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9" y="9"/>
                      </a:lnTo>
                      <a:lnTo>
                        <a:pt x="48" y="9"/>
                      </a:lnTo>
                      <a:lnTo>
                        <a:pt x="58" y="9"/>
                      </a:lnTo>
                      <a:lnTo>
                        <a:pt x="175" y="9"/>
                      </a:lnTo>
                      <a:lnTo>
                        <a:pt x="175" y="0"/>
                      </a:lnTo>
                      <a:lnTo>
                        <a:pt x="58" y="0"/>
                      </a:lnTo>
                      <a:lnTo>
                        <a:pt x="48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3972960" y="3262680"/>
                  <a:ext cx="29160" cy="120240"/>
                </a:xfrm>
                <a:custGeom>
                  <a:avLst/>
                  <a:gdLst/>
                  <a:ahLst/>
                  <a:rect l="l" t="t" r="r" b="b"/>
                  <a:pathLst>
                    <a:path w="48" h="195">
                      <a:moveTo>
                        <a:pt x="0" y="0"/>
                      </a:moveTo>
                      <a:lnTo>
                        <a:pt x="0" y="78"/>
                      </a:lnTo>
                      <a:lnTo>
                        <a:pt x="0" y="107"/>
                      </a:lnTo>
                      <a:lnTo>
                        <a:pt x="10" y="126"/>
                      </a:lnTo>
                      <a:lnTo>
                        <a:pt x="19" y="146"/>
                      </a:lnTo>
                      <a:lnTo>
                        <a:pt x="29" y="175"/>
                      </a:lnTo>
                      <a:lnTo>
                        <a:pt x="39" y="195"/>
                      </a:lnTo>
                      <a:lnTo>
                        <a:pt x="48" y="195"/>
                      </a:lnTo>
                      <a:lnTo>
                        <a:pt x="39" y="175"/>
                      </a:lnTo>
                      <a:lnTo>
                        <a:pt x="19" y="146"/>
                      </a:lnTo>
                      <a:lnTo>
                        <a:pt x="19" y="126"/>
                      </a:lnTo>
                      <a:lnTo>
                        <a:pt x="10" y="107"/>
                      </a:lnTo>
                      <a:lnTo>
                        <a:pt x="10" y="78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3972960" y="3177720"/>
                  <a:ext cx="78480" cy="84600"/>
                </a:xfrm>
                <a:custGeom>
                  <a:avLst/>
                  <a:gdLst/>
                  <a:ahLst/>
                  <a:rect l="l" t="t" r="r" b="b"/>
                  <a:pathLst>
                    <a:path w="126" h="136">
                      <a:moveTo>
                        <a:pt x="126" y="0"/>
                      </a:moveTo>
                      <a:lnTo>
                        <a:pt x="117" y="0"/>
                      </a:lnTo>
                      <a:lnTo>
                        <a:pt x="107" y="9"/>
                      </a:lnTo>
                      <a:lnTo>
                        <a:pt x="97" y="19"/>
                      </a:lnTo>
                      <a:lnTo>
                        <a:pt x="87" y="19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58" y="48"/>
                      </a:lnTo>
                      <a:lnTo>
                        <a:pt x="48" y="48"/>
                      </a:lnTo>
                      <a:lnTo>
                        <a:pt x="19" y="77"/>
                      </a:lnTo>
                      <a:lnTo>
                        <a:pt x="19" y="87"/>
                      </a:lnTo>
                      <a:lnTo>
                        <a:pt x="10" y="97"/>
                      </a:lnTo>
                      <a:lnTo>
                        <a:pt x="0" y="107"/>
                      </a:lnTo>
                      <a:lnTo>
                        <a:pt x="0" y="11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10" y="107"/>
                      </a:lnTo>
                      <a:lnTo>
                        <a:pt x="19" y="107"/>
                      </a:lnTo>
                      <a:lnTo>
                        <a:pt x="19" y="97"/>
                      </a:lnTo>
                      <a:lnTo>
                        <a:pt x="68" y="48"/>
                      </a:lnTo>
                      <a:lnTo>
                        <a:pt x="78" y="48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07" y="19"/>
                      </a:lnTo>
                      <a:lnTo>
                        <a:pt x="117" y="19"/>
                      </a:lnTo>
                      <a:lnTo>
                        <a:pt x="126" y="9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4051800" y="3159360"/>
                  <a:ext cx="124920" cy="24480"/>
                </a:xfrm>
                <a:custGeom>
                  <a:avLst/>
                  <a:gdLst/>
                  <a:ahLst/>
                  <a:rect l="l" t="t" r="r" b="b"/>
                  <a:pathLst>
                    <a:path w="204" h="39">
                      <a:moveTo>
                        <a:pt x="204" y="10"/>
                      </a:moveTo>
                      <a:lnTo>
                        <a:pt x="185" y="0"/>
                      </a:lnTo>
                      <a:lnTo>
                        <a:pt x="175" y="10"/>
                      </a:lnTo>
                      <a:lnTo>
                        <a:pt x="166" y="10"/>
                      </a:lnTo>
                      <a:lnTo>
                        <a:pt x="156" y="10"/>
                      </a:lnTo>
                      <a:lnTo>
                        <a:pt x="136" y="10"/>
                      </a:lnTo>
                      <a:lnTo>
                        <a:pt x="127" y="10"/>
                      </a:lnTo>
                      <a:lnTo>
                        <a:pt x="117" y="20"/>
                      </a:lnTo>
                      <a:lnTo>
                        <a:pt x="97" y="20"/>
                      </a:lnTo>
                      <a:lnTo>
                        <a:pt x="88" y="20"/>
                      </a:lnTo>
                      <a:lnTo>
                        <a:pt x="78" y="30"/>
                      </a:lnTo>
                      <a:lnTo>
                        <a:pt x="39" y="30"/>
                      </a:lnTo>
                      <a:lnTo>
                        <a:pt x="29" y="30"/>
                      </a:lnTo>
                      <a:lnTo>
                        <a:pt x="2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0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9" y="39"/>
                      </a:lnTo>
                      <a:lnTo>
                        <a:pt x="78" y="39"/>
                      </a:lnTo>
                      <a:lnTo>
                        <a:pt x="88" y="30"/>
                      </a:lnTo>
                      <a:lnTo>
                        <a:pt x="107" y="30"/>
                      </a:lnTo>
                      <a:lnTo>
                        <a:pt x="117" y="30"/>
                      </a:lnTo>
                      <a:lnTo>
                        <a:pt x="127" y="20"/>
                      </a:lnTo>
                      <a:lnTo>
                        <a:pt x="136" y="20"/>
                      </a:lnTo>
                      <a:lnTo>
                        <a:pt x="156" y="20"/>
                      </a:lnTo>
                      <a:lnTo>
                        <a:pt x="166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lnTo>
                        <a:pt x="20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4176720" y="308808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6">
                      <a:moveTo>
                        <a:pt x="49" y="0"/>
                      </a:moveTo>
                      <a:lnTo>
                        <a:pt x="49" y="0"/>
                      </a:lnTo>
                      <a:lnTo>
                        <a:pt x="49" y="19"/>
                      </a:lnTo>
                      <a:lnTo>
                        <a:pt x="39" y="38"/>
                      </a:lnTo>
                      <a:lnTo>
                        <a:pt x="39" y="58"/>
                      </a:lnTo>
                      <a:lnTo>
                        <a:pt x="30" y="68"/>
                      </a:lnTo>
                      <a:lnTo>
                        <a:pt x="30" y="87"/>
                      </a:lnTo>
                      <a:lnTo>
                        <a:pt x="20" y="9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30" y="107"/>
                      </a:lnTo>
                      <a:lnTo>
                        <a:pt x="39" y="87"/>
                      </a:lnTo>
                      <a:lnTo>
                        <a:pt x="39" y="77"/>
                      </a:lnTo>
                      <a:lnTo>
                        <a:pt x="49" y="58"/>
                      </a:lnTo>
                      <a:lnTo>
                        <a:pt x="49" y="38"/>
                      </a:lnTo>
                      <a:lnTo>
                        <a:pt x="59" y="19"/>
                      </a:lnTo>
                      <a:lnTo>
                        <a:pt x="59" y="0"/>
                      </a:lnTo>
                      <a:lnTo>
                        <a:pt x="59" y="9"/>
                      </a:lnTo>
                      <a:lnTo>
                        <a:pt x="49" y="0"/>
                      </a:lnTo>
                      <a:lnTo>
                        <a:pt x="49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4207680" y="3081960"/>
                  <a:ext cx="23040" cy="1260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39" y="10"/>
                      </a:moveTo>
                      <a:lnTo>
                        <a:pt x="39" y="10"/>
                      </a:lnTo>
                      <a:lnTo>
                        <a:pt x="29" y="10"/>
                      </a:lnTo>
                      <a:lnTo>
                        <a:pt x="2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39" y="19"/>
                      </a:lnTo>
                      <a:lnTo>
                        <a:pt x="29" y="19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3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4224600" y="3088080"/>
                  <a:ext cx="66240" cy="53640"/>
                </a:xfrm>
                <a:custGeom>
                  <a:avLst/>
                  <a:gdLst/>
                  <a:ahLst/>
                  <a:rect l="l" t="t" r="r" b="b"/>
                  <a:pathLst>
                    <a:path w="107" h="87">
                      <a:moveTo>
                        <a:pt x="107" y="77"/>
                      </a:moveTo>
                      <a:lnTo>
                        <a:pt x="88" y="77"/>
                      </a:lnTo>
                      <a:lnTo>
                        <a:pt x="78" y="68"/>
                      </a:lnTo>
                      <a:lnTo>
                        <a:pt x="68" y="48"/>
                      </a:lnTo>
                      <a:lnTo>
                        <a:pt x="59" y="38"/>
                      </a:lnTo>
                      <a:lnTo>
                        <a:pt x="3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49" y="48"/>
                      </a:lnTo>
                      <a:lnTo>
                        <a:pt x="59" y="58"/>
                      </a:lnTo>
                      <a:lnTo>
                        <a:pt x="68" y="68"/>
                      </a:lnTo>
                      <a:lnTo>
                        <a:pt x="88" y="77"/>
                      </a:lnTo>
                      <a:lnTo>
                        <a:pt x="98" y="87"/>
                      </a:lnTo>
                      <a:lnTo>
                        <a:pt x="107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3985560" y="3100320"/>
                  <a:ext cx="346680" cy="336240"/>
                </a:xfrm>
                <a:custGeom>
                  <a:avLst/>
                  <a:gdLst/>
                  <a:ahLst/>
                  <a:rect l="l" t="t" r="r" b="b"/>
                  <a:pathLst>
                    <a:path w="564" h="545">
                      <a:moveTo>
                        <a:pt x="467" y="68"/>
                      </a:moveTo>
                      <a:lnTo>
                        <a:pt x="487" y="88"/>
                      </a:lnTo>
                      <a:lnTo>
                        <a:pt x="496" y="107"/>
                      </a:lnTo>
                      <a:lnTo>
                        <a:pt x="496" y="127"/>
                      </a:lnTo>
                      <a:lnTo>
                        <a:pt x="506" y="146"/>
                      </a:lnTo>
                      <a:lnTo>
                        <a:pt x="516" y="175"/>
                      </a:lnTo>
                      <a:lnTo>
                        <a:pt x="525" y="195"/>
                      </a:lnTo>
                      <a:lnTo>
                        <a:pt x="545" y="214"/>
                      </a:lnTo>
                      <a:lnTo>
                        <a:pt x="555" y="234"/>
                      </a:lnTo>
                      <a:lnTo>
                        <a:pt x="564" y="263"/>
                      </a:lnTo>
                      <a:lnTo>
                        <a:pt x="564" y="321"/>
                      </a:lnTo>
                      <a:lnTo>
                        <a:pt x="555" y="351"/>
                      </a:lnTo>
                      <a:lnTo>
                        <a:pt x="555" y="380"/>
                      </a:lnTo>
                      <a:lnTo>
                        <a:pt x="545" y="409"/>
                      </a:lnTo>
                      <a:lnTo>
                        <a:pt x="535" y="438"/>
                      </a:lnTo>
                      <a:lnTo>
                        <a:pt x="525" y="458"/>
                      </a:lnTo>
                      <a:lnTo>
                        <a:pt x="409" y="545"/>
                      </a:lnTo>
                      <a:lnTo>
                        <a:pt x="399" y="545"/>
                      </a:lnTo>
                      <a:lnTo>
                        <a:pt x="389" y="545"/>
                      </a:lnTo>
                      <a:lnTo>
                        <a:pt x="380" y="526"/>
                      </a:lnTo>
                      <a:lnTo>
                        <a:pt x="370" y="516"/>
                      </a:lnTo>
                      <a:lnTo>
                        <a:pt x="370" y="516"/>
                      </a:lnTo>
                      <a:lnTo>
                        <a:pt x="311" y="516"/>
                      </a:lnTo>
                      <a:lnTo>
                        <a:pt x="214" y="458"/>
                      </a:lnTo>
                      <a:lnTo>
                        <a:pt x="204" y="448"/>
                      </a:lnTo>
                      <a:lnTo>
                        <a:pt x="59" y="448"/>
                      </a:lnTo>
                      <a:lnTo>
                        <a:pt x="39" y="448"/>
                      </a:lnTo>
                      <a:lnTo>
                        <a:pt x="29" y="438"/>
                      </a:lnTo>
                      <a:lnTo>
                        <a:pt x="20" y="428"/>
                      </a:lnTo>
                      <a:lnTo>
                        <a:pt x="20" y="409"/>
                      </a:lnTo>
                      <a:lnTo>
                        <a:pt x="10" y="389"/>
                      </a:lnTo>
                      <a:lnTo>
                        <a:pt x="0" y="370"/>
                      </a:lnTo>
                      <a:lnTo>
                        <a:pt x="0" y="341"/>
                      </a:lnTo>
                      <a:lnTo>
                        <a:pt x="0" y="321"/>
                      </a:lnTo>
                      <a:lnTo>
                        <a:pt x="0" y="292"/>
                      </a:lnTo>
                      <a:lnTo>
                        <a:pt x="0" y="273"/>
                      </a:lnTo>
                      <a:lnTo>
                        <a:pt x="10" y="243"/>
                      </a:lnTo>
                      <a:lnTo>
                        <a:pt x="20" y="224"/>
                      </a:lnTo>
                      <a:lnTo>
                        <a:pt x="20" y="214"/>
                      </a:lnTo>
                      <a:lnTo>
                        <a:pt x="29" y="204"/>
                      </a:lnTo>
                      <a:lnTo>
                        <a:pt x="39" y="195"/>
                      </a:lnTo>
                      <a:lnTo>
                        <a:pt x="49" y="195"/>
                      </a:lnTo>
                      <a:lnTo>
                        <a:pt x="59" y="175"/>
                      </a:lnTo>
                      <a:lnTo>
                        <a:pt x="68" y="175"/>
                      </a:lnTo>
                      <a:lnTo>
                        <a:pt x="88" y="156"/>
                      </a:lnTo>
                      <a:lnTo>
                        <a:pt x="98" y="146"/>
                      </a:lnTo>
                      <a:lnTo>
                        <a:pt x="107" y="146"/>
                      </a:lnTo>
                      <a:lnTo>
                        <a:pt x="117" y="146"/>
                      </a:lnTo>
                      <a:lnTo>
                        <a:pt x="136" y="146"/>
                      </a:lnTo>
                      <a:lnTo>
                        <a:pt x="146" y="146"/>
                      </a:lnTo>
                      <a:lnTo>
                        <a:pt x="185" y="146"/>
                      </a:lnTo>
                      <a:lnTo>
                        <a:pt x="195" y="146"/>
                      </a:lnTo>
                      <a:lnTo>
                        <a:pt x="195" y="136"/>
                      </a:lnTo>
                      <a:lnTo>
                        <a:pt x="214" y="136"/>
                      </a:lnTo>
                      <a:lnTo>
                        <a:pt x="224" y="136"/>
                      </a:lnTo>
                      <a:lnTo>
                        <a:pt x="234" y="136"/>
                      </a:lnTo>
                      <a:lnTo>
                        <a:pt x="243" y="127"/>
                      </a:lnTo>
                      <a:lnTo>
                        <a:pt x="253" y="127"/>
                      </a:lnTo>
                      <a:lnTo>
                        <a:pt x="263" y="127"/>
                      </a:lnTo>
                      <a:lnTo>
                        <a:pt x="282" y="127"/>
                      </a:lnTo>
                      <a:lnTo>
                        <a:pt x="292" y="117"/>
                      </a:lnTo>
                      <a:lnTo>
                        <a:pt x="311" y="117"/>
                      </a:lnTo>
                      <a:lnTo>
                        <a:pt x="321" y="117"/>
                      </a:lnTo>
                      <a:lnTo>
                        <a:pt x="331" y="117"/>
                      </a:lnTo>
                      <a:lnTo>
                        <a:pt x="350" y="97"/>
                      </a:lnTo>
                      <a:lnTo>
                        <a:pt x="360" y="78"/>
                      </a:lnTo>
                      <a:lnTo>
                        <a:pt x="370" y="58"/>
                      </a:lnTo>
                      <a:lnTo>
                        <a:pt x="370" y="49"/>
                      </a:lnTo>
                      <a:lnTo>
                        <a:pt x="370" y="29"/>
                      </a:lnTo>
                      <a:lnTo>
                        <a:pt x="370" y="19"/>
                      </a:lnTo>
                      <a:lnTo>
                        <a:pt x="380" y="0"/>
                      </a:lnTo>
                      <a:lnTo>
                        <a:pt x="389" y="10"/>
                      </a:lnTo>
                      <a:lnTo>
                        <a:pt x="409" y="19"/>
                      </a:lnTo>
                      <a:lnTo>
                        <a:pt x="438" y="49"/>
                      </a:lnTo>
                      <a:lnTo>
                        <a:pt x="448" y="58"/>
                      </a:lnTo>
                      <a:lnTo>
                        <a:pt x="457" y="58"/>
                      </a:lnTo>
                      <a:lnTo>
                        <a:pt x="467" y="68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4273560" y="3142080"/>
                  <a:ext cx="54000" cy="101880"/>
                </a:xfrm>
                <a:custGeom>
                  <a:avLst/>
                  <a:gdLst/>
                  <a:ahLst/>
                  <a:rect l="l" t="t" r="r" b="b"/>
                  <a:pathLst>
                    <a:path w="88" h="166">
                      <a:moveTo>
                        <a:pt x="88" y="166"/>
                      </a:moveTo>
                      <a:lnTo>
                        <a:pt x="88" y="156"/>
                      </a:lnTo>
                      <a:lnTo>
                        <a:pt x="78" y="146"/>
                      </a:lnTo>
                      <a:lnTo>
                        <a:pt x="68" y="127"/>
                      </a:lnTo>
                      <a:lnTo>
                        <a:pt x="58" y="107"/>
                      </a:lnTo>
                      <a:lnTo>
                        <a:pt x="49" y="78"/>
                      </a:lnTo>
                      <a:lnTo>
                        <a:pt x="39" y="59"/>
                      </a:lnTo>
                      <a:lnTo>
                        <a:pt x="29" y="39"/>
                      </a:lnTo>
                      <a:lnTo>
                        <a:pt x="20" y="2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20" y="39"/>
                      </a:lnTo>
                      <a:lnTo>
                        <a:pt x="29" y="68"/>
                      </a:lnTo>
                      <a:lnTo>
                        <a:pt x="39" y="88"/>
                      </a:lnTo>
                      <a:lnTo>
                        <a:pt x="49" y="107"/>
                      </a:lnTo>
                      <a:lnTo>
                        <a:pt x="58" y="127"/>
                      </a:lnTo>
                      <a:lnTo>
                        <a:pt x="68" y="14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66"/>
                      </a:lnTo>
                      <a:lnTo>
                        <a:pt x="88" y="156"/>
                      </a:lnTo>
                      <a:lnTo>
                        <a:pt x="88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4309560" y="3243960"/>
                  <a:ext cx="23040" cy="138960"/>
                </a:xfrm>
                <a:custGeom>
                  <a:avLst/>
                  <a:gdLst/>
                  <a:ahLst/>
                  <a:rect l="l" t="t" r="r" b="b"/>
                  <a:pathLst>
                    <a:path w="39" h="224">
                      <a:moveTo>
                        <a:pt x="10" y="224"/>
                      </a:moveTo>
                      <a:lnTo>
                        <a:pt x="20" y="204"/>
                      </a:lnTo>
                      <a:lnTo>
                        <a:pt x="20" y="175"/>
                      </a:lnTo>
                      <a:lnTo>
                        <a:pt x="30" y="146"/>
                      </a:lnTo>
                      <a:lnTo>
                        <a:pt x="39" y="117"/>
                      </a:lnTo>
                      <a:lnTo>
                        <a:pt x="39" y="87"/>
                      </a:lnTo>
                      <a:lnTo>
                        <a:pt x="39" y="29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0" y="29"/>
                      </a:lnTo>
                      <a:lnTo>
                        <a:pt x="30" y="87"/>
                      </a:lnTo>
                      <a:lnTo>
                        <a:pt x="30" y="117"/>
                      </a:lnTo>
                      <a:lnTo>
                        <a:pt x="20" y="146"/>
                      </a:lnTo>
                      <a:lnTo>
                        <a:pt x="20" y="175"/>
                      </a:lnTo>
                      <a:lnTo>
                        <a:pt x="10" y="194"/>
                      </a:lnTo>
                      <a:lnTo>
                        <a:pt x="0" y="224"/>
                      </a:lnTo>
                      <a:lnTo>
                        <a:pt x="0" y="224"/>
                      </a:lnTo>
                      <a:lnTo>
                        <a:pt x="10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4236840" y="3382920"/>
                  <a:ext cx="78480" cy="53640"/>
                </a:xfrm>
                <a:custGeom>
                  <a:avLst/>
                  <a:gdLst/>
                  <a:ahLst/>
                  <a:rect l="l" t="t" r="r" b="b"/>
                  <a:pathLst>
                    <a:path w="126" h="87">
                      <a:moveTo>
                        <a:pt x="0" y="87"/>
                      </a:moveTo>
                      <a:lnTo>
                        <a:pt x="9" y="87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0" y="87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4213440" y="3412440"/>
                  <a:ext cx="23040" cy="2448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0" y="10"/>
                      </a:move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39" y="39"/>
                      </a:lnTo>
                      <a:lnTo>
                        <a:pt x="29" y="39"/>
                      </a:lnTo>
                      <a:lnTo>
                        <a:pt x="10" y="2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4176720" y="3412440"/>
                  <a:ext cx="36720" cy="12240"/>
                </a:xfrm>
                <a:custGeom>
                  <a:avLst/>
                  <a:gdLst/>
                  <a:ahLst/>
                  <a:rect l="l" t="t" r="r" b="b"/>
                  <a:pathLst>
                    <a:path w="59" h="20">
                      <a:moveTo>
                        <a:pt x="0" y="20"/>
                      </a:moveTo>
                      <a:lnTo>
                        <a:pt x="59" y="10"/>
                      </a:lnTo>
                      <a:lnTo>
                        <a:pt x="59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4116600" y="337716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97" y="78"/>
                      </a:lnTo>
                      <a:lnTo>
                        <a:pt x="97" y="68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4057920" y="3377160"/>
                  <a:ext cx="58680" cy="5760"/>
                </a:xfrm>
                <a:custGeom>
                  <a:avLst/>
                  <a:gdLst/>
                  <a:ahLst/>
                  <a:rect l="l" t="t" r="r" b="b"/>
                  <a:pathLst>
                    <a:path w="97" h="10">
                      <a:moveTo>
                        <a:pt x="0" y="10"/>
                      </a:moveTo>
                      <a:lnTo>
                        <a:pt x="87" y="10"/>
                      </a:lnTo>
                      <a:lnTo>
                        <a:pt x="97" y="1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3991320" y="3352320"/>
                  <a:ext cx="66240" cy="30600"/>
                </a:xfrm>
                <a:custGeom>
                  <a:avLst/>
                  <a:gdLst/>
                  <a:ahLst/>
                  <a:rect l="l" t="t" r="r" b="b"/>
                  <a:pathLst>
                    <a:path w="107" h="49">
                      <a:moveTo>
                        <a:pt x="0" y="0"/>
                      </a:moveTo>
                      <a:lnTo>
                        <a:pt x="10" y="1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49" y="49"/>
                      </a:lnTo>
                      <a:lnTo>
                        <a:pt x="107" y="49"/>
                      </a:lnTo>
                      <a:lnTo>
                        <a:pt x="107" y="39"/>
                      </a:lnTo>
                      <a:lnTo>
                        <a:pt x="4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10" y="19"/>
                      </a:lnTo>
                      <a:lnTo>
                        <a:pt x="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3979080" y="3237840"/>
                  <a:ext cx="18360" cy="114120"/>
                </a:xfrm>
                <a:custGeom>
                  <a:avLst/>
                  <a:gdLst/>
                  <a:ahLst/>
                  <a:rect l="l" t="t" r="r" b="b"/>
                  <a:pathLst>
                    <a:path w="29" h="185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9" y="49"/>
                      </a:lnTo>
                      <a:lnTo>
                        <a:pt x="0" y="68"/>
                      </a:lnTo>
                      <a:lnTo>
                        <a:pt x="0" y="97"/>
                      </a:lnTo>
                      <a:lnTo>
                        <a:pt x="9" y="117"/>
                      </a:lnTo>
                      <a:lnTo>
                        <a:pt x="9" y="146"/>
                      </a:lnTo>
                      <a:lnTo>
                        <a:pt x="9" y="165"/>
                      </a:lnTo>
                      <a:lnTo>
                        <a:pt x="19" y="185"/>
                      </a:lnTo>
                      <a:lnTo>
                        <a:pt x="29" y="185"/>
                      </a:lnTo>
                      <a:lnTo>
                        <a:pt x="19" y="165"/>
                      </a:lnTo>
                      <a:lnTo>
                        <a:pt x="19" y="146"/>
                      </a:lnTo>
                      <a:lnTo>
                        <a:pt x="19" y="117"/>
                      </a:lnTo>
                      <a:lnTo>
                        <a:pt x="9" y="97"/>
                      </a:lnTo>
                      <a:lnTo>
                        <a:pt x="9" y="68"/>
                      </a:lnTo>
                      <a:lnTo>
                        <a:pt x="19" y="49"/>
                      </a:lnTo>
                      <a:lnTo>
                        <a:pt x="19" y="19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3991320" y="3183840"/>
                  <a:ext cx="89280" cy="54000"/>
                </a:xfrm>
                <a:custGeom>
                  <a:avLst/>
                  <a:gdLst/>
                  <a:ahLst/>
                  <a:rect l="l" t="t" r="r" b="b"/>
                  <a:pathLst>
                    <a:path w="146" h="88">
                      <a:moveTo>
                        <a:pt x="146" y="10"/>
                      </a:moveTo>
                      <a:lnTo>
                        <a:pt x="136" y="10"/>
                      </a:lnTo>
                      <a:lnTo>
                        <a:pt x="126" y="0"/>
                      </a:lnTo>
                      <a:lnTo>
                        <a:pt x="107" y="0"/>
                      </a:lnTo>
                      <a:lnTo>
                        <a:pt x="97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30"/>
                      </a:lnTo>
                      <a:lnTo>
                        <a:pt x="49" y="39"/>
                      </a:lnTo>
                      <a:lnTo>
                        <a:pt x="39" y="49"/>
                      </a:lnTo>
                      <a:lnTo>
                        <a:pt x="39" y="59"/>
                      </a:lnTo>
                      <a:lnTo>
                        <a:pt x="29" y="59"/>
                      </a:lnTo>
                      <a:lnTo>
                        <a:pt x="19" y="68"/>
                      </a:lnTo>
                      <a:lnTo>
                        <a:pt x="0" y="88"/>
                      </a:lnTo>
                      <a:lnTo>
                        <a:pt x="10" y="88"/>
                      </a:lnTo>
                      <a:lnTo>
                        <a:pt x="10" y="88"/>
                      </a:lnTo>
                      <a:lnTo>
                        <a:pt x="39" y="59"/>
                      </a:lnTo>
                      <a:lnTo>
                        <a:pt x="49" y="59"/>
                      </a:lnTo>
                      <a:lnTo>
                        <a:pt x="68" y="39"/>
                      </a:lnTo>
                      <a:lnTo>
                        <a:pt x="78" y="30"/>
                      </a:lnTo>
                      <a:lnTo>
                        <a:pt x="88" y="20"/>
                      </a:lnTo>
                      <a:lnTo>
                        <a:pt x="97" y="10"/>
                      </a:lnTo>
                      <a:lnTo>
                        <a:pt x="107" y="10"/>
                      </a:lnTo>
                      <a:lnTo>
                        <a:pt x="136" y="10"/>
                      </a:lnTo>
                      <a:lnTo>
                        <a:pt x="146" y="10"/>
                      </a:lnTo>
                      <a:lnTo>
                        <a:pt x="146" y="20"/>
                      </a:lnTo>
                      <a:lnTo>
                        <a:pt x="146" y="10"/>
                      </a:lnTo>
                      <a:lnTo>
                        <a:pt x="1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4080960" y="3165120"/>
                  <a:ext cx="108000" cy="24840"/>
                </a:xfrm>
                <a:custGeom>
                  <a:avLst/>
                  <a:gdLst/>
                  <a:ahLst/>
                  <a:rect l="l" t="t" r="r" b="b"/>
                  <a:pathLst>
                    <a:path w="175" h="39">
                      <a:moveTo>
                        <a:pt x="165" y="0"/>
                      </a:moveTo>
                      <a:lnTo>
                        <a:pt x="175" y="0"/>
                      </a:lnTo>
                      <a:lnTo>
                        <a:pt x="165" y="0"/>
                      </a:lnTo>
                      <a:lnTo>
                        <a:pt x="155" y="10"/>
                      </a:lnTo>
                      <a:lnTo>
                        <a:pt x="136" y="10"/>
                      </a:lnTo>
                      <a:lnTo>
                        <a:pt x="126" y="10"/>
                      </a:lnTo>
                      <a:lnTo>
                        <a:pt x="117" y="10"/>
                      </a:lnTo>
                      <a:lnTo>
                        <a:pt x="107" y="20"/>
                      </a:lnTo>
                      <a:lnTo>
                        <a:pt x="87" y="2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8" y="29"/>
                      </a:lnTo>
                      <a:lnTo>
                        <a:pt x="39" y="29"/>
                      </a:lnTo>
                      <a:lnTo>
                        <a:pt x="39" y="29"/>
                      </a:lnTo>
                      <a:lnTo>
                        <a:pt x="29" y="39"/>
                      </a:lnTo>
                      <a:lnTo>
                        <a:pt x="10" y="39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19" y="3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58" y="39"/>
                      </a:lnTo>
                      <a:lnTo>
                        <a:pt x="68" y="29"/>
                      </a:lnTo>
                      <a:lnTo>
                        <a:pt x="78" y="29"/>
                      </a:lnTo>
                      <a:lnTo>
                        <a:pt x="87" y="29"/>
                      </a:lnTo>
                      <a:lnTo>
                        <a:pt x="97" y="29"/>
                      </a:lnTo>
                      <a:lnTo>
                        <a:pt x="107" y="20"/>
                      </a:lnTo>
                      <a:lnTo>
                        <a:pt x="126" y="20"/>
                      </a:lnTo>
                      <a:lnTo>
                        <a:pt x="126" y="20"/>
                      </a:lnTo>
                      <a:lnTo>
                        <a:pt x="155" y="20"/>
                      </a:lnTo>
                      <a:lnTo>
                        <a:pt x="165" y="10"/>
                      </a:lnTo>
                      <a:lnTo>
                        <a:pt x="175" y="10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4182840" y="3094560"/>
                  <a:ext cx="36720" cy="76680"/>
                </a:xfrm>
                <a:custGeom>
                  <a:avLst/>
                  <a:gdLst/>
                  <a:ahLst/>
                  <a:rect l="l" t="t" r="r" b="b"/>
                  <a:pathLst>
                    <a:path w="59" h="127">
                      <a:moveTo>
                        <a:pt x="59" y="10"/>
                      </a:moveTo>
                      <a:lnTo>
                        <a:pt x="49" y="10"/>
                      </a:lnTo>
                      <a:lnTo>
                        <a:pt x="49" y="29"/>
                      </a:lnTo>
                      <a:lnTo>
                        <a:pt x="49" y="39"/>
                      </a:lnTo>
                      <a:lnTo>
                        <a:pt x="49" y="59"/>
                      </a:lnTo>
                      <a:lnTo>
                        <a:pt x="39" y="68"/>
                      </a:lnTo>
                      <a:lnTo>
                        <a:pt x="39" y="88"/>
                      </a:lnTo>
                      <a:lnTo>
                        <a:pt x="29" y="98"/>
                      </a:lnTo>
                      <a:lnTo>
                        <a:pt x="20" y="117"/>
                      </a:lnTo>
                      <a:lnTo>
                        <a:pt x="0" y="117"/>
                      </a:lnTo>
                      <a:lnTo>
                        <a:pt x="10" y="127"/>
                      </a:lnTo>
                      <a:lnTo>
                        <a:pt x="29" y="117"/>
                      </a:lnTo>
                      <a:lnTo>
                        <a:pt x="39" y="107"/>
                      </a:lnTo>
                      <a:lnTo>
                        <a:pt x="49" y="88"/>
                      </a:lnTo>
                      <a:lnTo>
                        <a:pt x="49" y="68"/>
                      </a:lnTo>
                      <a:lnTo>
                        <a:pt x="49" y="59"/>
                      </a:lnTo>
                      <a:lnTo>
                        <a:pt x="49" y="39"/>
                      </a:lnTo>
                      <a:lnTo>
                        <a:pt x="59" y="29"/>
                      </a:lnTo>
                      <a:lnTo>
                        <a:pt x="59" y="10"/>
                      </a:lnTo>
                      <a:lnTo>
                        <a:pt x="59" y="20"/>
                      </a:lnTo>
                      <a:lnTo>
                        <a:pt x="59" y="10"/>
                      </a:lnTo>
                      <a:lnTo>
                        <a:pt x="49" y="0"/>
                      </a:lnTo>
                      <a:lnTo>
                        <a:pt x="49" y="10"/>
                      </a:lnTo>
                      <a:lnTo>
                        <a:pt x="59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4219920" y="3100320"/>
                  <a:ext cx="60120" cy="47880"/>
                </a:xfrm>
                <a:custGeom>
                  <a:avLst/>
                  <a:gdLst/>
                  <a:ahLst/>
                  <a:rect l="l" t="t" r="r" b="b"/>
                  <a:pathLst>
                    <a:path w="97" h="78">
                      <a:moveTo>
                        <a:pt x="97" y="68"/>
                      </a:moveTo>
                      <a:lnTo>
                        <a:pt x="87" y="68"/>
                      </a:lnTo>
                      <a:lnTo>
                        <a:pt x="77" y="58"/>
                      </a:lnTo>
                      <a:lnTo>
                        <a:pt x="68" y="58"/>
                      </a:lnTo>
                      <a:lnTo>
                        <a:pt x="58" y="49"/>
                      </a:lnTo>
                      <a:lnTo>
                        <a:pt x="48" y="29"/>
                      </a:lnTo>
                      <a:lnTo>
                        <a:pt x="29" y="19"/>
                      </a:lnTo>
                      <a:lnTo>
                        <a:pt x="19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29" y="29"/>
                      </a:lnTo>
                      <a:lnTo>
                        <a:pt x="38" y="39"/>
                      </a:lnTo>
                      <a:lnTo>
                        <a:pt x="58" y="58"/>
                      </a:lnTo>
                      <a:lnTo>
                        <a:pt x="77" y="68"/>
                      </a:lnTo>
                      <a:lnTo>
                        <a:pt x="87" y="78"/>
                      </a:lnTo>
                      <a:lnTo>
                        <a:pt x="97" y="68"/>
                      </a:lnTo>
                      <a:lnTo>
                        <a:pt x="87" y="68"/>
                      </a:lnTo>
                      <a:lnTo>
                        <a:pt x="97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4290840" y="3387600"/>
                  <a:ext cx="89280" cy="91080"/>
                </a:xfrm>
                <a:custGeom>
                  <a:avLst/>
                  <a:gdLst/>
                  <a:ahLst/>
                  <a:rect l="l" t="t" r="r" b="b"/>
                  <a:pathLst>
                    <a:path w="146" h="146">
                      <a:moveTo>
                        <a:pt x="117" y="117"/>
                      </a:moveTo>
                      <a:lnTo>
                        <a:pt x="107" y="117"/>
                      </a:lnTo>
                      <a:lnTo>
                        <a:pt x="107" y="127"/>
                      </a:lnTo>
                      <a:lnTo>
                        <a:pt x="98" y="127"/>
                      </a:lnTo>
                      <a:lnTo>
                        <a:pt x="88" y="137"/>
                      </a:lnTo>
                      <a:lnTo>
                        <a:pt x="88" y="137"/>
                      </a:lnTo>
                      <a:lnTo>
                        <a:pt x="78" y="137"/>
                      </a:lnTo>
                      <a:lnTo>
                        <a:pt x="59" y="137"/>
                      </a:lnTo>
                      <a:lnTo>
                        <a:pt x="49" y="146"/>
                      </a:lnTo>
                      <a:lnTo>
                        <a:pt x="49" y="146"/>
                      </a:lnTo>
                      <a:lnTo>
                        <a:pt x="39" y="137"/>
                      </a:lnTo>
                      <a:lnTo>
                        <a:pt x="29" y="137"/>
                      </a:lnTo>
                      <a:lnTo>
                        <a:pt x="20" y="137"/>
                      </a:lnTo>
                      <a:lnTo>
                        <a:pt x="10" y="137"/>
                      </a:lnTo>
                      <a:lnTo>
                        <a:pt x="0" y="127"/>
                      </a:lnTo>
                      <a:lnTo>
                        <a:pt x="10" y="117"/>
                      </a:lnTo>
                      <a:lnTo>
                        <a:pt x="10" y="107"/>
                      </a:lnTo>
                      <a:lnTo>
                        <a:pt x="20" y="98"/>
                      </a:lnTo>
                      <a:lnTo>
                        <a:pt x="29" y="88"/>
                      </a:lnTo>
                      <a:lnTo>
                        <a:pt x="39" y="78"/>
                      </a:lnTo>
                      <a:lnTo>
                        <a:pt x="59" y="59"/>
                      </a:lnTo>
                      <a:lnTo>
                        <a:pt x="68" y="49"/>
                      </a:lnTo>
                      <a:lnTo>
                        <a:pt x="88" y="30"/>
                      </a:lnTo>
                      <a:lnTo>
                        <a:pt x="98" y="30"/>
                      </a:lnTo>
                      <a:lnTo>
                        <a:pt x="107" y="20"/>
                      </a:lnTo>
                      <a:lnTo>
                        <a:pt x="117" y="20"/>
                      </a:lnTo>
                      <a:lnTo>
                        <a:pt x="136" y="0"/>
                      </a:lnTo>
                      <a:lnTo>
                        <a:pt x="136" y="10"/>
                      </a:lnTo>
                      <a:lnTo>
                        <a:pt x="146" y="30"/>
                      </a:lnTo>
                      <a:lnTo>
                        <a:pt x="146" y="39"/>
                      </a:lnTo>
                      <a:lnTo>
                        <a:pt x="136" y="59"/>
                      </a:lnTo>
                      <a:lnTo>
                        <a:pt x="136" y="78"/>
                      </a:lnTo>
                      <a:lnTo>
                        <a:pt x="127" y="88"/>
                      </a:lnTo>
                      <a:lnTo>
                        <a:pt x="127" y="107"/>
                      </a:lnTo>
                      <a:lnTo>
                        <a:pt x="117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4290840" y="3460320"/>
                  <a:ext cx="72360" cy="18360"/>
                </a:xfrm>
                <a:custGeom>
                  <a:avLst/>
                  <a:gdLst/>
                  <a:ahLst/>
                  <a:rect l="l" t="t" r="r" b="b"/>
                  <a:pathLst>
                    <a:path w="117" h="29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10" y="20"/>
                      </a:lnTo>
                      <a:lnTo>
                        <a:pt x="20" y="20"/>
                      </a:lnTo>
                      <a:lnTo>
                        <a:pt x="29" y="29"/>
                      </a:lnTo>
                      <a:lnTo>
                        <a:pt x="39" y="29"/>
                      </a:lnTo>
                      <a:lnTo>
                        <a:pt x="49" y="29"/>
                      </a:lnTo>
                      <a:lnTo>
                        <a:pt x="49" y="29"/>
                      </a:lnTo>
                      <a:lnTo>
                        <a:pt x="59" y="29"/>
                      </a:lnTo>
                      <a:lnTo>
                        <a:pt x="78" y="29"/>
                      </a:lnTo>
                      <a:lnTo>
                        <a:pt x="88" y="20"/>
                      </a:lnTo>
                      <a:lnTo>
                        <a:pt x="88" y="20"/>
                      </a:lnTo>
                      <a:lnTo>
                        <a:pt x="98" y="20"/>
                      </a:lnTo>
                      <a:lnTo>
                        <a:pt x="107" y="10"/>
                      </a:lnTo>
                      <a:lnTo>
                        <a:pt x="117" y="10"/>
                      </a:lnTo>
                      <a:lnTo>
                        <a:pt x="117" y="0"/>
                      </a:lnTo>
                      <a:lnTo>
                        <a:pt x="117" y="0"/>
                      </a:lnTo>
                      <a:lnTo>
                        <a:pt x="107" y="0"/>
                      </a:lnTo>
                      <a:lnTo>
                        <a:pt x="98" y="0"/>
                      </a:lnTo>
                      <a:lnTo>
                        <a:pt x="98" y="10"/>
                      </a:lnTo>
                      <a:lnTo>
                        <a:pt x="88" y="10"/>
                      </a:lnTo>
                      <a:lnTo>
                        <a:pt x="88" y="10"/>
                      </a:lnTo>
                      <a:lnTo>
                        <a:pt x="78" y="20"/>
                      </a:lnTo>
                      <a:lnTo>
                        <a:pt x="68" y="20"/>
                      </a:lnTo>
                      <a:lnTo>
                        <a:pt x="59" y="20"/>
                      </a:lnTo>
                      <a:lnTo>
                        <a:pt x="39" y="20"/>
                      </a:lnTo>
                      <a:lnTo>
                        <a:pt x="29" y="20"/>
                      </a:lnTo>
                      <a:lnTo>
                        <a:pt x="2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4290840" y="3382920"/>
                  <a:ext cx="83160" cy="83160"/>
                </a:xfrm>
                <a:custGeom>
                  <a:avLst/>
                  <a:gdLst/>
                  <a:ahLst/>
                  <a:rect l="l" t="t" r="r" b="b"/>
                  <a:pathLst>
                    <a:path w="136" h="136">
                      <a:moveTo>
                        <a:pt x="136" y="0"/>
                      </a:moveTo>
                      <a:lnTo>
                        <a:pt x="127" y="0"/>
                      </a:lnTo>
                      <a:lnTo>
                        <a:pt x="127" y="9"/>
                      </a:lnTo>
                      <a:lnTo>
                        <a:pt x="117" y="19"/>
                      </a:lnTo>
                      <a:lnTo>
                        <a:pt x="107" y="29"/>
                      </a:lnTo>
                      <a:lnTo>
                        <a:pt x="88" y="39"/>
                      </a:lnTo>
                      <a:lnTo>
                        <a:pt x="88" y="39"/>
                      </a:lnTo>
                      <a:lnTo>
                        <a:pt x="78" y="48"/>
                      </a:lnTo>
                      <a:lnTo>
                        <a:pt x="68" y="58"/>
                      </a:lnTo>
                      <a:lnTo>
                        <a:pt x="59" y="58"/>
                      </a:lnTo>
                      <a:lnTo>
                        <a:pt x="10" y="107"/>
                      </a:lnTo>
                      <a:lnTo>
                        <a:pt x="10" y="116"/>
                      </a:lnTo>
                      <a:lnTo>
                        <a:pt x="0" y="126"/>
                      </a:lnTo>
                      <a:lnTo>
                        <a:pt x="0" y="136"/>
                      </a:lnTo>
                      <a:lnTo>
                        <a:pt x="10" y="136"/>
                      </a:lnTo>
                      <a:lnTo>
                        <a:pt x="10" y="126"/>
                      </a:lnTo>
                      <a:lnTo>
                        <a:pt x="20" y="116"/>
                      </a:lnTo>
                      <a:lnTo>
                        <a:pt x="20" y="107"/>
                      </a:lnTo>
                      <a:lnTo>
                        <a:pt x="29" y="97"/>
                      </a:lnTo>
                      <a:lnTo>
                        <a:pt x="39" y="87"/>
                      </a:lnTo>
                      <a:lnTo>
                        <a:pt x="49" y="87"/>
                      </a:lnTo>
                      <a:lnTo>
                        <a:pt x="49" y="78"/>
                      </a:lnTo>
                      <a:lnTo>
                        <a:pt x="68" y="58"/>
                      </a:lnTo>
                      <a:lnTo>
                        <a:pt x="88" y="58"/>
                      </a:lnTo>
                      <a:lnTo>
                        <a:pt x="88" y="48"/>
                      </a:lnTo>
                      <a:lnTo>
                        <a:pt x="98" y="39"/>
                      </a:lnTo>
                      <a:lnTo>
                        <a:pt x="117" y="29"/>
                      </a:lnTo>
                      <a:lnTo>
                        <a:pt x="127" y="19"/>
                      </a:lnTo>
                      <a:lnTo>
                        <a:pt x="136" y="9"/>
                      </a:lnTo>
                      <a:lnTo>
                        <a:pt x="136" y="9"/>
                      </a:lnTo>
                      <a:lnTo>
                        <a:pt x="136" y="0"/>
                      </a:lnTo>
                      <a:lnTo>
                        <a:pt x="127" y="0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4363200" y="3382920"/>
                  <a:ext cx="16920" cy="77040"/>
                </a:xfrm>
                <a:custGeom>
                  <a:avLst/>
                  <a:gdLst/>
                  <a:ahLst/>
                  <a:rect l="l" t="t" r="r" b="b"/>
                  <a:pathLst>
                    <a:path w="29" h="126">
                      <a:moveTo>
                        <a:pt x="0" y="126"/>
                      </a:moveTo>
                      <a:lnTo>
                        <a:pt x="10" y="126"/>
                      </a:lnTo>
                      <a:lnTo>
                        <a:pt x="10" y="116"/>
                      </a:lnTo>
                      <a:lnTo>
                        <a:pt x="19" y="97"/>
                      </a:lnTo>
                      <a:lnTo>
                        <a:pt x="19" y="87"/>
                      </a:lnTo>
                      <a:lnTo>
                        <a:pt x="29" y="68"/>
                      </a:lnTo>
                      <a:lnTo>
                        <a:pt x="29" y="48"/>
                      </a:lnTo>
                      <a:lnTo>
                        <a:pt x="29" y="39"/>
                      </a:lnTo>
                      <a:lnTo>
                        <a:pt x="29" y="19"/>
                      </a:ln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19" y="19"/>
                      </a:lnTo>
                      <a:lnTo>
                        <a:pt x="19" y="39"/>
                      </a:lnTo>
                      <a:lnTo>
                        <a:pt x="19" y="48"/>
                      </a:lnTo>
                      <a:lnTo>
                        <a:pt x="19" y="68"/>
                      </a:lnTo>
                      <a:lnTo>
                        <a:pt x="19" y="78"/>
                      </a:lnTo>
                      <a:lnTo>
                        <a:pt x="10" y="97"/>
                      </a:lnTo>
                      <a:lnTo>
                        <a:pt x="0" y="11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lnTo>
                        <a:pt x="10" y="126"/>
                      </a:lnTo>
                      <a:lnTo>
                        <a:pt x="1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4303080" y="3400200"/>
                  <a:ext cx="70920" cy="6588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87" y="87"/>
                      </a:moveTo>
                      <a:lnTo>
                        <a:pt x="78" y="97"/>
                      </a:lnTo>
                      <a:lnTo>
                        <a:pt x="68" y="97"/>
                      </a:lnTo>
                      <a:lnTo>
                        <a:pt x="58" y="97"/>
                      </a:lnTo>
                      <a:lnTo>
                        <a:pt x="48" y="97"/>
                      </a:lnTo>
                      <a:lnTo>
                        <a:pt x="39" y="107"/>
                      </a:lnTo>
                      <a:lnTo>
                        <a:pt x="19" y="107"/>
                      </a:lnTo>
                      <a:lnTo>
                        <a:pt x="0" y="97"/>
                      </a:lnTo>
                      <a:lnTo>
                        <a:pt x="9" y="87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48" y="49"/>
                      </a:lnTo>
                      <a:lnTo>
                        <a:pt x="68" y="39"/>
                      </a:lnTo>
                      <a:lnTo>
                        <a:pt x="78" y="19"/>
                      </a:lnTo>
                      <a:lnTo>
                        <a:pt x="97" y="10"/>
                      </a:lnTo>
                      <a:lnTo>
                        <a:pt x="107" y="0"/>
                      </a:lnTo>
                      <a:lnTo>
                        <a:pt x="116" y="10"/>
                      </a:lnTo>
                      <a:lnTo>
                        <a:pt x="107" y="19"/>
                      </a:lnTo>
                      <a:lnTo>
                        <a:pt x="107" y="39"/>
                      </a:lnTo>
                      <a:lnTo>
                        <a:pt x="107" y="49"/>
                      </a:lnTo>
                      <a:lnTo>
                        <a:pt x="97" y="58"/>
                      </a:lnTo>
                      <a:lnTo>
                        <a:pt x="97" y="68"/>
                      </a:lnTo>
                      <a:lnTo>
                        <a:pt x="87" y="78"/>
                      </a:lnTo>
                      <a:lnTo>
                        <a:pt x="87" y="87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4303080" y="3454200"/>
                  <a:ext cx="53640" cy="12240"/>
                </a:xfrm>
                <a:custGeom>
                  <a:avLst/>
                  <a:gdLst/>
                  <a:ahLst/>
                  <a:rect l="l" t="t" r="r" b="b"/>
                  <a:pathLst>
                    <a:path w="87" h="20">
                      <a:moveTo>
                        <a:pt x="0" y="10"/>
                      </a:moveTo>
                      <a:lnTo>
                        <a:pt x="0" y="20"/>
                      </a:lnTo>
                      <a:lnTo>
                        <a:pt x="19" y="20"/>
                      </a:lnTo>
                      <a:lnTo>
                        <a:pt x="48" y="20"/>
                      </a:lnTo>
                      <a:lnTo>
                        <a:pt x="58" y="20"/>
                      </a:lnTo>
                      <a:lnTo>
                        <a:pt x="68" y="10"/>
                      </a:lnTo>
                      <a:lnTo>
                        <a:pt x="78" y="10"/>
                      </a:lnTo>
                      <a:lnTo>
                        <a:pt x="87" y="10"/>
                      </a:lnTo>
                      <a:lnTo>
                        <a:pt x="87" y="0"/>
                      </a:lnTo>
                      <a:lnTo>
                        <a:pt x="78" y="0"/>
                      </a:lnTo>
                      <a:lnTo>
                        <a:pt x="68" y="10"/>
                      </a:lnTo>
                      <a:lnTo>
                        <a:pt x="58" y="10"/>
                      </a:lnTo>
                      <a:lnTo>
                        <a:pt x="48" y="10"/>
                      </a:lnTo>
                      <a:lnTo>
                        <a:pt x="39" y="10"/>
                      </a:lnTo>
                      <a:lnTo>
                        <a:pt x="19" y="1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4303080" y="3393720"/>
                  <a:ext cx="70920" cy="66240"/>
                </a:xfrm>
                <a:custGeom>
                  <a:avLst/>
                  <a:gdLst/>
                  <a:ahLst/>
                  <a:rect l="l" t="t" r="r" b="b"/>
                  <a:pathLst>
                    <a:path w="116" h="107">
                      <a:moveTo>
                        <a:pt x="116" y="10"/>
                      </a:moveTo>
                      <a:lnTo>
                        <a:pt x="107" y="10"/>
                      </a:lnTo>
                      <a:lnTo>
                        <a:pt x="78" y="29"/>
                      </a:lnTo>
                      <a:lnTo>
                        <a:pt x="68" y="39"/>
                      </a:lnTo>
                      <a:lnTo>
                        <a:pt x="48" y="59"/>
                      </a:lnTo>
                      <a:lnTo>
                        <a:pt x="29" y="68"/>
                      </a:lnTo>
                      <a:lnTo>
                        <a:pt x="19" y="78"/>
                      </a:lnTo>
                      <a:lnTo>
                        <a:pt x="9" y="97"/>
                      </a:lnTo>
                      <a:lnTo>
                        <a:pt x="0" y="107"/>
                      </a:lnTo>
                      <a:lnTo>
                        <a:pt x="9" y="107"/>
                      </a:lnTo>
                      <a:lnTo>
                        <a:pt x="19" y="97"/>
                      </a:lnTo>
                      <a:lnTo>
                        <a:pt x="29" y="78"/>
                      </a:lnTo>
                      <a:lnTo>
                        <a:pt x="39" y="68"/>
                      </a:lnTo>
                      <a:lnTo>
                        <a:pt x="48" y="59"/>
                      </a:lnTo>
                      <a:lnTo>
                        <a:pt x="68" y="49"/>
                      </a:lnTo>
                      <a:lnTo>
                        <a:pt x="78" y="39"/>
                      </a:lnTo>
                      <a:lnTo>
                        <a:pt x="97" y="29"/>
                      </a:lnTo>
                      <a:lnTo>
                        <a:pt x="116" y="2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lnTo>
                        <a:pt x="116" y="0"/>
                      </a:lnTo>
                      <a:lnTo>
                        <a:pt x="107" y="10"/>
                      </a:lnTo>
                      <a:lnTo>
                        <a:pt x="1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4350960" y="3400200"/>
                  <a:ext cx="23040" cy="60120"/>
                </a:xfrm>
                <a:custGeom>
                  <a:avLst/>
                  <a:gdLst/>
                  <a:ahLst/>
                  <a:rect l="l" t="t" r="r" b="b"/>
                  <a:pathLst>
                    <a:path w="38" h="97">
                      <a:moveTo>
                        <a:pt x="9" y="97"/>
                      </a:moveTo>
                      <a:lnTo>
                        <a:pt x="9" y="87"/>
                      </a:lnTo>
                      <a:lnTo>
                        <a:pt x="19" y="78"/>
                      </a:lnTo>
                      <a:lnTo>
                        <a:pt x="19" y="68"/>
                      </a:lnTo>
                      <a:lnTo>
                        <a:pt x="29" y="58"/>
                      </a:lnTo>
                      <a:lnTo>
                        <a:pt x="29" y="49"/>
                      </a:lnTo>
                      <a:lnTo>
                        <a:pt x="38" y="39"/>
                      </a:lnTo>
                      <a:lnTo>
                        <a:pt x="38" y="1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29" y="0"/>
                      </a:lnTo>
                      <a:lnTo>
                        <a:pt x="29" y="10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19" y="49"/>
                      </a:lnTo>
                      <a:lnTo>
                        <a:pt x="19" y="58"/>
                      </a:lnTo>
                      <a:lnTo>
                        <a:pt x="9" y="68"/>
                      </a:lnTo>
                      <a:lnTo>
                        <a:pt x="9" y="78"/>
                      </a:lnTo>
                      <a:lnTo>
                        <a:pt x="0" y="87"/>
                      </a:lnTo>
                      <a:lnTo>
                        <a:pt x="9" y="87"/>
                      </a:lnTo>
                      <a:lnTo>
                        <a:pt x="9" y="97"/>
                      </a:lnTo>
                      <a:lnTo>
                        <a:pt x="9" y="87"/>
                      </a:lnTo>
                      <a:lnTo>
                        <a:pt x="9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48" y="29"/>
                      </a:move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29" y="29"/>
                      </a:lnTo>
                      <a:lnTo>
                        <a:pt x="19" y="29"/>
                      </a:lnTo>
                      <a:lnTo>
                        <a:pt x="9" y="19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48" y="0"/>
                      </a:lnTo>
                      <a:lnTo>
                        <a:pt x="48" y="2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4159800" y="34848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4128840" y="3466440"/>
                  <a:ext cx="30600" cy="24840"/>
                </a:xfrm>
                <a:custGeom>
                  <a:avLst/>
                  <a:gdLst/>
                  <a:ahLst/>
                  <a:rect l="l" t="t" r="r" b="b"/>
                  <a:pathLst>
                    <a:path w="48" h="3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29" y="39"/>
                      </a:lnTo>
                      <a:lnTo>
                        <a:pt x="39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39" y="3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4128840" y="346032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48" y="10"/>
                      </a:moveTo>
                      <a:lnTo>
                        <a:pt x="48" y="10"/>
                      </a:lnTo>
                      <a:lnTo>
                        <a:pt x="29" y="10"/>
                      </a:lnTo>
                      <a:lnTo>
                        <a:pt x="1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48" y="2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lnTo>
                        <a:pt x="4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4159800" y="3466440"/>
                  <a:ext cx="6120" cy="1836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10" y="29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1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4267800" y="349128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19"/>
                      </a:moveTo>
                      <a:lnTo>
                        <a:pt x="39" y="29"/>
                      </a:lnTo>
                      <a:lnTo>
                        <a:pt x="39" y="39"/>
                      </a:lnTo>
                      <a:lnTo>
                        <a:pt x="30" y="39"/>
                      </a:lnTo>
                      <a:lnTo>
                        <a:pt x="30" y="39"/>
                      </a:lnTo>
                      <a:lnTo>
                        <a:pt x="20" y="29"/>
                      </a:lnTo>
                      <a:lnTo>
                        <a:pt x="10" y="29"/>
                      </a:lnTo>
                      <a:lnTo>
                        <a:pt x="0" y="29"/>
                      </a:lnTo>
                      <a:lnTo>
                        <a:pt x="0" y="19"/>
                      </a:lnTo>
                      <a:lnTo>
                        <a:pt x="10" y="10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close/>
                    </a:path>
                  </a:pathLst>
                </a:custGeom>
                <a:solidFill>
                  <a:srgbClr val="3ff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4286160" y="3502080"/>
                  <a:ext cx="10440" cy="1224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0" y="20"/>
                      </a:moveTo>
                      <a:lnTo>
                        <a:pt x="9" y="20"/>
                      </a:lnTo>
                      <a:lnTo>
                        <a:pt x="19" y="2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9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4267800" y="3497040"/>
                  <a:ext cx="23040" cy="169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20" y="29"/>
                      </a:lnTo>
                      <a:lnTo>
                        <a:pt x="30" y="29"/>
                      </a:lnTo>
                      <a:lnTo>
                        <a:pt x="30" y="29"/>
                      </a:lnTo>
                      <a:lnTo>
                        <a:pt x="39" y="29"/>
                      </a:lnTo>
                      <a:lnTo>
                        <a:pt x="30" y="19"/>
                      </a:lnTo>
                      <a:lnTo>
                        <a:pt x="30" y="19"/>
                      </a:lnTo>
                      <a:lnTo>
                        <a:pt x="20" y="19"/>
                      </a:lnTo>
                      <a:lnTo>
                        <a:pt x="10" y="19"/>
                      </a:lnTo>
                      <a:lnTo>
                        <a:pt x="10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4267800" y="3491280"/>
                  <a:ext cx="28800" cy="10800"/>
                </a:xfrm>
                <a:custGeom>
                  <a:avLst/>
                  <a:gdLst/>
                  <a:ahLst/>
                  <a:rect l="l" t="t" r="r" b="b"/>
                  <a:pathLst>
                    <a:path w="49" h="19">
                      <a:moveTo>
                        <a:pt x="49" y="19"/>
                      </a:moveTo>
                      <a:lnTo>
                        <a:pt x="39" y="1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9" y="10"/>
                      </a:lnTo>
                      <a:lnTo>
                        <a:pt x="39" y="19"/>
                      </a:lnTo>
                      <a:lnTo>
                        <a:pt x="39" y="19"/>
                      </a:lnTo>
                      <a:lnTo>
                        <a:pt x="4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322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42240" y="1778760"/>
                  <a:ext cx="1330920" cy="960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aphicFrame>
          <p:nvGraphicFramePr>
            <p:cNvPr id="3226" name=""/>
            <p:cNvGraphicFramePr/>
            <p:nvPr/>
          </p:nvGraphicFramePr>
          <p:xfrm>
            <a:off x="5479200" y="3484080"/>
            <a:ext cx="511920" cy="667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2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79200" y="3484080"/>
                      <a:ext cx="511920" cy="6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228" name="dotcomhpcint" descr=""/>
          <p:cNvPicPr/>
          <p:nvPr/>
        </p:nvPicPr>
        <p:blipFill>
          <a:blip r:embed="rId8"/>
          <a:stretch/>
        </p:blipFill>
        <p:spPr>
          <a:xfrm>
            <a:off x="2147760" y="5041800"/>
            <a:ext cx="3867120" cy="1343160"/>
          </a:xfrm>
          <a:prstGeom prst="rect">
            <a:avLst/>
          </a:prstGeom>
          <a:ln w="0">
            <a:noFill/>
          </a:ln>
        </p:spPr>
      </p:pic>
      <p:sp>
        <p:nvSpPr>
          <p:cNvPr id="3229" name=""/>
          <p:cNvSpPr/>
          <p:nvPr/>
        </p:nvSpPr>
        <p:spPr>
          <a:xfrm>
            <a:off x="247320" y="4600440"/>
            <a:ext cx="4336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Arial"/>
              </a:rPr>
              <a:t>Leading to Portal (Super)Computing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3167640" y="6358320"/>
            <a:ext cx="2120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ttp://www.sun.com/hpc/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297000" y="4446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Grid Application-Driv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666720" y="1704600"/>
            <a:ext cx="777384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Old and New applications getting enabled due to coupling of computers, databases, instruments, people, etc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distributed) Super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ve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throughput 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scale simulation &amp; parameter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te software access / Renting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-intensive 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-demand 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"/>
          <p:cNvSpPr/>
          <p:nvPr/>
        </p:nvSpPr>
        <p:spPr>
          <a:xfrm>
            <a:off x="387360" y="4819680"/>
            <a:ext cx="7631280" cy="154296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282600" y="74160"/>
            <a:ext cx="836784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Grid Component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35" name=""/>
          <p:cNvSpPr/>
          <p:nvPr/>
        </p:nvSpPr>
        <p:spPr>
          <a:xfrm>
            <a:off x="8092080" y="5308560"/>
            <a:ext cx="713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br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2195640" y="5608800"/>
            <a:ext cx="365436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etworked Resources across Organisation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498600" y="5943600"/>
            <a:ext cx="10652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709640" y="5927760"/>
            <a:ext cx="81936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4330800" y="5923080"/>
            <a:ext cx="12538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6072120" y="5932440"/>
            <a:ext cx="1808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tific Instru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2714760" y="5919840"/>
            <a:ext cx="14666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orage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2989440" y="4892760"/>
            <a:ext cx="242856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ocal Resource Manager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520560" y="5194440"/>
            <a:ext cx="159552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rating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2212920" y="5192640"/>
            <a:ext cx="159552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uing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397560" y="5180040"/>
            <a:ext cx="148752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CP/IP &amp; UD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607000" y="5799240"/>
            <a:ext cx="471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3917880" y="5203800"/>
            <a:ext cx="200520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braries &amp; App Kern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959440" y="5180040"/>
            <a:ext cx="469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384120" y="3706920"/>
            <a:ext cx="7618320" cy="7938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2448000" y="3782880"/>
            <a:ext cx="371304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istributed Resources Coupling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515880" y="4092480"/>
            <a:ext cx="83196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539720" y="4091040"/>
            <a:ext cx="16304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gn on &amp;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3346560" y="4091040"/>
            <a:ext cx="1133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6729480" y="3925800"/>
            <a:ext cx="469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7226280" y="4067280"/>
            <a:ext cx="59220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627440" y="4098960"/>
            <a:ext cx="7574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581800" y="4089240"/>
            <a:ext cx="11444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ata Ac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71520" y="2521080"/>
            <a:ext cx="7618320" cy="7920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2530440" y="2603520"/>
            <a:ext cx="331308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velopment Environments and Tool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446040" y="2905200"/>
            <a:ext cx="9730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ngu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1527120" y="2901960"/>
            <a:ext cx="9716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brar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2617920" y="2919240"/>
            <a:ext cx="10270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bugg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6481800" y="2762280"/>
            <a:ext cx="469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6954840" y="2894040"/>
            <a:ext cx="9586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b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4921200" y="2914560"/>
            <a:ext cx="152244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urce Brok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3722760" y="2914560"/>
            <a:ext cx="109836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444600" y="1260360"/>
            <a:ext cx="7618320" cy="89532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3232080" y="1335240"/>
            <a:ext cx="2395440" cy="286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pplications and Portal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4189320" y="1712880"/>
            <a:ext cx="1619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rob. Solving Env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06520" y="1751040"/>
            <a:ext cx="944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ient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854680" y="1566720"/>
            <a:ext cx="4698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2787480" y="1725480"/>
            <a:ext cx="127656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abo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1574640" y="1735200"/>
            <a:ext cx="109872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ngine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6310440" y="1736640"/>
            <a:ext cx="1619280" cy="30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eb enabled Ap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8136360" y="1482840"/>
            <a:ext cx="672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8047800" y="3832200"/>
            <a:ext cx="1149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8062920" y="2595600"/>
            <a:ext cx="652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387360" y="5560920"/>
            <a:ext cx="764208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1370160" y="147240"/>
            <a:ext cx="7773840" cy="668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 anchorCtr="1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ny GRID Projects and Initiativ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666720" y="2093400"/>
            <a:ext cx="3813120" cy="4078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rmAutofit fontScale="76000"/>
          </a:bodyPr>
          <a:p>
            <a:pPr marL="217080" indent="-217080">
              <a:lnSpc>
                <a:spcPct val="9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PUBLIC FORUMS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mputing Portal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Grid Forum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European Grid Foru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EEE TFCC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GRID’2000 and more.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9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Australia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Nimrod/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EcoGrid and GRA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DISCWorl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17080" indent="-217080">
              <a:lnSpc>
                <a:spcPct val="9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Europe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NICOR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OL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ETODI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Glob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znan Metacomputing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ERN Data Grid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etaMP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DA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JaW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20920" indent="-1735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d many more...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4627440" y="1789200"/>
            <a:ext cx="3813120" cy="407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rmAutofit fontScale="84000"/>
          </a:bodyPr>
          <a:p>
            <a:pPr marL="239760" indent="-239760">
              <a:lnSpc>
                <a:spcPct val="8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Public Grid Initiatives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Distributed.net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ETI@Hom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mpute Power Gri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USA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Globu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Legio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JAVELI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AppLes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NASA IPG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ondor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arnes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NetSolve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CSA Workbench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WebFlow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EveryWher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d many more..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39760" indent="-239760">
              <a:lnSpc>
                <a:spcPct val="80000"/>
              </a:lnSpc>
              <a:spcBef>
                <a:spcPts val="4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afd00"/>
                </a:solidFill>
                <a:latin typeface="Century Gothic"/>
              </a:rPr>
              <a:t>Japan</a:t>
            </a:r>
            <a:endParaRPr b="1" lang="en-US" sz="1300" spc="-1" strike="noStrike">
              <a:solidFill>
                <a:srgbClr val="fafd00"/>
              </a:solidFill>
              <a:latin typeface="Century Gothic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Ninf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ricks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576000" indent="-1918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d many more..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916360" y="6453720"/>
            <a:ext cx="3488760" cy="378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Times New Roman"/>
              </a:rPr>
              <a:t>http://www.gridcomputing.com/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3" name=""/>
          <p:cNvGraphicFramePr/>
          <p:nvPr/>
        </p:nvGraphicFramePr>
        <p:xfrm>
          <a:off x="457200" y="228600"/>
          <a:ext cx="8458200" cy="6373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845820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5" name=""/>
          <p:cNvGraphicFramePr/>
          <p:nvPr/>
        </p:nvGraphicFramePr>
        <p:xfrm>
          <a:off x="609480" y="228600"/>
          <a:ext cx="8153640" cy="6145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815364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7" name=""/>
          <p:cNvSpPr/>
          <p:nvPr/>
        </p:nvSpPr>
        <p:spPr>
          <a:xfrm>
            <a:off x="2819520" y="6324480"/>
            <a:ext cx="468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ttp://www.epm.ornl.gov/harnes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8" name=""/>
          <p:cNvGraphicFramePr/>
          <p:nvPr/>
        </p:nvGraphicFramePr>
        <p:xfrm>
          <a:off x="762120" y="380880"/>
          <a:ext cx="7924680" cy="5972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80880"/>
                    <a:ext cx="7924680" cy="59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1828440" y="209160"/>
            <a:ext cx="716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Nimrod - A Job Management System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291" name="nimrod1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43560" cy="4791240"/>
          </a:xfrm>
          <a:prstGeom prst="rect">
            <a:avLst/>
          </a:prstGeom>
          <a:ln w="0">
            <a:noFill/>
          </a:ln>
        </p:spPr>
      </p:pic>
      <p:sp>
        <p:nvSpPr>
          <p:cNvPr id="3292" name=""/>
          <p:cNvSpPr/>
          <p:nvPr/>
        </p:nvSpPr>
        <p:spPr>
          <a:xfrm>
            <a:off x="1515600" y="6218280"/>
            <a:ext cx="6646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dgs.monash.edu.au/~davida/nimrod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33080" y="147240"/>
            <a:ext cx="7774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Can these drive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E-Commerce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2001960"/>
            <a:ext cx="828216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Clusters are already in use for web serving, web-hosting, and number of other Internet applications including E-commerce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690840" indent="-265680"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calability, availability, performance, reliable-high performance-massive storage and database suppor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ttempts to support online detection of cyber attacks (through data mining) and contro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Hyperclusters and the GRID: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690840" indent="-26568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upport for transparency in (secure) Site/Data Replication for high availability and quick response time (taking site close to the user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ompute power from hyperclusters/Grid can be used for data mining for cyber attacks and fraud detection and control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Helps to build Compute Power Market, ASPs, and Computing Portal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7600" y="139680"/>
            <a:ext cx="1217160" cy="1416960"/>
            <a:chOff x="147600" y="139680"/>
            <a:chExt cx="1217160" cy="1416960"/>
          </a:xfrm>
        </p:grpSpPr>
        <p:sp>
          <p:nvSpPr>
            <p:cNvPr id="565" name=""/>
            <p:cNvSpPr/>
            <p:nvPr/>
          </p:nvSpPr>
          <p:spPr>
            <a:xfrm>
              <a:off x="493200" y="806760"/>
              <a:ext cx="546120" cy="106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360" bIns="93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47600" y="1177200"/>
              <a:ext cx="222120" cy="362520"/>
              <a:chOff x="147600" y="1177200"/>
              <a:chExt cx="222120" cy="362520"/>
            </a:xfrm>
          </p:grpSpPr>
          <p:sp>
            <p:nvSpPr>
              <p:cNvPr id="567" name=""/>
              <p:cNvSpPr/>
              <p:nvPr/>
            </p:nvSpPr>
            <p:spPr>
              <a:xfrm>
                <a:off x="147600" y="1177200"/>
                <a:ext cx="220680" cy="341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162000" y="1297800"/>
                <a:ext cx="195120" cy="209520"/>
                <a:chOff x="162000" y="1297800"/>
                <a:chExt cx="195120" cy="2095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162000" y="1297800"/>
                  <a:ext cx="195120" cy="20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62000" y="14965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62000" y="1478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62000" y="14616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62000" y="14454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62000" y="14281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62000" y="1410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62000" y="13932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2000" y="13773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62000" y="13597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62000" y="13424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62000" y="13266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62000" y="13089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>
                <a:off x="150840" y="118368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25360" y="118980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4240" y="11790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33360" y="1194840"/>
                <a:ext cx="1728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520" y="1194840"/>
                <a:ext cx="1440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74600" y="153180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4520" y="153180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93200" y="1183680"/>
              <a:ext cx="222120" cy="362160"/>
              <a:chOff x="493200" y="1183680"/>
              <a:chExt cx="222120" cy="362160"/>
            </a:xfrm>
          </p:grpSpPr>
          <p:sp>
            <p:nvSpPr>
              <p:cNvPr id="590" name=""/>
              <p:cNvSpPr/>
              <p:nvPr/>
            </p:nvSpPr>
            <p:spPr>
              <a:xfrm>
                <a:off x="493200" y="1183680"/>
                <a:ext cx="222120" cy="341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507240" y="1302840"/>
                <a:ext cx="193320" cy="209520"/>
                <a:chOff x="507240" y="1302840"/>
                <a:chExt cx="193320" cy="2095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07240" y="1302840"/>
                  <a:ext cx="193320" cy="2095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07240" y="15026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07240" y="14853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07240" y="1467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07240" y="1451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07240" y="143460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07240" y="14169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07240" y="13996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07240" y="13834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07240" y="1364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07240" y="13485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07240" y="1331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07240" y="13154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496080" y="118980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70600" y="1196280"/>
                <a:ext cx="0" cy="58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9480" y="11851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8600" y="1194840"/>
                <a:ext cx="1728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00760" y="1194840"/>
                <a:ext cx="1260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9840" y="153792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5080" y="1537920"/>
                <a:ext cx="900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00280" y="1183680"/>
              <a:ext cx="223920" cy="362160"/>
              <a:chOff x="800280" y="1183680"/>
              <a:chExt cx="223920" cy="362160"/>
            </a:xfrm>
          </p:grpSpPr>
          <p:sp>
            <p:nvSpPr>
              <p:cNvPr id="613" name=""/>
              <p:cNvSpPr/>
              <p:nvPr/>
            </p:nvSpPr>
            <p:spPr>
              <a:xfrm>
                <a:off x="800280" y="1183680"/>
                <a:ext cx="222480" cy="341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814680" y="1302840"/>
                <a:ext cx="193680" cy="209520"/>
                <a:chOff x="814680" y="1302840"/>
                <a:chExt cx="193680" cy="20952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814680" y="1302840"/>
                  <a:ext cx="193680" cy="2095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14680" y="1502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4680" y="14853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14680" y="1467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14680" y="1451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14680" y="1434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4680" y="1416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14680" y="1399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14680" y="1383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14680" y="1364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14680" y="1348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14680" y="1331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4680" y="13154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803520" y="1189800"/>
                <a:ext cx="2206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79840" y="1196280"/>
                <a:ext cx="0" cy="58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18720" y="11851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86040" y="1194840"/>
                <a:ext cx="1764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08200" y="1194840"/>
                <a:ext cx="14400" cy="11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800" bIns="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22600" y="1537920"/>
                <a:ext cx="1116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93960" y="1537920"/>
                <a:ext cx="972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1142640" y="1195920"/>
              <a:ext cx="222120" cy="360720"/>
              <a:chOff x="1142640" y="1195920"/>
              <a:chExt cx="222120" cy="360720"/>
            </a:xfrm>
          </p:grpSpPr>
          <p:sp>
            <p:nvSpPr>
              <p:cNvPr id="636" name=""/>
              <p:cNvSpPr/>
              <p:nvPr/>
            </p:nvSpPr>
            <p:spPr>
              <a:xfrm>
                <a:off x="1142640" y="1195920"/>
                <a:ext cx="220680" cy="340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7" name=""/>
              <p:cNvGrpSpPr/>
              <p:nvPr/>
            </p:nvGrpSpPr>
            <p:grpSpPr>
              <a:xfrm>
                <a:off x="1155240" y="1316160"/>
                <a:ext cx="193680" cy="208800"/>
                <a:chOff x="1155240" y="1316160"/>
                <a:chExt cx="193680" cy="20880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1155240" y="1316160"/>
                  <a:ext cx="193680" cy="2088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55240" y="1513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55240" y="1496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55240" y="1478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55240" y="14630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55240" y="14454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55240" y="14281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55240" y="1412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5240" y="13935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55240" y="1377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55240" y="13600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55240" y="1344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55240" y="13269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1145880" y="1201680"/>
                <a:ext cx="218880" cy="7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218960" y="1208160"/>
                <a:ext cx="0" cy="56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59280" y="119700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26600" y="1212840"/>
                <a:ext cx="1908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49120" y="1212840"/>
                <a:ext cx="1584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169640" y="1549080"/>
                <a:ext cx="1440" cy="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39560" y="1549080"/>
                <a:ext cx="1440" cy="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flipH="1">
              <a:off x="196920" y="880920"/>
              <a:ext cx="324000" cy="30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67000" y="903960"/>
              <a:ext cx="75240" cy="27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1240" y="903960"/>
              <a:ext cx="106200" cy="27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37800" y="880920"/>
              <a:ext cx="296280" cy="30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147600" y="156600"/>
              <a:ext cx="222120" cy="362160"/>
              <a:chOff x="147600" y="156600"/>
              <a:chExt cx="222120" cy="362160"/>
            </a:xfrm>
          </p:grpSpPr>
          <p:sp>
            <p:nvSpPr>
              <p:cNvPr id="663" name=""/>
              <p:cNvSpPr/>
              <p:nvPr/>
            </p:nvSpPr>
            <p:spPr>
              <a:xfrm>
                <a:off x="147600" y="156600"/>
                <a:ext cx="220680" cy="341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162000" y="277200"/>
                <a:ext cx="195120" cy="208080"/>
                <a:chOff x="162000" y="277200"/>
                <a:chExt cx="195120" cy="2080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162000" y="277200"/>
                  <a:ext cx="195120" cy="2080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62000" y="4755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62000" y="4582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62000" y="4406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62000" y="4248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62000" y="4071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62000" y="3898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62000" y="37224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62000" y="3564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62000" y="33732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62000" y="32148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62000" y="30420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62000" y="288360"/>
                  <a:ext cx="1951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150840" y="162720"/>
                <a:ext cx="218880" cy="7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5360" y="16920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4240" y="15804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33360" y="167760"/>
                <a:ext cx="17280" cy="108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55520" y="167760"/>
                <a:ext cx="14400" cy="108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1440" bIns="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4600" y="51084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44520" y="510840"/>
                <a:ext cx="1440" cy="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440" bIns="-1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493200" y="150480"/>
              <a:ext cx="222120" cy="362160"/>
              <a:chOff x="493200" y="150480"/>
              <a:chExt cx="222120" cy="362160"/>
            </a:xfrm>
          </p:grpSpPr>
          <p:sp>
            <p:nvSpPr>
              <p:cNvPr id="686" name=""/>
              <p:cNvSpPr/>
              <p:nvPr/>
            </p:nvSpPr>
            <p:spPr>
              <a:xfrm>
                <a:off x="493200" y="150480"/>
                <a:ext cx="22212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507240" y="271080"/>
                <a:ext cx="193320" cy="209520"/>
                <a:chOff x="507240" y="271080"/>
                <a:chExt cx="193320" cy="2095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07240" y="271080"/>
                  <a:ext cx="193320" cy="2095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07240" y="4694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07240" y="4521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07240" y="43452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07240" y="4186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07240" y="39960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07240" y="38376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07240" y="3664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07240" y="3506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07240" y="33300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07240" y="31572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07240" y="2998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7240" y="28224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496080" y="156960"/>
                <a:ext cx="218880" cy="7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0600" y="16308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9480" y="152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8600" y="168120"/>
                <a:ext cx="1728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00760" y="168120"/>
                <a:ext cx="1260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9840" y="504360"/>
                <a:ext cx="144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85080" y="504360"/>
                <a:ext cx="900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800280" y="150480"/>
              <a:ext cx="223920" cy="362160"/>
              <a:chOff x="800280" y="150480"/>
              <a:chExt cx="223920" cy="362160"/>
            </a:xfrm>
          </p:grpSpPr>
          <p:sp>
            <p:nvSpPr>
              <p:cNvPr id="709" name=""/>
              <p:cNvSpPr/>
              <p:nvPr/>
            </p:nvSpPr>
            <p:spPr>
              <a:xfrm>
                <a:off x="800280" y="150480"/>
                <a:ext cx="222480" cy="341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814680" y="271080"/>
                <a:ext cx="193680" cy="209520"/>
                <a:chOff x="814680" y="271080"/>
                <a:chExt cx="193680" cy="20952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814680" y="271080"/>
                  <a:ext cx="193680" cy="2095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14680" y="4694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14680" y="4521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14680" y="434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14680" y="4186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14680" y="3996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814680" y="3837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814680" y="366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14680" y="3506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14680" y="333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814680" y="315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814680" y="299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14680" y="28224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4" name=""/>
              <p:cNvSpPr/>
              <p:nvPr/>
            </p:nvSpPr>
            <p:spPr>
              <a:xfrm>
                <a:off x="803520" y="156960"/>
                <a:ext cx="220680" cy="7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79840" y="163080"/>
                <a:ext cx="0" cy="57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918720" y="15228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86040" y="168120"/>
                <a:ext cx="1764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08200" y="168120"/>
                <a:ext cx="14400" cy="1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7920" bIns="-792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22600" y="504360"/>
                <a:ext cx="1116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993960" y="504360"/>
                <a:ext cx="9720" cy="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080" bIns="-10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1142640" y="139680"/>
              <a:ext cx="222120" cy="360720"/>
              <a:chOff x="1142640" y="139680"/>
              <a:chExt cx="222120" cy="360720"/>
            </a:xfrm>
          </p:grpSpPr>
          <p:sp>
            <p:nvSpPr>
              <p:cNvPr id="732" name=""/>
              <p:cNvSpPr/>
              <p:nvPr/>
            </p:nvSpPr>
            <p:spPr>
              <a:xfrm>
                <a:off x="1142640" y="139680"/>
                <a:ext cx="220680" cy="3402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3" name=""/>
              <p:cNvGrpSpPr/>
              <p:nvPr/>
            </p:nvGrpSpPr>
            <p:grpSpPr>
              <a:xfrm>
                <a:off x="1155240" y="259920"/>
                <a:ext cx="193680" cy="208800"/>
                <a:chOff x="1155240" y="259920"/>
                <a:chExt cx="193680" cy="20880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1155240" y="259920"/>
                  <a:ext cx="193680" cy="2088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720" rIns="18720" tIns="9360" bIns="9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155240" y="4579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155240" y="4402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155240" y="4230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155240" y="4068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155240" y="3895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155240" y="3718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155240" y="3564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155240" y="3373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155240" y="32148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155240" y="30420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155240" y="28836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55240" y="270720"/>
                  <a:ext cx="193680" cy="0"/>
                </a:xfrm>
                <a:prstGeom prst="line">
                  <a:avLst/>
                </a:prstGeom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720" rIns="1872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" name=""/>
              <p:cNvSpPr/>
              <p:nvPr/>
            </p:nvSpPr>
            <p:spPr>
              <a:xfrm>
                <a:off x="1145880" y="145800"/>
                <a:ext cx="218880" cy="7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9360" bIns="9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218960" y="152280"/>
                <a:ext cx="0" cy="565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720" rIns="1872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259280" y="141120"/>
                <a:ext cx="9360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9360" bIns="9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4600"/>
                    <a:tab algn="l" pos="349200"/>
                    <a:tab algn="l" pos="523800"/>
                    <a:tab algn="l" pos="698400"/>
                    <a:tab algn="l" pos="873000"/>
                    <a:tab algn="l" pos="1047600"/>
                    <a:tab algn="l" pos="1222200"/>
                    <a:tab algn="l" pos="1397160"/>
                    <a:tab algn="l" pos="1571760"/>
                    <a:tab algn="l" pos="1746360"/>
                    <a:tab algn="l" pos="1920960"/>
                    <a:tab algn="l" pos="2095560"/>
                    <a:tab algn="l" pos="2270160"/>
                    <a:tab algn="l" pos="2444760"/>
                    <a:tab algn="l" pos="2619360"/>
                    <a:tab algn="l" pos="2793960"/>
                    <a:tab algn="l" pos="2968560"/>
                    <a:tab algn="l" pos="3143160"/>
                    <a:tab algn="l" pos="3317760"/>
                    <a:tab algn="l" pos="3492360"/>
                  </a:tabLst>
                </a:pPr>
                <a:r>
                  <a:rPr b="1" lang="en-US" sz="200" spc="-1" strike="noStrike">
                    <a:solidFill>
                      <a:srgbClr val="0000ff"/>
                    </a:solidFill>
                    <a:latin typeface="Arial"/>
                  </a:rPr>
                  <a:t>2100</a:t>
                </a:r>
                <a:endParaRPr b="0" lang="en-US" sz="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326600" y="156960"/>
                <a:ext cx="19080" cy="1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49120" y="156960"/>
                <a:ext cx="15840" cy="1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8280" bIns="-828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69640" y="492840"/>
                <a:ext cx="1440" cy="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39560" y="492840"/>
                <a:ext cx="1440" cy="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720" rIns="18720" tIns="-1800" bIns="-1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 flipH="1" flipV="1">
              <a:off x="196920" y="510120"/>
              <a:ext cx="311760" cy="30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567000" y="509760"/>
              <a:ext cx="75240" cy="29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31240" y="509760"/>
              <a:ext cx="32040" cy="29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1011960" y="509760"/>
              <a:ext cx="222120" cy="29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720" rIns="1872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035160" y="0"/>
            <a:ext cx="1406160" cy="1778400"/>
            <a:chOff x="3035160" y="0"/>
            <a:chExt cx="1406160" cy="1778400"/>
          </a:xfrm>
        </p:grpSpPr>
        <p:pic>
          <p:nvPicPr>
            <p:cNvPr id="759" name="" descr=""/>
            <p:cNvPicPr/>
            <p:nvPr/>
          </p:nvPicPr>
          <p:blipFill>
            <a:blip r:embed="rId10"/>
            <a:stretch/>
          </p:blipFill>
          <p:spPr>
            <a:xfrm>
              <a:off x="3233880" y="433080"/>
              <a:ext cx="1034640" cy="91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0" name=""/>
            <p:cNvGrpSpPr/>
            <p:nvPr/>
          </p:nvGrpSpPr>
          <p:grpSpPr>
            <a:xfrm>
              <a:off x="3643920" y="0"/>
              <a:ext cx="257400" cy="399240"/>
              <a:chOff x="3643920" y="0"/>
              <a:chExt cx="257400" cy="399240"/>
            </a:xfrm>
          </p:grpSpPr>
          <p:sp>
            <p:nvSpPr>
              <p:cNvPr id="761" name=""/>
              <p:cNvSpPr/>
              <p:nvPr/>
            </p:nvSpPr>
            <p:spPr>
              <a:xfrm>
                <a:off x="3719880" y="174240"/>
                <a:ext cx="112320" cy="594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3643920" y="233640"/>
                <a:ext cx="257400" cy="165600"/>
                <a:chOff x="3643920" y="233640"/>
                <a:chExt cx="257400" cy="165600"/>
              </a:xfrm>
            </p:grpSpPr>
            <p:sp>
              <p:nvSpPr>
                <p:cNvPr id="763" name=""/>
                <p:cNvSpPr/>
                <p:nvPr/>
              </p:nvSpPr>
              <p:spPr>
                <a:xfrm flipV="1">
                  <a:off x="3659400" y="234720"/>
                  <a:ext cx="4932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3739320" y="234720"/>
                  <a:ext cx="0" cy="94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V="1">
                  <a:off x="3808440" y="233640"/>
                  <a:ext cx="0" cy="97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643920" y="336960"/>
                  <a:ext cx="2160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726000" y="331560"/>
                  <a:ext cx="25200" cy="67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793680" y="330120"/>
                  <a:ext cx="22680" cy="6660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880800" y="336960"/>
                  <a:ext cx="2052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 flipV="1">
                  <a:off x="3827160" y="234720"/>
                  <a:ext cx="7236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3643920" y="0"/>
                <a:ext cx="257400" cy="154080"/>
                <a:chOff x="3643920" y="0"/>
                <a:chExt cx="257400" cy="15408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3659400" y="73440"/>
                  <a:ext cx="49320" cy="8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739320" y="82080"/>
                  <a:ext cx="0" cy="70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808440" y="77400"/>
                  <a:ext cx="0" cy="7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643920" y="5760"/>
                  <a:ext cx="2160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726000" y="0"/>
                  <a:ext cx="252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793680" y="2880"/>
                  <a:ext cx="22680" cy="67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880800" y="576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3827160" y="73440"/>
                  <a:ext cx="72360" cy="8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4184280" y="245520"/>
              <a:ext cx="257040" cy="396720"/>
              <a:chOff x="4184280" y="245520"/>
              <a:chExt cx="257040" cy="396720"/>
            </a:xfrm>
          </p:grpSpPr>
          <p:sp>
            <p:nvSpPr>
              <p:cNvPr id="781" name=""/>
              <p:cNvSpPr/>
              <p:nvPr/>
            </p:nvSpPr>
            <p:spPr>
              <a:xfrm>
                <a:off x="4260240" y="419040"/>
                <a:ext cx="111960" cy="590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2" name=""/>
              <p:cNvGrpSpPr/>
              <p:nvPr/>
            </p:nvGrpSpPr>
            <p:grpSpPr>
              <a:xfrm>
                <a:off x="4184280" y="478080"/>
                <a:ext cx="257040" cy="164160"/>
                <a:chOff x="4184280" y="478080"/>
                <a:chExt cx="257040" cy="164160"/>
              </a:xfrm>
            </p:grpSpPr>
            <p:sp>
              <p:nvSpPr>
                <p:cNvPr id="783" name=""/>
                <p:cNvSpPr/>
                <p:nvPr/>
              </p:nvSpPr>
              <p:spPr>
                <a:xfrm flipV="1">
                  <a:off x="4199760" y="478440"/>
                  <a:ext cx="49320" cy="102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V="1">
                  <a:off x="4279320" y="479880"/>
                  <a:ext cx="0" cy="92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4345920" y="478080"/>
                  <a:ext cx="0" cy="97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184280" y="5814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266360" y="57600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4334040" y="573120"/>
                  <a:ext cx="21600" cy="67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420800" y="5814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>
                  <a:off x="4367160" y="478440"/>
                  <a:ext cx="72360" cy="102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84280" y="245520"/>
                <a:ext cx="257040" cy="153360"/>
                <a:chOff x="4184280" y="245520"/>
                <a:chExt cx="257040" cy="15336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4199760" y="31860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279320" y="325800"/>
                  <a:ext cx="0" cy="72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345920" y="322920"/>
                  <a:ext cx="0" cy="75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184280" y="249480"/>
                  <a:ext cx="2052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266360" y="24552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334040" y="248400"/>
                  <a:ext cx="216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420800" y="249480"/>
                  <a:ext cx="2052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>
                  <a:off x="4367160" y="31860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0" name=""/>
            <p:cNvGrpSpPr/>
            <p:nvPr/>
          </p:nvGrpSpPr>
          <p:grpSpPr>
            <a:xfrm>
              <a:off x="4184280" y="1126800"/>
              <a:ext cx="257040" cy="397440"/>
              <a:chOff x="4184280" y="1126800"/>
              <a:chExt cx="257040" cy="397440"/>
            </a:xfrm>
          </p:grpSpPr>
          <p:sp>
            <p:nvSpPr>
              <p:cNvPr id="801" name=""/>
              <p:cNvSpPr/>
              <p:nvPr/>
            </p:nvSpPr>
            <p:spPr>
              <a:xfrm>
                <a:off x="4260240" y="1300320"/>
                <a:ext cx="111960" cy="590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4184280" y="1359360"/>
                <a:ext cx="257040" cy="164880"/>
                <a:chOff x="4184280" y="1359360"/>
                <a:chExt cx="257040" cy="164880"/>
              </a:xfrm>
            </p:grpSpPr>
            <p:sp>
              <p:nvSpPr>
                <p:cNvPr id="803" name=""/>
                <p:cNvSpPr/>
                <p:nvPr/>
              </p:nvSpPr>
              <p:spPr>
                <a:xfrm flipV="1">
                  <a:off x="4199760" y="136080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>
                  <a:off x="4279320" y="1360800"/>
                  <a:ext cx="0" cy="94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4345920" y="1359360"/>
                  <a:ext cx="0" cy="97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184280" y="146232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266360" y="1456560"/>
                  <a:ext cx="23760" cy="67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334040" y="1455120"/>
                  <a:ext cx="216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420800" y="146232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 flipV="1">
                  <a:off x="4367160" y="1360800"/>
                  <a:ext cx="72360" cy="10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4184280" y="1126800"/>
                <a:ext cx="257040" cy="153360"/>
                <a:chOff x="4184280" y="1126800"/>
                <a:chExt cx="257040" cy="15336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4199760" y="1199880"/>
                  <a:ext cx="4932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279320" y="1208160"/>
                  <a:ext cx="0" cy="70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345920" y="1205640"/>
                  <a:ext cx="0" cy="7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184280" y="11322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266360" y="1126800"/>
                  <a:ext cx="23760" cy="67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334040" y="1129320"/>
                  <a:ext cx="21600" cy="67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420800" y="11322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4367160" y="1199880"/>
                  <a:ext cx="7236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0" name=""/>
            <p:cNvGrpSpPr/>
            <p:nvPr/>
          </p:nvGrpSpPr>
          <p:grpSpPr>
            <a:xfrm>
              <a:off x="3652920" y="1379160"/>
              <a:ext cx="255600" cy="399240"/>
              <a:chOff x="3652920" y="1379160"/>
              <a:chExt cx="255600" cy="399240"/>
            </a:xfrm>
          </p:grpSpPr>
          <p:sp>
            <p:nvSpPr>
              <p:cNvPr id="821" name=""/>
              <p:cNvSpPr/>
              <p:nvPr/>
            </p:nvSpPr>
            <p:spPr>
              <a:xfrm>
                <a:off x="3726360" y="1554840"/>
                <a:ext cx="114480" cy="57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3652920" y="1612800"/>
                <a:ext cx="255600" cy="165600"/>
                <a:chOff x="3652920" y="1612800"/>
                <a:chExt cx="255600" cy="165600"/>
              </a:xfrm>
            </p:grpSpPr>
            <p:sp>
              <p:nvSpPr>
                <p:cNvPr id="823" name=""/>
                <p:cNvSpPr/>
                <p:nvPr/>
              </p:nvSpPr>
              <p:spPr>
                <a:xfrm flipV="1">
                  <a:off x="3667320" y="161388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V="1">
                  <a:off x="3747960" y="1615320"/>
                  <a:ext cx="0" cy="9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3814560" y="1612800"/>
                  <a:ext cx="0" cy="99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652920" y="1716120"/>
                  <a:ext cx="2052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735000" y="171216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801240" y="1709280"/>
                  <a:ext cx="21600" cy="68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886920" y="1716120"/>
                  <a:ext cx="2160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>
                  <a:off x="3835080" y="161388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3652920" y="1379160"/>
                <a:ext cx="255600" cy="154080"/>
                <a:chOff x="3652920" y="1379160"/>
                <a:chExt cx="255600" cy="15408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3667320" y="1452600"/>
                  <a:ext cx="48960" cy="8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960" y="1461240"/>
                  <a:ext cx="0" cy="70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814560" y="1458360"/>
                  <a:ext cx="0" cy="74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652920" y="138492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735000" y="1379160"/>
                  <a:ext cx="23760" cy="68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801240" y="1383120"/>
                  <a:ext cx="216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886920" y="1384920"/>
                  <a:ext cx="2160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3835080" y="1452600"/>
                  <a:ext cx="72000" cy="80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0" name=""/>
            <p:cNvGrpSpPr/>
            <p:nvPr/>
          </p:nvGrpSpPr>
          <p:grpSpPr>
            <a:xfrm>
              <a:off x="3085920" y="1175040"/>
              <a:ext cx="255960" cy="397440"/>
              <a:chOff x="3085920" y="1175040"/>
              <a:chExt cx="255960" cy="397440"/>
            </a:xfrm>
          </p:grpSpPr>
          <p:sp>
            <p:nvSpPr>
              <p:cNvPr id="841" name=""/>
              <p:cNvSpPr/>
              <p:nvPr/>
            </p:nvSpPr>
            <p:spPr>
              <a:xfrm>
                <a:off x="3160440" y="1348920"/>
                <a:ext cx="113400" cy="597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3085920" y="1408320"/>
                <a:ext cx="255960" cy="164160"/>
                <a:chOff x="3085920" y="1408320"/>
                <a:chExt cx="255960" cy="164160"/>
              </a:xfrm>
            </p:grpSpPr>
            <p:sp>
              <p:nvSpPr>
                <p:cNvPr id="843" name=""/>
                <p:cNvSpPr/>
                <p:nvPr/>
              </p:nvSpPr>
              <p:spPr>
                <a:xfrm flipV="1">
                  <a:off x="3101400" y="1408680"/>
                  <a:ext cx="49320" cy="10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V="1">
                  <a:off x="3181320" y="1409400"/>
                  <a:ext cx="0" cy="9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V="1">
                  <a:off x="3249000" y="1408320"/>
                  <a:ext cx="0" cy="97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085920" y="1510200"/>
                  <a:ext cx="2160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7640" y="1506240"/>
                  <a:ext cx="252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234240" y="1503360"/>
                  <a:ext cx="22680" cy="68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321360" y="1510200"/>
                  <a:ext cx="2052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flipV="1">
                  <a:off x="3268080" y="1408680"/>
                  <a:ext cx="73440" cy="10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3085920" y="1175040"/>
                <a:ext cx="255960" cy="152640"/>
                <a:chOff x="3085920" y="1175040"/>
                <a:chExt cx="255960" cy="15264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3101400" y="1248480"/>
                  <a:ext cx="4932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181320" y="1255320"/>
                  <a:ext cx="0" cy="72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249000" y="1252440"/>
                  <a:ext cx="0" cy="74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085920" y="1179000"/>
                  <a:ext cx="2160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3167640" y="1175040"/>
                  <a:ext cx="2520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234240" y="1177920"/>
                  <a:ext cx="2268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321360" y="1179000"/>
                  <a:ext cx="20520" cy="579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3268080" y="1248480"/>
                  <a:ext cx="7344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0" name=""/>
            <p:cNvGrpSpPr/>
            <p:nvPr/>
          </p:nvGrpSpPr>
          <p:grpSpPr>
            <a:xfrm>
              <a:off x="3035160" y="283680"/>
              <a:ext cx="257400" cy="397800"/>
              <a:chOff x="3035160" y="283680"/>
              <a:chExt cx="257400" cy="397800"/>
            </a:xfrm>
          </p:grpSpPr>
          <p:sp>
            <p:nvSpPr>
              <p:cNvPr id="861" name=""/>
              <p:cNvSpPr/>
              <p:nvPr/>
            </p:nvSpPr>
            <p:spPr>
              <a:xfrm>
                <a:off x="3111120" y="458280"/>
                <a:ext cx="111960" cy="594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3035160" y="517320"/>
                <a:ext cx="257400" cy="164160"/>
                <a:chOff x="3035160" y="517320"/>
                <a:chExt cx="257400" cy="164160"/>
              </a:xfrm>
            </p:grpSpPr>
            <p:sp>
              <p:nvSpPr>
                <p:cNvPr id="863" name=""/>
                <p:cNvSpPr/>
                <p:nvPr/>
              </p:nvSpPr>
              <p:spPr>
                <a:xfrm flipV="1">
                  <a:off x="3051000" y="518400"/>
                  <a:ext cx="4896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3130560" y="518760"/>
                  <a:ext cx="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3198240" y="517320"/>
                  <a:ext cx="0" cy="97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035160" y="6210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117240" y="61524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184920" y="613800"/>
                  <a:ext cx="2268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272040" y="62100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3218760" y="518400"/>
                  <a:ext cx="72000" cy="101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3035160" y="283680"/>
                <a:ext cx="257400" cy="154080"/>
                <a:chOff x="3035160" y="283680"/>
                <a:chExt cx="257400" cy="15408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3051000" y="357480"/>
                  <a:ext cx="4896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130560" y="365760"/>
                  <a:ext cx="0" cy="70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198240" y="361440"/>
                  <a:ext cx="0" cy="7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035160" y="28944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117240" y="283680"/>
                  <a:ext cx="23760" cy="66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184920" y="286560"/>
                  <a:ext cx="22680" cy="68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272040" y="289440"/>
                  <a:ext cx="20520" cy="56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3218760" y="357480"/>
                  <a:ext cx="72000" cy="80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0" name=""/>
          <p:cNvGrpSpPr/>
          <p:nvPr/>
        </p:nvGrpSpPr>
        <p:grpSpPr>
          <a:xfrm>
            <a:off x="1628640" y="0"/>
            <a:ext cx="1198080" cy="1856520"/>
            <a:chOff x="1628640" y="0"/>
            <a:chExt cx="1198080" cy="1856520"/>
          </a:xfrm>
        </p:grpSpPr>
        <p:pic>
          <p:nvPicPr>
            <p:cNvPr id="881" name="OFCBLD03" descr=""/>
            <p:cNvPicPr/>
            <p:nvPr/>
          </p:nvPicPr>
          <p:blipFill>
            <a:blip r:embed="rId11"/>
            <a:stretch/>
          </p:blipFill>
          <p:spPr>
            <a:xfrm>
              <a:off x="1628640" y="497160"/>
              <a:ext cx="1181880" cy="98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2" name=""/>
            <p:cNvGrpSpPr/>
            <p:nvPr/>
          </p:nvGrpSpPr>
          <p:grpSpPr>
            <a:xfrm>
              <a:off x="1924920" y="1409040"/>
              <a:ext cx="309600" cy="447480"/>
              <a:chOff x="1924920" y="1409040"/>
              <a:chExt cx="309600" cy="447480"/>
            </a:xfrm>
          </p:grpSpPr>
          <p:sp>
            <p:nvSpPr>
              <p:cNvPr id="883" name=""/>
              <p:cNvSpPr/>
              <p:nvPr/>
            </p:nvSpPr>
            <p:spPr>
              <a:xfrm>
                <a:off x="2013840" y="1605960"/>
                <a:ext cx="138600" cy="651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1924920" y="1671120"/>
                <a:ext cx="309600" cy="185400"/>
                <a:chOff x="1924920" y="1671120"/>
                <a:chExt cx="309600" cy="185400"/>
              </a:xfrm>
            </p:grpSpPr>
            <p:sp>
              <p:nvSpPr>
                <p:cNvPr id="885" name=""/>
                <p:cNvSpPr/>
                <p:nvPr/>
              </p:nvSpPr>
              <p:spPr>
                <a:xfrm flipV="1">
                  <a:off x="1942200" y="1672200"/>
                  <a:ext cx="5940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2040120" y="1673640"/>
                  <a:ext cx="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2120760" y="1671120"/>
                  <a:ext cx="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924920" y="1786680"/>
                  <a:ext cx="2484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024280" y="1782000"/>
                  <a:ext cx="2916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104560" y="1778760"/>
                  <a:ext cx="2592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208240" y="1786680"/>
                  <a:ext cx="2628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>
                  <a:off x="2145240" y="1672200"/>
                  <a:ext cx="8748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1924920" y="1409040"/>
                <a:ext cx="309600" cy="173160"/>
                <a:chOff x="1924920" y="1409040"/>
                <a:chExt cx="309600" cy="17316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1942200" y="1491480"/>
                  <a:ext cx="5940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040120" y="1501200"/>
                  <a:ext cx="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2120760" y="1497960"/>
                  <a:ext cx="0" cy="8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924920" y="1415520"/>
                  <a:ext cx="2484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2024280" y="1409040"/>
                  <a:ext cx="2916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104560" y="1413720"/>
                  <a:ext cx="2592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208240" y="1415520"/>
                  <a:ext cx="2628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>
                  <a:off x="2145240" y="1491480"/>
                  <a:ext cx="8748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2" name=""/>
            <p:cNvGrpSpPr/>
            <p:nvPr/>
          </p:nvGrpSpPr>
          <p:grpSpPr>
            <a:xfrm>
              <a:off x="2517120" y="1260720"/>
              <a:ext cx="309600" cy="447480"/>
              <a:chOff x="2517120" y="1260720"/>
              <a:chExt cx="309600" cy="447480"/>
            </a:xfrm>
          </p:grpSpPr>
          <p:sp>
            <p:nvSpPr>
              <p:cNvPr id="903" name=""/>
              <p:cNvSpPr/>
              <p:nvPr/>
            </p:nvSpPr>
            <p:spPr>
              <a:xfrm>
                <a:off x="2606040" y="1457640"/>
                <a:ext cx="138600" cy="651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04" name=""/>
              <p:cNvGrpSpPr/>
              <p:nvPr/>
            </p:nvGrpSpPr>
            <p:grpSpPr>
              <a:xfrm>
                <a:off x="2517120" y="1522800"/>
                <a:ext cx="309600" cy="185400"/>
                <a:chOff x="2517120" y="1522800"/>
                <a:chExt cx="309600" cy="185400"/>
              </a:xfrm>
            </p:grpSpPr>
            <p:sp>
              <p:nvSpPr>
                <p:cNvPr id="905" name=""/>
                <p:cNvSpPr/>
                <p:nvPr/>
              </p:nvSpPr>
              <p:spPr>
                <a:xfrm flipV="1">
                  <a:off x="2534400" y="1523880"/>
                  <a:ext cx="5940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2632320" y="1525320"/>
                  <a:ext cx="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2712960" y="1522800"/>
                  <a:ext cx="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517120" y="1638360"/>
                  <a:ext cx="2484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616480" y="1633680"/>
                  <a:ext cx="2916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696760" y="1630440"/>
                  <a:ext cx="2592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2800440" y="1638360"/>
                  <a:ext cx="2628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flipV="1">
                  <a:off x="2737440" y="1523880"/>
                  <a:ext cx="8748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517120" y="1260720"/>
                <a:ext cx="309600" cy="173160"/>
                <a:chOff x="2517120" y="1260720"/>
                <a:chExt cx="309600" cy="17316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534400" y="1343160"/>
                  <a:ext cx="5940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632320" y="1352880"/>
                  <a:ext cx="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712960" y="1349640"/>
                  <a:ext cx="0" cy="8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517120" y="1267200"/>
                  <a:ext cx="2484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616480" y="1260720"/>
                  <a:ext cx="2916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696760" y="1265400"/>
                  <a:ext cx="2592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800440" y="1267200"/>
                  <a:ext cx="2628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>
                  <a:off x="2737440" y="1343160"/>
                  <a:ext cx="8748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2" name=""/>
            <p:cNvGrpSpPr/>
            <p:nvPr/>
          </p:nvGrpSpPr>
          <p:grpSpPr>
            <a:xfrm>
              <a:off x="1776600" y="0"/>
              <a:ext cx="309960" cy="447480"/>
              <a:chOff x="1776600" y="0"/>
              <a:chExt cx="309960" cy="447480"/>
            </a:xfrm>
          </p:grpSpPr>
          <p:sp>
            <p:nvSpPr>
              <p:cNvPr id="923" name=""/>
              <p:cNvSpPr/>
              <p:nvPr/>
            </p:nvSpPr>
            <p:spPr>
              <a:xfrm>
                <a:off x="1865880" y="196920"/>
                <a:ext cx="138960" cy="651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1776600" y="262080"/>
                <a:ext cx="309960" cy="185400"/>
                <a:chOff x="1776600" y="262080"/>
                <a:chExt cx="309960" cy="185400"/>
              </a:xfrm>
            </p:grpSpPr>
            <p:sp>
              <p:nvSpPr>
                <p:cNvPr id="925" name=""/>
                <p:cNvSpPr/>
                <p:nvPr/>
              </p:nvSpPr>
              <p:spPr>
                <a:xfrm flipV="1">
                  <a:off x="1793880" y="263160"/>
                  <a:ext cx="5940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V="1">
                  <a:off x="1891800" y="264600"/>
                  <a:ext cx="0" cy="104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V="1">
                  <a:off x="1972440" y="262080"/>
                  <a:ext cx="0" cy="11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1776600" y="377640"/>
                  <a:ext cx="2484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1875960" y="372960"/>
                  <a:ext cx="2916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956240" y="369720"/>
                  <a:ext cx="2592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2060280" y="377640"/>
                  <a:ext cx="26280" cy="637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flipV="1">
                  <a:off x="1997280" y="263160"/>
                  <a:ext cx="87480" cy="114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1776600" y="0"/>
                <a:ext cx="309960" cy="173160"/>
                <a:chOff x="1776600" y="0"/>
                <a:chExt cx="309960" cy="17316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1793880" y="82440"/>
                  <a:ext cx="5940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1891800" y="92160"/>
                  <a:ext cx="0" cy="79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972440" y="88920"/>
                  <a:ext cx="0" cy="84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776600" y="6480"/>
                  <a:ext cx="2484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1875960" y="0"/>
                  <a:ext cx="29160" cy="76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956240" y="4680"/>
                  <a:ext cx="25920" cy="745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060280" y="6480"/>
                  <a:ext cx="26280" cy="633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1997280" y="82440"/>
                  <a:ext cx="8748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ob processing with Nimr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294" name="nimrod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34356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1219320" y="23184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imrod/G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296" name="globusmap" descr=""/>
          <p:cNvPicPr/>
          <p:nvPr/>
        </p:nvPicPr>
        <p:blipFill>
          <a:blip r:embed="rId1"/>
          <a:stretch/>
        </p:blipFill>
        <p:spPr>
          <a:xfrm>
            <a:off x="1252440" y="4741920"/>
            <a:ext cx="4478400" cy="1485720"/>
          </a:xfrm>
          <a:prstGeom prst="rect">
            <a:avLst/>
          </a:prstGeom>
          <a:ln w="0">
            <a:noFill/>
          </a:ln>
        </p:spPr>
      </p:pic>
      <p:sp>
        <p:nvSpPr>
          <p:cNvPr id="3297" name=""/>
          <p:cNvSpPr/>
          <p:nvPr/>
        </p:nvSpPr>
        <p:spPr>
          <a:xfrm>
            <a:off x="1925640" y="3468600"/>
            <a:ext cx="3065400" cy="676440"/>
          </a:xfrm>
          <a:prstGeom prst="roundRect">
            <a:avLst>
              <a:gd name="adj" fmla="val 16667"/>
            </a:avLst>
          </a:prstGeom>
          <a:solidFill>
            <a:srgbClr val="fc01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955800" y="4299120"/>
            <a:ext cx="1787400" cy="303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ddleware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900080" y="2344680"/>
            <a:ext cx="3068640" cy="676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1514520" y="1185840"/>
            <a:ext cx="1539720" cy="303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mrod/G Cl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4979880" y="1185840"/>
            <a:ext cx="1538280" cy="303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mrod/G Cl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236760" y="1185840"/>
            <a:ext cx="1536840" cy="30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imrod/G Cl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2241720" y="1482840"/>
            <a:ext cx="1036440" cy="74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H="1">
            <a:off x="3499920" y="1471680"/>
            <a:ext cx="444600" cy="752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H="1">
            <a:off x="3722760" y="1482840"/>
            <a:ext cx="1923840" cy="741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5843520" y="2381400"/>
            <a:ext cx="2298600" cy="1755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6019920" y="4724280"/>
            <a:ext cx="2133360" cy="303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Grid Information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6070680" y="2646360"/>
            <a:ext cx="1703160" cy="303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hedule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6070680" y="3166920"/>
            <a:ext cx="1739880" cy="30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ding Manag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977760" y="2863800"/>
            <a:ext cx="814680" cy="917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flipV="1">
            <a:off x="1461960" y="2701800"/>
            <a:ext cx="420840" cy="28584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3382920" y="4164120"/>
            <a:ext cx="0" cy="623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 flipH="1">
            <a:off x="1919160" y="4172040"/>
            <a:ext cx="1455840" cy="942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129280" y="2668680"/>
            <a:ext cx="720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-62280" bIns="-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2571840" y="2500200"/>
            <a:ext cx="174312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imrod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3394080" y="4181400"/>
            <a:ext cx="2030400" cy="93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733840" y="6300720"/>
            <a:ext cx="1528560" cy="303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USTO Test 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914400" y="3187800"/>
            <a:ext cx="9525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c0128"/>
                </a:solidFill>
                <a:latin typeface="Arial"/>
              </a:rPr>
              <a:t>Persistent Sto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6539040" y="5041440"/>
            <a:ext cx="1006200" cy="1185840"/>
            <a:chOff x="6539040" y="5041440"/>
            <a:chExt cx="1006200" cy="1185840"/>
          </a:xfrm>
        </p:grpSpPr>
        <p:sp>
          <p:nvSpPr>
            <p:cNvPr id="3320" name=""/>
            <p:cNvSpPr/>
            <p:nvPr/>
          </p:nvSpPr>
          <p:spPr>
            <a:xfrm>
              <a:off x="6539040" y="5064120"/>
              <a:ext cx="1006200" cy="1163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5360" bIns="453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1" name=""/>
            <p:cNvGrpSpPr/>
            <p:nvPr/>
          </p:nvGrpSpPr>
          <p:grpSpPr>
            <a:xfrm>
              <a:off x="6573960" y="5041440"/>
              <a:ext cx="954000" cy="1129320"/>
              <a:chOff x="6573960" y="5041440"/>
              <a:chExt cx="954000" cy="1129320"/>
            </a:xfrm>
          </p:grpSpPr>
          <p:grpSp>
            <p:nvGrpSpPr>
              <p:cNvPr id="3322" name=""/>
              <p:cNvGrpSpPr/>
              <p:nvPr/>
            </p:nvGrpSpPr>
            <p:grpSpPr>
              <a:xfrm>
                <a:off x="6699960" y="5041440"/>
                <a:ext cx="828000" cy="1129320"/>
                <a:chOff x="6699960" y="5041440"/>
                <a:chExt cx="828000" cy="1129320"/>
              </a:xfrm>
            </p:grpSpPr>
            <p:sp>
              <p:nvSpPr>
                <p:cNvPr id="3323" name=""/>
                <p:cNvSpPr/>
                <p:nvPr/>
              </p:nvSpPr>
              <p:spPr>
                <a:xfrm>
                  <a:off x="6699960" y="5077440"/>
                  <a:ext cx="828000" cy="1013400"/>
                </a:xfrm>
                <a:custGeom>
                  <a:avLst/>
                  <a:gdLst/>
                  <a:ahLst/>
                  <a:rect l="l" t="t" r="r" b="b"/>
                  <a:pathLst>
                    <a:path w="873" h="999">
                      <a:moveTo>
                        <a:pt x="492" y="0"/>
                      </a:moveTo>
                      <a:lnTo>
                        <a:pt x="546" y="19"/>
                      </a:lnTo>
                      <a:lnTo>
                        <a:pt x="598" y="44"/>
                      </a:lnTo>
                      <a:lnTo>
                        <a:pt x="646" y="73"/>
                      </a:lnTo>
                      <a:lnTo>
                        <a:pt x="691" y="106"/>
                      </a:lnTo>
                      <a:lnTo>
                        <a:pt x="731" y="145"/>
                      </a:lnTo>
                      <a:lnTo>
                        <a:pt x="767" y="186"/>
                      </a:lnTo>
                      <a:lnTo>
                        <a:pt x="798" y="231"/>
                      </a:lnTo>
                      <a:lnTo>
                        <a:pt x="825" y="278"/>
                      </a:lnTo>
                      <a:lnTo>
                        <a:pt x="845" y="328"/>
                      </a:lnTo>
                      <a:lnTo>
                        <a:pt x="860" y="380"/>
                      </a:lnTo>
                      <a:lnTo>
                        <a:pt x="869" y="432"/>
                      </a:lnTo>
                      <a:lnTo>
                        <a:pt x="872" y="486"/>
                      </a:lnTo>
                      <a:lnTo>
                        <a:pt x="869" y="540"/>
                      </a:lnTo>
                      <a:lnTo>
                        <a:pt x="860" y="593"/>
                      </a:lnTo>
                      <a:lnTo>
                        <a:pt x="845" y="645"/>
                      </a:lnTo>
                      <a:lnTo>
                        <a:pt x="825" y="694"/>
                      </a:lnTo>
                      <a:lnTo>
                        <a:pt x="798" y="742"/>
                      </a:lnTo>
                      <a:lnTo>
                        <a:pt x="767" y="787"/>
                      </a:lnTo>
                      <a:lnTo>
                        <a:pt x="731" y="828"/>
                      </a:lnTo>
                      <a:lnTo>
                        <a:pt x="691" y="867"/>
                      </a:lnTo>
                      <a:lnTo>
                        <a:pt x="646" y="901"/>
                      </a:lnTo>
                      <a:lnTo>
                        <a:pt x="598" y="929"/>
                      </a:lnTo>
                      <a:lnTo>
                        <a:pt x="546" y="954"/>
                      </a:lnTo>
                      <a:lnTo>
                        <a:pt x="492" y="973"/>
                      </a:lnTo>
                      <a:lnTo>
                        <a:pt x="437" y="987"/>
                      </a:lnTo>
                      <a:lnTo>
                        <a:pt x="380" y="995"/>
                      </a:lnTo>
                      <a:lnTo>
                        <a:pt x="323" y="998"/>
                      </a:lnTo>
                      <a:lnTo>
                        <a:pt x="265" y="995"/>
                      </a:lnTo>
                      <a:lnTo>
                        <a:pt x="208" y="987"/>
                      </a:lnTo>
                      <a:lnTo>
                        <a:pt x="153" y="973"/>
                      </a:lnTo>
                      <a:lnTo>
                        <a:pt x="100" y="954"/>
                      </a:lnTo>
                      <a:lnTo>
                        <a:pt x="49" y="929"/>
                      </a:lnTo>
                      <a:lnTo>
                        <a:pt x="0" y="901"/>
                      </a:lnTo>
                      <a:lnTo>
                        <a:pt x="31" y="860"/>
                      </a:lnTo>
                      <a:lnTo>
                        <a:pt x="76" y="886"/>
                      </a:lnTo>
                      <a:lnTo>
                        <a:pt x="122" y="908"/>
                      </a:lnTo>
                      <a:lnTo>
                        <a:pt x="170" y="925"/>
                      </a:lnTo>
                      <a:lnTo>
                        <a:pt x="220" y="938"/>
                      </a:lnTo>
                      <a:lnTo>
                        <a:pt x="270" y="945"/>
                      </a:lnTo>
                      <a:lnTo>
                        <a:pt x="323" y="948"/>
                      </a:lnTo>
                      <a:lnTo>
                        <a:pt x="374" y="945"/>
                      </a:lnTo>
                      <a:lnTo>
                        <a:pt x="426" y="938"/>
                      </a:lnTo>
                      <a:lnTo>
                        <a:pt x="476" y="925"/>
                      </a:lnTo>
                      <a:lnTo>
                        <a:pt x="525" y="908"/>
                      </a:lnTo>
                      <a:lnTo>
                        <a:pt x="571" y="886"/>
                      </a:lnTo>
                      <a:lnTo>
                        <a:pt x="614" y="860"/>
                      </a:lnTo>
                      <a:lnTo>
                        <a:pt x="654" y="830"/>
                      </a:lnTo>
                      <a:lnTo>
                        <a:pt x="691" y="796"/>
                      </a:lnTo>
                      <a:lnTo>
                        <a:pt x="723" y="758"/>
                      </a:lnTo>
                      <a:lnTo>
                        <a:pt x="752" y="716"/>
                      </a:lnTo>
                      <a:lnTo>
                        <a:pt x="776" y="674"/>
                      </a:lnTo>
                      <a:lnTo>
                        <a:pt x="795" y="630"/>
                      </a:lnTo>
                      <a:lnTo>
                        <a:pt x="807" y="582"/>
                      </a:lnTo>
                      <a:lnTo>
                        <a:pt x="815" y="534"/>
                      </a:lnTo>
                      <a:lnTo>
                        <a:pt x="818" y="486"/>
                      </a:lnTo>
                      <a:lnTo>
                        <a:pt x="815" y="437"/>
                      </a:lnTo>
                      <a:lnTo>
                        <a:pt x="807" y="390"/>
                      </a:lnTo>
                      <a:lnTo>
                        <a:pt x="795" y="343"/>
                      </a:lnTo>
                      <a:lnTo>
                        <a:pt x="776" y="299"/>
                      </a:lnTo>
                      <a:lnTo>
                        <a:pt x="752" y="255"/>
                      </a:lnTo>
                      <a:lnTo>
                        <a:pt x="723" y="215"/>
                      </a:lnTo>
                      <a:lnTo>
                        <a:pt x="691" y="177"/>
                      </a:lnTo>
                      <a:lnTo>
                        <a:pt x="654" y="143"/>
                      </a:lnTo>
                      <a:lnTo>
                        <a:pt x="614" y="113"/>
                      </a:lnTo>
                      <a:lnTo>
                        <a:pt x="571" y="87"/>
                      </a:lnTo>
                      <a:lnTo>
                        <a:pt x="525" y="64"/>
                      </a:lnTo>
                      <a:lnTo>
                        <a:pt x="476" y="48"/>
                      </a:lnTo>
                      <a:lnTo>
                        <a:pt x="477" y="44"/>
                      </a:lnTo>
                      <a:lnTo>
                        <a:pt x="49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V="1">
                  <a:off x="6726240" y="5923080"/>
                  <a:ext cx="68400" cy="164520"/>
                </a:xfrm>
                <a:prstGeom prst="line">
                  <a:avLst/>
                </a:prstGeom>
                <a:ln w="25560">
                  <a:solidFill>
                    <a:srgbClr val="f6bf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V="1">
                  <a:off x="7190280" y="5137200"/>
                  <a:ext cx="7200" cy="6264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6794640" y="6082920"/>
                  <a:ext cx="483480" cy="87840"/>
                </a:xfrm>
                <a:custGeom>
                  <a:avLst/>
                  <a:gdLst/>
                  <a:ahLst/>
                  <a:rect l="l" t="t" r="r" b="b"/>
                  <a:pathLst>
                    <a:path w="510" h="87">
                      <a:moveTo>
                        <a:pt x="2" y="55"/>
                      </a:moveTo>
                      <a:lnTo>
                        <a:pt x="12" y="45"/>
                      </a:lnTo>
                      <a:lnTo>
                        <a:pt x="27" y="37"/>
                      </a:lnTo>
                      <a:lnTo>
                        <a:pt x="54" y="24"/>
                      </a:lnTo>
                      <a:lnTo>
                        <a:pt x="85" y="17"/>
                      </a:lnTo>
                      <a:lnTo>
                        <a:pt x="114" y="11"/>
                      </a:lnTo>
                      <a:lnTo>
                        <a:pt x="153" y="5"/>
                      </a:lnTo>
                      <a:lnTo>
                        <a:pt x="190" y="2"/>
                      </a:lnTo>
                      <a:lnTo>
                        <a:pt x="234" y="0"/>
                      </a:lnTo>
                      <a:lnTo>
                        <a:pt x="288" y="1"/>
                      </a:lnTo>
                      <a:lnTo>
                        <a:pt x="343" y="3"/>
                      </a:lnTo>
                      <a:lnTo>
                        <a:pt x="383" y="8"/>
                      </a:lnTo>
                      <a:lnTo>
                        <a:pt x="424" y="15"/>
                      </a:lnTo>
                      <a:lnTo>
                        <a:pt x="463" y="27"/>
                      </a:lnTo>
                      <a:lnTo>
                        <a:pt x="484" y="37"/>
                      </a:lnTo>
                      <a:lnTo>
                        <a:pt x="497" y="46"/>
                      </a:lnTo>
                      <a:lnTo>
                        <a:pt x="509" y="61"/>
                      </a:lnTo>
                      <a:lnTo>
                        <a:pt x="488" y="69"/>
                      </a:lnTo>
                      <a:lnTo>
                        <a:pt x="453" y="75"/>
                      </a:lnTo>
                      <a:lnTo>
                        <a:pt x="410" y="80"/>
                      </a:lnTo>
                      <a:lnTo>
                        <a:pt x="368" y="84"/>
                      </a:lnTo>
                      <a:lnTo>
                        <a:pt x="319" y="85"/>
                      </a:lnTo>
                      <a:lnTo>
                        <a:pt x="265" y="86"/>
                      </a:lnTo>
                      <a:lnTo>
                        <a:pt x="213" y="86"/>
                      </a:lnTo>
                      <a:lnTo>
                        <a:pt x="159" y="85"/>
                      </a:lnTo>
                      <a:lnTo>
                        <a:pt x="99" y="81"/>
                      </a:lnTo>
                      <a:lnTo>
                        <a:pt x="52" y="76"/>
                      </a:lnTo>
                      <a:lnTo>
                        <a:pt x="12" y="68"/>
                      </a:lnTo>
                      <a:lnTo>
                        <a:pt x="0" y="62"/>
                      </a:lnTo>
                      <a:lnTo>
                        <a:pt x="2" y="55"/>
                      </a:lnTo>
                    </a:path>
                  </a:pathLst>
                </a:custGeom>
                <a:solidFill>
                  <a:srgbClr val="f6bf69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2480" bIns="4248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 flipV="1">
                  <a:off x="7234920" y="5041440"/>
                  <a:ext cx="9360" cy="6804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8" name=""/>
              <p:cNvGrpSpPr/>
              <p:nvPr/>
            </p:nvGrpSpPr>
            <p:grpSpPr>
              <a:xfrm>
                <a:off x="6573960" y="5147280"/>
                <a:ext cx="861120" cy="855360"/>
                <a:chOff x="6573960" y="5147280"/>
                <a:chExt cx="861120" cy="855360"/>
              </a:xfrm>
            </p:grpSpPr>
            <p:sp>
              <p:nvSpPr>
                <p:cNvPr id="3329" name=""/>
                <p:cNvSpPr/>
                <p:nvPr/>
              </p:nvSpPr>
              <p:spPr>
                <a:xfrm>
                  <a:off x="6573960" y="5147280"/>
                  <a:ext cx="861120" cy="85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0" name=""/>
                <p:cNvGrpSpPr/>
                <p:nvPr/>
              </p:nvGrpSpPr>
              <p:grpSpPr>
                <a:xfrm>
                  <a:off x="6573960" y="5236560"/>
                  <a:ext cx="801000" cy="634680"/>
                  <a:chOff x="6573960" y="5236560"/>
                  <a:chExt cx="801000" cy="634680"/>
                </a:xfrm>
              </p:grpSpPr>
              <p:sp>
                <p:nvSpPr>
                  <p:cNvPr id="3331" name=""/>
                  <p:cNvSpPr/>
                  <p:nvPr/>
                </p:nvSpPr>
                <p:spPr>
                  <a:xfrm>
                    <a:off x="6686640" y="5468760"/>
                    <a:ext cx="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7440" bIns="-37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>
                    <a:off x="6702120" y="5486040"/>
                    <a:ext cx="3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40320" bIns="-403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>
                    <a:off x="6746400" y="5463720"/>
                    <a:ext cx="302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7">
                        <a:moveTo>
                          <a:pt x="31" y="0"/>
                        </a:moveTo>
                        <a:lnTo>
                          <a:pt x="19" y="0"/>
                        </a:lnTo>
                        <a:lnTo>
                          <a:pt x="13" y="7"/>
                        </a:lnTo>
                        <a:lnTo>
                          <a:pt x="8" y="7"/>
                        </a:lnTo>
                        <a:lnTo>
                          <a:pt x="5" y="11"/>
                        </a:lnTo>
                        <a:lnTo>
                          <a:pt x="0" y="11"/>
                        </a:lnTo>
                        <a:lnTo>
                          <a:pt x="0" y="20"/>
                        </a:lnTo>
                        <a:lnTo>
                          <a:pt x="7" y="26"/>
                        </a:lnTo>
                        <a:lnTo>
                          <a:pt x="25" y="26"/>
                        </a:lnTo>
                        <a:lnTo>
                          <a:pt x="31" y="2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8000" bIns="-180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>
                    <a:off x="6573960" y="5484960"/>
                    <a:ext cx="258840" cy="33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1">
                        <a:moveTo>
                          <a:pt x="65" y="0"/>
                        </a:moveTo>
                        <a:lnTo>
                          <a:pt x="60" y="9"/>
                        </a:lnTo>
                        <a:lnTo>
                          <a:pt x="39" y="26"/>
                        </a:lnTo>
                        <a:lnTo>
                          <a:pt x="34" y="43"/>
                        </a:lnTo>
                        <a:lnTo>
                          <a:pt x="18" y="54"/>
                        </a:lnTo>
                        <a:lnTo>
                          <a:pt x="7" y="76"/>
                        </a:lnTo>
                        <a:lnTo>
                          <a:pt x="7" y="89"/>
                        </a:lnTo>
                        <a:lnTo>
                          <a:pt x="0" y="113"/>
                        </a:lnTo>
                        <a:lnTo>
                          <a:pt x="10" y="123"/>
                        </a:lnTo>
                        <a:lnTo>
                          <a:pt x="34" y="153"/>
                        </a:lnTo>
                        <a:lnTo>
                          <a:pt x="41" y="149"/>
                        </a:lnTo>
                        <a:lnTo>
                          <a:pt x="84" y="149"/>
                        </a:lnTo>
                        <a:lnTo>
                          <a:pt x="104" y="157"/>
                        </a:lnTo>
                        <a:lnTo>
                          <a:pt x="102" y="180"/>
                        </a:lnTo>
                        <a:lnTo>
                          <a:pt x="117" y="211"/>
                        </a:lnTo>
                        <a:lnTo>
                          <a:pt x="116" y="219"/>
                        </a:lnTo>
                        <a:lnTo>
                          <a:pt x="122" y="229"/>
                        </a:lnTo>
                        <a:lnTo>
                          <a:pt x="113" y="251"/>
                        </a:lnTo>
                        <a:lnTo>
                          <a:pt x="123" y="278"/>
                        </a:lnTo>
                        <a:lnTo>
                          <a:pt x="129" y="300"/>
                        </a:lnTo>
                        <a:lnTo>
                          <a:pt x="137" y="313"/>
                        </a:lnTo>
                        <a:lnTo>
                          <a:pt x="144" y="330"/>
                        </a:lnTo>
                        <a:lnTo>
                          <a:pt x="159" y="328"/>
                        </a:lnTo>
                        <a:lnTo>
                          <a:pt x="183" y="315"/>
                        </a:lnTo>
                        <a:lnTo>
                          <a:pt x="194" y="300"/>
                        </a:lnTo>
                        <a:lnTo>
                          <a:pt x="193" y="290"/>
                        </a:lnTo>
                        <a:lnTo>
                          <a:pt x="207" y="281"/>
                        </a:lnTo>
                        <a:lnTo>
                          <a:pt x="204" y="267"/>
                        </a:lnTo>
                        <a:lnTo>
                          <a:pt x="225" y="243"/>
                        </a:lnTo>
                        <a:lnTo>
                          <a:pt x="228" y="224"/>
                        </a:lnTo>
                        <a:lnTo>
                          <a:pt x="223" y="218"/>
                        </a:lnTo>
                        <a:lnTo>
                          <a:pt x="225" y="210"/>
                        </a:lnTo>
                        <a:lnTo>
                          <a:pt x="220" y="202"/>
                        </a:lnTo>
                        <a:lnTo>
                          <a:pt x="236" y="184"/>
                        </a:lnTo>
                        <a:lnTo>
                          <a:pt x="236" y="175"/>
                        </a:lnTo>
                        <a:lnTo>
                          <a:pt x="258" y="159"/>
                        </a:lnTo>
                        <a:lnTo>
                          <a:pt x="272" y="116"/>
                        </a:lnTo>
                        <a:lnTo>
                          <a:pt x="252" y="128"/>
                        </a:lnTo>
                        <a:lnTo>
                          <a:pt x="234" y="122"/>
                        </a:lnTo>
                        <a:lnTo>
                          <a:pt x="237" y="112"/>
                        </a:lnTo>
                        <a:lnTo>
                          <a:pt x="219" y="101"/>
                        </a:lnTo>
                        <a:lnTo>
                          <a:pt x="211" y="74"/>
                        </a:lnTo>
                        <a:lnTo>
                          <a:pt x="194" y="53"/>
                        </a:lnTo>
                        <a:lnTo>
                          <a:pt x="194" y="37"/>
                        </a:lnTo>
                        <a:lnTo>
                          <a:pt x="185" y="36"/>
                        </a:lnTo>
                        <a:lnTo>
                          <a:pt x="179" y="39"/>
                        </a:lnTo>
                        <a:lnTo>
                          <a:pt x="153" y="30"/>
                        </a:lnTo>
                        <a:lnTo>
                          <a:pt x="147" y="36"/>
                        </a:lnTo>
                        <a:lnTo>
                          <a:pt x="141" y="44"/>
                        </a:lnTo>
                        <a:lnTo>
                          <a:pt x="128" y="30"/>
                        </a:lnTo>
                        <a:lnTo>
                          <a:pt x="114" y="26"/>
                        </a:lnTo>
                        <a:lnTo>
                          <a:pt x="113" y="8"/>
                        </a:lnTo>
                        <a:lnTo>
                          <a:pt x="93" y="11"/>
                        </a:lnTo>
                        <a:lnTo>
                          <a:pt x="81" y="7"/>
                        </a:lnTo>
                        <a:lnTo>
                          <a:pt x="6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7173000" y="5569200"/>
                    <a:ext cx="93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">
                        <a:moveTo>
                          <a:pt x="4" y="0"/>
                        </a:moveTo>
                        <a:lnTo>
                          <a:pt x="5" y="5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9" y="13"/>
                        </a:lnTo>
                        <a:lnTo>
                          <a:pt x="9" y="15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9160" bIns="-291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>
                    <a:off x="7124040" y="5638320"/>
                    <a:ext cx="3888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6">
                        <a:moveTo>
                          <a:pt x="0" y="28"/>
                        </a:moveTo>
                        <a:lnTo>
                          <a:pt x="15" y="28"/>
                        </a:lnTo>
                        <a:lnTo>
                          <a:pt x="31" y="0"/>
                        </a:lnTo>
                        <a:lnTo>
                          <a:pt x="40" y="16"/>
                        </a:lnTo>
                        <a:lnTo>
                          <a:pt x="33" y="55"/>
                        </a:lnTo>
                        <a:lnTo>
                          <a:pt x="3" y="46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1160" bIns="111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7201800" y="5659560"/>
                    <a:ext cx="6696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4" y="13"/>
                        </a:moveTo>
                        <a:lnTo>
                          <a:pt x="0" y="0"/>
                        </a:lnTo>
                        <a:lnTo>
                          <a:pt x="24" y="5"/>
                        </a:lnTo>
                        <a:lnTo>
                          <a:pt x="57" y="18"/>
                        </a:lnTo>
                        <a:lnTo>
                          <a:pt x="57" y="28"/>
                        </a:lnTo>
                        <a:lnTo>
                          <a:pt x="70" y="53"/>
                        </a:lnTo>
                        <a:lnTo>
                          <a:pt x="44" y="29"/>
                        </a:lnTo>
                        <a:lnTo>
                          <a:pt x="27" y="31"/>
                        </a:lnTo>
                        <a:lnTo>
                          <a:pt x="4" y="1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9360" bIns="9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7329600" y="5769000"/>
                    <a:ext cx="4536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29" y="0"/>
                        </a:moveTo>
                        <a:lnTo>
                          <a:pt x="47" y="17"/>
                        </a:lnTo>
                        <a:lnTo>
                          <a:pt x="10" y="57"/>
                        </a:lnTo>
                        <a:lnTo>
                          <a:pt x="0" y="48"/>
                        </a:lnTo>
                        <a:lnTo>
                          <a:pt x="27" y="22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3320" bIns="133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6654600" y="5377320"/>
                    <a:ext cx="226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7">
                        <a:moveTo>
                          <a:pt x="23" y="28"/>
                        </a:moveTo>
                        <a:lnTo>
                          <a:pt x="17" y="24"/>
                        </a:lnTo>
                        <a:lnTo>
                          <a:pt x="17" y="8"/>
                        </a:lnTo>
                        <a:lnTo>
                          <a:pt x="20" y="5"/>
                        </a:lnTo>
                        <a:lnTo>
                          <a:pt x="15" y="5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8" y="5"/>
                        </a:lnTo>
                        <a:lnTo>
                          <a:pt x="8" y="15"/>
                        </a:lnTo>
                        <a:lnTo>
                          <a:pt x="11" y="17"/>
                        </a:lnTo>
                        <a:lnTo>
                          <a:pt x="11" y="22"/>
                        </a:lnTo>
                        <a:lnTo>
                          <a:pt x="9" y="22"/>
                        </a:lnTo>
                        <a:lnTo>
                          <a:pt x="5" y="25"/>
                        </a:lnTo>
                        <a:lnTo>
                          <a:pt x="5" y="29"/>
                        </a:lnTo>
                        <a:lnTo>
                          <a:pt x="0" y="36"/>
                        </a:lnTo>
                        <a:lnTo>
                          <a:pt x="17" y="36"/>
                        </a:lnTo>
                        <a:lnTo>
                          <a:pt x="23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7920" bIns="-79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>
                    <a:off x="6647040" y="538956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0" y="4"/>
                        </a:move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0" y="9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2400" bIns="-324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>
                    <a:off x="6628680" y="5367240"/>
                    <a:ext cx="14760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22">
                        <a:moveTo>
                          <a:pt x="102" y="0"/>
                        </a:moveTo>
                        <a:lnTo>
                          <a:pt x="102" y="8"/>
                        </a:lnTo>
                        <a:lnTo>
                          <a:pt x="105" y="11"/>
                        </a:lnTo>
                        <a:lnTo>
                          <a:pt x="122" y="11"/>
                        </a:lnTo>
                        <a:lnTo>
                          <a:pt x="122" y="16"/>
                        </a:lnTo>
                        <a:lnTo>
                          <a:pt x="110" y="16"/>
                        </a:lnTo>
                        <a:lnTo>
                          <a:pt x="110" y="29"/>
                        </a:lnTo>
                        <a:lnTo>
                          <a:pt x="105" y="23"/>
                        </a:lnTo>
                        <a:lnTo>
                          <a:pt x="105" y="32"/>
                        </a:lnTo>
                        <a:lnTo>
                          <a:pt x="97" y="39"/>
                        </a:lnTo>
                        <a:lnTo>
                          <a:pt x="93" y="35"/>
                        </a:lnTo>
                        <a:lnTo>
                          <a:pt x="85" y="41"/>
                        </a:lnTo>
                        <a:lnTo>
                          <a:pt x="84" y="39"/>
                        </a:lnTo>
                        <a:lnTo>
                          <a:pt x="74" y="39"/>
                        </a:lnTo>
                        <a:lnTo>
                          <a:pt x="80" y="33"/>
                        </a:lnTo>
                        <a:lnTo>
                          <a:pt x="80" y="31"/>
                        </a:lnTo>
                        <a:lnTo>
                          <a:pt x="75" y="27"/>
                        </a:lnTo>
                        <a:lnTo>
                          <a:pt x="75" y="21"/>
                        </a:lnTo>
                        <a:lnTo>
                          <a:pt x="69" y="27"/>
                        </a:lnTo>
                        <a:lnTo>
                          <a:pt x="69" y="39"/>
                        </a:lnTo>
                        <a:lnTo>
                          <a:pt x="62" y="39"/>
                        </a:lnTo>
                        <a:lnTo>
                          <a:pt x="53" y="47"/>
                        </a:lnTo>
                        <a:lnTo>
                          <a:pt x="49" y="47"/>
                        </a:lnTo>
                        <a:lnTo>
                          <a:pt x="44" y="53"/>
                        </a:lnTo>
                        <a:lnTo>
                          <a:pt x="26" y="53"/>
                        </a:lnTo>
                        <a:lnTo>
                          <a:pt x="32" y="61"/>
                        </a:lnTo>
                        <a:lnTo>
                          <a:pt x="32" y="73"/>
                        </a:lnTo>
                        <a:lnTo>
                          <a:pt x="26" y="80"/>
                        </a:lnTo>
                        <a:lnTo>
                          <a:pt x="19" y="73"/>
                        </a:lnTo>
                        <a:lnTo>
                          <a:pt x="5" y="73"/>
                        </a:lnTo>
                        <a:lnTo>
                          <a:pt x="5" y="82"/>
                        </a:lnTo>
                        <a:lnTo>
                          <a:pt x="0" y="88"/>
                        </a:lnTo>
                        <a:lnTo>
                          <a:pt x="0" y="100"/>
                        </a:lnTo>
                        <a:lnTo>
                          <a:pt x="9" y="109"/>
                        </a:lnTo>
                        <a:lnTo>
                          <a:pt x="22" y="109"/>
                        </a:lnTo>
                        <a:lnTo>
                          <a:pt x="43" y="86"/>
                        </a:lnTo>
                        <a:lnTo>
                          <a:pt x="61" y="86"/>
                        </a:lnTo>
                        <a:lnTo>
                          <a:pt x="64" y="82"/>
                        </a:lnTo>
                        <a:lnTo>
                          <a:pt x="68" y="86"/>
                        </a:lnTo>
                        <a:lnTo>
                          <a:pt x="67" y="90"/>
                        </a:lnTo>
                        <a:lnTo>
                          <a:pt x="85" y="106"/>
                        </a:lnTo>
                        <a:lnTo>
                          <a:pt x="85" y="113"/>
                        </a:lnTo>
                        <a:lnTo>
                          <a:pt x="88" y="110"/>
                        </a:lnTo>
                        <a:lnTo>
                          <a:pt x="87" y="106"/>
                        </a:lnTo>
                        <a:lnTo>
                          <a:pt x="88" y="104"/>
                        </a:lnTo>
                        <a:lnTo>
                          <a:pt x="91" y="106"/>
                        </a:lnTo>
                        <a:lnTo>
                          <a:pt x="93" y="106"/>
                        </a:lnTo>
                        <a:lnTo>
                          <a:pt x="74" y="85"/>
                        </a:lnTo>
                        <a:lnTo>
                          <a:pt x="74" y="78"/>
                        </a:lnTo>
                        <a:lnTo>
                          <a:pt x="80" y="78"/>
                        </a:lnTo>
                        <a:lnTo>
                          <a:pt x="80" y="82"/>
                        </a:lnTo>
                        <a:lnTo>
                          <a:pt x="97" y="100"/>
                        </a:lnTo>
                        <a:lnTo>
                          <a:pt x="97" y="106"/>
                        </a:lnTo>
                        <a:lnTo>
                          <a:pt x="105" y="114"/>
                        </a:lnTo>
                        <a:lnTo>
                          <a:pt x="103" y="116"/>
                        </a:lnTo>
                        <a:lnTo>
                          <a:pt x="108" y="121"/>
                        </a:lnTo>
                        <a:lnTo>
                          <a:pt x="116" y="113"/>
                        </a:lnTo>
                        <a:lnTo>
                          <a:pt x="111" y="107"/>
                        </a:lnTo>
                        <a:lnTo>
                          <a:pt x="116" y="102"/>
                        </a:lnTo>
                        <a:lnTo>
                          <a:pt x="123" y="102"/>
                        </a:lnTo>
                        <a:lnTo>
                          <a:pt x="126" y="100"/>
                        </a:lnTo>
                        <a:lnTo>
                          <a:pt x="130" y="100"/>
                        </a:lnTo>
                        <a:lnTo>
                          <a:pt x="124" y="93"/>
                        </a:lnTo>
                        <a:lnTo>
                          <a:pt x="127" y="89"/>
                        </a:lnTo>
                        <a:lnTo>
                          <a:pt x="127" y="77"/>
                        </a:lnTo>
                        <a:lnTo>
                          <a:pt x="133" y="71"/>
                        </a:lnTo>
                        <a:lnTo>
                          <a:pt x="136" y="73"/>
                        </a:lnTo>
                        <a:lnTo>
                          <a:pt x="141" y="73"/>
                        </a:lnTo>
                        <a:lnTo>
                          <a:pt x="139" y="77"/>
                        </a:lnTo>
                        <a:lnTo>
                          <a:pt x="144" y="82"/>
                        </a:lnTo>
                        <a:lnTo>
                          <a:pt x="147" y="77"/>
                        </a:lnTo>
                        <a:lnTo>
                          <a:pt x="150" y="77"/>
                        </a:lnTo>
                        <a:lnTo>
                          <a:pt x="150" y="76"/>
                        </a:lnTo>
                        <a:lnTo>
                          <a:pt x="148" y="76"/>
                        </a:lnTo>
                        <a:lnTo>
                          <a:pt x="145" y="73"/>
                        </a:lnTo>
                        <a:lnTo>
                          <a:pt x="153" y="64"/>
                        </a:lnTo>
                        <a:lnTo>
                          <a:pt x="153" y="77"/>
                        </a:lnTo>
                        <a:lnTo>
                          <a:pt x="155" y="77"/>
                        </a:lnTo>
                        <a:lnTo>
                          <a:pt x="155" y="0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>
                    <a:off x="6691320" y="5236560"/>
                    <a:ext cx="62568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435">
                        <a:moveTo>
                          <a:pt x="0" y="128"/>
                        </a:moveTo>
                        <a:lnTo>
                          <a:pt x="19" y="114"/>
                        </a:lnTo>
                        <a:lnTo>
                          <a:pt x="38" y="88"/>
                        </a:lnTo>
                        <a:lnTo>
                          <a:pt x="60" y="76"/>
                        </a:lnTo>
                        <a:lnTo>
                          <a:pt x="83" y="91"/>
                        </a:lnTo>
                        <a:lnTo>
                          <a:pt x="86" y="102"/>
                        </a:lnTo>
                        <a:lnTo>
                          <a:pt x="81" y="102"/>
                        </a:lnTo>
                        <a:lnTo>
                          <a:pt x="71" y="101"/>
                        </a:lnTo>
                        <a:lnTo>
                          <a:pt x="83" y="114"/>
                        </a:lnTo>
                        <a:lnTo>
                          <a:pt x="131" y="97"/>
                        </a:lnTo>
                        <a:lnTo>
                          <a:pt x="125" y="84"/>
                        </a:lnTo>
                        <a:lnTo>
                          <a:pt x="145" y="62"/>
                        </a:lnTo>
                        <a:lnTo>
                          <a:pt x="159" y="63"/>
                        </a:lnTo>
                        <a:lnTo>
                          <a:pt x="146" y="70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54" y="109"/>
                        </a:lnTo>
                        <a:lnTo>
                          <a:pt x="182" y="75"/>
                        </a:lnTo>
                        <a:lnTo>
                          <a:pt x="279" y="35"/>
                        </a:lnTo>
                        <a:lnTo>
                          <a:pt x="279" y="13"/>
                        </a:lnTo>
                        <a:lnTo>
                          <a:pt x="323" y="4"/>
                        </a:lnTo>
                        <a:lnTo>
                          <a:pt x="348" y="16"/>
                        </a:lnTo>
                        <a:lnTo>
                          <a:pt x="406" y="0"/>
                        </a:lnTo>
                        <a:lnTo>
                          <a:pt x="425" y="8"/>
                        </a:lnTo>
                        <a:lnTo>
                          <a:pt x="464" y="48"/>
                        </a:lnTo>
                        <a:lnTo>
                          <a:pt x="509" y="40"/>
                        </a:lnTo>
                        <a:lnTo>
                          <a:pt x="537" y="54"/>
                        </a:lnTo>
                        <a:lnTo>
                          <a:pt x="606" y="51"/>
                        </a:lnTo>
                        <a:lnTo>
                          <a:pt x="659" y="67"/>
                        </a:lnTo>
                        <a:lnTo>
                          <a:pt x="654" y="88"/>
                        </a:lnTo>
                        <a:lnTo>
                          <a:pt x="609" y="102"/>
                        </a:lnTo>
                        <a:lnTo>
                          <a:pt x="617" y="116"/>
                        </a:lnTo>
                        <a:lnTo>
                          <a:pt x="598" y="124"/>
                        </a:lnTo>
                        <a:lnTo>
                          <a:pt x="597" y="152"/>
                        </a:lnTo>
                        <a:lnTo>
                          <a:pt x="580" y="172"/>
                        </a:lnTo>
                        <a:lnTo>
                          <a:pt x="572" y="154"/>
                        </a:lnTo>
                        <a:lnTo>
                          <a:pt x="582" y="138"/>
                        </a:lnTo>
                        <a:lnTo>
                          <a:pt x="580" y="104"/>
                        </a:lnTo>
                        <a:lnTo>
                          <a:pt x="563" y="121"/>
                        </a:lnTo>
                        <a:lnTo>
                          <a:pt x="549" y="131"/>
                        </a:lnTo>
                        <a:lnTo>
                          <a:pt x="535" y="116"/>
                        </a:lnTo>
                        <a:lnTo>
                          <a:pt x="526" y="154"/>
                        </a:lnTo>
                        <a:lnTo>
                          <a:pt x="536" y="154"/>
                        </a:lnTo>
                        <a:lnTo>
                          <a:pt x="534" y="180"/>
                        </a:lnTo>
                        <a:lnTo>
                          <a:pt x="522" y="207"/>
                        </a:lnTo>
                        <a:lnTo>
                          <a:pt x="507" y="218"/>
                        </a:lnTo>
                        <a:lnTo>
                          <a:pt x="519" y="236"/>
                        </a:lnTo>
                        <a:lnTo>
                          <a:pt x="511" y="248"/>
                        </a:lnTo>
                        <a:lnTo>
                          <a:pt x="508" y="237"/>
                        </a:lnTo>
                        <a:lnTo>
                          <a:pt x="508" y="233"/>
                        </a:lnTo>
                        <a:lnTo>
                          <a:pt x="498" y="227"/>
                        </a:lnTo>
                        <a:lnTo>
                          <a:pt x="483" y="235"/>
                        </a:lnTo>
                        <a:lnTo>
                          <a:pt x="497" y="265"/>
                        </a:lnTo>
                        <a:lnTo>
                          <a:pt x="502" y="281"/>
                        </a:lnTo>
                        <a:lnTo>
                          <a:pt x="485" y="322"/>
                        </a:lnTo>
                        <a:lnTo>
                          <a:pt x="455" y="333"/>
                        </a:lnTo>
                        <a:lnTo>
                          <a:pt x="430" y="331"/>
                        </a:lnTo>
                        <a:lnTo>
                          <a:pt x="442" y="347"/>
                        </a:lnTo>
                        <a:lnTo>
                          <a:pt x="443" y="371"/>
                        </a:lnTo>
                        <a:lnTo>
                          <a:pt x="426" y="399"/>
                        </a:lnTo>
                        <a:lnTo>
                          <a:pt x="406" y="384"/>
                        </a:lnTo>
                        <a:lnTo>
                          <a:pt x="403" y="400"/>
                        </a:lnTo>
                        <a:lnTo>
                          <a:pt x="418" y="414"/>
                        </a:lnTo>
                        <a:lnTo>
                          <a:pt x="431" y="434"/>
                        </a:lnTo>
                        <a:lnTo>
                          <a:pt x="409" y="422"/>
                        </a:lnTo>
                        <a:lnTo>
                          <a:pt x="384" y="354"/>
                        </a:lnTo>
                        <a:lnTo>
                          <a:pt x="353" y="335"/>
                        </a:lnTo>
                        <a:lnTo>
                          <a:pt x="330" y="337"/>
                        </a:lnTo>
                        <a:lnTo>
                          <a:pt x="301" y="376"/>
                        </a:lnTo>
                        <a:lnTo>
                          <a:pt x="305" y="390"/>
                        </a:lnTo>
                        <a:lnTo>
                          <a:pt x="295" y="417"/>
                        </a:lnTo>
                        <a:lnTo>
                          <a:pt x="285" y="417"/>
                        </a:lnTo>
                        <a:lnTo>
                          <a:pt x="252" y="359"/>
                        </a:lnTo>
                        <a:lnTo>
                          <a:pt x="252" y="334"/>
                        </a:lnTo>
                        <a:lnTo>
                          <a:pt x="245" y="343"/>
                        </a:lnTo>
                        <a:lnTo>
                          <a:pt x="226" y="343"/>
                        </a:lnTo>
                        <a:lnTo>
                          <a:pt x="233" y="328"/>
                        </a:lnTo>
                        <a:lnTo>
                          <a:pt x="204" y="308"/>
                        </a:lnTo>
                        <a:lnTo>
                          <a:pt x="167" y="308"/>
                        </a:lnTo>
                        <a:lnTo>
                          <a:pt x="135" y="288"/>
                        </a:lnTo>
                        <a:lnTo>
                          <a:pt x="133" y="308"/>
                        </a:lnTo>
                        <a:lnTo>
                          <a:pt x="159" y="326"/>
                        </a:lnTo>
                        <a:lnTo>
                          <a:pt x="168" y="326"/>
                        </a:lnTo>
                        <a:lnTo>
                          <a:pt x="142" y="350"/>
                        </a:lnTo>
                        <a:lnTo>
                          <a:pt x="115" y="356"/>
                        </a:lnTo>
                        <a:lnTo>
                          <a:pt x="115" y="342"/>
                        </a:lnTo>
                        <a:lnTo>
                          <a:pt x="77" y="293"/>
                        </a:lnTo>
                        <a:lnTo>
                          <a:pt x="72" y="280"/>
                        </a:lnTo>
                        <a:lnTo>
                          <a:pt x="93" y="264"/>
                        </a:lnTo>
                        <a:lnTo>
                          <a:pt x="90" y="244"/>
                        </a:lnTo>
                        <a:lnTo>
                          <a:pt x="90" y="222"/>
                        </a:lnTo>
                        <a:lnTo>
                          <a:pt x="101" y="218"/>
                        </a:lnTo>
                        <a:lnTo>
                          <a:pt x="90" y="207"/>
                        </a:lnTo>
                        <a:lnTo>
                          <a:pt x="90" y="128"/>
                        </a:lnTo>
                        <a:lnTo>
                          <a:pt x="37" y="128"/>
                        </a:lnTo>
                        <a:lnTo>
                          <a:pt x="52" y="109"/>
                        </a:lnTo>
                        <a:lnTo>
                          <a:pt x="51" y="102"/>
                        </a:lnTo>
                        <a:lnTo>
                          <a:pt x="33" y="119"/>
                        </a:lnTo>
                        <a:lnTo>
                          <a:pt x="27" y="128"/>
                        </a:lnTo>
                        <a:lnTo>
                          <a:pt x="0" y="1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7186320" y="5416920"/>
                    <a:ext cx="5364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8">
                        <a:moveTo>
                          <a:pt x="38" y="0"/>
                        </a:moveTo>
                        <a:lnTo>
                          <a:pt x="38" y="11"/>
                        </a:lnTo>
                        <a:lnTo>
                          <a:pt x="33" y="18"/>
                        </a:lnTo>
                        <a:lnTo>
                          <a:pt x="34" y="30"/>
                        </a:lnTo>
                        <a:lnTo>
                          <a:pt x="29" y="46"/>
                        </a:lnTo>
                        <a:lnTo>
                          <a:pt x="19" y="60"/>
                        </a:lnTo>
                        <a:lnTo>
                          <a:pt x="4" y="70"/>
                        </a:lnTo>
                        <a:lnTo>
                          <a:pt x="0" y="86"/>
                        </a:lnTo>
                        <a:lnTo>
                          <a:pt x="6" y="87"/>
                        </a:lnTo>
                        <a:lnTo>
                          <a:pt x="6" y="72"/>
                        </a:lnTo>
                        <a:lnTo>
                          <a:pt x="26" y="71"/>
                        </a:lnTo>
                        <a:lnTo>
                          <a:pt x="42" y="61"/>
                        </a:lnTo>
                        <a:lnTo>
                          <a:pt x="42" y="40"/>
                        </a:lnTo>
                        <a:lnTo>
                          <a:pt x="46" y="33"/>
                        </a:lnTo>
                        <a:lnTo>
                          <a:pt x="38" y="19"/>
                        </a:lnTo>
                        <a:lnTo>
                          <a:pt x="49" y="15"/>
                        </a:lnTo>
                        <a:lnTo>
                          <a:pt x="56" y="4"/>
                        </a:lnTo>
                        <a:lnTo>
                          <a:pt x="42" y="6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3920" bIns="439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>
                    <a:off x="6981840" y="5656680"/>
                    <a:ext cx="100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3" y="20"/>
                        </a:lnTo>
                        <a:lnTo>
                          <a:pt x="10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4480" bIns="-2448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>
                    <a:off x="7064280" y="5677920"/>
                    <a:ext cx="1260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54">
                        <a:moveTo>
                          <a:pt x="0" y="0"/>
                        </a:moveTo>
                        <a:lnTo>
                          <a:pt x="20" y="4"/>
                        </a:lnTo>
                        <a:lnTo>
                          <a:pt x="50" y="24"/>
                        </a:lnTo>
                        <a:lnTo>
                          <a:pt x="45" y="34"/>
                        </a:lnTo>
                        <a:lnTo>
                          <a:pt x="70" y="44"/>
                        </a:lnTo>
                        <a:lnTo>
                          <a:pt x="132" y="44"/>
                        </a:lnTo>
                        <a:lnTo>
                          <a:pt x="64" y="53"/>
                        </a:lnTo>
                        <a:lnTo>
                          <a:pt x="45" y="34"/>
                        </a:lnTo>
                        <a:lnTo>
                          <a:pt x="28" y="3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9360" bIns="9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7164720" y="5721480"/>
                    <a:ext cx="13644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27">
                        <a:moveTo>
                          <a:pt x="119" y="123"/>
                        </a:moveTo>
                        <a:lnTo>
                          <a:pt x="115" y="124"/>
                        </a:lnTo>
                        <a:lnTo>
                          <a:pt x="112" y="126"/>
                        </a:lnTo>
                        <a:lnTo>
                          <a:pt x="109" y="122"/>
                        </a:lnTo>
                        <a:lnTo>
                          <a:pt x="96" y="116"/>
                        </a:lnTo>
                        <a:lnTo>
                          <a:pt x="94" y="107"/>
                        </a:lnTo>
                        <a:lnTo>
                          <a:pt x="90" y="104"/>
                        </a:lnTo>
                        <a:lnTo>
                          <a:pt x="79" y="104"/>
                        </a:lnTo>
                        <a:lnTo>
                          <a:pt x="79" y="98"/>
                        </a:lnTo>
                        <a:lnTo>
                          <a:pt x="76" y="96"/>
                        </a:lnTo>
                        <a:lnTo>
                          <a:pt x="75" y="90"/>
                        </a:lnTo>
                        <a:lnTo>
                          <a:pt x="67" y="89"/>
                        </a:lnTo>
                        <a:lnTo>
                          <a:pt x="59" y="87"/>
                        </a:lnTo>
                        <a:lnTo>
                          <a:pt x="53" y="89"/>
                        </a:lnTo>
                        <a:lnTo>
                          <a:pt x="53" y="90"/>
                        </a:lnTo>
                        <a:lnTo>
                          <a:pt x="38" y="94"/>
                        </a:lnTo>
                        <a:lnTo>
                          <a:pt x="38" y="97"/>
                        </a:lnTo>
                        <a:lnTo>
                          <a:pt x="25" y="97"/>
                        </a:lnTo>
                        <a:lnTo>
                          <a:pt x="17" y="101"/>
                        </a:lnTo>
                        <a:lnTo>
                          <a:pt x="9" y="97"/>
                        </a:lnTo>
                        <a:lnTo>
                          <a:pt x="8" y="96"/>
                        </a:lnTo>
                        <a:lnTo>
                          <a:pt x="8" y="87"/>
                        </a:lnTo>
                        <a:lnTo>
                          <a:pt x="6" y="80"/>
                        </a:lnTo>
                        <a:lnTo>
                          <a:pt x="3" y="72"/>
                        </a:lnTo>
                        <a:lnTo>
                          <a:pt x="5" y="67"/>
                        </a:lnTo>
                        <a:lnTo>
                          <a:pt x="2" y="65"/>
                        </a:lnTo>
                        <a:lnTo>
                          <a:pt x="0" y="54"/>
                        </a:lnTo>
                        <a:lnTo>
                          <a:pt x="2" y="45"/>
                        </a:lnTo>
                        <a:lnTo>
                          <a:pt x="10" y="39"/>
                        </a:lnTo>
                        <a:lnTo>
                          <a:pt x="27" y="35"/>
                        </a:lnTo>
                        <a:lnTo>
                          <a:pt x="31" y="29"/>
                        </a:lnTo>
                        <a:lnTo>
                          <a:pt x="29" y="23"/>
                        </a:lnTo>
                        <a:lnTo>
                          <a:pt x="34" y="22"/>
                        </a:lnTo>
                        <a:lnTo>
                          <a:pt x="35" y="25"/>
                        </a:lnTo>
                        <a:lnTo>
                          <a:pt x="37" y="20"/>
                        </a:lnTo>
                        <a:lnTo>
                          <a:pt x="47" y="13"/>
                        </a:lnTo>
                        <a:lnTo>
                          <a:pt x="53" y="16"/>
                        </a:lnTo>
                        <a:lnTo>
                          <a:pt x="59" y="14"/>
                        </a:lnTo>
                        <a:lnTo>
                          <a:pt x="62" y="7"/>
                        </a:lnTo>
                        <a:lnTo>
                          <a:pt x="68" y="6"/>
                        </a:lnTo>
                        <a:lnTo>
                          <a:pt x="67" y="1"/>
                        </a:lnTo>
                        <a:lnTo>
                          <a:pt x="76" y="4"/>
                        </a:lnTo>
                        <a:lnTo>
                          <a:pt x="84" y="3"/>
                        </a:lnTo>
                        <a:lnTo>
                          <a:pt x="88" y="20"/>
                        </a:lnTo>
                        <a:lnTo>
                          <a:pt x="94" y="25"/>
                        </a:lnTo>
                        <a:lnTo>
                          <a:pt x="99" y="25"/>
                        </a:lnTo>
                        <a:lnTo>
                          <a:pt x="102" y="14"/>
                        </a:lnTo>
                        <a:lnTo>
                          <a:pt x="100" y="9"/>
                        </a:lnTo>
                        <a:lnTo>
                          <a:pt x="102" y="1"/>
                        </a:lnTo>
                        <a:lnTo>
                          <a:pt x="105" y="0"/>
                        </a:lnTo>
                        <a:lnTo>
                          <a:pt x="109" y="10"/>
                        </a:lnTo>
                        <a:lnTo>
                          <a:pt x="112" y="13"/>
                        </a:lnTo>
                        <a:lnTo>
                          <a:pt x="115" y="22"/>
                        </a:lnTo>
                        <a:lnTo>
                          <a:pt x="119" y="35"/>
                        </a:lnTo>
                        <a:lnTo>
                          <a:pt x="126" y="38"/>
                        </a:lnTo>
                        <a:lnTo>
                          <a:pt x="133" y="47"/>
                        </a:lnTo>
                        <a:lnTo>
                          <a:pt x="135" y="52"/>
                        </a:lnTo>
                        <a:lnTo>
                          <a:pt x="141" y="58"/>
                        </a:lnTo>
                        <a:lnTo>
                          <a:pt x="143" y="68"/>
                        </a:lnTo>
                        <a:lnTo>
                          <a:pt x="143" y="76"/>
                        </a:lnTo>
                        <a:lnTo>
                          <a:pt x="141" y="89"/>
                        </a:lnTo>
                        <a:lnTo>
                          <a:pt x="135" y="97"/>
                        </a:lnTo>
                        <a:lnTo>
                          <a:pt x="132" y="107"/>
                        </a:lnTo>
                        <a:lnTo>
                          <a:pt x="132" y="116"/>
                        </a:lnTo>
                        <a:lnTo>
                          <a:pt x="126" y="118"/>
                        </a:lnTo>
                        <a:lnTo>
                          <a:pt x="119" y="12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>
                    <a:off x="7272720" y="5855400"/>
                    <a:ext cx="10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5" y="14"/>
                        </a:moveTo>
                        <a:lnTo>
                          <a:pt x="2" y="11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10" y="0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8" y="13"/>
                        </a:lnTo>
                        <a:lnTo>
                          <a:pt x="7" y="14"/>
                        </a:lnTo>
                        <a:lnTo>
                          <a:pt x="7" y="15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9520" bIns="-295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6799680" y="5711400"/>
                    <a:ext cx="15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60">
                        <a:moveTo>
                          <a:pt x="2" y="21"/>
                        </a:moveTo>
                        <a:lnTo>
                          <a:pt x="8" y="16"/>
                        </a:lnTo>
                        <a:lnTo>
                          <a:pt x="12" y="0"/>
                        </a:lnTo>
                        <a:lnTo>
                          <a:pt x="15" y="24"/>
                        </a:lnTo>
                        <a:lnTo>
                          <a:pt x="10" y="53"/>
                        </a:lnTo>
                        <a:lnTo>
                          <a:pt x="0" y="59"/>
                        </a:lnTo>
                        <a:lnTo>
                          <a:pt x="0" y="45"/>
                        </a:lnTo>
                        <a:lnTo>
                          <a:pt x="3" y="36"/>
                        </a:lnTo>
                        <a:lnTo>
                          <a:pt x="2" y="21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5120" bIns="1512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349" name=""/>
          <p:cNvSpPr/>
          <p:nvPr/>
        </p:nvSpPr>
        <p:spPr>
          <a:xfrm flipV="1">
            <a:off x="6953400" y="4151160"/>
            <a:ext cx="0" cy="594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 flipH="1">
            <a:off x="1844640" y="4151160"/>
            <a:ext cx="1555920" cy="1706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6070680" y="3686040"/>
            <a:ext cx="1739880" cy="303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id Explor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 flipH="1">
            <a:off x="5546880" y="4157640"/>
            <a:ext cx="1110960" cy="1038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 flipH="1">
            <a:off x="1844280" y="4232160"/>
            <a:ext cx="4738680" cy="177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 flipH="1">
            <a:off x="2511000" y="4232160"/>
            <a:ext cx="4071960" cy="1038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6986160" y="4300560"/>
            <a:ext cx="1090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          G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369200" y="4448160"/>
            <a:ext cx="295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4944960" y="4181400"/>
            <a:ext cx="1019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M          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324400" y="4329000"/>
            <a:ext cx="297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1549440" y="6080040"/>
            <a:ext cx="104148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M &amp; 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4435560" y="5411880"/>
            <a:ext cx="105084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M &amp; 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2881440" y="4892760"/>
            <a:ext cx="108108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M &amp; 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2611440" y="3656160"/>
            <a:ext cx="1743120" cy="334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960" rIns="12096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patch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888840" y="4151160"/>
            <a:ext cx="7398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4683960" y="6330960"/>
            <a:ext cx="3625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M: Local Resource Manager, TS: Trade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3405240" y="3040200"/>
            <a:ext cx="0" cy="369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7996320" y="2743200"/>
            <a:ext cx="0" cy="1038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>
            <a:off x="7848720" y="3781440"/>
            <a:ext cx="147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 flipH="1">
            <a:off x="7848720" y="3262320"/>
            <a:ext cx="147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 flipH="1">
            <a:off x="7848720" y="2743200"/>
            <a:ext cx="147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"/>
          <p:cNvSpPr/>
          <p:nvPr/>
        </p:nvSpPr>
        <p:spPr>
          <a:xfrm>
            <a:off x="364320" y="5486400"/>
            <a:ext cx="574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74520" y="2965320"/>
            <a:ext cx="1109880" cy="118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1481040" y="2595600"/>
            <a:ext cx="2960640" cy="2816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5700600" y="3484440"/>
            <a:ext cx="3257640" cy="2521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2198160" y="5486400"/>
            <a:ext cx="161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Resource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6300720" y="6080040"/>
            <a:ext cx="187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 Resource Do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1628640" y="2817720"/>
            <a:ext cx="739800" cy="1704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2665440" y="2879640"/>
            <a:ext cx="155412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rid Explor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2665440" y="3546360"/>
            <a:ext cx="155412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hedule Advi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2665440" y="4213080"/>
            <a:ext cx="1554120" cy="3020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de 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1628640" y="3262320"/>
            <a:ext cx="8892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o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2368440" y="3706920"/>
            <a:ext cx="297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332160" y="3855960"/>
            <a:ext cx="0" cy="37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1628640" y="4881600"/>
            <a:ext cx="259092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ployment Ag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1998720" y="4522680"/>
            <a:ext cx="0" cy="370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3332160" y="3187800"/>
            <a:ext cx="0" cy="371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5923080" y="3632040"/>
            <a:ext cx="1406520" cy="3020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d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5923080" y="4881600"/>
            <a:ext cx="1703160" cy="286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Resource Allo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4219560" y="3781080"/>
            <a:ext cx="1703520" cy="592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4219560" y="5041800"/>
            <a:ext cx="1703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5923080" y="4151160"/>
            <a:ext cx="140652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r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6070680" y="5411880"/>
            <a:ext cx="444600" cy="446040"/>
          </a:xfrm>
          <a:prstGeom prst="ellipse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6bf69"/>
                </a:solidFill>
                <a:latin typeface="Arial"/>
              </a:rPr>
              <a:t>R</a:t>
            </a:r>
            <a:r>
              <a:rPr b="1" lang="en-US" sz="1900" spc="-1" strike="noStrike" baseline="-25000">
                <a:solidFill>
                  <a:srgbClr val="f6bf69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7551720" y="4448160"/>
            <a:ext cx="125892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ther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184400" y="3632040"/>
            <a:ext cx="4442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 flipV="1">
            <a:off x="7329600" y="2520720"/>
            <a:ext cx="0" cy="888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4219560" y="2371320"/>
            <a:ext cx="1925640" cy="668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6" name="" descr=""/>
          <p:cNvPicPr/>
          <p:nvPr/>
        </p:nvPicPr>
        <p:blipFill>
          <a:blip r:embed="rId1"/>
          <a:stretch/>
        </p:blipFill>
        <p:spPr>
          <a:xfrm>
            <a:off x="4516560" y="3240000"/>
            <a:ext cx="1036440" cy="392040"/>
          </a:xfrm>
          <a:prstGeom prst="rect">
            <a:avLst/>
          </a:prstGeom>
          <a:ln w="0">
            <a:noFill/>
          </a:ln>
        </p:spPr>
      </p:pic>
      <p:sp>
        <p:nvSpPr>
          <p:cNvPr id="3397" name=""/>
          <p:cNvSpPr/>
          <p:nvPr/>
        </p:nvSpPr>
        <p:spPr>
          <a:xfrm>
            <a:off x="4516560" y="3559320"/>
            <a:ext cx="1110960" cy="1110960"/>
          </a:xfrm>
          <a:prstGeom prst="irregularSeal1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8" name=""/>
          <p:cNvGrpSpPr/>
          <p:nvPr/>
        </p:nvGrpSpPr>
        <p:grpSpPr>
          <a:xfrm>
            <a:off x="7647120" y="1779120"/>
            <a:ext cx="1089000" cy="1335240"/>
            <a:chOff x="7647120" y="1779120"/>
            <a:chExt cx="1089000" cy="1335240"/>
          </a:xfrm>
        </p:grpSpPr>
        <p:sp>
          <p:nvSpPr>
            <p:cNvPr id="3399" name=""/>
            <p:cNvSpPr/>
            <p:nvPr/>
          </p:nvSpPr>
          <p:spPr>
            <a:xfrm>
              <a:off x="7647120" y="1804680"/>
              <a:ext cx="1089000" cy="1309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5360" bIns="453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0" name=""/>
            <p:cNvGrpSpPr/>
            <p:nvPr/>
          </p:nvGrpSpPr>
          <p:grpSpPr>
            <a:xfrm>
              <a:off x="7684920" y="1779120"/>
              <a:ext cx="1032840" cy="1271520"/>
              <a:chOff x="7684920" y="1779120"/>
              <a:chExt cx="1032840" cy="1271520"/>
            </a:xfrm>
          </p:grpSpPr>
          <p:grpSp>
            <p:nvGrpSpPr>
              <p:cNvPr id="3401" name=""/>
              <p:cNvGrpSpPr/>
              <p:nvPr/>
            </p:nvGrpSpPr>
            <p:grpSpPr>
              <a:xfrm>
                <a:off x="7821360" y="1779120"/>
                <a:ext cx="896400" cy="1271520"/>
                <a:chOff x="7821360" y="1779120"/>
                <a:chExt cx="896400" cy="1271520"/>
              </a:xfrm>
            </p:grpSpPr>
            <p:sp>
              <p:nvSpPr>
                <p:cNvPr id="3402" name=""/>
                <p:cNvSpPr/>
                <p:nvPr/>
              </p:nvSpPr>
              <p:spPr>
                <a:xfrm>
                  <a:off x="7821360" y="1819440"/>
                  <a:ext cx="896400" cy="1141200"/>
                </a:xfrm>
                <a:custGeom>
                  <a:avLst/>
                  <a:gdLst/>
                  <a:ahLst/>
                  <a:rect l="l" t="t" r="r" b="b"/>
                  <a:pathLst>
                    <a:path w="873" h="999">
                      <a:moveTo>
                        <a:pt x="492" y="0"/>
                      </a:moveTo>
                      <a:lnTo>
                        <a:pt x="546" y="19"/>
                      </a:lnTo>
                      <a:lnTo>
                        <a:pt x="598" y="44"/>
                      </a:lnTo>
                      <a:lnTo>
                        <a:pt x="646" y="73"/>
                      </a:lnTo>
                      <a:lnTo>
                        <a:pt x="691" y="106"/>
                      </a:lnTo>
                      <a:lnTo>
                        <a:pt x="731" y="145"/>
                      </a:lnTo>
                      <a:lnTo>
                        <a:pt x="767" y="186"/>
                      </a:lnTo>
                      <a:lnTo>
                        <a:pt x="798" y="231"/>
                      </a:lnTo>
                      <a:lnTo>
                        <a:pt x="825" y="278"/>
                      </a:lnTo>
                      <a:lnTo>
                        <a:pt x="845" y="328"/>
                      </a:lnTo>
                      <a:lnTo>
                        <a:pt x="860" y="380"/>
                      </a:lnTo>
                      <a:lnTo>
                        <a:pt x="869" y="432"/>
                      </a:lnTo>
                      <a:lnTo>
                        <a:pt x="872" y="486"/>
                      </a:lnTo>
                      <a:lnTo>
                        <a:pt x="869" y="540"/>
                      </a:lnTo>
                      <a:lnTo>
                        <a:pt x="860" y="593"/>
                      </a:lnTo>
                      <a:lnTo>
                        <a:pt x="845" y="645"/>
                      </a:lnTo>
                      <a:lnTo>
                        <a:pt x="825" y="694"/>
                      </a:lnTo>
                      <a:lnTo>
                        <a:pt x="798" y="742"/>
                      </a:lnTo>
                      <a:lnTo>
                        <a:pt x="767" y="787"/>
                      </a:lnTo>
                      <a:lnTo>
                        <a:pt x="731" y="828"/>
                      </a:lnTo>
                      <a:lnTo>
                        <a:pt x="691" y="867"/>
                      </a:lnTo>
                      <a:lnTo>
                        <a:pt x="646" y="901"/>
                      </a:lnTo>
                      <a:lnTo>
                        <a:pt x="598" y="929"/>
                      </a:lnTo>
                      <a:lnTo>
                        <a:pt x="546" y="954"/>
                      </a:lnTo>
                      <a:lnTo>
                        <a:pt x="492" y="973"/>
                      </a:lnTo>
                      <a:lnTo>
                        <a:pt x="437" y="987"/>
                      </a:lnTo>
                      <a:lnTo>
                        <a:pt x="380" y="995"/>
                      </a:lnTo>
                      <a:lnTo>
                        <a:pt x="323" y="998"/>
                      </a:lnTo>
                      <a:lnTo>
                        <a:pt x="265" y="995"/>
                      </a:lnTo>
                      <a:lnTo>
                        <a:pt x="208" y="987"/>
                      </a:lnTo>
                      <a:lnTo>
                        <a:pt x="153" y="973"/>
                      </a:lnTo>
                      <a:lnTo>
                        <a:pt x="100" y="954"/>
                      </a:lnTo>
                      <a:lnTo>
                        <a:pt x="49" y="929"/>
                      </a:lnTo>
                      <a:lnTo>
                        <a:pt x="0" y="901"/>
                      </a:lnTo>
                      <a:lnTo>
                        <a:pt x="31" y="860"/>
                      </a:lnTo>
                      <a:lnTo>
                        <a:pt x="76" y="886"/>
                      </a:lnTo>
                      <a:lnTo>
                        <a:pt x="122" y="908"/>
                      </a:lnTo>
                      <a:lnTo>
                        <a:pt x="170" y="925"/>
                      </a:lnTo>
                      <a:lnTo>
                        <a:pt x="220" y="938"/>
                      </a:lnTo>
                      <a:lnTo>
                        <a:pt x="270" y="945"/>
                      </a:lnTo>
                      <a:lnTo>
                        <a:pt x="323" y="948"/>
                      </a:lnTo>
                      <a:lnTo>
                        <a:pt x="374" y="945"/>
                      </a:lnTo>
                      <a:lnTo>
                        <a:pt x="426" y="938"/>
                      </a:lnTo>
                      <a:lnTo>
                        <a:pt x="476" y="925"/>
                      </a:lnTo>
                      <a:lnTo>
                        <a:pt x="525" y="908"/>
                      </a:lnTo>
                      <a:lnTo>
                        <a:pt x="571" y="886"/>
                      </a:lnTo>
                      <a:lnTo>
                        <a:pt x="614" y="860"/>
                      </a:lnTo>
                      <a:lnTo>
                        <a:pt x="654" y="830"/>
                      </a:lnTo>
                      <a:lnTo>
                        <a:pt x="691" y="796"/>
                      </a:lnTo>
                      <a:lnTo>
                        <a:pt x="723" y="758"/>
                      </a:lnTo>
                      <a:lnTo>
                        <a:pt x="752" y="716"/>
                      </a:lnTo>
                      <a:lnTo>
                        <a:pt x="776" y="674"/>
                      </a:lnTo>
                      <a:lnTo>
                        <a:pt x="795" y="630"/>
                      </a:lnTo>
                      <a:lnTo>
                        <a:pt x="807" y="582"/>
                      </a:lnTo>
                      <a:lnTo>
                        <a:pt x="815" y="534"/>
                      </a:lnTo>
                      <a:lnTo>
                        <a:pt x="818" y="486"/>
                      </a:lnTo>
                      <a:lnTo>
                        <a:pt x="815" y="437"/>
                      </a:lnTo>
                      <a:lnTo>
                        <a:pt x="807" y="390"/>
                      </a:lnTo>
                      <a:lnTo>
                        <a:pt x="795" y="343"/>
                      </a:lnTo>
                      <a:lnTo>
                        <a:pt x="776" y="299"/>
                      </a:lnTo>
                      <a:lnTo>
                        <a:pt x="752" y="255"/>
                      </a:lnTo>
                      <a:lnTo>
                        <a:pt x="723" y="215"/>
                      </a:lnTo>
                      <a:lnTo>
                        <a:pt x="691" y="177"/>
                      </a:lnTo>
                      <a:lnTo>
                        <a:pt x="654" y="143"/>
                      </a:lnTo>
                      <a:lnTo>
                        <a:pt x="614" y="113"/>
                      </a:lnTo>
                      <a:lnTo>
                        <a:pt x="571" y="87"/>
                      </a:lnTo>
                      <a:lnTo>
                        <a:pt x="525" y="64"/>
                      </a:lnTo>
                      <a:lnTo>
                        <a:pt x="476" y="48"/>
                      </a:lnTo>
                      <a:lnTo>
                        <a:pt x="477" y="44"/>
                      </a:lnTo>
                      <a:lnTo>
                        <a:pt x="49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 flipV="1">
                  <a:off x="7849800" y="2772000"/>
                  <a:ext cx="73800" cy="185040"/>
                </a:xfrm>
                <a:prstGeom prst="line">
                  <a:avLst/>
                </a:prstGeom>
                <a:ln w="25560">
                  <a:solidFill>
                    <a:srgbClr val="f6bf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 flipV="1">
                  <a:off x="8352000" y="1886760"/>
                  <a:ext cx="7920" cy="7056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7923960" y="2951640"/>
                  <a:ext cx="523440" cy="99000"/>
                </a:xfrm>
                <a:custGeom>
                  <a:avLst/>
                  <a:gdLst/>
                  <a:ahLst/>
                  <a:rect l="l" t="t" r="r" b="b"/>
                  <a:pathLst>
                    <a:path w="510" h="87">
                      <a:moveTo>
                        <a:pt x="2" y="55"/>
                      </a:moveTo>
                      <a:lnTo>
                        <a:pt x="12" y="45"/>
                      </a:lnTo>
                      <a:lnTo>
                        <a:pt x="27" y="37"/>
                      </a:lnTo>
                      <a:lnTo>
                        <a:pt x="54" y="24"/>
                      </a:lnTo>
                      <a:lnTo>
                        <a:pt x="85" y="17"/>
                      </a:lnTo>
                      <a:lnTo>
                        <a:pt x="114" y="11"/>
                      </a:lnTo>
                      <a:lnTo>
                        <a:pt x="153" y="5"/>
                      </a:lnTo>
                      <a:lnTo>
                        <a:pt x="190" y="2"/>
                      </a:lnTo>
                      <a:lnTo>
                        <a:pt x="234" y="0"/>
                      </a:lnTo>
                      <a:lnTo>
                        <a:pt x="288" y="1"/>
                      </a:lnTo>
                      <a:lnTo>
                        <a:pt x="343" y="3"/>
                      </a:lnTo>
                      <a:lnTo>
                        <a:pt x="383" y="8"/>
                      </a:lnTo>
                      <a:lnTo>
                        <a:pt x="424" y="15"/>
                      </a:lnTo>
                      <a:lnTo>
                        <a:pt x="463" y="27"/>
                      </a:lnTo>
                      <a:lnTo>
                        <a:pt x="484" y="37"/>
                      </a:lnTo>
                      <a:lnTo>
                        <a:pt x="497" y="46"/>
                      </a:lnTo>
                      <a:lnTo>
                        <a:pt x="509" y="61"/>
                      </a:lnTo>
                      <a:lnTo>
                        <a:pt x="488" y="69"/>
                      </a:lnTo>
                      <a:lnTo>
                        <a:pt x="453" y="75"/>
                      </a:lnTo>
                      <a:lnTo>
                        <a:pt x="410" y="80"/>
                      </a:lnTo>
                      <a:lnTo>
                        <a:pt x="368" y="84"/>
                      </a:lnTo>
                      <a:lnTo>
                        <a:pt x="319" y="85"/>
                      </a:lnTo>
                      <a:lnTo>
                        <a:pt x="265" y="86"/>
                      </a:lnTo>
                      <a:lnTo>
                        <a:pt x="213" y="86"/>
                      </a:lnTo>
                      <a:lnTo>
                        <a:pt x="159" y="85"/>
                      </a:lnTo>
                      <a:lnTo>
                        <a:pt x="99" y="81"/>
                      </a:lnTo>
                      <a:lnTo>
                        <a:pt x="52" y="76"/>
                      </a:lnTo>
                      <a:lnTo>
                        <a:pt x="12" y="68"/>
                      </a:lnTo>
                      <a:lnTo>
                        <a:pt x="0" y="62"/>
                      </a:lnTo>
                      <a:lnTo>
                        <a:pt x="2" y="55"/>
                      </a:lnTo>
                    </a:path>
                  </a:pathLst>
                </a:custGeom>
                <a:solidFill>
                  <a:srgbClr val="f6bf69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 flipV="1">
                  <a:off x="8400240" y="1779120"/>
                  <a:ext cx="10080" cy="76680"/>
                </a:xfrm>
                <a:prstGeom prst="line">
                  <a:avLst/>
                </a:prstGeom>
                <a:ln w="25560">
                  <a:solidFill>
                    <a:srgbClr val="3365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880" rIns="9288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7" name=""/>
              <p:cNvGrpSpPr/>
              <p:nvPr/>
            </p:nvGrpSpPr>
            <p:grpSpPr>
              <a:xfrm>
                <a:off x="7684920" y="1898280"/>
                <a:ext cx="932400" cy="963000"/>
                <a:chOff x="7684920" y="1898280"/>
                <a:chExt cx="932400" cy="963000"/>
              </a:xfrm>
            </p:grpSpPr>
            <p:sp>
              <p:nvSpPr>
                <p:cNvPr id="3408" name=""/>
                <p:cNvSpPr/>
                <p:nvPr/>
              </p:nvSpPr>
              <p:spPr>
                <a:xfrm>
                  <a:off x="7684920" y="1898280"/>
                  <a:ext cx="932400" cy="9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9deb3"/>
                    </a:gs>
                    <a:gs pos="100000">
                      <a:srgbClr val="f6bf6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9" name=""/>
                <p:cNvGrpSpPr/>
                <p:nvPr/>
              </p:nvGrpSpPr>
              <p:grpSpPr>
                <a:xfrm>
                  <a:off x="7684920" y="1998720"/>
                  <a:ext cx="867960" cy="714600"/>
                  <a:chOff x="7684920" y="1998720"/>
                  <a:chExt cx="867960" cy="714600"/>
                </a:xfrm>
              </p:grpSpPr>
              <p:sp>
                <p:nvSpPr>
                  <p:cNvPr id="3410" name=""/>
                  <p:cNvSpPr/>
                  <p:nvPr/>
                </p:nvSpPr>
                <p:spPr>
                  <a:xfrm>
                    <a:off x="7806960" y="2260080"/>
                    <a:ext cx="1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6360" bIns="-36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7823520" y="2279520"/>
                    <a:ext cx="36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9960" bIns="-399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>
                    <a:off x="7871760" y="2254680"/>
                    <a:ext cx="327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7">
                        <a:moveTo>
                          <a:pt x="31" y="0"/>
                        </a:moveTo>
                        <a:lnTo>
                          <a:pt x="19" y="0"/>
                        </a:lnTo>
                        <a:lnTo>
                          <a:pt x="13" y="7"/>
                        </a:lnTo>
                        <a:lnTo>
                          <a:pt x="8" y="7"/>
                        </a:lnTo>
                        <a:lnTo>
                          <a:pt x="5" y="11"/>
                        </a:lnTo>
                        <a:lnTo>
                          <a:pt x="0" y="11"/>
                        </a:lnTo>
                        <a:lnTo>
                          <a:pt x="0" y="20"/>
                        </a:lnTo>
                        <a:lnTo>
                          <a:pt x="7" y="26"/>
                        </a:lnTo>
                        <a:lnTo>
                          <a:pt x="25" y="26"/>
                        </a:lnTo>
                        <a:lnTo>
                          <a:pt x="31" y="2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14760" bIns="-147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>
                    <a:off x="7684920" y="2278440"/>
                    <a:ext cx="28008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31">
                        <a:moveTo>
                          <a:pt x="65" y="0"/>
                        </a:moveTo>
                        <a:lnTo>
                          <a:pt x="60" y="9"/>
                        </a:lnTo>
                        <a:lnTo>
                          <a:pt x="39" y="26"/>
                        </a:lnTo>
                        <a:lnTo>
                          <a:pt x="34" y="43"/>
                        </a:lnTo>
                        <a:lnTo>
                          <a:pt x="18" y="54"/>
                        </a:lnTo>
                        <a:lnTo>
                          <a:pt x="7" y="76"/>
                        </a:lnTo>
                        <a:lnTo>
                          <a:pt x="7" y="89"/>
                        </a:lnTo>
                        <a:lnTo>
                          <a:pt x="0" y="113"/>
                        </a:lnTo>
                        <a:lnTo>
                          <a:pt x="10" y="123"/>
                        </a:lnTo>
                        <a:lnTo>
                          <a:pt x="34" y="153"/>
                        </a:lnTo>
                        <a:lnTo>
                          <a:pt x="41" y="149"/>
                        </a:lnTo>
                        <a:lnTo>
                          <a:pt x="84" y="149"/>
                        </a:lnTo>
                        <a:lnTo>
                          <a:pt x="104" y="157"/>
                        </a:lnTo>
                        <a:lnTo>
                          <a:pt x="102" y="180"/>
                        </a:lnTo>
                        <a:lnTo>
                          <a:pt x="117" y="211"/>
                        </a:lnTo>
                        <a:lnTo>
                          <a:pt x="116" y="219"/>
                        </a:lnTo>
                        <a:lnTo>
                          <a:pt x="122" y="229"/>
                        </a:lnTo>
                        <a:lnTo>
                          <a:pt x="113" y="251"/>
                        </a:lnTo>
                        <a:lnTo>
                          <a:pt x="123" y="278"/>
                        </a:lnTo>
                        <a:lnTo>
                          <a:pt x="129" y="300"/>
                        </a:lnTo>
                        <a:lnTo>
                          <a:pt x="137" y="313"/>
                        </a:lnTo>
                        <a:lnTo>
                          <a:pt x="144" y="330"/>
                        </a:lnTo>
                        <a:lnTo>
                          <a:pt x="159" y="328"/>
                        </a:lnTo>
                        <a:lnTo>
                          <a:pt x="183" y="315"/>
                        </a:lnTo>
                        <a:lnTo>
                          <a:pt x="194" y="300"/>
                        </a:lnTo>
                        <a:lnTo>
                          <a:pt x="193" y="290"/>
                        </a:lnTo>
                        <a:lnTo>
                          <a:pt x="207" y="281"/>
                        </a:lnTo>
                        <a:lnTo>
                          <a:pt x="204" y="267"/>
                        </a:lnTo>
                        <a:lnTo>
                          <a:pt x="225" y="243"/>
                        </a:lnTo>
                        <a:lnTo>
                          <a:pt x="228" y="224"/>
                        </a:lnTo>
                        <a:lnTo>
                          <a:pt x="223" y="218"/>
                        </a:lnTo>
                        <a:lnTo>
                          <a:pt x="225" y="210"/>
                        </a:lnTo>
                        <a:lnTo>
                          <a:pt x="220" y="202"/>
                        </a:lnTo>
                        <a:lnTo>
                          <a:pt x="236" y="184"/>
                        </a:lnTo>
                        <a:lnTo>
                          <a:pt x="236" y="175"/>
                        </a:lnTo>
                        <a:lnTo>
                          <a:pt x="258" y="159"/>
                        </a:lnTo>
                        <a:lnTo>
                          <a:pt x="272" y="116"/>
                        </a:lnTo>
                        <a:lnTo>
                          <a:pt x="252" y="128"/>
                        </a:lnTo>
                        <a:lnTo>
                          <a:pt x="234" y="122"/>
                        </a:lnTo>
                        <a:lnTo>
                          <a:pt x="237" y="112"/>
                        </a:lnTo>
                        <a:lnTo>
                          <a:pt x="219" y="101"/>
                        </a:lnTo>
                        <a:lnTo>
                          <a:pt x="211" y="74"/>
                        </a:lnTo>
                        <a:lnTo>
                          <a:pt x="194" y="53"/>
                        </a:lnTo>
                        <a:lnTo>
                          <a:pt x="194" y="37"/>
                        </a:lnTo>
                        <a:lnTo>
                          <a:pt x="185" y="36"/>
                        </a:lnTo>
                        <a:lnTo>
                          <a:pt x="179" y="39"/>
                        </a:lnTo>
                        <a:lnTo>
                          <a:pt x="153" y="30"/>
                        </a:lnTo>
                        <a:lnTo>
                          <a:pt x="147" y="36"/>
                        </a:lnTo>
                        <a:lnTo>
                          <a:pt x="141" y="44"/>
                        </a:lnTo>
                        <a:lnTo>
                          <a:pt x="128" y="30"/>
                        </a:lnTo>
                        <a:lnTo>
                          <a:pt x="114" y="26"/>
                        </a:lnTo>
                        <a:lnTo>
                          <a:pt x="113" y="8"/>
                        </a:lnTo>
                        <a:lnTo>
                          <a:pt x="93" y="11"/>
                        </a:lnTo>
                        <a:lnTo>
                          <a:pt x="81" y="7"/>
                        </a:lnTo>
                        <a:lnTo>
                          <a:pt x="6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>
                    <a:off x="8334000" y="2373120"/>
                    <a:ext cx="104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6">
                        <a:moveTo>
                          <a:pt x="4" y="0"/>
                        </a:moveTo>
                        <a:lnTo>
                          <a:pt x="5" y="5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9" y="13"/>
                        </a:lnTo>
                        <a:lnTo>
                          <a:pt x="9" y="15"/>
                        </a:lnTo>
                        <a:lnTo>
                          <a:pt x="5" y="13"/>
                        </a:lnTo>
                        <a:lnTo>
                          <a:pt x="2" y="15"/>
                        </a:lnTo>
                        <a:lnTo>
                          <a:pt x="0" y="13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7000" bIns="-270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>
                    <a:off x="8280720" y="2450880"/>
                    <a:ext cx="4212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6">
                        <a:moveTo>
                          <a:pt x="0" y="28"/>
                        </a:moveTo>
                        <a:lnTo>
                          <a:pt x="15" y="28"/>
                        </a:lnTo>
                        <a:lnTo>
                          <a:pt x="31" y="0"/>
                        </a:lnTo>
                        <a:lnTo>
                          <a:pt x="40" y="16"/>
                        </a:lnTo>
                        <a:lnTo>
                          <a:pt x="33" y="55"/>
                        </a:lnTo>
                        <a:lnTo>
                          <a:pt x="3" y="46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8360" bIns="18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>
                    <a:off x="8364960" y="2475000"/>
                    <a:ext cx="72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54">
                        <a:moveTo>
                          <a:pt x="4" y="13"/>
                        </a:moveTo>
                        <a:lnTo>
                          <a:pt x="0" y="0"/>
                        </a:lnTo>
                        <a:lnTo>
                          <a:pt x="24" y="5"/>
                        </a:lnTo>
                        <a:lnTo>
                          <a:pt x="57" y="18"/>
                        </a:lnTo>
                        <a:lnTo>
                          <a:pt x="57" y="28"/>
                        </a:lnTo>
                        <a:lnTo>
                          <a:pt x="70" y="53"/>
                        </a:lnTo>
                        <a:lnTo>
                          <a:pt x="44" y="29"/>
                        </a:lnTo>
                        <a:lnTo>
                          <a:pt x="27" y="31"/>
                        </a:lnTo>
                        <a:lnTo>
                          <a:pt x="4" y="1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6200" bIns="162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8503560" y="2598480"/>
                    <a:ext cx="493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29" y="0"/>
                        </a:moveTo>
                        <a:lnTo>
                          <a:pt x="47" y="17"/>
                        </a:lnTo>
                        <a:lnTo>
                          <a:pt x="10" y="57"/>
                        </a:lnTo>
                        <a:lnTo>
                          <a:pt x="0" y="48"/>
                        </a:lnTo>
                        <a:lnTo>
                          <a:pt x="27" y="22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20880" bIns="2088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7772040" y="2157480"/>
                    <a:ext cx="244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7">
                        <a:moveTo>
                          <a:pt x="23" y="28"/>
                        </a:moveTo>
                        <a:lnTo>
                          <a:pt x="17" y="24"/>
                        </a:lnTo>
                        <a:lnTo>
                          <a:pt x="17" y="8"/>
                        </a:lnTo>
                        <a:lnTo>
                          <a:pt x="20" y="5"/>
                        </a:lnTo>
                        <a:lnTo>
                          <a:pt x="15" y="5"/>
                        </a:lnTo>
                        <a:lnTo>
                          <a:pt x="18" y="0"/>
                        </a:lnTo>
                        <a:lnTo>
                          <a:pt x="14" y="0"/>
                        </a:lnTo>
                        <a:lnTo>
                          <a:pt x="8" y="5"/>
                        </a:lnTo>
                        <a:lnTo>
                          <a:pt x="8" y="15"/>
                        </a:lnTo>
                        <a:lnTo>
                          <a:pt x="11" y="17"/>
                        </a:lnTo>
                        <a:lnTo>
                          <a:pt x="11" y="22"/>
                        </a:lnTo>
                        <a:lnTo>
                          <a:pt x="9" y="22"/>
                        </a:lnTo>
                        <a:lnTo>
                          <a:pt x="5" y="25"/>
                        </a:lnTo>
                        <a:lnTo>
                          <a:pt x="5" y="29"/>
                        </a:lnTo>
                        <a:lnTo>
                          <a:pt x="0" y="36"/>
                        </a:lnTo>
                        <a:lnTo>
                          <a:pt x="17" y="36"/>
                        </a:lnTo>
                        <a:lnTo>
                          <a:pt x="23" y="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240" bIns="-32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>
                    <a:off x="7763760" y="2171160"/>
                    <a:ext cx="12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0" y="4"/>
                        </a:moveTo>
                        <a:lnTo>
                          <a:pt x="12" y="4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10" y="9"/>
                        </a:lnTo>
                        <a:lnTo>
                          <a:pt x="10" y="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30600" bIns="-306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"/>
                  <p:cNvSpPr/>
                  <p:nvPr/>
                </p:nvSpPr>
                <p:spPr>
                  <a:xfrm>
                    <a:off x="7744320" y="2145960"/>
                    <a:ext cx="16020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22">
                        <a:moveTo>
                          <a:pt x="102" y="0"/>
                        </a:moveTo>
                        <a:lnTo>
                          <a:pt x="102" y="8"/>
                        </a:lnTo>
                        <a:lnTo>
                          <a:pt x="105" y="11"/>
                        </a:lnTo>
                        <a:lnTo>
                          <a:pt x="122" y="11"/>
                        </a:lnTo>
                        <a:lnTo>
                          <a:pt x="122" y="16"/>
                        </a:lnTo>
                        <a:lnTo>
                          <a:pt x="110" y="16"/>
                        </a:lnTo>
                        <a:lnTo>
                          <a:pt x="110" y="29"/>
                        </a:lnTo>
                        <a:lnTo>
                          <a:pt x="105" y="23"/>
                        </a:lnTo>
                        <a:lnTo>
                          <a:pt x="105" y="32"/>
                        </a:lnTo>
                        <a:lnTo>
                          <a:pt x="97" y="39"/>
                        </a:lnTo>
                        <a:lnTo>
                          <a:pt x="93" y="35"/>
                        </a:lnTo>
                        <a:lnTo>
                          <a:pt x="85" y="41"/>
                        </a:lnTo>
                        <a:lnTo>
                          <a:pt x="84" y="39"/>
                        </a:lnTo>
                        <a:lnTo>
                          <a:pt x="74" y="39"/>
                        </a:lnTo>
                        <a:lnTo>
                          <a:pt x="80" y="33"/>
                        </a:lnTo>
                        <a:lnTo>
                          <a:pt x="80" y="31"/>
                        </a:lnTo>
                        <a:lnTo>
                          <a:pt x="75" y="27"/>
                        </a:lnTo>
                        <a:lnTo>
                          <a:pt x="75" y="21"/>
                        </a:lnTo>
                        <a:lnTo>
                          <a:pt x="69" y="27"/>
                        </a:lnTo>
                        <a:lnTo>
                          <a:pt x="69" y="39"/>
                        </a:lnTo>
                        <a:lnTo>
                          <a:pt x="62" y="39"/>
                        </a:lnTo>
                        <a:lnTo>
                          <a:pt x="53" y="47"/>
                        </a:lnTo>
                        <a:lnTo>
                          <a:pt x="49" y="47"/>
                        </a:lnTo>
                        <a:lnTo>
                          <a:pt x="44" y="53"/>
                        </a:lnTo>
                        <a:lnTo>
                          <a:pt x="26" y="53"/>
                        </a:lnTo>
                        <a:lnTo>
                          <a:pt x="32" y="61"/>
                        </a:lnTo>
                        <a:lnTo>
                          <a:pt x="32" y="73"/>
                        </a:lnTo>
                        <a:lnTo>
                          <a:pt x="26" y="80"/>
                        </a:lnTo>
                        <a:lnTo>
                          <a:pt x="19" y="73"/>
                        </a:lnTo>
                        <a:lnTo>
                          <a:pt x="5" y="73"/>
                        </a:lnTo>
                        <a:lnTo>
                          <a:pt x="5" y="82"/>
                        </a:lnTo>
                        <a:lnTo>
                          <a:pt x="0" y="88"/>
                        </a:lnTo>
                        <a:lnTo>
                          <a:pt x="0" y="100"/>
                        </a:lnTo>
                        <a:lnTo>
                          <a:pt x="9" y="109"/>
                        </a:lnTo>
                        <a:lnTo>
                          <a:pt x="22" y="109"/>
                        </a:lnTo>
                        <a:lnTo>
                          <a:pt x="43" y="86"/>
                        </a:lnTo>
                        <a:lnTo>
                          <a:pt x="61" y="86"/>
                        </a:lnTo>
                        <a:lnTo>
                          <a:pt x="64" y="82"/>
                        </a:lnTo>
                        <a:lnTo>
                          <a:pt x="68" y="86"/>
                        </a:lnTo>
                        <a:lnTo>
                          <a:pt x="67" y="90"/>
                        </a:lnTo>
                        <a:lnTo>
                          <a:pt x="85" y="106"/>
                        </a:lnTo>
                        <a:lnTo>
                          <a:pt x="85" y="113"/>
                        </a:lnTo>
                        <a:lnTo>
                          <a:pt x="88" y="110"/>
                        </a:lnTo>
                        <a:lnTo>
                          <a:pt x="87" y="106"/>
                        </a:lnTo>
                        <a:lnTo>
                          <a:pt x="88" y="104"/>
                        </a:lnTo>
                        <a:lnTo>
                          <a:pt x="91" y="106"/>
                        </a:lnTo>
                        <a:lnTo>
                          <a:pt x="93" y="106"/>
                        </a:lnTo>
                        <a:lnTo>
                          <a:pt x="74" y="85"/>
                        </a:lnTo>
                        <a:lnTo>
                          <a:pt x="74" y="78"/>
                        </a:lnTo>
                        <a:lnTo>
                          <a:pt x="80" y="78"/>
                        </a:lnTo>
                        <a:lnTo>
                          <a:pt x="80" y="82"/>
                        </a:lnTo>
                        <a:lnTo>
                          <a:pt x="97" y="100"/>
                        </a:lnTo>
                        <a:lnTo>
                          <a:pt x="97" y="106"/>
                        </a:lnTo>
                        <a:lnTo>
                          <a:pt x="105" y="114"/>
                        </a:lnTo>
                        <a:lnTo>
                          <a:pt x="103" y="116"/>
                        </a:lnTo>
                        <a:lnTo>
                          <a:pt x="108" y="121"/>
                        </a:lnTo>
                        <a:lnTo>
                          <a:pt x="116" y="113"/>
                        </a:lnTo>
                        <a:lnTo>
                          <a:pt x="111" y="107"/>
                        </a:lnTo>
                        <a:lnTo>
                          <a:pt x="116" y="102"/>
                        </a:lnTo>
                        <a:lnTo>
                          <a:pt x="123" y="102"/>
                        </a:lnTo>
                        <a:lnTo>
                          <a:pt x="126" y="100"/>
                        </a:lnTo>
                        <a:lnTo>
                          <a:pt x="130" y="100"/>
                        </a:lnTo>
                        <a:lnTo>
                          <a:pt x="124" y="93"/>
                        </a:lnTo>
                        <a:lnTo>
                          <a:pt x="127" y="89"/>
                        </a:lnTo>
                        <a:lnTo>
                          <a:pt x="127" y="77"/>
                        </a:lnTo>
                        <a:lnTo>
                          <a:pt x="133" y="71"/>
                        </a:lnTo>
                        <a:lnTo>
                          <a:pt x="136" y="73"/>
                        </a:lnTo>
                        <a:lnTo>
                          <a:pt x="141" y="73"/>
                        </a:lnTo>
                        <a:lnTo>
                          <a:pt x="139" y="77"/>
                        </a:lnTo>
                        <a:lnTo>
                          <a:pt x="144" y="82"/>
                        </a:lnTo>
                        <a:lnTo>
                          <a:pt x="147" y="77"/>
                        </a:lnTo>
                        <a:lnTo>
                          <a:pt x="150" y="77"/>
                        </a:lnTo>
                        <a:lnTo>
                          <a:pt x="150" y="76"/>
                        </a:lnTo>
                        <a:lnTo>
                          <a:pt x="148" y="76"/>
                        </a:lnTo>
                        <a:lnTo>
                          <a:pt x="145" y="73"/>
                        </a:lnTo>
                        <a:lnTo>
                          <a:pt x="153" y="64"/>
                        </a:lnTo>
                        <a:lnTo>
                          <a:pt x="153" y="77"/>
                        </a:lnTo>
                        <a:lnTo>
                          <a:pt x="155" y="77"/>
                        </a:lnTo>
                        <a:lnTo>
                          <a:pt x="155" y="0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>
                    <a:off x="7812000" y="1998720"/>
                    <a:ext cx="677880" cy="49680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435">
                        <a:moveTo>
                          <a:pt x="0" y="128"/>
                        </a:moveTo>
                        <a:lnTo>
                          <a:pt x="19" y="114"/>
                        </a:lnTo>
                        <a:lnTo>
                          <a:pt x="38" y="88"/>
                        </a:lnTo>
                        <a:lnTo>
                          <a:pt x="60" y="76"/>
                        </a:lnTo>
                        <a:lnTo>
                          <a:pt x="83" y="91"/>
                        </a:lnTo>
                        <a:lnTo>
                          <a:pt x="86" y="102"/>
                        </a:lnTo>
                        <a:lnTo>
                          <a:pt x="81" y="102"/>
                        </a:lnTo>
                        <a:lnTo>
                          <a:pt x="71" y="101"/>
                        </a:lnTo>
                        <a:lnTo>
                          <a:pt x="83" y="114"/>
                        </a:lnTo>
                        <a:lnTo>
                          <a:pt x="131" y="97"/>
                        </a:lnTo>
                        <a:lnTo>
                          <a:pt x="125" y="84"/>
                        </a:lnTo>
                        <a:lnTo>
                          <a:pt x="145" y="62"/>
                        </a:lnTo>
                        <a:lnTo>
                          <a:pt x="159" y="63"/>
                        </a:lnTo>
                        <a:lnTo>
                          <a:pt x="146" y="70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54" y="109"/>
                        </a:lnTo>
                        <a:lnTo>
                          <a:pt x="182" y="75"/>
                        </a:lnTo>
                        <a:lnTo>
                          <a:pt x="279" y="35"/>
                        </a:lnTo>
                        <a:lnTo>
                          <a:pt x="279" y="13"/>
                        </a:lnTo>
                        <a:lnTo>
                          <a:pt x="323" y="4"/>
                        </a:lnTo>
                        <a:lnTo>
                          <a:pt x="348" y="16"/>
                        </a:lnTo>
                        <a:lnTo>
                          <a:pt x="406" y="0"/>
                        </a:lnTo>
                        <a:lnTo>
                          <a:pt x="425" y="8"/>
                        </a:lnTo>
                        <a:lnTo>
                          <a:pt x="464" y="48"/>
                        </a:lnTo>
                        <a:lnTo>
                          <a:pt x="509" y="40"/>
                        </a:lnTo>
                        <a:lnTo>
                          <a:pt x="537" y="54"/>
                        </a:lnTo>
                        <a:lnTo>
                          <a:pt x="606" y="51"/>
                        </a:lnTo>
                        <a:lnTo>
                          <a:pt x="659" y="67"/>
                        </a:lnTo>
                        <a:lnTo>
                          <a:pt x="654" y="88"/>
                        </a:lnTo>
                        <a:lnTo>
                          <a:pt x="609" y="102"/>
                        </a:lnTo>
                        <a:lnTo>
                          <a:pt x="617" y="116"/>
                        </a:lnTo>
                        <a:lnTo>
                          <a:pt x="598" y="124"/>
                        </a:lnTo>
                        <a:lnTo>
                          <a:pt x="597" y="152"/>
                        </a:lnTo>
                        <a:lnTo>
                          <a:pt x="580" y="172"/>
                        </a:lnTo>
                        <a:lnTo>
                          <a:pt x="572" y="154"/>
                        </a:lnTo>
                        <a:lnTo>
                          <a:pt x="582" y="138"/>
                        </a:lnTo>
                        <a:lnTo>
                          <a:pt x="580" y="104"/>
                        </a:lnTo>
                        <a:lnTo>
                          <a:pt x="563" y="121"/>
                        </a:lnTo>
                        <a:lnTo>
                          <a:pt x="549" y="131"/>
                        </a:lnTo>
                        <a:lnTo>
                          <a:pt x="535" y="116"/>
                        </a:lnTo>
                        <a:lnTo>
                          <a:pt x="526" y="154"/>
                        </a:lnTo>
                        <a:lnTo>
                          <a:pt x="536" y="154"/>
                        </a:lnTo>
                        <a:lnTo>
                          <a:pt x="534" y="180"/>
                        </a:lnTo>
                        <a:lnTo>
                          <a:pt x="522" y="207"/>
                        </a:lnTo>
                        <a:lnTo>
                          <a:pt x="507" y="218"/>
                        </a:lnTo>
                        <a:lnTo>
                          <a:pt x="519" y="236"/>
                        </a:lnTo>
                        <a:lnTo>
                          <a:pt x="511" y="248"/>
                        </a:lnTo>
                        <a:lnTo>
                          <a:pt x="508" y="237"/>
                        </a:lnTo>
                        <a:lnTo>
                          <a:pt x="508" y="233"/>
                        </a:lnTo>
                        <a:lnTo>
                          <a:pt x="498" y="227"/>
                        </a:lnTo>
                        <a:lnTo>
                          <a:pt x="483" y="235"/>
                        </a:lnTo>
                        <a:lnTo>
                          <a:pt x="497" y="265"/>
                        </a:lnTo>
                        <a:lnTo>
                          <a:pt x="502" y="281"/>
                        </a:lnTo>
                        <a:lnTo>
                          <a:pt x="485" y="322"/>
                        </a:lnTo>
                        <a:lnTo>
                          <a:pt x="455" y="333"/>
                        </a:lnTo>
                        <a:lnTo>
                          <a:pt x="430" y="331"/>
                        </a:lnTo>
                        <a:lnTo>
                          <a:pt x="442" y="347"/>
                        </a:lnTo>
                        <a:lnTo>
                          <a:pt x="443" y="371"/>
                        </a:lnTo>
                        <a:lnTo>
                          <a:pt x="426" y="399"/>
                        </a:lnTo>
                        <a:lnTo>
                          <a:pt x="406" y="384"/>
                        </a:lnTo>
                        <a:lnTo>
                          <a:pt x="403" y="400"/>
                        </a:lnTo>
                        <a:lnTo>
                          <a:pt x="418" y="414"/>
                        </a:lnTo>
                        <a:lnTo>
                          <a:pt x="431" y="434"/>
                        </a:lnTo>
                        <a:lnTo>
                          <a:pt x="409" y="422"/>
                        </a:lnTo>
                        <a:lnTo>
                          <a:pt x="384" y="354"/>
                        </a:lnTo>
                        <a:lnTo>
                          <a:pt x="353" y="335"/>
                        </a:lnTo>
                        <a:lnTo>
                          <a:pt x="330" y="337"/>
                        </a:lnTo>
                        <a:lnTo>
                          <a:pt x="301" y="376"/>
                        </a:lnTo>
                        <a:lnTo>
                          <a:pt x="305" y="390"/>
                        </a:lnTo>
                        <a:lnTo>
                          <a:pt x="295" y="417"/>
                        </a:lnTo>
                        <a:lnTo>
                          <a:pt x="285" y="417"/>
                        </a:lnTo>
                        <a:lnTo>
                          <a:pt x="252" y="359"/>
                        </a:lnTo>
                        <a:lnTo>
                          <a:pt x="252" y="334"/>
                        </a:lnTo>
                        <a:lnTo>
                          <a:pt x="245" y="343"/>
                        </a:lnTo>
                        <a:lnTo>
                          <a:pt x="226" y="343"/>
                        </a:lnTo>
                        <a:lnTo>
                          <a:pt x="233" y="328"/>
                        </a:lnTo>
                        <a:lnTo>
                          <a:pt x="204" y="308"/>
                        </a:lnTo>
                        <a:lnTo>
                          <a:pt x="167" y="308"/>
                        </a:lnTo>
                        <a:lnTo>
                          <a:pt x="135" y="288"/>
                        </a:lnTo>
                        <a:lnTo>
                          <a:pt x="133" y="308"/>
                        </a:lnTo>
                        <a:lnTo>
                          <a:pt x="159" y="326"/>
                        </a:lnTo>
                        <a:lnTo>
                          <a:pt x="168" y="326"/>
                        </a:lnTo>
                        <a:lnTo>
                          <a:pt x="142" y="350"/>
                        </a:lnTo>
                        <a:lnTo>
                          <a:pt x="115" y="356"/>
                        </a:lnTo>
                        <a:lnTo>
                          <a:pt x="115" y="342"/>
                        </a:lnTo>
                        <a:lnTo>
                          <a:pt x="77" y="293"/>
                        </a:lnTo>
                        <a:lnTo>
                          <a:pt x="72" y="280"/>
                        </a:lnTo>
                        <a:lnTo>
                          <a:pt x="93" y="264"/>
                        </a:lnTo>
                        <a:lnTo>
                          <a:pt x="90" y="244"/>
                        </a:lnTo>
                        <a:lnTo>
                          <a:pt x="90" y="222"/>
                        </a:lnTo>
                        <a:lnTo>
                          <a:pt x="101" y="218"/>
                        </a:lnTo>
                        <a:lnTo>
                          <a:pt x="90" y="207"/>
                        </a:lnTo>
                        <a:lnTo>
                          <a:pt x="90" y="128"/>
                        </a:lnTo>
                        <a:lnTo>
                          <a:pt x="37" y="128"/>
                        </a:lnTo>
                        <a:lnTo>
                          <a:pt x="52" y="109"/>
                        </a:lnTo>
                        <a:lnTo>
                          <a:pt x="51" y="102"/>
                        </a:lnTo>
                        <a:lnTo>
                          <a:pt x="33" y="119"/>
                        </a:lnTo>
                        <a:lnTo>
                          <a:pt x="27" y="128"/>
                        </a:lnTo>
                        <a:lnTo>
                          <a:pt x="0" y="128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8348400" y="2201760"/>
                    <a:ext cx="583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8">
                        <a:moveTo>
                          <a:pt x="38" y="0"/>
                        </a:moveTo>
                        <a:lnTo>
                          <a:pt x="38" y="11"/>
                        </a:lnTo>
                        <a:lnTo>
                          <a:pt x="33" y="18"/>
                        </a:lnTo>
                        <a:lnTo>
                          <a:pt x="34" y="30"/>
                        </a:lnTo>
                        <a:lnTo>
                          <a:pt x="29" y="46"/>
                        </a:lnTo>
                        <a:lnTo>
                          <a:pt x="19" y="60"/>
                        </a:lnTo>
                        <a:lnTo>
                          <a:pt x="4" y="70"/>
                        </a:lnTo>
                        <a:lnTo>
                          <a:pt x="0" y="86"/>
                        </a:lnTo>
                        <a:lnTo>
                          <a:pt x="6" y="87"/>
                        </a:lnTo>
                        <a:lnTo>
                          <a:pt x="6" y="72"/>
                        </a:lnTo>
                        <a:lnTo>
                          <a:pt x="26" y="71"/>
                        </a:lnTo>
                        <a:lnTo>
                          <a:pt x="42" y="61"/>
                        </a:lnTo>
                        <a:lnTo>
                          <a:pt x="42" y="40"/>
                        </a:lnTo>
                        <a:lnTo>
                          <a:pt x="46" y="33"/>
                        </a:lnTo>
                        <a:lnTo>
                          <a:pt x="38" y="19"/>
                        </a:lnTo>
                        <a:lnTo>
                          <a:pt x="49" y="15"/>
                        </a:lnTo>
                        <a:lnTo>
                          <a:pt x="56" y="4"/>
                        </a:lnTo>
                        <a:lnTo>
                          <a:pt x="42" y="6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>
                    <a:off x="8126640" y="247176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3" y="20"/>
                        </a:lnTo>
                        <a:lnTo>
                          <a:pt x="10" y="12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1600" bIns="-216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>
                    <a:off x="8215920" y="2495520"/>
                    <a:ext cx="1364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54">
                        <a:moveTo>
                          <a:pt x="0" y="0"/>
                        </a:moveTo>
                        <a:lnTo>
                          <a:pt x="20" y="4"/>
                        </a:lnTo>
                        <a:lnTo>
                          <a:pt x="50" y="24"/>
                        </a:lnTo>
                        <a:lnTo>
                          <a:pt x="45" y="34"/>
                        </a:lnTo>
                        <a:lnTo>
                          <a:pt x="70" y="44"/>
                        </a:lnTo>
                        <a:lnTo>
                          <a:pt x="132" y="44"/>
                        </a:lnTo>
                        <a:lnTo>
                          <a:pt x="64" y="53"/>
                        </a:lnTo>
                        <a:lnTo>
                          <a:pt x="45" y="34"/>
                        </a:lnTo>
                        <a:lnTo>
                          <a:pt x="28" y="3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16200" bIns="1620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>
                    <a:off x="8324640" y="2544840"/>
                    <a:ext cx="14760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27">
                        <a:moveTo>
                          <a:pt x="119" y="123"/>
                        </a:moveTo>
                        <a:lnTo>
                          <a:pt x="115" y="124"/>
                        </a:lnTo>
                        <a:lnTo>
                          <a:pt x="112" y="126"/>
                        </a:lnTo>
                        <a:lnTo>
                          <a:pt x="109" y="122"/>
                        </a:lnTo>
                        <a:lnTo>
                          <a:pt x="96" y="116"/>
                        </a:lnTo>
                        <a:lnTo>
                          <a:pt x="94" y="107"/>
                        </a:lnTo>
                        <a:lnTo>
                          <a:pt x="90" y="104"/>
                        </a:lnTo>
                        <a:lnTo>
                          <a:pt x="79" y="104"/>
                        </a:lnTo>
                        <a:lnTo>
                          <a:pt x="79" y="98"/>
                        </a:lnTo>
                        <a:lnTo>
                          <a:pt x="76" y="96"/>
                        </a:lnTo>
                        <a:lnTo>
                          <a:pt x="75" y="90"/>
                        </a:lnTo>
                        <a:lnTo>
                          <a:pt x="67" y="89"/>
                        </a:lnTo>
                        <a:lnTo>
                          <a:pt x="59" y="87"/>
                        </a:lnTo>
                        <a:lnTo>
                          <a:pt x="53" y="89"/>
                        </a:lnTo>
                        <a:lnTo>
                          <a:pt x="53" y="90"/>
                        </a:lnTo>
                        <a:lnTo>
                          <a:pt x="38" y="94"/>
                        </a:lnTo>
                        <a:lnTo>
                          <a:pt x="38" y="97"/>
                        </a:lnTo>
                        <a:lnTo>
                          <a:pt x="25" y="97"/>
                        </a:lnTo>
                        <a:lnTo>
                          <a:pt x="17" y="101"/>
                        </a:lnTo>
                        <a:lnTo>
                          <a:pt x="9" y="97"/>
                        </a:lnTo>
                        <a:lnTo>
                          <a:pt x="8" y="96"/>
                        </a:lnTo>
                        <a:lnTo>
                          <a:pt x="8" y="87"/>
                        </a:lnTo>
                        <a:lnTo>
                          <a:pt x="6" y="80"/>
                        </a:lnTo>
                        <a:lnTo>
                          <a:pt x="3" y="72"/>
                        </a:lnTo>
                        <a:lnTo>
                          <a:pt x="5" y="67"/>
                        </a:lnTo>
                        <a:lnTo>
                          <a:pt x="2" y="65"/>
                        </a:lnTo>
                        <a:lnTo>
                          <a:pt x="0" y="54"/>
                        </a:lnTo>
                        <a:lnTo>
                          <a:pt x="2" y="45"/>
                        </a:lnTo>
                        <a:lnTo>
                          <a:pt x="10" y="39"/>
                        </a:lnTo>
                        <a:lnTo>
                          <a:pt x="27" y="35"/>
                        </a:lnTo>
                        <a:lnTo>
                          <a:pt x="31" y="29"/>
                        </a:lnTo>
                        <a:lnTo>
                          <a:pt x="29" y="23"/>
                        </a:lnTo>
                        <a:lnTo>
                          <a:pt x="34" y="22"/>
                        </a:lnTo>
                        <a:lnTo>
                          <a:pt x="35" y="25"/>
                        </a:lnTo>
                        <a:lnTo>
                          <a:pt x="37" y="20"/>
                        </a:lnTo>
                        <a:lnTo>
                          <a:pt x="47" y="13"/>
                        </a:lnTo>
                        <a:lnTo>
                          <a:pt x="53" y="16"/>
                        </a:lnTo>
                        <a:lnTo>
                          <a:pt x="59" y="14"/>
                        </a:lnTo>
                        <a:lnTo>
                          <a:pt x="62" y="7"/>
                        </a:lnTo>
                        <a:lnTo>
                          <a:pt x="68" y="6"/>
                        </a:lnTo>
                        <a:lnTo>
                          <a:pt x="67" y="1"/>
                        </a:lnTo>
                        <a:lnTo>
                          <a:pt x="76" y="4"/>
                        </a:lnTo>
                        <a:lnTo>
                          <a:pt x="84" y="3"/>
                        </a:lnTo>
                        <a:lnTo>
                          <a:pt x="88" y="20"/>
                        </a:lnTo>
                        <a:lnTo>
                          <a:pt x="94" y="25"/>
                        </a:lnTo>
                        <a:lnTo>
                          <a:pt x="99" y="25"/>
                        </a:lnTo>
                        <a:lnTo>
                          <a:pt x="102" y="14"/>
                        </a:lnTo>
                        <a:lnTo>
                          <a:pt x="100" y="9"/>
                        </a:lnTo>
                        <a:lnTo>
                          <a:pt x="102" y="1"/>
                        </a:lnTo>
                        <a:lnTo>
                          <a:pt x="105" y="0"/>
                        </a:lnTo>
                        <a:lnTo>
                          <a:pt x="109" y="10"/>
                        </a:lnTo>
                        <a:lnTo>
                          <a:pt x="112" y="13"/>
                        </a:lnTo>
                        <a:lnTo>
                          <a:pt x="115" y="22"/>
                        </a:lnTo>
                        <a:lnTo>
                          <a:pt x="119" y="35"/>
                        </a:lnTo>
                        <a:lnTo>
                          <a:pt x="126" y="38"/>
                        </a:lnTo>
                        <a:lnTo>
                          <a:pt x="133" y="47"/>
                        </a:lnTo>
                        <a:lnTo>
                          <a:pt x="135" y="52"/>
                        </a:lnTo>
                        <a:lnTo>
                          <a:pt x="141" y="58"/>
                        </a:lnTo>
                        <a:lnTo>
                          <a:pt x="143" y="68"/>
                        </a:lnTo>
                        <a:lnTo>
                          <a:pt x="143" y="76"/>
                        </a:lnTo>
                        <a:lnTo>
                          <a:pt x="141" y="89"/>
                        </a:lnTo>
                        <a:lnTo>
                          <a:pt x="135" y="97"/>
                        </a:lnTo>
                        <a:lnTo>
                          <a:pt x="132" y="107"/>
                        </a:lnTo>
                        <a:lnTo>
                          <a:pt x="132" y="116"/>
                        </a:lnTo>
                        <a:lnTo>
                          <a:pt x="126" y="118"/>
                        </a:lnTo>
                        <a:lnTo>
                          <a:pt x="119" y="123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45360" bIns="45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>
                    <a:off x="8441640" y="2695320"/>
                    <a:ext cx="111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5" y="14"/>
                        </a:moveTo>
                        <a:lnTo>
                          <a:pt x="2" y="11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4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10" y="0"/>
                        </a:lnTo>
                        <a:lnTo>
                          <a:pt x="10" y="6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8" y="13"/>
                        </a:lnTo>
                        <a:lnTo>
                          <a:pt x="7" y="14"/>
                        </a:lnTo>
                        <a:lnTo>
                          <a:pt x="7" y="15"/>
                        </a:lnTo>
                        <a:lnTo>
                          <a:pt x="5" y="14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-27360" bIns="-2736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>
                    <a:off x="7929360" y="2533320"/>
                    <a:ext cx="162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60">
                        <a:moveTo>
                          <a:pt x="2" y="21"/>
                        </a:moveTo>
                        <a:lnTo>
                          <a:pt x="8" y="16"/>
                        </a:lnTo>
                        <a:lnTo>
                          <a:pt x="12" y="0"/>
                        </a:lnTo>
                        <a:lnTo>
                          <a:pt x="15" y="24"/>
                        </a:lnTo>
                        <a:lnTo>
                          <a:pt x="10" y="53"/>
                        </a:lnTo>
                        <a:lnTo>
                          <a:pt x="0" y="59"/>
                        </a:lnTo>
                        <a:lnTo>
                          <a:pt x="0" y="45"/>
                        </a:lnTo>
                        <a:lnTo>
                          <a:pt x="3" y="36"/>
                        </a:lnTo>
                        <a:lnTo>
                          <a:pt x="2" y="21"/>
                        </a:lnTo>
                      </a:path>
                    </a:pathLst>
                  </a:custGeom>
                  <a:solidFill>
                    <a:srgbClr val="3365fb"/>
                  </a:solidFill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880" rIns="92880" tIns="22680" bIns="2268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28" name=""/>
          <p:cNvSpPr/>
          <p:nvPr/>
        </p:nvSpPr>
        <p:spPr>
          <a:xfrm>
            <a:off x="6145200" y="2224080"/>
            <a:ext cx="2220840" cy="3020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Grid Inform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5700600" y="5338800"/>
            <a:ext cx="325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6737400" y="5411880"/>
            <a:ext cx="444600" cy="446040"/>
          </a:xfrm>
          <a:prstGeom prst="ellipse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6bf69"/>
                </a:solidFill>
                <a:latin typeface="Arial"/>
              </a:rPr>
              <a:t>R</a:t>
            </a:r>
            <a:r>
              <a:rPr b="1" lang="en-US" sz="1900" spc="-1" strike="noStrike" baseline="-25000">
                <a:solidFill>
                  <a:srgbClr val="f6bf69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8070840" y="5411880"/>
            <a:ext cx="444600" cy="446040"/>
          </a:xfrm>
          <a:prstGeom prst="ellipse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900" spc="-1" strike="noStrike">
                <a:solidFill>
                  <a:srgbClr val="f6bf69"/>
                </a:solidFill>
                <a:latin typeface="Arial"/>
              </a:rPr>
              <a:t>R</a:t>
            </a:r>
            <a:r>
              <a:rPr b="1" lang="en-US" sz="1900" spc="-1" strike="noStrike" baseline="-25000">
                <a:solidFill>
                  <a:srgbClr val="f6bf69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6664320" y="3929040"/>
            <a:ext cx="0" cy="22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6664320" y="4670280"/>
            <a:ext cx="0" cy="222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7407360" y="5411880"/>
            <a:ext cx="3949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5" name="" descr=""/>
          <p:cNvPicPr/>
          <p:nvPr/>
        </p:nvPicPr>
        <p:blipFill>
          <a:blip r:embed="rId3"/>
          <a:stretch/>
        </p:blipFill>
        <p:spPr>
          <a:xfrm>
            <a:off x="74520" y="4448160"/>
            <a:ext cx="1111320" cy="920880"/>
          </a:xfrm>
          <a:prstGeom prst="rect">
            <a:avLst/>
          </a:prstGeom>
          <a:ln w="0">
            <a:noFill/>
          </a:ln>
        </p:spPr>
      </p:pic>
      <p:grpSp>
        <p:nvGrpSpPr>
          <p:cNvPr id="3436" name=""/>
          <p:cNvGrpSpPr/>
          <p:nvPr/>
        </p:nvGrpSpPr>
        <p:grpSpPr>
          <a:xfrm>
            <a:off x="814320" y="4573440"/>
            <a:ext cx="449280" cy="350640"/>
            <a:chOff x="814320" y="4573440"/>
            <a:chExt cx="449280" cy="350640"/>
          </a:xfrm>
        </p:grpSpPr>
        <p:sp>
          <p:nvSpPr>
            <p:cNvPr id="3437" name=""/>
            <p:cNvSpPr/>
            <p:nvPr/>
          </p:nvSpPr>
          <p:spPr>
            <a:xfrm>
              <a:off x="814320" y="4828320"/>
              <a:ext cx="449280" cy="95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919080" y="4573440"/>
              <a:ext cx="253080" cy="248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934560" y="4593240"/>
              <a:ext cx="216000" cy="208440"/>
            </a:xfrm>
            <a:prstGeom prst="roundRect">
              <a:avLst>
                <a:gd name="adj" fmla="val 12486"/>
              </a:avLst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0" name=""/>
          <p:cNvGrpSpPr/>
          <p:nvPr/>
        </p:nvGrpSpPr>
        <p:grpSpPr>
          <a:xfrm>
            <a:off x="7848720" y="4966920"/>
            <a:ext cx="814320" cy="222480"/>
            <a:chOff x="7848720" y="4966920"/>
            <a:chExt cx="814320" cy="222480"/>
          </a:xfrm>
        </p:grpSpPr>
        <p:sp>
          <p:nvSpPr>
            <p:cNvPr id="3441" name=""/>
            <p:cNvSpPr/>
            <p:nvPr/>
          </p:nvSpPr>
          <p:spPr>
            <a:xfrm flipH="1">
              <a:off x="7848720" y="4967280"/>
              <a:ext cx="8143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H="1">
              <a:off x="7848720" y="5189400"/>
              <a:ext cx="8143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V="1">
              <a:off x="7848720" y="4966920"/>
              <a:ext cx="0" cy="2221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996680" y="4967280"/>
              <a:ext cx="0" cy="22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45000" y="4967280"/>
              <a:ext cx="0" cy="22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292960" y="4967280"/>
              <a:ext cx="0" cy="22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440920" y="4967280"/>
              <a:ext cx="0" cy="22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>
            <a:off x="7551720" y="3632040"/>
            <a:ext cx="1258920" cy="51516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harging Alg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7551720" y="4003560"/>
            <a:ext cx="1258920" cy="3020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coun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7329600" y="3781440"/>
            <a:ext cx="222120" cy="0"/>
          </a:xfrm>
          <a:prstGeom prst="line">
            <a:avLst/>
          </a:prstGeom>
          <a:ln cap="sq"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7329600" y="3781440"/>
            <a:ext cx="222120" cy="36972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739800" y="444600"/>
            <a:ext cx="8123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700" spc="-1" strike="noStrike">
                <a:solidFill>
                  <a:srgbClr val="fc0128"/>
                </a:solidFill>
                <a:latin typeface="Century Gothic"/>
              </a:rPr>
              <a:t>Compute Power Marke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entury Gothic"/>
              </a:rPr>
              <a:t>Pointers to Literature on Cluster Computing</a:t>
            </a:r>
            <a:endParaRPr b="1" lang="en-US" sz="4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1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ternet &amp; WWW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0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uter Architectur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cs.wisc.edu/~arch/www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FS &amp; Parallel I/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s.dartmouth.edu/pario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nux Parallel Proce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yara.ecn.purdue.edu/~pplinux/Site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s.umd.edu/~keleher/ds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1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nternet &amp; WWW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aris-M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sunlabs.com/research/solaris-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processors: Recent Adva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microprocessor.sscc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owul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beowulf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ta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sis.port.ac.uk/~mab/Metacomputin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2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oo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In Search of Clu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G.Pfister, Prentice Hall (2ed), 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High Performance Cluster 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1:  Architectures and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2: Programming an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ited by Rajkumar Buyya, Prentice Hall, NJ, U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calable Parallel 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K Hwang &amp; Zhu, McGraw Hill,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ading Resources..3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ourna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 Case of NOW, IEEE Micro, Feb’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Anderson, Culler, Pat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ault Tolerant COW with SSI, IEEE Concurrency, (to appe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Kai Hwang, Chow, Wang, Jin, X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 Computing: The Commodity Supercomputing, Journal of Software Practice and Experience-(get from my we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Mark Baker &amp; Rajkumar Buy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ing Info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380880" y="60199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185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ttp://www.csse.monash.edu.au/~rajkumar/cluster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464" name="v1" descr=""/>
          <p:cNvPicPr/>
          <p:nvPr/>
        </p:nvPicPr>
        <p:blipFill>
          <a:blip r:embed="rId1"/>
          <a:stretch/>
        </p:blipFill>
        <p:spPr>
          <a:xfrm>
            <a:off x="1608120" y="1371600"/>
            <a:ext cx="3233880" cy="4267080"/>
          </a:xfrm>
          <a:prstGeom prst="rect">
            <a:avLst/>
          </a:prstGeom>
          <a:ln w="0">
            <a:noFill/>
          </a:ln>
        </p:spPr>
      </p:pic>
      <p:pic>
        <p:nvPicPr>
          <p:cNvPr id="3465" name="v2" descr=""/>
          <p:cNvPicPr/>
          <p:nvPr/>
        </p:nvPicPr>
        <p:blipFill>
          <a:blip r:embed="rId2"/>
          <a:stretch/>
        </p:blipFill>
        <p:spPr>
          <a:xfrm>
            <a:off x="5189400" y="1371600"/>
            <a:ext cx="31924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ing Foru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EEE Task Force on Cluster Computing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(TFCC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Century Gothic"/>
              </a:rPr>
              <a:t>http://www.ieeetfcc.org</a:t>
            </a: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468" name=""/>
          <p:cNvGrpSpPr/>
          <p:nvPr/>
        </p:nvGrpSpPr>
        <p:grpSpPr>
          <a:xfrm>
            <a:off x="1219320" y="3124080"/>
            <a:ext cx="1295280" cy="1523880"/>
            <a:chOff x="1219320" y="3124080"/>
            <a:chExt cx="1295280" cy="1523880"/>
          </a:xfrm>
        </p:grpSpPr>
        <p:sp>
          <p:nvSpPr>
            <p:cNvPr id="3469" name=""/>
            <p:cNvSpPr/>
            <p:nvPr/>
          </p:nvSpPr>
          <p:spPr>
            <a:xfrm>
              <a:off x="1219320" y="3124080"/>
              <a:ext cx="12952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70" name="big_ieee" descr=""/>
            <p:cNvPicPr/>
            <p:nvPr/>
          </p:nvPicPr>
          <p:blipFill>
            <a:blip r:embed="rId1"/>
            <a:stretch/>
          </p:blipFill>
          <p:spPr>
            <a:xfrm>
              <a:off x="1447920" y="3336840"/>
              <a:ext cx="82404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1" name=""/>
          <p:cNvGrpSpPr/>
          <p:nvPr/>
        </p:nvGrpSpPr>
        <p:grpSpPr>
          <a:xfrm>
            <a:off x="7010280" y="3124080"/>
            <a:ext cx="1295280" cy="1523880"/>
            <a:chOff x="7010280" y="3124080"/>
            <a:chExt cx="1295280" cy="1523880"/>
          </a:xfrm>
        </p:grpSpPr>
        <p:sp>
          <p:nvSpPr>
            <p:cNvPr id="3472" name=""/>
            <p:cNvSpPr/>
            <p:nvPr/>
          </p:nvSpPr>
          <p:spPr>
            <a:xfrm>
              <a:off x="7010280" y="3124080"/>
              <a:ext cx="12952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73" name="cslogo" descr=""/>
            <p:cNvPicPr/>
            <p:nvPr/>
          </p:nvPicPr>
          <p:blipFill>
            <a:blip r:embed="rId2"/>
            <a:stretch/>
          </p:blipFill>
          <p:spPr>
            <a:xfrm>
              <a:off x="7162560" y="335268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74" name="tfcc-logo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10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7240" y="74520"/>
            <a:ext cx="86266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Science Portals - e.g., PAPIA syste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43" name=""/>
          <p:cNvSpPr/>
          <p:nvPr/>
        </p:nvSpPr>
        <p:spPr>
          <a:xfrm>
            <a:off x="6418440" y="4206960"/>
            <a:ext cx="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46880" y="4206960"/>
            <a:ext cx="46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34200" y="4156200"/>
            <a:ext cx="32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172200" y="4089240"/>
            <a:ext cx="14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165720" y="404496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165720" y="406728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9" name="papia" descr=""/>
          <p:cNvPicPr/>
          <p:nvPr/>
        </p:nvPicPr>
        <p:blipFill>
          <a:blip r:embed="rId1"/>
          <a:stretch/>
        </p:blipFill>
        <p:spPr>
          <a:xfrm>
            <a:off x="111240" y="816120"/>
            <a:ext cx="5478480" cy="5335560"/>
          </a:xfrm>
          <a:prstGeom prst="rect">
            <a:avLst/>
          </a:prstGeom>
          <a:ln w="0">
            <a:noFill/>
          </a:ln>
        </p:spPr>
      </p:pic>
      <p:pic>
        <p:nvPicPr>
          <p:cNvPr id="950" name="papia_mini" descr=""/>
          <p:cNvPicPr/>
          <p:nvPr/>
        </p:nvPicPr>
        <p:blipFill>
          <a:blip r:embed="rId2"/>
          <a:stretch/>
        </p:blipFill>
        <p:spPr>
          <a:xfrm>
            <a:off x="5775480" y="4892760"/>
            <a:ext cx="1481040" cy="1187280"/>
          </a:xfrm>
          <a:prstGeom prst="rect">
            <a:avLst/>
          </a:prstGeom>
          <a:ln w="0">
            <a:noFill/>
          </a:ln>
        </p:spPr>
      </p:pic>
      <p:pic>
        <p:nvPicPr>
          <p:cNvPr id="951" name="multi_example" descr=""/>
          <p:cNvPicPr/>
          <p:nvPr/>
        </p:nvPicPr>
        <p:blipFill>
          <a:blip r:embed="rId3"/>
          <a:stretch/>
        </p:blipFill>
        <p:spPr>
          <a:xfrm>
            <a:off x="5635800" y="816120"/>
            <a:ext cx="3396960" cy="390996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5758560" y="6231240"/>
            <a:ext cx="2211480" cy="37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APIA PC Cluste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404120" y="4786560"/>
            <a:ext cx="1665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ntium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yrine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etBSD/Linuux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core-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PC++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47600" y="6235200"/>
            <a:ext cx="5405400" cy="439200"/>
          </a:xfrm>
          <a:prstGeom prst="rect">
            <a:avLst/>
          </a:prstGeom>
          <a:solidFill>
            <a:srgbClr val="3366ff"/>
          </a:solidFill>
          <a:ln cap="sq"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WCP Japan: http://www.rwcp.or.jp/papia/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5" name="protein_example" descr=""/>
          <p:cNvPicPr/>
          <p:nvPr/>
        </p:nvPicPr>
        <p:blipFill>
          <a:blip r:embed="rId4"/>
          <a:stretch/>
        </p:blipFill>
        <p:spPr>
          <a:xfrm>
            <a:off x="6664320" y="1927080"/>
            <a:ext cx="2266920" cy="15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FCC Activitie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twork Technolog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OS Technolog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Parallel I/O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Programming Environ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Java Technolog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Algorithms and Applic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&gt;Analysis and Profiling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Storage Technolog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High Throughput Comput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FCC Activitie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High Availabil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Single System Imag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Performance Evalu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Software Engineer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Educatio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Newslet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Industrial W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afd00"/>
                </a:solidFill>
                <a:latin typeface="Century Gothic"/>
              </a:rPr>
              <a:t>TFCC Regional Activiti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8284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All the above have there own pages, see pointers from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284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ttp://www.ieeetfcc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FCC Activitie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Mailing list, Workshops, Conferences, Tutorials, Web-resources etc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Resources for introducing subject in senior undergraduate and graduate level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Tutorials/Workshops at IEEE Chapters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.. and so on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FREE MEMBERSHIP, please join!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Visit TFCC Page for more details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ttp://www.ieeetfcc.org   (updated daily!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Revisite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3482" name=""/>
          <p:cNvGraphicFramePr/>
          <p:nvPr/>
        </p:nvGraphicFramePr>
        <p:xfrm>
          <a:off x="0" y="1600200"/>
          <a:ext cx="914400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ummar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We have discussed Cluster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ing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chitecture &amp; its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 System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entative Syst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nclus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s are promising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parallel processing parad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incremental growth and matches with funding patter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trends in hardware and software technologies are likely to make clusters more promising..so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sters based supercomputers can be seen everyw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8" name=""/>
          <p:cNvGraphicFramePr/>
          <p:nvPr/>
        </p:nvGraphicFramePr>
        <p:xfrm>
          <a:off x="0" y="-11160"/>
          <a:ext cx="9144000" cy="6880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16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491" name=""/>
          <p:cNvGrpSpPr/>
          <p:nvPr/>
        </p:nvGrpSpPr>
        <p:grpSpPr>
          <a:xfrm>
            <a:off x="2647800" y="1130400"/>
            <a:ext cx="4096080" cy="5333760"/>
            <a:chOff x="2647800" y="1130400"/>
            <a:chExt cx="4096080" cy="5333760"/>
          </a:xfrm>
        </p:grpSpPr>
        <p:sp>
          <p:nvSpPr>
            <p:cNvPr id="3492" name=""/>
            <p:cNvSpPr/>
            <p:nvPr/>
          </p:nvSpPr>
          <p:spPr>
            <a:xfrm>
              <a:off x="2647800" y="1130400"/>
              <a:ext cx="4096080" cy="533376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adaf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3" name=""/>
            <p:cNvGraphicFramePr/>
            <p:nvPr/>
          </p:nvGraphicFramePr>
          <p:xfrm>
            <a:off x="2755800" y="1392120"/>
            <a:ext cx="3862440" cy="479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55800" y="1392120"/>
                      <a:ext cx="3862440" cy="4792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3495" name=""/>
          <p:cNvSpPr/>
          <p:nvPr/>
        </p:nvSpPr>
        <p:spPr>
          <a:xfrm>
            <a:off x="2519280" y="557280"/>
            <a:ext cx="4337280" cy="57636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100000">
                <a:srgbClr val="fbfc65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Monotype Corsiva"/>
              </a:rPr>
              <a:t>Thank You 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ackup Slides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2095200" y="75960"/>
            <a:ext cx="6993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ISD : A Conventional Comput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624960" y="4762440"/>
            <a:ext cx="796788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Speed is limited by the rate at which computer can transfer information internally.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1695600" y="1162080"/>
            <a:ext cx="6173640" cy="3154320"/>
            <a:chOff x="1695600" y="1162080"/>
            <a:chExt cx="6173640" cy="3154320"/>
          </a:xfrm>
        </p:grpSpPr>
        <p:sp>
          <p:nvSpPr>
            <p:cNvPr id="3502" name=""/>
            <p:cNvSpPr/>
            <p:nvPr/>
          </p:nvSpPr>
          <p:spPr>
            <a:xfrm>
              <a:off x="3606840" y="3073320"/>
              <a:ext cx="1739880" cy="90180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834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cess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03" name=""/>
            <p:cNvGrpSpPr/>
            <p:nvPr/>
          </p:nvGrpSpPr>
          <p:grpSpPr>
            <a:xfrm>
              <a:off x="5932440" y="2838600"/>
              <a:ext cx="1936800" cy="1477800"/>
              <a:chOff x="5932440" y="2838600"/>
              <a:chExt cx="1936800" cy="1477800"/>
            </a:xfrm>
          </p:grpSpPr>
          <p:sp>
            <p:nvSpPr>
              <p:cNvPr id="3504" name=""/>
              <p:cNvSpPr/>
              <p:nvPr/>
            </p:nvSpPr>
            <p:spPr>
              <a:xfrm>
                <a:off x="6019920" y="2838600"/>
                <a:ext cx="1849320" cy="1395360"/>
              </a:xfrm>
              <a:custGeom>
                <a:avLst/>
                <a:gdLst/>
                <a:ahLst/>
                <a:rect l="l" t="t" r="r" b="b"/>
                <a:pathLst>
                  <a:path w="1165" h="879">
                    <a:moveTo>
                      <a:pt x="0" y="195"/>
                    </a:moveTo>
                    <a:lnTo>
                      <a:pt x="0" y="688"/>
                    </a:lnTo>
                    <a:lnTo>
                      <a:pt x="725" y="688"/>
                    </a:lnTo>
                    <a:lnTo>
                      <a:pt x="725" y="878"/>
                    </a:lnTo>
                    <a:lnTo>
                      <a:pt x="1164" y="440"/>
                    </a:lnTo>
                    <a:lnTo>
                      <a:pt x="725" y="0"/>
                    </a:lnTo>
                    <a:lnTo>
                      <a:pt x="725" y="195"/>
                    </a:lnTo>
                    <a:lnTo>
                      <a:pt x="0" y="195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934240" y="3929040"/>
                <a:ext cx="1239840" cy="87480"/>
              </a:xfrm>
              <a:custGeom>
                <a:avLst/>
                <a:gdLst/>
                <a:ahLst/>
                <a:rect l="l" t="t" r="r" b="b"/>
                <a:pathLst>
                  <a:path w="781" h="55">
                    <a:moveTo>
                      <a:pt x="727" y="53"/>
                    </a:moveTo>
                    <a:lnTo>
                      <a:pt x="780" y="0"/>
                    </a:lnTo>
                    <a:lnTo>
                      <a:pt x="51" y="0"/>
                    </a:lnTo>
                    <a:lnTo>
                      <a:pt x="0" y="54"/>
                    </a:lnTo>
                    <a:lnTo>
                      <a:pt x="727" y="53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7088040" y="3927600"/>
                <a:ext cx="84240" cy="388800"/>
              </a:xfrm>
              <a:custGeom>
                <a:avLst/>
                <a:gdLst/>
                <a:ahLst/>
                <a:rect l="l" t="t" r="r" b="b"/>
                <a:pathLst>
                  <a:path w="53" h="245">
                    <a:moveTo>
                      <a:pt x="0" y="55"/>
                    </a:moveTo>
                    <a:lnTo>
                      <a:pt x="52" y="0"/>
                    </a:lnTo>
                    <a:lnTo>
                      <a:pt x="52" y="192"/>
                    </a:lnTo>
                    <a:lnTo>
                      <a:pt x="0" y="244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932440" y="3147840"/>
                <a:ext cx="88920" cy="868680"/>
              </a:xfrm>
              <a:custGeom>
                <a:avLst/>
                <a:gdLst/>
                <a:ahLst/>
                <a:rect l="l" t="t" r="r" b="b"/>
                <a:pathLst>
                  <a:path w="56" h="547">
                    <a:moveTo>
                      <a:pt x="0" y="57"/>
                    </a:moveTo>
                    <a:lnTo>
                      <a:pt x="55" y="0"/>
                    </a:lnTo>
                    <a:lnTo>
                      <a:pt x="55" y="491"/>
                    </a:lnTo>
                    <a:lnTo>
                      <a:pt x="0" y="546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7088040" y="2838600"/>
                <a:ext cx="84240" cy="311040"/>
              </a:xfrm>
              <a:custGeom>
                <a:avLst/>
                <a:gdLst/>
                <a:ahLst/>
                <a:rect l="l" t="t" r="r" b="b"/>
                <a:pathLst>
                  <a:path w="53" h="196">
                    <a:moveTo>
                      <a:pt x="0" y="195"/>
                    </a:moveTo>
                    <a:lnTo>
                      <a:pt x="52" y="195"/>
                    </a:lnTo>
                    <a:lnTo>
                      <a:pt x="52" y="0"/>
                    </a:lnTo>
                    <a:lnTo>
                      <a:pt x="0" y="52"/>
                    </a:lnTo>
                    <a:lnTo>
                      <a:pt x="0" y="195"/>
                    </a:lnTo>
                  </a:path>
                </a:pathLst>
              </a:custGeom>
              <a:solidFill>
                <a:srgbClr val="438e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9" name=""/>
            <p:cNvGrpSpPr/>
            <p:nvPr/>
          </p:nvGrpSpPr>
          <p:grpSpPr>
            <a:xfrm>
              <a:off x="1695600" y="2762280"/>
              <a:ext cx="1769760" cy="1525680"/>
              <a:chOff x="1695600" y="2762280"/>
              <a:chExt cx="1769760" cy="1525680"/>
            </a:xfrm>
          </p:grpSpPr>
          <p:sp>
            <p:nvSpPr>
              <p:cNvPr id="3510" name=""/>
              <p:cNvSpPr/>
              <p:nvPr/>
            </p:nvSpPr>
            <p:spPr>
              <a:xfrm>
                <a:off x="1774800" y="2847960"/>
                <a:ext cx="1690560" cy="1440000"/>
              </a:xfrm>
              <a:custGeom>
                <a:avLst/>
                <a:gdLst/>
                <a:ahLst/>
                <a:rect l="l" t="t" r="r" b="b"/>
                <a:pathLst>
                  <a:path w="1065" h="907">
                    <a:moveTo>
                      <a:pt x="0" y="705"/>
                    </a:moveTo>
                    <a:lnTo>
                      <a:pt x="0" y="196"/>
                    </a:lnTo>
                    <a:lnTo>
                      <a:pt x="663" y="196"/>
                    </a:lnTo>
                    <a:lnTo>
                      <a:pt x="663" y="0"/>
                    </a:lnTo>
                    <a:lnTo>
                      <a:pt x="1064" y="452"/>
                    </a:lnTo>
                    <a:lnTo>
                      <a:pt x="663" y="906"/>
                    </a:lnTo>
                    <a:lnTo>
                      <a:pt x="663" y="705"/>
                    </a:lnTo>
                    <a:lnTo>
                      <a:pt x="0" y="705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1697040" y="3071880"/>
                <a:ext cx="1133640" cy="90360"/>
              </a:xfrm>
              <a:custGeom>
                <a:avLst/>
                <a:gdLst/>
                <a:ahLst/>
                <a:rect l="l" t="t" r="r" b="b"/>
                <a:pathLst>
                  <a:path w="714" h="57">
                    <a:moveTo>
                      <a:pt x="665" y="1"/>
                    </a:moveTo>
                    <a:lnTo>
                      <a:pt x="713" y="56"/>
                    </a:lnTo>
                    <a:lnTo>
                      <a:pt x="47" y="56"/>
                    </a:lnTo>
                    <a:lnTo>
                      <a:pt x="0" y="0"/>
                    </a:lnTo>
                    <a:lnTo>
                      <a:pt x="665" y="1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751120" y="2762280"/>
                <a:ext cx="77760" cy="401760"/>
              </a:xfrm>
              <a:custGeom>
                <a:avLst/>
                <a:gdLst/>
                <a:ahLst/>
                <a:rect l="l" t="t" r="r" b="b"/>
                <a:pathLst>
                  <a:path w="49" h="253">
                    <a:moveTo>
                      <a:pt x="0" y="195"/>
                    </a:moveTo>
                    <a:lnTo>
                      <a:pt x="48" y="252"/>
                    </a:lnTo>
                    <a:lnTo>
                      <a:pt x="48" y="54"/>
                    </a:lnTo>
                    <a:lnTo>
                      <a:pt x="0" y="0"/>
                    </a:lnTo>
                    <a:lnTo>
                      <a:pt x="0" y="195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695600" y="3071880"/>
                <a:ext cx="80640" cy="896760"/>
              </a:xfrm>
              <a:custGeom>
                <a:avLst/>
                <a:gdLst/>
                <a:ahLst/>
                <a:rect l="l" t="t" r="r" b="b"/>
                <a:pathLst>
                  <a:path w="51" h="565">
                    <a:moveTo>
                      <a:pt x="0" y="505"/>
                    </a:moveTo>
                    <a:lnTo>
                      <a:pt x="50" y="564"/>
                    </a:lnTo>
                    <a:lnTo>
                      <a:pt x="50" y="57"/>
                    </a:lnTo>
                    <a:lnTo>
                      <a:pt x="0" y="0"/>
                    </a:lnTo>
                    <a:lnTo>
                      <a:pt x="0" y="505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2751120" y="3967200"/>
                <a:ext cx="77760" cy="320760"/>
              </a:xfrm>
              <a:custGeom>
                <a:avLst/>
                <a:gdLst/>
                <a:ahLst/>
                <a:rect l="l" t="t" r="r" b="b"/>
                <a:pathLst>
                  <a:path w="49" h="202">
                    <a:moveTo>
                      <a:pt x="0" y="0"/>
                    </a:moveTo>
                    <a:lnTo>
                      <a:pt x="48" y="0"/>
                    </a:lnTo>
                    <a:lnTo>
                      <a:pt x="48" y="201"/>
                    </a:lnTo>
                    <a:lnTo>
                      <a:pt x="0" y="1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5b1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5" name=""/>
            <p:cNvGrpSpPr/>
            <p:nvPr/>
          </p:nvGrpSpPr>
          <p:grpSpPr>
            <a:xfrm>
              <a:off x="3822840" y="1162080"/>
              <a:ext cx="1226880" cy="1682640"/>
              <a:chOff x="3822840" y="1162080"/>
              <a:chExt cx="1226880" cy="1682640"/>
            </a:xfrm>
          </p:grpSpPr>
          <p:sp>
            <p:nvSpPr>
              <p:cNvPr id="3516" name=""/>
              <p:cNvSpPr/>
              <p:nvPr/>
            </p:nvSpPr>
            <p:spPr>
              <a:xfrm>
                <a:off x="3825720" y="1225440"/>
                <a:ext cx="1219320" cy="1619280"/>
              </a:xfrm>
              <a:custGeom>
                <a:avLst/>
                <a:gdLst/>
                <a:ahLst/>
                <a:rect l="l" t="t" r="r" b="b"/>
                <a:pathLst>
                  <a:path w="768" h="1020">
                    <a:moveTo>
                      <a:pt x="597" y="0"/>
                    </a:moveTo>
                    <a:lnTo>
                      <a:pt x="168" y="0"/>
                    </a:lnTo>
                    <a:lnTo>
                      <a:pt x="168" y="637"/>
                    </a:lnTo>
                    <a:lnTo>
                      <a:pt x="0" y="637"/>
                    </a:lnTo>
                    <a:lnTo>
                      <a:pt x="384" y="1019"/>
                    </a:lnTo>
                    <a:lnTo>
                      <a:pt x="767" y="637"/>
                    </a:lnTo>
                    <a:lnTo>
                      <a:pt x="597" y="637"/>
                    </a:lnTo>
                    <a:lnTo>
                      <a:pt x="597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091040" y="1162080"/>
                <a:ext cx="684000" cy="66600"/>
              </a:xfrm>
              <a:custGeom>
                <a:avLst/>
                <a:gdLst/>
                <a:ahLst/>
                <a:rect l="l" t="t" r="r" b="b"/>
                <a:pathLst>
                  <a:path w="431" h="42">
                    <a:moveTo>
                      <a:pt x="0" y="41"/>
                    </a:moveTo>
                    <a:lnTo>
                      <a:pt x="430" y="41"/>
                    </a:lnTo>
                    <a:lnTo>
                      <a:pt x="430" y="0"/>
                    </a:lnTo>
                    <a:lnTo>
                      <a:pt x="0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3822840" y="2143080"/>
                <a:ext cx="269640" cy="93600"/>
              </a:xfrm>
              <a:custGeom>
                <a:avLst/>
                <a:gdLst/>
                <a:ahLst/>
                <a:rect l="l" t="t" r="r" b="b"/>
                <a:pathLst>
                  <a:path w="170" h="59">
                    <a:moveTo>
                      <a:pt x="169" y="0"/>
                    </a:moveTo>
                    <a:lnTo>
                      <a:pt x="169" y="58"/>
                    </a:lnTo>
                    <a:lnTo>
                      <a:pt x="0" y="58"/>
                    </a:lnTo>
                    <a:lnTo>
                      <a:pt x="1" y="0"/>
                    </a:lnTo>
                    <a:lnTo>
                      <a:pt x="169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4773600" y="2143080"/>
                <a:ext cx="276120" cy="93600"/>
              </a:xfrm>
              <a:custGeom>
                <a:avLst/>
                <a:gdLst/>
                <a:ahLst/>
                <a:rect l="l" t="t" r="r" b="b"/>
                <a:pathLst>
                  <a:path w="174" h="59">
                    <a:moveTo>
                      <a:pt x="173" y="0"/>
                    </a:moveTo>
                    <a:lnTo>
                      <a:pt x="172" y="58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0" name=""/>
            <p:cNvSpPr/>
            <p:nvPr/>
          </p:nvSpPr>
          <p:spPr>
            <a:xfrm>
              <a:off x="1777320" y="3319560"/>
              <a:ext cx="161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ata In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023160" y="3281400"/>
              <a:ext cx="1681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Out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rot="5400000">
              <a:off x="3714840" y="1783440"/>
              <a:ext cx="1498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stru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3" name=""/>
          <p:cNvSpPr/>
          <p:nvPr/>
        </p:nvSpPr>
        <p:spPr>
          <a:xfrm>
            <a:off x="1243080" y="5594400"/>
            <a:ext cx="378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:PC, Macintosh,  Works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66720" y="518760"/>
            <a:ext cx="8143920" cy="44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entury Gothic"/>
              </a:rPr>
              <a:t>PDC hot topics for E-commerc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67880" y="1636200"/>
            <a:ext cx="8070840" cy="40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luster based web-servers, search engineers, portals…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Scheduling and Single System Image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Heterogeneous Computing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Reliability and High Availability and Data Recovery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Parallel Databases and high performance-reliable-mass storage systems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yberGuard! Data mining for detection of cyber attacks, frauds, etc. detection and online control.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Data Mining for identifying sales pattern and automatically tuning portal to special sessions/festival sale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eCash, eCheque, eBank, eSociety, eGovernment, eEntertainment, eTravel, eGoods, and so on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Data/Site Replications and Caching techniques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ompute Power Market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Infowares (yahoo.com, AOL.com)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ASPs (application service providers)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. . 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e MISD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152280" y="5759280"/>
            <a:ext cx="897264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More of an intellectual exercise than a practical configuration. Few built, but commercially not available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526" name=""/>
          <p:cNvGrpSpPr/>
          <p:nvPr/>
        </p:nvGrpSpPr>
        <p:grpSpPr>
          <a:xfrm>
            <a:off x="590400" y="1019160"/>
            <a:ext cx="8060040" cy="4354560"/>
            <a:chOff x="590400" y="1019160"/>
            <a:chExt cx="8060040" cy="4354560"/>
          </a:xfrm>
        </p:grpSpPr>
        <p:grpSp>
          <p:nvGrpSpPr>
            <p:cNvPr id="3527" name=""/>
            <p:cNvGrpSpPr/>
            <p:nvPr/>
          </p:nvGrpSpPr>
          <p:grpSpPr>
            <a:xfrm>
              <a:off x="4610160" y="3621240"/>
              <a:ext cx="3125880" cy="590400"/>
              <a:chOff x="4610160" y="3621240"/>
              <a:chExt cx="3125880" cy="590400"/>
            </a:xfrm>
          </p:grpSpPr>
          <p:sp>
            <p:nvSpPr>
              <p:cNvPr id="3528" name=""/>
              <p:cNvSpPr/>
              <p:nvPr/>
            </p:nvSpPr>
            <p:spPr>
              <a:xfrm>
                <a:off x="4748040" y="3621240"/>
                <a:ext cx="2988000" cy="556920"/>
              </a:xfrm>
              <a:custGeom>
                <a:avLst/>
                <a:gdLst/>
                <a:ahLst/>
                <a:rect l="l" t="t" r="r" b="b"/>
                <a:pathLst>
                  <a:path w="1882" h="351">
                    <a:moveTo>
                      <a:pt x="0" y="78"/>
                    </a:moveTo>
                    <a:lnTo>
                      <a:pt x="0" y="274"/>
                    </a:lnTo>
                    <a:lnTo>
                      <a:pt x="1172" y="274"/>
                    </a:lnTo>
                    <a:lnTo>
                      <a:pt x="1172" y="350"/>
                    </a:lnTo>
                    <a:lnTo>
                      <a:pt x="1881" y="175"/>
                    </a:lnTo>
                    <a:lnTo>
                      <a:pt x="1172" y="0"/>
                    </a:lnTo>
                    <a:lnTo>
                      <a:pt x="1172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4611600" y="4056120"/>
                <a:ext cx="2000160" cy="34920"/>
              </a:xfrm>
              <a:custGeom>
                <a:avLst/>
                <a:gdLst/>
                <a:ahLst/>
                <a:rect l="l" t="t" r="r" b="b"/>
                <a:pathLst>
                  <a:path w="1260" h="22">
                    <a:moveTo>
                      <a:pt x="1174" y="21"/>
                    </a:moveTo>
                    <a:lnTo>
                      <a:pt x="1259" y="0"/>
                    </a:lnTo>
                    <a:lnTo>
                      <a:pt x="83" y="0"/>
                    </a:lnTo>
                    <a:lnTo>
                      <a:pt x="0" y="21"/>
                    </a:lnTo>
                    <a:lnTo>
                      <a:pt x="1174" y="21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6475320" y="4056120"/>
                <a:ext cx="135000" cy="155520"/>
              </a:xfrm>
              <a:custGeom>
                <a:avLst/>
                <a:gdLst/>
                <a:ahLst/>
                <a:rect l="l" t="t" r="r" b="b"/>
                <a:pathLst>
                  <a:path w="85" h="98">
                    <a:moveTo>
                      <a:pt x="0" y="22"/>
                    </a:moveTo>
                    <a:lnTo>
                      <a:pt x="84" y="0"/>
                    </a:lnTo>
                    <a:lnTo>
                      <a:pt x="84" y="76"/>
                    </a:lnTo>
                    <a:lnTo>
                      <a:pt x="0" y="97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4610160" y="3743280"/>
                <a:ext cx="139680" cy="347760"/>
              </a:xfrm>
              <a:custGeom>
                <a:avLst/>
                <a:gdLst/>
                <a:ahLst/>
                <a:rect l="l" t="t" r="r" b="b"/>
                <a:pathLst>
                  <a:path w="88" h="219">
                    <a:moveTo>
                      <a:pt x="0" y="23"/>
                    </a:moveTo>
                    <a:lnTo>
                      <a:pt x="87" y="0"/>
                    </a:lnTo>
                    <a:lnTo>
                      <a:pt x="87" y="196"/>
                    </a:lnTo>
                    <a:lnTo>
                      <a:pt x="0" y="21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475320" y="3621240"/>
                <a:ext cx="135000" cy="12384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0" y="77"/>
                    </a:moveTo>
                    <a:lnTo>
                      <a:pt x="84" y="77"/>
                    </a:lnTo>
                    <a:lnTo>
                      <a:pt x="84" y="0"/>
                    </a:lnTo>
                    <a:lnTo>
                      <a:pt x="0" y="21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33" name=""/>
            <p:cNvSpPr/>
            <p:nvPr/>
          </p:nvSpPr>
          <p:spPr>
            <a:xfrm>
              <a:off x="2716200" y="2779560"/>
              <a:ext cx="4543560" cy="1279800"/>
            </a:xfrm>
            <a:custGeom>
              <a:avLst/>
              <a:gdLst/>
              <a:ahLst/>
              <a:rect l="l" t="t" r="r" b="b"/>
              <a:pathLst>
                <a:path w="2862" h="806">
                  <a:moveTo>
                    <a:pt x="0" y="606"/>
                  </a:moveTo>
                  <a:lnTo>
                    <a:pt x="6" y="511"/>
                  </a:lnTo>
                  <a:lnTo>
                    <a:pt x="17" y="479"/>
                  </a:lnTo>
                  <a:lnTo>
                    <a:pt x="38" y="439"/>
                  </a:lnTo>
                  <a:lnTo>
                    <a:pt x="56" y="408"/>
                  </a:lnTo>
                  <a:lnTo>
                    <a:pt x="81" y="378"/>
                  </a:lnTo>
                  <a:lnTo>
                    <a:pt x="111" y="348"/>
                  </a:lnTo>
                  <a:lnTo>
                    <a:pt x="143" y="321"/>
                  </a:lnTo>
                  <a:lnTo>
                    <a:pt x="184" y="288"/>
                  </a:lnTo>
                  <a:lnTo>
                    <a:pt x="239" y="249"/>
                  </a:lnTo>
                  <a:lnTo>
                    <a:pt x="293" y="218"/>
                  </a:lnTo>
                  <a:lnTo>
                    <a:pt x="353" y="189"/>
                  </a:lnTo>
                  <a:lnTo>
                    <a:pt x="402" y="168"/>
                  </a:lnTo>
                  <a:lnTo>
                    <a:pt x="460" y="144"/>
                  </a:lnTo>
                  <a:lnTo>
                    <a:pt x="505" y="127"/>
                  </a:lnTo>
                  <a:lnTo>
                    <a:pt x="569" y="110"/>
                  </a:lnTo>
                  <a:lnTo>
                    <a:pt x="627" y="94"/>
                  </a:lnTo>
                  <a:lnTo>
                    <a:pt x="691" y="77"/>
                  </a:lnTo>
                  <a:lnTo>
                    <a:pt x="742" y="65"/>
                  </a:lnTo>
                  <a:lnTo>
                    <a:pt x="815" y="50"/>
                  </a:lnTo>
                  <a:lnTo>
                    <a:pt x="896" y="35"/>
                  </a:lnTo>
                  <a:lnTo>
                    <a:pt x="975" y="24"/>
                  </a:lnTo>
                  <a:lnTo>
                    <a:pt x="1043" y="16"/>
                  </a:lnTo>
                  <a:lnTo>
                    <a:pt x="1123" y="9"/>
                  </a:lnTo>
                  <a:lnTo>
                    <a:pt x="1206" y="3"/>
                  </a:lnTo>
                  <a:lnTo>
                    <a:pt x="1313" y="0"/>
                  </a:lnTo>
                  <a:lnTo>
                    <a:pt x="1405" y="2"/>
                  </a:lnTo>
                  <a:lnTo>
                    <a:pt x="1482" y="6"/>
                  </a:lnTo>
                  <a:lnTo>
                    <a:pt x="1561" y="11"/>
                  </a:lnTo>
                  <a:lnTo>
                    <a:pt x="1646" y="20"/>
                  </a:lnTo>
                  <a:lnTo>
                    <a:pt x="1719" y="28"/>
                  </a:lnTo>
                  <a:lnTo>
                    <a:pt x="1785" y="39"/>
                  </a:lnTo>
                  <a:lnTo>
                    <a:pt x="1871" y="55"/>
                  </a:lnTo>
                  <a:lnTo>
                    <a:pt x="1965" y="75"/>
                  </a:lnTo>
                  <a:lnTo>
                    <a:pt x="2042" y="96"/>
                  </a:lnTo>
                  <a:lnTo>
                    <a:pt x="2106" y="114"/>
                  </a:lnTo>
                  <a:lnTo>
                    <a:pt x="2170" y="136"/>
                  </a:lnTo>
                  <a:lnTo>
                    <a:pt x="2222" y="158"/>
                  </a:lnTo>
                  <a:lnTo>
                    <a:pt x="2279" y="183"/>
                  </a:lnTo>
                  <a:lnTo>
                    <a:pt x="2348" y="215"/>
                  </a:lnTo>
                  <a:lnTo>
                    <a:pt x="2399" y="246"/>
                  </a:lnTo>
                  <a:lnTo>
                    <a:pt x="2457" y="280"/>
                  </a:lnTo>
                  <a:lnTo>
                    <a:pt x="2540" y="351"/>
                  </a:lnTo>
                  <a:lnTo>
                    <a:pt x="2592" y="410"/>
                  </a:lnTo>
                  <a:lnTo>
                    <a:pt x="2630" y="473"/>
                  </a:lnTo>
                  <a:lnTo>
                    <a:pt x="2649" y="524"/>
                  </a:lnTo>
                  <a:lnTo>
                    <a:pt x="2662" y="589"/>
                  </a:lnTo>
                  <a:lnTo>
                    <a:pt x="2861" y="589"/>
                  </a:lnTo>
                  <a:lnTo>
                    <a:pt x="2406" y="805"/>
                  </a:lnTo>
                  <a:lnTo>
                    <a:pt x="1946" y="586"/>
                  </a:lnTo>
                  <a:lnTo>
                    <a:pt x="2151" y="587"/>
                  </a:lnTo>
                  <a:lnTo>
                    <a:pt x="2138" y="522"/>
                  </a:lnTo>
                  <a:lnTo>
                    <a:pt x="2113" y="473"/>
                  </a:lnTo>
                  <a:lnTo>
                    <a:pt x="2074" y="422"/>
                  </a:lnTo>
                  <a:lnTo>
                    <a:pt x="1991" y="351"/>
                  </a:lnTo>
                  <a:lnTo>
                    <a:pt x="1935" y="318"/>
                  </a:lnTo>
                  <a:lnTo>
                    <a:pt x="1875" y="286"/>
                  </a:lnTo>
                  <a:lnTo>
                    <a:pt x="1807" y="260"/>
                  </a:lnTo>
                  <a:lnTo>
                    <a:pt x="1741" y="233"/>
                  </a:lnTo>
                  <a:lnTo>
                    <a:pt x="1676" y="212"/>
                  </a:lnTo>
                  <a:lnTo>
                    <a:pt x="1606" y="195"/>
                  </a:lnTo>
                  <a:lnTo>
                    <a:pt x="1522" y="175"/>
                  </a:lnTo>
                  <a:lnTo>
                    <a:pt x="1426" y="158"/>
                  </a:lnTo>
                  <a:lnTo>
                    <a:pt x="1336" y="146"/>
                  </a:lnTo>
                  <a:lnTo>
                    <a:pt x="1255" y="140"/>
                  </a:lnTo>
                  <a:lnTo>
                    <a:pt x="1153" y="134"/>
                  </a:lnTo>
                  <a:lnTo>
                    <a:pt x="1054" y="133"/>
                  </a:lnTo>
                  <a:lnTo>
                    <a:pt x="986" y="134"/>
                  </a:lnTo>
                  <a:lnTo>
                    <a:pt x="913" y="138"/>
                  </a:lnTo>
                  <a:lnTo>
                    <a:pt x="825" y="146"/>
                  </a:lnTo>
                  <a:lnTo>
                    <a:pt x="742" y="156"/>
                  </a:lnTo>
                  <a:lnTo>
                    <a:pt x="663" y="168"/>
                  </a:lnTo>
                  <a:lnTo>
                    <a:pt x="586" y="184"/>
                  </a:lnTo>
                  <a:lnTo>
                    <a:pt x="473" y="214"/>
                  </a:lnTo>
                  <a:lnTo>
                    <a:pt x="398" y="238"/>
                  </a:lnTo>
                  <a:lnTo>
                    <a:pt x="319" y="270"/>
                  </a:lnTo>
                  <a:lnTo>
                    <a:pt x="250" y="302"/>
                  </a:lnTo>
                  <a:lnTo>
                    <a:pt x="207" y="327"/>
                  </a:lnTo>
                  <a:lnTo>
                    <a:pt x="163" y="356"/>
                  </a:lnTo>
                  <a:lnTo>
                    <a:pt x="128" y="383"/>
                  </a:lnTo>
                  <a:lnTo>
                    <a:pt x="103" y="406"/>
                  </a:lnTo>
                  <a:lnTo>
                    <a:pt x="79" y="428"/>
                  </a:lnTo>
                  <a:lnTo>
                    <a:pt x="60" y="456"/>
                  </a:lnTo>
                  <a:lnTo>
                    <a:pt x="47" y="482"/>
                  </a:lnTo>
                  <a:lnTo>
                    <a:pt x="28" y="517"/>
                  </a:lnTo>
                  <a:lnTo>
                    <a:pt x="0" y="60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105520" y="3524400"/>
              <a:ext cx="1868400" cy="1604880"/>
            </a:xfrm>
            <a:custGeom>
              <a:avLst/>
              <a:gdLst/>
              <a:ahLst/>
              <a:rect l="l" t="t" r="r" b="b"/>
              <a:pathLst>
                <a:path w="1177" h="1011">
                  <a:moveTo>
                    <a:pt x="0" y="249"/>
                  </a:moveTo>
                  <a:lnTo>
                    <a:pt x="3" y="368"/>
                  </a:lnTo>
                  <a:lnTo>
                    <a:pt x="7" y="409"/>
                  </a:lnTo>
                  <a:lnTo>
                    <a:pt x="16" y="459"/>
                  </a:lnTo>
                  <a:lnTo>
                    <a:pt x="23" y="498"/>
                  </a:lnTo>
                  <a:lnTo>
                    <a:pt x="33" y="536"/>
                  </a:lnTo>
                  <a:lnTo>
                    <a:pt x="46" y="573"/>
                  </a:lnTo>
                  <a:lnTo>
                    <a:pt x="59" y="608"/>
                  </a:lnTo>
                  <a:lnTo>
                    <a:pt x="76" y="648"/>
                  </a:lnTo>
                  <a:lnTo>
                    <a:pt x="98" y="698"/>
                  </a:lnTo>
                  <a:lnTo>
                    <a:pt x="120" y="736"/>
                  </a:lnTo>
                  <a:lnTo>
                    <a:pt x="145" y="773"/>
                  </a:lnTo>
                  <a:lnTo>
                    <a:pt x="165" y="799"/>
                  </a:lnTo>
                  <a:lnTo>
                    <a:pt x="189" y="829"/>
                  </a:lnTo>
                  <a:lnTo>
                    <a:pt x="207" y="850"/>
                  </a:lnTo>
                  <a:lnTo>
                    <a:pt x="234" y="872"/>
                  </a:lnTo>
                  <a:lnTo>
                    <a:pt x="258" y="893"/>
                  </a:lnTo>
                  <a:lnTo>
                    <a:pt x="284" y="913"/>
                  </a:lnTo>
                  <a:lnTo>
                    <a:pt x="305" y="928"/>
                  </a:lnTo>
                  <a:lnTo>
                    <a:pt x="335" y="948"/>
                  </a:lnTo>
                  <a:lnTo>
                    <a:pt x="368" y="967"/>
                  </a:lnTo>
                  <a:lnTo>
                    <a:pt x="401" y="979"/>
                  </a:lnTo>
                  <a:lnTo>
                    <a:pt x="429" y="990"/>
                  </a:lnTo>
                  <a:lnTo>
                    <a:pt x="461" y="999"/>
                  </a:lnTo>
                  <a:lnTo>
                    <a:pt x="496" y="1007"/>
                  </a:lnTo>
                  <a:lnTo>
                    <a:pt x="540" y="1010"/>
                  </a:lnTo>
                  <a:lnTo>
                    <a:pt x="577" y="1007"/>
                  </a:lnTo>
                  <a:lnTo>
                    <a:pt x="609" y="1002"/>
                  </a:lnTo>
                  <a:lnTo>
                    <a:pt x="642" y="996"/>
                  </a:lnTo>
                  <a:lnTo>
                    <a:pt x="677" y="985"/>
                  </a:lnTo>
                  <a:lnTo>
                    <a:pt x="707" y="975"/>
                  </a:lnTo>
                  <a:lnTo>
                    <a:pt x="734" y="961"/>
                  </a:lnTo>
                  <a:lnTo>
                    <a:pt x="769" y="941"/>
                  </a:lnTo>
                  <a:lnTo>
                    <a:pt x="808" y="916"/>
                  </a:lnTo>
                  <a:lnTo>
                    <a:pt x="839" y="889"/>
                  </a:lnTo>
                  <a:lnTo>
                    <a:pt x="866" y="867"/>
                  </a:lnTo>
                  <a:lnTo>
                    <a:pt x="892" y="839"/>
                  </a:lnTo>
                  <a:lnTo>
                    <a:pt x="913" y="812"/>
                  </a:lnTo>
                  <a:lnTo>
                    <a:pt x="937" y="780"/>
                  </a:lnTo>
                  <a:lnTo>
                    <a:pt x="965" y="740"/>
                  </a:lnTo>
                  <a:lnTo>
                    <a:pt x="986" y="702"/>
                  </a:lnTo>
                  <a:lnTo>
                    <a:pt x="1010" y="659"/>
                  </a:lnTo>
                  <a:lnTo>
                    <a:pt x="1044" y="569"/>
                  </a:lnTo>
                  <a:lnTo>
                    <a:pt x="1065" y="496"/>
                  </a:lnTo>
                  <a:lnTo>
                    <a:pt x="1081" y="417"/>
                  </a:lnTo>
                  <a:lnTo>
                    <a:pt x="1089" y="353"/>
                  </a:lnTo>
                  <a:lnTo>
                    <a:pt x="1094" y="271"/>
                  </a:lnTo>
                  <a:lnTo>
                    <a:pt x="1176" y="271"/>
                  </a:lnTo>
                  <a:lnTo>
                    <a:pt x="989" y="0"/>
                  </a:lnTo>
                  <a:lnTo>
                    <a:pt x="800" y="275"/>
                  </a:lnTo>
                  <a:lnTo>
                    <a:pt x="884" y="274"/>
                  </a:lnTo>
                  <a:lnTo>
                    <a:pt x="879" y="356"/>
                  </a:lnTo>
                  <a:lnTo>
                    <a:pt x="868" y="417"/>
                  </a:lnTo>
                  <a:lnTo>
                    <a:pt x="853" y="481"/>
                  </a:lnTo>
                  <a:lnTo>
                    <a:pt x="818" y="569"/>
                  </a:lnTo>
                  <a:lnTo>
                    <a:pt x="795" y="611"/>
                  </a:lnTo>
                  <a:lnTo>
                    <a:pt x="771" y="651"/>
                  </a:lnTo>
                  <a:lnTo>
                    <a:pt x="743" y="684"/>
                  </a:lnTo>
                  <a:lnTo>
                    <a:pt x="715" y="717"/>
                  </a:lnTo>
                  <a:lnTo>
                    <a:pt x="689" y="744"/>
                  </a:lnTo>
                  <a:lnTo>
                    <a:pt x="660" y="766"/>
                  </a:lnTo>
                  <a:lnTo>
                    <a:pt x="626" y="790"/>
                  </a:lnTo>
                  <a:lnTo>
                    <a:pt x="586" y="812"/>
                  </a:lnTo>
                  <a:lnTo>
                    <a:pt x="549" y="827"/>
                  </a:lnTo>
                  <a:lnTo>
                    <a:pt x="516" y="835"/>
                  </a:lnTo>
                  <a:lnTo>
                    <a:pt x="474" y="842"/>
                  </a:lnTo>
                  <a:lnTo>
                    <a:pt x="433" y="843"/>
                  </a:lnTo>
                  <a:lnTo>
                    <a:pt x="405" y="842"/>
                  </a:lnTo>
                  <a:lnTo>
                    <a:pt x="375" y="837"/>
                  </a:lnTo>
                  <a:lnTo>
                    <a:pt x="339" y="827"/>
                  </a:lnTo>
                  <a:lnTo>
                    <a:pt x="305" y="814"/>
                  </a:lnTo>
                  <a:lnTo>
                    <a:pt x="272" y="799"/>
                  </a:lnTo>
                  <a:lnTo>
                    <a:pt x="241" y="779"/>
                  </a:lnTo>
                  <a:lnTo>
                    <a:pt x="194" y="742"/>
                  </a:lnTo>
                  <a:lnTo>
                    <a:pt x="163" y="711"/>
                  </a:lnTo>
                  <a:lnTo>
                    <a:pt x="131" y="671"/>
                  </a:lnTo>
                  <a:lnTo>
                    <a:pt x="103" y="631"/>
                  </a:lnTo>
                  <a:lnTo>
                    <a:pt x="85" y="600"/>
                  </a:lnTo>
                  <a:lnTo>
                    <a:pt x="67" y="563"/>
                  </a:lnTo>
                  <a:lnTo>
                    <a:pt x="53" y="529"/>
                  </a:lnTo>
                  <a:lnTo>
                    <a:pt x="42" y="501"/>
                  </a:lnTo>
                  <a:lnTo>
                    <a:pt x="33" y="473"/>
                  </a:lnTo>
                  <a:lnTo>
                    <a:pt x="25" y="437"/>
                  </a:lnTo>
                  <a:lnTo>
                    <a:pt x="19" y="405"/>
                  </a:lnTo>
                  <a:lnTo>
                    <a:pt x="11" y="361"/>
                  </a:lnTo>
                  <a:lnTo>
                    <a:pt x="0" y="249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90400" y="3135240"/>
              <a:ext cx="1830600" cy="1990800"/>
            </a:xfrm>
            <a:custGeom>
              <a:avLst/>
              <a:gdLst/>
              <a:ahLst/>
              <a:rect l="l" t="t" r="r" b="b"/>
              <a:pathLst>
                <a:path w="1153" h="1254">
                  <a:moveTo>
                    <a:pt x="835" y="1253"/>
                  </a:moveTo>
                  <a:lnTo>
                    <a:pt x="700" y="1246"/>
                  </a:lnTo>
                  <a:lnTo>
                    <a:pt x="654" y="1239"/>
                  </a:lnTo>
                  <a:lnTo>
                    <a:pt x="599" y="1228"/>
                  </a:lnTo>
                  <a:lnTo>
                    <a:pt x="556" y="1219"/>
                  </a:lnTo>
                  <a:lnTo>
                    <a:pt x="513" y="1205"/>
                  </a:lnTo>
                  <a:lnTo>
                    <a:pt x="472" y="1191"/>
                  </a:lnTo>
                  <a:lnTo>
                    <a:pt x="433" y="1176"/>
                  </a:lnTo>
                  <a:lnTo>
                    <a:pt x="388" y="1157"/>
                  </a:lnTo>
                  <a:lnTo>
                    <a:pt x="335" y="1131"/>
                  </a:lnTo>
                  <a:lnTo>
                    <a:pt x="292" y="1106"/>
                  </a:lnTo>
                  <a:lnTo>
                    <a:pt x="250" y="1077"/>
                  </a:lnTo>
                  <a:lnTo>
                    <a:pt x="223" y="1056"/>
                  </a:lnTo>
                  <a:lnTo>
                    <a:pt x="190" y="1030"/>
                  </a:lnTo>
                  <a:lnTo>
                    <a:pt x="167" y="1009"/>
                  </a:lnTo>
                  <a:lnTo>
                    <a:pt x="143" y="981"/>
                  </a:lnTo>
                  <a:lnTo>
                    <a:pt x="122" y="953"/>
                  </a:lnTo>
                  <a:lnTo>
                    <a:pt x="100" y="925"/>
                  </a:lnTo>
                  <a:lnTo>
                    <a:pt x="82" y="903"/>
                  </a:lnTo>
                  <a:lnTo>
                    <a:pt x="62" y="869"/>
                  </a:lnTo>
                  <a:lnTo>
                    <a:pt x="42" y="833"/>
                  </a:lnTo>
                  <a:lnTo>
                    <a:pt x="29" y="797"/>
                  </a:lnTo>
                  <a:lnTo>
                    <a:pt x="18" y="768"/>
                  </a:lnTo>
                  <a:lnTo>
                    <a:pt x="10" y="734"/>
                  </a:lnTo>
                  <a:lnTo>
                    <a:pt x="2" y="695"/>
                  </a:lnTo>
                  <a:lnTo>
                    <a:pt x="0" y="649"/>
                  </a:lnTo>
                  <a:lnTo>
                    <a:pt x="3" y="609"/>
                  </a:lnTo>
                  <a:lnTo>
                    <a:pt x="11" y="576"/>
                  </a:lnTo>
                  <a:lnTo>
                    <a:pt x="19" y="541"/>
                  </a:lnTo>
                  <a:lnTo>
                    <a:pt x="33" y="504"/>
                  </a:lnTo>
                  <a:lnTo>
                    <a:pt x="46" y="473"/>
                  </a:lnTo>
                  <a:lnTo>
                    <a:pt x="61" y="444"/>
                  </a:lnTo>
                  <a:lnTo>
                    <a:pt x="86" y="408"/>
                  </a:lnTo>
                  <a:lnTo>
                    <a:pt x="117" y="368"/>
                  </a:lnTo>
                  <a:lnTo>
                    <a:pt x="146" y="334"/>
                  </a:lnTo>
                  <a:lnTo>
                    <a:pt x="172" y="308"/>
                  </a:lnTo>
                  <a:lnTo>
                    <a:pt x="206" y="281"/>
                  </a:lnTo>
                  <a:lnTo>
                    <a:pt x="237" y="260"/>
                  </a:lnTo>
                  <a:lnTo>
                    <a:pt x="273" y="235"/>
                  </a:lnTo>
                  <a:lnTo>
                    <a:pt x="320" y="207"/>
                  </a:lnTo>
                  <a:lnTo>
                    <a:pt x="364" y="185"/>
                  </a:lnTo>
                  <a:lnTo>
                    <a:pt x="413" y="163"/>
                  </a:lnTo>
                  <a:lnTo>
                    <a:pt x="515" y="129"/>
                  </a:lnTo>
                  <a:lnTo>
                    <a:pt x="597" y="109"/>
                  </a:lnTo>
                  <a:lnTo>
                    <a:pt x="687" y="95"/>
                  </a:lnTo>
                  <a:lnTo>
                    <a:pt x="760" y="90"/>
                  </a:lnTo>
                  <a:lnTo>
                    <a:pt x="851" y="87"/>
                  </a:lnTo>
                  <a:lnTo>
                    <a:pt x="853" y="0"/>
                  </a:lnTo>
                  <a:lnTo>
                    <a:pt x="1152" y="210"/>
                  </a:lnTo>
                  <a:lnTo>
                    <a:pt x="836" y="401"/>
                  </a:lnTo>
                  <a:lnTo>
                    <a:pt x="840" y="312"/>
                  </a:lnTo>
                  <a:lnTo>
                    <a:pt x="748" y="313"/>
                  </a:lnTo>
                  <a:lnTo>
                    <a:pt x="678" y="322"/>
                  </a:lnTo>
                  <a:lnTo>
                    <a:pt x="607" y="336"/>
                  </a:lnTo>
                  <a:lnTo>
                    <a:pt x="506" y="370"/>
                  </a:lnTo>
                  <a:lnTo>
                    <a:pt x="458" y="392"/>
                  </a:lnTo>
                  <a:lnTo>
                    <a:pt x="412" y="417"/>
                  </a:lnTo>
                  <a:lnTo>
                    <a:pt x="375" y="445"/>
                  </a:lnTo>
                  <a:lnTo>
                    <a:pt x="335" y="473"/>
                  </a:lnTo>
                  <a:lnTo>
                    <a:pt x="304" y="501"/>
                  </a:lnTo>
                  <a:lnTo>
                    <a:pt x="279" y="531"/>
                  </a:lnTo>
                  <a:lnTo>
                    <a:pt x="251" y="566"/>
                  </a:lnTo>
                  <a:lnTo>
                    <a:pt x="224" y="607"/>
                  </a:lnTo>
                  <a:lnTo>
                    <a:pt x="206" y="647"/>
                  </a:lnTo>
                  <a:lnTo>
                    <a:pt x="196" y="680"/>
                  </a:lnTo>
                  <a:lnTo>
                    <a:pt x="186" y="725"/>
                  </a:lnTo>
                  <a:lnTo>
                    <a:pt x="183" y="769"/>
                  </a:lnTo>
                  <a:lnTo>
                    <a:pt x="184" y="799"/>
                  </a:lnTo>
                  <a:lnTo>
                    <a:pt x="188" y="831"/>
                  </a:lnTo>
                  <a:lnTo>
                    <a:pt x="197" y="870"/>
                  </a:lnTo>
                  <a:lnTo>
                    <a:pt x="211" y="907"/>
                  </a:lnTo>
                  <a:lnTo>
                    <a:pt x="227" y="941"/>
                  </a:lnTo>
                  <a:lnTo>
                    <a:pt x="248" y="976"/>
                  </a:lnTo>
                  <a:lnTo>
                    <a:pt x="288" y="1027"/>
                  </a:lnTo>
                  <a:lnTo>
                    <a:pt x="321" y="1060"/>
                  </a:lnTo>
                  <a:lnTo>
                    <a:pt x="364" y="1097"/>
                  </a:lnTo>
                  <a:lnTo>
                    <a:pt x="410" y="1129"/>
                  </a:lnTo>
                  <a:lnTo>
                    <a:pt x="444" y="1149"/>
                  </a:lnTo>
                  <a:lnTo>
                    <a:pt x="484" y="1170"/>
                  </a:lnTo>
                  <a:lnTo>
                    <a:pt x="521" y="1185"/>
                  </a:lnTo>
                  <a:lnTo>
                    <a:pt x="553" y="1198"/>
                  </a:lnTo>
                  <a:lnTo>
                    <a:pt x="584" y="1209"/>
                  </a:lnTo>
                  <a:lnTo>
                    <a:pt x="624" y="1218"/>
                  </a:lnTo>
                  <a:lnTo>
                    <a:pt x="659" y="1227"/>
                  </a:lnTo>
                  <a:lnTo>
                    <a:pt x="710" y="1236"/>
                  </a:lnTo>
                  <a:lnTo>
                    <a:pt x="835" y="1253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65280" y="3352680"/>
              <a:ext cx="4079880" cy="1968480"/>
            </a:xfrm>
            <a:custGeom>
              <a:avLst/>
              <a:gdLst/>
              <a:ahLst/>
              <a:rect l="l" t="t" r="r" b="b"/>
              <a:pathLst>
                <a:path w="2570" h="1240">
                  <a:moveTo>
                    <a:pt x="1457" y="0"/>
                  </a:moveTo>
                  <a:lnTo>
                    <a:pt x="1186" y="35"/>
                  </a:lnTo>
                  <a:lnTo>
                    <a:pt x="1096" y="51"/>
                  </a:lnTo>
                  <a:lnTo>
                    <a:pt x="986" y="73"/>
                  </a:lnTo>
                  <a:lnTo>
                    <a:pt x="902" y="91"/>
                  </a:lnTo>
                  <a:lnTo>
                    <a:pt x="820" y="113"/>
                  </a:lnTo>
                  <a:lnTo>
                    <a:pt x="742" y="136"/>
                  </a:lnTo>
                  <a:lnTo>
                    <a:pt x="672" y="159"/>
                  </a:lnTo>
                  <a:lnTo>
                    <a:pt x="588" y="187"/>
                  </a:lnTo>
                  <a:lnTo>
                    <a:pt x="488" y="225"/>
                  </a:lnTo>
                  <a:lnTo>
                    <a:pt x="412" y="258"/>
                  </a:lnTo>
                  <a:lnTo>
                    <a:pt x="340" y="293"/>
                  </a:lnTo>
                  <a:lnTo>
                    <a:pt x="294" y="322"/>
                  </a:lnTo>
                  <a:lnTo>
                    <a:pt x="238" y="354"/>
                  </a:lnTo>
                  <a:lnTo>
                    <a:pt x="200" y="380"/>
                  </a:lnTo>
                  <a:lnTo>
                    <a:pt x="166" y="414"/>
                  </a:lnTo>
                  <a:lnTo>
                    <a:pt x="132" y="443"/>
                  </a:lnTo>
                  <a:lnTo>
                    <a:pt x="98" y="477"/>
                  </a:lnTo>
                  <a:lnTo>
                    <a:pt x="76" y="503"/>
                  </a:lnTo>
                  <a:lnTo>
                    <a:pt x="46" y="540"/>
                  </a:lnTo>
                  <a:lnTo>
                    <a:pt x="24" y="579"/>
                  </a:lnTo>
                  <a:lnTo>
                    <a:pt x="12" y="617"/>
                  </a:lnTo>
                  <a:lnTo>
                    <a:pt x="4" y="649"/>
                  </a:lnTo>
                  <a:lnTo>
                    <a:pt x="0" y="686"/>
                  </a:lnTo>
                  <a:lnTo>
                    <a:pt x="4" y="724"/>
                  </a:lnTo>
                  <a:lnTo>
                    <a:pt x="20" y="772"/>
                  </a:lnTo>
                  <a:lnTo>
                    <a:pt x="46" y="810"/>
                  </a:lnTo>
                  <a:lnTo>
                    <a:pt x="74" y="842"/>
                  </a:lnTo>
                  <a:lnTo>
                    <a:pt x="106" y="874"/>
                  </a:lnTo>
                  <a:lnTo>
                    <a:pt x="150" y="909"/>
                  </a:lnTo>
                  <a:lnTo>
                    <a:pt x="190" y="937"/>
                  </a:lnTo>
                  <a:lnTo>
                    <a:pt x="236" y="962"/>
                  </a:lnTo>
                  <a:lnTo>
                    <a:pt x="302" y="993"/>
                  </a:lnTo>
                  <a:lnTo>
                    <a:pt x="380" y="1027"/>
                  </a:lnTo>
                  <a:lnTo>
                    <a:pt x="458" y="1052"/>
                  </a:lnTo>
                  <a:lnTo>
                    <a:pt x="524" y="1075"/>
                  </a:lnTo>
                  <a:lnTo>
                    <a:pt x="604" y="1095"/>
                  </a:lnTo>
                  <a:lnTo>
                    <a:pt x="678" y="1109"/>
                  </a:lnTo>
                  <a:lnTo>
                    <a:pt x="762" y="1125"/>
                  </a:lnTo>
                  <a:lnTo>
                    <a:pt x="868" y="1144"/>
                  </a:lnTo>
                  <a:lnTo>
                    <a:pt x="968" y="1156"/>
                  </a:lnTo>
                  <a:lnTo>
                    <a:pt x="1078" y="1170"/>
                  </a:lnTo>
                  <a:lnTo>
                    <a:pt x="1303" y="1181"/>
                  </a:lnTo>
                  <a:lnTo>
                    <a:pt x="1481" y="1184"/>
                  </a:lnTo>
                  <a:lnTo>
                    <a:pt x="1671" y="1178"/>
                  </a:lnTo>
                  <a:lnTo>
                    <a:pt x="1821" y="1170"/>
                  </a:lnTo>
                  <a:lnTo>
                    <a:pt x="2009" y="1154"/>
                  </a:lnTo>
                  <a:lnTo>
                    <a:pt x="2055" y="1239"/>
                  </a:lnTo>
                  <a:lnTo>
                    <a:pt x="2569" y="969"/>
                  </a:lnTo>
                  <a:lnTo>
                    <a:pt x="1839" y="846"/>
                  </a:lnTo>
                  <a:lnTo>
                    <a:pt x="1889" y="933"/>
                  </a:lnTo>
                  <a:lnTo>
                    <a:pt x="1699" y="950"/>
                  </a:lnTo>
                  <a:lnTo>
                    <a:pt x="1553" y="956"/>
                  </a:lnTo>
                  <a:lnTo>
                    <a:pt x="1399" y="956"/>
                  </a:lnTo>
                  <a:lnTo>
                    <a:pt x="1176" y="944"/>
                  </a:lnTo>
                  <a:lnTo>
                    <a:pt x="1070" y="931"/>
                  </a:lnTo>
                  <a:lnTo>
                    <a:pt x="964" y="917"/>
                  </a:lnTo>
                  <a:lnTo>
                    <a:pt x="874" y="896"/>
                  </a:lnTo>
                  <a:lnTo>
                    <a:pt x="782" y="876"/>
                  </a:lnTo>
                  <a:lnTo>
                    <a:pt x="708" y="856"/>
                  </a:lnTo>
                  <a:lnTo>
                    <a:pt x="642" y="832"/>
                  </a:lnTo>
                  <a:lnTo>
                    <a:pt x="566" y="802"/>
                  </a:lnTo>
                  <a:lnTo>
                    <a:pt x="498" y="766"/>
                  </a:lnTo>
                  <a:lnTo>
                    <a:pt x="440" y="732"/>
                  </a:lnTo>
                  <a:lnTo>
                    <a:pt x="406" y="699"/>
                  </a:lnTo>
                  <a:lnTo>
                    <a:pt x="366" y="657"/>
                  </a:lnTo>
                  <a:lnTo>
                    <a:pt x="340" y="614"/>
                  </a:lnTo>
                  <a:lnTo>
                    <a:pt x="330" y="585"/>
                  </a:lnTo>
                  <a:lnTo>
                    <a:pt x="322" y="553"/>
                  </a:lnTo>
                  <a:lnTo>
                    <a:pt x="326" y="512"/>
                  </a:lnTo>
                  <a:lnTo>
                    <a:pt x="336" y="473"/>
                  </a:lnTo>
                  <a:lnTo>
                    <a:pt x="352" y="435"/>
                  </a:lnTo>
                  <a:lnTo>
                    <a:pt x="382" y="396"/>
                  </a:lnTo>
                  <a:lnTo>
                    <a:pt x="440" y="336"/>
                  </a:lnTo>
                  <a:lnTo>
                    <a:pt x="492" y="296"/>
                  </a:lnTo>
                  <a:lnTo>
                    <a:pt x="566" y="251"/>
                  </a:lnTo>
                  <a:lnTo>
                    <a:pt x="642" y="211"/>
                  </a:lnTo>
                  <a:lnTo>
                    <a:pt x="704" y="184"/>
                  </a:lnTo>
                  <a:lnTo>
                    <a:pt x="778" y="156"/>
                  </a:lnTo>
                  <a:lnTo>
                    <a:pt x="848" y="131"/>
                  </a:lnTo>
                  <a:lnTo>
                    <a:pt x="906" y="112"/>
                  </a:lnTo>
                  <a:lnTo>
                    <a:pt x="964" y="95"/>
                  </a:lnTo>
                  <a:lnTo>
                    <a:pt x="1042" y="77"/>
                  </a:lnTo>
                  <a:lnTo>
                    <a:pt x="1112" y="63"/>
                  </a:lnTo>
                  <a:lnTo>
                    <a:pt x="1208" y="42"/>
                  </a:lnTo>
                  <a:lnTo>
                    <a:pt x="1457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7" name=""/>
            <p:cNvGrpSpPr/>
            <p:nvPr/>
          </p:nvGrpSpPr>
          <p:grpSpPr>
            <a:xfrm>
              <a:off x="2438280" y="2581200"/>
              <a:ext cx="1087560" cy="1173240"/>
              <a:chOff x="2438280" y="2581200"/>
              <a:chExt cx="1087560" cy="1173240"/>
            </a:xfrm>
          </p:grpSpPr>
          <p:sp>
            <p:nvSpPr>
              <p:cNvPr id="3538" name=""/>
              <p:cNvSpPr/>
              <p:nvPr/>
            </p:nvSpPr>
            <p:spPr>
              <a:xfrm>
                <a:off x="2438280" y="2763720"/>
                <a:ext cx="851040" cy="990720"/>
              </a:xfrm>
              <a:custGeom>
                <a:avLst/>
                <a:gdLst/>
                <a:ahLst/>
                <a:rect l="l" t="t" r="r" b="b"/>
                <a:pathLst>
                  <a:path w="536" h="624">
                    <a:moveTo>
                      <a:pt x="0" y="0"/>
                    </a:moveTo>
                    <a:lnTo>
                      <a:pt x="535" y="0"/>
                    </a:lnTo>
                    <a:lnTo>
                      <a:pt x="535" y="623"/>
                    </a:lnTo>
                    <a:lnTo>
                      <a:pt x="0" y="6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438280" y="2581200"/>
                <a:ext cx="1087560" cy="162000"/>
              </a:xfrm>
              <a:custGeom>
                <a:avLst/>
                <a:gdLst/>
                <a:ahLst/>
                <a:rect l="l" t="t" r="r" b="b"/>
                <a:pathLst>
                  <a:path w="685" h="102">
                    <a:moveTo>
                      <a:pt x="0" y="101"/>
                    </a:moveTo>
                    <a:lnTo>
                      <a:pt x="536" y="101"/>
                    </a:lnTo>
                    <a:lnTo>
                      <a:pt x="684" y="0"/>
                    </a:lnTo>
                    <a:lnTo>
                      <a:pt x="146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3303720" y="2581200"/>
                <a:ext cx="222120" cy="1173240"/>
              </a:xfrm>
              <a:custGeom>
                <a:avLst/>
                <a:gdLst/>
                <a:ahLst/>
                <a:rect l="l" t="t" r="r" b="b"/>
                <a:pathLst>
                  <a:path w="140" h="739">
                    <a:moveTo>
                      <a:pt x="139" y="0"/>
                    </a:moveTo>
                    <a:lnTo>
                      <a:pt x="0" y="114"/>
                    </a:lnTo>
                    <a:lnTo>
                      <a:pt x="0" y="738"/>
                    </a:lnTo>
                    <a:lnTo>
                      <a:pt x="139" y="566"/>
                    </a:lnTo>
                    <a:lnTo>
                      <a:pt x="139" y="0"/>
                    </a:lnTo>
                  </a:path>
                </a:pathLst>
              </a:cu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3519360" y="3467160"/>
              <a:ext cx="1149480" cy="1176120"/>
              <a:chOff x="3519360" y="3467160"/>
              <a:chExt cx="1149480" cy="1176120"/>
            </a:xfrm>
          </p:grpSpPr>
          <p:sp>
            <p:nvSpPr>
              <p:cNvPr id="3542" name=""/>
              <p:cNvSpPr/>
              <p:nvPr/>
            </p:nvSpPr>
            <p:spPr>
              <a:xfrm>
                <a:off x="3519360" y="3651120"/>
                <a:ext cx="898560" cy="992160"/>
              </a:xfrm>
              <a:custGeom>
                <a:avLst/>
                <a:gdLst/>
                <a:ahLst/>
                <a:rect l="l" t="t" r="r" b="b"/>
                <a:pathLst>
                  <a:path w="566" h="625">
                    <a:moveTo>
                      <a:pt x="0" y="0"/>
                    </a:moveTo>
                    <a:lnTo>
                      <a:pt x="565" y="0"/>
                    </a:lnTo>
                    <a:lnTo>
                      <a:pt x="565" y="624"/>
                    </a:lnTo>
                    <a:lnTo>
                      <a:pt x="0" y="6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3519360" y="3467160"/>
                <a:ext cx="1149480" cy="163440"/>
              </a:xfrm>
              <a:custGeom>
                <a:avLst/>
                <a:gdLst/>
                <a:ahLst/>
                <a:rect l="l" t="t" r="r" b="b"/>
                <a:pathLst>
                  <a:path w="724" h="103">
                    <a:moveTo>
                      <a:pt x="0" y="102"/>
                    </a:moveTo>
                    <a:lnTo>
                      <a:pt x="567" y="102"/>
                    </a:lnTo>
                    <a:lnTo>
                      <a:pt x="723" y="0"/>
                    </a:lnTo>
                    <a:lnTo>
                      <a:pt x="155" y="0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9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435560" y="3467160"/>
                <a:ext cx="233280" cy="1176120"/>
              </a:xfrm>
              <a:custGeom>
                <a:avLst/>
                <a:gdLst/>
                <a:ahLst/>
                <a:rect l="l" t="t" r="r" b="b"/>
                <a:pathLst>
                  <a:path w="147" h="741">
                    <a:moveTo>
                      <a:pt x="146" y="0"/>
                    </a:moveTo>
                    <a:lnTo>
                      <a:pt x="0" y="114"/>
                    </a:lnTo>
                    <a:lnTo>
                      <a:pt x="0" y="740"/>
                    </a:lnTo>
                    <a:lnTo>
                      <a:pt x="146" y="569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5" name=""/>
            <p:cNvGrpSpPr/>
            <p:nvPr/>
          </p:nvGrpSpPr>
          <p:grpSpPr>
            <a:xfrm>
              <a:off x="4746600" y="4152960"/>
              <a:ext cx="1160640" cy="1220760"/>
              <a:chOff x="4746600" y="4152960"/>
              <a:chExt cx="1160640" cy="1220760"/>
            </a:xfrm>
          </p:grpSpPr>
          <p:sp>
            <p:nvSpPr>
              <p:cNvPr id="3546" name=""/>
              <p:cNvSpPr/>
              <p:nvPr/>
            </p:nvSpPr>
            <p:spPr>
              <a:xfrm>
                <a:off x="4746600" y="4344840"/>
                <a:ext cx="907920" cy="1028880"/>
              </a:xfrm>
              <a:custGeom>
                <a:avLst/>
                <a:gdLst/>
                <a:ahLst/>
                <a:rect l="l" t="t" r="r" b="b"/>
                <a:pathLst>
                  <a:path w="572" h="648">
                    <a:moveTo>
                      <a:pt x="0" y="0"/>
                    </a:moveTo>
                    <a:lnTo>
                      <a:pt x="571" y="0"/>
                    </a:lnTo>
                    <a:lnTo>
                      <a:pt x="571" y="647"/>
                    </a:lnTo>
                    <a:lnTo>
                      <a:pt x="0" y="6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4746600" y="4152960"/>
                <a:ext cx="1160640" cy="171360"/>
              </a:xfrm>
              <a:custGeom>
                <a:avLst/>
                <a:gdLst/>
                <a:ahLst/>
                <a:rect l="l" t="t" r="r" b="b"/>
                <a:pathLst>
                  <a:path w="731" h="108">
                    <a:moveTo>
                      <a:pt x="0" y="107"/>
                    </a:moveTo>
                    <a:lnTo>
                      <a:pt x="573" y="107"/>
                    </a:lnTo>
                    <a:lnTo>
                      <a:pt x="730" y="0"/>
                    </a:lnTo>
                    <a:lnTo>
                      <a:pt x="157" y="0"/>
                    </a:lnTo>
                    <a:lnTo>
                      <a:pt x="0" y="107"/>
                    </a:lnTo>
                  </a:path>
                </a:pathLst>
              </a:custGeom>
              <a:solidFill>
                <a:srgbClr val="00dfbf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673600" y="4152960"/>
                <a:ext cx="233640" cy="1220760"/>
              </a:xfrm>
              <a:custGeom>
                <a:avLst/>
                <a:gdLst/>
                <a:ahLst/>
                <a:rect l="l" t="t" r="r" b="b"/>
                <a:pathLst>
                  <a:path w="147" h="769">
                    <a:moveTo>
                      <a:pt x="146" y="0"/>
                    </a:moveTo>
                    <a:lnTo>
                      <a:pt x="0" y="119"/>
                    </a:lnTo>
                    <a:lnTo>
                      <a:pt x="0" y="768"/>
                    </a:lnTo>
                    <a:lnTo>
                      <a:pt x="146" y="59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005f5f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9" name=""/>
            <p:cNvGrpSpPr/>
            <p:nvPr/>
          </p:nvGrpSpPr>
          <p:grpSpPr>
            <a:xfrm>
              <a:off x="2703600" y="1019160"/>
              <a:ext cx="668160" cy="1627200"/>
              <a:chOff x="2703600" y="1019160"/>
              <a:chExt cx="668160" cy="1627200"/>
            </a:xfrm>
          </p:grpSpPr>
          <p:sp>
            <p:nvSpPr>
              <p:cNvPr id="3550" name=""/>
              <p:cNvSpPr/>
              <p:nvPr/>
            </p:nvSpPr>
            <p:spPr>
              <a:xfrm>
                <a:off x="2703600" y="224964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0" y="77"/>
                    </a:lnTo>
                    <a:lnTo>
                      <a:pt x="162" y="0"/>
                    </a:lnTo>
                    <a:lnTo>
                      <a:pt x="80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3112920" y="224964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1" y="77"/>
                    </a:lnTo>
                    <a:lnTo>
                      <a:pt x="162" y="0"/>
                    </a:lnTo>
                    <a:lnTo>
                      <a:pt x="81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3112920" y="1019160"/>
                <a:ext cx="122400" cy="1354320"/>
              </a:xfrm>
              <a:custGeom>
                <a:avLst/>
                <a:gdLst/>
                <a:ahLst/>
                <a:rect l="l" t="t" r="r" b="b"/>
                <a:pathLst>
                  <a:path w="77" h="853">
                    <a:moveTo>
                      <a:pt x="0" y="0"/>
                    </a:moveTo>
                    <a:lnTo>
                      <a:pt x="0" y="852"/>
                    </a:lnTo>
                    <a:lnTo>
                      <a:pt x="76" y="76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2703600" y="1019160"/>
                <a:ext cx="531720" cy="1627200"/>
              </a:xfrm>
              <a:custGeom>
                <a:avLst/>
                <a:gdLst/>
                <a:ahLst/>
                <a:rect l="l" t="t" r="r" b="b"/>
                <a:pathLst>
                  <a:path w="335" h="1025">
                    <a:moveTo>
                      <a:pt x="84" y="0"/>
                    </a:moveTo>
                    <a:lnTo>
                      <a:pt x="250" y="0"/>
                    </a:lnTo>
                    <a:lnTo>
                      <a:pt x="250" y="853"/>
                    </a:lnTo>
                    <a:lnTo>
                      <a:pt x="334" y="853"/>
                    </a:lnTo>
                    <a:lnTo>
                      <a:pt x="167" y="1024"/>
                    </a:lnTo>
                    <a:lnTo>
                      <a:pt x="0" y="853"/>
                    </a:lnTo>
                    <a:lnTo>
                      <a:pt x="84" y="853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4" name=""/>
            <p:cNvGrpSpPr/>
            <p:nvPr/>
          </p:nvGrpSpPr>
          <p:grpSpPr>
            <a:xfrm>
              <a:off x="3770280" y="1866960"/>
              <a:ext cx="668520" cy="1636560"/>
              <a:chOff x="3770280" y="1866960"/>
              <a:chExt cx="668520" cy="1636560"/>
            </a:xfrm>
          </p:grpSpPr>
          <p:sp>
            <p:nvSpPr>
              <p:cNvPr id="3555" name=""/>
              <p:cNvSpPr/>
              <p:nvPr/>
            </p:nvSpPr>
            <p:spPr>
              <a:xfrm>
                <a:off x="3770280" y="310500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0" y="77"/>
                    </a:lnTo>
                    <a:lnTo>
                      <a:pt x="162" y="0"/>
                    </a:lnTo>
                    <a:lnTo>
                      <a:pt x="80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4179960" y="310500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1" y="77"/>
                    </a:lnTo>
                    <a:lnTo>
                      <a:pt x="162" y="0"/>
                    </a:lnTo>
                    <a:lnTo>
                      <a:pt x="81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179960" y="1866960"/>
                <a:ext cx="122040" cy="1361880"/>
              </a:xfrm>
              <a:custGeom>
                <a:avLst/>
                <a:gdLst/>
                <a:ahLst/>
                <a:rect l="l" t="t" r="r" b="b"/>
                <a:pathLst>
                  <a:path w="77" h="858">
                    <a:moveTo>
                      <a:pt x="0" y="0"/>
                    </a:moveTo>
                    <a:lnTo>
                      <a:pt x="0" y="857"/>
                    </a:lnTo>
                    <a:lnTo>
                      <a:pt x="76" y="770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3770280" y="1866960"/>
                <a:ext cx="531720" cy="1636560"/>
              </a:xfrm>
              <a:custGeom>
                <a:avLst/>
                <a:gdLst/>
                <a:ahLst/>
                <a:rect l="l" t="t" r="r" b="b"/>
                <a:pathLst>
                  <a:path w="335" h="1031">
                    <a:moveTo>
                      <a:pt x="84" y="0"/>
                    </a:moveTo>
                    <a:lnTo>
                      <a:pt x="250" y="0"/>
                    </a:lnTo>
                    <a:lnTo>
                      <a:pt x="250" y="858"/>
                    </a:lnTo>
                    <a:lnTo>
                      <a:pt x="334" y="858"/>
                    </a:lnTo>
                    <a:lnTo>
                      <a:pt x="167" y="1030"/>
                    </a:lnTo>
                    <a:lnTo>
                      <a:pt x="0" y="858"/>
                    </a:lnTo>
                    <a:lnTo>
                      <a:pt x="84" y="858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00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5027760" y="2571840"/>
              <a:ext cx="668160" cy="1636560"/>
              <a:chOff x="5027760" y="2571840"/>
              <a:chExt cx="668160" cy="1636560"/>
            </a:xfrm>
          </p:grpSpPr>
          <p:sp>
            <p:nvSpPr>
              <p:cNvPr id="3560" name=""/>
              <p:cNvSpPr/>
              <p:nvPr/>
            </p:nvSpPr>
            <p:spPr>
              <a:xfrm>
                <a:off x="5027760" y="3809880"/>
                <a:ext cx="25848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0" y="77"/>
                    </a:lnTo>
                    <a:lnTo>
                      <a:pt x="162" y="0"/>
                    </a:lnTo>
                    <a:lnTo>
                      <a:pt x="80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cap="rnd" w="12600">
                <a:solidFill>
                  <a:srgbClr val="f35b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5437080" y="3809880"/>
                <a:ext cx="258840" cy="1238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0" y="77"/>
                    </a:moveTo>
                    <a:lnTo>
                      <a:pt x="81" y="77"/>
                    </a:lnTo>
                    <a:lnTo>
                      <a:pt x="162" y="0"/>
                    </a:lnTo>
                    <a:lnTo>
                      <a:pt x="81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f1f3f"/>
              </a:solidFill>
              <a:ln cap="rnd" w="12600">
                <a:solidFill>
                  <a:srgbClr val="f35b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5437080" y="2571840"/>
                <a:ext cx="122400" cy="1361880"/>
              </a:xfrm>
              <a:custGeom>
                <a:avLst/>
                <a:gdLst/>
                <a:ahLst/>
                <a:rect l="l" t="t" r="r" b="b"/>
                <a:pathLst>
                  <a:path w="77" h="858">
                    <a:moveTo>
                      <a:pt x="0" y="0"/>
                    </a:moveTo>
                    <a:lnTo>
                      <a:pt x="0" y="857"/>
                    </a:lnTo>
                    <a:lnTo>
                      <a:pt x="76" y="770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f35b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5027760" y="2571840"/>
                <a:ext cx="531720" cy="1636560"/>
              </a:xfrm>
              <a:custGeom>
                <a:avLst/>
                <a:gdLst/>
                <a:ahLst/>
                <a:rect l="l" t="t" r="r" b="b"/>
                <a:pathLst>
                  <a:path w="335" h="1031">
                    <a:moveTo>
                      <a:pt x="84" y="0"/>
                    </a:moveTo>
                    <a:lnTo>
                      <a:pt x="250" y="0"/>
                    </a:lnTo>
                    <a:lnTo>
                      <a:pt x="250" y="858"/>
                    </a:lnTo>
                    <a:lnTo>
                      <a:pt x="334" y="858"/>
                    </a:lnTo>
                    <a:lnTo>
                      <a:pt x="167" y="1030"/>
                    </a:lnTo>
                    <a:lnTo>
                      <a:pt x="0" y="858"/>
                    </a:lnTo>
                    <a:lnTo>
                      <a:pt x="84" y="858"/>
                    </a:lnTo>
                    <a:lnTo>
                      <a:pt x="84" y="0"/>
                    </a:lnTo>
                  </a:path>
                </a:pathLst>
              </a:custGeom>
              <a:solidFill>
                <a:srgbClr val="ff001f"/>
              </a:solidFill>
              <a:ln cap="rnd" w="12600">
                <a:solidFill>
                  <a:srgbClr val="f35b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4" name=""/>
            <p:cNvGrpSpPr/>
            <p:nvPr/>
          </p:nvGrpSpPr>
          <p:grpSpPr>
            <a:xfrm>
              <a:off x="628560" y="3944880"/>
              <a:ext cx="2897280" cy="590760"/>
              <a:chOff x="628560" y="3944880"/>
              <a:chExt cx="2897280" cy="590760"/>
            </a:xfrm>
          </p:grpSpPr>
          <p:sp>
            <p:nvSpPr>
              <p:cNvPr id="3565" name=""/>
              <p:cNvSpPr/>
              <p:nvPr/>
            </p:nvSpPr>
            <p:spPr>
              <a:xfrm>
                <a:off x="757080" y="3944880"/>
                <a:ext cx="2768760" cy="557280"/>
              </a:xfrm>
              <a:custGeom>
                <a:avLst/>
                <a:gdLst/>
                <a:ahLst/>
                <a:rect l="l" t="t" r="r" b="b"/>
                <a:pathLst>
                  <a:path w="1744" h="351">
                    <a:moveTo>
                      <a:pt x="0" y="78"/>
                    </a:moveTo>
                    <a:lnTo>
                      <a:pt x="0" y="274"/>
                    </a:lnTo>
                    <a:lnTo>
                      <a:pt x="1086" y="274"/>
                    </a:lnTo>
                    <a:lnTo>
                      <a:pt x="1086" y="350"/>
                    </a:lnTo>
                    <a:lnTo>
                      <a:pt x="1743" y="175"/>
                    </a:lnTo>
                    <a:lnTo>
                      <a:pt x="1086" y="0"/>
                    </a:lnTo>
                    <a:lnTo>
                      <a:pt x="108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630360" y="4379760"/>
                <a:ext cx="1854000" cy="34920"/>
              </a:xfrm>
              <a:custGeom>
                <a:avLst/>
                <a:gdLst/>
                <a:ahLst/>
                <a:rect l="l" t="t" r="r" b="b"/>
                <a:pathLst>
                  <a:path w="1168" h="22">
                    <a:moveTo>
                      <a:pt x="1088" y="21"/>
                    </a:moveTo>
                    <a:lnTo>
                      <a:pt x="1167" y="0"/>
                    </a:lnTo>
                    <a:lnTo>
                      <a:pt x="77" y="0"/>
                    </a:lnTo>
                    <a:lnTo>
                      <a:pt x="0" y="21"/>
                    </a:lnTo>
                    <a:lnTo>
                      <a:pt x="1088" y="21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2357280" y="4379760"/>
                <a:ext cx="125640" cy="15588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22"/>
                    </a:moveTo>
                    <a:lnTo>
                      <a:pt x="78" y="0"/>
                    </a:lnTo>
                    <a:lnTo>
                      <a:pt x="78" y="76"/>
                    </a:lnTo>
                    <a:lnTo>
                      <a:pt x="0" y="97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28560" y="4067280"/>
                <a:ext cx="130320" cy="347400"/>
              </a:xfrm>
              <a:custGeom>
                <a:avLst/>
                <a:gdLst/>
                <a:ahLst/>
                <a:rect l="l" t="t" r="r" b="b"/>
                <a:pathLst>
                  <a:path w="82" h="219">
                    <a:moveTo>
                      <a:pt x="0" y="23"/>
                    </a:moveTo>
                    <a:lnTo>
                      <a:pt x="81" y="0"/>
                    </a:lnTo>
                    <a:lnTo>
                      <a:pt x="81" y="196"/>
                    </a:lnTo>
                    <a:lnTo>
                      <a:pt x="0" y="21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2357280" y="3944880"/>
                <a:ext cx="125640" cy="1238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7"/>
                    </a:moveTo>
                    <a:lnTo>
                      <a:pt x="78" y="77"/>
                    </a:lnTo>
                    <a:lnTo>
                      <a:pt x="78" y="0"/>
                    </a:lnTo>
                    <a:lnTo>
                      <a:pt x="0" y="21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0" name=""/>
            <p:cNvGrpSpPr/>
            <p:nvPr/>
          </p:nvGrpSpPr>
          <p:grpSpPr>
            <a:xfrm>
              <a:off x="5753160" y="3602160"/>
              <a:ext cx="2897280" cy="590400"/>
              <a:chOff x="5753160" y="3602160"/>
              <a:chExt cx="2897280" cy="590400"/>
            </a:xfrm>
          </p:grpSpPr>
          <p:sp>
            <p:nvSpPr>
              <p:cNvPr id="3571" name=""/>
              <p:cNvSpPr/>
              <p:nvPr/>
            </p:nvSpPr>
            <p:spPr>
              <a:xfrm>
                <a:off x="5881680" y="3602160"/>
                <a:ext cx="2768760" cy="556920"/>
              </a:xfrm>
              <a:custGeom>
                <a:avLst/>
                <a:gdLst/>
                <a:ahLst/>
                <a:rect l="l" t="t" r="r" b="b"/>
                <a:pathLst>
                  <a:path w="1744" h="351">
                    <a:moveTo>
                      <a:pt x="0" y="78"/>
                    </a:moveTo>
                    <a:lnTo>
                      <a:pt x="0" y="274"/>
                    </a:lnTo>
                    <a:lnTo>
                      <a:pt x="1086" y="274"/>
                    </a:lnTo>
                    <a:lnTo>
                      <a:pt x="1086" y="350"/>
                    </a:lnTo>
                    <a:lnTo>
                      <a:pt x="1743" y="175"/>
                    </a:lnTo>
                    <a:lnTo>
                      <a:pt x="1086" y="0"/>
                    </a:lnTo>
                    <a:lnTo>
                      <a:pt x="1086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5754600" y="4037040"/>
                <a:ext cx="1854360" cy="34920"/>
              </a:xfrm>
              <a:custGeom>
                <a:avLst/>
                <a:gdLst/>
                <a:ahLst/>
                <a:rect l="l" t="t" r="r" b="b"/>
                <a:pathLst>
                  <a:path w="1168" h="22">
                    <a:moveTo>
                      <a:pt x="1088" y="21"/>
                    </a:moveTo>
                    <a:lnTo>
                      <a:pt x="1167" y="0"/>
                    </a:lnTo>
                    <a:lnTo>
                      <a:pt x="77" y="0"/>
                    </a:lnTo>
                    <a:lnTo>
                      <a:pt x="0" y="21"/>
                    </a:lnTo>
                    <a:lnTo>
                      <a:pt x="1088" y="21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7481880" y="4037040"/>
                <a:ext cx="125280" cy="15552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22"/>
                    </a:moveTo>
                    <a:lnTo>
                      <a:pt x="78" y="0"/>
                    </a:lnTo>
                    <a:lnTo>
                      <a:pt x="78" y="76"/>
                    </a:lnTo>
                    <a:lnTo>
                      <a:pt x="0" y="97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5753160" y="3724200"/>
                <a:ext cx="129960" cy="347760"/>
              </a:xfrm>
              <a:custGeom>
                <a:avLst/>
                <a:gdLst/>
                <a:ahLst/>
                <a:rect l="l" t="t" r="r" b="b"/>
                <a:pathLst>
                  <a:path w="82" h="219">
                    <a:moveTo>
                      <a:pt x="0" y="23"/>
                    </a:moveTo>
                    <a:lnTo>
                      <a:pt x="81" y="0"/>
                    </a:lnTo>
                    <a:lnTo>
                      <a:pt x="81" y="196"/>
                    </a:lnTo>
                    <a:lnTo>
                      <a:pt x="0" y="218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481880" y="3602160"/>
                <a:ext cx="125280" cy="1238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7"/>
                    </a:moveTo>
                    <a:lnTo>
                      <a:pt x="78" y="77"/>
                    </a:lnTo>
                    <a:lnTo>
                      <a:pt x="78" y="0"/>
                    </a:lnTo>
                    <a:lnTo>
                      <a:pt x="0" y="21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76" name=""/>
            <p:cNvSpPr/>
            <p:nvPr/>
          </p:nvSpPr>
          <p:spPr>
            <a:xfrm>
              <a:off x="593640" y="3727440"/>
              <a:ext cx="9738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r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064560" y="3193920"/>
              <a:ext cx="9756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r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383200" y="299088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466080" y="386712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4704480" y="459108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243600" y="1101600"/>
              <a:ext cx="127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Instr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272120" y="1920960"/>
              <a:ext cx="1272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Instr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5547600" y="2530440"/>
              <a:ext cx="232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Instruction  Stream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2349000" y="-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IMD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-360" y="5981760"/>
            <a:ext cx="913140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Ex: CRAY machine vector processing, Thinking machine cm*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86" name=""/>
          <p:cNvSpPr/>
          <p:nvPr/>
        </p:nvSpPr>
        <p:spPr>
          <a:xfrm>
            <a:off x="7689600" y="5327640"/>
            <a:ext cx="1433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=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*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7" name=""/>
          <p:cNvGrpSpPr/>
          <p:nvPr/>
        </p:nvGrpSpPr>
        <p:grpSpPr>
          <a:xfrm>
            <a:off x="519840" y="838080"/>
            <a:ext cx="7891920" cy="4516560"/>
            <a:chOff x="519840" y="838080"/>
            <a:chExt cx="7891920" cy="4516560"/>
          </a:xfrm>
        </p:grpSpPr>
        <p:sp>
          <p:nvSpPr>
            <p:cNvPr id="3588" name=""/>
            <p:cNvSpPr/>
            <p:nvPr/>
          </p:nvSpPr>
          <p:spPr>
            <a:xfrm>
              <a:off x="3124080" y="1447920"/>
              <a:ext cx="2343240" cy="2095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638520" y="838080"/>
              <a:ext cx="1276560" cy="8002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Instr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0" name=""/>
            <p:cNvGrpSpPr/>
            <p:nvPr/>
          </p:nvGrpSpPr>
          <p:grpSpPr>
            <a:xfrm>
              <a:off x="1790640" y="4724280"/>
              <a:ext cx="3229200" cy="563760"/>
              <a:chOff x="1790640" y="4724280"/>
              <a:chExt cx="3229200" cy="563760"/>
            </a:xfrm>
          </p:grpSpPr>
          <p:sp>
            <p:nvSpPr>
              <p:cNvPr id="3591" name=""/>
              <p:cNvSpPr/>
              <p:nvPr/>
            </p:nvSpPr>
            <p:spPr>
              <a:xfrm>
                <a:off x="1935000" y="4724280"/>
                <a:ext cx="3084840" cy="533520"/>
              </a:xfrm>
              <a:custGeom>
                <a:avLst/>
                <a:gdLst/>
                <a:ahLst/>
                <a:rect l="l" t="t" r="r" b="b"/>
                <a:pathLst>
                  <a:path w="1943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1210" y="263"/>
                    </a:lnTo>
                    <a:lnTo>
                      <a:pt x="1210" y="335"/>
                    </a:lnTo>
                    <a:lnTo>
                      <a:pt x="1942" y="168"/>
                    </a:lnTo>
                    <a:lnTo>
                      <a:pt x="1210" y="0"/>
                    </a:lnTo>
                    <a:lnTo>
                      <a:pt x="1210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1792440" y="5140440"/>
                <a:ext cx="2066760" cy="34920"/>
              </a:xfrm>
              <a:custGeom>
                <a:avLst/>
                <a:gdLst/>
                <a:ahLst/>
                <a:rect l="l" t="t" r="r" b="b"/>
                <a:pathLst>
                  <a:path w="1302" h="22">
                    <a:moveTo>
                      <a:pt x="1213" y="21"/>
                    </a:moveTo>
                    <a:lnTo>
                      <a:pt x="1301" y="0"/>
                    </a:lnTo>
                    <a:lnTo>
                      <a:pt x="85" y="0"/>
                    </a:lnTo>
                    <a:lnTo>
                      <a:pt x="0" y="21"/>
                    </a:lnTo>
                    <a:lnTo>
                      <a:pt x="1213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3718080" y="5140440"/>
                <a:ext cx="139680" cy="147600"/>
              </a:xfrm>
              <a:custGeom>
                <a:avLst/>
                <a:gdLst/>
                <a:ahLst/>
                <a:rect l="l" t="t" r="r" b="b"/>
                <a:pathLst>
                  <a:path w="88" h="93">
                    <a:moveTo>
                      <a:pt x="0" y="21"/>
                    </a:moveTo>
                    <a:lnTo>
                      <a:pt x="87" y="0"/>
                    </a:lnTo>
                    <a:lnTo>
                      <a:pt x="87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1790640" y="4842000"/>
                <a:ext cx="146160" cy="333360"/>
              </a:xfrm>
              <a:custGeom>
                <a:avLst/>
                <a:gdLst/>
                <a:ahLst/>
                <a:rect l="l" t="t" r="r" b="b"/>
                <a:pathLst>
                  <a:path w="92" h="210">
                    <a:moveTo>
                      <a:pt x="0" y="22"/>
                    </a:moveTo>
                    <a:lnTo>
                      <a:pt x="91" y="0"/>
                    </a:lnTo>
                    <a:lnTo>
                      <a:pt x="91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3718080" y="4724280"/>
                <a:ext cx="139680" cy="119160"/>
              </a:xfrm>
              <a:custGeom>
                <a:avLst/>
                <a:gdLst/>
                <a:ahLst/>
                <a:rect l="l" t="t" r="r" b="b"/>
                <a:pathLst>
                  <a:path w="88" h="75">
                    <a:moveTo>
                      <a:pt x="0" y="74"/>
                    </a:moveTo>
                    <a:lnTo>
                      <a:pt x="87" y="74"/>
                    </a:lnTo>
                    <a:lnTo>
                      <a:pt x="87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6" name=""/>
            <p:cNvGrpSpPr/>
            <p:nvPr/>
          </p:nvGrpSpPr>
          <p:grpSpPr>
            <a:xfrm>
              <a:off x="1809720" y="2971800"/>
              <a:ext cx="934920" cy="563400"/>
              <a:chOff x="1809720" y="2971800"/>
              <a:chExt cx="934920" cy="563400"/>
            </a:xfrm>
          </p:grpSpPr>
          <p:sp>
            <p:nvSpPr>
              <p:cNvPr id="3597" name=""/>
              <p:cNvSpPr/>
              <p:nvPr/>
            </p:nvSpPr>
            <p:spPr>
              <a:xfrm>
                <a:off x="1851120" y="2971800"/>
                <a:ext cx="893520" cy="533520"/>
              </a:xfrm>
              <a:custGeom>
                <a:avLst/>
                <a:gdLst/>
                <a:ahLst/>
                <a:rect l="l" t="t" r="r" b="b"/>
                <a:pathLst>
                  <a:path w="563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350" y="263"/>
                    </a:lnTo>
                    <a:lnTo>
                      <a:pt x="350" y="335"/>
                    </a:lnTo>
                    <a:lnTo>
                      <a:pt x="562" y="168"/>
                    </a:lnTo>
                    <a:lnTo>
                      <a:pt x="350" y="0"/>
                    </a:lnTo>
                    <a:lnTo>
                      <a:pt x="350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811160" y="3387600"/>
                <a:ext cx="597240" cy="34920"/>
              </a:xfrm>
              <a:custGeom>
                <a:avLst/>
                <a:gdLst/>
                <a:ahLst/>
                <a:rect l="l" t="t" r="r" b="b"/>
                <a:pathLst>
                  <a:path w="376" h="22">
                    <a:moveTo>
                      <a:pt x="350" y="21"/>
                    </a:moveTo>
                    <a:lnTo>
                      <a:pt x="375" y="0"/>
                    </a:lnTo>
                    <a:lnTo>
                      <a:pt x="25" y="0"/>
                    </a:lnTo>
                    <a:lnTo>
                      <a:pt x="0" y="21"/>
                    </a:lnTo>
                    <a:lnTo>
                      <a:pt x="350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367000" y="3387600"/>
                <a:ext cx="41400" cy="147600"/>
              </a:xfrm>
              <a:custGeom>
                <a:avLst/>
                <a:gdLst/>
                <a:ahLst/>
                <a:rect l="l" t="t" r="r" b="b"/>
                <a:pathLst>
                  <a:path w="26" h="93">
                    <a:moveTo>
                      <a:pt x="0" y="21"/>
                    </a:moveTo>
                    <a:lnTo>
                      <a:pt x="25" y="0"/>
                    </a:lnTo>
                    <a:lnTo>
                      <a:pt x="25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1809720" y="3089160"/>
                <a:ext cx="42840" cy="333360"/>
              </a:xfrm>
              <a:custGeom>
                <a:avLst/>
                <a:gdLst/>
                <a:ahLst/>
                <a:rect l="l" t="t" r="r" b="b"/>
                <a:pathLst>
                  <a:path w="27" h="210">
                    <a:moveTo>
                      <a:pt x="0" y="22"/>
                    </a:moveTo>
                    <a:lnTo>
                      <a:pt x="26" y="0"/>
                    </a:lnTo>
                    <a:lnTo>
                      <a:pt x="26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367000" y="2971800"/>
                <a:ext cx="41400" cy="119160"/>
              </a:xfrm>
              <a:custGeom>
                <a:avLst/>
                <a:gdLst/>
                <a:ahLst/>
                <a:rect l="l" t="t" r="r" b="b"/>
                <a:pathLst>
                  <a:path w="26" h="75">
                    <a:moveTo>
                      <a:pt x="0" y="74"/>
                    </a:moveTo>
                    <a:lnTo>
                      <a:pt x="25" y="74"/>
                    </a:lnTo>
                    <a:lnTo>
                      <a:pt x="25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2" name=""/>
            <p:cNvGrpSpPr/>
            <p:nvPr/>
          </p:nvGrpSpPr>
          <p:grpSpPr>
            <a:xfrm>
              <a:off x="1809720" y="3867120"/>
              <a:ext cx="2048040" cy="563760"/>
              <a:chOff x="1809720" y="3867120"/>
              <a:chExt cx="2048040" cy="563760"/>
            </a:xfrm>
          </p:grpSpPr>
          <p:sp>
            <p:nvSpPr>
              <p:cNvPr id="3603" name=""/>
              <p:cNvSpPr/>
              <p:nvPr/>
            </p:nvSpPr>
            <p:spPr>
              <a:xfrm>
                <a:off x="1901880" y="3867120"/>
                <a:ext cx="1955880" cy="533520"/>
              </a:xfrm>
              <a:custGeom>
                <a:avLst/>
                <a:gdLst/>
                <a:ahLst/>
                <a:rect l="l" t="t" r="r" b="b"/>
                <a:pathLst>
                  <a:path w="1232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767" y="263"/>
                    </a:lnTo>
                    <a:lnTo>
                      <a:pt x="767" y="335"/>
                    </a:lnTo>
                    <a:lnTo>
                      <a:pt x="1231" y="168"/>
                    </a:lnTo>
                    <a:lnTo>
                      <a:pt x="767" y="0"/>
                    </a:lnTo>
                    <a:lnTo>
                      <a:pt x="767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1811160" y="4282920"/>
                <a:ext cx="1311480" cy="34920"/>
              </a:xfrm>
              <a:custGeom>
                <a:avLst/>
                <a:gdLst/>
                <a:ahLst/>
                <a:rect l="l" t="t" r="r" b="b"/>
                <a:pathLst>
                  <a:path w="826" h="22">
                    <a:moveTo>
                      <a:pt x="769" y="21"/>
                    </a:moveTo>
                    <a:lnTo>
                      <a:pt x="825" y="0"/>
                    </a:lnTo>
                    <a:lnTo>
                      <a:pt x="54" y="0"/>
                    </a:lnTo>
                    <a:lnTo>
                      <a:pt x="0" y="21"/>
                    </a:lnTo>
                    <a:lnTo>
                      <a:pt x="769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3032280" y="4282920"/>
                <a:ext cx="88920" cy="147960"/>
              </a:xfrm>
              <a:custGeom>
                <a:avLst/>
                <a:gdLst/>
                <a:ahLst/>
                <a:rect l="l" t="t" r="r" b="b"/>
                <a:pathLst>
                  <a:path w="56" h="93">
                    <a:moveTo>
                      <a:pt x="0" y="21"/>
                    </a:moveTo>
                    <a:lnTo>
                      <a:pt x="55" y="0"/>
                    </a:lnTo>
                    <a:lnTo>
                      <a:pt x="55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809720" y="3984480"/>
                <a:ext cx="93600" cy="333360"/>
              </a:xfrm>
              <a:custGeom>
                <a:avLst/>
                <a:gdLst/>
                <a:ahLst/>
                <a:rect l="l" t="t" r="r" b="b"/>
                <a:pathLst>
                  <a:path w="59" h="210">
                    <a:moveTo>
                      <a:pt x="0" y="22"/>
                    </a:moveTo>
                    <a:lnTo>
                      <a:pt x="58" y="0"/>
                    </a:lnTo>
                    <a:lnTo>
                      <a:pt x="58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032280" y="3867120"/>
                <a:ext cx="88920" cy="119160"/>
              </a:xfrm>
              <a:custGeom>
                <a:avLst/>
                <a:gdLst/>
                <a:ahLst/>
                <a:rect l="l" t="t" r="r" b="b"/>
                <a:pathLst>
                  <a:path w="56" h="75">
                    <a:moveTo>
                      <a:pt x="0" y="74"/>
                    </a:moveTo>
                    <a:lnTo>
                      <a:pt x="55" y="74"/>
                    </a:lnTo>
                    <a:lnTo>
                      <a:pt x="55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638520" y="2728800"/>
              <a:ext cx="3335400" cy="453960"/>
              <a:chOff x="3638520" y="2728800"/>
              <a:chExt cx="3335400" cy="453960"/>
            </a:xfrm>
          </p:grpSpPr>
          <p:sp>
            <p:nvSpPr>
              <p:cNvPr id="3609" name=""/>
              <p:cNvSpPr/>
              <p:nvPr/>
            </p:nvSpPr>
            <p:spPr>
              <a:xfrm>
                <a:off x="3786120" y="2728800"/>
                <a:ext cx="3187800" cy="430200"/>
              </a:xfrm>
              <a:custGeom>
                <a:avLst/>
                <a:gdLst/>
                <a:ahLst/>
                <a:rect l="l" t="t" r="r" b="b"/>
                <a:pathLst>
                  <a:path w="2008" h="271">
                    <a:moveTo>
                      <a:pt x="0" y="60"/>
                    </a:moveTo>
                    <a:lnTo>
                      <a:pt x="0" y="212"/>
                    </a:lnTo>
                    <a:lnTo>
                      <a:pt x="1250" y="212"/>
                    </a:lnTo>
                    <a:lnTo>
                      <a:pt x="1250" y="270"/>
                    </a:lnTo>
                    <a:lnTo>
                      <a:pt x="2007" y="135"/>
                    </a:lnTo>
                    <a:lnTo>
                      <a:pt x="1250" y="0"/>
                    </a:lnTo>
                    <a:lnTo>
                      <a:pt x="1250" y="60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643200" y="3063960"/>
                <a:ext cx="2129040" cy="28440"/>
              </a:xfrm>
              <a:custGeom>
                <a:avLst/>
                <a:gdLst/>
                <a:ahLst/>
                <a:rect l="l" t="t" r="r" b="b"/>
                <a:pathLst>
                  <a:path w="1341" h="18">
                    <a:moveTo>
                      <a:pt x="1249" y="17"/>
                    </a:moveTo>
                    <a:lnTo>
                      <a:pt x="1340" y="0"/>
                    </a:lnTo>
                    <a:lnTo>
                      <a:pt x="88" y="0"/>
                    </a:lnTo>
                    <a:lnTo>
                      <a:pt x="0" y="17"/>
                    </a:lnTo>
                    <a:lnTo>
                      <a:pt x="1249" y="17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626080" y="3063960"/>
                <a:ext cx="146160" cy="118800"/>
              </a:xfrm>
              <a:custGeom>
                <a:avLst/>
                <a:gdLst/>
                <a:ahLst/>
                <a:rect l="l" t="t" r="r" b="b"/>
                <a:pathLst>
                  <a:path w="92" h="75">
                    <a:moveTo>
                      <a:pt x="0" y="17"/>
                    </a:moveTo>
                    <a:lnTo>
                      <a:pt x="91" y="0"/>
                    </a:lnTo>
                    <a:lnTo>
                      <a:pt x="91" y="58"/>
                    </a:lnTo>
                    <a:lnTo>
                      <a:pt x="0" y="7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3638520" y="2824200"/>
                <a:ext cx="149400" cy="268200"/>
              </a:xfrm>
              <a:custGeom>
                <a:avLst/>
                <a:gdLst/>
                <a:ahLst/>
                <a:rect l="l" t="t" r="r" b="b"/>
                <a:pathLst>
                  <a:path w="94" h="169">
                    <a:moveTo>
                      <a:pt x="0" y="18"/>
                    </a:moveTo>
                    <a:lnTo>
                      <a:pt x="93" y="0"/>
                    </a:lnTo>
                    <a:lnTo>
                      <a:pt x="93" y="151"/>
                    </a:lnTo>
                    <a:lnTo>
                      <a:pt x="0" y="16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626080" y="2728800"/>
                <a:ext cx="146160" cy="96840"/>
              </a:xfrm>
              <a:custGeom>
                <a:avLst/>
                <a:gdLst/>
                <a:ahLst/>
                <a:rect l="l" t="t" r="r" b="b"/>
                <a:pathLst>
                  <a:path w="92" h="61">
                    <a:moveTo>
                      <a:pt x="0" y="60"/>
                    </a:moveTo>
                    <a:lnTo>
                      <a:pt x="91" y="60"/>
                    </a:lnTo>
                    <a:lnTo>
                      <a:pt x="91" y="0"/>
                    </a:lnTo>
                    <a:lnTo>
                      <a:pt x="0" y="16"/>
                    </a:lnTo>
                    <a:lnTo>
                      <a:pt x="0" y="60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4" name=""/>
            <p:cNvGrpSpPr/>
            <p:nvPr/>
          </p:nvGrpSpPr>
          <p:grpSpPr>
            <a:xfrm>
              <a:off x="6039000" y="4572000"/>
              <a:ext cx="934920" cy="563400"/>
              <a:chOff x="6039000" y="4572000"/>
              <a:chExt cx="934920" cy="563400"/>
            </a:xfrm>
          </p:grpSpPr>
          <p:sp>
            <p:nvSpPr>
              <p:cNvPr id="3615" name=""/>
              <p:cNvSpPr/>
              <p:nvPr/>
            </p:nvSpPr>
            <p:spPr>
              <a:xfrm>
                <a:off x="6080040" y="4572000"/>
                <a:ext cx="893880" cy="533520"/>
              </a:xfrm>
              <a:custGeom>
                <a:avLst/>
                <a:gdLst/>
                <a:ahLst/>
                <a:rect l="l" t="t" r="r" b="b"/>
                <a:pathLst>
                  <a:path w="563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350" y="263"/>
                    </a:lnTo>
                    <a:lnTo>
                      <a:pt x="350" y="335"/>
                    </a:lnTo>
                    <a:lnTo>
                      <a:pt x="562" y="168"/>
                    </a:lnTo>
                    <a:lnTo>
                      <a:pt x="350" y="0"/>
                    </a:lnTo>
                    <a:lnTo>
                      <a:pt x="350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6040440" y="4987800"/>
                <a:ext cx="596880" cy="34920"/>
              </a:xfrm>
              <a:custGeom>
                <a:avLst/>
                <a:gdLst/>
                <a:ahLst/>
                <a:rect l="l" t="t" r="r" b="b"/>
                <a:pathLst>
                  <a:path w="376" h="22">
                    <a:moveTo>
                      <a:pt x="350" y="21"/>
                    </a:moveTo>
                    <a:lnTo>
                      <a:pt x="375" y="0"/>
                    </a:lnTo>
                    <a:lnTo>
                      <a:pt x="25" y="0"/>
                    </a:lnTo>
                    <a:lnTo>
                      <a:pt x="0" y="21"/>
                    </a:lnTo>
                    <a:lnTo>
                      <a:pt x="350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6595920" y="4987800"/>
                <a:ext cx="41400" cy="147600"/>
              </a:xfrm>
              <a:custGeom>
                <a:avLst/>
                <a:gdLst/>
                <a:ahLst/>
                <a:rect l="l" t="t" r="r" b="b"/>
                <a:pathLst>
                  <a:path w="26" h="93">
                    <a:moveTo>
                      <a:pt x="0" y="21"/>
                    </a:moveTo>
                    <a:lnTo>
                      <a:pt x="25" y="0"/>
                    </a:lnTo>
                    <a:lnTo>
                      <a:pt x="25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6039000" y="4689360"/>
                <a:ext cx="42840" cy="333360"/>
              </a:xfrm>
              <a:custGeom>
                <a:avLst/>
                <a:gdLst/>
                <a:ahLst/>
                <a:rect l="l" t="t" r="r" b="b"/>
                <a:pathLst>
                  <a:path w="27" h="210">
                    <a:moveTo>
                      <a:pt x="0" y="22"/>
                    </a:moveTo>
                    <a:lnTo>
                      <a:pt x="26" y="0"/>
                    </a:lnTo>
                    <a:lnTo>
                      <a:pt x="26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6595920" y="4572000"/>
                <a:ext cx="41400" cy="119160"/>
              </a:xfrm>
              <a:custGeom>
                <a:avLst/>
                <a:gdLst/>
                <a:ahLst/>
                <a:rect l="l" t="t" r="r" b="b"/>
                <a:pathLst>
                  <a:path w="26" h="75">
                    <a:moveTo>
                      <a:pt x="0" y="74"/>
                    </a:moveTo>
                    <a:lnTo>
                      <a:pt x="25" y="74"/>
                    </a:lnTo>
                    <a:lnTo>
                      <a:pt x="25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0" name=""/>
            <p:cNvGrpSpPr/>
            <p:nvPr/>
          </p:nvGrpSpPr>
          <p:grpSpPr>
            <a:xfrm>
              <a:off x="4819680" y="3586320"/>
              <a:ext cx="2154240" cy="563400"/>
              <a:chOff x="4819680" y="3586320"/>
              <a:chExt cx="2154240" cy="563400"/>
            </a:xfrm>
          </p:grpSpPr>
          <p:sp>
            <p:nvSpPr>
              <p:cNvPr id="3621" name=""/>
              <p:cNvSpPr/>
              <p:nvPr/>
            </p:nvSpPr>
            <p:spPr>
              <a:xfrm>
                <a:off x="4915080" y="3586320"/>
                <a:ext cx="2058840" cy="533160"/>
              </a:xfrm>
              <a:custGeom>
                <a:avLst/>
                <a:gdLst/>
                <a:ahLst/>
                <a:rect l="l" t="t" r="r" b="b"/>
                <a:pathLst>
                  <a:path w="1297" h="336">
                    <a:moveTo>
                      <a:pt x="0" y="74"/>
                    </a:moveTo>
                    <a:lnTo>
                      <a:pt x="0" y="263"/>
                    </a:lnTo>
                    <a:lnTo>
                      <a:pt x="807" y="263"/>
                    </a:lnTo>
                    <a:lnTo>
                      <a:pt x="807" y="335"/>
                    </a:lnTo>
                    <a:lnTo>
                      <a:pt x="1296" y="168"/>
                    </a:lnTo>
                    <a:lnTo>
                      <a:pt x="807" y="0"/>
                    </a:lnTo>
                    <a:lnTo>
                      <a:pt x="807" y="74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4822920" y="4002120"/>
                <a:ext cx="1374840" cy="34920"/>
              </a:xfrm>
              <a:custGeom>
                <a:avLst/>
                <a:gdLst/>
                <a:ahLst/>
                <a:rect l="l" t="t" r="r" b="b"/>
                <a:pathLst>
                  <a:path w="866" h="22">
                    <a:moveTo>
                      <a:pt x="806" y="21"/>
                    </a:moveTo>
                    <a:lnTo>
                      <a:pt x="865" y="0"/>
                    </a:lnTo>
                    <a:lnTo>
                      <a:pt x="57" y="0"/>
                    </a:lnTo>
                    <a:lnTo>
                      <a:pt x="0" y="21"/>
                    </a:lnTo>
                    <a:lnTo>
                      <a:pt x="806" y="21"/>
                    </a:lnTo>
                  </a:path>
                </a:pathLst>
              </a:custGeom>
              <a:solidFill>
                <a:srgbClr val="8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6103800" y="4002120"/>
                <a:ext cx="93960" cy="147600"/>
              </a:xfrm>
              <a:custGeom>
                <a:avLst/>
                <a:gdLst/>
                <a:ahLst/>
                <a:rect l="l" t="t" r="r" b="b"/>
                <a:pathLst>
                  <a:path w="59" h="93">
                    <a:moveTo>
                      <a:pt x="0" y="21"/>
                    </a:moveTo>
                    <a:lnTo>
                      <a:pt x="58" y="0"/>
                    </a:lnTo>
                    <a:lnTo>
                      <a:pt x="58" y="72"/>
                    </a:lnTo>
                    <a:lnTo>
                      <a:pt x="0" y="92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4819680" y="3703680"/>
                <a:ext cx="96840" cy="333360"/>
              </a:xfrm>
              <a:custGeom>
                <a:avLst/>
                <a:gdLst/>
                <a:ahLst/>
                <a:rect l="l" t="t" r="r" b="b"/>
                <a:pathLst>
                  <a:path w="61" h="210">
                    <a:moveTo>
                      <a:pt x="0" y="22"/>
                    </a:moveTo>
                    <a:lnTo>
                      <a:pt x="60" y="0"/>
                    </a:lnTo>
                    <a:lnTo>
                      <a:pt x="60" y="188"/>
                    </a:lnTo>
                    <a:lnTo>
                      <a:pt x="0" y="209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6103800" y="3586320"/>
                <a:ext cx="93960" cy="118800"/>
              </a:xfrm>
              <a:custGeom>
                <a:avLst/>
                <a:gdLst/>
                <a:ahLst/>
                <a:rect l="l" t="t" r="r" b="b"/>
                <a:pathLst>
                  <a:path w="59" h="75">
                    <a:moveTo>
                      <a:pt x="0" y="74"/>
                    </a:moveTo>
                    <a:lnTo>
                      <a:pt x="58" y="74"/>
                    </a:lnTo>
                    <a:lnTo>
                      <a:pt x="58" y="0"/>
                    </a:lnTo>
                    <a:lnTo>
                      <a:pt x="0" y="2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c0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6" name=""/>
            <p:cNvGrpSpPr/>
            <p:nvPr/>
          </p:nvGrpSpPr>
          <p:grpSpPr>
            <a:xfrm>
              <a:off x="2743200" y="2523960"/>
              <a:ext cx="1087560" cy="1173240"/>
              <a:chOff x="2743200" y="2523960"/>
              <a:chExt cx="1087560" cy="1173240"/>
            </a:xfrm>
          </p:grpSpPr>
          <p:sp>
            <p:nvSpPr>
              <p:cNvPr id="3627" name=""/>
              <p:cNvSpPr/>
              <p:nvPr/>
            </p:nvSpPr>
            <p:spPr>
              <a:xfrm>
                <a:off x="2743200" y="2706840"/>
                <a:ext cx="851040" cy="990360"/>
              </a:xfrm>
              <a:custGeom>
                <a:avLst/>
                <a:gdLst/>
                <a:ahLst/>
                <a:rect l="l" t="t" r="r" b="b"/>
                <a:pathLst>
                  <a:path w="536" h="624">
                    <a:moveTo>
                      <a:pt x="0" y="0"/>
                    </a:moveTo>
                    <a:lnTo>
                      <a:pt x="535" y="0"/>
                    </a:lnTo>
                    <a:lnTo>
                      <a:pt x="535" y="623"/>
                    </a:lnTo>
                    <a:lnTo>
                      <a:pt x="0" y="6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2743200" y="2523960"/>
                <a:ext cx="1087560" cy="162000"/>
              </a:xfrm>
              <a:custGeom>
                <a:avLst/>
                <a:gdLst/>
                <a:ahLst/>
                <a:rect l="l" t="t" r="r" b="b"/>
                <a:pathLst>
                  <a:path w="685" h="102">
                    <a:moveTo>
                      <a:pt x="0" y="101"/>
                    </a:moveTo>
                    <a:lnTo>
                      <a:pt x="536" y="101"/>
                    </a:lnTo>
                    <a:lnTo>
                      <a:pt x="684" y="0"/>
                    </a:lnTo>
                    <a:lnTo>
                      <a:pt x="146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3608280" y="2523960"/>
                <a:ext cx="222480" cy="1173240"/>
              </a:xfrm>
              <a:custGeom>
                <a:avLst/>
                <a:gdLst/>
                <a:ahLst/>
                <a:rect l="l" t="t" r="r" b="b"/>
                <a:pathLst>
                  <a:path w="140" h="739">
                    <a:moveTo>
                      <a:pt x="139" y="0"/>
                    </a:moveTo>
                    <a:lnTo>
                      <a:pt x="0" y="114"/>
                    </a:lnTo>
                    <a:lnTo>
                      <a:pt x="0" y="738"/>
                    </a:lnTo>
                    <a:lnTo>
                      <a:pt x="139" y="566"/>
                    </a:lnTo>
                    <a:lnTo>
                      <a:pt x="139" y="0"/>
                    </a:lnTo>
                  </a:path>
                </a:pathLst>
              </a:custGeom>
              <a:solidFill>
                <a:srgbClr val="7f00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0" name=""/>
            <p:cNvGrpSpPr/>
            <p:nvPr/>
          </p:nvGrpSpPr>
          <p:grpSpPr>
            <a:xfrm>
              <a:off x="3824280" y="3409920"/>
              <a:ext cx="1149480" cy="1176480"/>
              <a:chOff x="3824280" y="3409920"/>
              <a:chExt cx="1149480" cy="1176480"/>
            </a:xfrm>
          </p:grpSpPr>
          <p:sp>
            <p:nvSpPr>
              <p:cNvPr id="3631" name=""/>
              <p:cNvSpPr/>
              <p:nvPr/>
            </p:nvSpPr>
            <p:spPr>
              <a:xfrm>
                <a:off x="3824280" y="3594240"/>
                <a:ext cx="898560" cy="992160"/>
              </a:xfrm>
              <a:custGeom>
                <a:avLst/>
                <a:gdLst/>
                <a:ahLst/>
                <a:rect l="l" t="t" r="r" b="b"/>
                <a:pathLst>
                  <a:path w="566" h="625">
                    <a:moveTo>
                      <a:pt x="0" y="0"/>
                    </a:moveTo>
                    <a:lnTo>
                      <a:pt x="565" y="0"/>
                    </a:lnTo>
                    <a:lnTo>
                      <a:pt x="565" y="624"/>
                    </a:lnTo>
                    <a:lnTo>
                      <a:pt x="0" y="6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3824280" y="3409920"/>
                <a:ext cx="1149480" cy="163440"/>
              </a:xfrm>
              <a:custGeom>
                <a:avLst/>
                <a:gdLst/>
                <a:ahLst/>
                <a:rect l="l" t="t" r="r" b="b"/>
                <a:pathLst>
                  <a:path w="724" h="103">
                    <a:moveTo>
                      <a:pt x="0" y="102"/>
                    </a:moveTo>
                    <a:lnTo>
                      <a:pt x="567" y="102"/>
                    </a:lnTo>
                    <a:lnTo>
                      <a:pt x="723" y="0"/>
                    </a:lnTo>
                    <a:lnTo>
                      <a:pt x="155" y="0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ff9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4740120" y="3409920"/>
                <a:ext cx="233640" cy="1176480"/>
              </a:xfrm>
              <a:custGeom>
                <a:avLst/>
                <a:gdLst/>
                <a:ahLst/>
                <a:rect l="l" t="t" r="r" b="b"/>
                <a:pathLst>
                  <a:path w="147" h="741">
                    <a:moveTo>
                      <a:pt x="146" y="0"/>
                    </a:moveTo>
                    <a:lnTo>
                      <a:pt x="0" y="114"/>
                    </a:lnTo>
                    <a:lnTo>
                      <a:pt x="0" y="740"/>
                    </a:lnTo>
                    <a:lnTo>
                      <a:pt x="146" y="569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4" name=""/>
            <p:cNvGrpSpPr/>
            <p:nvPr/>
          </p:nvGrpSpPr>
          <p:grpSpPr>
            <a:xfrm>
              <a:off x="5032440" y="4133880"/>
              <a:ext cx="1160280" cy="1220760"/>
              <a:chOff x="5032440" y="4133880"/>
              <a:chExt cx="1160280" cy="1220760"/>
            </a:xfrm>
          </p:grpSpPr>
          <p:sp>
            <p:nvSpPr>
              <p:cNvPr id="3635" name=""/>
              <p:cNvSpPr/>
              <p:nvPr/>
            </p:nvSpPr>
            <p:spPr>
              <a:xfrm>
                <a:off x="5032440" y="4325760"/>
                <a:ext cx="907920" cy="1028880"/>
              </a:xfrm>
              <a:custGeom>
                <a:avLst/>
                <a:gdLst/>
                <a:ahLst/>
                <a:rect l="l" t="t" r="r" b="b"/>
                <a:pathLst>
                  <a:path w="572" h="648">
                    <a:moveTo>
                      <a:pt x="0" y="0"/>
                    </a:moveTo>
                    <a:lnTo>
                      <a:pt x="571" y="0"/>
                    </a:lnTo>
                    <a:lnTo>
                      <a:pt x="571" y="647"/>
                    </a:lnTo>
                    <a:lnTo>
                      <a:pt x="0" y="6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5032440" y="4133880"/>
                <a:ext cx="1160280" cy="171360"/>
              </a:xfrm>
              <a:custGeom>
                <a:avLst/>
                <a:gdLst/>
                <a:ahLst/>
                <a:rect l="l" t="t" r="r" b="b"/>
                <a:pathLst>
                  <a:path w="731" h="108">
                    <a:moveTo>
                      <a:pt x="0" y="107"/>
                    </a:moveTo>
                    <a:lnTo>
                      <a:pt x="573" y="107"/>
                    </a:lnTo>
                    <a:lnTo>
                      <a:pt x="730" y="0"/>
                    </a:lnTo>
                    <a:lnTo>
                      <a:pt x="157" y="0"/>
                    </a:lnTo>
                    <a:lnTo>
                      <a:pt x="0" y="107"/>
                    </a:lnTo>
                  </a:path>
                </a:pathLst>
              </a:custGeom>
              <a:solidFill>
                <a:srgbClr val="00dfbf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959440" y="4133880"/>
                <a:ext cx="233280" cy="1220760"/>
              </a:xfrm>
              <a:custGeom>
                <a:avLst/>
                <a:gdLst/>
                <a:ahLst/>
                <a:rect l="l" t="t" r="r" b="b"/>
                <a:pathLst>
                  <a:path w="147" h="769">
                    <a:moveTo>
                      <a:pt x="146" y="0"/>
                    </a:moveTo>
                    <a:lnTo>
                      <a:pt x="0" y="119"/>
                    </a:lnTo>
                    <a:lnTo>
                      <a:pt x="0" y="768"/>
                    </a:lnTo>
                    <a:lnTo>
                      <a:pt x="146" y="59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005f5f"/>
              </a:solidFill>
              <a:ln cap="rnd" w="12600">
                <a:solidFill>
                  <a:srgbClr val="0096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8" name=""/>
            <p:cNvSpPr/>
            <p:nvPr/>
          </p:nvSpPr>
          <p:spPr>
            <a:xfrm>
              <a:off x="2688120" y="293364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771000" y="380988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989960" y="4572000"/>
              <a:ext cx="10274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Process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200560" y="1467000"/>
              <a:ext cx="401760" cy="2749320"/>
            </a:xfrm>
            <a:custGeom>
              <a:avLst/>
              <a:gdLst/>
              <a:ahLst/>
              <a:rect l="l" t="t" r="r" b="b"/>
              <a:pathLst>
                <a:path w="253" h="1732">
                  <a:moveTo>
                    <a:pt x="252" y="1114"/>
                  </a:moveTo>
                  <a:lnTo>
                    <a:pt x="184" y="1114"/>
                  </a:lnTo>
                  <a:lnTo>
                    <a:pt x="184" y="0"/>
                  </a:lnTo>
                  <a:lnTo>
                    <a:pt x="68" y="0"/>
                  </a:lnTo>
                  <a:lnTo>
                    <a:pt x="68" y="1114"/>
                  </a:lnTo>
                  <a:lnTo>
                    <a:pt x="0" y="1114"/>
                  </a:lnTo>
                  <a:lnTo>
                    <a:pt x="126" y="1731"/>
                  </a:lnTo>
                  <a:lnTo>
                    <a:pt x="252" y="111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095720" y="1657440"/>
              <a:ext cx="382680" cy="1849320"/>
            </a:xfrm>
            <a:custGeom>
              <a:avLst/>
              <a:gdLst/>
              <a:ahLst/>
              <a:rect l="l" t="t" r="r" b="b"/>
              <a:pathLst>
                <a:path w="241" h="1165">
                  <a:moveTo>
                    <a:pt x="240" y="749"/>
                  </a:moveTo>
                  <a:lnTo>
                    <a:pt x="175" y="749"/>
                  </a:lnTo>
                  <a:lnTo>
                    <a:pt x="175" y="0"/>
                  </a:lnTo>
                  <a:lnTo>
                    <a:pt x="64" y="0"/>
                  </a:lnTo>
                  <a:lnTo>
                    <a:pt x="64" y="749"/>
                  </a:lnTo>
                  <a:lnTo>
                    <a:pt x="0" y="749"/>
                  </a:lnTo>
                  <a:lnTo>
                    <a:pt x="120" y="1164"/>
                  </a:lnTo>
                  <a:lnTo>
                    <a:pt x="240" y="7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38920" y="2911320"/>
              <a:ext cx="1252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19840" y="3825720"/>
              <a:ext cx="1252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19840" y="4702320"/>
              <a:ext cx="12528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In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993000" y="2701800"/>
              <a:ext cx="1418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Out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973920" y="3616200"/>
              <a:ext cx="1418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Out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6973920" y="4492800"/>
              <a:ext cx="1418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Data Out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</a:rPr>
                <a:t>stream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952720" y="1447920"/>
              <a:ext cx="458640" cy="1109520"/>
            </a:xfrm>
            <a:custGeom>
              <a:avLst/>
              <a:gdLst/>
              <a:ahLst/>
              <a:rect l="l" t="t" r="r" b="b"/>
              <a:pathLst>
                <a:path w="289" h="699">
                  <a:moveTo>
                    <a:pt x="288" y="449"/>
                  </a:moveTo>
                  <a:lnTo>
                    <a:pt x="210" y="449"/>
                  </a:lnTo>
                  <a:lnTo>
                    <a:pt x="210" y="0"/>
                  </a:lnTo>
                  <a:lnTo>
                    <a:pt x="77" y="0"/>
                  </a:lnTo>
                  <a:lnTo>
                    <a:pt x="77" y="449"/>
                  </a:lnTo>
                  <a:lnTo>
                    <a:pt x="0" y="449"/>
                  </a:lnTo>
                  <a:lnTo>
                    <a:pt x="144" y="698"/>
                  </a:lnTo>
                  <a:lnTo>
                    <a:pt x="288" y="4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/>
          </p:nvPr>
        </p:nvSpPr>
        <p:spPr>
          <a:xfrm>
            <a:off x="686880" y="5372280"/>
            <a:ext cx="796788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Unlike SISD, MISD, MIMD computer works asynchronously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Shared memory (tightly coupled) MIMD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indent="0">
              <a:lnSpc>
                <a:spcPct val="10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Distributed memory (loosely coupled) MIMD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 type="title"/>
          </p:nvPr>
        </p:nvSpPr>
        <p:spPr>
          <a:xfrm>
            <a:off x="2306160" y="-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MD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851040" y="5981760"/>
            <a:ext cx="742680" cy="457200"/>
            <a:chOff x="851040" y="5981760"/>
            <a:chExt cx="742680" cy="457200"/>
          </a:xfrm>
        </p:grpSpPr>
        <p:sp>
          <p:nvSpPr>
            <p:cNvPr id="3653" name=""/>
            <p:cNvSpPr/>
            <p:nvPr/>
          </p:nvSpPr>
          <p:spPr>
            <a:xfrm>
              <a:off x="1295280" y="5987880"/>
              <a:ext cx="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54" name=""/>
            <p:cNvGrpSpPr/>
            <p:nvPr/>
          </p:nvGrpSpPr>
          <p:grpSpPr>
            <a:xfrm>
              <a:off x="851040" y="5981760"/>
              <a:ext cx="742680" cy="457200"/>
              <a:chOff x="851040" y="5981760"/>
              <a:chExt cx="742680" cy="457200"/>
            </a:xfrm>
          </p:grpSpPr>
          <p:sp>
            <p:nvSpPr>
              <p:cNvPr id="3655" name=""/>
              <p:cNvSpPr/>
              <p:nvPr/>
            </p:nvSpPr>
            <p:spPr>
              <a:xfrm>
                <a:off x="851040" y="6210360"/>
                <a:ext cx="4316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1301760" y="6438960"/>
                <a:ext cx="291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1301760" y="5981760"/>
                <a:ext cx="291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8" name=""/>
          <p:cNvGrpSpPr/>
          <p:nvPr/>
        </p:nvGrpSpPr>
        <p:grpSpPr>
          <a:xfrm>
            <a:off x="1314360" y="4076640"/>
            <a:ext cx="3229200" cy="563760"/>
            <a:chOff x="1314360" y="4076640"/>
            <a:chExt cx="3229200" cy="563760"/>
          </a:xfrm>
        </p:grpSpPr>
        <p:sp>
          <p:nvSpPr>
            <p:cNvPr id="3659" name=""/>
            <p:cNvSpPr/>
            <p:nvPr/>
          </p:nvSpPr>
          <p:spPr>
            <a:xfrm>
              <a:off x="1459080" y="4076640"/>
              <a:ext cx="3084480" cy="533520"/>
            </a:xfrm>
            <a:custGeom>
              <a:avLst/>
              <a:gdLst/>
              <a:ahLst/>
              <a:rect l="l" t="t" r="r" b="b"/>
              <a:pathLst>
                <a:path w="1943" h="336">
                  <a:moveTo>
                    <a:pt x="0" y="74"/>
                  </a:moveTo>
                  <a:lnTo>
                    <a:pt x="0" y="263"/>
                  </a:lnTo>
                  <a:lnTo>
                    <a:pt x="1210" y="263"/>
                  </a:lnTo>
                  <a:lnTo>
                    <a:pt x="1210" y="335"/>
                  </a:lnTo>
                  <a:lnTo>
                    <a:pt x="1942" y="168"/>
                  </a:lnTo>
                  <a:lnTo>
                    <a:pt x="1210" y="0"/>
                  </a:lnTo>
                  <a:lnTo>
                    <a:pt x="1210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316160" y="4492800"/>
              <a:ext cx="2066760" cy="34920"/>
            </a:xfrm>
            <a:custGeom>
              <a:avLst/>
              <a:gdLst/>
              <a:ahLst/>
              <a:rect l="l" t="t" r="r" b="b"/>
              <a:pathLst>
                <a:path w="1302" h="22">
                  <a:moveTo>
                    <a:pt x="1213" y="21"/>
                  </a:moveTo>
                  <a:lnTo>
                    <a:pt x="1301" y="0"/>
                  </a:lnTo>
                  <a:lnTo>
                    <a:pt x="85" y="0"/>
                  </a:lnTo>
                  <a:lnTo>
                    <a:pt x="0" y="21"/>
                  </a:lnTo>
                  <a:lnTo>
                    <a:pt x="1213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241800" y="44928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0" y="21"/>
                  </a:moveTo>
                  <a:lnTo>
                    <a:pt x="87" y="0"/>
                  </a:lnTo>
                  <a:lnTo>
                    <a:pt x="87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314360" y="4194000"/>
              <a:ext cx="146160" cy="33372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0" y="22"/>
                  </a:moveTo>
                  <a:lnTo>
                    <a:pt x="91" y="0"/>
                  </a:lnTo>
                  <a:lnTo>
                    <a:pt x="91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241800" y="4076640"/>
              <a:ext cx="139680" cy="119160"/>
            </a:xfrm>
            <a:custGeom>
              <a:avLst/>
              <a:gdLst/>
              <a:ahLst/>
              <a:rect l="l" t="t" r="r" b="b"/>
              <a:pathLst>
                <a:path w="88" h="75">
                  <a:moveTo>
                    <a:pt x="0" y="74"/>
                  </a:moveTo>
                  <a:lnTo>
                    <a:pt x="87" y="74"/>
                  </a:lnTo>
                  <a:lnTo>
                    <a:pt x="87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4" name=""/>
          <p:cNvGrpSpPr/>
          <p:nvPr/>
        </p:nvGrpSpPr>
        <p:grpSpPr>
          <a:xfrm>
            <a:off x="1333440" y="2324160"/>
            <a:ext cx="934920" cy="563400"/>
            <a:chOff x="1333440" y="2324160"/>
            <a:chExt cx="934920" cy="563400"/>
          </a:xfrm>
        </p:grpSpPr>
        <p:sp>
          <p:nvSpPr>
            <p:cNvPr id="3665" name=""/>
            <p:cNvSpPr/>
            <p:nvPr/>
          </p:nvSpPr>
          <p:spPr>
            <a:xfrm>
              <a:off x="1374840" y="2324160"/>
              <a:ext cx="893520" cy="533520"/>
            </a:xfrm>
            <a:custGeom>
              <a:avLst/>
              <a:gdLst/>
              <a:ahLst/>
              <a:rect l="l" t="t" r="r" b="b"/>
              <a:pathLst>
                <a:path w="563" h="336">
                  <a:moveTo>
                    <a:pt x="0" y="74"/>
                  </a:moveTo>
                  <a:lnTo>
                    <a:pt x="0" y="263"/>
                  </a:lnTo>
                  <a:lnTo>
                    <a:pt x="350" y="263"/>
                  </a:lnTo>
                  <a:lnTo>
                    <a:pt x="350" y="335"/>
                  </a:lnTo>
                  <a:lnTo>
                    <a:pt x="562" y="168"/>
                  </a:ln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1335240" y="2739960"/>
              <a:ext cx="596880" cy="34920"/>
            </a:xfrm>
            <a:custGeom>
              <a:avLst/>
              <a:gdLst/>
              <a:ahLst/>
              <a:rect l="l" t="t" r="r" b="b"/>
              <a:pathLst>
                <a:path w="376" h="22">
                  <a:moveTo>
                    <a:pt x="350" y="21"/>
                  </a:moveTo>
                  <a:lnTo>
                    <a:pt x="375" y="0"/>
                  </a:lnTo>
                  <a:lnTo>
                    <a:pt x="25" y="0"/>
                  </a:lnTo>
                  <a:lnTo>
                    <a:pt x="0" y="21"/>
                  </a:lnTo>
                  <a:lnTo>
                    <a:pt x="350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1890720" y="273996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0" y="21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333440" y="2441520"/>
              <a:ext cx="42840" cy="333360"/>
            </a:xfrm>
            <a:custGeom>
              <a:avLst/>
              <a:gdLst/>
              <a:ahLst/>
              <a:rect l="l" t="t" r="r" b="b"/>
              <a:pathLst>
                <a:path w="27" h="210">
                  <a:moveTo>
                    <a:pt x="0" y="22"/>
                  </a:moveTo>
                  <a:lnTo>
                    <a:pt x="26" y="0"/>
                  </a:lnTo>
                  <a:lnTo>
                    <a:pt x="26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1890720" y="232416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4"/>
                  </a:moveTo>
                  <a:lnTo>
                    <a:pt x="25" y="74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1333440" y="3219480"/>
            <a:ext cx="2048040" cy="563400"/>
            <a:chOff x="1333440" y="3219480"/>
            <a:chExt cx="2048040" cy="563400"/>
          </a:xfrm>
        </p:grpSpPr>
        <p:sp>
          <p:nvSpPr>
            <p:cNvPr id="3671" name=""/>
            <p:cNvSpPr/>
            <p:nvPr/>
          </p:nvSpPr>
          <p:spPr>
            <a:xfrm>
              <a:off x="1425600" y="3219480"/>
              <a:ext cx="1955880" cy="533520"/>
            </a:xfrm>
            <a:custGeom>
              <a:avLst/>
              <a:gdLst/>
              <a:ahLst/>
              <a:rect l="l" t="t" r="r" b="b"/>
              <a:pathLst>
                <a:path w="1232" h="336">
                  <a:moveTo>
                    <a:pt x="0" y="74"/>
                  </a:moveTo>
                  <a:lnTo>
                    <a:pt x="0" y="263"/>
                  </a:lnTo>
                  <a:lnTo>
                    <a:pt x="767" y="263"/>
                  </a:lnTo>
                  <a:lnTo>
                    <a:pt x="767" y="335"/>
                  </a:lnTo>
                  <a:lnTo>
                    <a:pt x="1231" y="168"/>
                  </a:lnTo>
                  <a:lnTo>
                    <a:pt x="767" y="0"/>
                  </a:lnTo>
                  <a:lnTo>
                    <a:pt x="767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1335240" y="3635280"/>
              <a:ext cx="1311120" cy="34920"/>
            </a:xfrm>
            <a:custGeom>
              <a:avLst/>
              <a:gdLst/>
              <a:ahLst/>
              <a:rect l="l" t="t" r="r" b="b"/>
              <a:pathLst>
                <a:path w="826" h="22">
                  <a:moveTo>
                    <a:pt x="769" y="21"/>
                  </a:moveTo>
                  <a:lnTo>
                    <a:pt x="825" y="0"/>
                  </a:lnTo>
                  <a:lnTo>
                    <a:pt x="54" y="0"/>
                  </a:lnTo>
                  <a:lnTo>
                    <a:pt x="0" y="21"/>
                  </a:lnTo>
                  <a:lnTo>
                    <a:pt x="769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556000" y="3635280"/>
              <a:ext cx="88920" cy="147600"/>
            </a:xfrm>
            <a:custGeom>
              <a:avLst/>
              <a:gdLst/>
              <a:ahLst/>
              <a:rect l="l" t="t" r="r" b="b"/>
              <a:pathLst>
                <a:path w="56" h="93">
                  <a:moveTo>
                    <a:pt x="0" y="21"/>
                  </a:moveTo>
                  <a:lnTo>
                    <a:pt x="55" y="0"/>
                  </a:lnTo>
                  <a:lnTo>
                    <a:pt x="55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1333440" y="3336840"/>
              <a:ext cx="93600" cy="333360"/>
            </a:xfrm>
            <a:custGeom>
              <a:avLst/>
              <a:gdLst/>
              <a:ahLst/>
              <a:rect l="l" t="t" r="r" b="b"/>
              <a:pathLst>
                <a:path w="59" h="210">
                  <a:moveTo>
                    <a:pt x="0" y="22"/>
                  </a:moveTo>
                  <a:lnTo>
                    <a:pt x="58" y="0"/>
                  </a:lnTo>
                  <a:lnTo>
                    <a:pt x="58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556000" y="3219480"/>
              <a:ext cx="88920" cy="11916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0" y="74"/>
                  </a:moveTo>
                  <a:lnTo>
                    <a:pt x="55" y="74"/>
                  </a:lnTo>
                  <a:lnTo>
                    <a:pt x="55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6" name=""/>
          <p:cNvGrpSpPr/>
          <p:nvPr/>
        </p:nvGrpSpPr>
        <p:grpSpPr>
          <a:xfrm>
            <a:off x="3162240" y="2081160"/>
            <a:ext cx="3335400" cy="453960"/>
            <a:chOff x="3162240" y="2081160"/>
            <a:chExt cx="3335400" cy="453960"/>
          </a:xfrm>
        </p:grpSpPr>
        <p:sp>
          <p:nvSpPr>
            <p:cNvPr id="3677" name=""/>
            <p:cNvSpPr/>
            <p:nvPr/>
          </p:nvSpPr>
          <p:spPr>
            <a:xfrm>
              <a:off x="3309840" y="2081160"/>
              <a:ext cx="3187800" cy="430200"/>
            </a:xfrm>
            <a:custGeom>
              <a:avLst/>
              <a:gdLst/>
              <a:ahLst/>
              <a:rect l="l" t="t" r="r" b="b"/>
              <a:pathLst>
                <a:path w="2008" h="271">
                  <a:moveTo>
                    <a:pt x="0" y="60"/>
                  </a:moveTo>
                  <a:lnTo>
                    <a:pt x="0" y="212"/>
                  </a:lnTo>
                  <a:lnTo>
                    <a:pt x="1250" y="212"/>
                  </a:lnTo>
                  <a:lnTo>
                    <a:pt x="1250" y="270"/>
                  </a:lnTo>
                  <a:lnTo>
                    <a:pt x="2007" y="135"/>
                  </a:lnTo>
                  <a:lnTo>
                    <a:pt x="1250" y="0"/>
                  </a:lnTo>
                  <a:lnTo>
                    <a:pt x="1250" y="60"/>
                  </a:lnTo>
                  <a:lnTo>
                    <a:pt x="0" y="60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166920" y="2416320"/>
              <a:ext cx="2129040" cy="28440"/>
            </a:xfrm>
            <a:custGeom>
              <a:avLst/>
              <a:gdLst/>
              <a:ahLst/>
              <a:rect l="l" t="t" r="r" b="b"/>
              <a:pathLst>
                <a:path w="1341" h="18">
                  <a:moveTo>
                    <a:pt x="1249" y="17"/>
                  </a:moveTo>
                  <a:lnTo>
                    <a:pt x="1340" y="0"/>
                  </a:lnTo>
                  <a:lnTo>
                    <a:pt x="88" y="0"/>
                  </a:lnTo>
                  <a:lnTo>
                    <a:pt x="0" y="17"/>
                  </a:lnTo>
                  <a:lnTo>
                    <a:pt x="1249" y="17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149800" y="2416320"/>
              <a:ext cx="146160" cy="118800"/>
            </a:xfrm>
            <a:custGeom>
              <a:avLst/>
              <a:gdLst/>
              <a:ahLst/>
              <a:rect l="l" t="t" r="r" b="b"/>
              <a:pathLst>
                <a:path w="92" h="75">
                  <a:moveTo>
                    <a:pt x="0" y="17"/>
                  </a:moveTo>
                  <a:lnTo>
                    <a:pt x="91" y="0"/>
                  </a:lnTo>
                  <a:lnTo>
                    <a:pt x="91" y="58"/>
                  </a:lnTo>
                  <a:lnTo>
                    <a:pt x="0" y="74"/>
                  </a:lnTo>
                  <a:lnTo>
                    <a:pt x="0" y="17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162240" y="2176560"/>
              <a:ext cx="149400" cy="268200"/>
            </a:xfrm>
            <a:custGeom>
              <a:avLst/>
              <a:gdLst/>
              <a:ahLst/>
              <a:rect l="l" t="t" r="r" b="b"/>
              <a:pathLst>
                <a:path w="94" h="169">
                  <a:moveTo>
                    <a:pt x="0" y="18"/>
                  </a:moveTo>
                  <a:lnTo>
                    <a:pt x="93" y="0"/>
                  </a:lnTo>
                  <a:lnTo>
                    <a:pt x="93" y="151"/>
                  </a:lnTo>
                  <a:lnTo>
                    <a:pt x="0" y="168"/>
                  </a:lnTo>
                  <a:lnTo>
                    <a:pt x="0" y="18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149800" y="2081160"/>
              <a:ext cx="146160" cy="9684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0" y="60"/>
                  </a:moveTo>
                  <a:lnTo>
                    <a:pt x="91" y="60"/>
                  </a:lnTo>
                  <a:lnTo>
                    <a:pt x="91" y="0"/>
                  </a:lnTo>
                  <a:lnTo>
                    <a:pt x="0" y="16"/>
                  </a:lnTo>
                  <a:lnTo>
                    <a:pt x="0" y="60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2" name=""/>
          <p:cNvGrpSpPr/>
          <p:nvPr/>
        </p:nvGrpSpPr>
        <p:grpSpPr>
          <a:xfrm>
            <a:off x="5562720" y="3924360"/>
            <a:ext cx="934920" cy="563400"/>
            <a:chOff x="5562720" y="3924360"/>
            <a:chExt cx="934920" cy="563400"/>
          </a:xfrm>
        </p:grpSpPr>
        <p:sp>
          <p:nvSpPr>
            <p:cNvPr id="3683" name=""/>
            <p:cNvSpPr/>
            <p:nvPr/>
          </p:nvSpPr>
          <p:spPr>
            <a:xfrm>
              <a:off x="5603760" y="3924360"/>
              <a:ext cx="893880" cy="533520"/>
            </a:xfrm>
            <a:custGeom>
              <a:avLst/>
              <a:gdLst/>
              <a:ahLst/>
              <a:rect l="l" t="t" r="r" b="b"/>
              <a:pathLst>
                <a:path w="563" h="336">
                  <a:moveTo>
                    <a:pt x="0" y="74"/>
                  </a:moveTo>
                  <a:lnTo>
                    <a:pt x="0" y="263"/>
                  </a:lnTo>
                  <a:lnTo>
                    <a:pt x="350" y="263"/>
                  </a:lnTo>
                  <a:lnTo>
                    <a:pt x="350" y="335"/>
                  </a:lnTo>
                  <a:lnTo>
                    <a:pt x="562" y="168"/>
                  </a:lnTo>
                  <a:lnTo>
                    <a:pt x="350" y="0"/>
                  </a:lnTo>
                  <a:lnTo>
                    <a:pt x="350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564160" y="4340160"/>
              <a:ext cx="596880" cy="34920"/>
            </a:xfrm>
            <a:custGeom>
              <a:avLst/>
              <a:gdLst/>
              <a:ahLst/>
              <a:rect l="l" t="t" r="r" b="b"/>
              <a:pathLst>
                <a:path w="376" h="22">
                  <a:moveTo>
                    <a:pt x="350" y="21"/>
                  </a:moveTo>
                  <a:lnTo>
                    <a:pt x="375" y="0"/>
                  </a:lnTo>
                  <a:lnTo>
                    <a:pt x="25" y="0"/>
                  </a:lnTo>
                  <a:lnTo>
                    <a:pt x="0" y="21"/>
                  </a:lnTo>
                  <a:lnTo>
                    <a:pt x="350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119640" y="434016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0" y="21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5562720" y="4041720"/>
              <a:ext cx="42840" cy="333360"/>
            </a:xfrm>
            <a:custGeom>
              <a:avLst/>
              <a:gdLst/>
              <a:ahLst/>
              <a:rect l="l" t="t" r="r" b="b"/>
              <a:pathLst>
                <a:path w="27" h="210">
                  <a:moveTo>
                    <a:pt x="0" y="22"/>
                  </a:moveTo>
                  <a:lnTo>
                    <a:pt x="26" y="0"/>
                  </a:lnTo>
                  <a:lnTo>
                    <a:pt x="26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6119640" y="3924360"/>
              <a:ext cx="41400" cy="119160"/>
            </a:xfrm>
            <a:custGeom>
              <a:avLst/>
              <a:gdLst/>
              <a:ahLst/>
              <a:rect l="l" t="t" r="r" b="b"/>
              <a:pathLst>
                <a:path w="26" h="75">
                  <a:moveTo>
                    <a:pt x="0" y="74"/>
                  </a:moveTo>
                  <a:lnTo>
                    <a:pt x="25" y="74"/>
                  </a:lnTo>
                  <a:lnTo>
                    <a:pt x="25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8" name=""/>
          <p:cNvGrpSpPr/>
          <p:nvPr/>
        </p:nvGrpSpPr>
        <p:grpSpPr>
          <a:xfrm>
            <a:off x="4343400" y="2938320"/>
            <a:ext cx="2154240" cy="563760"/>
            <a:chOff x="4343400" y="2938320"/>
            <a:chExt cx="2154240" cy="563760"/>
          </a:xfrm>
        </p:grpSpPr>
        <p:sp>
          <p:nvSpPr>
            <p:cNvPr id="3689" name=""/>
            <p:cNvSpPr/>
            <p:nvPr/>
          </p:nvSpPr>
          <p:spPr>
            <a:xfrm>
              <a:off x="4438800" y="2938320"/>
              <a:ext cx="2058840" cy="533520"/>
            </a:xfrm>
            <a:custGeom>
              <a:avLst/>
              <a:gdLst/>
              <a:ahLst/>
              <a:rect l="l" t="t" r="r" b="b"/>
              <a:pathLst>
                <a:path w="1297" h="336">
                  <a:moveTo>
                    <a:pt x="0" y="74"/>
                  </a:moveTo>
                  <a:lnTo>
                    <a:pt x="0" y="263"/>
                  </a:lnTo>
                  <a:lnTo>
                    <a:pt x="807" y="263"/>
                  </a:lnTo>
                  <a:lnTo>
                    <a:pt x="807" y="335"/>
                  </a:lnTo>
                  <a:lnTo>
                    <a:pt x="1296" y="168"/>
                  </a:lnTo>
                  <a:lnTo>
                    <a:pt x="807" y="0"/>
                  </a:lnTo>
                  <a:lnTo>
                    <a:pt x="807" y="74"/>
                  </a:lnTo>
                  <a:lnTo>
                    <a:pt x="0" y="7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346640" y="3354480"/>
              <a:ext cx="1374840" cy="34920"/>
            </a:xfrm>
            <a:custGeom>
              <a:avLst/>
              <a:gdLst/>
              <a:ahLst/>
              <a:rect l="l" t="t" r="r" b="b"/>
              <a:pathLst>
                <a:path w="866" h="22">
                  <a:moveTo>
                    <a:pt x="806" y="21"/>
                  </a:moveTo>
                  <a:lnTo>
                    <a:pt x="865" y="0"/>
                  </a:lnTo>
                  <a:lnTo>
                    <a:pt x="57" y="0"/>
                  </a:lnTo>
                  <a:lnTo>
                    <a:pt x="0" y="21"/>
                  </a:lnTo>
                  <a:lnTo>
                    <a:pt x="806" y="21"/>
                  </a:lnTo>
                </a:path>
              </a:pathLst>
            </a:custGeom>
            <a:solidFill>
              <a:srgbClr val="804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627520" y="3354480"/>
              <a:ext cx="9396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0" y="21"/>
                  </a:moveTo>
                  <a:lnTo>
                    <a:pt x="58" y="0"/>
                  </a:lnTo>
                  <a:lnTo>
                    <a:pt x="58" y="72"/>
                  </a:lnTo>
                  <a:lnTo>
                    <a:pt x="0" y="92"/>
                  </a:lnTo>
                  <a:lnTo>
                    <a:pt x="0" y="21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343400" y="3056040"/>
              <a:ext cx="96840" cy="333360"/>
            </a:xfrm>
            <a:custGeom>
              <a:avLst/>
              <a:gdLst/>
              <a:ahLst/>
              <a:rect l="l" t="t" r="r" b="b"/>
              <a:pathLst>
                <a:path w="61" h="210">
                  <a:moveTo>
                    <a:pt x="0" y="22"/>
                  </a:moveTo>
                  <a:lnTo>
                    <a:pt x="60" y="0"/>
                  </a:lnTo>
                  <a:lnTo>
                    <a:pt x="60" y="188"/>
                  </a:lnTo>
                  <a:lnTo>
                    <a:pt x="0" y="209"/>
                  </a:lnTo>
                  <a:lnTo>
                    <a:pt x="0" y="22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627520" y="2938320"/>
              <a:ext cx="93960" cy="119160"/>
            </a:xfrm>
            <a:custGeom>
              <a:avLst/>
              <a:gdLst/>
              <a:ahLst/>
              <a:rect l="l" t="t" r="r" b="b"/>
              <a:pathLst>
                <a:path w="59" h="75">
                  <a:moveTo>
                    <a:pt x="0" y="74"/>
                  </a:moveTo>
                  <a:lnTo>
                    <a:pt x="58" y="74"/>
                  </a:lnTo>
                  <a:lnTo>
                    <a:pt x="58" y="0"/>
                  </a:lnTo>
                  <a:lnTo>
                    <a:pt x="0" y="20"/>
                  </a:lnTo>
                  <a:lnTo>
                    <a:pt x="0" y="74"/>
                  </a:lnTo>
                </a:path>
              </a:pathLst>
            </a:custGeom>
            <a:solidFill>
              <a:srgbClr val="c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4" name=""/>
          <p:cNvGrpSpPr/>
          <p:nvPr/>
        </p:nvGrpSpPr>
        <p:grpSpPr>
          <a:xfrm>
            <a:off x="2266920" y="1876320"/>
            <a:ext cx="1087560" cy="1173240"/>
            <a:chOff x="2266920" y="1876320"/>
            <a:chExt cx="1087560" cy="1173240"/>
          </a:xfrm>
        </p:grpSpPr>
        <p:sp>
          <p:nvSpPr>
            <p:cNvPr id="3695" name=""/>
            <p:cNvSpPr/>
            <p:nvPr/>
          </p:nvSpPr>
          <p:spPr>
            <a:xfrm>
              <a:off x="2266920" y="2058840"/>
              <a:ext cx="851040" cy="990720"/>
            </a:xfrm>
            <a:custGeom>
              <a:avLst/>
              <a:gdLst/>
              <a:ahLst/>
              <a:rect l="l" t="t" r="r" b="b"/>
              <a:pathLst>
                <a:path w="536" h="624">
                  <a:moveTo>
                    <a:pt x="0" y="0"/>
                  </a:moveTo>
                  <a:lnTo>
                    <a:pt x="535" y="0"/>
                  </a:lnTo>
                  <a:lnTo>
                    <a:pt x="535" y="623"/>
                  </a:lnTo>
                  <a:lnTo>
                    <a:pt x="0" y="623"/>
                  </a:lnTo>
                  <a:lnTo>
                    <a:pt x="0" y="0"/>
                  </a:lnTo>
                </a:path>
              </a:pathLst>
            </a:custGeom>
            <a:solidFill>
              <a:srgbClr val="9f3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266920" y="1876320"/>
              <a:ext cx="1087560" cy="162000"/>
            </a:xfrm>
            <a:custGeom>
              <a:avLst/>
              <a:gdLst/>
              <a:ahLst/>
              <a:rect l="l" t="t" r="r" b="b"/>
              <a:pathLst>
                <a:path w="685" h="102">
                  <a:moveTo>
                    <a:pt x="0" y="101"/>
                  </a:moveTo>
                  <a:lnTo>
                    <a:pt x="536" y="101"/>
                  </a:lnTo>
                  <a:lnTo>
                    <a:pt x="684" y="0"/>
                  </a:lnTo>
                  <a:lnTo>
                    <a:pt x="146" y="0"/>
                  </a:lnTo>
                  <a:lnTo>
                    <a:pt x="0" y="101"/>
                  </a:lnTo>
                </a:path>
              </a:pathLst>
            </a:custGeom>
            <a:solidFill>
              <a:srgbClr val="bf5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132000" y="1876320"/>
              <a:ext cx="222480" cy="1173240"/>
            </a:xfrm>
            <a:custGeom>
              <a:avLst/>
              <a:gdLst/>
              <a:ahLst/>
              <a:rect l="l" t="t" r="r" b="b"/>
              <a:pathLst>
                <a:path w="140" h="739">
                  <a:moveTo>
                    <a:pt x="139" y="0"/>
                  </a:moveTo>
                  <a:lnTo>
                    <a:pt x="0" y="114"/>
                  </a:lnTo>
                  <a:lnTo>
                    <a:pt x="0" y="738"/>
                  </a:lnTo>
                  <a:lnTo>
                    <a:pt x="139" y="566"/>
                  </a:lnTo>
                  <a:lnTo>
                    <a:pt x="139" y="0"/>
                  </a:lnTo>
                </a:path>
              </a:pathLst>
            </a:custGeom>
            <a:solidFill>
              <a:srgbClr val="7f0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8" name=""/>
          <p:cNvGrpSpPr/>
          <p:nvPr/>
        </p:nvGrpSpPr>
        <p:grpSpPr>
          <a:xfrm>
            <a:off x="3348000" y="2762280"/>
            <a:ext cx="1149480" cy="1176480"/>
            <a:chOff x="3348000" y="2762280"/>
            <a:chExt cx="1149480" cy="1176480"/>
          </a:xfrm>
        </p:grpSpPr>
        <p:sp>
          <p:nvSpPr>
            <p:cNvPr id="3699" name=""/>
            <p:cNvSpPr/>
            <p:nvPr/>
          </p:nvSpPr>
          <p:spPr>
            <a:xfrm>
              <a:off x="3348000" y="2946240"/>
              <a:ext cx="898560" cy="992520"/>
            </a:xfrm>
            <a:custGeom>
              <a:avLst/>
              <a:gdLst/>
              <a:ahLst/>
              <a:rect l="l" t="t" r="r" b="b"/>
              <a:pathLst>
                <a:path w="566" h="625">
                  <a:moveTo>
                    <a:pt x="0" y="0"/>
                  </a:moveTo>
                  <a:lnTo>
                    <a:pt x="565" y="0"/>
                  </a:lnTo>
                  <a:lnTo>
                    <a:pt x="565" y="624"/>
                  </a:ln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348000" y="2762280"/>
              <a:ext cx="1149480" cy="163440"/>
            </a:xfrm>
            <a:custGeom>
              <a:avLst/>
              <a:gdLst/>
              <a:ahLst/>
              <a:rect l="l" t="t" r="r" b="b"/>
              <a:pathLst>
                <a:path w="724" h="103">
                  <a:moveTo>
                    <a:pt x="0" y="102"/>
                  </a:moveTo>
                  <a:lnTo>
                    <a:pt x="567" y="102"/>
                  </a:lnTo>
                  <a:lnTo>
                    <a:pt x="723" y="0"/>
                  </a:lnTo>
                  <a:lnTo>
                    <a:pt x="155" y="0"/>
                  </a:lnTo>
                  <a:lnTo>
                    <a:pt x="0" y="102"/>
                  </a:lnTo>
                </a:path>
              </a:pathLst>
            </a:custGeom>
            <a:solidFill>
              <a:srgbClr val="ff9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64200" y="2762280"/>
              <a:ext cx="233280" cy="1176480"/>
            </a:xfrm>
            <a:custGeom>
              <a:avLst/>
              <a:gdLst/>
              <a:ahLst/>
              <a:rect l="l" t="t" r="r" b="b"/>
              <a:pathLst>
                <a:path w="147" h="741">
                  <a:moveTo>
                    <a:pt x="146" y="0"/>
                  </a:moveTo>
                  <a:lnTo>
                    <a:pt x="0" y="114"/>
                  </a:lnTo>
                  <a:lnTo>
                    <a:pt x="0" y="740"/>
                  </a:lnTo>
                  <a:lnTo>
                    <a:pt x="146" y="569"/>
                  </a:lnTo>
                  <a:lnTo>
                    <a:pt x="146" y="0"/>
                  </a:lnTo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2" name=""/>
          <p:cNvGrpSpPr/>
          <p:nvPr/>
        </p:nvGrpSpPr>
        <p:grpSpPr>
          <a:xfrm>
            <a:off x="4556160" y="3486240"/>
            <a:ext cx="1160280" cy="1220760"/>
            <a:chOff x="4556160" y="3486240"/>
            <a:chExt cx="1160280" cy="1220760"/>
          </a:xfrm>
        </p:grpSpPr>
        <p:sp>
          <p:nvSpPr>
            <p:cNvPr id="3703" name=""/>
            <p:cNvSpPr/>
            <p:nvPr/>
          </p:nvSpPr>
          <p:spPr>
            <a:xfrm>
              <a:off x="4556160" y="3678120"/>
              <a:ext cx="907920" cy="1028880"/>
            </a:xfrm>
            <a:custGeom>
              <a:avLst/>
              <a:gdLst/>
              <a:ahLst/>
              <a:rect l="l" t="t" r="r" b="b"/>
              <a:pathLst>
                <a:path w="572" h="648">
                  <a:moveTo>
                    <a:pt x="0" y="0"/>
                  </a:moveTo>
                  <a:lnTo>
                    <a:pt x="571" y="0"/>
                  </a:lnTo>
                  <a:lnTo>
                    <a:pt x="571" y="647"/>
                  </a:lnTo>
                  <a:lnTo>
                    <a:pt x="0" y="647"/>
                  </a:lnTo>
                  <a:lnTo>
                    <a:pt x="0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96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556160" y="3486240"/>
              <a:ext cx="1160280" cy="171360"/>
            </a:xfrm>
            <a:custGeom>
              <a:avLst/>
              <a:gdLst/>
              <a:ahLst/>
              <a:rect l="l" t="t" r="r" b="b"/>
              <a:pathLst>
                <a:path w="731" h="108">
                  <a:moveTo>
                    <a:pt x="0" y="107"/>
                  </a:moveTo>
                  <a:lnTo>
                    <a:pt x="573" y="107"/>
                  </a:lnTo>
                  <a:lnTo>
                    <a:pt x="730" y="0"/>
                  </a:lnTo>
                  <a:lnTo>
                    <a:pt x="157" y="0"/>
                  </a:lnTo>
                  <a:lnTo>
                    <a:pt x="0" y="107"/>
                  </a:lnTo>
                </a:path>
              </a:pathLst>
            </a:custGeom>
            <a:solidFill>
              <a:srgbClr val="00dfbf"/>
            </a:solidFill>
            <a:ln cap="rnd" w="12600">
              <a:solidFill>
                <a:srgbClr val="0096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483160" y="3486240"/>
              <a:ext cx="233280" cy="1220760"/>
            </a:xfrm>
            <a:custGeom>
              <a:avLst/>
              <a:gdLst/>
              <a:ahLst/>
              <a:rect l="l" t="t" r="r" b="b"/>
              <a:pathLst>
                <a:path w="147" h="769">
                  <a:moveTo>
                    <a:pt x="146" y="0"/>
                  </a:moveTo>
                  <a:lnTo>
                    <a:pt x="0" y="119"/>
                  </a:lnTo>
                  <a:lnTo>
                    <a:pt x="0" y="768"/>
                  </a:lnTo>
                  <a:lnTo>
                    <a:pt x="146" y="590"/>
                  </a:lnTo>
                  <a:lnTo>
                    <a:pt x="146" y="0"/>
                  </a:lnTo>
                </a:path>
              </a:pathLst>
            </a:custGeom>
            <a:solidFill>
              <a:srgbClr val="005f5f"/>
            </a:solidFill>
            <a:ln cap="rnd" w="12600">
              <a:solidFill>
                <a:srgbClr val="0096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6" name=""/>
          <p:cNvSpPr/>
          <p:nvPr/>
        </p:nvSpPr>
        <p:spPr>
          <a:xfrm>
            <a:off x="2211840" y="2286000"/>
            <a:ext cx="1027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3294720" y="3162240"/>
            <a:ext cx="1027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4513680" y="3924360"/>
            <a:ext cx="10274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62640" y="2263680"/>
            <a:ext cx="125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43560" y="3178080"/>
            <a:ext cx="125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43560" y="4054320"/>
            <a:ext cx="125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6516720" y="2054160"/>
            <a:ext cx="1418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6497640" y="2968560"/>
            <a:ext cx="1418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6497640" y="3844800"/>
            <a:ext cx="1418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Data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4722840" y="1438200"/>
            <a:ext cx="460440" cy="2111400"/>
          </a:xfrm>
          <a:custGeom>
            <a:avLst/>
            <a:gdLst/>
            <a:ahLst/>
            <a:rect l="l" t="t" r="r" b="b"/>
            <a:pathLst>
              <a:path w="290" h="1330">
                <a:moveTo>
                  <a:pt x="289" y="855"/>
                </a:moveTo>
                <a:lnTo>
                  <a:pt x="211" y="855"/>
                </a:lnTo>
                <a:lnTo>
                  <a:pt x="211" y="0"/>
                </a:lnTo>
                <a:lnTo>
                  <a:pt x="77" y="0"/>
                </a:lnTo>
                <a:lnTo>
                  <a:pt x="77" y="855"/>
                </a:lnTo>
                <a:lnTo>
                  <a:pt x="0" y="855"/>
                </a:lnTo>
                <a:lnTo>
                  <a:pt x="144" y="1329"/>
                </a:lnTo>
                <a:lnTo>
                  <a:pt x="289" y="855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619440" y="1409760"/>
            <a:ext cx="477720" cy="1411200"/>
          </a:xfrm>
          <a:custGeom>
            <a:avLst/>
            <a:gdLst/>
            <a:ahLst/>
            <a:rect l="l" t="t" r="r" b="b"/>
            <a:pathLst>
              <a:path w="301" h="889">
                <a:moveTo>
                  <a:pt x="300" y="571"/>
                </a:moveTo>
                <a:lnTo>
                  <a:pt x="219" y="571"/>
                </a:lnTo>
                <a:lnTo>
                  <a:pt x="219" y="0"/>
                </a:lnTo>
                <a:lnTo>
                  <a:pt x="80" y="0"/>
                </a:lnTo>
                <a:lnTo>
                  <a:pt x="80" y="571"/>
                </a:lnTo>
                <a:lnTo>
                  <a:pt x="0" y="571"/>
                </a:lnTo>
                <a:lnTo>
                  <a:pt x="150" y="888"/>
                </a:lnTo>
                <a:lnTo>
                  <a:pt x="300" y="571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2571840" y="1390680"/>
            <a:ext cx="515880" cy="557280"/>
          </a:xfrm>
          <a:custGeom>
            <a:avLst/>
            <a:gdLst/>
            <a:ahLst/>
            <a:rect l="l" t="t" r="r" b="b"/>
            <a:pathLst>
              <a:path w="325" h="351">
                <a:moveTo>
                  <a:pt x="324" y="225"/>
                </a:moveTo>
                <a:lnTo>
                  <a:pt x="237" y="225"/>
                </a:lnTo>
                <a:lnTo>
                  <a:pt x="237" y="0"/>
                </a:lnTo>
                <a:lnTo>
                  <a:pt x="87" y="0"/>
                </a:lnTo>
                <a:lnTo>
                  <a:pt x="87" y="225"/>
                </a:lnTo>
                <a:lnTo>
                  <a:pt x="0" y="225"/>
                </a:lnTo>
                <a:lnTo>
                  <a:pt x="162" y="350"/>
                </a:lnTo>
                <a:lnTo>
                  <a:pt x="324" y="225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2116440" y="808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Instr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3297600" y="8460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Instr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4478400" y="88416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Instr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Stream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1" name=""/>
          <p:cNvGrpSpPr/>
          <p:nvPr/>
        </p:nvGrpSpPr>
        <p:grpSpPr>
          <a:xfrm>
            <a:off x="2952720" y="2171880"/>
            <a:ext cx="627120" cy="1715760"/>
            <a:chOff x="2952720" y="2171880"/>
            <a:chExt cx="627120" cy="1715760"/>
          </a:xfrm>
        </p:grpSpPr>
        <p:grpSp>
          <p:nvGrpSpPr>
            <p:cNvPr id="3722" name=""/>
            <p:cNvGrpSpPr/>
            <p:nvPr/>
          </p:nvGrpSpPr>
          <p:grpSpPr>
            <a:xfrm>
              <a:off x="2952720" y="2171880"/>
              <a:ext cx="627120" cy="1715760"/>
              <a:chOff x="2952720" y="2171880"/>
              <a:chExt cx="627120" cy="1715760"/>
            </a:xfrm>
          </p:grpSpPr>
          <p:grpSp>
            <p:nvGrpSpPr>
              <p:cNvPr id="3723" name=""/>
              <p:cNvGrpSpPr/>
              <p:nvPr/>
            </p:nvGrpSpPr>
            <p:grpSpPr>
              <a:xfrm>
                <a:off x="2952720" y="2959200"/>
                <a:ext cx="627120" cy="928440"/>
                <a:chOff x="2952720" y="2959200"/>
                <a:chExt cx="627120" cy="928440"/>
              </a:xfrm>
            </p:grpSpPr>
            <p:grpSp>
              <p:nvGrpSpPr>
                <p:cNvPr id="3724" name=""/>
                <p:cNvGrpSpPr/>
                <p:nvPr/>
              </p:nvGrpSpPr>
              <p:grpSpPr>
                <a:xfrm>
                  <a:off x="2952720" y="2959200"/>
                  <a:ext cx="627120" cy="928440"/>
                  <a:chOff x="2952720" y="2959200"/>
                  <a:chExt cx="627120" cy="928440"/>
                </a:xfrm>
              </p:grpSpPr>
              <p:sp>
                <p:nvSpPr>
                  <p:cNvPr id="3725" name=""/>
                  <p:cNvSpPr/>
                  <p:nvPr/>
                </p:nvSpPr>
                <p:spPr>
                  <a:xfrm>
                    <a:off x="2957400" y="2959200"/>
                    <a:ext cx="622440" cy="830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523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78"/>
                        </a:lnTo>
                        <a:lnTo>
                          <a:pt x="0" y="278"/>
                        </a:lnTo>
                        <a:lnTo>
                          <a:pt x="187" y="522"/>
                        </a:lnTo>
                        <a:lnTo>
                          <a:pt x="391" y="278"/>
                        </a:lnTo>
                        <a:lnTo>
                          <a:pt x="316" y="278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6" name=""/>
                  <p:cNvSpPr/>
                  <p:nvPr/>
                </p:nvSpPr>
                <p:spPr>
                  <a:xfrm>
                    <a:off x="3254400" y="3402000"/>
                    <a:ext cx="324000" cy="48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04">
                        <a:moveTo>
                          <a:pt x="203" y="0"/>
                        </a:moveTo>
                        <a:lnTo>
                          <a:pt x="203" y="62"/>
                        </a:lnTo>
                        <a:lnTo>
                          <a:pt x="0" y="303"/>
                        </a:lnTo>
                        <a:lnTo>
                          <a:pt x="0" y="241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7" name=""/>
                  <p:cNvSpPr/>
                  <p:nvPr/>
                </p:nvSpPr>
                <p:spPr>
                  <a:xfrm>
                    <a:off x="2952720" y="3402000"/>
                    <a:ext cx="30312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06">
                        <a:moveTo>
                          <a:pt x="190" y="239"/>
                        </a:moveTo>
                        <a:lnTo>
                          <a:pt x="190" y="305"/>
                        </a:lnTo>
                        <a:lnTo>
                          <a:pt x="0" y="60"/>
                        </a:lnTo>
                        <a:lnTo>
                          <a:pt x="0" y="0"/>
                        </a:lnTo>
                        <a:lnTo>
                          <a:pt x="190" y="239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8" name=""/>
                <p:cNvSpPr/>
                <p:nvPr/>
              </p:nvSpPr>
              <p:spPr>
                <a:xfrm>
                  <a:off x="3459240" y="3165480"/>
                  <a:ext cx="31680" cy="237960"/>
                </a:xfrm>
                <a:custGeom>
                  <a:avLst/>
                  <a:gdLst/>
                  <a:ahLst/>
                  <a:rect l="l" t="t" r="r" b="b"/>
                  <a:pathLst>
                    <a:path w="20" h="150">
                      <a:moveTo>
                        <a:pt x="0" y="0"/>
                      </a:moveTo>
                      <a:lnTo>
                        <a:pt x="19" y="53"/>
                      </a:lnTo>
                      <a:lnTo>
                        <a:pt x="19" y="149"/>
                      </a:lnTo>
                      <a:lnTo>
                        <a:pt x="0" y="14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9" name=""/>
              <p:cNvGrpSpPr/>
              <p:nvPr/>
            </p:nvGrpSpPr>
            <p:grpSpPr>
              <a:xfrm>
                <a:off x="2957400" y="2171880"/>
                <a:ext cx="622440" cy="830160"/>
                <a:chOff x="2957400" y="2171880"/>
                <a:chExt cx="622440" cy="830160"/>
              </a:xfrm>
            </p:grpSpPr>
            <p:sp>
              <p:nvSpPr>
                <p:cNvPr id="3730" name=""/>
                <p:cNvSpPr/>
                <p:nvPr/>
              </p:nvSpPr>
              <p:spPr>
                <a:xfrm>
                  <a:off x="2957400" y="2171880"/>
                  <a:ext cx="622440" cy="830160"/>
                </a:xfrm>
                <a:custGeom>
                  <a:avLst/>
                  <a:gdLst/>
                  <a:ahLst/>
                  <a:rect l="l" t="t" r="r" b="b"/>
                  <a:pathLst>
                    <a:path w="392" h="523">
                      <a:moveTo>
                        <a:pt x="74" y="522"/>
                      </a:moveTo>
                      <a:lnTo>
                        <a:pt x="316" y="522"/>
                      </a:lnTo>
                      <a:lnTo>
                        <a:pt x="316" y="243"/>
                      </a:lnTo>
                      <a:lnTo>
                        <a:pt x="391" y="243"/>
                      </a:lnTo>
                      <a:lnTo>
                        <a:pt x="204" y="0"/>
                      </a:lnTo>
                      <a:lnTo>
                        <a:pt x="0" y="243"/>
                      </a:lnTo>
                      <a:lnTo>
                        <a:pt x="74" y="243"/>
                      </a:lnTo>
                      <a:lnTo>
                        <a:pt x="74" y="522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3471840" y="2556000"/>
                  <a:ext cx="103320" cy="9036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2963880" y="2563920"/>
                  <a:ext cx="104760" cy="8892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3" name=""/>
            <p:cNvSpPr/>
            <p:nvPr/>
          </p:nvSpPr>
          <p:spPr>
            <a:xfrm>
              <a:off x="3086280" y="2484360"/>
              <a:ext cx="20304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260880" y="2770200"/>
              <a:ext cx="18720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1409400" y="132840"/>
            <a:ext cx="772164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hared Memory MIMD machin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339840" y="4749480"/>
            <a:ext cx="7967520" cy="209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omm:  Source PE writes data to GM &amp; destination retrieves it 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Easy to build, conventional OSes of SISD can be easily be ported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Limitation : reliability &amp; expandability.  </a:t>
            </a:r>
            <a:r>
              <a:rPr b="1" lang="en-US" sz="1800" spc="-1" strike="noStrike">
                <a:solidFill>
                  <a:srgbClr val="fc0128"/>
                </a:solidFill>
                <a:latin typeface="Century Gothic"/>
              </a:rPr>
              <a:t>A memory component or any processor failure affects the whole system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Increase of processors leads to memory contention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51dc00"/>
                </a:solidFill>
                <a:latin typeface="Century Gothic"/>
              </a:rPr>
              <a:t>Ex. : Silicon graphics supercomputers...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737" name=""/>
          <p:cNvGrpSpPr/>
          <p:nvPr/>
        </p:nvGrpSpPr>
        <p:grpSpPr>
          <a:xfrm>
            <a:off x="5391000" y="2152800"/>
            <a:ext cx="627120" cy="1753920"/>
            <a:chOff x="5391000" y="2152800"/>
            <a:chExt cx="627120" cy="1753920"/>
          </a:xfrm>
        </p:grpSpPr>
        <p:grpSp>
          <p:nvGrpSpPr>
            <p:cNvPr id="3738" name=""/>
            <p:cNvGrpSpPr/>
            <p:nvPr/>
          </p:nvGrpSpPr>
          <p:grpSpPr>
            <a:xfrm>
              <a:off x="5391000" y="2152800"/>
              <a:ext cx="627120" cy="1753920"/>
              <a:chOff x="5391000" y="2152800"/>
              <a:chExt cx="627120" cy="1753920"/>
            </a:xfrm>
          </p:grpSpPr>
          <p:grpSp>
            <p:nvGrpSpPr>
              <p:cNvPr id="3739" name=""/>
              <p:cNvGrpSpPr/>
              <p:nvPr/>
            </p:nvGrpSpPr>
            <p:grpSpPr>
              <a:xfrm>
                <a:off x="5391000" y="2957400"/>
                <a:ext cx="627120" cy="949320"/>
                <a:chOff x="5391000" y="2957400"/>
                <a:chExt cx="627120" cy="949320"/>
              </a:xfrm>
            </p:grpSpPr>
            <p:grpSp>
              <p:nvGrpSpPr>
                <p:cNvPr id="3740" name=""/>
                <p:cNvGrpSpPr/>
                <p:nvPr/>
              </p:nvGrpSpPr>
              <p:grpSpPr>
                <a:xfrm>
                  <a:off x="5391000" y="2957400"/>
                  <a:ext cx="627120" cy="949320"/>
                  <a:chOff x="5391000" y="2957400"/>
                  <a:chExt cx="627120" cy="949320"/>
                </a:xfrm>
              </p:grpSpPr>
              <p:sp>
                <p:nvSpPr>
                  <p:cNvPr id="3741" name=""/>
                  <p:cNvSpPr/>
                  <p:nvPr/>
                </p:nvSpPr>
                <p:spPr>
                  <a:xfrm>
                    <a:off x="5396040" y="2957400"/>
                    <a:ext cx="622080" cy="8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535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85"/>
                        </a:lnTo>
                        <a:lnTo>
                          <a:pt x="0" y="285"/>
                        </a:lnTo>
                        <a:lnTo>
                          <a:pt x="187" y="534"/>
                        </a:lnTo>
                        <a:lnTo>
                          <a:pt x="391" y="285"/>
                        </a:lnTo>
                        <a:lnTo>
                          <a:pt x="316" y="285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2" name=""/>
                  <p:cNvSpPr/>
                  <p:nvPr/>
                </p:nvSpPr>
                <p:spPr>
                  <a:xfrm>
                    <a:off x="5692680" y="3409920"/>
                    <a:ext cx="32400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11">
                        <a:moveTo>
                          <a:pt x="203" y="0"/>
                        </a:moveTo>
                        <a:lnTo>
                          <a:pt x="203" y="63"/>
                        </a:lnTo>
                        <a:lnTo>
                          <a:pt x="0" y="310"/>
                        </a:lnTo>
                        <a:lnTo>
                          <a:pt x="0" y="247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3" name=""/>
                  <p:cNvSpPr/>
                  <p:nvPr/>
                </p:nvSpPr>
                <p:spPr>
                  <a:xfrm>
                    <a:off x="5391000" y="3409920"/>
                    <a:ext cx="303480" cy="49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13">
                        <a:moveTo>
                          <a:pt x="190" y="245"/>
                        </a:moveTo>
                        <a:lnTo>
                          <a:pt x="190" y="312"/>
                        </a:lnTo>
                        <a:lnTo>
                          <a:pt x="0" y="61"/>
                        </a:lnTo>
                        <a:lnTo>
                          <a:pt x="0" y="0"/>
                        </a:lnTo>
                        <a:lnTo>
                          <a:pt x="190" y="245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4" name=""/>
                <p:cNvSpPr/>
                <p:nvPr/>
              </p:nvSpPr>
              <p:spPr>
                <a:xfrm>
                  <a:off x="5897520" y="3168720"/>
                  <a:ext cx="31680" cy="242640"/>
                </a:xfrm>
                <a:custGeom>
                  <a:avLst/>
                  <a:gdLst/>
                  <a:ahLst/>
                  <a:rect l="l" t="t" r="r" b="b"/>
                  <a:pathLst>
                    <a:path w="20" h="153">
                      <a:moveTo>
                        <a:pt x="0" y="0"/>
                      </a:moveTo>
                      <a:lnTo>
                        <a:pt x="19" y="54"/>
                      </a:lnTo>
                      <a:lnTo>
                        <a:pt x="19" y="152"/>
                      </a:lnTo>
                      <a:lnTo>
                        <a:pt x="0" y="1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5" name=""/>
              <p:cNvGrpSpPr/>
              <p:nvPr/>
            </p:nvGrpSpPr>
            <p:grpSpPr>
              <a:xfrm>
                <a:off x="5396040" y="2152800"/>
                <a:ext cx="622080" cy="849240"/>
                <a:chOff x="5396040" y="2152800"/>
                <a:chExt cx="622080" cy="849240"/>
              </a:xfrm>
            </p:grpSpPr>
            <p:sp>
              <p:nvSpPr>
                <p:cNvPr id="3746" name=""/>
                <p:cNvSpPr/>
                <p:nvPr/>
              </p:nvSpPr>
              <p:spPr>
                <a:xfrm>
                  <a:off x="5396040" y="2152800"/>
                  <a:ext cx="622080" cy="849240"/>
                </a:xfrm>
                <a:custGeom>
                  <a:avLst/>
                  <a:gdLst/>
                  <a:ahLst/>
                  <a:rect l="l" t="t" r="r" b="b"/>
                  <a:pathLst>
                    <a:path w="392" h="535">
                      <a:moveTo>
                        <a:pt x="74" y="534"/>
                      </a:moveTo>
                      <a:lnTo>
                        <a:pt x="316" y="534"/>
                      </a:lnTo>
                      <a:lnTo>
                        <a:pt x="316" y="249"/>
                      </a:lnTo>
                      <a:lnTo>
                        <a:pt x="391" y="249"/>
                      </a:lnTo>
                      <a:lnTo>
                        <a:pt x="204" y="0"/>
                      </a:lnTo>
                      <a:lnTo>
                        <a:pt x="0" y="249"/>
                      </a:lnTo>
                      <a:lnTo>
                        <a:pt x="74" y="249"/>
                      </a:lnTo>
                      <a:lnTo>
                        <a:pt x="74" y="534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5910120" y="2544840"/>
                  <a:ext cx="103320" cy="936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5402160" y="2552760"/>
                  <a:ext cx="104760" cy="9216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9" name=""/>
            <p:cNvSpPr/>
            <p:nvPr/>
          </p:nvSpPr>
          <p:spPr>
            <a:xfrm>
              <a:off x="5524560" y="2473200"/>
              <a:ext cx="20304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699160" y="2765520"/>
              <a:ext cx="18720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1" name=""/>
          <p:cNvSpPr/>
          <p:nvPr/>
        </p:nvSpPr>
        <p:spPr>
          <a:xfrm>
            <a:off x="2836800" y="3943440"/>
            <a:ext cx="3243240" cy="58104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Memor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2540160" y="949320"/>
            <a:ext cx="1044360" cy="118728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994200" y="949320"/>
            <a:ext cx="1041480" cy="1184400"/>
          </a:xfrm>
          <a:prstGeom prst="rect">
            <a:avLst/>
          </a:prstGeom>
          <a:solidFill>
            <a:srgbClr val="fde3b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5370480" y="949320"/>
            <a:ext cx="1042920" cy="1184400"/>
          </a:xfrm>
          <a:prstGeom prst="rect">
            <a:avLst/>
          </a:prstGeom>
          <a:solidFill>
            <a:srgbClr val="ffc5c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5" name=""/>
          <p:cNvGrpSpPr/>
          <p:nvPr/>
        </p:nvGrpSpPr>
        <p:grpSpPr>
          <a:xfrm>
            <a:off x="4172040" y="2152800"/>
            <a:ext cx="627120" cy="1753920"/>
            <a:chOff x="4172040" y="2152800"/>
            <a:chExt cx="627120" cy="1753920"/>
          </a:xfrm>
        </p:grpSpPr>
        <p:grpSp>
          <p:nvGrpSpPr>
            <p:cNvPr id="3756" name=""/>
            <p:cNvGrpSpPr/>
            <p:nvPr/>
          </p:nvGrpSpPr>
          <p:grpSpPr>
            <a:xfrm>
              <a:off x="4172040" y="2152800"/>
              <a:ext cx="627120" cy="1753920"/>
              <a:chOff x="4172040" y="2152800"/>
              <a:chExt cx="627120" cy="1753920"/>
            </a:xfrm>
          </p:grpSpPr>
          <p:grpSp>
            <p:nvGrpSpPr>
              <p:cNvPr id="3757" name=""/>
              <p:cNvGrpSpPr/>
              <p:nvPr/>
            </p:nvGrpSpPr>
            <p:grpSpPr>
              <a:xfrm>
                <a:off x="4172040" y="2957400"/>
                <a:ext cx="627120" cy="949320"/>
                <a:chOff x="4172040" y="2957400"/>
                <a:chExt cx="627120" cy="949320"/>
              </a:xfrm>
            </p:grpSpPr>
            <p:grpSp>
              <p:nvGrpSpPr>
                <p:cNvPr id="3758" name=""/>
                <p:cNvGrpSpPr/>
                <p:nvPr/>
              </p:nvGrpSpPr>
              <p:grpSpPr>
                <a:xfrm>
                  <a:off x="4172040" y="2957400"/>
                  <a:ext cx="627120" cy="949320"/>
                  <a:chOff x="4172040" y="2957400"/>
                  <a:chExt cx="627120" cy="949320"/>
                </a:xfrm>
              </p:grpSpPr>
              <p:sp>
                <p:nvSpPr>
                  <p:cNvPr id="3759" name=""/>
                  <p:cNvSpPr/>
                  <p:nvPr/>
                </p:nvSpPr>
                <p:spPr>
                  <a:xfrm>
                    <a:off x="4176720" y="2957400"/>
                    <a:ext cx="622440" cy="8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535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85"/>
                        </a:lnTo>
                        <a:lnTo>
                          <a:pt x="0" y="285"/>
                        </a:lnTo>
                        <a:lnTo>
                          <a:pt x="187" y="534"/>
                        </a:lnTo>
                        <a:lnTo>
                          <a:pt x="391" y="285"/>
                        </a:lnTo>
                        <a:lnTo>
                          <a:pt x="316" y="285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0" name=""/>
                  <p:cNvSpPr/>
                  <p:nvPr/>
                </p:nvSpPr>
                <p:spPr>
                  <a:xfrm>
                    <a:off x="4473720" y="3409920"/>
                    <a:ext cx="32364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311">
                        <a:moveTo>
                          <a:pt x="203" y="0"/>
                        </a:moveTo>
                        <a:lnTo>
                          <a:pt x="203" y="63"/>
                        </a:lnTo>
                        <a:lnTo>
                          <a:pt x="0" y="310"/>
                        </a:lnTo>
                        <a:lnTo>
                          <a:pt x="0" y="247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1" name=""/>
                  <p:cNvSpPr/>
                  <p:nvPr/>
                </p:nvSpPr>
                <p:spPr>
                  <a:xfrm>
                    <a:off x="4172040" y="3409920"/>
                    <a:ext cx="303120" cy="49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313">
                        <a:moveTo>
                          <a:pt x="190" y="245"/>
                        </a:moveTo>
                        <a:lnTo>
                          <a:pt x="190" y="312"/>
                        </a:lnTo>
                        <a:lnTo>
                          <a:pt x="0" y="61"/>
                        </a:lnTo>
                        <a:lnTo>
                          <a:pt x="0" y="0"/>
                        </a:lnTo>
                        <a:lnTo>
                          <a:pt x="190" y="245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2" name=""/>
                <p:cNvSpPr/>
                <p:nvPr/>
              </p:nvSpPr>
              <p:spPr>
                <a:xfrm>
                  <a:off x="4678200" y="3168720"/>
                  <a:ext cx="32040" cy="242640"/>
                </a:xfrm>
                <a:custGeom>
                  <a:avLst/>
                  <a:gdLst/>
                  <a:ahLst/>
                  <a:rect l="l" t="t" r="r" b="b"/>
                  <a:pathLst>
                    <a:path w="20" h="153">
                      <a:moveTo>
                        <a:pt x="0" y="0"/>
                      </a:moveTo>
                      <a:lnTo>
                        <a:pt x="19" y="54"/>
                      </a:lnTo>
                      <a:lnTo>
                        <a:pt x="19" y="152"/>
                      </a:lnTo>
                      <a:lnTo>
                        <a:pt x="0" y="15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3" name=""/>
              <p:cNvGrpSpPr/>
              <p:nvPr/>
            </p:nvGrpSpPr>
            <p:grpSpPr>
              <a:xfrm>
                <a:off x="4176720" y="2152800"/>
                <a:ext cx="622440" cy="849240"/>
                <a:chOff x="4176720" y="2152800"/>
                <a:chExt cx="622440" cy="849240"/>
              </a:xfrm>
            </p:grpSpPr>
            <p:sp>
              <p:nvSpPr>
                <p:cNvPr id="3764" name=""/>
                <p:cNvSpPr/>
                <p:nvPr/>
              </p:nvSpPr>
              <p:spPr>
                <a:xfrm>
                  <a:off x="4176720" y="2152800"/>
                  <a:ext cx="622440" cy="849240"/>
                </a:xfrm>
                <a:custGeom>
                  <a:avLst/>
                  <a:gdLst/>
                  <a:ahLst/>
                  <a:rect l="l" t="t" r="r" b="b"/>
                  <a:pathLst>
                    <a:path w="392" h="535">
                      <a:moveTo>
                        <a:pt x="74" y="534"/>
                      </a:moveTo>
                      <a:lnTo>
                        <a:pt x="316" y="534"/>
                      </a:lnTo>
                      <a:lnTo>
                        <a:pt x="316" y="249"/>
                      </a:lnTo>
                      <a:lnTo>
                        <a:pt x="391" y="249"/>
                      </a:lnTo>
                      <a:lnTo>
                        <a:pt x="204" y="0"/>
                      </a:lnTo>
                      <a:lnTo>
                        <a:pt x="0" y="249"/>
                      </a:lnTo>
                      <a:lnTo>
                        <a:pt x="74" y="249"/>
                      </a:lnTo>
                      <a:lnTo>
                        <a:pt x="74" y="534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4691160" y="2544840"/>
                  <a:ext cx="102960" cy="936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4183200" y="2552760"/>
                  <a:ext cx="104760" cy="9216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7" name=""/>
            <p:cNvSpPr/>
            <p:nvPr/>
          </p:nvSpPr>
          <p:spPr>
            <a:xfrm>
              <a:off x="4305240" y="2473200"/>
              <a:ext cx="20340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479840" y="2765520"/>
              <a:ext cx="18756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9" name=""/>
          <p:cNvGrpSpPr/>
          <p:nvPr/>
        </p:nvGrpSpPr>
        <p:grpSpPr>
          <a:xfrm>
            <a:off x="3067200" y="2533680"/>
            <a:ext cx="626760" cy="1490760"/>
            <a:chOff x="3067200" y="2533680"/>
            <a:chExt cx="626760" cy="1490760"/>
          </a:xfrm>
        </p:grpSpPr>
        <p:grpSp>
          <p:nvGrpSpPr>
            <p:cNvPr id="3770" name=""/>
            <p:cNvGrpSpPr/>
            <p:nvPr/>
          </p:nvGrpSpPr>
          <p:grpSpPr>
            <a:xfrm>
              <a:off x="3067200" y="2533680"/>
              <a:ext cx="626760" cy="1490760"/>
              <a:chOff x="3067200" y="2533680"/>
              <a:chExt cx="626760" cy="1490760"/>
            </a:xfrm>
          </p:grpSpPr>
          <p:grpSp>
            <p:nvGrpSpPr>
              <p:cNvPr id="3771" name=""/>
              <p:cNvGrpSpPr/>
              <p:nvPr/>
            </p:nvGrpSpPr>
            <p:grpSpPr>
              <a:xfrm>
                <a:off x="3067200" y="3216240"/>
                <a:ext cx="626760" cy="808200"/>
                <a:chOff x="3067200" y="3216240"/>
                <a:chExt cx="626760" cy="808200"/>
              </a:xfrm>
            </p:grpSpPr>
            <p:grpSp>
              <p:nvGrpSpPr>
                <p:cNvPr id="3772" name=""/>
                <p:cNvGrpSpPr/>
                <p:nvPr/>
              </p:nvGrpSpPr>
              <p:grpSpPr>
                <a:xfrm>
                  <a:off x="3067200" y="3216240"/>
                  <a:ext cx="626760" cy="808200"/>
                  <a:chOff x="3067200" y="3216240"/>
                  <a:chExt cx="626760" cy="808200"/>
                </a:xfrm>
              </p:grpSpPr>
              <p:sp>
                <p:nvSpPr>
                  <p:cNvPr id="3773" name=""/>
                  <p:cNvSpPr/>
                  <p:nvPr/>
                </p:nvSpPr>
                <p:spPr>
                  <a:xfrm>
                    <a:off x="3071880" y="3216240"/>
                    <a:ext cx="622080" cy="72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455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42"/>
                        </a:lnTo>
                        <a:lnTo>
                          <a:pt x="0" y="242"/>
                        </a:lnTo>
                        <a:lnTo>
                          <a:pt x="187" y="454"/>
                        </a:lnTo>
                        <a:lnTo>
                          <a:pt x="391" y="242"/>
                        </a:lnTo>
                        <a:lnTo>
                          <a:pt x="316" y="242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4" name=""/>
                  <p:cNvSpPr/>
                  <p:nvPr/>
                </p:nvSpPr>
                <p:spPr>
                  <a:xfrm>
                    <a:off x="3368520" y="3600360"/>
                    <a:ext cx="32400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65">
                        <a:moveTo>
                          <a:pt x="203" y="0"/>
                        </a:moveTo>
                        <a:lnTo>
                          <a:pt x="203" y="54"/>
                        </a:lnTo>
                        <a:lnTo>
                          <a:pt x="0" y="264"/>
                        </a:lnTo>
                        <a:lnTo>
                          <a:pt x="0" y="210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5" name=""/>
                  <p:cNvSpPr/>
                  <p:nvPr/>
                </p:nvSpPr>
                <p:spPr>
                  <a:xfrm>
                    <a:off x="3067200" y="3600360"/>
                    <a:ext cx="303120" cy="42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67">
                        <a:moveTo>
                          <a:pt x="190" y="209"/>
                        </a:moveTo>
                        <a:lnTo>
                          <a:pt x="190" y="2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lnTo>
                          <a:pt x="190" y="209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6" name=""/>
                <p:cNvSpPr/>
                <p:nvPr/>
              </p:nvSpPr>
              <p:spPr>
                <a:xfrm>
                  <a:off x="3573360" y="3397320"/>
                  <a:ext cx="31680" cy="204840"/>
                </a:xfrm>
                <a:custGeom>
                  <a:avLst/>
                  <a:gdLst/>
                  <a:ahLst/>
                  <a:rect l="l" t="t" r="r" b="b"/>
                  <a:pathLst>
                    <a:path w="20" h="129">
                      <a:moveTo>
                        <a:pt x="0" y="0"/>
                      </a:moveTo>
                      <a:lnTo>
                        <a:pt x="19" y="46"/>
                      </a:lnTo>
                      <a:lnTo>
                        <a:pt x="19" y="128"/>
                      </a:lnTo>
                      <a:lnTo>
                        <a:pt x="0" y="1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7" name=""/>
              <p:cNvGrpSpPr/>
              <p:nvPr/>
            </p:nvGrpSpPr>
            <p:grpSpPr>
              <a:xfrm>
                <a:off x="3071880" y="2533680"/>
                <a:ext cx="622080" cy="722160"/>
                <a:chOff x="3071880" y="2533680"/>
                <a:chExt cx="622080" cy="722160"/>
              </a:xfrm>
            </p:grpSpPr>
            <p:sp>
              <p:nvSpPr>
                <p:cNvPr id="3778" name=""/>
                <p:cNvSpPr/>
                <p:nvPr/>
              </p:nvSpPr>
              <p:spPr>
                <a:xfrm>
                  <a:off x="3071880" y="2533680"/>
                  <a:ext cx="622080" cy="722160"/>
                </a:xfrm>
                <a:custGeom>
                  <a:avLst/>
                  <a:gdLst/>
                  <a:ahLst/>
                  <a:rect l="l" t="t" r="r" b="b"/>
                  <a:pathLst>
                    <a:path w="392" h="455">
                      <a:moveTo>
                        <a:pt x="74" y="454"/>
                      </a:moveTo>
                      <a:lnTo>
                        <a:pt x="316" y="454"/>
                      </a:lnTo>
                      <a:lnTo>
                        <a:pt x="316" y="212"/>
                      </a:lnTo>
                      <a:lnTo>
                        <a:pt x="391" y="212"/>
                      </a:lnTo>
                      <a:lnTo>
                        <a:pt x="204" y="0"/>
                      </a:lnTo>
                      <a:lnTo>
                        <a:pt x="0" y="212"/>
                      </a:lnTo>
                      <a:lnTo>
                        <a:pt x="74" y="212"/>
                      </a:lnTo>
                      <a:lnTo>
                        <a:pt x="74" y="454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3586320" y="2867040"/>
                  <a:ext cx="102960" cy="7776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3078000" y="2874960"/>
                  <a:ext cx="104760" cy="7632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81" name=""/>
            <p:cNvSpPr/>
            <p:nvPr/>
          </p:nvSpPr>
          <p:spPr>
            <a:xfrm>
              <a:off x="3200400" y="2801880"/>
              <a:ext cx="20304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375000" y="3049560"/>
              <a:ext cx="18720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1733400" y="-360"/>
            <a:ext cx="73980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Century Gothic"/>
              </a:rPr>
              <a:t>Distributed Memory MIMD</a:t>
            </a:r>
            <a:endParaRPr b="1" lang="en-US" sz="3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380520" y="5016600"/>
            <a:ext cx="8649000" cy="17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ommunication : IPC on High Speed Network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 algn="just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Network can be configured to ... Tree, Mesh, Cube, etc.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 algn="just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Unlike Shared MIMD</a:t>
            </a:r>
            <a:endParaRPr b="1" lang="en-US" sz="18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easily/ readily expand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Highly reliable (any CPU  failure does not affect the whole syste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2673360" y="1549440"/>
            <a:ext cx="1044720" cy="930240"/>
          </a:xfrm>
          <a:prstGeom prst="rect">
            <a:avLst/>
          </a:prstGeom>
          <a:solidFill>
            <a:srgbClr val="c1ce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4089240" y="1549440"/>
            <a:ext cx="1041480" cy="927000"/>
          </a:xfrm>
          <a:prstGeom prst="rect">
            <a:avLst/>
          </a:prstGeom>
          <a:solidFill>
            <a:srgbClr val="fde3ba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5465880" y="1549440"/>
            <a:ext cx="1042920" cy="927000"/>
          </a:xfrm>
          <a:prstGeom prst="rect">
            <a:avLst/>
          </a:prstGeom>
          <a:solidFill>
            <a:srgbClr val="ffc5c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240" bIns="3024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8" name=""/>
          <p:cNvGrpSpPr/>
          <p:nvPr/>
        </p:nvGrpSpPr>
        <p:grpSpPr>
          <a:xfrm>
            <a:off x="5505480" y="2492280"/>
            <a:ext cx="627120" cy="1548000"/>
            <a:chOff x="5505480" y="2492280"/>
            <a:chExt cx="627120" cy="1548000"/>
          </a:xfrm>
        </p:grpSpPr>
        <p:grpSp>
          <p:nvGrpSpPr>
            <p:cNvPr id="3789" name=""/>
            <p:cNvGrpSpPr/>
            <p:nvPr/>
          </p:nvGrpSpPr>
          <p:grpSpPr>
            <a:xfrm>
              <a:off x="5505480" y="2492280"/>
              <a:ext cx="627120" cy="1548000"/>
              <a:chOff x="5505480" y="2492280"/>
              <a:chExt cx="627120" cy="1548000"/>
            </a:xfrm>
          </p:grpSpPr>
          <p:grpSp>
            <p:nvGrpSpPr>
              <p:cNvPr id="3790" name=""/>
              <p:cNvGrpSpPr/>
              <p:nvPr/>
            </p:nvGrpSpPr>
            <p:grpSpPr>
              <a:xfrm>
                <a:off x="5505480" y="3203640"/>
                <a:ext cx="627120" cy="836640"/>
                <a:chOff x="5505480" y="3203640"/>
                <a:chExt cx="627120" cy="836640"/>
              </a:xfrm>
            </p:grpSpPr>
            <p:grpSp>
              <p:nvGrpSpPr>
                <p:cNvPr id="3791" name=""/>
                <p:cNvGrpSpPr/>
                <p:nvPr/>
              </p:nvGrpSpPr>
              <p:grpSpPr>
                <a:xfrm>
                  <a:off x="5505480" y="3203640"/>
                  <a:ext cx="627120" cy="836640"/>
                  <a:chOff x="5505480" y="3203640"/>
                  <a:chExt cx="627120" cy="836640"/>
                </a:xfrm>
              </p:grpSpPr>
              <p:sp>
                <p:nvSpPr>
                  <p:cNvPr id="3792" name=""/>
                  <p:cNvSpPr/>
                  <p:nvPr/>
                </p:nvSpPr>
                <p:spPr>
                  <a:xfrm>
                    <a:off x="5510160" y="3203640"/>
                    <a:ext cx="622440" cy="74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471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51"/>
                        </a:lnTo>
                        <a:lnTo>
                          <a:pt x="0" y="251"/>
                        </a:lnTo>
                        <a:lnTo>
                          <a:pt x="187" y="470"/>
                        </a:lnTo>
                        <a:lnTo>
                          <a:pt x="391" y="251"/>
                        </a:lnTo>
                        <a:lnTo>
                          <a:pt x="316" y="251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3" name=""/>
                  <p:cNvSpPr/>
                  <p:nvPr/>
                </p:nvSpPr>
                <p:spPr>
                  <a:xfrm>
                    <a:off x="5807160" y="3602160"/>
                    <a:ext cx="323640" cy="43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4">
                        <a:moveTo>
                          <a:pt x="203" y="0"/>
                        </a:moveTo>
                        <a:lnTo>
                          <a:pt x="203" y="56"/>
                        </a:lnTo>
                        <a:lnTo>
                          <a:pt x="0" y="273"/>
                        </a:lnTo>
                        <a:lnTo>
                          <a:pt x="0" y="217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4" name=""/>
                  <p:cNvSpPr/>
                  <p:nvPr/>
                </p:nvSpPr>
                <p:spPr>
                  <a:xfrm>
                    <a:off x="5505480" y="3602160"/>
                    <a:ext cx="303120" cy="43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76">
                        <a:moveTo>
                          <a:pt x="190" y="216"/>
                        </a:moveTo>
                        <a:lnTo>
                          <a:pt x="190" y="275"/>
                        </a:lnTo>
                        <a:lnTo>
                          <a:pt x="0" y="54"/>
                        </a:lnTo>
                        <a:lnTo>
                          <a:pt x="0" y="0"/>
                        </a:lnTo>
                        <a:lnTo>
                          <a:pt x="190" y="216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5" name=""/>
                <p:cNvSpPr/>
                <p:nvPr/>
              </p:nvSpPr>
              <p:spPr>
                <a:xfrm>
                  <a:off x="6012000" y="3389400"/>
                  <a:ext cx="31680" cy="214200"/>
                </a:xfrm>
                <a:custGeom>
                  <a:avLst/>
                  <a:gdLst/>
                  <a:ahLst/>
                  <a:rect l="l" t="t" r="r" b="b"/>
                  <a:pathLst>
                    <a:path w="20" h="135">
                      <a:moveTo>
                        <a:pt x="0" y="0"/>
                      </a:moveTo>
                      <a:lnTo>
                        <a:pt x="19" y="48"/>
                      </a:lnTo>
                      <a:lnTo>
                        <a:pt x="19" y="134"/>
                      </a:lnTo>
                      <a:lnTo>
                        <a:pt x="0" y="1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6" name=""/>
              <p:cNvGrpSpPr/>
              <p:nvPr/>
            </p:nvGrpSpPr>
            <p:grpSpPr>
              <a:xfrm>
                <a:off x="5510160" y="2492280"/>
                <a:ext cx="622440" cy="750960"/>
                <a:chOff x="5510160" y="2492280"/>
                <a:chExt cx="622440" cy="750960"/>
              </a:xfrm>
            </p:grpSpPr>
            <p:sp>
              <p:nvSpPr>
                <p:cNvPr id="3797" name=""/>
                <p:cNvSpPr/>
                <p:nvPr/>
              </p:nvSpPr>
              <p:spPr>
                <a:xfrm>
                  <a:off x="5510160" y="2492280"/>
                  <a:ext cx="622440" cy="750960"/>
                </a:xfrm>
                <a:custGeom>
                  <a:avLst/>
                  <a:gdLst/>
                  <a:ahLst/>
                  <a:rect l="l" t="t" r="r" b="b"/>
                  <a:pathLst>
                    <a:path w="392" h="473">
                      <a:moveTo>
                        <a:pt x="74" y="472"/>
                      </a:moveTo>
                      <a:lnTo>
                        <a:pt x="316" y="472"/>
                      </a:lnTo>
                      <a:lnTo>
                        <a:pt x="316" y="220"/>
                      </a:lnTo>
                      <a:lnTo>
                        <a:pt x="391" y="220"/>
                      </a:lnTo>
                      <a:lnTo>
                        <a:pt x="204" y="0"/>
                      </a:lnTo>
                      <a:lnTo>
                        <a:pt x="0" y="220"/>
                      </a:lnTo>
                      <a:lnTo>
                        <a:pt x="74" y="220"/>
                      </a:lnTo>
                      <a:lnTo>
                        <a:pt x="74" y="472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6024600" y="2840040"/>
                  <a:ext cx="103320" cy="810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>
                  <a:off x="5516640" y="2846520"/>
                  <a:ext cx="104760" cy="792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00" name=""/>
            <p:cNvSpPr/>
            <p:nvPr/>
          </p:nvSpPr>
          <p:spPr>
            <a:xfrm>
              <a:off x="5638680" y="2771640"/>
              <a:ext cx="20340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13280" y="3030480"/>
              <a:ext cx="18756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2" name=""/>
          <p:cNvGrpSpPr/>
          <p:nvPr/>
        </p:nvGrpSpPr>
        <p:grpSpPr>
          <a:xfrm>
            <a:off x="4286160" y="2492280"/>
            <a:ext cx="627120" cy="1548000"/>
            <a:chOff x="4286160" y="2492280"/>
            <a:chExt cx="627120" cy="1548000"/>
          </a:xfrm>
        </p:grpSpPr>
        <p:grpSp>
          <p:nvGrpSpPr>
            <p:cNvPr id="3803" name=""/>
            <p:cNvGrpSpPr/>
            <p:nvPr/>
          </p:nvGrpSpPr>
          <p:grpSpPr>
            <a:xfrm>
              <a:off x="4286160" y="2492280"/>
              <a:ext cx="627120" cy="1548000"/>
              <a:chOff x="4286160" y="2492280"/>
              <a:chExt cx="627120" cy="1548000"/>
            </a:xfrm>
          </p:grpSpPr>
          <p:grpSp>
            <p:nvGrpSpPr>
              <p:cNvPr id="3804" name=""/>
              <p:cNvGrpSpPr/>
              <p:nvPr/>
            </p:nvGrpSpPr>
            <p:grpSpPr>
              <a:xfrm>
                <a:off x="4286160" y="3203640"/>
                <a:ext cx="627120" cy="836640"/>
                <a:chOff x="4286160" y="3203640"/>
                <a:chExt cx="627120" cy="836640"/>
              </a:xfrm>
            </p:grpSpPr>
            <p:grpSp>
              <p:nvGrpSpPr>
                <p:cNvPr id="3805" name=""/>
                <p:cNvGrpSpPr/>
                <p:nvPr/>
              </p:nvGrpSpPr>
              <p:grpSpPr>
                <a:xfrm>
                  <a:off x="4286160" y="3203640"/>
                  <a:ext cx="627120" cy="836640"/>
                  <a:chOff x="4286160" y="3203640"/>
                  <a:chExt cx="627120" cy="836640"/>
                </a:xfrm>
              </p:grpSpPr>
              <p:sp>
                <p:nvSpPr>
                  <p:cNvPr id="3806" name=""/>
                  <p:cNvSpPr/>
                  <p:nvPr/>
                </p:nvSpPr>
                <p:spPr>
                  <a:xfrm>
                    <a:off x="4290840" y="3203640"/>
                    <a:ext cx="622440" cy="74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471">
                        <a:moveTo>
                          <a:pt x="316" y="0"/>
                        </a:moveTo>
                        <a:lnTo>
                          <a:pt x="74" y="0"/>
                        </a:lnTo>
                        <a:lnTo>
                          <a:pt x="74" y="251"/>
                        </a:lnTo>
                        <a:lnTo>
                          <a:pt x="0" y="251"/>
                        </a:lnTo>
                        <a:lnTo>
                          <a:pt x="187" y="470"/>
                        </a:lnTo>
                        <a:lnTo>
                          <a:pt x="391" y="251"/>
                        </a:lnTo>
                        <a:lnTo>
                          <a:pt x="316" y="251"/>
                        </a:lnTo>
                        <a:lnTo>
                          <a:pt x="316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7" name=""/>
                  <p:cNvSpPr/>
                  <p:nvPr/>
                </p:nvSpPr>
                <p:spPr>
                  <a:xfrm>
                    <a:off x="4587840" y="3602160"/>
                    <a:ext cx="324000" cy="43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74">
                        <a:moveTo>
                          <a:pt x="203" y="0"/>
                        </a:moveTo>
                        <a:lnTo>
                          <a:pt x="203" y="56"/>
                        </a:lnTo>
                        <a:lnTo>
                          <a:pt x="0" y="273"/>
                        </a:lnTo>
                        <a:lnTo>
                          <a:pt x="0" y="217"/>
                        </a:lnTo>
                        <a:lnTo>
                          <a:pt x="203" y="0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8" name=""/>
                  <p:cNvSpPr/>
                  <p:nvPr/>
                </p:nvSpPr>
                <p:spPr>
                  <a:xfrm>
                    <a:off x="4286160" y="3602160"/>
                    <a:ext cx="303480" cy="43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76">
                        <a:moveTo>
                          <a:pt x="190" y="216"/>
                        </a:moveTo>
                        <a:lnTo>
                          <a:pt x="190" y="275"/>
                        </a:lnTo>
                        <a:lnTo>
                          <a:pt x="0" y="54"/>
                        </a:lnTo>
                        <a:lnTo>
                          <a:pt x="0" y="0"/>
                        </a:lnTo>
                        <a:lnTo>
                          <a:pt x="190" y="216"/>
                        </a:lnTo>
                      </a:path>
                    </a:pathLst>
                  </a:custGeom>
                  <a:solidFill>
                    <a:srgbClr val="fe9b03"/>
                  </a:solidFill>
                  <a:ln cap="rnd" w="12600">
                    <a:solidFill>
                      <a:srgbClr val="3365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9" name=""/>
                <p:cNvSpPr/>
                <p:nvPr/>
              </p:nvSpPr>
              <p:spPr>
                <a:xfrm>
                  <a:off x="4792680" y="3389400"/>
                  <a:ext cx="31680" cy="214200"/>
                </a:xfrm>
                <a:custGeom>
                  <a:avLst/>
                  <a:gdLst/>
                  <a:ahLst/>
                  <a:rect l="l" t="t" r="r" b="b"/>
                  <a:pathLst>
                    <a:path w="20" h="135">
                      <a:moveTo>
                        <a:pt x="0" y="0"/>
                      </a:moveTo>
                      <a:lnTo>
                        <a:pt x="19" y="48"/>
                      </a:lnTo>
                      <a:lnTo>
                        <a:pt x="19" y="134"/>
                      </a:lnTo>
                      <a:lnTo>
                        <a:pt x="0" y="1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3365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0" name=""/>
              <p:cNvGrpSpPr/>
              <p:nvPr/>
            </p:nvGrpSpPr>
            <p:grpSpPr>
              <a:xfrm>
                <a:off x="4290840" y="2492280"/>
                <a:ext cx="622440" cy="750960"/>
                <a:chOff x="4290840" y="2492280"/>
                <a:chExt cx="622440" cy="750960"/>
              </a:xfrm>
            </p:grpSpPr>
            <p:sp>
              <p:nvSpPr>
                <p:cNvPr id="3811" name=""/>
                <p:cNvSpPr/>
                <p:nvPr/>
              </p:nvSpPr>
              <p:spPr>
                <a:xfrm>
                  <a:off x="4290840" y="2492280"/>
                  <a:ext cx="622440" cy="750960"/>
                </a:xfrm>
                <a:custGeom>
                  <a:avLst/>
                  <a:gdLst/>
                  <a:ahLst/>
                  <a:rect l="l" t="t" r="r" b="b"/>
                  <a:pathLst>
                    <a:path w="392" h="473">
                      <a:moveTo>
                        <a:pt x="74" y="472"/>
                      </a:moveTo>
                      <a:lnTo>
                        <a:pt x="316" y="472"/>
                      </a:lnTo>
                      <a:lnTo>
                        <a:pt x="316" y="220"/>
                      </a:lnTo>
                      <a:lnTo>
                        <a:pt x="391" y="220"/>
                      </a:lnTo>
                      <a:lnTo>
                        <a:pt x="204" y="0"/>
                      </a:lnTo>
                      <a:lnTo>
                        <a:pt x="0" y="220"/>
                      </a:lnTo>
                      <a:lnTo>
                        <a:pt x="74" y="220"/>
                      </a:lnTo>
                      <a:lnTo>
                        <a:pt x="74" y="472"/>
                      </a:lnTo>
                    </a:path>
                  </a:pathLst>
                </a:custGeom>
                <a:solidFill>
                  <a:srgbClr val="fe9b03"/>
                </a:solidFill>
                <a:ln cap="rnd"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4805280" y="2840040"/>
                  <a:ext cx="103320" cy="810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>
                  <a:off x="4297320" y="2846520"/>
                  <a:ext cx="104760" cy="79200"/>
                </a:xfrm>
                <a:prstGeom prst="rect">
                  <a:avLst/>
                </a:prstGeom>
                <a:solidFill>
                  <a:srgbClr val="fe9b03"/>
                </a:solidFill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4" name=""/>
            <p:cNvSpPr/>
            <p:nvPr/>
          </p:nvSpPr>
          <p:spPr>
            <a:xfrm>
              <a:off x="4419720" y="2771640"/>
              <a:ext cx="203040" cy="97452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594320" y="3030480"/>
              <a:ext cx="187200" cy="51768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6" name=""/>
          <p:cNvGrpSpPr/>
          <p:nvPr/>
        </p:nvGrpSpPr>
        <p:grpSpPr>
          <a:xfrm>
            <a:off x="2901960" y="4002120"/>
            <a:ext cx="3397320" cy="925560"/>
            <a:chOff x="2901960" y="4002120"/>
            <a:chExt cx="3397320" cy="925560"/>
          </a:xfrm>
        </p:grpSpPr>
        <p:sp>
          <p:nvSpPr>
            <p:cNvPr id="3817" name=""/>
            <p:cNvSpPr/>
            <p:nvPr/>
          </p:nvSpPr>
          <p:spPr>
            <a:xfrm>
              <a:off x="2901960" y="4002120"/>
              <a:ext cx="915840" cy="8967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System 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4151160" y="4029120"/>
              <a:ext cx="916200" cy="898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System 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383080" y="4029120"/>
              <a:ext cx="916200" cy="898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595440"/>
                  <a:tab algn="l" pos="1190520"/>
                  <a:tab algn="l" pos="1785960"/>
                  <a:tab algn="l" pos="2381400"/>
                  <a:tab algn="l" pos="2976480"/>
                  <a:tab algn="l" pos="3571920"/>
                  <a:tab algn="l" pos="4167360"/>
                  <a:tab algn="l" pos="4762440"/>
                  <a:tab algn="l" pos="5357880"/>
                  <a:tab algn="l" pos="5952960"/>
                  <a:tab algn="l" pos="6548400"/>
                  <a:tab algn="l" pos="7143840"/>
                  <a:tab algn="l" pos="7738920"/>
                  <a:tab algn="l" pos="8334360"/>
                  <a:tab algn="l" pos="8929800"/>
                  <a:tab algn="l" pos="9524880"/>
                  <a:tab algn="l" pos="10120320"/>
                  <a:tab algn="l" pos="1071576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System 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0" name=""/>
          <p:cNvGrpSpPr/>
          <p:nvPr/>
        </p:nvGrpSpPr>
        <p:grpSpPr>
          <a:xfrm>
            <a:off x="3237840" y="990720"/>
            <a:ext cx="1289520" cy="790200"/>
            <a:chOff x="3237840" y="990720"/>
            <a:chExt cx="1289520" cy="790200"/>
          </a:xfrm>
        </p:grpSpPr>
        <p:grpSp>
          <p:nvGrpSpPr>
            <p:cNvPr id="3821" name=""/>
            <p:cNvGrpSpPr/>
            <p:nvPr/>
          </p:nvGrpSpPr>
          <p:grpSpPr>
            <a:xfrm>
              <a:off x="3237840" y="990720"/>
              <a:ext cx="1177920" cy="790200"/>
              <a:chOff x="3237840" y="990720"/>
              <a:chExt cx="1177920" cy="790200"/>
            </a:xfrm>
          </p:grpSpPr>
          <p:sp>
            <p:nvSpPr>
              <p:cNvPr id="3822" name=""/>
              <p:cNvSpPr/>
              <p:nvPr/>
            </p:nvSpPr>
            <p:spPr>
              <a:xfrm>
                <a:off x="3365640" y="990720"/>
                <a:ext cx="1050120" cy="79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7"/>
                    </a:moveTo>
                    <a:arcTo wR="10800" hR="10800" stAng="-10786166" swAng="53758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7"/>
                    </a:moveTo>
                    <a:arcTo wR="10800" hR="10800" stAng="-10786166" swAng="5375802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527280" y="1069920"/>
                <a:ext cx="768600" cy="63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46"/>
                    </a:moveTo>
                    <a:arcTo wR="10800" hR="10800" stAng="-10782718" swAng="53685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46"/>
                    </a:moveTo>
                    <a:arcTo wR="10800" hR="10800" stAng="-10782718" swAng="5368519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 rot="10800000">
                <a:off x="3237480" y="1388880"/>
                <a:ext cx="384120" cy="128520"/>
              </a:xfrm>
              <a:prstGeom prst="triangle">
                <a:avLst>
                  <a:gd name="adj" fmla="val 49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375000" y="1382760"/>
                <a:ext cx="13824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6" name=""/>
            <p:cNvGrpSpPr/>
            <p:nvPr/>
          </p:nvGrpSpPr>
          <p:grpSpPr>
            <a:xfrm>
              <a:off x="3348000" y="990720"/>
              <a:ext cx="1179360" cy="790200"/>
              <a:chOff x="3348000" y="990720"/>
              <a:chExt cx="1179360" cy="790200"/>
            </a:xfrm>
          </p:grpSpPr>
          <p:sp>
            <p:nvSpPr>
              <p:cNvPr id="3827" name=""/>
              <p:cNvSpPr/>
              <p:nvPr/>
            </p:nvSpPr>
            <p:spPr>
              <a:xfrm>
                <a:off x="3348000" y="990720"/>
                <a:ext cx="1056960" cy="79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8" y="0"/>
                    </a:moveTo>
                    <a:arcTo wR="10800" hR="10800" stAng="-5410318" swAng="53964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8" y="0"/>
                    </a:moveTo>
                    <a:arcTo wR="10800" hR="10800" stAng="-5410318" swAng="539646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3476880" y="1069920"/>
                <a:ext cx="764640" cy="63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258" swAng="53969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258" swAng="5396904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 rot="10800000">
                <a:off x="4138200" y="1388880"/>
                <a:ext cx="389160" cy="128520"/>
              </a:xfrm>
              <a:prstGeom prst="triangle">
                <a:avLst>
                  <a:gd name="adj" fmla="val 49995"/>
                </a:avLst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4239720" y="1382760"/>
                <a:ext cx="1573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31" name=""/>
          <p:cNvGrpSpPr/>
          <p:nvPr/>
        </p:nvGrpSpPr>
        <p:grpSpPr>
          <a:xfrm>
            <a:off x="4791240" y="990720"/>
            <a:ext cx="1342800" cy="790200"/>
            <a:chOff x="4791240" y="990720"/>
            <a:chExt cx="1342800" cy="790200"/>
          </a:xfrm>
        </p:grpSpPr>
        <p:grpSp>
          <p:nvGrpSpPr>
            <p:cNvPr id="3832" name=""/>
            <p:cNvGrpSpPr/>
            <p:nvPr/>
          </p:nvGrpSpPr>
          <p:grpSpPr>
            <a:xfrm>
              <a:off x="4791240" y="990720"/>
              <a:ext cx="1228320" cy="790200"/>
              <a:chOff x="4791240" y="990720"/>
              <a:chExt cx="1228320" cy="790200"/>
            </a:xfrm>
          </p:grpSpPr>
          <p:sp>
            <p:nvSpPr>
              <p:cNvPr id="3833" name=""/>
              <p:cNvSpPr/>
              <p:nvPr/>
            </p:nvSpPr>
            <p:spPr>
              <a:xfrm>
                <a:off x="4921200" y="990720"/>
                <a:ext cx="1098360" cy="79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57"/>
                    </a:moveTo>
                    <a:arcTo wR="10800" hR="10800" stAng="-10786166" swAng="53762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57"/>
                    </a:moveTo>
                    <a:arcTo wR="10800" hR="10800" stAng="-10786166" swAng="537625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087880" y="1069920"/>
                <a:ext cx="799560" cy="63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46"/>
                    </a:moveTo>
                    <a:arcTo wR="10800" hR="10800" stAng="-10782716" swAng="5369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46"/>
                    </a:moveTo>
                    <a:arcTo wR="10800" hR="10800" stAng="-10782716" swAng="5369081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 flipH="1" rot="10800000">
                <a:off x="4791240" y="1388880"/>
                <a:ext cx="403200" cy="128520"/>
              </a:xfrm>
              <a:prstGeom prst="triangle">
                <a:avLst>
                  <a:gd name="adj" fmla="val 4999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938840" y="1382760"/>
                <a:ext cx="134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7" name=""/>
            <p:cNvSpPr/>
            <p:nvPr/>
          </p:nvSpPr>
          <p:spPr>
            <a:xfrm>
              <a:off x="4908600" y="990720"/>
              <a:ext cx="1095120" cy="7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9" y="0"/>
                  </a:moveTo>
                  <a:arcTo wR="10800" hR="10800" stAng="-5409959" swAng="53961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9" y="0"/>
                  </a:moveTo>
                  <a:arcTo wR="10800" hR="10800" stAng="-5409959" swAng="5396105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043600" y="1069920"/>
              <a:ext cx="793440" cy="6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7" y="0"/>
                  </a:moveTo>
                  <a:arcTo wR="10800" hR="10800" stAng="-5413689" swAng="53963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7" y="0"/>
                  </a:moveTo>
                  <a:arcTo wR="10800" hR="10800" stAng="-5413689" swAng="539633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rot="10800000">
              <a:off x="5729400" y="1388880"/>
              <a:ext cx="404640" cy="12852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H="1">
              <a:off x="5835600" y="1382760"/>
              <a:ext cx="160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1" name=""/>
          <p:cNvSpPr/>
          <p:nvPr/>
        </p:nvSpPr>
        <p:spPr>
          <a:xfrm>
            <a:off x="6203880" y="1014480"/>
            <a:ext cx="153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P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1577880" y="995400"/>
            <a:ext cx="1530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IP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equential Architecture Limita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478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671760" indent="-671760" algn="just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equential architectures reaching physical limitation (speed of light, thermodynamics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671760" indent="-671760">
              <a:lnSpc>
                <a:spcPct val="90000"/>
              </a:lnSpc>
              <a:spcBef>
                <a:spcPts val="1199"/>
              </a:spcBef>
              <a:spcAft>
                <a:spcPts val="200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Hardware improvements like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pipelining, Superscalar, etc., are non-scalable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and requires sophisticated Compiler Technology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671760" indent="-671760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dc00"/>
                </a:solidFill>
                <a:latin typeface="Times New Roman"/>
              </a:rPr>
              <a:t>Vector Processing works well for certain kind of problems</a:t>
            </a: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480" y="520560"/>
            <a:ext cx="9118440" cy="6318360"/>
          </a:xfrm>
          <a:custGeom>
            <a:avLst/>
            <a:gdLst>
              <a:gd name="textAreaLeft" fmla="*/ 2081520 w 9118440"/>
              <a:gd name="textAreaRight" fmla="*/ 7036920 w 9118440"/>
              <a:gd name="textAreaTop" fmla="*/ 1442160 h 6318360"/>
              <a:gd name="textAreaBottom" fmla="*/ 4876200 h 631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714680" y="1631520"/>
            <a:ext cx="0" cy="4165560"/>
          </a:xfrm>
          <a:prstGeom prst="line">
            <a:avLst/>
          </a:prstGeom>
          <a:ln w="5076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1360" y="4819680"/>
            <a:ext cx="7683480" cy="0"/>
          </a:xfrm>
          <a:prstGeom prst="line">
            <a:avLst/>
          </a:prstGeom>
          <a:ln w="5076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29400" y="530532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No. of Process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6200000">
            <a:off x="822240" y="3341520"/>
            <a:ext cx="118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.P.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852560" y="4843440"/>
            <a:ext cx="3153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                     2 .   .   . 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349000" y="228240"/>
            <a:ext cx="6782040" cy="36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mputational Power Improvement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1778040" y="4102200"/>
            <a:ext cx="425520" cy="654120"/>
            <a:chOff x="1778040" y="4102200"/>
            <a:chExt cx="425520" cy="654120"/>
          </a:xfrm>
        </p:grpSpPr>
        <p:sp>
          <p:nvSpPr>
            <p:cNvPr id="968" name=""/>
            <p:cNvSpPr/>
            <p:nvPr/>
          </p:nvSpPr>
          <p:spPr>
            <a:xfrm>
              <a:off x="1778040" y="4102200"/>
              <a:ext cx="425520" cy="6541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879560" y="4235400"/>
              <a:ext cx="206280" cy="37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28680" y="4140360"/>
              <a:ext cx="4608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143080" y="4635360"/>
              <a:ext cx="46080" cy="82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792440" y="4140360"/>
              <a:ext cx="45720" cy="82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792440" y="4654440"/>
              <a:ext cx="45720" cy="82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901960" y="3835440"/>
            <a:ext cx="425520" cy="920880"/>
            <a:chOff x="2901960" y="3835440"/>
            <a:chExt cx="425520" cy="920880"/>
          </a:xfrm>
        </p:grpSpPr>
        <p:sp>
          <p:nvSpPr>
            <p:cNvPr id="975" name=""/>
            <p:cNvSpPr/>
            <p:nvPr/>
          </p:nvSpPr>
          <p:spPr>
            <a:xfrm>
              <a:off x="2901960" y="3835440"/>
              <a:ext cx="425520" cy="920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003480" y="4022640"/>
              <a:ext cx="20628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252960" y="3889440"/>
              <a:ext cx="4572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267000" y="4581360"/>
              <a:ext cx="46080" cy="120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916360" y="388944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16360" y="4608360"/>
              <a:ext cx="46080" cy="120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854520" y="2406600"/>
            <a:ext cx="425520" cy="920880"/>
            <a:chOff x="3854520" y="2406600"/>
            <a:chExt cx="425520" cy="920880"/>
          </a:xfrm>
        </p:grpSpPr>
        <p:sp>
          <p:nvSpPr>
            <p:cNvPr id="982" name=""/>
            <p:cNvSpPr/>
            <p:nvPr/>
          </p:nvSpPr>
          <p:spPr>
            <a:xfrm>
              <a:off x="3854520" y="2406600"/>
              <a:ext cx="425520" cy="920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956040" y="2593800"/>
              <a:ext cx="20628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516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3152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6856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68560" y="3179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387680" y="2406600"/>
            <a:ext cx="425520" cy="920880"/>
            <a:chOff x="4387680" y="2406600"/>
            <a:chExt cx="425520" cy="920880"/>
          </a:xfrm>
        </p:grpSpPr>
        <p:sp>
          <p:nvSpPr>
            <p:cNvPr id="989" name=""/>
            <p:cNvSpPr/>
            <p:nvPr/>
          </p:nvSpPr>
          <p:spPr>
            <a:xfrm>
              <a:off x="4387680" y="2406600"/>
              <a:ext cx="425520" cy="920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89560" y="2593800"/>
              <a:ext cx="20628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73868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53080" y="3152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0208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02080" y="3179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6235560" y="2406600"/>
            <a:ext cx="425520" cy="920880"/>
            <a:chOff x="6235560" y="2406600"/>
            <a:chExt cx="425520" cy="920880"/>
          </a:xfrm>
        </p:grpSpPr>
        <p:sp>
          <p:nvSpPr>
            <p:cNvPr id="996" name=""/>
            <p:cNvSpPr/>
            <p:nvPr/>
          </p:nvSpPr>
          <p:spPr>
            <a:xfrm>
              <a:off x="6235560" y="2406600"/>
              <a:ext cx="425520" cy="920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37440" y="2593800"/>
              <a:ext cx="206280" cy="533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8656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00960" y="3152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249960" y="246060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49960" y="3179880"/>
              <a:ext cx="46080" cy="12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959360" y="2863800"/>
            <a:ext cx="863640" cy="25560"/>
            <a:chOff x="4959360" y="2863800"/>
            <a:chExt cx="863640" cy="25560"/>
          </a:xfrm>
        </p:grpSpPr>
        <p:sp>
          <p:nvSpPr>
            <p:cNvPr id="1003" name=""/>
            <p:cNvSpPr/>
            <p:nvPr/>
          </p:nvSpPr>
          <p:spPr>
            <a:xfrm>
              <a:off x="4959360" y="2863800"/>
              <a:ext cx="63360" cy="25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87960" y="2863800"/>
              <a:ext cx="63360" cy="25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73800" y="2863800"/>
              <a:ext cx="63360" cy="25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59280" y="2863800"/>
              <a:ext cx="63720" cy="25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3797280" y="2235240"/>
            <a:ext cx="2959200" cy="1225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269240" y="1776240"/>
            <a:ext cx="203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05320" y="3319560"/>
            <a:ext cx="180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proces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49000" y="759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bjectiv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82760" y="1409400"/>
            <a:ext cx="8439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Learn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and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Share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Recent advances in cluster computing (both in research and commercial settings)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chitectur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ing Environment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uster Computing Infoware: (tutorial online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124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buyya.com/cluster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v1" descr=""/>
          <p:cNvPicPr/>
          <p:nvPr/>
        </p:nvPicPr>
        <p:blipFill>
          <a:blip r:embed="rId1"/>
          <a:stretch/>
        </p:blipFill>
        <p:spPr>
          <a:xfrm>
            <a:off x="7450200" y="2590920"/>
            <a:ext cx="161748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v2" descr=""/>
          <p:cNvPicPr/>
          <p:nvPr/>
        </p:nvPicPr>
        <p:blipFill>
          <a:blip r:embed="rId2"/>
          <a:stretch/>
        </p:blipFill>
        <p:spPr>
          <a:xfrm>
            <a:off x="7467480" y="4724280"/>
            <a:ext cx="16146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6480" y="520560"/>
            <a:ext cx="9118440" cy="6318360"/>
          </a:xfrm>
          <a:custGeom>
            <a:avLst/>
            <a:gdLst>
              <a:gd name="textAreaLeft" fmla="*/ 2081520 w 9118440"/>
              <a:gd name="textAreaRight" fmla="*/ 7036920 w 9118440"/>
              <a:gd name="textAreaTop" fmla="*/ 1442160 h 6318360"/>
              <a:gd name="textAreaBottom" fmla="*/ 4876200 h 631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1886040" y="3772080"/>
          <a:ext cx="31752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3772080"/>
                    <a:ext cx="31752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"/>
          <p:cNvGraphicFramePr/>
          <p:nvPr/>
        </p:nvGraphicFramePr>
        <p:xfrm>
          <a:off x="2400480" y="3600360"/>
          <a:ext cx="41724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0480" y="3600360"/>
                    <a:ext cx="4172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"/>
          <p:cNvSpPr/>
          <p:nvPr/>
        </p:nvSpPr>
        <p:spPr>
          <a:xfrm flipV="1">
            <a:off x="1714680" y="1631520"/>
            <a:ext cx="0" cy="4165560"/>
          </a:xfrm>
          <a:prstGeom prst="line">
            <a:avLst/>
          </a:prstGeom>
          <a:ln w="5076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11360" y="4819680"/>
            <a:ext cx="7683480" cy="0"/>
          </a:xfrm>
          <a:prstGeom prst="line">
            <a:avLst/>
          </a:prstGeom>
          <a:ln w="50760">
            <a:solidFill>
              <a:srgbClr val="71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32880" y="5286240"/>
            <a:ext cx="86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rot="16200000">
            <a:off x="669240" y="3341520"/>
            <a:ext cx="153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852560" y="4843440"/>
            <a:ext cx="658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Times New Roman"/>
              </a:rPr>
              <a:t>5     10    15   20   25    30     35     40       45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. . . 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2967120" y="3429000"/>
          <a:ext cx="385560" cy="13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67120" y="3429000"/>
                    <a:ext cx="3855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2" name=""/>
          <p:cNvGraphicFramePr/>
          <p:nvPr/>
        </p:nvGraphicFramePr>
        <p:xfrm>
          <a:off x="3505320" y="3105000"/>
          <a:ext cx="419040" cy="175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05000"/>
                    <a:ext cx="41904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4" name=""/>
          <p:cNvGraphicFramePr/>
          <p:nvPr/>
        </p:nvGraphicFramePr>
        <p:xfrm>
          <a:off x="4114800" y="3048120"/>
          <a:ext cx="419040" cy="175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3048120"/>
                    <a:ext cx="41904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"/>
          <p:cNvGraphicFramePr/>
          <p:nvPr/>
        </p:nvGraphicFramePr>
        <p:xfrm>
          <a:off x="4648320" y="3048120"/>
          <a:ext cx="628560" cy="175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8320" y="3048120"/>
                    <a:ext cx="62856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5295960" y="3067200"/>
          <a:ext cx="685800" cy="1753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95960" y="3067200"/>
                    <a:ext cx="685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5962680" y="3067200"/>
          <a:ext cx="857160" cy="17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62680" y="3067200"/>
                    <a:ext cx="85716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6743880" y="3086280"/>
          <a:ext cx="1028520" cy="1753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43880" y="3086280"/>
                    <a:ext cx="102852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349000" y="228240"/>
            <a:ext cx="6782040" cy="36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Human Physical Growth Analogy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mputational Power Improvement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35" name=""/>
          <p:cNvSpPr/>
          <p:nvPr/>
        </p:nvSpPr>
        <p:spPr>
          <a:xfrm>
            <a:off x="2079360" y="2298600"/>
            <a:ext cx="1057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Ver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12320" y="2306520"/>
            <a:ext cx="158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073320" y="2498760"/>
            <a:ext cx="425520" cy="0"/>
          </a:xfrm>
          <a:prstGeom prst="line">
            <a:avLst/>
          </a:prstGeom>
          <a:ln w="12600">
            <a:solidFill>
              <a:srgbClr val="71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726920" y="2479680"/>
            <a:ext cx="431640" cy="0"/>
          </a:xfrm>
          <a:prstGeom prst="line">
            <a:avLst/>
          </a:prstGeom>
          <a:ln w="12600">
            <a:solidFill>
              <a:srgbClr val="71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498840" y="2495520"/>
            <a:ext cx="1155600" cy="0"/>
          </a:xfrm>
          <a:prstGeom prst="line">
            <a:avLst/>
          </a:prstGeom>
          <a:ln w="12600">
            <a:solidFill>
              <a:srgbClr val="71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216480" y="2514600"/>
            <a:ext cx="1320840" cy="0"/>
          </a:xfrm>
          <a:prstGeom prst="line">
            <a:avLst/>
          </a:prstGeom>
          <a:ln w="12600">
            <a:solidFill>
              <a:srgbClr val="714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-360" y="1752120"/>
            <a:ext cx="84027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85800" indent="-685800" algn="just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The Tech. of PP is mature and can be exploited commercially; </a:t>
            </a: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significant </a:t>
            </a:r>
            <a:br>
              <a:rPr sz="3600"/>
            </a:br>
            <a:r>
              <a:rPr b="1" lang="en-US" sz="3600" spc="-1" strike="noStrike" u="sng">
                <a:solidFill>
                  <a:srgbClr val="51dc00"/>
                </a:solidFill>
                <a:uFillTx/>
                <a:latin typeface="Times New Roman"/>
              </a:rPr>
              <a:t>R &amp; D</a:t>
            </a: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ork on development of tools &amp; environment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  <a:p>
            <a:pPr marL="685800" indent="-685800" algn="just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Clr>
                <a:srgbClr val="fc0128"/>
              </a:buClr>
              <a:buSzPct val="75000"/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Significant development in </a:t>
            </a:r>
            <a:r>
              <a:rPr b="1" lang="en-US" sz="3600" spc="-1" strike="noStrike" u="sng">
                <a:solidFill>
                  <a:srgbClr val="51dc00"/>
                </a:solidFill>
                <a:uFillTx/>
                <a:latin typeface="Times New Roman"/>
              </a:rPr>
              <a:t>Networking</a:t>
            </a:r>
            <a:r>
              <a:rPr b="1" lang="en-US" sz="3600" spc="-1" strike="noStrike">
                <a:solidFill>
                  <a:srgbClr val="51dc00"/>
                </a:solidFill>
                <a:latin typeface="Times New Roman"/>
              </a:rPr>
              <a:t> technology is paving a way for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heterogeneous 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computing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177336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y Parallel Processing NOW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istory of Parallel Process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44" name=""/>
          <p:cNvSpPr/>
          <p:nvPr/>
        </p:nvSpPr>
        <p:spPr>
          <a:xfrm>
            <a:off x="343080" y="2266920"/>
            <a:ext cx="855468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1800"/>
              </a:spcBef>
              <a:buClr>
                <a:srgbClr val="fc0128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P can be traced to a tablet dated around 100 B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371600" indent="-514440" algn="just">
              <a:lnSpc>
                <a:spcPct val="90000"/>
              </a:lnSpc>
              <a:spcBef>
                <a:spcPts val="14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Tablet has 3 calculating pos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371600" indent="-514440" algn="just">
              <a:lnSpc>
                <a:spcPct val="90000"/>
              </a:lnSpc>
              <a:spcBef>
                <a:spcPts val="1400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Infer that multiple posi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2343240" indent="-45720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Reliability/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5" name=""/>
          <p:cNvGraphicFramePr/>
          <p:nvPr/>
        </p:nvGraphicFramePr>
        <p:xfrm>
          <a:off x="6075360" y="1128600"/>
          <a:ext cx="290340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5360" y="1128600"/>
                    <a:ext cx="290340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7967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 algn="just">
              <a:lnSpc>
                <a:spcPct val="90000"/>
              </a:lnSpc>
              <a:spcBef>
                <a:spcPts val="1349"/>
              </a:spcBef>
              <a:buClr>
                <a:srgbClr val="fc0128"/>
              </a:buClr>
              <a:buSzPct val="75000"/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Aggregated speed with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ich complex calculations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arried out by millions of neurons in human brain is amazing! although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ndividual neurons response is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slow (milli sec.) - demonstrate the feasibility of PP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otivating Facto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 algn="just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Simple classification by Flynn: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571680" indent="0" algn="just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No. of instruction and data stream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1028880" indent="-3430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CommonBullet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SIS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 - conven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3430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CommonBullet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SIM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- data parallel, vector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3430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CommonBullet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MIS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- systolic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343080" algn="just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CommonBullets" charset="2"/>
              <a:buChar char="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MIM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very general, multiple approa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 algn="just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urrent focus is on MIMD model, using general purpose processors or multicomputers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5716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title"/>
          </p:nvPr>
        </p:nvSpPr>
        <p:spPr>
          <a:xfrm>
            <a:off x="2325240" y="1872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axonomy of Architectur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in HPC Architectures..1a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SIS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mainframes, workstations, PCs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MD Shared Memory - Vector machines, Cray..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MIMD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Shared Memory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Sequent, KSR, Tera, SGI, SUN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SIMD Distributed Memory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DAP, TMC CM-2..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Century Gothic"/>
              </a:rPr>
              <a:t>MIMD Distributed Memory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- Cray T3D, Intel, Transputers, TMC CM-5, plus recent workstation  clusters (IBM SP2, DEC, Sun, HP)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otivation for using Clus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The communications bandwidth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between workstations is increasing as new networking technologies and protocols are implemented in LANs and WANs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Workstation clusters are easier to integrat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into existing networks than special parallel computers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in HPC Architectures..1b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Century Gothic"/>
              </a:rPr>
              <a:t>NOTE: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 Modern sequential machines are not purely SISD - advanced RISC processors use  many concepts from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ctor and parallel architectures  (pipelining, parallel execution of instructions, prefetching  of data, etc) in order to achieve one or more arithmetic  operations per clock cyc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allel Processing Paradox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ime required to develop a parallel application for solving GCA is equal to: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 Life of Parallel Supercompu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e Need for Alternative Supercomputing Resour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Vast numbers of under utilised workstations available to use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uge numbers of unused processor cycles and resources  that could be put to good use in a wide variety of applications areas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Reluctance to buy Supercomputer due to their cost and short life span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istributed compute resources “fit” better into today's funding model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genda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Overview of Computing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otivations &amp; Enabling Technologi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 Architecture &amp; its Component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s Classificat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 Middlewar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ingle System Imag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epresentative Cluster System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-2656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Resources and Conclusion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5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940440" y="6480"/>
            <a:ext cx="1968480" cy="2501640"/>
            <a:chOff x="6940440" y="6480"/>
            <a:chExt cx="1968480" cy="2501640"/>
          </a:xfrm>
        </p:grpSpPr>
        <p:sp>
          <p:nvSpPr>
            <p:cNvPr id="181" name=""/>
            <p:cNvSpPr/>
            <p:nvPr/>
          </p:nvSpPr>
          <p:spPr>
            <a:xfrm>
              <a:off x="6940440" y="6480"/>
              <a:ext cx="1968480" cy="25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6986520" y="123840"/>
            <a:ext cx="1868400" cy="22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6520" y="123840"/>
                      <a:ext cx="186840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echnology Trend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1068480" y="1487520"/>
            <a:ext cx="7323120" cy="5370120"/>
            <a:chOff x="1068480" y="1487520"/>
            <a:chExt cx="7323120" cy="5370120"/>
          </a:xfrm>
        </p:grpSpPr>
        <p:pic>
          <p:nvPicPr>
            <p:cNvPr id="1063" name="cpuPerf" descr=""/>
            <p:cNvPicPr/>
            <p:nvPr/>
          </p:nvPicPr>
          <p:blipFill>
            <a:blip r:embed="rId1"/>
            <a:stretch/>
          </p:blipFill>
          <p:spPr>
            <a:xfrm>
              <a:off x="1068480" y="1487520"/>
              <a:ext cx="7323120" cy="53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 flipV="1">
              <a:off x="7238880" y="1600200"/>
              <a:ext cx="1067040" cy="7632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7315200" y="1752480"/>
              <a:ext cx="990720" cy="8398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calable Parallel Compu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838080" y="1185840"/>
          <a:ext cx="7925040" cy="56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85840"/>
                    <a:ext cx="792504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sign Space of Competing Computer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380880" y="1676520"/>
          <a:ext cx="82296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229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owards Inexpensive Supercomput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It is: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entury Gothic"/>
              </a:rPr>
              <a:t>Cluster Computing..</a:t>
            </a:r>
            <a:endParaRPr b="1" lang="en-US" sz="6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The Commodity Supercomputing!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afd00"/>
                </a:solidFill>
                <a:latin typeface="Century Gothic"/>
              </a:rPr>
              <a:t>Cluster Computing - Research Projects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023480" y="1523520"/>
            <a:ext cx="7967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Beowulf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(CalTech and NASA) - US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CCS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Computing Centre Software) - Paderborn, Germany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Condor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Wisconsin State University, USA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DQS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Distributed Queuing System) - Florida State University, US.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EASY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Argonne National Lab, US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HPVM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-(High Performance Virtual Machine),UIUC&amp;now UCSB,US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i="1" lang="en-US" sz="1900" spc="-1" strike="noStrike">
                <a:solidFill>
                  <a:srgbClr val="66ff66"/>
                </a:solidFill>
                <a:latin typeface="Century Gothic"/>
              </a:rPr>
              <a:t>far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University of Liverpool, UK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Gardens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- Queensland University of Technology, Australi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MOSIX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- Hebrew University of Jerusalem, Israel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MPI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MPI Forum, MPICH is one of the popular implementations)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NOW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Network of Workstations) - Berkeley, USA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NIMROD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Monash University, Australia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NetSolve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- University of Tennessee, US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PBS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 (Portable Batch System) - NASA Ames and LLNL, USA 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34360" indent="-23436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66"/>
                </a:solidFill>
                <a:latin typeface="Century Gothic"/>
              </a:rPr>
              <a:t>PVM </a:t>
            </a: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- Oak Ridge National Lab./UTK/Emory, USA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76" name=""/>
          <p:cNvSpPr/>
          <p:nvPr/>
        </p:nvSpPr>
        <p:spPr>
          <a:xfrm>
            <a:off x="1395360" y="1465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afd00"/>
                </a:solidFill>
                <a:latin typeface="Century Gothic"/>
              </a:rPr>
              <a:t>Cluster Computing - Commercial Software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Codine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Computing in Distributed Network Environment) - GENIAS GmbH, Germany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LoadLeveler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- IBM Corp., USA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LSF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Load Sharing Facility) - Platform Computing, Canada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NQE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Network Queuing Environment) - Craysoft Corp., USA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OpenFrame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- Centre for Development of Advanced Computing, India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RWPC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Real World Computing Partnership), Japa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Unixware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SCO-Santa Cruz Operations,), USA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Solaris-MC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 (Sun Microsystems), USA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Century Gothic"/>
              </a:rPr>
              <a:t>ClusterTools 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(A number for free HPC clusters tools from Sun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A number of commercial vendors worldwide are offering clustering solutions including IBM, Compaq, Microsoft, a number of startups like TurboLinux, HPTI, Scali, BlackStone…..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otivation for using Clus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Surveys show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utilisation of CPU cycle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of </a:t>
            </a:r>
            <a:r>
              <a:rPr b="1" lang="en-US" sz="2800" spc="-1" strike="noStrike">
                <a:solidFill>
                  <a:srgbClr val="99ccff"/>
                </a:solidFill>
                <a:latin typeface="Century Gothic"/>
              </a:rPr>
              <a:t>desktop workstations is typically  &lt;10%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Performance of workstation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and PCs is rapidly improving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s performance grows,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Century Gothic"/>
              </a:rPr>
              <a:t>percent utilisation will decrease even further</a:t>
            </a:r>
            <a:r>
              <a:rPr b="1" lang="en-US" sz="2800" spc="-1" strike="noStrike">
                <a:solidFill>
                  <a:srgbClr val="99ccff"/>
                </a:solidFill>
                <a:latin typeface="Century Gothic"/>
              </a:rPr>
              <a:t>!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Organisations are reluctant to buy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large supercomputers, due to the large expense and short useful life span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otivation for using Clust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The development tool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for workstations are more mature than the contrasting proprietary solutions for parallel computers - mainly due to the non-standard nature of many parallel systems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Workstation clusters are a cheap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and readily available alternative to specialised High Performance Computing (HPC) platforms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Use of clusters of workstations as a distributed compute resource is very cost effective - incremental growth of system!!!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ycle Stealing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Usually a workstation will be </a:t>
            </a:r>
            <a:r>
              <a:rPr b="1" i="1" lang="en-US" sz="2800" spc="-1" strike="noStrike" u="sng">
                <a:solidFill>
                  <a:srgbClr val="66ff66"/>
                </a:solidFill>
                <a:uFillTx/>
                <a:latin typeface="Century Gothic"/>
              </a:rPr>
              <a:t>owned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 by an individual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, group, department, or organisation - they are dedicated to the exclusive use by the </a:t>
            </a:r>
            <a:r>
              <a:rPr b="1" i="1" lang="en-US" sz="2800" spc="-1" strike="noStrike">
                <a:solidFill>
                  <a:srgbClr val="66ff66"/>
                </a:solidFill>
                <a:latin typeface="Century Gothic"/>
              </a:rPr>
              <a:t>owner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This brings problems when attempting to form a cluster of workstations for running distributed applications.</a:t>
            </a: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ycle Steal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Typically, there are three types of owners, who use their workstations mostly for: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. Sending and receiving emai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and preparing document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Software developmen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- edit, compile, debug and test cycle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Running compute-intensiv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application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677960" y="4192560"/>
            <a:ext cx="4664160" cy="1636920"/>
            <a:chOff x="1677960" y="4192560"/>
            <a:chExt cx="4664160" cy="1636920"/>
          </a:xfrm>
        </p:grpSpPr>
        <p:sp>
          <p:nvSpPr>
            <p:cNvPr id="185" name=""/>
            <p:cNvSpPr/>
            <p:nvPr/>
          </p:nvSpPr>
          <p:spPr>
            <a:xfrm>
              <a:off x="1682640" y="5024520"/>
              <a:ext cx="4624560" cy="8049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19160" y="5477040"/>
              <a:ext cx="22068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8120" y="5477040"/>
              <a:ext cx="22356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78240" y="5477040"/>
              <a:ext cx="22356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48240" y="5477040"/>
              <a:ext cx="22212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5720" y="5477040"/>
              <a:ext cx="22212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14920" y="5477040"/>
              <a:ext cx="220680" cy="264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978440" y="5178600"/>
              <a:ext cx="336600" cy="637560"/>
              <a:chOff x="4978440" y="5178600"/>
              <a:chExt cx="336600" cy="637560"/>
            </a:xfrm>
          </p:grpSpPr>
          <p:sp>
            <p:nvSpPr>
              <p:cNvPr id="193" name=""/>
              <p:cNvSpPr/>
              <p:nvPr/>
            </p:nvSpPr>
            <p:spPr>
              <a:xfrm>
                <a:off x="4978440" y="5178600"/>
                <a:ext cx="260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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054760" y="5178600"/>
                <a:ext cx="2602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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11560" y="4592520"/>
              <a:ext cx="3601800" cy="41904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Microkern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77960" y="5072040"/>
              <a:ext cx="4664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Processor Computing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97080" y="4192560"/>
              <a:ext cx="1962360" cy="38268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Times New Roman"/>
                </a:rPr>
                <a:t>Threads Interf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783480" y="5319720"/>
            <a:ext cx="1827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7200" y="4603680"/>
            <a:ext cx="239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Operat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82640" y="5987880"/>
            <a:ext cx="5222880" cy="515880"/>
            <a:chOff x="1682640" y="5987880"/>
            <a:chExt cx="5222880" cy="515880"/>
          </a:xfrm>
        </p:grpSpPr>
        <p:sp>
          <p:nvSpPr>
            <p:cNvPr id="201" name=""/>
            <p:cNvSpPr/>
            <p:nvPr/>
          </p:nvSpPr>
          <p:spPr>
            <a:xfrm>
              <a:off x="5235480" y="6135840"/>
              <a:ext cx="1670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682640" y="5987880"/>
              <a:ext cx="3479760" cy="515880"/>
              <a:chOff x="1682640" y="5987880"/>
              <a:chExt cx="3479760" cy="515880"/>
            </a:xfrm>
          </p:grpSpPr>
          <p:sp>
            <p:nvSpPr>
              <p:cNvPr id="203" name=""/>
              <p:cNvSpPr/>
              <p:nvPr/>
            </p:nvSpPr>
            <p:spPr>
              <a:xfrm>
                <a:off x="4940280" y="6132600"/>
                <a:ext cx="222120" cy="230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  <a:effectLst>
                <a:outerShdw dist="17819" dir="2700000" blurRad="0" rotWithShape="0">
                  <a:srgbClr val="0000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22480" y="6132600"/>
                <a:ext cx="1911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rocess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02000" y="6058080"/>
                <a:ext cx="119160" cy="280800"/>
              </a:xfrm>
              <a:custGeom>
                <a:avLst/>
                <a:gdLst/>
                <a:ahLst/>
                <a:rect l="l" t="t" r="r" b="b"/>
                <a:pathLst>
                  <a:path w="75" h="177">
                    <a:moveTo>
                      <a:pt x="49" y="0"/>
                    </a:moveTo>
                    <a:lnTo>
                      <a:pt x="41" y="17"/>
                    </a:lnTo>
                    <a:lnTo>
                      <a:pt x="16" y="21"/>
                    </a:lnTo>
                    <a:lnTo>
                      <a:pt x="0" y="34"/>
                    </a:lnTo>
                    <a:lnTo>
                      <a:pt x="0" y="47"/>
                    </a:lnTo>
                    <a:lnTo>
                      <a:pt x="25" y="56"/>
                    </a:lnTo>
                    <a:lnTo>
                      <a:pt x="49" y="60"/>
                    </a:lnTo>
                    <a:lnTo>
                      <a:pt x="66" y="73"/>
                    </a:lnTo>
                    <a:lnTo>
                      <a:pt x="74" y="86"/>
                    </a:lnTo>
                    <a:lnTo>
                      <a:pt x="66" y="99"/>
                    </a:lnTo>
                    <a:lnTo>
                      <a:pt x="41" y="107"/>
                    </a:lnTo>
                    <a:lnTo>
                      <a:pt x="16" y="116"/>
                    </a:lnTo>
                    <a:lnTo>
                      <a:pt x="8" y="129"/>
                    </a:lnTo>
                    <a:lnTo>
                      <a:pt x="0" y="142"/>
                    </a:lnTo>
                    <a:lnTo>
                      <a:pt x="0" y="155"/>
                    </a:lnTo>
                    <a:lnTo>
                      <a:pt x="25" y="163"/>
                    </a:lnTo>
                    <a:lnTo>
                      <a:pt x="49" y="167"/>
                    </a:lnTo>
                    <a:lnTo>
                      <a:pt x="74" y="1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54280" y="6140520"/>
                <a:ext cx="1141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hrea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82640" y="5987880"/>
                <a:ext cx="314280" cy="463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fc012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1739880" y="1854360"/>
            <a:ext cx="4613400" cy="123012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8480" y="2044800"/>
            <a:ext cx="776160" cy="86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68720" y="2044800"/>
            <a:ext cx="1235160" cy="8953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2760" y="2602080"/>
            <a:ext cx="225360" cy="225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357280" y="2158920"/>
            <a:ext cx="79560" cy="430200"/>
            <a:chOff x="2357280" y="2158920"/>
            <a:chExt cx="79560" cy="430200"/>
          </a:xfrm>
        </p:grpSpPr>
        <p:sp>
          <p:nvSpPr>
            <p:cNvPr id="213" name=""/>
            <p:cNvSpPr/>
            <p:nvPr/>
          </p:nvSpPr>
          <p:spPr>
            <a:xfrm>
              <a:off x="2395440" y="2363760"/>
              <a:ext cx="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57280" y="2158920"/>
              <a:ext cx="79560" cy="16056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33" y="0"/>
                  </a:moveTo>
                  <a:lnTo>
                    <a:pt x="27" y="10"/>
                  </a:lnTo>
                  <a:lnTo>
                    <a:pt x="11" y="12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6" y="32"/>
                  </a:lnTo>
                  <a:lnTo>
                    <a:pt x="33" y="34"/>
                  </a:lnTo>
                  <a:lnTo>
                    <a:pt x="44" y="41"/>
                  </a:lnTo>
                  <a:lnTo>
                    <a:pt x="49" y="49"/>
                  </a:lnTo>
                  <a:lnTo>
                    <a:pt x="44" y="56"/>
                  </a:lnTo>
                  <a:lnTo>
                    <a:pt x="27" y="61"/>
                  </a:lnTo>
                  <a:lnTo>
                    <a:pt x="11" y="66"/>
                  </a:lnTo>
                  <a:lnTo>
                    <a:pt x="5" y="73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6" y="93"/>
                  </a:lnTo>
                  <a:lnTo>
                    <a:pt x="33" y="95"/>
                  </a:lnTo>
                  <a:lnTo>
                    <a:pt x="49" y="10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033800" y="2631960"/>
            <a:ext cx="22212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45040" y="2394000"/>
            <a:ext cx="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05440" y="2189160"/>
            <a:ext cx="79200" cy="160200"/>
          </a:xfrm>
          <a:custGeom>
            <a:avLst/>
            <a:gdLst/>
            <a:ahLst/>
            <a:rect l="l" t="t" r="r" b="b"/>
            <a:pathLst>
              <a:path w="50" h="101">
                <a:moveTo>
                  <a:pt x="33" y="0"/>
                </a:moveTo>
                <a:lnTo>
                  <a:pt x="27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6" y="32"/>
                </a:lnTo>
                <a:lnTo>
                  <a:pt x="33" y="34"/>
                </a:lnTo>
                <a:lnTo>
                  <a:pt x="44" y="41"/>
                </a:lnTo>
                <a:lnTo>
                  <a:pt x="49" y="49"/>
                </a:lnTo>
                <a:lnTo>
                  <a:pt x="44" y="56"/>
                </a:lnTo>
                <a:lnTo>
                  <a:pt x="27" y="61"/>
                </a:lnTo>
                <a:lnTo>
                  <a:pt x="11" y="66"/>
                </a:lnTo>
                <a:lnTo>
                  <a:pt x="5" y="73"/>
                </a:lnTo>
                <a:lnTo>
                  <a:pt x="0" y="80"/>
                </a:lnTo>
                <a:lnTo>
                  <a:pt x="0" y="88"/>
                </a:lnTo>
                <a:lnTo>
                  <a:pt x="16" y="93"/>
                </a:lnTo>
                <a:lnTo>
                  <a:pt x="33" y="95"/>
                </a:lnTo>
                <a:lnTo>
                  <a:pt x="49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06680" y="2631960"/>
            <a:ext cx="22068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33840" y="2189160"/>
            <a:ext cx="81000" cy="160200"/>
          </a:xfrm>
          <a:custGeom>
            <a:avLst/>
            <a:gdLst/>
            <a:ahLst/>
            <a:rect l="l" t="t" r="r" b="b"/>
            <a:pathLst>
              <a:path w="51" h="101">
                <a:moveTo>
                  <a:pt x="33" y="0"/>
                </a:moveTo>
                <a:lnTo>
                  <a:pt x="28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7" y="32"/>
                </a:lnTo>
                <a:lnTo>
                  <a:pt x="33" y="34"/>
                </a:lnTo>
                <a:lnTo>
                  <a:pt x="44" y="41"/>
                </a:lnTo>
                <a:lnTo>
                  <a:pt x="50" y="49"/>
                </a:lnTo>
                <a:lnTo>
                  <a:pt x="44" y="56"/>
                </a:lnTo>
                <a:lnTo>
                  <a:pt x="28" y="61"/>
                </a:lnTo>
                <a:lnTo>
                  <a:pt x="11" y="66"/>
                </a:lnTo>
                <a:lnTo>
                  <a:pt x="6" y="73"/>
                </a:lnTo>
                <a:lnTo>
                  <a:pt x="0" y="80"/>
                </a:lnTo>
                <a:lnTo>
                  <a:pt x="0" y="88"/>
                </a:lnTo>
                <a:lnTo>
                  <a:pt x="17" y="93"/>
                </a:lnTo>
                <a:lnTo>
                  <a:pt x="33" y="95"/>
                </a:lnTo>
                <a:lnTo>
                  <a:pt x="50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19560" y="2189160"/>
            <a:ext cx="82440" cy="160200"/>
          </a:xfrm>
          <a:custGeom>
            <a:avLst/>
            <a:gdLst/>
            <a:ahLst/>
            <a:rect l="l" t="t" r="r" b="b"/>
            <a:pathLst>
              <a:path w="52" h="101">
                <a:moveTo>
                  <a:pt x="34" y="0"/>
                </a:moveTo>
                <a:lnTo>
                  <a:pt x="28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7" y="32"/>
                </a:lnTo>
                <a:lnTo>
                  <a:pt x="34" y="34"/>
                </a:lnTo>
                <a:lnTo>
                  <a:pt x="45" y="41"/>
                </a:lnTo>
                <a:lnTo>
                  <a:pt x="51" y="49"/>
                </a:lnTo>
                <a:lnTo>
                  <a:pt x="45" y="56"/>
                </a:lnTo>
                <a:lnTo>
                  <a:pt x="28" y="61"/>
                </a:lnTo>
                <a:lnTo>
                  <a:pt x="11" y="66"/>
                </a:lnTo>
                <a:lnTo>
                  <a:pt x="6" y="73"/>
                </a:lnTo>
                <a:lnTo>
                  <a:pt x="0" y="80"/>
                </a:lnTo>
                <a:lnTo>
                  <a:pt x="0" y="88"/>
                </a:lnTo>
                <a:lnTo>
                  <a:pt x="17" y="93"/>
                </a:lnTo>
                <a:lnTo>
                  <a:pt x="34" y="95"/>
                </a:lnTo>
                <a:lnTo>
                  <a:pt x="51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06680" y="2394000"/>
            <a:ext cx="651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49240" y="2394000"/>
            <a:ext cx="903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2305080"/>
            <a:ext cx="190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26160" y="2044800"/>
            <a:ext cx="1276200" cy="8953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1520" y="2189160"/>
            <a:ext cx="81000" cy="160200"/>
          </a:xfrm>
          <a:custGeom>
            <a:avLst/>
            <a:gdLst/>
            <a:ahLst/>
            <a:rect l="l" t="t" r="r" b="b"/>
            <a:pathLst>
              <a:path w="51" h="101">
                <a:moveTo>
                  <a:pt x="33" y="0"/>
                </a:moveTo>
                <a:lnTo>
                  <a:pt x="28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7" y="32"/>
                </a:lnTo>
                <a:lnTo>
                  <a:pt x="33" y="34"/>
                </a:lnTo>
                <a:lnTo>
                  <a:pt x="44" y="41"/>
                </a:lnTo>
                <a:lnTo>
                  <a:pt x="50" y="49"/>
                </a:lnTo>
                <a:lnTo>
                  <a:pt x="44" y="56"/>
                </a:lnTo>
                <a:lnTo>
                  <a:pt x="28" y="61"/>
                </a:lnTo>
                <a:lnTo>
                  <a:pt x="11" y="66"/>
                </a:lnTo>
                <a:lnTo>
                  <a:pt x="6" y="73"/>
                </a:lnTo>
                <a:lnTo>
                  <a:pt x="0" y="80"/>
                </a:lnTo>
                <a:lnTo>
                  <a:pt x="0" y="88"/>
                </a:lnTo>
                <a:lnTo>
                  <a:pt x="17" y="93"/>
                </a:lnTo>
                <a:lnTo>
                  <a:pt x="33" y="95"/>
                </a:lnTo>
                <a:lnTo>
                  <a:pt x="50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7240" y="2189160"/>
            <a:ext cx="81000" cy="160200"/>
          </a:xfrm>
          <a:custGeom>
            <a:avLst/>
            <a:gdLst/>
            <a:ahLst/>
            <a:rect l="l" t="t" r="r" b="b"/>
            <a:pathLst>
              <a:path w="51" h="101">
                <a:moveTo>
                  <a:pt x="33" y="0"/>
                </a:moveTo>
                <a:lnTo>
                  <a:pt x="28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7" y="32"/>
                </a:lnTo>
                <a:lnTo>
                  <a:pt x="33" y="34"/>
                </a:lnTo>
                <a:lnTo>
                  <a:pt x="44" y="41"/>
                </a:lnTo>
                <a:lnTo>
                  <a:pt x="50" y="49"/>
                </a:lnTo>
                <a:lnTo>
                  <a:pt x="44" y="56"/>
                </a:lnTo>
                <a:lnTo>
                  <a:pt x="28" y="61"/>
                </a:lnTo>
                <a:lnTo>
                  <a:pt x="11" y="66"/>
                </a:lnTo>
                <a:lnTo>
                  <a:pt x="6" y="73"/>
                </a:lnTo>
                <a:lnTo>
                  <a:pt x="0" y="80"/>
                </a:lnTo>
                <a:lnTo>
                  <a:pt x="0" y="88"/>
                </a:lnTo>
                <a:lnTo>
                  <a:pt x="17" y="93"/>
                </a:lnTo>
                <a:lnTo>
                  <a:pt x="33" y="95"/>
                </a:lnTo>
                <a:lnTo>
                  <a:pt x="50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22920" y="2394000"/>
            <a:ext cx="651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868720" y="2394000"/>
            <a:ext cx="8892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92560" y="2631960"/>
            <a:ext cx="22392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22960" y="2189160"/>
            <a:ext cx="77760" cy="160200"/>
          </a:xfrm>
          <a:custGeom>
            <a:avLst/>
            <a:gdLst/>
            <a:ahLst/>
            <a:rect l="l" t="t" r="r" b="b"/>
            <a:pathLst>
              <a:path w="49" h="101">
                <a:moveTo>
                  <a:pt x="32" y="0"/>
                </a:moveTo>
                <a:lnTo>
                  <a:pt x="27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6" y="32"/>
                </a:lnTo>
                <a:lnTo>
                  <a:pt x="32" y="34"/>
                </a:lnTo>
                <a:lnTo>
                  <a:pt x="43" y="41"/>
                </a:lnTo>
                <a:lnTo>
                  <a:pt x="48" y="49"/>
                </a:lnTo>
                <a:lnTo>
                  <a:pt x="43" y="56"/>
                </a:lnTo>
                <a:lnTo>
                  <a:pt x="27" y="61"/>
                </a:lnTo>
                <a:lnTo>
                  <a:pt x="11" y="66"/>
                </a:lnTo>
                <a:lnTo>
                  <a:pt x="5" y="73"/>
                </a:lnTo>
                <a:lnTo>
                  <a:pt x="0" y="80"/>
                </a:lnTo>
                <a:lnTo>
                  <a:pt x="0" y="88"/>
                </a:lnTo>
                <a:lnTo>
                  <a:pt x="16" y="93"/>
                </a:lnTo>
                <a:lnTo>
                  <a:pt x="32" y="95"/>
                </a:lnTo>
                <a:lnTo>
                  <a:pt x="48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10120" y="2189160"/>
            <a:ext cx="77760" cy="160200"/>
          </a:xfrm>
          <a:custGeom>
            <a:avLst/>
            <a:gdLst/>
            <a:ahLst/>
            <a:rect l="l" t="t" r="r" b="b"/>
            <a:pathLst>
              <a:path w="49" h="101">
                <a:moveTo>
                  <a:pt x="32" y="0"/>
                </a:moveTo>
                <a:lnTo>
                  <a:pt x="27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6" y="32"/>
                </a:lnTo>
                <a:lnTo>
                  <a:pt x="32" y="34"/>
                </a:lnTo>
                <a:lnTo>
                  <a:pt x="43" y="41"/>
                </a:lnTo>
                <a:lnTo>
                  <a:pt x="48" y="49"/>
                </a:lnTo>
                <a:lnTo>
                  <a:pt x="43" y="56"/>
                </a:lnTo>
                <a:lnTo>
                  <a:pt x="27" y="61"/>
                </a:lnTo>
                <a:lnTo>
                  <a:pt x="11" y="66"/>
                </a:lnTo>
                <a:lnTo>
                  <a:pt x="5" y="73"/>
                </a:lnTo>
                <a:lnTo>
                  <a:pt x="0" y="80"/>
                </a:lnTo>
                <a:lnTo>
                  <a:pt x="0" y="88"/>
                </a:lnTo>
                <a:lnTo>
                  <a:pt x="16" y="93"/>
                </a:lnTo>
                <a:lnTo>
                  <a:pt x="32" y="95"/>
                </a:lnTo>
                <a:lnTo>
                  <a:pt x="48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2560" y="2394000"/>
            <a:ext cx="6696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36920" y="2394000"/>
            <a:ext cx="91800" cy="22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65640" y="2189160"/>
            <a:ext cx="79560" cy="160200"/>
          </a:xfrm>
          <a:custGeom>
            <a:avLst/>
            <a:gdLst/>
            <a:ahLst/>
            <a:rect l="l" t="t" r="r" b="b"/>
            <a:pathLst>
              <a:path w="50" h="101">
                <a:moveTo>
                  <a:pt x="33" y="0"/>
                </a:moveTo>
                <a:lnTo>
                  <a:pt x="27" y="10"/>
                </a:lnTo>
                <a:lnTo>
                  <a:pt x="11" y="12"/>
                </a:lnTo>
                <a:lnTo>
                  <a:pt x="0" y="20"/>
                </a:lnTo>
                <a:lnTo>
                  <a:pt x="0" y="27"/>
                </a:lnTo>
                <a:lnTo>
                  <a:pt x="16" y="32"/>
                </a:lnTo>
                <a:lnTo>
                  <a:pt x="33" y="34"/>
                </a:lnTo>
                <a:lnTo>
                  <a:pt x="44" y="41"/>
                </a:lnTo>
                <a:lnTo>
                  <a:pt x="49" y="49"/>
                </a:lnTo>
                <a:lnTo>
                  <a:pt x="44" y="56"/>
                </a:lnTo>
                <a:lnTo>
                  <a:pt x="27" y="61"/>
                </a:lnTo>
                <a:lnTo>
                  <a:pt x="11" y="66"/>
                </a:lnTo>
                <a:lnTo>
                  <a:pt x="5" y="73"/>
                </a:lnTo>
                <a:lnTo>
                  <a:pt x="0" y="80"/>
                </a:lnTo>
                <a:lnTo>
                  <a:pt x="0" y="88"/>
                </a:lnTo>
                <a:lnTo>
                  <a:pt x="16" y="93"/>
                </a:lnTo>
                <a:lnTo>
                  <a:pt x="33" y="95"/>
                </a:lnTo>
                <a:lnTo>
                  <a:pt x="49" y="1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07080" y="2630520"/>
            <a:ext cx="223920" cy="2286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257560" y="311112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35240" y="3343320"/>
            <a:ext cx="109440" cy="201600"/>
          </a:xfrm>
          <a:custGeom>
            <a:avLst/>
            <a:gdLst/>
            <a:ahLst/>
            <a:rect l="l" t="t" r="r" b="b"/>
            <a:pathLst>
              <a:path w="69" h="127">
                <a:moveTo>
                  <a:pt x="45" y="126"/>
                </a:moveTo>
                <a:lnTo>
                  <a:pt x="38" y="114"/>
                </a:lnTo>
                <a:lnTo>
                  <a:pt x="15" y="111"/>
                </a:lnTo>
                <a:lnTo>
                  <a:pt x="0" y="101"/>
                </a:lnTo>
                <a:lnTo>
                  <a:pt x="0" y="92"/>
                </a:lnTo>
                <a:lnTo>
                  <a:pt x="23" y="86"/>
                </a:lnTo>
                <a:lnTo>
                  <a:pt x="45" y="83"/>
                </a:lnTo>
                <a:lnTo>
                  <a:pt x="60" y="74"/>
                </a:lnTo>
                <a:lnTo>
                  <a:pt x="68" y="65"/>
                </a:lnTo>
                <a:lnTo>
                  <a:pt x="60" y="55"/>
                </a:lnTo>
                <a:lnTo>
                  <a:pt x="38" y="49"/>
                </a:lnTo>
                <a:lnTo>
                  <a:pt x="15" y="43"/>
                </a:lnTo>
                <a:lnTo>
                  <a:pt x="8" y="34"/>
                </a:lnTo>
                <a:lnTo>
                  <a:pt x="0" y="25"/>
                </a:lnTo>
                <a:lnTo>
                  <a:pt x="0" y="15"/>
                </a:lnTo>
                <a:lnTo>
                  <a:pt x="23" y="9"/>
                </a:lnTo>
                <a:lnTo>
                  <a:pt x="45" y="6"/>
                </a:lnTo>
                <a:lnTo>
                  <a:pt x="6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798720" y="311112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60920" y="3305160"/>
            <a:ext cx="107640" cy="258840"/>
          </a:xfrm>
          <a:custGeom>
            <a:avLst/>
            <a:gdLst/>
            <a:ahLst/>
            <a:rect l="l" t="t" r="r" b="b"/>
            <a:pathLst>
              <a:path w="68" h="163">
                <a:moveTo>
                  <a:pt x="45" y="162"/>
                </a:moveTo>
                <a:lnTo>
                  <a:pt x="37" y="146"/>
                </a:lnTo>
                <a:lnTo>
                  <a:pt x="15" y="142"/>
                </a:lnTo>
                <a:lnTo>
                  <a:pt x="0" y="130"/>
                </a:lnTo>
                <a:lnTo>
                  <a:pt x="0" y="119"/>
                </a:lnTo>
                <a:lnTo>
                  <a:pt x="22" y="111"/>
                </a:lnTo>
                <a:lnTo>
                  <a:pt x="45" y="107"/>
                </a:lnTo>
                <a:lnTo>
                  <a:pt x="60" y="95"/>
                </a:lnTo>
                <a:lnTo>
                  <a:pt x="67" y="83"/>
                </a:lnTo>
                <a:lnTo>
                  <a:pt x="60" y="71"/>
                </a:lnTo>
                <a:lnTo>
                  <a:pt x="37" y="63"/>
                </a:lnTo>
                <a:lnTo>
                  <a:pt x="15" y="55"/>
                </a:lnTo>
                <a:lnTo>
                  <a:pt x="7" y="43"/>
                </a:lnTo>
                <a:lnTo>
                  <a:pt x="0" y="32"/>
                </a:lnTo>
                <a:lnTo>
                  <a:pt x="0" y="20"/>
                </a:lnTo>
                <a:lnTo>
                  <a:pt x="22" y="12"/>
                </a:lnTo>
                <a:lnTo>
                  <a:pt x="45" y="8"/>
                </a:lnTo>
                <a:lnTo>
                  <a:pt x="67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253120" y="3098880"/>
            <a:ext cx="0" cy="172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3520" y="3290760"/>
            <a:ext cx="141120" cy="273240"/>
          </a:xfrm>
          <a:custGeom>
            <a:avLst/>
            <a:gdLst/>
            <a:ahLst/>
            <a:rect l="l" t="t" r="r" b="b"/>
            <a:pathLst>
              <a:path w="89" h="172">
                <a:moveTo>
                  <a:pt x="59" y="171"/>
                </a:moveTo>
                <a:lnTo>
                  <a:pt x="49" y="154"/>
                </a:lnTo>
                <a:lnTo>
                  <a:pt x="20" y="150"/>
                </a:lnTo>
                <a:lnTo>
                  <a:pt x="0" y="138"/>
                </a:lnTo>
                <a:lnTo>
                  <a:pt x="0" y="125"/>
                </a:lnTo>
                <a:lnTo>
                  <a:pt x="29" y="117"/>
                </a:lnTo>
                <a:lnTo>
                  <a:pt x="59" y="113"/>
                </a:lnTo>
                <a:lnTo>
                  <a:pt x="78" y="100"/>
                </a:lnTo>
                <a:lnTo>
                  <a:pt x="88" y="88"/>
                </a:lnTo>
                <a:lnTo>
                  <a:pt x="78" y="75"/>
                </a:lnTo>
                <a:lnTo>
                  <a:pt x="49" y="67"/>
                </a:lnTo>
                <a:lnTo>
                  <a:pt x="20" y="58"/>
                </a:lnTo>
                <a:lnTo>
                  <a:pt x="10" y="46"/>
                </a:lnTo>
                <a:lnTo>
                  <a:pt x="0" y="33"/>
                </a:lnTo>
                <a:lnTo>
                  <a:pt x="0" y="21"/>
                </a:lnTo>
                <a:lnTo>
                  <a:pt x="29" y="13"/>
                </a:lnTo>
                <a:lnTo>
                  <a:pt x="59" y="8"/>
                </a:lnTo>
                <a:lnTo>
                  <a:pt x="8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79520" y="3587760"/>
            <a:ext cx="2982960" cy="587520"/>
            <a:chOff x="2279520" y="3587760"/>
            <a:chExt cx="2982960" cy="587520"/>
          </a:xfrm>
        </p:grpSpPr>
        <p:sp>
          <p:nvSpPr>
            <p:cNvPr id="243" name=""/>
            <p:cNvSpPr/>
            <p:nvPr/>
          </p:nvSpPr>
          <p:spPr>
            <a:xfrm>
              <a:off x="2279520" y="3587760"/>
              <a:ext cx="1808280" cy="58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33640" y="3610080"/>
              <a:ext cx="249480" cy="5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083120" y="3587760"/>
              <a:ext cx="1179360" cy="58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25240" y="13320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mputing Elem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7" name=""/>
          <p:cNvSpPr/>
          <p:nvPr/>
        </p:nvSpPr>
        <p:spPr>
          <a:xfrm>
            <a:off x="5697360" y="3738600"/>
            <a:ext cx="3254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gramming Paradig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ycle Steal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0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luster computing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aims to steal spare cycle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from (1) and (2) to provide resources for (3)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However, this requires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overcoming the </a:t>
            </a:r>
            <a:r>
              <a:rPr b="1" i="1" lang="en-US" sz="2800" spc="-1" strike="noStrike" u="sng">
                <a:solidFill>
                  <a:srgbClr val="99ccff"/>
                </a:solidFill>
                <a:uFillTx/>
                <a:latin typeface="Century Gothic"/>
              </a:rPr>
              <a:t>ownership hurdl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- people are very protective of </a:t>
            </a:r>
            <a:r>
              <a:rPr b="1" i="1" lang="en-US" sz="2800" spc="-1" strike="noStrike">
                <a:solidFill>
                  <a:srgbClr val="99ccff"/>
                </a:solidFill>
                <a:latin typeface="Century Gothic"/>
              </a:rPr>
              <a:t>their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workstations.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59920" indent="-25992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Usually requires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organisational mandat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that computers are to be used in this way.</a:t>
            </a: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  <a:p>
            <a:pPr marL="259920" indent="-25992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tealing cycles outside standard work hour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(e.g. overnight) is easy, stealing idle cycles during work hours without impacting interactive use (both CPU and memory) is much harder</a:t>
            </a:r>
            <a:r>
              <a:rPr b="1" lang="en-US" sz="2200" spc="-1" strike="noStrike">
                <a:solidFill>
                  <a:srgbClr val="fafd00"/>
                </a:solidFill>
                <a:latin typeface="Century Gothic"/>
              </a:rPr>
              <a:t>.</a:t>
            </a:r>
            <a:endParaRPr b="1" lang="en-US" sz="2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ise &amp; Fall of Computing Technologi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101880" y="2643120"/>
            <a:ext cx="4190040" cy="1980720"/>
            <a:chOff x="101880" y="2643120"/>
            <a:chExt cx="4190040" cy="1980720"/>
          </a:xfrm>
        </p:grpSpPr>
        <p:sp>
          <p:nvSpPr>
            <p:cNvPr id="1091" name=""/>
            <p:cNvSpPr/>
            <p:nvPr/>
          </p:nvSpPr>
          <p:spPr>
            <a:xfrm>
              <a:off x="101880" y="2693880"/>
              <a:ext cx="208224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a3f2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0800000">
              <a:off x="2209680" y="2643120"/>
              <a:ext cx="208224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a3f2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2414520" y="2643120"/>
            <a:ext cx="4190760" cy="1980720"/>
            <a:chOff x="2414520" y="2643120"/>
            <a:chExt cx="4190760" cy="1980720"/>
          </a:xfrm>
        </p:grpSpPr>
        <p:sp>
          <p:nvSpPr>
            <p:cNvPr id="1094" name=""/>
            <p:cNvSpPr/>
            <p:nvPr/>
          </p:nvSpPr>
          <p:spPr>
            <a:xfrm rot="10800000">
              <a:off x="2414520" y="264312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522680" y="269388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4597560" y="2643120"/>
            <a:ext cx="4190040" cy="1980720"/>
            <a:chOff x="4597560" y="2643120"/>
            <a:chExt cx="4190040" cy="1980720"/>
          </a:xfrm>
        </p:grpSpPr>
        <p:sp>
          <p:nvSpPr>
            <p:cNvPr id="1097" name=""/>
            <p:cNvSpPr/>
            <p:nvPr/>
          </p:nvSpPr>
          <p:spPr>
            <a:xfrm>
              <a:off x="4597560" y="2693880"/>
              <a:ext cx="208224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c8fe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0800000">
              <a:off x="6706080" y="2643120"/>
              <a:ext cx="208152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c8fec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520" y="2643120"/>
            <a:ext cx="4190760" cy="1980720"/>
            <a:chOff x="128520" y="2643120"/>
            <a:chExt cx="4190760" cy="1980720"/>
          </a:xfrm>
        </p:grpSpPr>
        <p:sp>
          <p:nvSpPr>
            <p:cNvPr id="1100" name=""/>
            <p:cNvSpPr/>
            <p:nvPr/>
          </p:nvSpPr>
          <p:spPr>
            <a:xfrm rot="10800000">
              <a:off x="128520" y="264312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36680" y="269388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79001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311560" y="2643120"/>
            <a:ext cx="4190040" cy="1980720"/>
            <a:chOff x="2311560" y="2643120"/>
            <a:chExt cx="4190040" cy="1980720"/>
          </a:xfrm>
        </p:grpSpPr>
        <p:sp>
          <p:nvSpPr>
            <p:cNvPr id="1103" name=""/>
            <p:cNvSpPr/>
            <p:nvPr/>
          </p:nvSpPr>
          <p:spPr>
            <a:xfrm>
              <a:off x="2311560" y="2693880"/>
              <a:ext cx="208224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0800000">
              <a:off x="4420080" y="2643120"/>
              <a:ext cx="208152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60c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4624200" y="2643120"/>
            <a:ext cx="4190400" cy="1980720"/>
            <a:chOff x="4624200" y="2643120"/>
            <a:chExt cx="4190400" cy="1980720"/>
          </a:xfrm>
        </p:grpSpPr>
        <p:sp>
          <p:nvSpPr>
            <p:cNvPr id="1106" name=""/>
            <p:cNvSpPr/>
            <p:nvPr/>
          </p:nvSpPr>
          <p:spPr>
            <a:xfrm rot="10800000">
              <a:off x="4624200" y="2643120"/>
              <a:ext cx="208260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00b7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732720" y="2693880"/>
              <a:ext cx="2081880" cy="19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760"/>
                </a:path>
              </a:pathLst>
            </a:custGeom>
            <a:noFill/>
            <a:ln cap="rnd" w="50760">
              <a:solidFill>
                <a:srgbClr val="00b7a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898560" y="2163600"/>
            <a:ext cx="1509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050840" y="2392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76680" y="2271600"/>
            <a:ext cx="6039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ainframe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ini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52640" y="4481640"/>
            <a:ext cx="6227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Mini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Cs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5800" y="2292480"/>
            <a:ext cx="0" cy="303516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2280" y="5334120"/>
            <a:ext cx="7912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28600" y="5396040"/>
            <a:ext cx="482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1970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  1980             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19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304920" y="1828800"/>
            <a:ext cx="868680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1179360" y="3351240"/>
            <a:ext cx="7415280" cy="915840"/>
            <a:chOff x="1179360" y="3351240"/>
            <a:chExt cx="7415280" cy="915840"/>
          </a:xfrm>
        </p:grpSpPr>
        <p:graphicFrame>
          <p:nvGraphicFramePr>
            <p:cNvPr id="1117" name=""/>
            <p:cNvGraphicFramePr/>
            <p:nvPr/>
          </p:nvGraphicFramePr>
          <p:xfrm>
            <a:off x="6019920" y="3351240"/>
            <a:ext cx="2574720" cy="91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3351240"/>
                      <a:ext cx="2574720" cy="91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9" name=""/>
            <p:cNvGraphicFramePr/>
            <p:nvPr/>
          </p:nvGraphicFramePr>
          <p:xfrm>
            <a:off x="4229280" y="3543120"/>
            <a:ext cx="1807920" cy="64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29280" y="3543120"/>
                      <a:ext cx="1807920" cy="64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1" name=""/>
            <p:cNvGraphicFramePr/>
            <p:nvPr/>
          </p:nvGraphicFramePr>
          <p:xfrm>
            <a:off x="2840040" y="3676320"/>
            <a:ext cx="1268280" cy="45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0040" y="3676320"/>
                      <a:ext cx="126828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3" name=""/>
            <p:cNvGraphicFramePr/>
            <p:nvPr/>
          </p:nvGraphicFramePr>
          <p:xfrm>
            <a:off x="1884240" y="3762000"/>
            <a:ext cx="890640" cy="322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84240" y="3762000"/>
                      <a:ext cx="890640" cy="32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5" name=""/>
            <p:cNvGraphicFramePr/>
            <p:nvPr/>
          </p:nvGraphicFramePr>
          <p:xfrm>
            <a:off x="1179360" y="3847680"/>
            <a:ext cx="623880" cy="228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2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79360" y="3847680"/>
                      <a:ext cx="62388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7" name=""/>
          <p:cNvSpPr/>
          <p:nvPr/>
        </p:nvSpPr>
        <p:spPr>
          <a:xfrm>
            <a:off x="2232000" y="396720"/>
            <a:ext cx="660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Original Food Chain Pi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304920" y="1828800"/>
            <a:ext cx="86104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0" y="380880"/>
            <a:ext cx="6629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1984 Computer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1349280" y="2759040"/>
          <a:ext cx="257508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9280" y="2759040"/>
                    <a:ext cx="25750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2197080" y="3967200"/>
          <a:ext cx="180828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7080" y="3967200"/>
                    <a:ext cx="18082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4559400" y="3476520"/>
          <a:ext cx="126828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9400" y="3476520"/>
                    <a:ext cx="12682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"/>
          <p:cNvGraphicFramePr/>
          <p:nvPr/>
        </p:nvGraphicFramePr>
        <p:xfrm>
          <a:off x="5986440" y="3524400"/>
          <a:ext cx="890640" cy="32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6440" y="3524400"/>
                    <a:ext cx="8906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7021440" y="3530520"/>
          <a:ext cx="62388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21440" y="3530520"/>
                    <a:ext cx="623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>
            <a:off x="2291400" y="3611520"/>
            <a:ext cx="1022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136600" y="4686480"/>
            <a:ext cx="19674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 Supercomp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575600" y="4002120"/>
            <a:ext cx="133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 Comp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22720" y="386712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118280" y="374796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304920" y="1828800"/>
            <a:ext cx="830556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1704960" y="3255840"/>
          <a:ext cx="257508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3255840"/>
                    <a:ext cx="25750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409760" y="4692600"/>
          <a:ext cx="180828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4692600"/>
                    <a:ext cx="18082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3772080" y="4659480"/>
          <a:ext cx="126828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72080" y="4659480"/>
                    <a:ext cx="1268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2" name=""/>
          <p:cNvGraphicFramePr/>
          <p:nvPr/>
        </p:nvGraphicFramePr>
        <p:xfrm>
          <a:off x="6037200" y="3716280"/>
          <a:ext cx="890640" cy="32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37200" y="3716280"/>
                    <a:ext cx="8906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4" name=""/>
          <p:cNvGraphicFramePr/>
          <p:nvPr/>
        </p:nvGraphicFramePr>
        <p:xfrm>
          <a:off x="7300800" y="3722760"/>
          <a:ext cx="62388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00800" y="3722760"/>
                    <a:ext cx="623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"/>
          <p:cNvSpPr/>
          <p:nvPr/>
        </p:nvSpPr>
        <p:spPr>
          <a:xfrm>
            <a:off x="2647080" y="4336920"/>
            <a:ext cx="1022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342800" y="5411880"/>
            <a:ext cx="196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 Supercomp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705200" y="5489640"/>
            <a:ext cx="56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73480" y="4059360"/>
            <a:ext cx="11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397640" y="39402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67480" y="304920"/>
            <a:ext cx="546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1994 Computer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4762440" y="2449440"/>
          <a:ext cx="1268640" cy="455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62440" y="2449440"/>
                    <a:ext cx="12686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778640" y="2975040"/>
            <a:ext cx="133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 Comp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53480" y="2813040"/>
            <a:ext cx="157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hitting wall so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271880" y="4489560"/>
            <a:ext cx="141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uture is bleak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3772080" y="4964040"/>
          <a:ext cx="1268280" cy="3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2080" y="4964040"/>
                    <a:ext cx="1268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5067360" y="4659480"/>
          <a:ext cx="1268280" cy="3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67360" y="4659480"/>
                    <a:ext cx="1268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1" name=""/>
          <p:cNvGraphicFramePr/>
          <p:nvPr/>
        </p:nvGraphicFramePr>
        <p:xfrm>
          <a:off x="5143680" y="4964040"/>
          <a:ext cx="1268280" cy="333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43680" y="4964040"/>
                    <a:ext cx="1268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304920" y="1981080"/>
            <a:ext cx="8381880" cy="449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45960" y="457200"/>
            <a:ext cx="7906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mputer Food Chain (Now and Fu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5" name="nowlogo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4380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at is a cluster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cluster is a type of parallel or distributed processing system, which consists of a collection of interconnected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tand-alone/complete  computer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cooperatively working together as a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ingl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, integrated computing resource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48400" indent="-24840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typical cluster: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596520" indent="-198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: Faster, closer connection than a typical network (L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latency communication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6520" indent="-198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ser connection than S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Century Gothic"/>
              </a:rPr>
              <a:t>Why Clusters now?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Century Gothic"/>
              </a:rPr>
              <a:t>(Beyond Technology and Cost)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uilding block is big enoug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computers (HW &amp; SW) shipped in millions: killer micro, killer RAM, killer disk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ller OS, killer networks, killer ap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orkstations performance is doubling every 18 month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tworks are fas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entury Gothic"/>
              </a:rPr>
              <a:t>Higher link bandwidth (v 10Mbit Etherne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witch based networks coming (AT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terfaces simple &amp; fast (Active Ms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triped files preferred (RAID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emise of Mainframes, Supercomputers, &amp; MPP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82844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rchitectural Drivers…(cont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de architecture dominates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or, cache, bus, and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and engineering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&gt;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Greatest demand for performance is on large sys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track the leading edge of technology without l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PP network technology =&gt; mainstrea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area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stem on every node is a powerful enabl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igh speed I/O, virtual memory, scheduling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...Architectural Driv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usters can be grown: Incremental scalability (up, down, and acros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nodes performance can be improved by adding additional resource (new memory blocks/dis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nodes can be added or nodes can be re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of Clusters and Metacomp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lete software tools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ds, PVM, MPI, DSM, C, C++, Java, Parallel C++, Compilers, Debuggers, O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Wide class of applic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0200" indent="-203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quential and grand challenging parallel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0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752120" y="704880"/>
            <a:ext cx="6743880" cy="586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        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           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Architectur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Century Gothic"/>
              </a:rPr>
              <a:t>           </a:t>
            </a:r>
            <a:r>
              <a:rPr b="1" lang="en-US" sz="2800" spc="-1" strike="noStrike">
                <a:solidFill>
                  <a:srgbClr val="00279f"/>
                </a:solidFill>
                <a:latin typeface="Century Gothic"/>
              </a:rPr>
              <a:t>System Softwar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                         </a:t>
            </a: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Application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.S.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          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Architecture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  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Century Gothic"/>
              </a:rPr>
              <a:t>System Softwar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                                   </a:t>
            </a: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Application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.S.E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9" name=""/>
          <p:cNvSpPr/>
          <p:nvPr/>
        </p:nvSpPr>
        <p:spPr>
          <a:xfrm>
            <a:off x="1841400" y="5562720"/>
            <a:ext cx="656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0240" y="1662120"/>
            <a:ext cx="1554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960" y="3487680"/>
            <a:ext cx="1384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851040"/>
            <a:ext cx="0" cy="469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3888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7960" y="5638680"/>
            <a:ext cx="670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40       50         60          70         80          90        2000                                20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447560" y="-360"/>
            <a:ext cx="763884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wo Eras of Comput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489040" y="1600200"/>
            <a:ext cx="3841920" cy="0"/>
            <a:chOff x="2489040" y="1600200"/>
            <a:chExt cx="3841920" cy="0"/>
          </a:xfrm>
        </p:grpSpPr>
        <p:sp>
          <p:nvSpPr>
            <p:cNvPr id="265" name=""/>
            <p:cNvSpPr/>
            <p:nvPr/>
          </p:nvSpPr>
          <p:spPr>
            <a:xfrm>
              <a:off x="2489040" y="1600200"/>
              <a:ext cx="67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03960" y="160020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51160" y="160020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813040" y="2133720"/>
            <a:ext cx="3841920" cy="0"/>
            <a:chOff x="2813040" y="2133720"/>
            <a:chExt cx="3841920" cy="0"/>
          </a:xfrm>
        </p:grpSpPr>
        <p:sp>
          <p:nvSpPr>
            <p:cNvPr id="269" name=""/>
            <p:cNvSpPr/>
            <p:nvPr/>
          </p:nvSpPr>
          <p:spPr>
            <a:xfrm>
              <a:off x="2813040" y="213372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27600" y="2133720"/>
              <a:ext cx="9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75160" y="213372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22720" y="2647800"/>
            <a:ext cx="3841560" cy="0"/>
            <a:chOff x="3222720" y="2647800"/>
            <a:chExt cx="3841560" cy="0"/>
          </a:xfrm>
        </p:grpSpPr>
        <p:sp>
          <p:nvSpPr>
            <p:cNvPr id="273" name=""/>
            <p:cNvSpPr/>
            <p:nvPr/>
          </p:nvSpPr>
          <p:spPr>
            <a:xfrm>
              <a:off x="3222720" y="264780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7280" y="264780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84480" y="2647800"/>
              <a:ext cx="2108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565440" y="3162240"/>
            <a:ext cx="3841920" cy="0"/>
            <a:chOff x="3565440" y="3162240"/>
            <a:chExt cx="3841920" cy="0"/>
          </a:xfrm>
        </p:grpSpPr>
        <p:sp>
          <p:nvSpPr>
            <p:cNvPr id="277" name=""/>
            <p:cNvSpPr/>
            <p:nvPr/>
          </p:nvSpPr>
          <p:spPr>
            <a:xfrm>
              <a:off x="3565440" y="3162240"/>
              <a:ext cx="67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80000" y="3162240"/>
              <a:ext cx="9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27560" y="316224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27480" y="3657600"/>
            <a:ext cx="3841560" cy="0"/>
            <a:chOff x="3327480" y="3657600"/>
            <a:chExt cx="3841560" cy="0"/>
          </a:xfrm>
        </p:grpSpPr>
        <p:sp>
          <p:nvSpPr>
            <p:cNvPr id="281" name=""/>
            <p:cNvSpPr/>
            <p:nvPr/>
          </p:nvSpPr>
          <p:spPr>
            <a:xfrm>
              <a:off x="3327480" y="365760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2040" y="365760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89240" y="3657600"/>
              <a:ext cx="2108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956040" y="4743360"/>
            <a:ext cx="3841920" cy="0"/>
            <a:chOff x="3956040" y="4743360"/>
            <a:chExt cx="3841920" cy="0"/>
          </a:xfrm>
        </p:grpSpPr>
        <p:sp>
          <p:nvSpPr>
            <p:cNvPr id="285" name=""/>
            <p:cNvSpPr/>
            <p:nvPr/>
          </p:nvSpPr>
          <p:spPr>
            <a:xfrm>
              <a:off x="3956040" y="474336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70600" y="4743360"/>
              <a:ext cx="9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8160" y="474336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632040" y="4191120"/>
            <a:ext cx="3841920" cy="0"/>
            <a:chOff x="3632040" y="4191120"/>
            <a:chExt cx="3841920" cy="0"/>
          </a:xfrm>
        </p:grpSpPr>
        <p:sp>
          <p:nvSpPr>
            <p:cNvPr id="289" name=""/>
            <p:cNvSpPr/>
            <p:nvPr/>
          </p:nvSpPr>
          <p:spPr>
            <a:xfrm>
              <a:off x="3632040" y="4191120"/>
              <a:ext cx="67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46960" y="419112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94160" y="419112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260960" y="5219640"/>
            <a:ext cx="3841560" cy="0"/>
            <a:chOff x="4260960" y="5219640"/>
            <a:chExt cx="3841560" cy="0"/>
          </a:xfrm>
        </p:grpSpPr>
        <p:sp>
          <p:nvSpPr>
            <p:cNvPr id="293" name=""/>
            <p:cNvSpPr/>
            <p:nvPr/>
          </p:nvSpPr>
          <p:spPr>
            <a:xfrm>
              <a:off x="4260960" y="521964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75520" y="521964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22720" y="521964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133440" y="5959440"/>
            <a:ext cx="4172760" cy="637560"/>
            <a:chOff x="3133440" y="5959440"/>
            <a:chExt cx="4172760" cy="637560"/>
          </a:xfrm>
        </p:grpSpPr>
        <p:sp>
          <p:nvSpPr>
            <p:cNvPr id="297" name=""/>
            <p:cNvSpPr/>
            <p:nvPr/>
          </p:nvSpPr>
          <p:spPr>
            <a:xfrm>
              <a:off x="3133440" y="5959440"/>
              <a:ext cx="417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ercialization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 &amp; D                                      Commod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232080" y="6267600"/>
              <a:ext cx="3841920" cy="0"/>
              <a:chOff x="3232080" y="6267600"/>
              <a:chExt cx="38419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3232080" y="6267600"/>
                <a:ext cx="67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146640" y="6267600"/>
                <a:ext cx="927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94200" y="6267600"/>
                <a:ext cx="210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336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4" name=""/>
          <p:cNvGraphicFramePr/>
          <p:nvPr/>
        </p:nvGraphicFramePr>
        <p:xfrm>
          <a:off x="152280" y="1676520"/>
          <a:ext cx="84582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4582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"/>
          <p:cNvSpPr/>
          <p:nvPr/>
        </p:nvSpPr>
        <p:spPr>
          <a:xfrm>
            <a:off x="1371600" y="0"/>
            <a:ext cx="6172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lustering of Computers 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           for Collective Computing: Trend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88" name=""/>
          <p:cNvSpPr/>
          <p:nvPr/>
        </p:nvSpPr>
        <p:spPr>
          <a:xfrm>
            <a:off x="1051560" y="61628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639400" y="6095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163640" y="609588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306640" y="60102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8686800" y="159084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rightB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022560" cy="4051440"/>
          </a:xfrm>
          <a:prstGeom prst="rect">
            <a:avLst/>
          </a:prstGeom>
          <a:ln w="0">
            <a:noFill/>
          </a:ln>
        </p:spPr>
      </p:pic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747880" y="75960"/>
            <a:ext cx="6113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ample Clusters: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erkeley NOW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7009920" y="1295280"/>
            <a:ext cx="22100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100 Sun UltraSparc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 di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Myrinet SAN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0 MB/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Fast comm.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, MPI,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Ether/ATM switched external net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Global OS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Self Config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196" name="left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0351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asic Compon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98" name=""/>
          <p:cNvSpPr/>
          <p:nvPr/>
        </p:nvSpPr>
        <p:spPr>
          <a:xfrm>
            <a:off x="2362320" y="2895480"/>
            <a:ext cx="1003320" cy="992160"/>
          </a:xfrm>
          <a:prstGeom prst="rect">
            <a:avLst/>
          </a:prstGeom>
          <a:solidFill>
            <a:srgbClr val="0000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200240" y="4613400"/>
            <a:ext cx="142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405080" y="4821120"/>
            <a:ext cx="295200" cy="28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410840" y="47592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1405080" y="5262480"/>
            <a:ext cx="306360" cy="351000"/>
            <a:chOff x="1405080" y="5262480"/>
            <a:chExt cx="306360" cy="351000"/>
          </a:xfrm>
        </p:grpSpPr>
        <p:sp>
          <p:nvSpPr>
            <p:cNvPr id="1203" name=""/>
            <p:cNvSpPr/>
            <p:nvPr/>
          </p:nvSpPr>
          <p:spPr>
            <a:xfrm>
              <a:off x="1405080" y="5324400"/>
              <a:ext cx="295200" cy="289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11200" y="52624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 flipV="1">
            <a:off x="1501920" y="5109840"/>
            <a:ext cx="0" cy="21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501920" y="4606560"/>
            <a:ext cx="0" cy="21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1297080" y="4506480"/>
            <a:ext cx="0" cy="11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096920" y="4017960"/>
            <a:ext cx="398520" cy="4888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103040" y="405612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65280" y="2995560"/>
            <a:ext cx="192240" cy="28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452680" y="308916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773440" y="2995560"/>
            <a:ext cx="191880" cy="28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2760840" y="3191040"/>
            <a:ext cx="21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2630520" y="3903480"/>
            <a:ext cx="0" cy="114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H="1" flipV="1">
            <a:off x="2526840" y="2364840"/>
            <a:ext cx="39960" cy="63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68480" y="2593800"/>
            <a:ext cx="0" cy="38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021040" y="4218120"/>
            <a:ext cx="295200" cy="1886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1988640" y="4011480"/>
            <a:ext cx="87156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19400" y="4017960"/>
            <a:ext cx="0" cy="18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219400" y="4419720"/>
            <a:ext cx="0" cy="18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417760" y="4079880"/>
            <a:ext cx="95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/O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928880" y="1539720"/>
            <a:ext cx="1969920" cy="1040040"/>
          </a:xfrm>
          <a:custGeom>
            <a:avLst/>
            <a:gdLst>
              <a:gd name="textAreaLeft" fmla="*/ 449640 w 1969920"/>
              <a:gd name="textAreaRight" fmla="*/ 1520280 w 1969920"/>
              <a:gd name="textAreaTop" fmla="*/ 237240 h 1040040"/>
              <a:gd name="textAreaBottom" fmla="*/ 802800 h 104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68800" y="1747800"/>
            <a:ext cx="101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bf69"/>
                </a:solidFill>
                <a:latin typeface="Arial"/>
              </a:rPr>
              <a:t>Myri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2533680" y="3421080"/>
            <a:ext cx="306720" cy="349200"/>
            <a:chOff x="2533680" y="3421080"/>
            <a:chExt cx="306720" cy="349200"/>
          </a:xfrm>
        </p:grpSpPr>
        <p:sp>
          <p:nvSpPr>
            <p:cNvPr id="1225" name=""/>
            <p:cNvSpPr/>
            <p:nvPr/>
          </p:nvSpPr>
          <p:spPr>
            <a:xfrm>
              <a:off x="2533680" y="3481560"/>
              <a:ext cx="295200" cy="288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540160" y="34210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93800" y="3832200"/>
            <a:ext cx="3403440" cy="1955880"/>
          </a:xfrm>
          <a:prstGeom prst="rect">
            <a:avLst/>
          </a:prstGeom>
          <a:noFill/>
          <a:ln w="25560">
            <a:solidFill>
              <a:srgbClr val="fafd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43320" y="5397480"/>
            <a:ext cx="164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Sun Ultra 17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224000" y="2960640"/>
            <a:ext cx="1120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yri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900880" y="2503440"/>
            <a:ext cx="11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160 MB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971800" y="3368520"/>
            <a:ext cx="34308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989080" y="34383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191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D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ssive Cheap Storage Cluste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41972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1880" indent="-345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asic unit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46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2 PCs double-ending four SCSI chains of 8 disks each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37" name=""/>
          <p:cNvSpPr/>
          <p:nvPr/>
        </p:nvSpPr>
        <p:spPr>
          <a:xfrm>
            <a:off x="904320" y="5867280"/>
            <a:ext cx="72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ly serving Fine Art at http://www.thinker.org/imagebas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of SMPs (CLUMP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871520" y="2112840"/>
            <a:ext cx="4064040" cy="405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our Sun E5000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process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Myricom NICs 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processor, Multi-NIC, Multi-Protoco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PACI =&gt; Sun 450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240" name="clumps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llennium PC Clump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510160" y="2112480"/>
            <a:ext cx="3346560" cy="377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expensive, easy to manage Clus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plicated in many depart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rototype for very large PC cluster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243" name="mill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2889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option of the Approach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245" name="hotmail_logo" descr=""/>
          <p:cNvPicPr/>
          <p:nvPr/>
        </p:nvPicPr>
        <p:blipFill>
          <a:blip r:embed="rId1"/>
          <a:stretch/>
        </p:blipFill>
        <p:spPr>
          <a:xfrm>
            <a:off x="6705720" y="3448080"/>
            <a:ext cx="2133360" cy="1596960"/>
          </a:xfrm>
          <a:prstGeom prst="rect">
            <a:avLst/>
          </a:prstGeom>
          <a:ln w="0">
            <a:noFill/>
          </a:ln>
        </p:spPr>
      </p:pic>
      <p:grpSp>
        <p:nvGrpSpPr>
          <p:cNvPr id="1246" name=""/>
          <p:cNvGrpSpPr/>
          <p:nvPr/>
        </p:nvGrpSpPr>
        <p:grpSpPr>
          <a:xfrm>
            <a:off x="2057400" y="3067200"/>
            <a:ext cx="2666520" cy="2151000"/>
            <a:chOff x="2057400" y="3067200"/>
            <a:chExt cx="2666520" cy="2151000"/>
          </a:xfrm>
        </p:grpSpPr>
        <p:graphicFrame>
          <p:nvGraphicFramePr>
            <p:cNvPr id="1247" name=""/>
            <p:cNvGraphicFramePr/>
            <p:nvPr/>
          </p:nvGraphicFramePr>
          <p:xfrm>
            <a:off x="2057400" y="3067200"/>
            <a:ext cx="219672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7400" y="3067200"/>
                      <a:ext cx="21967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49" name="" descr=""/>
            <p:cNvPicPr/>
            <p:nvPr/>
          </p:nvPicPr>
          <p:blipFill>
            <a:blip r:embed="rId4"/>
            <a:stretch/>
          </p:blipFill>
          <p:spPr>
            <a:xfrm>
              <a:off x="2199960" y="3484800"/>
              <a:ext cx="2523960" cy="17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0" name=""/>
          <p:cNvGrpSpPr/>
          <p:nvPr/>
        </p:nvGrpSpPr>
        <p:grpSpPr>
          <a:xfrm>
            <a:off x="2057400" y="4514760"/>
            <a:ext cx="5000760" cy="2006640"/>
            <a:chOff x="2057400" y="4514760"/>
            <a:chExt cx="5000760" cy="2006640"/>
          </a:xfrm>
        </p:grpSpPr>
        <p:graphicFrame>
          <p:nvGraphicFramePr>
            <p:cNvPr id="1251" name=""/>
            <p:cNvGraphicFramePr/>
            <p:nvPr/>
          </p:nvGraphicFramePr>
          <p:xfrm>
            <a:off x="4010040" y="4514760"/>
            <a:ext cx="2349720" cy="59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10040" y="4514760"/>
                      <a:ext cx="2349720" cy="598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253" name=""/>
            <p:cNvGraphicFramePr/>
            <p:nvPr/>
          </p:nvGraphicFramePr>
          <p:xfrm>
            <a:off x="2057400" y="5113080"/>
            <a:ext cx="5000760" cy="1408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5113080"/>
                      <a:ext cx="5000760" cy="14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55" name="hotbot" descr=""/>
          <p:cNvPicPr/>
          <p:nvPr/>
        </p:nvPicPr>
        <p:blipFill>
          <a:blip r:embed="rId9"/>
          <a:stretch/>
        </p:blipFill>
        <p:spPr>
          <a:xfrm>
            <a:off x="5638680" y="1461960"/>
            <a:ext cx="3048120" cy="919440"/>
          </a:xfrm>
          <a:prstGeom prst="rect">
            <a:avLst/>
          </a:prstGeom>
          <a:ln w="0">
            <a:noFill/>
          </a:ln>
        </p:spPr>
      </p:pic>
      <p:grpSp>
        <p:nvGrpSpPr>
          <p:cNvPr id="1256" name=""/>
          <p:cNvGrpSpPr/>
          <p:nvPr/>
        </p:nvGrpSpPr>
        <p:grpSpPr>
          <a:xfrm>
            <a:off x="2057400" y="1390680"/>
            <a:ext cx="3352320" cy="1599480"/>
            <a:chOff x="2057400" y="1390680"/>
            <a:chExt cx="3352320" cy="1599480"/>
          </a:xfrm>
        </p:grpSpPr>
        <p:sp>
          <p:nvSpPr>
            <p:cNvPr id="1257" name=""/>
            <p:cNvSpPr/>
            <p:nvPr/>
          </p:nvSpPr>
          <p:spPr>
            <a:xfrm>
              <a:off x="2057400" y="1390680"/>
              <a:ext cx="3352320" cy="1492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8" name="hplogo" descr=""/>
            <p:cNvPicPr/>
            <p:nvPr/>
          </p:nvPicPr>
          <p:blipFill>
            <a:blip r:embed="rId10"/>
            <a:stretch/>
          </p:blipFill>
          <p:spPr>
            <a:xfrm>
              <a:off x="2057400" y="1390680"/>
              <a:ext cx="1833480" cy="6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9" name="netserver_cluster" descr=""/>
            <p:cNvPicPr/>
            <p:nvPr/>
          </p:nvPicPr>
          <p:blipFill>
            <a:blip r:embed="rId11"/>
            <a:stretch/>
          </p:blipFill>
          <p:spPr>
            <a:xfrm>
              <a:off x="3838320" y="1456920"/>
              <a:ext cx="1269720" cy="153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0" name=""/>
          <p:cNvGrpSpPr/>
          <p:nvPr/>
        </p:nvGrpSpPr>
        <p:grpSpPr>
          <a:xfrm>
            <a:off x="304920" y="4362480"/>
            <a:ext cx="3267000" cy="2190600"/>
            <a:chOff x="304920" y="4362480"/>
            <a:chExt cx="3267000" cy="2190600"/>
          </a:xfrm>
        </p:grpSpPr>
        <p:pic>
          <p:nvPicPr>
            <p:cNvPr id="1261" name="suncluster" descr=""/>
            <p:cNvPicPr/>
            <p:nvPr/>
          </p:nvPicPr>
          <p:blipFill>
            <a:blip r:embed="rId12"/>
            <a:stretch/>
          </p:blipFill>
          <p:spPr>
            <a:xfrm>
              <a:off x="533520" y="4667040"/>
              <a:ext cx="303840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2" name="sunlogo" descr=""/>
            <p:cNvPicPr/>
            <p:nvPr/>
          </p:nvPicPr>
          <p:blipFill>
            <a:blip r:embed="rId13"/>
            <a:stretch/>
          </p:blipFill>
          <p:spPr>
            <a:xfrm>
              <a:off x="304920" y="4362480"/>
              <a:ext cx="141912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3" name=""/>
          <p:cNvGrpSpPr/>
          <p:nvPr/>
        </p:nvGrpSpPr>
        <p:grpSpPr>
          <a:xfrm>
            <a:off x="380880" y="2000160"/>
            <a:ext cx="1781280" cy="2265480"/>
            <a:chOff x="380880" y="2000160"/>
            <a:chExt cx="1781280" cy="2265480"/>
          </a:xfrm>
        </p:grpSpPr>
        <p:pic>
          <p:nvPicPr>
            <p:cNvPr id="1264" name="ibmcluster" descr=""/>
            <p:cNvPicPr/>
            <p:nvPr/>
          </p:nvPicPr>
          <p:blipFill>
            <a:blip r:embed="rId14"/>
            <a:stretch/>
          </p:blipFill>
          <p:spPr>
            <a:xfrm>
              <a:off x="380880" y="2000160"/>
              <a:ext cx="1781280" cy="20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ibm_logo" descr=""/>
            <p:cNvPicPr/>
            <p:nvPr/>
          </p:nvPicPr>
          <p:blipFill>
            <a:blip r:embed="rId15"/>
            <a:stretch/>
          </p:blipFill>
          <p:spPr>
            <a:xfrm>
              <a:off x="914400" y="3752640"/>
              <a:ext cx="1219320" cy="51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6" name=""/>
          <p:cNvGrpSpPr/>
          <p:nvPr/>
        </p:nvGrpSpPr>
        <p:grpSpPr>
          <a:xfrm>
            <a:off x="5257800" y="2552760"/>
            <a:ext cx="1905120" cy="1809720"/>
            <a:chOff x="5257800" y="2552760"/>
            <a:chExt cx="1905120" cy="1809720"/>
          </a:xfrm>
        </p:grpSpPr>
        <p:pic>
          <p:nvPicPr>
            <p:cNvPr id="1267" name="cdaclogo" descr=""/>
            <p:cNvPicPr/>
            <p:nvPr/>
          </p:nvPicPr>
          <p:blipFill>
            <a:blip r:embed="rId16"/>
            <a:stretch/>
          </p:blipFill>
          <p:spPr>
            <a:xfrm>
              <a:off x="5562720" y="2552760"/>
              <a:ext cx="14288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8" name="paramapp" descr=""/>
            <p:cNvPicPr/>
            <p:nvPr/>
          </p:nvPicPr>
          <p:blipFill>
            <a:blip r:embed="rId17"/>
            <a:stretch/>
          </p:blipFill>
          <p:spPr>
            <a:xfrm>
              <a:off x="5257800" y="2934000"/>
              <a:ext cx="1905120" cy="142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9" name="atlogo" descr=""/>
          <p:cNvPicPr/>
          <p:nvPr/>
        </p:nvPicPr>
        <p:blipFill>
          <a:blip r:embed="rId18"/>
          <a:stretch/>
        </p:blipFill>
        <p:spPr>
          <a:xfrm>
            <a:off x="7543800" y="52005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 What’s So Different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modity parts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munications Packaging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cremental Scalability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dependent Failur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Intelligent Network Interfaces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2800" indent="-2628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Complete System on every n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30720" indent="-210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0720" indent="-210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470320"/>
            <a:ext cx="8229600" cy="22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PPORTUNITIE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&amp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HALLENGES</a:t>
            </a:r>
            <a:endParaRPr b="1" lang="en-US" sz="5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8880" y="1428840"/>
            <a:ext cx="8111520" cy="4858200"/>
            <a:chOff x="578880" y="1428840"/>
            <a:chExt cx="8111520" cy="4858200"/>
          </a:xfrm>
        </p:grpSpPr>
        <p:grpSp>
          <p:nvGrpSpPr>
            <p:cNvPr id="1274" name=""/>
            <p:cNvGrpSpPr/>
            <p:nvPr/>
          </p:nvGrpSpPr>
          <p:grpSpPr>
            <a:xfrm>
              <a:off x="3370320" y="3049560"/>
              <a:ext cx="1433520" cy="1014480"/>
              <a:chOff x="3370320" y="3049560"/>
              <a:chExt cx="1433520" cy="1014480"/>
            </a:xfrm>
          </p:grpSpPr>
          <p:sp>
            <p:nvSpPr>
              <p:cNvPr id="1275" name=""/>
              <p:cNvSpPr/>
              <p:nvPr/>
            </p:nvSpPr>
            <p:spPr>
              <a:xfrm>
                <a:off x="3860640" y="3243240"/>
                <a:ext cx="312840" cy="155520"/>
              </a:xfrm>
              <a:custGeom>
                <a:avLst/>
                <a:gdLst/>
                <a:ahLst/>
                <a:rect l="l" t="t" r="r" b="b"/>
                <a:pathLst>
                  <a:path w="197" h="98">
                    <a:moveTo>
                      <a:pt x="0" y="57"/>
                    </a:moveTo>
                    <a:lnTo>
                      <a:pt x="0" y="0"/>
                    </a:lnTo>
                    <a:lnTo>
                      <a:pt x="196" y="44"/>
                    </a:lnTo>
                    <a:lnTo>
                      <a:pt x="193" y="70"/>
                    </a:lnTo>
                    <a:lnTo>
                      <a:pt x="180" y="9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502160" y="3365640"/>
                <a:ext cx="299880" cy="149040"/>
              </a:xfrm>
              <a:custGeom>
                <a:avLst/>
                <a:gdLst/>
                <a:ahLst/>
                <a:rect l="l" t="t" r="r" b="b"/>
                <a:pathLst>
                  <a:path w="189" h="94">
                    <a:moveTo>
                      <a:pt x="188" y="93"/>
                    </a:moveTo>
                    <a:lnTo>
                      <a:pt x="187" y="41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188" y="9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7" name=""/>
              <p:cNvGrpSpPr/>
              <p:nvPr/>
            </p:nvGrpSpPr>
            <p:grpSpPr>
              <a:xfrm>
                <a:off x="3370320" y="3049560"/>
                <a:ext cx="1433520" cy="1014480"/>
                <a:chOff x="3370320" y="3049560"/>
                <a:chExt cx="1433520" cy="101448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3370320" y="3144960"/>
                  <a:ext cx="1431720" cy="919080"/>
                </a:xfrm>
                <a:custGeom>
                  <a:avLst/>
                  <a:gdLst/>
                  <a:ahLst/>
                  <a:rect l="l" t="t" r="r" b="b"/>
                  <a:pathLst>
                    <a:path w="902" h="579">
                      <a:moveTo>
                        <a:pt x="1" y="575"/>
                      </a:moveTo>
                      <a:lnTo>
                        <a:pt x="51" y="578"/>
                      </a:lnTo>
                      <a:lnTo>
                        <a:pt x="75" y="578"/>
                      </a:lnTo>
                      <a:lnTo>
                        <a:pt x="105" y="578"/>
                      </a:lnTo>
                      <a:lnTo>
                        <a:pt x="133" y="577"/>
                      </a:lnTo>
                      <a:lnTo>
                        <a:pt x="160" y="575"/>
                      </a:lnTo>
                      <a:lnTo>
                        <a:pt x="188" y="571"/>
                      </a:lnTo>
                      <a:lnTo>
                        <a:pt x="213" y="565"/>
                      </a:lnTo>
                      <a:lnTo>
                        <a:pt x="241" y="558"/>
                      </a:lnTo>
                      <a:lnTo>
                        <a:pt x="273" y="548"/>
                      </a:lnTo>
                      <a:lnTo>
                        <a:pt x="303" y="535"/>
                      </a:lnTo>
                      <a:lnTo>
                        <a:pt x="331" y="525"/>
                      </a:lnTo>
                      <a:lnTo>
                        <a:pt x="362" y="509"/>
                      </a:lnTo>
                      <a:lnTo>
                        <a:pt x="391" y="493"/>
                      </a:lnTo>
                      <a:lnTo>
                        <a:pt x="421" y="476"/>
                      </a:lnTo>
                      <a:lnTo>
                        <a:pt x="445" y="459"/>
                      </a:lnTo>
                      <a:lnTo>
                        <a:pt x="474" y="442"/>
                      </a:lnTo>
                      <a:lnTo>
                        <a:pt x="497" y="426"/>
                      </a:lnTo>
                      <a:lnTo>
                        <a:pt x="524" y="407"/>
                      </a:lnTo>
                      <a:lnTo>
                        <a:pt x="550" y="388"/>
                      </a:lnTo>
                      <a:lnTo>
                        <a:pt x="576" y="364"/>
                      </a:lnTo>
                      <a:lnTo>
                        <a:pt x="599" y="345"/>
                      </a:lnTo>
                      <a:lnTo>
                        <a:pt x="623" y="320"/>
                      </a:lnTo>
                      <a:lnTo>
                        <a:pt x="646" y="297"/>
                      </a:lnTo>
                      <a:lnTo>
                        <a:pt x="668" y="274"/>
                      </a:lnTo>
                      <a:lnTo>
                        <a:pt x="686" y="249"/>
                      </a:lnTo>
                      <a:lnTo>
                        <a:pt x="700" y="226"/>
                      </a:lnTo>
                      <a:lnTo>
                        <a:pt x="712" y="202"/>
                      </a:lnTo>
                      <a:lnTo>
                        <a:pt x="901" y="233"/>
                      </a:lnTo>
                      <a:lnTo>
                        <a:pt x="872" y="217"/>
                      </a:lnTo>
                      <a:lnTo>
                        <a:pt x="849" y="202"/>
                      </a:lnTo>
                      <a:lnTo>
                        <a:pt x="821" y="188"/>
                      </a:lnTo>
                      <a:lnTo>
                        <a:pt x="801" y="172"/>
                      </a:lnTo>
                      <a:lnTo>
                        <a:pt x="782" y="159"/>
                      </a:lnTo>
                      <a:lnTo>
                        <a:pt x="766" y="147"/>
                      </a:lnTo>
                      <a:lnTo>
                        <a:pt x="750" y="132"/>
                      </a:lnTo>
                      <a:lnTo>
                        <a:pt x="734" y="118"/>
                      </a:lnTo>
                      <a:lnTo>
                        <a:pt x="717" y="101"/>
                      </a:lnTo>
                      <a:lnTo>
                        <a:pt x="699" y="81"/>
                      </a:lnTo>
                      <a:lnTo>
                        <a:pt x="679" y="61"/>
                      </a:lnTo>
                      <a:lnTo>
                        <a:pt x="663" y="41"/>
                      </a:lnTo>
                      <a:lnTo>
                        <a:pt x="645" y="19"/>
                      </a:lnTo>
                      <a:lnTo>
                        <a:pt x="632" y="0"/>
                      </a:lnTo>
                      <a:lnTo>
                        <a:pt x="617" y="6"/>
                      </a:lnTo>
                      <a:lnTo>
                        <a:pt x="602" y="17"/>
                      </a:lnTo>
                      <a:lnTo>
                        <a:pt x="586" y="26"/>
                      </a:lnTo>
                      <a:lnTo>
                        <a:pt x="568" y="36"/>
                      </a:lnTo>
                      <a:lnTo>
                        <a:pt x="549" y="46"/>
                      </a:lnTo>
                      <a:lnTo>
                        <a:pt x="531" y="53"/>
                      </a:lnTo>
                      <a:lnTo>
                        <a:pt x="514" y="60"/>
                      </a:lnTo>
                      <a:lnTo>
                        <a:pt x="495" y="68"/>
                      </a:lnTo>
                      <a:lnTo>
                        <a:pt x="476" y="73"/>
                      </a:lnTo>
                      <a:lnTo>
                        <a:pt x="453" y="81"/>
                      </a:lnTo>
                      <a:lnTo>
                        <a:pt x="434" y="87"/>
                      </a:lnTo>
                      <a:lnTo>
                        <a:pt x="416" y="93"/>
                      </a:lnTo>
                      <a:lnTo>
                        <a:pt x="395" y="98"/>
                      </a:lnTo>
                      <a:lnTo>
                        <a:pt x="376" y="103"/>
                      </a:lnTo>
                      <a:lnTo>
                        <a:pt x="358" y="108"/>
                      </a:lnTo>
                      <a:lnTo>
                        <a:pt x="337" y="114"/>
                      </a:lnTo>
                      <a:lnTo>
                        <a:pt x="308" y="118"/>
                      </a:lnTo>
                      <a:lnTo>
                        <a:pt x="506" y="163"/>
                      </a:lnTo>
                      <a:lnTo>
                        <a:pt x="492" y="196"/>
                      </a:lnTo>
                      <a:lnTo>
                        <a:pt x="478" y="221"/>
                      </a:lnTo>
                      <a:lnTo>
                        <a:pt x="448" y="269"/>
                      </a:lnTo>
                      <a:lnTo>
                        <a:pt x="432" y="291"/>
                      </a:lnTo>
                      <a:lnTo>
                        <a:pt x="416" y="312"/>
                      </a:lnTo>
                      <a:lnTo>
                        <a:pt x="393" y="338"/>
                      </a:lnTo>
                      <a:lnTo>
                        <a:pt x="368" y="368"/>
                      </a:lnTo>
                      <a:lnTo>
                        <a:pt x="344" y="388"/>
                      </a:lnTo>
                      <a:lnTo>
                        <a:pt x="311" y="417"/>
                      </a:lnTo>
                      <a:lnTo>
                        <a:pt x="283" y="436"/>
                      </a:lnTo>
                      <a:lnTo>
                        <a:pt x="257" y="455"/>
                      </a:lnTo>
                      <a:lnTo>
                        <a:pt x="234" y="469"/>
                      </a:lnTo>
                      <a:lnTo>
                        <a:pt x="218" y="480"/>
                      </a:lnTo>
                      <a:lnTo>
                        <a:pt x="188" y="490"/>
                      </a:lnTo>
                      <a:lnTo>
                        <a:pt x="162" y="500"/>
                      </a:lnTo>
                      <a:lnTo>
                        <a:pt x="133" y="513"/>
                      </a:lnTo>
                      <a:lnTo>
                        <a:pt x="92" y="521"/>
                      </a:lnTo>
                      <a:lnTo>
                        <a:pt x="61" y="527"/>
                      </a:lnTo>
                      <a:lnTo>
                        <a:pt x="0" y="530"/>
                      </a:lnTo>
                      <a:lnTo>
                        <a:pt x="1" y="5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371760" y="3049560"/>
                  <a:ext cx="1432080" cy="947880"/>
                </a:xfrm>
                <a:custGeom>
                  <a:avLst/>
                  <a:gdLst/>
                  <a:ahLst/>
                  <a:rect l="l" t="t" r="r" b="b"/>
                  <a:pathLst>
                    <a:path w="902" h="597">
                      <a:moveTo>
                        <a:pt x="0" y="592"/>
                      </a:moveTo>
                      <a:lnTo>
                        <a:pt x="50" y="596"/>
                      </a:lnTo>
                      <a:lnTo>
                        <a:pt x="74" y="596"/>
                      </a:lnTo>
                      <a:lnTo>
                        <a:pt x="104" y="596"/>
                      </a:lnTo>
                      <a:lnTo>
                        <a:pt x="131" y="594"/>
                      </a:lnTo>
                      <a:lnTo>
                        <a:pt x="159" y="592"/>
                      </a:lnTo>
                      <a:lnTo>
                        <a:pt x="187" y="588"/>
                      </a:lnTo>
                      <a:lnTo>
                        <a:pt x="212" y="581"/>
                      </a:lnTo>
                      <a:lnTo>
                        <a:pt x="239" y="575"/>
                      </a:lnTo>
                      <a:lnTo>
                        <a:pt x="272" y="564"/>
                      </a:lnTo>
                      <a:lnTo>
                        <a:pt x="302" y="551"/>
                      </a:lnTo>
                      <a:lnTo>
                        <a:pt x="329" y="540"/>
                      </a:lnTo>
                      <a:lnTo>
                        <a:pt x="361" y="525"/>
                      </a:lnTo>
                      <a:lnTo>
                        <a:pt x="390" y="507"/>
                      </a:lnTo>
                      <a:lnTo>
                        <a:pt x="419" y="490"/>
                      </a:lnTo>
                      <a:lnTo>
                        <a:pt x="444" y="473"/>
                      </a:lnTo>
                      <a:lnTo>
                        <a:pt x="473" y="455"/>
                      </a:lnTo>
                      <a:lnTo>
                        <a:pt x="496" y="438"/>
                      </a:lnTo>
                      <a:lnTo>
                        <a:pt x="522" y="419"/>
                      </a:lnTo>
                      <a:lnTo>
                        <a:pt x="549" y="399"/>
                      </a:lnTo>
                      <a:lnTo>
                        <a:pt x="575" y="375"/>
                      </a:lnTo>
                      <a:lnTo>
                        <a:pt x="598" y="356"/>
                      </a:lnTo>
                      <a:lnTo>
                        <a:pt x="622" y="329"/>
                      </a:lnTo>
                      <a:lnTo>
                        <a:pt x="645" y="306"/>
                      </a:lnTo>
                      <a:lnTo>
                        <a:pt x="666" y="280"/>
                      </a:lnTo>
                      <a:lnTo>
                        <a:pt x="684" y="254"/>
                      </a:lnTo>
                      <a:lnTo>
                        <a:pt x="699" y="233"/>
                      </a:lnTo>
                      <a:lnTo>
                        <a:pt x="711" y="208"/>
                      </a:lnTo>
                      <a:lnTo>
                        <a:pt x="901" y="240"/>
                      </a:lnTo>
                      <a:lnTo>
                        <a:pt x="871" y="224"/>
                      </a:lnTo>
                      <a:lnTo>
                        <a:pt x="848" y="208"/>
                      </a:lnTo>
                      <a:lnTo>
                        <a:pt x="820" y="193"/>
                      </a:lnTo>
                      <a:lnTo>
                        <a:pt x="800" y="178"/>
                      </a:lnTo>
                      <a:lnTo>
                        <a:pt x="781" y="163"/>
                      </a:lnTo>
                      <a:lnTo>
                        <a:pt x="765" y="152"/>
                      </a:lnTo>
                      <a:lnTo>
                        <a:pt x="749" y="136"/>
                      </a:lnTo>
                      <a:lnTo>
                        <a:pt x="733" y="121"/>
                      </a:lnTo>
                      <a:lnTo>
                        <a:pt x="716" y="105"/>
                      </a:lnTo>
                      <a:lnTo>
                        <a:pt x="698" y="84"/>
                      </a:lnTo>
                      <a:lnTo>
                        <a:pt x="678" y="63"/>
                      </a:lnTo>
                      <a:lnTo>
                        <a:pt x="662" y="42"/>
                      </a:lnTo>
                      <a:lnTo>
                        <a:pt x="644" y="19"/>
                      </a:lnTo>
                      <a:lnTo>
                        <a:pt x="630" y="0"/>
                      </a:lnTo>
                      <a:lnTo>
                        <a:pt x="616" y="7"/>
                      </a:lnTo>
                      <a:lnTo>
                        <a:pt x="601" y="18"/>
                      </a:lnTo>
                      <a:lnTo>
                        <a:pt x="585" y="27"/>
                      </a:lnTo>
                      <a:lnTo>
                        <a:pt x="567" y="37"/>
                      </a:lnTo>
                      <a:lnTo>
                        <a:pt x="548" y="48"/>
                      </a:lnTo>
                      <a:lnTo>
                        <a:pt x="530" y="55"/>
                      </a:lnTo>
                      <a:lnTo>
                        <a:pt x="513" y="62"/>
                      </a:lnTo>
                      <a:lnTo>
                        <a:pt x="494" y="70"/>
                      </a:lnTo>
                      <a:lnTo>
                        <a:pt x="474" y="76"/>
                      </a:lnTo>
                      <a:lnTo>
                        <a:pt x="452" y="84"/>
                      </a:lnTo>
                      <a:lnTo>
                        <a:pt x="433" y="90"/>
                      </a:lnTo>
                      <a:lnTo>
                        <a:pt x="415" y="96"/>
                      </a:lnTo>
                      <a:lnTo>
                        <a:pt x="394" y="101"/>
                      </a:lnTo>
                      <a:lnTo>
                        <a:pt x="375" y="107"/>
                      </a:lnTo>
                      <a:lnTo>
                        <a:pt x="357" y="111"/>
                      </a:lnTo>
                      <a:lnTo>
                        <a:pt x="336" y="118"/>
                      </a:lnTo>
                      <a:lnTo>
                        <a:pt x="308" y="122"/>
                      </a:lnTo>
                      <a:lnTo>
                        <a:pt x="504" y="168"/>
                      </a:lnTo>
                      <a:lnTo>
                        <a:pt x="491" y="202"/>
                      </a:lnTo>
                      <a:lnTo>
                        <a:pt x="477" y="228"/>
                      </a:lnTo>
                      <a:lnTo>
                        <a:pt x="447" y="276"/>
                      </a:lnTo>
                      <a:lnTo>
                        <a:pt x="431" y="300"/>
                      </a:lnTo>
                      <a:lnTo>
                        <a:pt x="415" y="321"/>
                      </a:lnTo>
                      <a:lnTo>
                        <a:pt x="385" y="358"/>
                      </a:lnTo>
                      <a:lnTo>
                        <a:pt x="367" y="379"/>
                      </a:lnTo>
                      <a:lnTo>
                        <a:pt x="346" y="406"/>
                      </a:lnTo>
                      <a:lnTo>
                        <a:pt x="326" y="425"/>
                      </a:lnTo>
                      <a:lnTo>
                        <a:pt x="310" y="442"/>
                      </a:lnTo>
                      <a:lnTo>
                        <a:pt x="293" y="460"/>
                      </a:lnTo>
                      <a:lnTo>
                        <a:pt x="274" y="477"/>
                      </a:lnTo>
                      <a:lnTo>
                        <a:pt x="253" y="494"/>
                      </a:lnTo>
                      <a:lnTo>
                        <a:pt x="231" y="507"/>
                      </a:lnTo>
                      <a:lnTo>
                        <a:pt x="210" y="523"/>
                      </a:lnTo>
                      <a:lnTo>
                        <a:pt x="184" y="536"/>
                      </a:lnTo>
                      <a:lnTo>
                        <a:pt x="159" y="546"/>
                      </a:lnTo>
                      <a:lnTo>
                        <a:pt x="131" y="555"/>
                      </a:lnTo>
                      <a:lnTo>
                        <a:pt x="105" y="564"/>
                      </a:lnTo>
                      <a:lnTo>
                        <a:pt x="77" y="572"/>
                      </a:lnTo>
                      <a:lnTo>
                        <a:pt x="47" y="580"/>
                      </a:lnTo>
                      <a:lnTo>
                        <a:pt x="0" y="592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0" name=""/>
            <p:cNvGrpSpPr/>
            <p:nvPr/>
          </p:nvGrpSpPr>
          <p:grpSpPr>
            <a:xfrm>
              <a:off x="1673280" y="2779560"/>
              <a:ext cx="2236680" cy="1444680"/>
              <a:chOff x="1673280" y="2779560"/>
              <a:chExt cx="2236680" cy="1444680"/>
            </a:xfrm>
          </p:grpSpPr>
          <p:sp>
            <p:nvSpPr>
              <p:cNvPr id="1281" name=""/>
              <p:cNvSpPr/>
              <p:nvPr/>
            </p:nvSpPr>
            <p:spPr>
              <a:xfrm>
                <a:off x="2438280" y="3056040"/>
                <a:ext cx="489240" cy="220680"/>
              </a:xfrm>
              <a:custGeom>
                <a:avLst/>
                <a:gdLst/>
                <a:ahLst/>
                <a:rect l="l" t="t" r="r" b="b"/>
                <a:pathLst>
                  <a:path w="308" h="139">
                    <a:moveTo>
                      <a:pt x="0" y="81"/>
                    </a:moveTo>
                    <a:lnTo>
                      <a:pt x="0" y="0"/>
                    </a:lnTo>
                    <a:lnTo>
                      <a:pt x="307" y="63"/>
                    </a:lnTo>
                    <a:lnTo>
                      <a:pt x="302" y="100"/>
                    </a:lnTo>
                    <a:lnTo>
                      <a:pt x="281" y="138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438360" y="3228840"/>
                <a:ext cx="470160" cy="214560"/>
              </a:xfrm>
              <a:custGeom>
                <a:avLst/>
                <a:gdLst/>
                <a:ahLst/>
                <a:rect l="l" t="t" r="r" b="b"/>
                <a:pathLst>
                  <a:path w="296" h="135">
                    <a:moveTo>
                      <a:pt x="295" y="134"/>
                    </a:moveTo>
                    <a:lnTo>
                      <a:pt x="294" y="59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95" y="13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3" name=""/>
              <p:cNvGrpSpPr/>
              <p:nvPr/>
            </p:nvGrpSpPr>
            <p:grpSpPr>
              <a:xfrm>
                <a:off x="1673280" y="2779560"/>
                <a:ext cx="2236680" cy="1444680"/>
                <a:chOff x="1673280" y="2779560"/>
                <a:chExt cx="2236680" cy="144468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1673280" y="2914560"/>
                  <a:ext cx="2235240" cy="1309680"/>
                </a:xfrm>
                <a:custGeom>
                  <a:avLst/>
                  <a:gdLst/>
                  <a:ahLst/>
                  <a:rect l="l" t="t" r="r" b="b"/>
                  <a:pathLst>
                    <a:path w="1408" h="825">
                      <a:moveTo>
                        <a:pt x="1" y="819"/>
                      </a:moveTo>
                      <a:lnTo>
                        <a:pt x="79" y="824"/>
                      </a:lnTo>
                      <a:lnTo>
                        <a:pt x="118" y="824"/>
                      </a:lnTo>
                      <a:lnTo>
                        <a:pt x="164" y="824"/>
                      </a:lnTo>
                      <a:lnTo>
                        <a:pt x="207" y="822"/>
                      </a:lnTo>
                      <a:lnTo>
                        <a:pt x="250" y="819"/>
                      </a:lnTo>
                      <a:lnTo>
                        <a:pt x="294" y="814"/>
                      </a:lnTo>
                      <a:lnTo>
                        <a:pt x="332" y="805"/>
                      </a:lnTo>
                      <a:lnTo>
                        <a:pt x="376" y="795"/>
                      </a:lnTo>
                      <a:lnTo>
                        <a:pt x="427" y="782"/>
                      </a:lnTo>
                      <a:lnTo>
                        <a:pt x="473" y="763"/>
                      </a:lnTo>
                      <a:lnTo>
                        <a:pt x="516" y="748"/>
                      </a:lnTo>
                      <a:lnTo>
                        <a:pt x="565" y="726"/>
                      </a:lnTo>
                      <a:lnTo>
                        <a:pt x="611" y="703"/>
                      </a:lnTo>
                      <a:lnTo>
                        <a:pt x="657" y="679"/>
                      </a:lnTo>
                      <a:lnTo>
                        <a:pt x="695" y="654"/>
                      </a:lnTo>
                      <a:lnTo>
                        <a:pt x="741" y="631"/>
                      </a:lnTo>
                      <a:lnTo>
                        <a:pt x="777" y="607"/>
                      </a:lnTo>
                      <a:lnTo>
                        <a:pt x="818" y="580"/>
                      </a:lnTo>
                      <a:lnTo>
                        <a:pt x="859" y="553"/>
                      </a:lnTo>
                      <a:lnTo>
                        <a:pt x="899" y="519"/>
                      </a:lnTo>
                      <a:lnTo>
                        <a:pt x="935" y="492"/>
                      </a:lnTo>
                      <a:lnTo>
                        <a:pt x="973" y="456"/>
                      </a:lnTo>
                      <a:lnTo>
                        <a:pt x="1009" y="423"/>
                      </a:lnTo>
                      <a:lnTo>
                        <a:pt x="1042" y="391"/>
                      </a:lnTo>
                      <a:lnTo>
                        <a:pt x="1071" y="354"/>
                      </a:lnTo>
                      <a:lnTo>
                        <a:pt x="1094" y="322"/>
                      </a:lnTo>
                      <a:lnTo>
                        <a:pt x="1111" y="288"/>
                      </a:lnTo>
                      <a:lnTo>
                        <a:pt x="1407" y="333"/>
                      </a:lnTo>
                      <a:lnTo>
                        <a:pt x="1362" y="309"/>
                      </a:lnTo>
                      <a:lnTo>
                        <a:pt x="1326" y="288"/>
                      </a:lnTo>
                      <a:lnTo>
                        <a:pt x="1283" y="267"/>
                      </a:lnTo>
                      <a:lnTo>
                        <a:pt x="1250" y="246"/>
                      </a:lnTo>
                      <a:lnTo>
                        <a:pt x="1221" y="226"/>
                      </a:lnTo>
                      <a:lnTo>
                        <a:pt x="1196" y="210"/>
                      </a:lnTo>
                      <a:lnTo>
                        <a:pt x="1171" y="187"/>
                      </a:lnTo>
                      <a:lnTo>
                        <a:pt x="1146" y="168"/>
                      </a:lnTo>
                      <a:lnTo>
                        <a:pt x="1120" y="144"/>
                      </a:lnTo>
                      <a:lnTo>
                        <a:pt x="1091" y="115"/>
                      </a:lnTo>
                      <a:lnTo>
                        <a:pt x="1060" y="87"/>
                      </a:lnTo>
                      <a:lnTo>
                        <a:pt x="1035" y="58"/>
                      </a:lnTo>
                      <a:lnTo>
                        <a:pt x="1008" y="27"/>
                      </a:lnTo>
                      <a:lnTo>
                        <a:pt x="986" y="0"/>
                      </a:lnTo>
                      <a:lnTo>
                        <a:pt x="963" y="9"/>
                      </a:lnTo>
                      <a:lnTo>
                        <a:pt x="940" y="25"/>
                      </a:lnTo>
                      <a:lnTo>
                        <a:pt x="916" y="37"/>
                      </a:lnTo>
                      <a:lnTo>
                        <a:pt x="887" y="51"/>
                      </a:lnTo>
                      <a:lnTo>
                        <a:pt x="857" y="66"/>
                      </a:lnTo>
                      <a:lnTo>
                        <a:pt x="830" y="76"/>
                      </a:lnTo>
                      <a:lnTo>
                        <a:pt x="803" y="85"/>
                      </a:lnTo>
                      <a:lnTo>
                        <a:pt x="773" y="97"/>
                      </a:lnTo>
                      <a:lnTo>
                        <a:pt x="743" y="105"/>
                      </a:lnTo>
                      <a:lnTo>
                        <a:pt x="708" y="115"/>
                      </a:lnTo>
                      <a:lnTo>
                        <a:pt x="678" y="124"/>
                      </a:lnTo>
                      <a:lnTo>
                        <a:pt x="649" y="133"/>
                      </a:lnTo>
                      <a:lnTo>
                        <a:pt x="617" y="139"/>
                      </a:lnTo>
                      <a:lnTo>
                        <a:pt x="588" y="147"/>
                      </a:lnTo>
                      <a:lnTo>
                        <a:pt x="560" y="154"/>
                      </a:lnTo>
                      <a:lnTo>
                        <a:pt x="526" y="163"/>
                      </a:lnTo>
                      <a:lnTo>
                        <a:pt x="481" y="169"/>
                      </a:lnTo>
                      <a:lnTo>
                        <a:pt x="790" y="232"/>
                      </a:lnTo>
                      <a:lnTo>
                        <a:pt x="769" y="279"/>
                      </a:lnTo>
                      <a:lnTo>
                        <a:pt x="746" y="315"/>
                      </a:lnTo>
                      <a:lnTo>
                        <a:pt x="700" y="384"/>
                      </a:lnTo>
                      <a:lnTo>
                        <a:pt x="675" y="414"/>
                      </a:lnTo>
                      <a:lnTo>
                        <a:pt x="649" y="445"/>
                      </a:lnTo>
                      <a:lnTo>
                        <a:pt x="613" y="483"/>
                      </a:lnTo>
                      <a:lnTo>
                        <a:pt x="575" y="524"/>
                      </a:lnTo>
                      <a:lnTo>
                        <a:pt x="537" y="554"/>
                      </a:lnTo>
                      <a:lnTo>
                        <a:pt x="485" y="595"/>
                      </a:lnTo>
                      <a:lnTo>
                        <a:pt x="442" y="622"/>
                      </a:lnTo>
                      <a:lnTo>
                        <a:pt x="401" y="648"/>
                      </a:lnTo>
                      <a:lnTo>
                        <a:pt x="365" y="669"/>
                      </a:lnTo>
                      <a:lnTo>
                        <a:pt x="340" y="684"/>
                      </a:lnTo>
                      <a:lnTo>
                        <a:pt x="294" y="699"/>
                      </a:lnTo>
                      <a:lnTo>
                        <a:pt x="253" y="713"/>
                      </a:lnTo>
                      <a:lnTo>
                        <a:pt x="207" y="731"/>
                      </a:lnTo>
                      <a:lnTo>
                        <a:pt x="143" y="743"/>
                      </a:lnTo>
                      <a:lnTo>
                        <a:pt x="95" y="752"/>
                      </a:lnTo>
                      <a:lnTo>
                        <a:pt x="0" y="755"/>
                      </a:lnTo>
                      <a:lnTo>
                        <a:pt x="1" y="8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1674720" y="2779560"/>
                  <a:ext cx="2235240" cy="1351080"/>
                </a:xfrm>
                <a:custGeom>
                  <a:avLst/>
                  <a:gdLst/>
                  <a:ahLst/>
                  <a:rect l="l" t="t" r="r" b="b"/>
                  <a:pathLst>
                    <a:path w="1408" h="851">
                      <a:moveTo>
                        <a:pt x="0" y="844"/>
                      </a:moveTo>
                      <a:lnTo>
                        <a:pt x="78" y="850"/>
                      </a:lnTo>
                      <a:lnTo>
                        <a:pt x="116" y="850"/>
                      </a:lnTo>
                      <a:lnTo>
                        <a:pt x="162" y="850"/>
                      </a:lnTo>
                      <a:lnTo>
                        <a:pt x="205" y="847"/>
                      </a:lnTo>
                      <a:lnTo>
                        <a:pt x="249" y="844"/>
                      </a:lnTo>
                      <a:lnTo>
                        <a:pt x="292" y="838"/>
                      </a:lnTo>
                      <a:lnTo>
                        <a:pt x="330" y="829"/>
                      </a:lnTo>
                      <a:lnTo>
                        <a:pt x="374" y="819"/>
                      </a:lnTo>
                      <a:lnTo>
                        <a:pt x="425" y="805"/>
                      </a:lnTo>
                      <a:lnTo>
                        <a:pt x="471" y="786"/>
                      </a:lnTo>
                      <a:lnTo>
                        <a:pt x="514" y="770"/>
                      </a:lnTo>
                      <a:lnTo>
                        <a:pt x="563" y="748"/>
                      </a:lnTo>
                      <a:lnTo>
                        <a:pt x="609" y="724"/>
                      </a:lnTo>
                      <a:lnTo>
                        <a:pt x="655" y="699"/>
                      </a:lnTo>
                      <a:lnTo>
                        <a:pt x="693" y="674"/>
                      </a:lnTo>
                      <a:lnTo>
                        <a:pt x="739" y="650"/>
                      </a:lnTo>
                      <a:lnTo>
                        <a:pt x="775" y="625"/>
                      </a:lnTo>
                      <a:lnTo>
                        <a:pt x="816" y="597"/>
                      </a:lnTo>
                      <a:lnTo>
                        <a:pt x="857" y="570"/>
                      </a:lnTo>
                      <a:lnTo>
                        <a:pt x="898" y="535"/>
                      </a:lnTo>
                      <a:lnTo>
                        <a:pt x="933" y="507"/>
                      </a:lnTo>
                      <a:lnTo>
                        <a:pt x="972" y="470"/>
                      </a:lnTo>
                      <a:lnTo>
                        <a:pt x="1008" y="436"/>
                      </a:lnTo>
                      <a:lnTo>
                        <a:pt x="1041" y="400"/>
                      </a:lnTo>
                      <a:lnTo>
                        <a:pt x="1069" y="362"/>
                      </a:lnTo>
                      <a:lnTo>
                        <a:pt x="1092" y="332"/>
                      </a:lnTo>
                      <a:lnTo>
                        <a:pt x="1110" y="297"/>
                      </a:lnTo>
                      <a:lnTo>
                        <a:pt x="1407" y="343"/>
                      </a:lnTo>
                      <a:lnTo>
                        <a:pt x="1360" y="319"/>
                      </a:lnTo>
                      <a:lnTo>
                        <a:pt x="1324" y="297"/>
                      </a:lnTo>
                      <a:lnTo>
                        <a:pt x="1281" y="275"/>
                      </a:lnTo>
                      <a:lnTo>
                        <a:pt x="1249" y="254"/>
                      </a:lnTo>
                      <a:lnTo>
                        <a:pt x="1220" y="233"/>
                      </a:lnTo>
                      <a:lnTo>
                        <a:pt x="1194" y="217"/>
                      </a:lnTo>
                      <a:lnTo>
                        <a:pt x="1169" y="193"/>
                      </a:lnTo>
                      <a:lnTo>
                        <a:pt x="1145" y="173"/>
                      </a:lnTo>
                      <a:lnTo>
                        <a:pt x="1118" y="149"/>
                      </a:lnTo>
                      <a:lnTo>
                        <a:pt x="1089" y="119"/>
                      </a:lnTo>
                      <a:lnTo>
                        <a:pt x="1059" y="90"/>
                      </a:lnTo>
                      <a:lnTo>
                        <a:pt x="1033" y="60"/>
                      </a:lnTo>
                      <a:lnTo>
                        <a:pt x="1006" y="28"/>
                      </a:lnTo>
                      <a:lnTo>
                        <a:pt x="985" y="0"/>
                      </a:lnTo>
                      <a:lnTo>
                        <a:pt x="962" y="10"/>
                      </a:lnTo>
                      <a:lnTo>
                        <a:pt x="939" y="26"/>
                      </a:lnTo>
                      <a:lnTo>
                        <a:pt x="914" y="39"/>
                      </a:lnTo>
                      <a:lnTo>
                        <a:pt x="885" y="53"/>
                      </a:lnTo>
                      <a:lnTo>
                        <a:pt x="855" y="68"/>
                      </a:lnTo>
                      <a:lnTo>
                        <a:pt x="828" y="79"/>
                      </a:lnTo>
                      <a:lnTo>
                        <a:pt x="801" y="88"/>
                      </a:lnTo>
                      <a:lnTo>
                        <a:pt x="772" y="100"/>
                      </a:lnTo>
                      <a:lnTo>
                        <a:pt x="741" y="109"/>
                      </a:lnTo>
                      <a:lnTo>
                        <a:pt x="706" y="119"/>
                      </a:lnTo>
                      <a:lnTo>
                        <a:pt x="676" y="128"/>
                      </a:lnTo>
                      <a:lnTo>
                        <a:pt x="647" y="137"/>
                      </a:lnTo>
                      <a:lnTo>
                        <a:pt x="616" y="144"/>
                      </a:lnTo>
                      <a:lnTo>
                        <a:pt x="586" y="152"/>
                      </a:lnTo>
                      <a:lnTo>
                        <a:pt x="558" y="159"/>
                      </a:lnTo>
                      <a:lnTo>
                        <a:pt x="525" y="168"/>
                      </a:lnTo>
                      <a:lnTo>
                        <a:pt x="481" y="174"/>
                      </a:lnTo>
                      <a:lnTo>
                        <a:pt x="788" y="239"/>
                      </a:lnTo>
                      <a:lnTo>
                        <a:pt x="767" y="288"/>
                      </a:lnTo>
                      <a:lnTo>
                        <a:pt x="744" y="325"/>
                      </a:lnTo>
                      <a:lnTo>
                        <a:pt x="698" y="393"/>
                      </a:lnTo>
                      <a:lnTo>
                        <a:pt x="673" y="427"/>
                      </a:lnTo>
                      <a:lnTo>
                        <a:pt x="647" y="458"/>
                      </a:lnTo>
                      <a:lnTo>
                        <a:pt x="601" y="510"/>
                      </a:lnTo>
                      <a:lnTo>
                        <a:pt x="573" y="541"/>
                      </a:lnTo>
                      <a:lnTo>
                        <a:pt x="540" y="579"/>
                      </a:lnTo>
                      <a:lnTo>
                        <a:pt x="509" y="606"/>
                      </a:lnTo>
                      <a:lnTo>
                        <a:pt x="484" y="631"/>
                      </a:lnTo>
                      <a:lnTo>
                        <a:pt x="458" y="656"/>
                      </a:lnTo>
                      <a:lnTo>
                        <a:pt x="428" y="680"/>
                      </a:lnTo>
                      <a:lnTo>
                        <a:pt x="394" y="705"/>
                      </a:lnTo>
                      <a:lnTo>
                        <a:pt x="361" y="724"/>
                      </a:lnTo>
                      <a:lnTo>
                        <a:pt x="328" y="745"/>
                      </a:lnTo>
                      <a:lnTo>
                        <a:pt x="287" y="764"/>
                      </a:lnTo>
                      <a:lnTo>
                        <a:pt x="249" y="779"/>
                      </a:lnTo>
                      <a:lnTo>
                        <a:pt x="205" y="792"/>
                      </a:lnTo>
                      <a:lnTo>
                        <a:pt x="164" y="805"/>
                      </a:lnTo>
                      <a:lnTo>
                        <a:pt x="121" y="816"/>
                      </a:lnTo>
                      <a:lnTo>
                        <a:pt x="73" y="827"/>
                      </a:lnTo>
                      <a:lnTo>
                        <a:pt x="0" y="844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286" name="" descr=""/>
            <p:cNvPicPr/>
            <p:nvPr/>
          </p:nvPicPr>
          <p:blipFill>
            <a:blip r:embed="rId1"/>
            <a:stretch/>
          </p:blipFill>
          <p:spPr>
            <a:xfrm>
              <a:off x="1311120" y="4051440"/>
              <a:ext cx="14446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7" name="" descr=""/>
            <p:cNvPicPr/>
            <p:nvPr/>
          </p:nvPicPr>
          <p:blipFill>
            <a:blip r:embed="rId2"/>
            <a:stretch/>
          </p:blipFill>
          <p:spPr>
            <a:xfrm>
              <a:off x="2844720" y="3830760"/>
              <a:ext cx="144468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8" name=""/>
            <p:cNvGrpSpPr/>
            <p:nvPr/>
          </p:nvGrpSpPr>
          <p:grpSpPr>
            <a:xfrm>
              <a:off x="4890960" y="3046320"/>
              <a:ext cx="1433520" cy="1111320"/>
              <a:chOff x="4890960" y="3046320"/>
              <a:chExt cx="1433520" cy="1111320"/>
            </a:xfrm>
          </p:grpSpPr>
          <p:sp>
            <p:nvSpPr>
              <p:cNvPr id="1289" name=""/>
              <p:cNvSpPr/>
              <p:nvPr/>
            </p:nvSpPr>
            <p:spPr>
              <a:xfrm>
                <a:off x="5521320" y="3259080"/>
                <a:ext cx="312840" cy="169920"/>
              </a:xfrm>
              <a:custGeom>
                <a:avLst/>
                <a:gdLst/>
                <a:ahLst/>
                <a:rect l="l" t="t" r="r" b="b"/>
                <a:pathLst>
                  <a:path w="197" h="107">
                    <a:moveTo>
                      <a:pt x="196" y="62"/>
                    </a:moveTo>
                    <a:lnTo>
                      <a:pt x="196" y="0"/>
                    </a:lnTo>
                    <a:lnTo>
                      <a:pt x="0" y="48"/>
                    </a:lnTo>
                    <a:lnTo>
                      <a:pt x="3" y="76"/>
                    </a:lnTo>
                    <a:lnTo>
                      <a:pt x="16" y="106"/>
                    </a:lnTo>
                    <a:lnTo>
                      <a:pt x="196" y="6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892760" y="3392640"/>
                <a:ext cx="299880" cy="163440"/>
              </a:xfrm>
              <a:custGeom>
                <a:avLst/>
                <a:gdLst/>
                <a:ahLst/>
                <a:rect l="l" t="t" r="r" b="b"/>
                <a:pathLst>
                  <a:path w="189" h="103">
                    <a:moveTo>
                      <a:pt x="0" y="102"/>
                    </a:moveTo>
                    <a:lnTo>
                      <a:pt x="1" y="45"/>
                    </a:lnTo>
                    <a:lnTo>
                      <a:pt x="188" y="0"/>
                    </a:lnTo>
                    <a:lnTo>
                      <a:pt x="188" y="73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"/>
              <p:cNvGrpSpPr/>
              <p:nvPr/>
            </p:nvGrpSpPr>
            <p:grpSpPr>
              <a:xfrm>
                <a:off x="4890960" y="3046320"/>
                <a:ext cx="1433520" cy="1111320"/>
                <a:chOff x="4890960" y="3046320"/>
                <a:chExt cx="1433520" cy="111132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4892760" y="3149640"/>
                  <a:ext cx="1431720" cy="1008000"/>
                </a:xfrm>
                <a:custGeom>
                  <a:avLst/>
                  <a:gdLst/>
                  <a:ahLst/>
                  <a:rect l="l" t="t" r="r" b="b"/>
                  <a:pathLst>
                    <a:path w="902" h="635">
                      <a:moveTo>
                        <a:pt x="900" y="630"/>
                      </a:moveTo>
                      <a:lnTo>
                        <a:pt x="850" y="634"/>
                      </a:lnTo>
                      <a:lnTo>
                        <a:pt x="826" y="634"/>
                      </a:lnTo>
                      <a:lnTo>
                        <a:pt x="796" y="634"/>
                      </a:lnTo>
                      <a:lnTo>
                        <a:pt x="768" y="632"/>
                      </a:lnTo>
                      <a:lnTo>
                        <a:pt x="741" y="630"/>
                      </a:lnTo>
                      <a:lnTo>
                        <a:pt x="713" y="626"/>
                      </a:lnTo>
                      <a:lnTo>
                        <a:pt x="688" y="620"/>
                      </a:lnTo>
                      <a:lnTo>
                        <a:pt x="660" y="612"/>
                      </a:lnTo>
                      <a:lnTo>
                        <a:pt x="628" y="601"/>
                      </a:lnTo>
                      <a:lnTo>
                        <a:pt x="598" y="587"/>
                      </a:lnTo>
                      <a:lnTo>
                        <a:pt x="570" y="576"/>
                      </a:lnTo>
                      <a:lnTo>
                        <a:pt x="539" y="559"/>
                      </a:lnTo>
                      <a:lnTo>
                        <a:pt x="510" y="541"/>
                      </a:lnTo>
                      <a:lnTo>
                        <a:pt x="480" y="522"/>
                      </a:lnTo>
                      <a:lnTo>
                        <a:pt x="456" y="503"/>
                      </a:lnTo>
                      <a:lnTo>
                        <a:pt x="427" y="485"/>
                      </a:lnTo>
                      <a:lnTo>
                        <a:pt x="404" y="467"/>
                      </a:lnTo>
                      <a:lnTo>
                        <a:pt x="377" y="446"/>
                      </a:lnTo>
                      <a:lnTo>
                        <a:pt x="351" y="425"/>
                      </a:lnTo>
                      <a:lnTo>
                        <a:pt x="325" y="399"/>
                      </a:lnTo>
                      <a:lnTo>
                        <a:pt x="302" y="379"/>
                      </a:lnTo>
                      <a:lnTo>
                        <a:pt x="278" y="351"/>
                      </a:lnTo>
                      <a:lnTo>
                        <a:pt x="255" y="326"/>
                      </a:lnTo>
                      <a:lnTo>
                        <a:pt x="233" y="301"/>
                      </a:lnTo>
                      <a:lnTo>
                        <a:pt x="215" y="273"/>
                      </a:lnTo>
                      <a:lnTo>
                        <a:pt x="201" y="248"/>
                      </a:lnTo>
                      <a:lnTo>
                        <a:pt x="189" y="222"/>
                      </a:lnTo>
                      <a:lnTo>
                        <a:pt x="0" y="256"/>
                      </a:lnTo>
                      <a:lnTo>
                        <a:pt x="29" y="238"/>
                      </a:lnTo>
                      <a:lnTo>
                        <a:pt x="52" y="222"/>
                      </a:lnTo>
                      <a:lnTo>
                        <a:pt x="80" y="206"/>
                      </a:lnTo>
                      <a:lnTo>
                        <a:pt x="100" y="189"/>
                      </a:lnTo>
                      <a:lnTo>
                        <a:pt x="119" y="174"/>
                      </a:lnTo>
                      <a:lnTo>
                        <a:pt x="135" y="162"/>
                      </a:lnTo>
                      <a:lnTo>
                        <a:pt x="151" y="144"/>
                      </a:lnTo>
                      <a:lnTo>
                        <a:pt x="167" y="129"/>
                      </a:lnTo>
                      <a:lnTo>
                        <a:pt x="184" y="111"/>
                      </a:lnTo>
                      <a:lnTo>
                        <a:pt x="202" y="89"/>
                      </a:lnTo>
                      <a:lnTo>
                        <a:pt x="222" y="67"/>
                      </a:lnTo>
                      <a:lnTo>
                        <a:pt x="238" y="45"/>
                      </a:lnTo>
                      <a:lnTo>
                        <a:pt x="256" y="21"/>
                      </a:lnTo>
                      <a:lnTo>
                        <a:pt x="269" y="0"/>
                      </a:lnTo>
                      <a:lnTo>
                        <a:pt x="284" y="7"/>
                      </a:lnTo>
                      <a:lnTo>
                        <a:pt x="299" y="19"/>
                      </a:lnTo>
                      <a:lnTo>
                        <a:pt x="315" y="28"/>
                      </a:lnTo>
                      <a:lnTo>
                        <a:pt x="333" y="39"/>
                      </a:lnTo>
                      <a:lnTo>
                        <a:pt x="352" y="51"/>
                      </a:lnTo>
                      <a:lnTo>
                        <a:pt x="370" y="58"/>
                      </a:lnTo>
                      <a:lnTo>
                        <a:pt x="387" y="65"/>
                      </a:lnTo>
                      <a:lnTo>
                        <a:pt x="406" y="74"/>
                      </a:lnTo>
                      <a:lnTo>
                        <a:pt x="425" y="80"/>
                      </a:lnTo>
                      <a:lnTo>
                        <a:pt x="448" y="89"/>
                      </a:lnTo>
                      <a:lnTo>
                        <a:pt x="467" y="96"/>
                      </a:lnTo>
                      <a:lnTo>
                        <a:pt x="485" y="103"/>
                      </a:lnTo>
                      <a:lnTo>
                        <a:pt x="506" y="107"/>
                      </a:lnTo>
                      <a:lnTo>
                        <a:pt x="525" y="113"/>
                      </a:lnTo>
                      <a:lnTo>
                        <a:pt x="543" y="118"/>
                      </a:lnTo>
                      <a:lnTo>
                        <a:pt x="564" y="125"/>
                      </a:lnTo>
                      <a:lnTo>
                        <a:pt x="593" y="130"/>
                      </a:lnTo>
                      <a:lnTo>
                        <a:pt x="395" y="178"/>
                      </a:lnTo>
                      <a:lnTo>
                        <a:pt x="409" y="215"/>
                      </a:lnTo>
                      <a:lnTo>
                        <a:pt x="423" y="242"/>
                      </a:lnTo>
                      <a:lnTo>
                        <a:pt x="453" y="295"/>
                      </a:lnTo>
                      <a:lnTo>
                        <a:pt x="469" y="319"/>
                      </a:lnTo>
                      <a:lnTo>
                        <a:pt x="485" y="342"/>
                      </a:lnTo>
                      <a:lnTo>
                        <a:pt x="508" y="371"/>
                      </a:lnTo>
                      <a:lnTo>
                        <a:pt x="533" y="403"/>
                      </a:lnTo>
                      <a:lnTo>
                        <a:pt x="557" y="426"/>
                      </a:lnTo>
                      <a:lnTo>
                        <a:pt x="590" y="458"/>
                      </a:lnTo>
                      <a:lnTo>
                        <a:pt x="618" y="478"/>
                      </a:lnTo>
                      <a:lnTo>
                        <a:pt x="644" y="499"/>
                      </a:lnTo>
                      <a:lnTo>
                        <a:pt x="667" y="515"/>
                      </a:lnTo>
                      <a:lnTo>
                        <a:pt x="683" y="526"/>
                      </a:lnTo>
                      <a:lnTo>
                        <a:pt x="713" y="538"/>
                      </a:lnTo>
                      <a:lnTo>
                        <a:pt x="739" y="549"/>
                      </a:lnTo>
                      <a:lnTo>
                        <a:pt x="768" y="563"/>
                      </a:lnTo>
                      <a:lnTo>
                        <a:pt x="809" y="572"/>
                      </a:lnTo>
                      <a:lnTo>
                        <a:pt x="840" y="579"/>
                      </a:lnTo>
                      <a:lnTo>
                        <a:pt x="901" y="581"/>
                      </a:lnTo>
                      <a:lnTo>
                        <a:pt x="900" y="63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4890960" y="3046320"/>
                  <a:ext cx="1432080" cy="1038240"/>
                </a:xfrm>
                <a:custGeom>
                  <a:avLst/>
                  <a:gdLst/>
                  <a:ahLst/>
                  <a:rect l="l" t="t" r="r" b="b"/>
                  <a:pathLst>
                    <a:path w="902" h="654">
                      <a:moveTo>
                        <a:pt x="901" y="648"/>
                      </a:moveTo>
                      <a:lnTo>
                        <a:pt x="851" y="653"/>
                      </a:lnTo>
                      <a:lnTo>
                        <a:pt x="827" y="653"/>
                      </a:lnTo>
                      <a:lnTo>
                        <a:pt x="797" y="653"/>
                      </a:lnTo>
                      <a:lnTo>
                        <a:pt x="770" y="651"/>
                      </a:lnTo>
                      <a:lnTo>
                        <a:pt x="742" y="648"/>
                      </a:lnTo>
                      <a:lnTo>
                        <a:pt x="714" y="644"/>
                      </a:lnTo>
                      <a:lnTo>
                        <a:pt x="689" y="637"/>
                      </a:lnTo>
                      <a:lnTo>
                        <a:pt x="662" y="629"/>
                      </a:lnTo>
                      <a:lnTo>
                        <a:pt x="629" y="618"/>
                      </a:lnTo>
                      <a:lnTo>
                        <a:pt x="599" y="604"/>
                      </a:lnTo>
                      <a:lnTo>
                        <a:pt x="572" y="592"/>
                      </a:lnTo>
                      <a:lnTo>
                        <a:pt x="540" y="575"/>
                      </a:lnTo>
                      <a:lnTo>
                        <a:pt x="511" y="556"/>
                      </a:lnTo>
                      <a:lnTo>
                        <a:pt x="482" y="537"/>
                      </a:lnTo>
                      <a:lnTo>
                        <a:pt x="457" y="518"/>
                      </a:lnTo>
                      <a:lnTo>
                        <a:pt x="428" y="499"/>
                      </a:lnTo>
                      <a:lnTo>
                        <a:pt x="405" y="480"/>
                      </a:lnTo>
                      <a:lnTo>
                        <a:pt x="379" y="459"/>
                      </a:lnTo>
                      <a:lnTo>
                        <a:pt x="352" y="438"/>
                      </a:lnTo>
                      <a:lnTo>
                        <a:pt x="326" y="411"/>
                      </a:lnTo>
                      <a:lnTo>
                        <a:pt x="303" y="390"/>
                      </a:lnTo>
                      <a:lnTo>
                        <a:pt x="279" y="361"/>
                      </a:lnTo>
                      <a:lnTo>
                        <a:pt x="256" y="335"/>
                      </a:lnTo>
                      <a:lnTo>
                        <a:pt x="235" y="307"/>
                      </a:lnTo>
                      <a:lnTo>
                        <a:pt x="217" y="278"/>
                      </a:lnTo>
                      <a:lnTo>
                        <a:pt x="202" y="255"/>
                      </a:lnTo>
                      <a:lnTo>
                        <a:pt x="190" y="228"/>
                      </a:lnTo>
                      <a:lnTo>
                        <a:pt x="0" y="263"/>
                      </a:lnTo>
                      <a:lnTo>
                        <a:pt x="30" y="245"/>
                      </a:lnTo>
                      <a:lnTo>
                        <a:pt x="53" y="228"/>
                      </a:lnTo>
                      <a:lnTo>
                        <a:pt x="81" y="212"/>
                      </a:lnTo>
                      <a:lnTo>
                        <a:pt x="101" y="195"/>
                      </a:lnTo>
                      <a:lnTo>
                        <a:pt x="120" y="179"/>
                      </a:lnTo>
                      <a:lnTo>
                        <a:pt x="136" y="167"/>
                      </a:lnTo>
                      <a:lnTo>
                        <a:pt x="152" y="149"/>
                      </a:lnTo>
                      <a:lnTo>
                        <a:pt x="168" y="133"/>
                      </a:lnTo>
                      <a:lnTo>
                        <a:pt x="185" y="115"/>
                      </a:lnTo>
                      <a:lnTo>
                        <a:pt x="203" y="92"/>
                      </a:lnTo>
                      <a:lnTo>
                        <a:pt x="223" y="69"/>
                      </a:lnTo>
                      <a:lnTo>
                        <a:pt x="239" y="46"/>
                      </a:lnTo>
                      <a:lnTo>
                        <a:pt x="257" y="21"/>
                      </a:lnTo>
                      <a:lnTo>
                        <a:pt x="271" y="0"/>
                      </a:lnTo>
                      <a:lnTo>
                        <a:pt x="285" y="8"/>
                      </a:lnTo>
                      <a:lnTo>
                        <a:pt x="300" y="20"/>
                      </a:lnTo>
                      <a:lnTo>
                        <a:pt x="316" y="30"/>
                      </a:lnTo>
                      <a:lnTo>
                        <a:pt x="334" y="41"/>
                      </a:lnTo>
                      <a:lnTo>
                        <a:pt x="353" y="52"/>
                      </a:lnTo>
                      <a:lnTo>
                        <a:pt x="371" y="61"/>
                      </a:lnTo>
                      <a:lnTo>
                        <a:pt x="388" y="67"/>
                      </a:lnTo>
                      <a:lnTo>
                        <a:pt x="407" y="77"/>
                      </a:lnTo>
                      <a:lnTo>
                        <a:pt x="427" y="83"/>
                      </a:lnTo>
                      <a:lnTo>
                        <a:pt x="449" y="92"/>
                      </a:lnTo>
                      <a:lnTo>
                        <a:pt x="468" y="99"/>
                      </a:lnTo>
                      <a:lnTo>
                        <a:pt x="486" y="105"/>
                      </a:lnTo>
                      <a:lnTo>
                        <a:pt x="507" y="111"/>
                      </a:lnTo>
                      <a:lnTo>
                        <a:pt x="526" y="117"/>
                      </a:lnTo>
                      <a:lnTo>
                        <a:pt x="544" y="122"/>
                      </a:lnTo>
                      <a:lnTo>
                        <a:pt x="565" y="129"/>
                      </a:lnTo>
                      <a:lnTo>
                        <a:pt x="593" y="133"/>
                      </a:lnTo>
                      <a:lnTo>
                        <a:pt x="397" y="184"/>
                      </a:lnTo>
                      <a:lnTo>
                        <a:pt x="410" y="221"/>
                      </a:lnTo>
                      <a:lnTo>
                        <a:pt x="424" y="250"/>
                      </a:lnTo>
                      <a:lnTo>
                        <a:pt x="454" y="302"/>
                      </a:lnTo>
                      <a:lnTo>
                        <a:pt x="470" y="328"/>
                      </a:lnTo>
                      <a:lnTo>
                        <a:pt x="486" y="352"/>
                      </a:lnTo>
                      <a:lnTo>
                        <a:pt x="516" y="392"/>
                      </a:lnTo>
                      <a:lnTo>
                        <a:pt x="534" y="416"/>
                      </a:lnTo>
                      <a:lnTo>
                        <a:pt x="555" y="444"/>
                      </a:lnTo>
                      <a:lnTo>
                        <a:pt x="575" y="466"/>
                      </a:lnTo>
                      <a:lnTo>
                        <a:pt x="591" y="485"/>
                      </a:lnTo>
                      <a:lnTo>
                        <a:pt x="608" y="504"/>
                      </a:lnTo>
                      <a:lnTo>
                        <a:pt x="627" y="523"/>
                      </a:lnTo>
                      <a:lnTo>
                        <a:pt x="648" y="542"/>
                      </a:lnTo>
                      <a:lnTo>
                        <a:pt x="670" y="556"/>
                      </a:lnTo>
                      <a:lnTo>
                        <a:pt x="691" y="573"/>
                      </a:lnTo>
                      <a:lnTo>
                        <a:pt x="717" y="587"/>
                      </a:lnTo>
                      <a:lnTo>
                        <a:pt x="742" y="598"/>
                      </a:lnTo>
                      <a:lnTo>
                        <a:pt x="770" y="608"/>
                      </a:lnTo>
                      <a:lnTo>
                        <a:pt x="796" y="618"/>
                      </a:lnTo>
                      <a:lnTo>
                        <a:pt x="824" y="627"/>
                      </a:lnTo>
                      <a:lnTo>
                        <a:pt x="854" y="636"/>
                      </a:lnTo>
                      <a:lnTo>
                        <a:pt x="901" y="64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"/>
            <p:cNvGrpSpPr/>
            <p:nvPr/>
          </p:nvGrpSpPr>
          <p:grpSpPr>
            <a:xfrm>
              <a:off x="5810400" y="2832120"/>
              <a:ext cx="2331720" cy="1444680"/>
              <a:chOff x="5810400" y="2832120"/>
              <a:chExt cx="2331720" cy="14446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835680" y="3108240"/>
                <a:ext cx="507960" cy="220680"/>
              </a:xfrm>
              <a:custGeom>
                <a:avLst/>
                <a:gdLst/>
                <a:ahLst/>
                <a:rect l="l" t="t" r="r" b="b"/>
                <a:pathLst>
                  <a:path w="320" h="139">
                    <a:moveTo>
                      <a:pt x="319" y="81"/>
                    </a:moveTo>
                    <a:lnTo>
                      <a:pt x="319" y="0"/>
                    </a:lnTo>
                    <a:lnTo>
                      <a:pt x="0" y="63"/>
                    </a:lnTo>
                    <a:lnTo>
                      <a:pt x="5" y="100"/>
                    </a:lnTo>
                    <a:lnTo>
                      <a:pt x="27" y="138"/>
                    </a:lnTo>
                    <a:lnTo>
                      <a:pt x="319" y="8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11840" y="3281400"/>
                <a:ext cx="488880" cy="214200"/>
              </a:xfrm>
              <a:custGeom>
                <a:avLst/>
                <a:gdLst/>
                <a:ahLst/>
                <a:rect l="l" t="t" r="r" b="b"/>
                <a:pathLst>
                  <a:path w="308" h="135">
                    <a:moveTo>
                      <a:pt x="0" y="134"/>
                    </a:moveTo>
                    <a:lnTo>
                      <a:pt x="1" y="59"/>
                    </a:lnTo>
                    <a:lnTo>
                      <a:pt x="307" y="0"/>
                    </a:lnTo>
                    <a:lnTo>
                      <a:pt x="307" y="95"/>
                    </a:lnTo>
                    <a:lnTo>
                      <a:pt x="0" y="13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5810400" y="2832120"/>
                <a:ext cx="2331720" cy="1444680"/>
                <a:chOff x="5810400" y="2832120"/>
                <a:chExt cx="2331720" cy="144468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5811840" y="2967120"/>
                  <a:ext cx="2330280" cy="1309680"/>
                </a:xfrm>
                <a:custGeom>
                  <a:avLst/>
                  <a:gdLst/>
                  <a:ahLst/>
                  <a:rect l="l" t="t" r="r" b="b"/>
                  <a:pathLst>
                    <a:path w="1468" h="825">
                      <a:moveTo>
                        <a:pt x="1466" y="819"/>
                      </a:moveTo>
                      <a:lnTo>
                        <a:pt x="1384" y="824"/>
                      </a:lnTo>
                      <a:lnTo>
                        <a:pt x="1344" y="824"/>
                      </a:lnTo>
                      <a:lnTo>
                        <a:pt x="1297" y="824"/>
                      </a:lnTo>
                      <a:lnTo>
                        <a:pt x="1251" y="822"/>
                      </a:lnTo>
                      <a:lnTo>
                        <a:pt x="1206" y="819"/>
                      </a:lnTo>
                      <a:lnTo>
                        <a:pt x="1161" y="814"/>
                      </a:lnTo>
                      <a:lnTo>
                        <a:pt x="1121" y="805"/>
                      </a:lnTo>
                      <a:lnTo>
                        <a:pt x="1075" y="795"/>
                      </a:lnTo>
                      <a:lnTo>
                        <a:pt x="1022" y="782"/>
                      </a:lnTo>
                      <a:lnTo>
                        <a:pt x="974" y="763"/>
                      </a:lnTo>
                      <a:lnTo>
                        <a:pt x="929" y="748"/>
                      </a:lnTo>
                      <a:lnTo>
                        <a:pt x="878" y="726"/>
                      </a:lnTo>
                      <a:lnTo>
                        <a:pt x="830" y="703"/>
                      </a:lnTo>
                      <a:lnTo>
                        <a:pt x="782" y="679"/>
                      </a:lnTo>
                      <a:lnTo>
                        <a:pt x="742" y="654"/>
                      </a:lnTo>
                      <a:lnTo>
                        <a:pt x="694" y="631"/>
                      </a:lnTo>
                      <a:lnTo>
                        <a:pt x="657" y="607"/>
                      </a:lnTo>
                      <a:lnTo>
                        <a:pt x="615" y="580"/>
                      </a:lnTo>
                      <a:lnTo>
                        <a:pt x="572" y="553"/>
                      </a:lnTo>
                      <a:lnTo>
                        <a:pt x="529" y="519"/>
                      </a:lnTo>
                      <a:lnTo>
                        <a:pt x="492" y="492"/>
                      </a:lnTo>
                      <a:lnTo>
                        <a:pt x="452" y="456"/>
                      </a:lnTo>
                      <a:lnTo>
                        <a:pt x="415" y="423"/>
                      </a:lnTo>
                      <a:lnTo>
                        <a:pt x="380" y="391"/>
                      </a:lnTo>
                      <a:lnTo>
                        <a:pt x="351" y="354"/>
                      </a:lnTo>
                      <a:lnTo>
                        <a:pt x="327" y="322"/>
                      </a:lnTo>
                      <a:lnTo>
                        <a:pt x="308" y="288"/>
                      </a:lnTo>
                      <a:lnTo>
                        <a:pt x="0" y="333"/>
                      </a:lnTo>
                      <a:lnTo>
                        <a:pt x="47" y="309"/>
                      </a:lnTo>
                      <a:lnTo>
                        <a:pt x="84" y="288"/>
                      </a:lnTo>
                      <a:lnTo>
                        <a:pt x="130" y="267"/>
                      </a:lnTo>
                      <a:lnTo>
                        <a:pt x="163" y="246"/>
                      </a:lnTo>
                      <a:lnTo>
                        <a:pt x="194" y="226"/>
                      </a:lnTo>
                      <a:lnTo>
                        <a:pt x="220" y="210"/>
                      </a:lnTo>
                      <a:lnTo>
                        <a:pt x="246" y="187"/>
                      </a:lnTo>
                      <a:lnTo>
                        <a:pt x="272" y="168"/>
                      </a:lnTo>
                      <a:lnTo>
                        <a:pt x="299" y="144"/>
                      </a:lnTo>
                      <a:lnTo>
                        <a:pt x="329" y="115"/>
                      </a:lnTo>
                      <a:lnTo>
                        <a:pt x="361" y="87"/>
                      </a:lnTo>
                      <a:lnTo>
                        <a:pt x="388" y="58"/>
                      </a:lnTo>
                      <a:lnTo>
                        <a:pt x="416" y="27"/>
                      </a:lnTo>
                      <a:lnTo>
                        <a:pt x="439" y="0"/>
                      </a:lnTo>
                      <a:lnTo>
                        <a:pt x="463" y="9"/>
                      </a:lnTo>
                      <a:lnTo>
                        <a:pt x="487" y="25"/>
                      </a:lnTo>
                      <a:lnTo>
                        <a:pt x="512" y="37"/>
                      </a:lnTo>
                      <a:lnTo>
                        <a:pt x="543" y="51"/>
                      </a:lnTo>
                      <a:lnTo>
                        <a:pt x="574" y="66"/>
                      </a:lnTo>
                      <a:lnTo>
                        <a:pt x="602" y="76"/>
                      </a:lnTo>
                      <a:lnTo>
                        <a:pt x="630" y="85"/>
                      </a:lnTo>
                      <a:lnTo>
                        <a:pt x="661" y="97"/>
                      </a:lnTo>
                      <a:lnTo>
                        <a:pt x="693" y="105"/>
                      </a:lnTo>
                      <a:lnTo>
                        <a:pt x="729" y="115"/>
                      </a:lnTo>
                      <a:lnTo>
                        <a:pt x="760" y="124"/>
                      </a:lnTo>
                      <a:lnTo>
                        <a:pt x="790" y="133"/>
                      </a:lnTo>
                      <a:lnTo>
                        <a:pt x="823" y="139"/>
                      </a:lnTo>
                      <a:lnTo>
                        <a:pt x="854" y="147"/>
                      </a:lnTo>
                      <a:lnTo>
                        <a:pt x="884" y="154"/>
                      </a:lnTo>
                      <a:lnTo>
                        <a:pt x="918" y="163"/>
                      </a:lnTo>
                      <a:lnTo>
                        <a:pt x="965" y="169"/>
                      </a:lnTo>
                      <a:lnTo>
                        <a:pt x="644" y="232"/>
                      </a:lnTo>
                      <a:lnTo>
                        <a:pt x="665" y="279"/>
                      </a:lnTo>
                      <a:lnTo>
                        <a:pt x="689" y="315"/>
                      </a:lnTo>
                      <a:lnTo>
                        <a:pt x="737" y="384"/>
                      </a:lnTo>
                      <a:lnTo>
                        <a:pt x="764" y="414"/>
                      </a:lnTo>
                      <a:lnTo>
                        <a:pt x="790" y="445"/>
                      </a:lnTo>
                      <a:lnTo>
                        <a:pt x="828" y="483"/>
                      </a:lnTo>
                      <a:lnTo>
                        <a:pt x="868" y="524"/>
                      </a:lnTo>
                      <a:lnTo>
                        <a:pt x="908" y="554"/>
                      </a:lnTo>
                      <a:lnTo>
                        <a:pt x="961" y="595"/>
                      </a:lnTo>
                      <a:lnTo>
                        <a:pt x="1006" y="622"/>
                      </a:lnTo>
                      <a:lnTo>
                        <a:pt x="1049" y="648"/>
                      </a:lnTo>
                      <a:lnTo>
                        <a:pt x="1086" y="669"/>
                      </a:lnTo>
                      <a:lnTo>
                        <a:pt x="1113" y="684"/>
                      </a:lnTo>
                      <a:lnTo>
                        <a:pt x="1161" y="699"/>
                      </a:lnTo>
                      <a:lnTo>
                        <a:pt x="1203" y="713"/>
                      </a:lnTo>
                      <a:lnTo>
                        <a:pt x="1251" y="731"/>
                      </a:lnTo>
                      <a:lnTo>
                        <a:pt x="1318" y="743"/>
                      </a:lnTo>
                      <a:lnTo>
                        <a:pt x="1368" y="752"/>
                      </a:lnTo>
                      <a:lnTo>
                        <a:pt x="1467" y="755"/>
                      </a:lnTo>
                      <a:lnTo>
                        <a:pt x="1466" y="8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10400" y="2832120"/>
                  <a:ext cx="2330280" cy="1351080"/>
                </a:xfrm>
                <a:custGeom>
                  <a:avLst/>
                  <a:gdLst/>
                  <a:ahLst/>
                  <a:rect l="l" t="t" r="r" b="b"/>
                  <a:pathLst>
                    <a:path w="1468" h="851">
                      <a:moveTo>
                        <a:pt x="1467" y="844"/>
                      </a:moveTo>
                      <a:lnTo>
                        <a:pt x="1386" y="850"/>
                      </a:lnTo>
                      <a:lnTo>
                        <a:pt x="1346" y="850"/>
                      </a:lnTo>
                      <a:lnTo>
                        <a:pt x="1298" y="850"/>
                      </a:lnTo>
                      <a:lnTo>
                        <a:pt x="1253" y="847"/>
                      </a:lnTo>
                      <a:lnTo>
                        <a:pt x="1208" y="844"/>
                      </a:lnTo>
                      <a:lnTo>
                        <a:pt x="1162" y="838"/>
                      </a:lnTo>
                      <a:lnTo>
                        <a:pt x="1122" y="829"/>
                      </a:lnTo>
                      <a:lnTo>
                        <a:pt x="1077" y="819"/>
                      </a:lnTo>
                      <a:lnTo>
                        <a:pt x="1024" y="805"/>
                      </a:lnTo>
                      <a:lnTo>
                        <a:pt x="976" y="786"/>
                      </a:lnTo>
                      <a:lnTo>
                        <a:pt x="931" y="770"/>
                      </a:lnTo>
                      <a:lnTo>
                        <a:pt x="880" y="748"/>
                      </a:lnTo>
                      <a:lnTo>
                        <a:pt x="832" y="724"/>
                      </a:lnTo>
                      <a:lnTo>
                        <a:pt x="784" y="699"/>
                      </a:lnTo>
                      <a:lnTo>
                        <a:pt x="744" y="674"/>
                      </a:lnTo>
                      <a:lnTo>
                        <a:pt x="696" y="650"/>
                      </a:lnTo>
                      <a:lnTo>
                        <a:pt x="659" y="625"/>
                      </a:lnTo>
                      <a:lnTo>
                        <a:pt x="616" y="597"/>
                      </a:lnTo>
                      <a:lnTo>
                        <a:pt x="574" y="570"/>
                      </a:lnTo>
                      <a:lnTo>
                        <a:pt x="531" y="535"/>
                      </a:lnTo>
                      <a:lnTo>
                        <a:pt x="494" y="507"/>
                      </a:lnTo>
                      <a:lnTo>
                        <a:pt x="454" y="470"/>
                      </a:lnTo>
                      <a:lnTo>
                        <a:pt x="416" y="436"/>
                      </a:lnTo>
                      <a:lnTo>
                        <a:pt x="382" y="400"/>
                      </a:lnTo>
                      <a:lnTo>
                        <a:pt x="353" y="362"/>
                      </a:lnTo>
                      <a:lnTo>
                        <a:pt x="329" y="332"/>
                      </a:lnTo>
                      <a:lnTo>
                        <a:pt x="310" y="297"/>
                      </a:lnTo>
                      <a:lnTo>
                        <a:pt x="0" y="343"/>
                      </a:lnTo>
                      <a:lnTo>
                        <a:pt x="49" y="319"/>
                      </a:lnTo>
                      <a:lnTo>
                        <a:pt x="86" y="297"/>
                      </a:lnTo>
                      <a:lnTo>
                        <a:pt x="131" y="275"/>
                      </a:lnTo>
                      <a:lnTo>
                        <a:pt x="165" y="254"/>
                      </a:lnTo>
                      <a:lnTo>
                        <a:pt x="195" y="233"/>
                      </a:lnTo>
                      <a:lnTo>
                        <a:pt x="222" y="217"/>
                      </a:lnTo>
                      <a:lnTo>
                        <a:pt x="248" y="193"/>
                      </a:lnTo>
                      <a:lnTo>
                        <a:pt x="274" y="173"/>
                      </a:lnTo>
                      <a:lnTo>
                        <a:pt x="301" y="149"/>
                      </a:lnTo>
                      <a:lnTo>
                        <a:pt x="331" y="119"/>
                      </a:lnTo>
                      <a:lnTo>
                        <a:pt x="363" y="90"/>
                      </a:lnTo>
                      <a:lnTo>
                        <a:pt x="390" y="60"/>
                      </a:lnTo>
                      <a:lnTo>
                        <a:pt x="418" y="28"/>
                      </a:lnTo>
                      <a:lnTo>
                        <a:pt x="440" y="0"/>
                      </a:lnTo>
                      <a:lnTo>
                        <a:pt x="464" y="10"/>
                      </a:lnTo>
                      <a:lnTo>
                        <a:pt x="488" y="26"/>
                      </a:lnTo>
                      <a:lnTo>
                        <a:pt x="514" y="39"/>
                      </a:lnTo>
                      <a:lnTo>
                        <a:pt x="544" y="53"/>
                      </a:lnTo>
                      <a:lnTo>
                        <a:pt x="575" y="68"/>
                      </a:lnTo>
                      <a:lnTo>
                        <a:pt x="604" y="79"/>
                      </a:lnTo>
                      <a:lnTo>
                        <a:pt x="631" y="88"/>
                      </a:lnTo>
                      <a:lnTo>
                        <a:pt x="662" y="100"/>
                      </a:lnTo>
                      <a:lnTo>
                        <a:pt x="694" y="109"/>
                      </a:lnTo>
                      <a:lnTo>
                        <a:pt x="731" y="119"/>
                      </a:lnTo>
                      <a:lnTo>
                        <a:pt x="762" y="128"/>
                      </a:lnTo>
                      <a:lnTo>
                        <a:pt x="792" y="137"/>
                      </a:lnTo>
                      <a:lnTo>
                        <a:pt x="825" y="144"/>
                      </a:lnTo>
                      <a:lnTo>
                        <a:pt x="856" y="152"/>
                      </a:lnTo>
                      <a:lnTo>
                        <a:pt x="885" y="159"/>
                      </a:lnTo>
                      <a:lnTo>
                        <a:pt x="920" y="168"/>
                      </a:lnTo>
                      <a:lnTo>
                        <a:pt x="965" y="174"/>
                      </a:lnTo>
                      <a:lnTo>
                        <a:pt x="646" y="239"/>
                      </a:lnTo>
                      <a:lnTo>
                        <a:pt x="667" y="288"/>
                      </a:lnTo>
                      <a:lnTo>
                        <a:pt x="691" y="325"/>
                      </a:lnTo>
                      <a:lnTo>
                        <a:pt x="739" y="393"/>
                      </a:lnTo>
                      <a:lnTo>
                        <a:pt x="765" y="427"/>
                      </a:lnTo>
                      <a:lnTo>
                        <a:pt x="792" y="458"/>
                      </a:lnTo>
                      <a:lnTo>
                        <a:pt x="840" y="510"/>
                      </a:lnTo>
                      <a:lnTo>
                        <a:pt x="869" y="541"/>
                      </a:lnTo>
                      <a:lnTo>
                        <a:pt x="904" y="579"/>
                      </a:lnTo>
                      <a:lnTo>
                        <a:pt x="936" y="606"/>
                      </a:lnTo>
                      <a:lnTo>
                        <a:pt x="963" y="631"/>
                      </a:lnTo>
                      <a:lnTo>
                        <a:pt x="989" y="656"/>
                      </a:lnTo>
                      <a:lnTo>
                        <a:pt x="1021" y="680"/>
                      </a:lnTo>
                      <a:lnTo>
                        <a:pt x="1056" y="705"/>
                      </a:lnTo>
                      <a:lnTo>
                        <a:pt x="1090" y="724"/>
                      </a:lnTo>
                      <a:lnTo>
                        <a:pt x="1125" y="745"/>
                      </a:lnTo>
                      <a:lnTo>
                        <a:pt x="1168" y="764"/>
                      </a:lnTo>
                      <a:lnTo>
                        <a:pt x="1208" y="779"/>
                      </a:lnTo>
                      <a:lnTo>
                        <a:pt x="1253" y="792"/>
                      </a:lnTo>
                      <a:lnTo>
                        <a:pt x="1296" y="805"/>
                      </a:lnTo>
                      <a:lnTo>
                        <a:pt x="1341" y="816"/>
                      </a:lnTo>
                      <a:lnTo>
                        <a:pt x="1391" y="827"/>
                      </a:lnTo>
                      <a:lnTo>
                        <a:pt x="1467" y="844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300" name="" descr=""/>
            <p:cNvPicPr/>
            <p:nvPr/>
          </p:nvPicPr>
          <p:blipFill>
            <a:blip r:embed="rId3"/>
            <a:stretch/>
          </p:blipFill>
          <p:spPr>
            <a:xfrm>
              <a:off x="5486400" y="4008600"/>
              <a:ext cx="14446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4"/>
            <a:stretch/>
          </p:blipFill>
          <p:spPr>
            <a:xfrm>
              <a:off x="7116840" y="4008600"/>
              <a:ext cx="1444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2" name=""/>
            <p:cNvSpPr/>
            <p:nvPr/>
          </p:nvSpPr>
          <p:spPr>
            <a:xfrm>
              <a:off x="2287440" y="1428840"/>
              <a:ext cx="5133960" cy="150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hared Pool of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uting Resources: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cessors, Memory, Dis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89480" y="3286080"/>
              <a:ext cx="1710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Interconn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8880" y="5283360"/>
              <a:ext cx="40539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uarantee atleast on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orkstation to many individu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when activ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87520" y="5283360"/>
              <a:ext cx="36028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liver large % of collec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 to few individu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t any one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2214000" y="96840"/>
            <a:ext cx="5375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Opportunity of Large-scale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omputing on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1800" y="268560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omputing Power a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Computer Architectures</a:t>
            </a:r>
            <a:endParaRPr b="1" lang="en-US" sz="4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p:transition spd="slow">
    <p:cover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indows of Opportuniti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390320" y="1676160"/>
            <a:ext cx="708660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PP/DSM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across multiple systems: parall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twork RAM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le memory in other nodes. Page across other nodes idle mem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oftware RAID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ystem supporting parallel I/O and reliablity, mass-stor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-path Communication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 across multiple networks: Ethernet, ATM, Myrin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	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allel Process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486080" y="2095560"/>
            <a:ext cx="7067520" cy="33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calable Parallel Applications requi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loating-point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overhead communication scalable network bandwid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llel fil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etwork RA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94920" y="1733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erformance gap between processor and disk has widened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rashing to disk degrades performance significa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aging across networks can be effective with high  performance networks and OS that recognizes idle machin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ypically thrashing to network RAM can be 5 to 10 times faster than thrashing to disk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ftware RAID: Redundant Array of Workstation Dis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/O Bottleneck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49720" indent="-2113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processor performance is improving more than 50% per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k access improvement is &lt; 1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ten perform I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ID cost per byte is high compared to single disk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3800" indent="-25380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IDs are connected to host computers which are often a performance and availability bottleneck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3800" indent="-25380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ID in software, writing data across an array of workstation disks provides performance and some degree of redundancy provides availability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ftware RAID, Parallel File Systems, and Parallel I/O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316" name=""/>
          <p:cNvGraphicFramePr/>
          <p:nvPr/>
        </p:nvGraphicFramePr>
        <p:xfrm>
          <a:off x="685800" y="2057400"/>
          <a:ext cx="805032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805032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uster Computer and its Components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ing Today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lustering gained momentum when 3 technologies converged: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Very HP Microprocess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tation performance = yesterday super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High speed commun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. between cluster nodes &gt;= between processors in an SM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Standard tools for parallel/ distributed computing &amp; their growing popular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er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0" y="1600200"/>
          <a:ext cx="914400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...1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od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25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Multiple High Performance Components: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lvl="1" marL="713160" indent="-27432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C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Workstation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MPs (CLUMPS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Distributed HPC Systems leading to Metacompu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They can be based on different architectures and running difference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 O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...1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rocesso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There are many (CISC/RISC/VLIW/Vector..)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: Pentiums, Xeon, Merceed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: SPARC, ULTRASPAR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P 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BM RS6000/Power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GI MP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gital Alph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Integrate Memory, processing and networking into a single chip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AM (CPU &amp; Mem): (http://iram.cs.berkeley.ed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pha 21366 (CPU, Memory Controller, N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54160" y="2863800"/>
            <a:ext cx="1522080" cy="143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4400" y="75960"/>
            <a:ext cx="7904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mputing Power (HPC) Driv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5840" y="1555920"/>
            <a:ext cx="8691480" cy="111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Solving  grand challenge applications using computer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modeling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simulation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analysi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8600" y="4898880"/>
            <a:ext cx="2733840" cy="1181160"/>
            <a:chOff x="228600" y="4898880"/>
            <a:chExt cx="2733840" cy="1181160"/>
          </a:xfrm>
        </p:grpSpPr>
        <p:sp>
          <p:nvSpPr>
            <p:cNvPr id="307" name=""/>
            <p:cNvSpPr/>
            <p:nvPr/>
          </p:nvSpPr>
          <p:spPr>
            <a:xfrm>
              <a:off x="228600" y="4898880"/>
              <a:ext cx="2733840" cy="1181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57040" y="4941720"/>
              <a:ext cx="2688840" cy="985680"/>
              <a:chOff x="257040" y="4941720"/>
              <a:chExt cx="2688840" cy="98568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960840" y="4941720"/>
                <a:ext cx="1844640" cy="387000"/>
                <a:chOff x="960840" y="4941720"/>
                <a:chExt cx="1844640" cy="38700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1172520" y="4982040"/>
                  <a:ext cx="985320" cy="341280"/>
                  <a:chOff x="1172520" y="4982040"/>
                  <a:chExt cx="985320" cy="34128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1311480" y="4995000"/>
                    <a:ext cx="627480" cy="293400"/>
                    <a:chOff x="1311480" y="4995000"/>
                    <a:chExt cx="627480" cy="29340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830960" y="4995000"/>
                      <a:ext cx="108000" cy="23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1311480" y="5128560"/>
                      <a:ext cx="99360" cy="15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4" name=""/>
                  <p:cNvSpPr/>
                  <p:nvPr/>
                </p:nvSpPr>
                <p:spPr>
                  <a:xfrm>
                    <a:off x="1172520" y="4982040"/>
                    <a:ext cx="98532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5" name=""/>
                <p:cNvSpPr/>
                <p:nvPr/>
              </p:nvSpPr>
              <p:spPr>
                <a:xfrm>
                  <a:off x="960840" y="4941720"/>
                  <a:ext cx="1844640" cy="38700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258840" y="5319360"/>
                <a:ext cx="2494800" cy="60804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57040" y="5067000"/>
                <a:ext cx="2688840" cy="772200"/>
                <a:chOff x="257040" y="5067000"/>
                <a:chExt cx="2688840" cy="772200"/>
              </a:xfrm>
            </p:grpSpPr>
            <p:grpSp>
              <p:nvGrpSpPr>
                <p:cNvPr id="318" name=""/>
                <p:cNvGrpSpPr/>
                <p:nvPr/>
              </p:nvGrpSpPr>
              <p:grpSpPr>
                <a:xfrm>
                  <a:off x="2788560" y="5316840"/>
                  <a:ext cx="157320" cy="433440"/>
                  <a:chOff x="2788560" y="5316840"/>
                  <a:chExt cx="157320" cy="43344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2874960" y="5409720"/>
                    <a:ext cx="5688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874960" y="5316840"/>
                    <a:ext cx="56880" cy="295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874960" y="5375160"/>
                    <a:ext cx="56880" cy="5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818800" y="5350680"/>
                    <a:ext cx="1148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2788560" y="5708520"/>
                    <a:ext cx="157320" cy="7200"/>
                    <a:chOff x="2788560" y="5708520"/>
                    <a:chExt cx="157320" cy="720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2788560" y="5708520"/>
                      <a:ext cx="15012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2932920" y="5708520"/>
                      <a:ext cx="1296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2788560" y="5743080"/>
                    <a:ext cx="157320" cy="7200"/>
                    <a:chOff x="2788560" y="5743080"/>
                    <a:chExt cx="157320" cy="720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788560" y="5743080"/>
                      <a:ext cx="15012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2932920" y="5743080"/>
                      <a:ext cx="1296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2788560" y="5673960"/>
                    <a:ext cx="157320" cy="6120"/>
                    <a:chOff x="2788560" y="5673960"/>
                    <a:chExt cx="157320" cy="61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788560" y="5673960"/>
                      <a:ext cx="150120" cy="61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932920" y="5673960"/>
                      <a:ext cx="12960" cy="6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32" name=""/>
                <p:cNvSpPr/>
                <p:nvPr/>
              </p:nvSpPr>
              <p:spPr>
                <a:xfrm>
                  <a:off x="257040" y="5197320"/>
                  <a:ext cx="2675880" cy="64188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316880" y="5250960"/>
                  <a:ext cx="539640" cy="57600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1386000" y="5067000"/>
                  <a:ext cx="905760" cy="655560"/>
                  <a:chOff x="1386000" y="5067000"/>
                  <a:chExt cx="905760" cy="65556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2193480" y="5067000"/>
                    <a:ext cx="98280" cy="810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262960" y="5097960"/>
                    <a:ext cx="972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1386000" y="5328720"/>
                    <a:ext cx="571320" cy="393840"/>
                    <a:chOff x="1386000" y="5328720"/>
                    <a:chExt cx="571320" cy="39384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1386000" y="5594760"/>
                      <a:ext cx="57132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1391760" y="5328720"/>
                      <a:ext cx="56556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1391760" y="5416920"/>
                      <a:ext cx="5655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1386000" y="5499360"/>
                      <a:ext cx="5713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386000" y="5564160"/>
                      <a:ext cx="57132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43" name=""/>
            <p:cNvGrpSpPr/>
            <p:nvPr/>
          </p:nvGrpSpPr>
          <p:grpSpPr>
            <a:xfrm>
              <a:off x="697320" y="5363640"/>
              <a:ext cx="417240" cy="662400"/>
              <a:chOff x="697320" y="5363640"/>
              <a:chExt cx="417240" cy="662400"/>
            </a:xfrm>
          </p:grpSpPr>
          <p:sp>
            <p:nvSpPr>
              <p:cNvPr id="344" name=""/>
              <p:cNvSpPr/>
              <p:nvPr/>
            </p:nvSpPr>
            <p:spPr>
              <a:xfrm>
                <a:off x="697320" y="5363640"/>
                <a:ext cx="417240" cy="662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63280" y="5798880"/>
                <a:ext cx="74880" cy="14580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65800" y="5451840"/>
                <a:ext cx="75960" cy="14472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49520" y="5636160"/>
                <a:ext cx="91080" cy="11736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66240" y="5636160"/>
                <a:ext cx="91080" cy="11736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7440" y="5451840"/>
                <a:ext cx="299880" cy="4755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52120" y="5602680"/>
                <a:ext cx="109440" cy="174600"/>
                <a:chOff x="852120" y="5602680"/>
                <a:chExt cx="109440" cy="1746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52120" y="5602680"/>
                  <a:ext cx="109440" cy="1746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77680" y="5640840"/>
                  <a:ext cx="60840" cy="9792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3" name=""/>
            <p:cNvGrpSpPr/>
            <p:nvPr/>
          </p:nvGrpSpPr>
          <p:grpSpPr>
            <a:xfrm>
              <a:off x="2288880" y="5363640"/>
              <a:ext cx="417240" cy="662400"/>
              <a:chOff x="2288880" y="5363640"/>
              <a:chExt cx="417240" cy="662400"/>
            </a:xfrm>
          </p:grpSpPr>
          <p:sp>
            <p:nvSpPr>
              <p:cNvPr id="354" name=""/>
              <p:cNvSpPr/>
              <p:nvPr/>
            </p:nvSpPr>
            <p:spPr>
              <a:xfrm>
                <a:off x="2288880" y="5363640"/>
                <a:ext cx="417240" cy="662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54480" y="5798880"/>
                <a:ext cx="73800" cy="145800"/>
              </a:xfrm>
              <a:custGeom>
                <a:avLst/>
                <a:gdLst/>
                <a:ahLst/>
                <a:rect l="l" t="t" r="r" b="b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56280" y="5451840"/>
                <a:ext cx="76680" cy="144720"/>
              </a:xfrm>
              <a:custGeom>
                <a:avLst/>
                <a:gdLst/>
                <a:ahLst/>
                <a:rect l="l" t="t" r="r" b="b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40360" y="5636160"/>
                <a:ext cx="91440" cy="117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557440" y="5636160"/>
                <a:ext cx="91440" cy="117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49000" y="5451840"/>
                <a:ext cx="299880" cy="4755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442600" y="5602680"/>
                <a:ext cx="110520" cy="174600"/>
                <a:chOff x="2442600" y="5602680"/>
                <a:chExt cx="110520" cy="174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442600" y="5602680"/>
                  <a:ext cx="110520" cy="1746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68520" y="5640840"/>
                  <a:ext cx="60120" cy="9792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363" name=""/>
          <p:cNvGraphicFramePr/>
          <p:nvPr/>
        </p:nvGraphicFramePr>
        <p:xfrm>
          <a:off x="247680" y="2854440"/>
          <a:ext cx="150660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2854440"/>
                    <a:ext cx="1506600" cy="1341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11320" y="4309920"/>
            <a:ext cx="1834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fe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7320" y="6386400"/>
            <a:ext cx="2211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D/C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75360" y="4344840"/>
            <a:ext cx="146916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27520" y="2927520"/>
            <a:ext cx="1683000" cy="181908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880" rIns="92880" tIns="45360" bIns="453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627520" y="2817720"/>
            <a:ext cx="1597320" cy="1766880"/>
            <a:chOff x="5627520" y="2817720"/>
            <a:chExt cx="1597320" cy="1766880"/>
          </a:xfrm>
        </p:grpSpPr>
        <p:grpSp>
          <p:nvGrpSpPr>
            <p:cNvPr id="370" name=""/>
            <p:cNvGrpSpPr/>
            <p:nvPr/>
          </p:nvGrpSpPr>
          <p:grpSpPr>
            <a:xfrm>
              <a:off x="5838840" y="2817720"/>
              <a:ext cx="1386000" cy="1766880"/>
              <a:chOff x="5838840" y="2817720"/>
              <a:chExt cx="1386000" cy="1766880"/>
            </a:xfrm>
          </p:grpSpPr>
          <p:sp>
            <p:nvSpPr>
              <p:cNvPr id="371" name=""/>
              <p:cNvSpPr/>
              <p:nvPr/>
            </p:nvSpPr>
            <p:spPr>
              <a:xfrm>
                <a:off x="5838840" y="2873520"/>
                <a:ext cx="138600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5360" bIns="45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5883120" y="4196880"/>
                <a:ext cx="114480" cy="257400"/>
              </a:xfrm>
              <a:prstGeom prst="line">
                <a:avLst/>
              </a:prstGeom>
              <a:ln w="255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6659640" y="2966760"/>
                <a:ext cx="12600" cy="98280"/>
              </a:xfrm>
              <a:prstGeom prst="line">
                <a:avLst/>
              </a:prstGeom>
              <a:ln w="25560">
                <a:solidFill>
                  <a:srgbClr val="3365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97600" y="4446720"/>
                <a:ext cx="80964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5360" bIns="45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6734160" y="2817720"/>
                <a:ext cx="15840" cy="106560"/>
              </a:xfrm>
              <a:prstGeom prst="line">
                <a:avLst/>
              </a:prstGeom>
              <a:ln w="25560">
                <a:solidFill>
                  <a:srgbClr val="3365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627520" y="2982960"/>
              <a:ext cx="1441440" cy="1338120"/>
              <a:chOff x="5627520" y="2982960"/>
              <a:chExt cx="1441440" cy="1338120"/>
            </a:xfrm>
          </p:grpSpPr>
          <p:sp>
            <p:nvSpPr>
              <p:cNvPr id="377" name=""/>
              <p:cNvSpPr/>
              <p:nvPr/>
            </p:nvSpPr>
            <p:spPr>
              <a:xfrm>
                <a:off x="5627520" y="2982960"/>
                <a:ext cx="144144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5360" bIns="453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5627520" y="3122640"/>
                <a:ext cx="1341720" cy="993600"/>
                <a:chOff x="5627520" y="3122640"/>
                <a:chExt cx="1341720" cy="993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5816520" y="3486240"/>
                  <a:ext cx="180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32760" bIns="-327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842080" y="35132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37440" bIns="-37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916600" y="3478320"/>
                  <a:ext cx="5076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2520" bIns="-252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627520" y="3511440"/>
                  <a:ext cx="43344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630840" y="3643200"/>
                  <a:ext cx="1620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19800" bIns="-19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48400" y="3751200"/>
                  <a:ext cx="6516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3560" bIns="435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678720" y="3784680"/>
                  <a:ext cx="11268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0320" bIns="4032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892920" y="3956040"/>
                  <a:ext cx="7632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762520" y="3343320"/>
                  <a:ext cx="3816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13320" bIns="1332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749920" y="3362400"/>
                  <a:ext cx="2052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24840" bIns="-248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719680" y="3327480"/>
                  <a:ext cx="24768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24440" y="3122640"/>
                  <a:ext cx="104796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653160" y="3405240"/>
                  <a:ext cx="9036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310440" y="3780000"/>
                  <a:ext cx="1728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12240" bIns="-122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448320" y="3813120"/>
                  <a:ext cx="21132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0320" bIns="4032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616800" y="3881520"/>
                  <a:ext cx="22860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797520" y="4091040"/>
                  <a:ext cx="1764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20160" bIns="-201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005520" y="3865680"/>
                  <a:ext cx="2556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397" name=""/>
          <p:cNvGraphicFramePr/>
          <p:nvPr/>
        </p:nvGraphicFramePr>
        <p:xfrm>
          <a:off x="3017880" y="2971800"/>
          <a:ext cx="2460600" cy="129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17880" y="2971800"/>
                    <a:ext cx="2460600" cy="1290600"/>
                  </a:xfrm>
                  <a:prstGeom prst="rect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399" name="a8-129" descr=""/>
          <p:cNvPicPr/>
          <p:nvPr/>
        </p:nvPicPr>
        <p:blipFill>
          <a:blip r:embed="rId8"/>
          <a:stretch/>
        </p:blipFill>
        <p:spPr>
          <a:xfrm>
            <a:off x="5850000" y="5041800"/>
            <a:ext cx="3108240" cy="14194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6108840" y="6397560"/>
            <a:ext cx="30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10040" y="6286680"/>
            <a:ext cx="2211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gital B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frog" descr=""/>
          <p:cNvPicPr/>
          <p:nvPr/>
        </p:nvPicPr>
        <p:blipFill>
          <a:blip r:embed="rId9"/>
          <a:stretch/>
        </p:blipFill>
        <p:spPr>
          <a:xfrm>
            <a:off x="5033880" y="4151160"/>
            <a:ext cx="1324080" cy="1187640"/>
          </a:xfrm>
          <a:prstGeom prst="rect">
            <a:avLst/>
          </a:prstGeom>
          <a:ln w="0">
            <a:noFill/>
          </a:ln>
        </p:spPr>
      </p:pic>
      <p:pic>
        <p:nvPicPr>
          <p:cNvPr id="403" name="butterfly" descr=""/>
          <p:cNvPicPr/>
          <p:nvPr/>
        </p:nvPicPr>
        <p:blipFill>
          <a:blip r:embed="rId10"/>
          <a:stretch/>
        </p:blipFill>
        <p:spPr>
          <a:xfrm>
            <a:off x="3332160" y="4967280"/>
            <a:ext cx="2119320" cy="1260360"/>
          </a:xfrm>
          <a:prstGeom prst="rect">
            <a:avLst/>
          </a:prstGeom>
          <a:ln w="0">
            <a:noFill/>
          </a:ln>
        </p:spPr>
      </p:pic>
      <p:pic>
        <p:nvPicPr>
          <p:cNvPr id="404" name="HumanGenome" descr=""/>
          <p:cNvPicPr/>
          <p:nvPr/>
        </p:nvPicPr>
        <p:blipFill>
          <a:blip r:embed="rId11"/>
          <a:stretch/>
        </p:blipFill>
        <p:spPr>
          <a:xfrm>
            <a:off x="1776240" y="2743200"/>
            <a:ext cx="1714680" cy="17794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6108840" y="6397560"/>
            <a:ext cx="30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08840" y="6397560"/>
            <a:ext cx="30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292800" y="2965320"/>
            <a:ext cx="3036960" cy="2086200"/>
            <a:chOff x="6292800" y="2965320"/>
            <a:chExt cx="3036960" cy="2086200"/>
          </a:xfrm>
        </p:grpSpPr>
        <p:pic>
          <p:nvPicPr>
            <p:cNvPr id="408" name="" descr=""/>
            <p:cNvPicPr/>
            <p:nvPr/>
          </p:nvPicPr>
          <p:blipFill>
            <a:blip r:embed="rId12"/>
            <a:stretch/>
          </p:blipFill>
          <p:spPr>
            <a:xfrm>
              <a:off x="7477560" y="2965320"/>
              <a:ext cx="1407240" cy="12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7411320" y="3929400"/>
              <a:ext cx="1732320" cy="790920"/>
              <a:chOff x="7411320" y="3929400"/>
              <a:chExt cx="1732320" cy="790920"/>
            </a:xfrm>
          </p:grpSpPr>
          <p:pic>
            <p:nvPicPr>
              <p:cNvPr id="41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11320" y="3929400"/>
                <a:ext cx="1465560" cy="55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500600" y="4008240"/>
                <a:ext cx="1465560" cy="55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588440" y="4086720"/>
                <a:ext cx="1467360" cy="55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678080" y="4164120"/>
                <a:ext cx="1465560" cy="55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4" name=""/>
            <p:cNvSpPr/>
            <p:nvPr/>
          </p:nvSpPr>
          <p:spPr>
            <a:xfrm>
              <a:off x="6292800" y="4596840"/>
              <a:ext cx="3036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>
                <a:tabLst>
                  <a:tab algn="l" pos="0"/>
                  <a:tab algn="l" pos="906480"/>
                  <a:tab algn="l" pos="1812960"/>
                  <a:tab algn="l" pos="2719440"/>
                  <a:tab algn="l" pos="3625920"/>
                  <a:tab algn="l" pos="4532400"/>
                  <a:tab algn="l" pos="5438880"/>
                  <a:tab algn="l" pos="6345360"/>
                  <a:tab algn="l" pos="7251840"/>
                  <a:tab algn="l" pos="8158320"/>
                  <a:tab algn="l" pos="9064800"/>
                  <a:tab algn="l" pos="9970920"/>
                  <a:tab algn="l" pos="10877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-commerce/anyth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2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O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tate of the art OS: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u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eowu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llinois HPV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 Solar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erkeley NO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BM AI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BM SP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P U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llinois - PAND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 (Microkernel based OS) (CM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uster Operating Systems (Solaris MC, SCO Unixware, MOSIX (academic proj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gluing laye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erkeley Gluni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3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igh Performance Networ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Ethernet (10Mbps),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Fast Ethernet (100Mbps),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Gigabit Ethernet (1Gbps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CI  (Dolphin - MPI- 12micro-sec latency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TM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Myrinet (1.2Gbps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igital Memory Channel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FDD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4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Network Interfa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Network Interface Card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rinet has N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r-level access sup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pha 21364 processor integrates processing, memory controller, network interface into a single chip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5 Communication Soft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0978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1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Traditional OS supported facilities (heavy weight due to protocol processing)..</a:t>
            </a:r>
            <a:endParaRPr b="1" lang="en-US" sz="2700" spc="-1" strike="noStrike">
              <a:solidFill>
                <a:srgbClr val="fafd00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ckets (TCP/IP), Pipes, etc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1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Light weight protocols (User Level)</a:t>
            </a:r>
            <a:endParaRPr b="1" lang="en-US" sz="2700" spc="-1" strike="noStrike">
              <a:solidFill>
                <a:srgbClr val="fafd00"/>
              </a:solidFill>
              <a:latin typeface="Century Gothic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tive Messages (Berkeley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ast Messages (Illinois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-net (Cornell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XTP (Virginia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1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afd00"/>
                </a:solidFill>
                <a:latin typeface="Arial"/>
              </a:rPr>
              <a:t>System systems can be built on top of the above protocols</a:t>
            </a:r>
            <a:endParaRPr b="1" lang="en-US" sz="27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6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Middle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40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Resides Between OS and Applications and offers in infrastructure for supporting: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lvl="1" marL="660960" indent="-25416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ngle System Image (SSI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ystem Availability (SA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SSI makes collection appear as single machine (globalised view of system resources). Telnet cluster.myinstitute.edu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11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Century Gothic"/>
              </a:rPr>
              <a:t>SA - Check pointing and process migration..</a:t>
            </a:r>
            <a:endParaRPr b="1" lang="en-US" sz="31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6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ddleware Compon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ardware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Memory Channel, DSM (Alewife, DASH) SMP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OS /  Gluing Lay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aris MC, Unixware, Gluni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pplications and Subsystem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 management and electronic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time systems (software DSM, PFS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 management and scheduling (RM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INE, LSF, PBS, NQ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7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rogramming environm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reads (PCs, SMPs, NOW..)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X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P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ux, NT, on many Supercomp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V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oftware DSMs (Shmem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7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velopment Tools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ompil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/C++/Java/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 programming with C++ (MIT Press boo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RAD (rapid application development tools).. GUI based tools for PP modeling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ebugg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erformance Analysis Tool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Visualization Tool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onents…8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pplica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equential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arallel / Distributed (Cluster-aware app.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and Challenging appl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ther Fore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ntum Chem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lecular Biology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alysis (CAD/CA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…………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DBs, web servers,data-mi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Key Operational Benefits of Clustering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System availability (HA).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offer inherent high system availability due to the redundancy of hardware, operating systems, and application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Hardware Fault Tolerance.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edundancy for most system components (eg. disk-RAID), including both hardware and software.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OS and application reliability.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run multiple copies of the OS and applications, and through this redundanc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Scalability.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adding servers to the cluster or by adding more clusters to the network as the need arises or CPU to SMP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High Performance.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(running cluster enabled program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ow to Run App. Faster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68400" y="152352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ere are 3 ways to improve performance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Work Ha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Work Smar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Get Hel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uter Analog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03360" indent="-20088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1. Use faster hardware: e.g. reduce the time per instruction (clock cycle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2. Optimized algorithms and techniqu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603360" indent="-20088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3. Multiple computers to solve problem: That is, increase no. of instructions executed per clock cycl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assification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of Cluster Computer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1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Focus (in Market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Performance (HP)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nd Challenging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vailability (HA)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sion Critical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HA Cluster: Server Cluster with "Heartbeat" Connec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352" name="" descr=""/>
          <p:cNvPicPr/>
          <p:nvPr/>
        </p:nvPicPr>
        <p:blipFill>
          <a:blip r:embed="rId1"/>
          <a:stretch/>
        </p:blipFill>
        <p:spPr>
          <a:xfrm>
            <a:off x="2209680" y="1895400"/>
            <a:ext cx="470556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2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Workstation/PC Ownership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dicated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n-dedicated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ive parallel 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called Communal multi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3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Node Architecture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usters of PCs (Co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usters of Workstations (COW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usters of SMPs (CLUMP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Building Scalable Systems: 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Cluster of SMPs (Clumps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1905120" y="1467000"/>
            <a:ext cx="6086520" cy="4219560"/>
          </a:xfrm>
          <a:prstGeom prst="rect">
            <a:avLst/>
          </a:prstGeom>
          <a:ln w="0">
            <a:noFill/>
          </a:ln>
        </p:spPr>
      </p:pic>
      <p:sp>
        <p:nvSpPr>
          <p:cNvPr id="1359" name=""/>
          <p:cNvSpPr/>
          <p:nvPr/>
        </p:nvSpPr>
        <p:spPr>
          <a:xfrm>
            <a:off x="2401920" y="5837400"/>
            <a:ext cx="57117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formance of SMP Systems Vs. Four-Processor Servers in a Clu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4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68400" y="16761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Node OS Type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nux Clusters (Beowulf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laris Clusters  (Berkeley NOW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T Clusters (HPVM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IX Clusters (IBM SP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CO/Compaq Clusters (Unixwa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Digital VMS Clusters, HP clusters, ………………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5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Based on node components architecture &amp;  configuration (Processor Arch, Node Type: PC/Workstation.. &amp; OS: Linux/NT..):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mogeneous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nodes will have similar config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terogeneous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des based on different processors and running different O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6a</a:t>
            </a:r>
            <a:r>
              <a:rPr b="1" lang="en-US" sz="3800" spc="-1" strike="noStrike">
                <a:solidFill>
                  <a:srgbClr val="fafd00"/>
                </a:solidFill>
                <a:latin typeface="Century Gothic"/>
              </a:rPr>
              <a:t> </a:t>
            </a:r>
            <a:br>
              <a:rPr sz="3800"/>
            </a:b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mensions of Scalability &amp; Levels of Clusterin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65" name=""/>
          <p:cNvSpPr/>
          <p:nvPr/>
        </p:nvSpPr>
        <p:spPr>
          <a:xfrm>
            <a:off x="609480" y="4800600"/>
            <a:ext cx="151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154480" y="6202440"/>
            <a:ext cx="424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1528200" y="1800360"/>
            <a:ext cx="6528600" cy="4515840"/>
            <a:chOff x="1528200" y="1800360"/>
            <a:chExt cx="6528600" cy="4515840"/>
          </a:xfrm>
        </p:grpSpPr>
        <p:sp>
          <p:nvSpPr>
            <p:cNvPr id="1368" name=""/>
            <p:cNvSpPr/>
            <p:nvPr/>
          </p:nvSpPr>
          <p:spPr>
            <a:xfrm>
              <a:off x="2133720" y="2317680"/>
              <a:ext cx="0" cy="23940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 flipV="1">
              <a:off x="2093760" y="4709880"/>
              <a:ext cx="4167360" cy="139860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131920" y="3130560"/>
              <a:ext cx="4081680" cy="1584360"/>
            </a:xfrm>
            <a:prstGeom prst="line">
              <a:avLst/>
            </a:prstGeom>
            <a:ln w="25560">
              <a:solidFill>
                <a:srgbClr val="c0fef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528200" y="1800360"/>
              <a:ext cx="1424880" cy="515520"/>
            </a:xfrm>
            <a:prstGeom prst="rect">
              <a:avLst/>
            </a:prstGeom>
            <a:noFill/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c0fef9"/>
                  </a:solidFill>
                  <a:latin typeface="Times New Roman"/>
                </a:rPr>
                <a:t>Networ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157800" y="2676600"/>
              <a:ext cx="1899000" cy="515520"/>
            </a:xfrm>
            <a:prstGeom prst="rect">
              <a:avLst/>
            </a:prstGeom>
            <a:noFill/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c0fef9"/>
                  </a:solidFill>
                  <a:latin typeface="Times New Roman"/>
                </a:rPr>
                <a:t>Technolo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10440" y="5800680"/>
              <a:ext cx="1544040" cy="515520"/>
            </a:xfrm>
            <a:prstGeom prst="rect">
              <a:avLst/>
            </a:prstGeom>
            <a:noFill/>
            <a:ln w="1260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c0fef9"/>
                  </a:solidFill>
                  <a:latin typeface="Times New Roman"/>
                </a:rPr>
                <a:t>Plat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4" name=""/>
          <p:cNvSpPr/>
          <p:nvPr/>
        </p:nvSpPr>
        <p:spPr>
          <a:xfrm>
            <a:off x="739440" y="477504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c0fef9"/>
                </a:solidFill>
                <a:latin typeface="Times New Roman"/>
              </a:rPr>
              <a:t>Uniproce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444760" y="5141880"/>
            <a:ext cx="807840" cy="454680"/>
          </a:xfrm>
          <a:prstGeom prst="rect">
            <a:avLst/>
          </a:prstGeom>
          <a:noFill/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0fef9"/>
                </a:solidFill>
                <a:latin typeface="Times New Roman"/>
              </a:rPr>
              <a:t>S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08920" y="5522760"/>
            <a:ext cx="1097280" cy="454680"/>
          </a:xfrm>
          <a:prstGeom prst="rect">
            <a:avLst/>
          </a:prstGeom>
          <a:noFill/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0fef9"/>
                </a:solidFill>
                <a:latin typeface="Times New Roman"/>
              </a:rPr>
              <a:t>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676400" y="5942160"/>
            <a:ext cx="824400" cy="454680"/>
          </a:xfrm>
          <a:prstGeom prst="rect">
            <a:avLst/>
          </a:prstGeom>
          <a:noFill/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0fef9"/>
                </a:solidFill>
                <a:latin typeface="Times New Roman"/>
              </a:rPr>
              <a:t>M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92080" y="4654440"/>
            <a:ext cx="1393920" cy="596880"/>
          </a:xfrm>
          <a:prstGeom prst="rect">
            <a:avLst/>
          </a:prstGeom>
          <a:noFill/>
          <a:ln w="1260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rot="20340000">
            <a:off x="2946600" y="3814560"/>
            <a:ext cx="336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0fef9"/>
                </a:solidFill>
                <a:latin typeface="Times New Roman"/>
              </a:rPr>
              <a:t>CPU / I/O / Memory / 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8291160" y="2530440"/>
            <a:ext cx="59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8138880" y="5807160"/>
            <a:ext cx="59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966680" y="1311120"/>
            <a:ext cx="597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28360" y="3213000"/>
            <a:ext cx="108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mp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5000" y="2755800"/>
            <a:ext cx="1339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pr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0920" y="3975120"/>
            <a:ext cx="1470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k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97160" y="3613320"/>
            <a:ext cx="149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054800" y="2355840"/>
            <a:ext cx="87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1828800" y="3428640"/>
            <a:ext cx="220968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038480" y="3429000"/>
            <a:ext cx="304920" cy="1905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1905120" y="3429000"/>
            <a:ext cx="20574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828800" y="3352680"/>
            <a:ext cx="2057400" cy="76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57400" y="297180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05120" y="2590920"/>
            <a:ext cx="198108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208960" y="2362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etacomputing (GR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Classification..6b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evels of Cluster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Group Clusters (#nodes: 2-99)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 set of dedicated/non-dedicated computers - mainly connected by SAN like Myrin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Departmental Clusters (#nodes: 99-999)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Organizational Clusters (#nodes: many 100s)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(using ATMs Net)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Internet-wide Clusters=Global Clusters: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(#nodes: 1000s to many millions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-bas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nt Based 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plays a major in web and agent based comp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0" y="-11160"/>
          <a:ext cx="9144000" cy="6880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16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152280" y="1828800"/>
            <a:ext cx="243864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800600"/>
          </a:xfrm>
          <a:prstGeom prst="rect">
            <a:avLst/>
          </a:prstGeom>
          <a:solidFill>
            <a:srgbClr val="66ffff"/>
          </a:solidFill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ze Scalability (physical &amp; application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nhanced Availability (failure managemen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ngle System Image (look-and-feel of one system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ast Communication (networks &amp; protocol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ad Balancing (CPU, Net, Memory, Disk)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curity and Encryption (clusters of cluster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ed Environment (Social issue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ageability (admin. And control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grammability  (simple API if required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pplicability (cluster-aware and non-aware app.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2362320" cy="396252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2552760" y="76320"/>
            <a:ext cx="643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jor issues in cluster 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uster Middleware 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and 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Single System Image</a:t>
            </a:r>
            <a:endParaRPr b="1" lang="en-US" sz="4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2590920" y="3429000"/>
            <a:ext cx="4011480" cy="2590920"/>
          </a:xfrm>
          <a:custGeom>
            <a:avLst/>
            <a:gdLst/>
            <a:ahLst/>
            <a:rect l="l" t="t" r="r" b="b"/>
            <a:pathLst>
              <a:path w="1873" h="1105">
                <a:moveTo>
                  <a:pt x="0" y="0"/>
                </a:moveTo>
                <a:lnTo>
                  <a:pt x="0" y="1104"/>
                </a:lnTo>
                <a:lnTo>
                  <a:pt x="1872" y="1104"/>
                </a:lnTo>
                <a:lnTo>
                  <a:pt x="1872" y="602"/>
                </a:lnTo>
                <a:lnTo>
                  <a:pt x="0" y="0"/>
                </a:lnTo>
              </a:path>
            </a:pathLst>
          </a:custGeom>
          <a:solidFill>
            <a:srgbClr val="ff66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 typical Cluster Computing Environmen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1405" name=""/>
          <p:cNvGraphicFramePr/>
          <p:nvPr/>
        </p:nvGraphicFramePr>
        <p:xfrm>
          <a:off x="2943360" y="3809880"/>
          <a:ext cx="65700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3360" y="3809880"/>
                    <a:ext cx="6570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7" name=""/>
          <p:cNvGraphicFramePr/>
          <p:nvPr/>
        </p:nvGraphicFramePr>
        <p:xfrm>
          <a:off x="4349880" y="4343400"/>
          <a:ext cx="6602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9880" y="4343400"/>
                    <a:ext cx="660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9" name=""/>
          <p:cNvGraphicFramePr/>
          <p:nvPr/>
        </p:nvGraphicFramePr>
        <p:xfrm>
          <a:off x="4983120" y="4572000"/>
          <a:ext cx="658800" cy="57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83120" y="4572000"/>
                    <a:ext cx="6588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1" name=""/>
          <p:cNvSpPr/>
          <p:nvPr/>
        </p:nvSpPr>
        <p:spPr>
          <a:xfrm>
            <a:off x="2533680" y="2971800"/>
            <a:ext cx="4046400" cy="360360"/>
          </a:xfrm>
          <a:prstGeom prst="roundRect">
            <a:avLst>
              <a:gd name="adj" fmla="val 49995"/>
            </a:avLst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VM / MPI/ R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514600" y="1523880"/>
            <a:ext cx="4046400" cy="127980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3" name=""/>
          <p:cNvGraphicFramePr/>
          <p:nvPr/>
        </p:nvGraphicFramePr>
        <p:xfrm>
          <a:off x="3646440" y="4038480"/>
          <a:ext cx="658800" cy="5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46440" y="4038480"/>
                    <a:ext cx="6588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5" name=""/>
          <p:cNvSpPr/>
          <p:nvPr/>
        </p:nvSpPr>
        <p:spPr>
          <a:xfrm>
            <a:off x="2590920" y="5486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ware/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6" name=""/>
          <p:cNvGraphicFramePr/>
          <p:nvPr/>
        </p:nvGraphicFramePr>
        <p:xfrm>
          <a:off x="2873520" y="4495680"/>
          <a:ext cx="65700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73520" y="4495680"/>
                    <a:ext cx="6570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8" name=""/>
          <p:cNvGraphicFramePr/>
          <p:nvPr/>
        </p:nvGraphicFramePr>
        <p:xfrm>
          <a:off x="4280040" y="5029200"/>
          <a:ext cx="6588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0040" y="5029200"/>
                    <a:ext cx="658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0" name=""/>
          <p:cNvGraphicFramePr/>
          <p:nvPr/>
        </p:nvGraphicFramePr>
        <p:xfrm>
          <a:off x="4913280" y="5257800"/>
          <a:ext cx="657360" cy="574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13280" y="5257800"/>
                    <a:ext cx="6573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2" name=""/>
          <p:cNvGraphicFramePr/>
          <p:nvPr/>
        </p:nvGraphicFramePr>
        <p:xfrm>
          <a:off x="3576600" y="4724280"/>
          <a:ext cx="657360" cy="574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6600" y="4724280"/>
                    <a:ext cx="6573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4" name=""/>
          <p:cNvSpPr/>
          <p:nvPr/>
        </p:nvSpPr>
        <p:spPr>
          <a:xfrm>
            <a:off x="5640840" y="365760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CC  should  suppor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57040" indent="-257040">
              <a:lnSpc>
                <a:spcPct val="1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Multi-user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time-sharing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environ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-257040">
              <a:lnSpc>
                <a:spcPct val="15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Nodes with different CPU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speeds  and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 memory sizes (heterogeneous configuration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-257040">
              <a:lnSpc>
                <a:spcPct val="1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Many processe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, with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unpredictable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quirement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7040" indent="-257040">
              <a:lnSpc>
                <a:spcPct val="18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entury Gothic"/>
              </a:rPr>
              <a:t>Unlike SMP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: insufficient “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bonds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” between node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17040" indent="-2055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computer operates independ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efficient  utilization of 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4389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he missing link is provide by cluster middleware/underwar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2593800" y="1600200"/>
            <a:ext cx="4569120" cy="4495680"/>
            <a:chOff x="2593800" y="1600200"/>
            <a:chExt cx="4569120" cy="4495680"/>
          </a:xfrm>
        </p:grpSpPr>
        <p:sp>
          <p:nvSpPr>
            <p:cNvPr id="1430" name=""/>
            <p:cNvSpPr/>
            <p:nvPr/>
          </p:nvSpPr>
          <p:spPr>
            <a:xfrm>
              <a:off x="2670120" y="3505320"/>
              <a:ext cx="4038480" cy="1447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70120" y="3505320"/>
              <a:ext cx="4038480" cy="2590560"/>
            </a:xfrm>
            <a:custGeom>
              <a:avLst/>
              <a:gdLst/>
              <a:ahLst/>
              <a:rect l="l" t="t" r="r" b="b"/>
              <a:pathLst>
                <a:path w="1873" h="1105">
                  <a:moveTo>
                    <a:pt x="0" y="0"/>
                  </a:moveTo>
                  <a:lnTo>
                    <a:pt x="0" y="1104"/>
                  </a:lnTo>
                  <a:lnTo>
                    <a:pt x="1872" y="1104"/>
                  </a:lnTo>
                  <a:lnTo>
                    <a:pt x="1872" y="602"/>
                  </a:lnTo>
                  <a:lnTo>
                    <a:pt x="0" y="0"/>
                  </a:lnTo>
                </a:path>
              </a:pathLst>
            </a:custGeom>
            <a:solidFill>
              <a:srgbClr val="ff66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32" name=""/>
            <p:cNvGraphicFramePr/>
            <p:nvPr/>
          </p:nvGraphicFramePr>
          <p:xfrm>
            <a:off x="3029040" y="3886200"/>
            <a:ext cx="657000" cy="57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29040" y="3886200"/>
                      <a:ext cx="6570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4" name=""/>
            <p:cNvGraphicFramePr/>
            <p:nvPr/>
          </p:nvGraphicFramePr>
          <p:xfrm>
            <a:off x="4435560" y="4419720"/>
            <a:ext cx="660240" cy="57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35560" y="4419720"/>
                      <a:ext cx="66024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6" name=""/>
            <p:cNvGraphicFramePr/>
            <p:nvPr/>
          </p:nvGraphicFramePr>
          <p:xfrm>
            <a:off x="5068800" y="4648320"/>
            <a:ext cx="658800" cy="57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3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68800" y="4648320"/>
                      <a:ext cx="6588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8" name=""/>
            <p:cNvSpPr/>
            <p:nvPr/>
          </p:nvSpPr>
          <p:spPr>
            <a:xfrm>
              <a:off x="2612880" y="3048120"/>
              <a:ext cx="4046760" cy="360360"/>
            </a:xfrm>
            <a:prstGeom prst="roundRect">
              <a:avLst>
                <a:gd name="adj" fmla="val 49995"/>
              </a:avLst>
            </a:prstGeom>
            <a:solidFill>
              <a:srgbClr val="3365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VM / MPI/ RS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593800" y="1600200"/>
              <a:ext cx="4046760" cy="1279440"/>
            </a:xfrm>
            <a:prstGeom prst="roundRect">
              <a:avLst>
                <a:gd name="adj" fmla="val 49995"/>
              </a:avLst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40" name=""/>
            <p:cNvGraphicFramePr/>
            <p:nvPr/>
          </p:nvGraphicFramePr>
          <p:xfrm>
            <a:off x="3732120" y="4114800"/>
            <a:ext cx="658800" cy="57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2120" y="4114800"/>
                      <a:ext cx="6588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2" name=""/>
            <p:cNvSpPr/>
            <p:nvPr/>
          </p:nvSpPr>
          <p:spPr>
            <a:xfrm>
              <a:off x="2676600" y="556272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ardware/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43" name=""/>
            <p:cNvGraphicFramePr/>
            <p:nvPr/>
          </p:nvGraphicFramePr>
          <p:xfrm>
            <a:off x="2959200" y="4572000"/>
            <a:ext cx="657000" cy="57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59200" y="4572000"/>
                      <a:ext cx="65700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5" name=""/>
            <p:cNvGraphicFramePr/>
            <p:nvPr/>
          </p:nvGraphicFramePr>
          <p:xfrm>
            <a:off x="4365720" y="5105520"/>
            <a:ext cx="658800" cy="576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65720" y="5105520"/>
                      <a:ext cx="65880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7" name=""/>
            <p:cNvGraphicFramePr/>
            <p:nvPr/>
          </p:nvGraphicFramePr>
          <p:xfrm>
            <a:off x="4998960" y="5334120"/>
            <a:ext cx="657360" cy="574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98960" y="5334120"/>
                      <a:ext cx="6573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9" name=""/>
            <p:cNvGraphicFramePr/>
            <p:nvPr/>
          </p:nvGraphicFramePr>
          <p:xfrm>
            <a:off x="3662280" y="4800600"/>
            <a:ext cx="657360" cy="574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5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662280" y="4800600"/>
                      <a:ext cx="657360" cy="5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1" name=""/>
            <p:cNvSpPr/>
            <p:nvPr/>
          </p:nvSpPr>
          <p:spPr>
            <a:xfrm>
              <a:off x="4727520" y="3505320"/>
              <a:ext cx="243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Middleware or Underwa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1584360" y="5324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SSI Clusters--</a:t>
            </a:r>
            <a:r>
              <a:rPr b="1" i="1" lang="en-US" sz="3200" spc="-1" strike="noStrike">
                <a:solidFill>
                  <a:srgbClr val="fafd00"/>
                </a:solidFill>
                <a:latin typeface="Century Gothic"/>
              </a:rPr>
              <a:t>SMP services on a CC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165320" y="2964960"/>
            <a:ext cx="7524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Adaptive resource usage for better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Ease of use -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 almost like SMP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Scalable configurations  -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by decentralized contro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    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Century Gothic"/>
              </a:rPr>
              <a:t>Result:   </a:t>
            </a:r>
            <a:r>
              <a:rPr b="0" i="1" lang="en-US" sz="2800" spc="-1" strike="noStrike">
                <a:solidFill>
                  <a:srgbClr val="fafd00"/>
                </a:solidFill>
                <a:latin typeface="Century Gothic"/>
              </a:rPr>
              <a:t>HPC/HAC at PC/Workstation pric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5" name=""/>
          <p:cNvSpPr/>
          <p:nvPr/>
        </p:nvSpPr>
        <p:spPr>
          <a:xfrm>
            <a:off x="914400" y="1676520"/>
            <a:ext cx="726264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Pool Together”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afd00"/>
                </a:solidFill>
                <a:latin typeface="Times New Roman"/>
              </a:rPr>
              <a:t>“Cluster-Wide”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Cluster Middleware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 interface between between use applications and cluster hardware and OS platform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iddleware packages support each other at the management, programming, and implementation level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iddleware Layers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I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ility Layer: It enables the cluster services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pointing, Automatic Failover, recovery from failur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ult-tolerant operating among all cluster no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iddleware Design Goa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plete Transparency (Manageability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s the see a single cluster system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entry point, ftp, telnet, software loading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calable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growth of clu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hange of API &amp; automatic load distribu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nhanced Availabil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ic Recovery from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loy checkpointing &amp; fault tolerant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le consistency of data when replicated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828440" y="153720"/>
            <a:ext cx="7162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hat is Single System Image (SSI) 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 single system image is th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Century Gothic"/>
              </a:rPr>
              <a:t>illusion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, created by software or hardware, that presents a collection of resources as one, more powerful resource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SI makes the cluster appear like a single machine to the user, to applications, and to the network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 cluster without a SSI is not a cluster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2552760" y="153720"/>
            <a:ext cx="643896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enefits of Single System Imag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age of system resources transparent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ransparent process migration and load balancing across nodes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roved reliability and higher availabil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proved system response time and performanc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mplified system managemen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duction in the risk of operator erro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User need not be aware of the underlying system architecture to use these machines effectivel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8T12:47:46Z</dcterms:created>
  <dc:creator>Rajkumar</dc:creator>
  <dc:description>At Singapore National University
March 31st, 1998</dc:description>
  <dc:language>en-US</dc:language>
  <cp:lastModifiedBy>Rajkumar Buyya</cp:lastModifiedBy>
  <cp:lastPrinted>2000-05-07T14:13:36Z</cp:lastPrinted>
  <dcterms:modified xsi:type="dcterms:W3CDTF">2000-07-04T06:15:22Z</dcterms:modified>
  <cp:revision>215</cp:revision>
  <dc:subject>HPC on Cluster</dc:subject>
  <dc:title>Cluster Computing</dc:title>
</cp:coreProperties>
</file>