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2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A897-29C2-4FC3-ABDD-18157D1E3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8342-8BB1-45F1-837B-6ADB835D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D40A-5ACD-47FC-B5D8-FABE2EDB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173A-4262-4AF1-9F90-0DBEF6711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D58B-0481-4BE6-BC77-A5154515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25EC-3879-48D2-A8AB-70475215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F5DA-75D3-4B81-8690-8E543FA1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C119-76BE-4032-AB59-451385AD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CE9C-89A8-4053-839A-D246A0B6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E66F-C7DE-41E0-9C8F-2AD89486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A652-3F85-40DA-9144-B26DFB9C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BADF-0551-45D6-A0B0-24871856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8FB8-A213-47E5-BB6C-94A598D3F4B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8475840" y="0"/>
          <a:ext cx="66816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75840" y="0"/>
                    <a:ext cx="6681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swallow-gsic" descr=""/>
          <p:cNvPicPr/>
          <p:nvPr/>
        </p:nvPicPr>
        <p:blipFill>
          <a:blip r:embed="rId4"/>
          <a:stretch/>
        </p:blipFill>
        <p:spPr>
          <a:xfrm>
            <a:off x="0" y="0"/>
            <a:ext cx="990720" cy="3049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8445600" y="6019920"/>
            <a:ext cx="69840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oleObject" Target="../embeddings/oleObject1.bin"/><Relationship Id="rId9" Type="http://schemas.openxmlformats.org/officeDocument/2006/relationships/image" Target="../media/image8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9.png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hyperlink" Target="http://developer.intel.com/design/pentiumiii/" TargetMode="External"/><Relationship Id="rId4" Type="http://schemas.openxmlformats.org/officeDocument/2006/relationships/image" Target="../media/image1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0.png"/><Relationship Id="rId7" Type="http://schemas.openxmlformats.org/officeDocument/2006/relationships/image" Target="../media/image21.jpeg"/><Relationship Id="rId8" Type="http://schemas.openxmlformats.org/officeDocument/2006/relationships/oleObject" Target="../embeddings/oleObject3.bin"/><Relationship Id="rId9" Type="http://schemas.openxmlformats.org/officeDocument/2006/relationships/image" Target="../media/image22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ＭＳ ゴシック"/>
              </a:rPr>
              <a:t>Grid Detractors---Playing the Devil’s Advoc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120" y="2743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ゴシック"/>
              </a:rPr>
              <a:t>Satoshi Matsu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ゴシック"/>
              </a:rPr>
              <a:t>Professor, Global Scientific Information and Computing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ゴシック"/>
              </a:rPr>
              <a:t>Tokyo Institute of Technology / N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gsic-banner" descr=""/>
          <p:cNvPicPr/>
          <p:nvPr/>
        </p:nvPicPr>
        <p:blipFill>
          <a:blip r:embed="rId1"/>
          <a:stretch/>
        </p:blipFill>
        <p:spPr>
          <a:xfrm>
            <a:off x="1143000" y="5105520"/>
            <a:ext cx="685800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on’t need Grids, just need Web Services” (?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GSI/A = The 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(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) Generation Distributed O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1981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19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5638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160020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Distributed OS, Parallel/Distributed Prog.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18288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(Distributed) OO-OS, Distributed OO Prog. Languag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7339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RPC-based Systems, e.g., SunD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3809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RBA O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952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va, 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48006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Java RMI, DCOM, Serve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6095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b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6095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GSI/OG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25909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91120" y="40384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51814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91120" y="63244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00800" y="3048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00800" y="4191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00800" y="563868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09680" y="3048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45720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563868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omic Sans MS"/>
              </a:rPr>
              <a:t>On-Demand e-Business Usage Scenario Ob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business will depend on an IT outsourcing infrastructure that is proprietary, and may go Sou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, the Internet, Web hosting Datacenter, etc., work because there are standardized services offered by multiple service provi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b Services may succeed for the same rea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ll OGSA achieve this level of commonality and necess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Les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23623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sic CORBA/OR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2286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G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37339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IOP Interop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39006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ML/SOA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518148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RBA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51814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G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25909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40384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91120" y="54864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28954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45720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09680" y="3048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9680" y="45720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066680" y="4952880"/>
            <a:ext cx="6172200" cy="1099440"/>
            <a:chOff x="1066680" y="4952880"/>
            <a:chExt cx="6172200" cy="1099440"/>
          </a:xfrm>
        </p:grpSpPr>
        <p:grpSp>
          <p:nvGrpSpPr>
            <p:cNvPr id="168" name=""/>
            <p:cNvGrpSpPr/>
            <p:nvPr/>
          </p:nvGrpSpPr>
          <p:grpSpPr>
            <a:xfrm>
              <a:off x="1066680" y="5257440"/>
              <a:ext cx="2286000" cy="609840"/>
              <a:chOff x="1066680" y="5257440"/>
              <a:chExt cx="2286000" cy="609840"/>
            </a:xfrm>
          </p:grpSpPr>
          <p:sp>
            <p:nvSpPr>
              <p:cNvPr id="169" name=""/>
              <p:cNvSpPr/>
              <p:nvPr/>
            </p:nvSpPr>
            <p:spPr>
              <a:xfrm flipH="1">
                <a:off x="1066680" y="5257800"/>
                <a:ext cx="2209680" cy="609480"/>
              </a:xfrm>
              <a:prstGeom prst="line">
                <a:avLst/>
              </a:prstGeom>
              <a:ln w="284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 flipV="1">
                <a:off x="1143000" y="5257440"/>
                <a:ext cx="2209680" cy="533160"/>
              </a:xfrm>
              <a:prstGeom prst="line">
                <a:avLst/>
              </a:prstGeom>
              <a:ln w="284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6019920" y="4952880"/>
              <a:ext cx="1218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990033"/>
                  </a:solidFill>
                  <a:latin typeface="Comic Sans MS"/>
                </a:rPr>
                <a:t>?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838080" y="62485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to mention the WS-Grid 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““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on’t need Grids, just need P2P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2P Usage Scen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mic Sans MS"/>
              </a:rPr>
              <a:t>Seti-like Parameter Sweep 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File 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omic Sans MS"/>
              </a:rPr>
              <a:t>File Sha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Comic Sans MS"/>
              </a:rPr>
              <a:t>File Shar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2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600" spc="-1" strike="noStrike">
                <a:solidFill>
                  <a:srgbClr val="000000"/>
                </a:solidFill>
                <a:latin typeface="Comic Sans MS"/>
              </a:rPr>
              <a:t>File Sharing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70% of all ADSL and FTTH provider uplink traffic in Japan is P2P file shar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le Sharing Scen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gal File Sharing of private data – Data hosting, secure a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gal file sharing of public data – Web hosting and Web 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rey-zone File Sharing – P2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else do we ne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Grid “Hats” I W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707040" indent="-70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Professor, GSIC, Tokyo Institute of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6640" indent="-61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Chair of Research Infrastructure System (Supercomputers and Grid)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6640" indent="-61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Head of Lab, Grid and Cluster Comp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5520" indent="-52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Ninf (GridRPC) Project w/AIST since 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07040" indent="-70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Deputy Leader, (the Japanese) National Research Grid Infrastructure (NAREGI)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07040" indent="-70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Steering Group/APME Area Director, GGF, etc. etc.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07040" indent="-707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I.e., Grid Advoc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Grid Detractors: Doubts and Questions I Always 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’t need Grids, the usage of Grids are like big clusters--- (thus) we just need to build large cluster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’t need Grids, just need Web Servic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’t need Grids, just need P2P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o let us be the Grid Devil’s Advo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(with great p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on’t need Grids, just need big clusters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gs320" descr="Compaq Alpha Server GS320"/>
          <p:cNvPicPr/>
          <p:nvPr/>
        </p:nvPicPr>
        <p:blipFill>
          <a:blip r:embed="rId1"/>
          <a:stretch/>
        </p:blipFill>
        <p:spPr>
          <a:xfrm>
            <a:off x="6324480" y="4525920"/>
            <a:ext cx="1143000" cy="884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038480" y="5334120"/>
            <a:ext cx="3200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High Density GSIC Main Clusters by N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(256 processers) x 2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in just 5 cabin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762120"/>
            <a:ext cx="6400800" cy="204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990033"/>
                </a:solidFill>
                <a:latin typeface="Tahoma"/>
              </a:rPr>
              <a:t>Titech Grid @ Tokyo Inst.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ahoma"/>
              </a:rPr>
              <a:t>800 Proc, Blade PC Servers in 14 clusters, Gigabit P2P conne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ahoma"/>
              </a:rPr>
              <a:t>The first campus-wide production Grid </a:t>
            </a:r>
            <a:br>
              <a:rPr sz="1800"/>
            </a:br>
            <a:r>
              <a:rPr b="1" lang="ja-JP" sz="1800" spc="-1" strike="noStrike">
                <a:solidFill>
                  <a:srgbClr val="000000"/>
                </a:solidFill>
                <a:latin typeface="Tahoma"/>
              </a:rPr>
              <a:t>deployment in Japan, since spring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ahoma"/>
              </a:rPr>
              <a:t>+~350 proc. Supercomputing deployment Nov. 2003 via Glo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61008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4-processor Satellite Systems @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ach department ×12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228600"/>
            <a:ext cx="617220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MS PGothic"/>
              </a:rPr>
              <a:t>Example: Titech Campus Grid - System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590920"/>
            <a:ext cx="4159080" cy="2595600"/>
          </a:xfrm>
          <a:custGeom>
            <a:avLst/>
            <a:gdLst/>
            <a:ahLst/>
            <a:rect l="l" t="t" r="r" b="b"/>
            <a:pathLst>
              <a:path w="3263" h="2603">
                <a:moveTo>
                  <a:pt x="1987" y="2586"/>
                </a:moveTo>
                <a:cubicBezTo>
                  <a:pt x="1564" y="2603"/>
                  <a:pt x="238" y="2500"/>
                  <a:pt x="119" y="2416"/>
                </a:cubicBezTo>
                <a:cubicBezTo>
                  <a:pt x="0" y="2332"/>
                  <a:pt x="967" y="2224"/>
                  <a:pt x="1271" y="2080"/>
                </a:cubicBezTo>
                <a:cubicBezTo>
                  <a:pt x="1575" y="1936"/>
                  <a:pt x="1679" y="1864"/>
                  <a:pt x="1943" y="1552"/>
                </a:cubicBezTo>
                <a:cubicBezTo>
                  <a:pt x="2207" y="1240"/>
                  <a:pt x="2647" y="416"/>
                  <a:pt x="2855" y="208"/>
                </a:cubicBezTo>
                <a:cubicBezTo>
                  <a:pt x="3063" y="0"/>
                  <a:pt x="3127" y="184"/>
                  <a:pt x="3191" y="304"/>
                </a:cubicBezTo>
                <a:cubicBezTo>
                  <a:pt x="3255" y="424"/>
                  <a:pt x="3263" y="672"/>
                  <a:pt x="3239" y="928"/>
                </a:cubicBezTo>
                <a:cubicBezTo>
                  <a:pt x="3215" y="1184"/>
                  <a:pt x="3144" y="1609"/>
                  <a:pt x="3047" y="1840"/>
                </a:cubicBezTo>
                <a:cubicBezTo>
                  <a:pt x="2950" y="2071"/>
                  <a:pt x="2836" y="2192"/>
                  <a:pt x="2659" y="2316"/>
                </a:cubicBezTo>
                <a:cubicBezTo>
                  <a:pt x="2482" y="2440"/>
                  <a:pt x="2410" y="2569"/>
                  <a:pt x="1987" y="2586"/>
                </a:cubicBez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162920" y="5334120"/>
            <a:ext cx="19810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Super SI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(10 Gbps MOE National Backbone Networ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to other Gr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5181480"/>
            <a:ext cx="266724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</a:rPr>
              <a:t>Grid-wide Single System Image via Grid middleware: Globus, Ninf-G, Condor, NWS,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3200400"/>
            <a:ext cx="2743200" cy="16002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2200" y="2879640"/>
            <a:ext cx="160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er TITANE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1-4Gb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1371600"/>
            <a:ext cx="2146320" cy="1639800"/>
          </a:xfrm>
          <a:custGeom>
            <a:avLst/>
            <a:gdLst/>
            <a:ahLst/>
            <a:rect l="l" t="t" r="r" b="b"/>
            <a:pathLst>
              <a:path w="1795" h="1372">
                <a:moveTo>
                  <a:pt x="787" y="1368"/>
                </a:moveTo>
                <a:cubicBezTo>
                  <a:pt x="609" y="1372"/>
                  <a:pt x="386" y="1297"/>
                  <a:pt x="256" y="1223"/>
                </a:cubicBezTo>
                <a:cubicBezTo>
                  <a:pt x="126" y="1149"/>
                  <a:pt x="0" y="1057"/>
                  <a:pt x="5" y="925"/>
                </a:cubicBezTo>
                <a:cubicBezTo>
                  <a:pt x="10" y="793"/>
                  <a:pt x="92" y="575"/>
                  <a:pt x="284" y="433"/>
                </a:cubicBezTo>
                <a:cubicBezTo>
                  <a:pt x="476" y="291"/>
                  <a:pt x="930" y="136"/>
                  <a:pt x="1157" y="71"/>
                </a:cubicBezTo>
                <a:cubicBezTo>
                  <a:pt x="1384" y="6"/>
                  <a:pt x="1543" y="0"/>
                  <a:pt x="1649" y="43"/>
                </a:cubicBezTo>
                <a:cubicBezTo>
                  <a:pt x="1755" y="86"/>
                  <a:pt x="1795" y="184"/>
                  <a:pt x="1793" y="327"/>
                </a:cubicBezTo>
                <a:cubicBezTo>
                  <a:pt x="1791" y="470"/>
                  <a:pt x="1716" y="755"/>
                  <a:pt x="1639" y="900"/>
                </a:cubicBezTo>
                <a:cubicBezTo>
                  <a:pt x="1561" y="1045"/>
                  <a:pt x="1469" y="1121"/>
                  <a:pt x="1327" y="1199"/>
                </a:cubicBezTo>
                <a:cubicBezTo>
                  <a:pt x="1185" y="1277"/>
                  <a:pt x="1127" y="1358"/>
                  <a:pt x="787" y="1368"/>
                </a:cubicBez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333760" y="2743200"/>
            <a:ext cx="1143000" cy="914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18480" y="1801800"/>
            <a:ext cx="138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Suzukake-da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Camp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43434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Oo-okay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Camp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467480" y="304812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C Express 5800 Series Blade Ser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まんが" descr=""/>
          <p:cNvPicPr/>
          <p:nvPr/>
        </p:nvPicPr>
        <p:blipFill>
          <a:blip r:embed="rId2"/>
          <a:stretch/>
        </p:blipFill>
        <p:spPr>
          <a:xfrm>
            <a:off x="0" y="4419720"/>
            <a:ext cx="1143000" cy="823680"/>
          </a:xfrm>
          <a:prstGeom prst="rect">
            <a:avLst/>
          </a:prstGeom>
          <a:ln w="0">
            <a:noFill/>
          </a:ln>
        </p:spPr>
      </p:pic>
      <p:pic>
        <p:nvPicPr>
          <p:cNvPr id="70" name="写真" descr=""/>
          <p:cNvPicPr/>
          <p:nvPr/>
        </p:nvPicPr>
        <p:blipFill>
          <a:blip r:embed="rId3"/>
          <a:stretch/>
        </p:blipFill>
        <p:spPr>
          <a:xfrm>
            <a:off x="1905120" y="4191120"/>
            <a:ext cx="485640" cy="736560"/>
          </a:xfrm>
          <a:prstGeom prst="rect">
            <a:avLst/>
          </a:prstGeom>
          <a:ln w="0">
            <a:noFill/>
          </a:ln>
        </p:spPr>
      </p:pic>
      <p:pic>
        <p:nvPicPr>
          <p:cNvPr id="71" name="写真" descr=""/>
          <p:cNvPicPr/>
          <p:nvPr/>
        </p:nvPicPr>
        <p:blipFill>
          <a:blip r:embed="rId4"/>
          <a:stretch/>
        </p:blipFill>
        <p:spPr>
          <a:xfrm>
            <a:off x="3733920" y="3276720"/>
            <a:ext cx="485640" cy="736560"/>
          </a:xfrm>
          <a:prstGeom prst="rect">
            <a:avLst/>
          </a:prstGeom>
          <a:ln w="0">
            <a:noFill/>
          </a:ln>
        </p:spPr>
      </p:pic>
      <p:pic>
        <p:nvPicPr>
          <p:cNvPr id="72" name="写真" descr=""/>
          <p:cNvPicPr/>
          <p:nvPr/>
        </p:nvPicPr>
        <p:blipFill>
          <a:blip r:embed="rId5"/>
          <a:stretch/>
        </p:blipFill>
        <p:spPr>
          <a:xfrm>
            <a:off x="6248520" y="1930320"/>
            <a:ext cx="485640" cy="736560"/>
          </a:xfrm>
          <a:prstGeom prst="rect">
            <a:avLst/>
          </a:prstGeom>
          <a:ln w="0">
            <a:noFill/>
          </a:ln>
        </p:spPr>
      </p:pic>
      <p:pic>
        <p:nvPicPr>
          <p:cNvPr id="73" name="写真" descr=""/>
          <p:cNvPicPr/>
          <p:nvPr/>
        </p:nvPicPr>
        <p:blipFill>
          <a:blip r:embed="rId6"/>
          <a:stretch/>
        </p:blipFill>
        <p:spPr>
          <a:xfrm>
            <a:off x="8001000" y="2209680"/>
            <a:ext cx="485640" cy="736560"/>
          </a:xfrm>
          <a:prstGeom prst="rect">
            <a:avLst/>
          </a:prstGeom>
          <a:ln w="0">
            <a:noFill/>
          </a:ln>
        </p:spPr>
      </p:pic>
      <p:pic>
        <p:nvPicPr>
          <p:cNvPr id="74" name="写真" descr=""/>
          <p:cNvPicPr/>
          <p:nvPr/>
        </p:nvPicPr>
        <p:blipFill>
          <a:blip r:embed="rId7"/>
          <a:stretch/>
        </p:blipFill>
        <p:spPr>
          <a:xfrm>
            <a:off x="3505320" y="4876920"/>
            <a:ext cx="485640" cy="736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rot="19439400">
            <a:off x="5334480" y="25905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30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648320" y="3505320"/>
          <a:ext cx="1314360" cy="1752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48320" y="3505320"/>
                    <a:ext cx="131436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4419720" y="2514600"/>
          <a:ext cx="414360" cy="914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419720" y="2514600"/>
                    <a:ext cx="4143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nec-sx5" descr="NEC SX-5"/>
          <p:cNvPicPr/>
          <p:nvPr/>
        </p:nvPicPr>
        <p:blipFill>
          <a:blip r:embed="rId12"/>
          <a:stretch/>
        </p:blipFill>
        <p:spPr>
          <a:xfrm>
            <a:off x="5486400" y="4419720"/>
            <a:ext cx="990720" cy="777600"/>
          </a:xfrm>
          <a:prstGeom prst="rect">
            <a:avLst/>
          </a:prstGeom>
          <a:ln w="0">
            <a:noFill/>
          </a:ln>
        </p:spPr>
      </p:pic>
      <p:pic>
        <p:nvPicPr>
          <p:cNvPr id="81" name="sgi-origin2000" descr="SGI Origin2000"/>
          <p:cNvPicPr/>
          <p:nvPr/>
        </p:nvPicPr>
        <p:blipFill>
          <a:blip r:embed="rId13"/>
          <a:stretch/>
        </p:blipFill>
        <p:spPr>
          <a:xfrm>
            <a:off x="6019920" y="3962520"/>
            <a:ext cx="914400" cy="68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48320" y="8380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62120" y="37339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648320" y="37339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477800" y="2514600"/>
            <a:ext cx="1898640" cy="457200"/>
          </a:xfrm>
          <a:prstGeom prst="line">
            <a:avLst/>
          </a:prstGeom>
          <a:ln w="38160">
            <a:solidFill>
              <a:srgbClr val="ca230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81000" y="1650960"/>
            <a:ext cx="195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ca2302"/>
                </a:solidFill>
                <a:latin typeface="Tahoma"/>
              </a:rPr>
              <a:t>4.5 Racks</a:t>
            </a:r>
            <a:br>
              <a:rPr sz="3200"/>
            </a:br>
            <a:r>
              <a:rPr b="0" lang="ja-JP" sz="3200" spc="-1" strike="noStrike">
                <a:solidFill>
                  <a:srgbClr val="ca2302"/>
                </a:solidFill>
                <a:latin typeface="Tahoma"/>
              </a:rPr>
              <a:t>512CP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763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tech Grid GSIC Center Clusters A, B (256CPU x 2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81440" y="4267080"/>
            <a:ext cx="260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ca2302"/>
                </a:solidFill>
                <a:latin typeface="Tahoma"/>
              </a:rPr>
              <a:t>Myrinet 2K / </a:t>
            </a:r>
            <a:br>
              <a:rPr sz="3200"/>
            </a:br>
            <a:r>
              <a:rPr b="0" lang="ja-JP" sz="3200" spc="-1" strike="noStrike">
                <a:solidFill>
                  <a:srgbClr val="ca2302"/>
                </a:solidFill>
                <a:latin typeface="Tahoma"/>
              </a:rPr>
              <a:t>128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omic Sans MS"/>
              </a:rPr>
              <a:t>Titech Grid Campus 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562720" y="2685960"/>
          <a:ext cx="358128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685960"/>
                    <a:ext cx="358128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152280" y="2666880"/>
          <a:ext cx="5410440" cy="380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666880"/>
                    <a:ext cx="5410440" cy="38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04920" y="6400800"/>
            <a:ext cx="47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Oo-okayama campus (10 si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3773520"/>
            <a:ext cx="78912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ath. Comp.</a:t>
            </a:r>
            <a:r>
              <a:rPr b="0" lang="zh-CN" sz="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cience 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298680"/>
            <a:ext cx="6397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mp. Eng. 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13000" y="4011480"/>
            <a:ext cx="719280" cy="79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92200" y="3537000"/>
            <a:ext cx="720720" cy="142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14 installations, 18 participating depar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Univ.-wide solicitation and applications there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Department listed apps – Bioinfo, CFD, Nanotech, Env. etc.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Ubiquitous Condor-Gaussian, GAMESS being planned (harder than you think), access thru Gaussian Portal (by AIST-GTR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4419720"/>
            <a:ext cx="1523880" cy="0"/>
          </a:xfrm>
          <a:prstGeom prst="line">
            <a:avLst/>
          </a:prstGeom>
          <a:ln w="38160">
            <a:solidFill>
              <a:srgbClr val="99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13360" y="3870360"/>
            <a:ext cx="124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990033"/>
                </a:solidFill>
                <a:latin typeface="Comic Sans MS"/>
              </a:rPr>
              <a:t>30k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33520" y="2819160"/>
            <a:ext cx="4572000" cy="3352680"/>
          </a:xfrm>
          <a:prstGeom prst="line">
            <a:avLst/>
          </a:prstGeom>
          <a:ln w="38160">
            <a:solidFill>
              <a:srgbClr val="99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38098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990033"/>
                </a:solidFill>
                <a:latin typeface="Comic Sans MS"/>
              </a:rPr>
              <a:t>1.2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603576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Suzukakedai campus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5 si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omic Sans MS"/>
              </a:rPr>
              <a:t>Titech Grid Usage Sce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Extensive adoption by users, production-level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But, observed usage scenar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Single cluster (MPI) j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Metacomputing: Param sweep and B&amp;B search via Condor and Ni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Comic Sans MS"/>
              </a:rPr>
              <a:t>No cross-machine MPI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Dealing w/ distributed HW/SW harder than exp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Compute/Datacenter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A set of large clusters and storage servers @ GSIC only w/ Hi-BW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50TF, 3 PB in a building y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867280" y="1066680"/>
          <a:ext cx="3276720" cy="24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066680"/>
                    <a:ext cx="3276720" cy="24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" name=""/>
          <p:cNvGrpSpPr/>
          <p:nvPr/>
        </p:nvGrpSpPr>
        <p:grpSpPr>
          <a:xfrm>
            <a:off x="5715000" y="4267080"/>
            <a:ext cx="3428640" cy="1673280"/>
            <a:chOff x="5715000" y="4267080"/>
            <a:chExt cx="3428640" cy="1673280"/>
          </a:xfrm>
        </p:grpSpPr>
        <p:grpSp>
          <p:nvGrpSpPr>
            <p:cNvPr id="113" name=""/>
            <p:cNvGrpSpPr/>
            <p:nvPr/>
          </p:nvGrpSpPr>
          <p:grpSpPr>
            <a:xfrm>
              <a:off x="8210160" y="4267080"/>
              <a:ext cx="933480" cy="1420200"/>
              <a:chOff x="8210160" y="4267080"/>
              <a:chExt cx="933480" cy="1420200"/>
            </a:xfrm>
          </p:grpSpPr>
          <p:pic>
            <p:nvPicPr>
              <p:cNvPr id="114" name="prodchipFCPGA2" descr="Pentium(r) III Processor">
                <a:hlinkClick r:id="rId3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8385120" y="4714560"/>
                <a:ext cx="758520" cy="72396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15" name=""/>
              <p:cNvGraphicFramePr/>
              <p:nvPr/>
            </p:nvGraphicFramePr>
            <p:xfrm>
              <a:off x="8338320" y="5442480"/>
              <a:ext cx="652320" cy="2448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16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8338320" y="5442480"/>
                        <a:ext cx="652320" cy="244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17" name="deskprod" descr="deskstar-photo"/>
              <p:cNvPicPr/>
              <p:nvPr/>
            </p:nvPicPr>
            <p:blipFill>
              <a:blip r:embed="rId7"/>
              <a:stretch/>
            </p:blipFill>
            <p:spPr>
              <a:xfrm>
                <a:off x="8210160" y="4267080"/>
                <a:ext cx="455040" cy="56196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118" name=""/>
            <p:cNvGraphicFramePr/>
            <p:nvPr/>
          </p:nvGraphicFramePr>
          <p:xfrm>
            <a:off x="6877080" y="4545720"/>
            <a:ext cx="1336680" cy="12024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877080" y="4545720"/>
                      <a:ext cx="1336680" cy="120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0" name=""/>
            <p:cNvGraphicFramePr/>
            <p:nvPr/>
          </p:nvGraphicFramePr>
          <p:xfrm>
            <a:off x="5715000" y="4685400"/>
            <a:ext cx="1394640" cy="12549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715000" y="4685400"/>
                      <a:ext cx="1394640" cy="12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can make pretty big clusters n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Earth Simulator – 5120 procs, 40TF, PB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ASCI Red Storm - ~10,000 procs (onto 20,000 and beyo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&gt; 20 machines over 2000 procs in Top 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Virginia Tech “Big Mac” - 2200 proc, 17.6TF &lt; $ 6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181480" y="1523880"/>
          <a:ext cx="3733920" cy="280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523880"/>
                    <a:ext cx="373392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105520" y="3809880"/>
            <a:ext cx="358128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6T16:31:58Z</dcterms:created>
  <dc:creator>matsu</dc:creator>
  <dc:description/>
  <dc:language>en-US</dc:language>
  <cp:lastModifiedBy>Satoshi Matsuoka</cp:lastModifiedBy>
  <dcterms:modified xsi:type="dcterms:W3CDTF">2003-11-17T18:54:44Z</dcterms:modified>
  <cp:revision>356</cp:revision>
  <dc:subject/>
  <dc:title>PowerPoint プレゼンテーション</dc:title>
</cp:coreProperties>
</file>