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5C92-E9B3-44A7-9F9A-04C2F9FE12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ion: abstract from the code, abstract into groups of different kinds of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?? Replication Protocol, Two-phase commit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col stacking (composition of protocol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B57-AF4B-44AC-A3A7-18973BFB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1C4-58CB-4098-A11E-219E99ED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647-2649-4AF9-B599-40DD0513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AA9-23DB-4B06-ACC4-28B08329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05CD-6F47-4A78-93F4-8A8ED5BB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4440-1166-43DE-8649-CCCF8A2D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FB2A-DCA6-4DBB-80A9-F297F81F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B61E-AD69-4E6A-ABDA-E8F81500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E2B2-499E-452A-AE96-5D489E65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A9FB-0122-4D20-BCD4-BAB5F696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6279-735E-4248-A0D0-A097B55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30D-B390-4170-B42A-A98D8BB3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AB59-32F4-454B-8ABA-8D407392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AA4A-D483-416F-80D3-0E3F3892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AC07-4260-4AC1-8325-B92800EE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3CFE-8040-47E4-8E96-6C2E868E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014C-81A9-4F3D-A03A-6D517030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78D-81FC-4C96-B39F-D073F94D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EE8-24BB-406C-A4AB-76DB1AE3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685-C705-4D3F-A74B-D69D60F3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E7C-F488-4AD4-B868-6E6BA11E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CD0-A093-46F5-98B0-5F74E9BC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BA6-C1D7-4D3B-B8BC-3B09A3CD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06D-0225-41D4-A219-E865A15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F76D-F870-4A15-930B-86DC36D9D2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A3BA-9EA9-457E-B987-D2BB915411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Prospect for Parallel and Distributed Computing on the We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00360" y="838080"/>
            <a:ext cx="73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World Wide Comp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267080"/>
            <a:ext cx="66294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ahoma"/>
              </a:rPr>
              <a:t>Gul A Ag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Open System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University of Illinois at Urbana-Champa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http://osl.cs.uiuc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or Functio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ctor ma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 and send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 local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new a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’s Non Universal Na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7724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ability to uniquely refer to objects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riction on 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Addr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il address represents an actor’s locality in a computational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il address independent of actor implementation provide actors with location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orFound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Library supporting Actor Seman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al n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threaded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ynchronous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ied 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r message 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-level abstractions for expressivene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ransformations to achieve effici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se interaction of compiler and run-ti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Rosette, THAL and SAL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THAL language and Run-tim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urrent call-return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ynchronization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mail queues on a single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 local message sends to function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ooYoung Kim, THAL: An Actor System for Efficient and Scalable Concurrent Computing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PC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Parallelis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ant information from different 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 complete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96252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038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038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14240" y="4267080"/>
            <a:ext cx="1143000" cy="30492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4267080"/>
            <a:ext cx="0" cy="533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800600"/>
            <a:ext cx="11430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4572000"/>
            <a:ext cx="0" cy="2286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4800600"/>
            <a:ext cx="144792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600" y="5257800"/>
            <a:ext cx="144792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800600"/>
            <a:ext cx="0" cy="6094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495288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urrent Call/Return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urrent execution of mutually independent message s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t sender to continue to execute as far as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434340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434340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434340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361960" y="4648320"/>
            <a:ext cx="1447560" cy="60948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4648320"/>
            <a:ext cx="1600200" cy="38088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5638680"/>
            <a:ext cx="1905120" cy="15264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715000"/>
            <a:ext cx="4952880" cy="45720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52578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648320"/>
            <a:ext cx="350532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4800600"/>
            <a:ext cx="30456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76" y="40"/>
                  <a:pt x="192" y="48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480060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bonacci number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4724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behv F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   </a:t>
            </a: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method compute 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if (n &lt;= 1) then reply (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else reply (self.compute(n-1)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    </a:t>
            </a: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(Fib.new()).compute(n-1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    </a:t>
            </a: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mericanTypewriter C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715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 graph when N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fib-msg-trace-b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189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rajec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71629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trajectory of Fib after join continuation trans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fib-traj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3440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e Applications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25909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sively Parallel Divide-and-Conque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rypto-Analysis, SETI, Image/Animation Re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ared Blackboards, Chat Rooms, Electronic Voting, Meeting Scheduling, Multi-User Domain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oin continuation trans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oits functional parallelism in        expression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join continuation closure (JCC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er - number of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- invoked with JCC as arg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performance than future based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ed N futures to some identif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blocks on a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st case 2N contex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mechanism for 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s touched sequenti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not futur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rve message driven com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switching cost using dataflow analysis -- only necessary context is in J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transformation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set of mutually independent request expressions across statement bou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 of Trans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of Thal Runtim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 location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t distributed nam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object 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implementation techniques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object cre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intra-node message schedu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Location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al placement of actors is application speci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dynamic 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asible or inefficient to move dat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ctor mi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load balan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the Runtim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Nam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Object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a-node Message Schedu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on Times of Primi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659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by repeatedly sending a nul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send and dispatch time does not include the time for locality che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ual remote creation latency is mas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4400" y="2209680"/>
          <a:ext cx="7315200" cy="2281320"/>
        </p:xfrm>
        <a:graphic>
          <a:graphicData uri="http://schemas.openxmlformats.org/drawingml/2006/table">
            <a:tbl>
              <a:tblPr/>
              <a:tblGrid>
                <a:gridCol w="1295280"/>
                <a:gridCol w="1219320"/>
                <a:gridCol w="1270080"/>
                <a:gridCol w="1177920"/>
                <a:gridCol w="1174680"/>
                <a:gridCol w="1177920"/>
              </a:tblGrid>
              <a:tr h="107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end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send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MC CM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y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(68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/1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y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of Method Invocation Co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4952880"/>
            <a:ext cx="7888320" cy="14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66680" y="3048120"/>
          <a:ext cx="7010640" cy="158112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Inv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te Inv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CL/AP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-5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326960" y="5214960"/>
            <a:ext cx="6872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s in cycles (Sparcs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BCL (Yonezawa, Matsuoka, ..), Concert (Chien et al.), THAL (Kim and Agh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Only THAL supports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ormance 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L and Split-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lit-C is a C-based parallel programming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non’s matrix multiplication is a coarse-grain application on a 64-node TMC CM5 (unit: MFlop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the grain size is increased, the actor scheduling overhead is masked and performance impro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 synchronization constraints reduce synchronization overhead significa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76520" y="5029200"/>
          <a:ext cx="6095880" cy="12952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6x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2x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4x1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lit-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ations and Communication Abs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level actor languages abstract over concurrent control structur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Implicit marshalling, join continuations, locality check, etc.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lines of actor code genera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0 lines of C code for the runtime kern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cy is generally comparable to fastest parallel C codes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The need for coordination still makes programming complex distributed systems tedious and error pr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e Applications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Software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vel Agent, Auction Agent, Personalized Information Agent, News Synthes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arch in Game Playing, Distributed Web Search, Distributed Transactions, Peer-to-Pe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of Code Si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iled output represents low level programming similar to programming in C with message-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95280" y="3429000"/>
          <a:ext cx="6782040" cy="1549440"/>
        </p:xfrm>
        <a:graphic>
          <a:graphicData uri="http://schemas.openxmlformats.org/drawingml/2006/table">
            <a:tbl>
              <a:tblPr/>
              <a:tblGrid>
                <a:gridCol w="2057400"/>
                <a:gridCol w="762120"/>
                <a:gridCol w="838080"/>
                <a:gridCol w="1143000"/>
                <a:gridCol w="762120"/>
                <a:gridCol w="1219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Qu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ap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iled 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ifying Distributed Program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or runtime kernel abstracts over name resolution, scheduling, actor creation and communication mechanis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kernel-internal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65376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ts and A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ts are mobile actors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aming  and resource disco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ts don’t own the resources (processing, memory, network, …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ave bounded wealth with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ich to acquire resour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ha, Jamali and Thati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(IEEE Intelligent Systems  April 199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ource Discov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in goals of naming in Open Systems are to provi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ation independence of the underlying architecture by letting it appear coherent on all nod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ability of name space management to large network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on transparency of actor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bility to actors not previously kn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orSp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orSpace extends extensional naming with intentional nam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tern-based specification of destin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f.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ellow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ort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nda coordination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source Bro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orSpace Defi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orSpace provides a context for pattern matching and messaging servi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on of new ActorSpaces.  ActorSpaces may overlap or be nes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ration and modification of actor attributes in an Actor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roadcast to all satisfying a pattern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nd to one of many satisfying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e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Callsen and Agh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A Car Assembly Fac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ar factory requires various components from different manufactur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anufacturer is able to respond to a request is transparently determ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wheels" descr=""/>
          <p:cNvPicPr/>
          <p:nvPr/>
        </p:nvPicPr>
        <p:blipFill>
          <a:blip r:embed="rId1"/>
          <a:stretch/>
        </p:blipFill>
        <p:spPr>
          <a:xfrm>
            <a:off x="1905120" y="3292560"/>
            <a:ext cx="5635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nent-based Compu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ddleware architectures allow a more modular, component-based approa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corba_heterogeneity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999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ability in Multi-Agent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s create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s are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ors are often in different 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 determines actual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oles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5932440" cy="3165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tocol defines a role for each participating actor relative to th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638680"/>
            <a:ext cx="38862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Primary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iodic Check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Sturman and Ag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portunities &amp; 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3623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akes enormous computational power available across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VM overcomes platform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basis for sharing independently own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ing Inte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expres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ordina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eraction poli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tocol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implement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glue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33606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t Implementation of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ion enables protocol implementations to be independent of application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ta-level actor describes functionality of a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hange the application’s behavior, modify the relevant meta-a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reflect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255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a-archite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e execution level seman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customization of run-tim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rid Resource Allocation Management protoco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poses job status events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quest, cancel, status, signal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allows callb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wo-level actor semantic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(Venkatasubramanian and Talcot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predictable requir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terogene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Mobile Agents or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dynamic" descr=""/>
          <p:cNvPicPr/>
          <p:nvPr/>
        </p:nvPicPr>
        <p:blipFill>
          <a:blip r:embed="rId1"/>
          <a:stretch/>
        </p:blipFill>
        <p:spPr>
          <a:xfrm>
            <a:off x="762120" y="3079800"/>
            <a:ext cx="74516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 in A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cept communication and resource req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event triggering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3657600"/>
            <a:ext cx="1857600" cy="838080"/>
          </a:xfrm>
          <a:prstGeom prst="ellipse">
            <a:avLst/>
          </a:prstGeom>
          <a:solidFill>
            <a:srgbClr val="c5f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3809880"/>
            <a:ext cx="11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stem VT Spec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733920"/>
            <a:ext cx="1609920" cy="838080"/>
          </a:xfrm>
          <a:prstGeom prst="ellipse">
            <a:avLst/>
          </a:prstGeom>
          <a:solidFill>
            <a:srgbClr val="c5f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5000" y="3886200"/>
            <a:ext cx="990720" cy="459720"/>
          </a:xfrm>
          <a:prstGeom prst="rect">
            <a:avLst/>
          </a:prstGeom>
          <a:solidFill>
            <a:srgbClr val="c5f9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stem VT Spec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3962520"/>
            <a:ext cx="1676520" cy="30456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4876920"/>
            <a:ext cx="1066680" cy="1143000"/>
          </a:xfrm>
          <a:prstGeom prst="flowChartMagneticDisk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952880"/>
            <a:ext cx="1067040" cy="1067040"/>
          </a:xfrm>
          <a:prstGeom prst="flowChartMagneticDisk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419720"/>
            <a:ext cx="371520" cy="761760"/>
          </a:xfrm>
          <a:custGeom>
            <a:avLst/>
            <a:gdLst>
              <a:gd name="textAreaLeft" fmla="*/ 49680 w 371520"/>
              <a:gd name="textAreaRight" fmla="*/ 321840 w 37152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1404200">
            <a:off x="2436480" y="4355280"/>
            <a:ext cx="390600" cy="762120"/>
          </a:xfrm>
          <a:custGeom>
            <a:avLst/>
            <a:gdLst>
              <a:gd name="textAreaLeft" fmla="*/ 52200 w 390600"/>
              <a:gd name="textAreaRight" fmla="*/ 338400 w 3906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419720"/>
            <a:ext cx="371520" cy="761760"/>
          </a:xfrm>
          <a:custGeom>
            <a:avLst/>
            <a:gdLst>
              <a:gd name="textAreaLeft" fmla="*/ 49680 w 371520"/>
              <a:gd name="textAreaRight" fmla="*/ 321840 w 37152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716600">
            <a:off x="6400440" y="4266360"/>
            <a:ext cx="368280" cy="762120"/>
          </a:xfrm>
          <a:custGeom>
            <a:avLst/>
            <a:gdLst>
              <a:gd name="textAreaLeft" fmla="*/ 49320 w 368280"/>
              <a:gd name="textAreaRight" fmla="*/ 318960 w 36828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43000" y="48006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rdination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ation between 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 of 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omic” 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two robots with a shared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ing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ly customize schedu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3124080"/>
            <a:ext cx="2519640" cy="1949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419720"/>
            <a:ext cx="457200" cy="34920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5410080"/>
            <a:ext cx="560520" cy="417600"/>
          </a:xfrm>
          <a:prstGeom prst="octagon">
            <a:avLst>
              <a:gd name="adj" fmla="val 292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447920" y="4495680"/>
            <a:ext cx="979200" cy="97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4114800"/>
            <a:ext cx="279360" cy="417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5029200"/>
            <a:ext cx="279360" cy="41760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4343400"/>
            <a:ext cx="1067040" cy="998640"/>
          </a:xfrm>
          <a:custGeom>
            <a:avLst/>
            <a:gdLst/>
            <a:ahLst/>
            <a:rect l="l" t="t" r="r" b="b"/>
            <a:pathLst>
              <a:path w="392" h="344">
                <a:moveTo>
                  <a:pt x="336" y="344"/>
                </a:moveTo>
                <a:cubicBezTo>
                  <a:pt x="364" y="228"/>
                  <a:pt x="392" y="112"/>
                  <a:pt x="336" y="56"/>
                </a:cubicBezTo>
                <a:cubicBezTo>
                  <a:pt x="280" y="0"/>
                  <a:pt x="48" y="16"/>
                  <a:pt x="0" y="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429000" y="4343400"/>
            <a:ext cx="139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3886200"/>
            <a:ext cx="381240" cy="380880"/>
          </a:xfrm>
          <a:prstGeom prst="ellipse">
            <a:avLst/>
          </a:prstGeom>
          <a:solidFill>
            <a:srgbClr val="c5f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3505320"/>
            <a:ext cx="380880" cy="380880"/>
          </a:xfrm>
          <a:prstGeom prst="ellipse">
            <a:avLst/>
          </a:prstGeom>
          <a:solidFill>
            <a:srgbClr val="c5f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3657600"/>
            <a:ext cx="381240" cy="380880"/>
          </a:xfrm>
          <a:prstGeom prst="ellipse">
            <a:avLst/>
          </a:prstGeom>
          <a:solidFill>
            <a:srgbClr val="c5f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514600" y="4114800"/>
            <a:ext cx="27936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3352680"/>
            <a:ext cx="380880" cy="381240"/>
          </a:xfrm>
          <a:prstGeom prst="ellipse">
            <a:avLst/>
          </a:prstGeom>
          <a:solidFill>
            <a:srgbClr val="c5f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3429000"/>
            <a:ext cx="304920" cy="30492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038120" y="358128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4267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 Frolu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ordinating Distributed Object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 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ts have Bounded Weal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et based resource allocation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m based resource alloc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comman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resources and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vention of Chaotic Behavi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ons of (autonomous) agents can  have chaotic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y chains may f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dependency constraints within fi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ybor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ons of closely coupled actors which share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cyborg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9436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id Technolo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otivated by High Performance Comp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istent Infrastruct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cols and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 A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yborg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9" name="newarch-fixed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211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ctor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extend a simple call-by-value functional language with actor primitives for coordin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(adr,exp)  creates a new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actor(e) creates a new a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y(beh) captures local state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deterministic interleaving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gha, Mason, Smith and Talcot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ern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cv: receipt of a message by an actor not currently busy computing;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: an actor executing a step of its current compu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tern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: arrival of a message to a receptionist from the outside;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: passing a message out to an external acto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arch Directions in Actor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gebraic Formula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 to other formalisms such a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alcu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ing Equivalences and Algebraic The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ordination as Typ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theory and logic for coordination abstractions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ynchroniz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actio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arch Directions in Actor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pecification Diagram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specification of input/output causalities in an actor configura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to security verif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Actor Structur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rewrite rules on actor configu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to protocol verification, specification of intelligent vehicle roadway systems, simulation tools such as Ma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ebra of Agent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e ac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si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riction or Encaps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on (Replic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209680" y="2286000"/>
                <a:ext cx="5334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⊕</m:t>
                    </m:r>
                    <m:r>
                      <m:t xml:space="preserve">…</m:t>
                    </m:r>
                    <m:r>
                      <m:t xml:space="preserve">⊕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438280" y="3429000"/>
                <a:ext cx="5029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14600" y="4648320"/>
                <a:ext cx="4038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νy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43200" y="5791320"/>
                <a:ext cx="3848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!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ulation 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733920" y="2057400"/>
                <a:ext cx="1422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1421280" y="4724280"/>
            <a:ext cx="654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is an abstract representation of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is an implementation of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505320"/>
            <a:ext cx="78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very action of B can be simulated by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 system A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 simu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ent system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mulation and Compo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72000" y="5943600"/>
                <a:ext cx="762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 flipH="1" flipV="1">
            <a:off x="3504960" y="4876560"/>
            <a:ext cx="114300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4952880"/>
            <a:ext cx="9907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200400" y="44956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095880" y="4572000"/>
                <a:ext cx="357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2895480" y="2362320"/>
            <a:ext cx="46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Parallel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48320" y="3124080"/>
                <a:ext cx="357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 flipV="1">
            <a:off x="3505320" y="3657600"/>
            <a:ext cx="114300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028840" y="3581280"/>
            <a:ext cx="11430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876920" y="3733920"/>
            <a:ext cx="1440" cy="2133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ulation and Nondetermin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237200" y="4390920"/>
                <a:ext cx="102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 flipH="1" flipV="1">
            <a:off x="3505320" y="3885840"/>
            <a:ext cx="8380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257800" y="3933360"/>
            <a:ext cx="762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124080" y="3629160"/>
                <a:ext cx="357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9920" y="3705120"/>
                <a:ext cx="357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648320" y="5715000"/>
                <a:ext cx="3571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 flipH="1" flipV="1">
            <a:off x="3428640" y="4114440"/>
            <a:ext cx="12193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952880" y="4114440"/>
            <a:ext cx="12193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800600" y="487656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572000" y="2362320"/>
                <a:ext cx="387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 flipV="1">
            <a:off x="3505320" y="2714400"/>
            <a:ext cx="10666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952880" y="2714400"/>
            <a:ext cx="99072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751280" y="286668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9560" y="502920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imes New Roman"/>
              </a:rPr>
              <a:t>Sum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Simulation Latt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51200" y="3962520"/>
                <a:ext cx="99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 flipH="1" flipV="1">
            <a:off x="3962520" y="3428640"/>
            <a:ext cx="8380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668920" y="3504960"/>
            <a:ext cx="762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521160" y="320040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469200" y="3276720"/>
                <a:ext cx="357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519360" y="5219640"/>
                <a:ext cx="357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 flipV="1">
            <a:off x="5146560" y="441936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454800" y="5248440"/>
                <a:ext cx="387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flipV="1">
            <a:off x="3916440" y="2286000"/>
            <a:ext cx="106668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5364000" y="2285640"/>
            <a:ext cx="99072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6560" y="24382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724280" y="6172200"/>
                <a:ext cx="8445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754520" y="5105520"/>
                <a:ext cx="784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967280" y="208764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 flipV="1">
            <a:off x="3733920" y="36576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629400" y="37339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733560" y="56383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638680" y="5638680"/>
            <a:ext cx="83844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146560" y="5638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3886200" y="3657600"/>
            <a:ext cx="9907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562720" y="3733920"/>
            <a:ext cx="91440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ing the World Wid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of concurrent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implementation on distributed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abstractions for flexible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antic Models for Scalabl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n Abstract Rewrit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set of states </a:t>
            </a:r>
            <a:r>
              <a:rPr b="0" i="1" lang="en-GB" sz="2800" spc="-1" strike="noStrike">
                <a:solidFill>
                  <a:srgbClr val="000080"/>
                </a:solidFill>
                <a:latin typeface="Tahoma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set of rules  </a:t>
            </a:r>
            <a:r>
              <a:rPr b="0" i="1" lang="en-GB" sz="2800" spc="-1" strike="noStrike">
                <a:solidFill>
                  <a:srgbClr val="000080"/>
                </a:solidFill>
                <a:latin typeface="Tahoma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rule is of the form                                                       </a:t>
            </a:r>
            <a:r>
              <a:rPr b="0" lang="en-GB" sz="2800" spc="-1" strike="noStrike">
                <a:solidFill>
                  <a:srgbClr val="000080"/>
                </a:solidFill>
                <a:latin typeface="Tahoma"/>
              </a:rPr>
              <a:t>                   </a:t>
            </a:r>
            <a:r>
              <a:rPr b="0" lang="en-GB" sz="2800" spc="-1" strike="noStrike">
                <a:solidFill>
                  <a:srgbClr val="00008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8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GB" sz="2800" spc="-1" strike="noStrike">
                <a:solidFill>
                  <a:srgbClr val="000080"/>
                </a:solidFill>
                <a:latin typeface="Times New Roman (Greek)"/>
              </a:rPr>
              <a:t> </a:t>
            </a:r>
            <a:r>
              <a:rPr b="0" i="1" lang="en-GB" sz="2800" spc="-1" strike="noStrike">
                <a:solidFill>
                  <a:srgbClr val="000080"/>
                </a:solidFill>
                <a:latin typeface="Symbol"/>
                <a:ea typeface="Symbol"/>
              </a:rPr>
              <a:t></a:t>
            </a:r>
            <a:r>
              <a:rPr b="0" i="1" lang="en-GB" sz="1400" spc="-1" strike="noStrike">
                <a:solidFill>
                  <a:srgbClr val="000080"/>
                </a:solidFill>
                <a:latin typeface="Times New Roman (Greek)"/>
              </a:rPr>
              <a:t>r</a:t>
            </a:r>
            <a:r>
              <a:rPr b="0" i="1" lang="en-GB" sz="2800" spc="-1" strike="noStrike">
                <a:solidFill>
                  <a:srgbClr val="000080"/>
                </a:solidFill>
                <a:latin typeface="Times New Roman (Greek)"/>
              </a:rPr>
              <a:t>,</a:t>
            </a:r>
            <a:r>
              <a:rPr b="0" i="1" lang="en-GB" sz="2800" spc="-1" strike="noStrike">
                <a:solidFill>
                  <a:srgbClr val="000080"/>
                </a:solidFill>
                <a:latin typeface="Symbol"/>
                <a:ea typeface="Symbol"/>
              </a:rPr>
              <a:t></a:t>
            </a:r>
            <a:r>
              <a:rPr b="0" i="1" lang="en-GB" sz="1400" spc="-1" strike="noStrike">
                <a:solidFill>
                  <a:srgbClr val="000080"/>
                </a:solidFill>
                <a:latin typeface="Times New Roman (Greek)"/>
              </a:rPr>
              <a:t>s</a:t>
            </a:r>
            <a:r>
              <a:rPr b="0" i="1" lang="en-GB" sz="2800" spc="-1" strike="noStrike">
                <a:solidFill>
                  <a:srgbClr val="000080"/>
                </a:solidFill>
                <a:latin typeface="Times New Roman (Greek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 (Greek)"/>
              </a:rPr>
              <a:t>are set of message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 (Greek)"/>
              </a:rPr>
              <a:t>   </a:t>
            </a:r>
            <a:r>
              <a:rPr b="0" i="1" lang="en-GB" sz="2800" spc="-1" strike="noStrike">
                <a:solidFill>
                  <a:srgbClr val="000080"/>
                </a:solidFill>
                <a:latin typeface="Times New Roman (Greek)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 (Greek)"/>
              </a:rPr>
              <a:t> and           belongs to </a:t>
            </a:r>
            <a:r>
              <a:rPr b="0" i="1" lang="en-GB" sz="2800" spc="-1" strike="noStrike">
                <a:solidFill>
                  <a:srgbClr val="000080"/>
                </a:solidFill>
                <a:latin typeface="Times New Roman (Greek)"/>
              </a:rPr>
              <a:t>S, </a:t>
            </a:r>
            <a:r>
              <a:rPr b="0" lang="en-GB" sz="2800" spc="-1" strike="noStrike">
                <a:solidFill>
                  <a:srgbClr val="000000"/>
                </a:solidFill>
                <a:latin typeface="Times New Roman (Greek)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80"/>
                </a:solidFill>
                <a:latin typeface="Times New Roman (Greek)"/>
              </a:rPr>
              <a:t>  </a:t>
            </a:r>
            <a:r>
              <a:rPr b="0" i="1" lang="en-GB" sz="2800" spc="-1" strike="noStrike">
                <a:solidFill>
                  <a:srgbClr val="000080"/>
                </a:solidFill>
                <a:latin typeface="Symbol"/>
                <a:ea typeface="Symbol"/>
              </a:rPr>
              <a:t></a:t>
            </a:r>
            <a:r>
              <a:rPr b="0" i="1" lang="en-GB" sz="2800" spc="-1" strike="noStrike">
                <a:solidFill>
                  <a:srgbClr val="000080"/>
                </a:solidFill>
                <a:latin typeface="Times New Roman (Greek)"/>
              </a:rPr>
              <a:t>(s)</a:t>
            </a:r>
            <a:r>
              <a:rPr b="0" lang="en-GB" sz="2800" spc="-1" strike="noStrike">
                <a:solidFill>
                  <a:srgbClr val="000000"/>
                </a:solidFill>
                <a:latin typeface="Times New Roman (Greek)"/>
              </a:rPr>
              <a:t> is a predicate on </a:t>
            </a:r>
            <a:r>
              <a:rPr b="0" i="1" lang="en-GB" sz="2800" spc="-1" strike="noStrike">
                <a:solidFill>
                  <a:srgbClr val="000080"/>
                </a:solidFill>
                <a:latin typeface="Times New Roman (Greek)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 (Greek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828800" y="3733920"/>
                <a:ext cx="541008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:</m:t>
                    </m:r>
                    <m:r>
                      <m:t xml:space="preserve">s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828800" y="5029200"/>
                <a:ext cx="8380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Large-scale Agent             System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5867280" y="4267080"/>
            <a:ext cx="838440" cy="8384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724280" y="31240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41148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2590920"/>
            <a:ext cx="91440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3429000"/>
            <a:ext cx="838080" cy="838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dice" descr=""/>
          <p:cNvPicPr/>
          <p:nvPr/>
        </p:nvPicPr>
        <p:blipFill>
          <a:blip r:embed="rId2"/>
          <a:stretch/>
        </p:blipFill>
        <p:spPr>
          <a:xfrm>
            <a:off x="4495680" y="2743200"/>
            <a:ext cx="914400" cy="428760"/>
          </a:xfrm>
          <a:prstGeom prst="rect">
            <a:avLst/>
          </a:prstGeom>
          <a:ln w="0">
            <a:noFill/>
          </a:ln>
        </p:spPr>
      </p:pic>
      <p:pic>
        <p:nvPicPr>
          <p:cNvPr id="358" name="dice" descr=""/>
          <p:cNvPicPr/>
          <p:nvPr/>
        </p:nvPicPr>
        <p:blipFill>
          <a:blip r:embed="rId3"/>
          <a:stretch/>
        </p:blipFill>
        <p:spPr>
          <a:xfrm>
            <a:off x="4343400" y="4343400"/>
            <a:ext cx="914400" cy="4287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 flipV="1">
            <a:off x="7010280" y="2895120"/>
            <a:ext cx="990720" cy="3812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7010280" y="4343040"/>
            <a:ext cx="9144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514600"/>
            <a:ext cx="3353040" cy="29718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dice" descr=""/>
          <p:cNvPicPr/>
          <p:nvPr/>
        </p:nvPicPr>
        <p:blipFill>
          <a:blip r:embed="rId4"/>
          <a:stretch/>
        </p:blipFill>
        <p:spPr>
          <a:xfrm>
            <a:off x="4648320" y="2895480"/>
            <a:ext cx="914400" cy="428760"/>
          </a:xfrm>
          <a:prstGeom prst="rect">
            <a:avLst/>
          </a:prstGeom>
          <a:ln w="0">
            <a:noFill/>
          </a:ln>
        </p:spPr>
      </p:pic>
      <p:pic>
        <p:nvPicPr>
          <p:cNvPr id="364" name="dice" descr=""/>
          <p:cNvPicPr/>
          <p:nvPr/>
        </p:nvPicPr>
        <p:blipFill>
          <a:blip r:embed="rId5"/>
          <a:stretch/>
        </p:blipFill>
        <p:spPr>
          <a:xfrm>
            <a:off x="4495680" y="4495680"/>
            <a:ext cx="914400" cy="4287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 flipV="1">
            <a:off x="7010280" y="3276720"/>
            <a:ext cx="990720" cy="3808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7086600" y="4723920"/>
            <a:ext cx="9144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4267080"/>
            <a:ext cx="838440" cy="8384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724280" y="31240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41148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2590920"/>
            <a:ext cx="91440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3429000"/>
            <a:ext cx="838080" cy="838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010280" y="2895120"/>
            <a:ext cx="990720" cy="3812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7010280" y="4343040"/>
            <a:ext cx="9144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996633"/>
                </a:solidFill>
                <a:latin typeface="Tahoma"/>
              </a:rPr>
              <a:t>probabilistic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996633"/>
                </a:solidFill>
                <a:latin typeface="Tahoma"/>
              </a:rPr>
              <a:t>and testable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instead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urely nondeterminis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leaving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 Scale Systems Character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2214720"/>
            <a:ext cx="800568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sive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number of agents makes traditional reasoning techniques impractical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ing all parameters of a single (or a group of ) agents with precision is empirically impossib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erging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 of interest usually emerge out of complex interaction of age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action in Large Sc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58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ssive intera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gents is the primary challenge in designing, implementing, and reasoning about large scale system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interaction patterns into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ierarchy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mpositional framewor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re modularly developed components can be composed into larger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certain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1040" y="2416320"/>
            <a:ext cx="77389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scale agen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states assumed to be observ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oning assumes tests are repea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ahoma"/>
              </a:rPr>
              <a:t>In large scale systems, observing the exact state of agents is not po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Vectors an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babilistic Superpo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057400" y="4724280"/>
                <a:ext cx="4648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676520" y="3124080"/>
                <a:ext cx="838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5" name=""/>
          <p:cNvGrpSpPr/>
          <p:nvPr/>
        </p:nvGrpSpPr>
        <p:grpSpPr>
          <a:xfrm>
            <a:off x="2819520" y="2914560"/>
            <a:ext cx="4190760" cy="655560"/>
            <a:chOff x="2819520" y="2914560"/>
            <a:chExt cx="4190760" cy="655560"/>
          </a:xfrm>
        </p:grpSpPr>
        <p:sp>
          <p:nvSpPr>
            <p:cNvPr id="386" name=""/>
            <p:cNvSpPr/>
            <p:nvPr/>
          </p:nvSpPr>
          <p:spPr>
            <a:xfrm>
              <a:off x="2819520" y="3189240"/>
              <a:ext cx="4190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19520" y="3189240"/>
              <a:ext cx="8380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57600" y="3189240"/>
              <a:ext cx="8380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3189240"/>
              <a:ext cx="838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72200" y="3189240"/>
              <a:ext cx="8380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5334120" y="2914560"/>
              <a:ext cx="838080" cy="655560"/>
              <a:chOff x="5334120" y="2914560"/>
              <a:chExt cx="838080" cy="655560"/>
            </a:xfrm>
          </p:grpSpPr>
          <p:sp>
            <p:nvSpPr>
              <p:cNvPr id="392" name=""/>
              <p:cNvSpPr/>
              <p:nvPr/>
            </p:nvSpPr>
            <p:spPr>
              <a:xfrm>
                <a:off x="5334120" y="3189240"/>
                <a:ext cx="8380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30960" y="2914560"/>
                <a:ext cx="63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"/>
          <p:cNvSpPr/>
          <p:nvPr/>
        </p:nvSpPr>
        <p:spPr>
          <a:xfrm>
            <a:off x="2995200" y="31370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4840" y="31370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00160" y="3146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57600" y="31370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18800" y="5748480"/>
            <a:ext cx="77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mitment to a unique decomposition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rther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2627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aracterizing states and probabilit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trics integrating stat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gic of testabil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mulation and Experi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tential for Grid based compu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, migration, scheduling, resource discovery, coordination addressed in an actor frame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icit fine-grained model of resources in the presence of mobility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powerful models of large-scale agent behaviors being def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’s Concurrenc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ssive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threads within an object with potential for local state corru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hared memo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may communicate via shared memory with potential for global state corru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ransformation becomes diffic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’s Concurrenc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assive_objects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2992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ing Distribute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stributed system is a collection of 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ctor is an autonomous, interacting component of a distributed system.  An actor ha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mmutable ident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utable local st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 to manipulate local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hread of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03:09:48Z</dcterms:created>
  <dc:creator>Nadeem Jamali</dc:creator>
  <dc:description/>
  <dc:language>en-US</dc:language>
  <cp:lastModifiedBy>Rajkumar Buyya</cp:lastModifiedBy>
  <dcterms:modified xsi:type="dcterms:W3CDTF">2001-05-25T08:47:08Z</dcterms:modified>
  <cp:revision>30</cp:revision>
  <dc:subject/>
  <dc:title>Prospect for Parallel and Distributed Computing on the Web</dc:title>
</cp:coreProperties>
</file>